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2010-9C18-4BB9-AB97-93DDE021E9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85DE-4198-440F-B76F-C0167CC1BDC3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/imgres?imgurl=http://www.mikechurch.com/wp-content/uploads/2012/09/Ben-Bernanke11.jpg&amp;imgrefurl=http://www.mikechurch.com/transcripts/what-exactly-is-qe3-and-what-does-it-mean-for-you/attachment/bernanke-rubs-his-eyes-as-he-waits-for-the-start-of-a-meeting-of-the-financial-stability-oversight-council-in-washington/&amp;h=1993&amp;w=3000&amp;tbnid=fLmaVdQ_IN8TDM:&amp;zoom=1&amp;docid=xDFC29voB91b3M&amp;ei=l6PPVJXREYKP7Aaq7ICoBA&amp;tbm=isch&amp;ved=0CGQQMygnMC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google.com/url?sa=i&amp;rct=j&amp;q=&amp;esrc=s&amp;frm=1&amp;source=images&amp;cd=&amp;cad=rja&amp;uact=8&amp;ved=0CAcQjRw&amp;url=http://www.imdb.com/name/nm0922213/&amp;ei=IaTPVNqrFY7B7Ab3y4DAAQ&amp;bvm=bv.85076809,d.ZGU&amp;psig=AFQjCNEoFj60-I2yL2R7kahoxDGZuGOBuA&amp;ust=1422980462078438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uact=8&amp;ved=0CAcQjRw&amp;url=http://www.imdb.com/name/nm0922213/&amp;ei=IaTPVNqrFY7B7Ab3y4DAAQ&amp;bvm=bv.85076809,d.ZGU&amp;psig=AFQjCNEoFj60-I2yL2R7kahoxDGZuGOBuA&amp;ust=1422980462078438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imgurl=http://www.mikechurch.com/wp-content/uploads/2012/09/Ben-Bernanke11.jpg&amp;imgrefurl=http://www.mikechurch.com/transcripts/what-exactly-is-qe3-and-what-does-it-mean-for-you/attachment/bernanke-rubs-his-eyes-as-he-waits-for-the-start-of-a-meeting-of-the-financial-stability-oversight-council-in-washington/&amp;h=1993&amp;w=3000&amp;tbnid=fLmaVdQ_IN8TDM:&amp;zoom=1&amp;docid=xDFC29voB91b3M&amp;ei=l6PPVJXREYKP7Aaq7ICoBA&amp;tbm=isch&amp;ved=0CGQQMygnMCc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Calibri"/>
                <a:ea typeface="Calibri"/>
              </a:rPr>
              <a:t>Quantitative Easing of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Calibri"/>
                <a:ea typeface="Calibri"/>
              </a:rPr>
              <a:t>an International Financial Centre: </a:t>
            </a:r>
            <a:br>
              <a:rPr sz="3200"/>
            </a:br>
            <a:r>
              <a:rPr b="1" lang="en-GB" sz="2800" spc="-1" strike="noStrike">
                <a:solidFill>
                  <a:srgbClr val="000066"/>
                </a:solidFill>
                <a:latin typeface="Calibri"/>
                <a:ea typeface="Calibri"/>
              </a:rPr>
              <a:t>How London escaped (or gained from) the major impacts of the international financial crisis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3047760"/>
            <a:ext cx="691056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Ian Gordo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Geography Department, SERC and LSE Lon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London School of Economic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libri"/>
                <a:ea typeface="Calibri"/>
              </a:rPr>
              <a:t>LSE London seminar, 2</a:t>
            </a:r>
            <a:r>
              <a:rPr b="1" lang="en-GB" sz="2400" spc="-1" strike="noStrike" baseline="30000">
                <a:solidFill>
                  <a:srgbClr val="008000"/>
                </a:solidFill>
                <a:latin typeface="Calibri"/>
                <a:ea typeface="Calibri"/>
              </a:rPr>
              <a:t>nd</a:t>
            </a:r>
            <a:r>
              <a:rPr b="1" lang="en-GB" sz="2400" spc="-1" strike="noStrike">
                <a:solidFill>
                  <a:srgbClr val="008000"/>
                </a:solidFill>
                <a:latin typeface="Calibri"/>
                <a:ea typeface="Calibri"/>
              </a:rPr>
              <a:t> February 2015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Helpful Structural Factors 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716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Sectoral bas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: office services not manufacturing: accounts for ¼ of net growth in C London – not distinctively so in this downtur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Occupational mi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: skilled workers might be hoarded for while – but though professionals fared well, other office workers didn’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International orientatio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: (a) benefitted  from major share of overseas tourists following 25% devaluation in 2007-9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(b) large growth in overseas-born pop. since late 1990s generating demands for public servic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High Quality Product Specialisation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– a more robust source of demand for CL , given increasing income/wealth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inequa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Plutonomy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sis highlighted concentration of consumption growth the top 1% earners/wealth-holders over recent decades + rising value/profitability of luxury goods – highly differentiated products with strong metrop advantag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onsumption of this group has been sustained since crisis by growth in equity values, the asset class in which this group specialis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45828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CL-friendly Policy Directions during post-crisis period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32000" y="1898280"/>
            <a:ext cx="64008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Summer Olympics:  c.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£9 bn of development  activity over 2007-1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rossrail: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c. £15bn over 9 years from 201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jointly reflected in Econ Affairs capital budget with net increase in London – against strong cuts in RU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Head Office Protection / Growt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Banks / building society employment heavily rationalised, outside central London (retail + back offic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General Head Office employment grew substantially, but much faster in C. Lond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Government contraction also bit less ther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notably in top  job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60" y="279000"/>
            <a:ext cx="87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Policy Supports  for Financial Activity 1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716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ail Outs: direct response to 2007 &amp; 2008 shock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ecuring stability &amp; liquidity of banking syst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mbination of direct investment  + promotion of restructuring  in 4 failed banks &amp; guarantee for I-B lend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Up to £1 trn guarantees, £120 bn cash commitment  - and some subsidy in liquidity scheme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mplicit Subsidies: unintended reflection of B-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value (in lower interest rates) of effective state insurance against failure – for the too big / strategic  to fail ban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ctually pre-dates crisis, but risky situation inflates value – as do actual B-Os; continuing despite state ‘bail-in’ int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value estimated at £50bn (2008), £100 bn (2009) for big 5 (Haldane, 2010)  with direct impact on value-added.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0728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Policy Supports  for Financial Activity: 2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71600" y="1314000"/>
            <a:ext cx="77724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Monetary Expansion: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ctions (taken by Bank of England) with intent to revive demand in UK econom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ank rate reductions: rapid series down to 0.5% floor (March 09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Quantitative easing: printing money to purchase gilts/quality assets from private businesses – injecting liquidity, with aim of encouraging investment in higher yield assets (in UK?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itial 2009 budget of £165 bn. , raised in 2011-12 to total to £375 bn.  (though value to banks etc. depends on what extra return they can earn – cf. subsidies).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 ‘direct injection into the economy’ but not actually target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Funding for Lending Scheme (with HMT) 2012-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hannelling funds through banks into UK real economy, with incentives related to lending performance (initially to households/firms, then priority to SMEs, and just firms – rather than mortgage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Gross commitment of £50 bn. but small net change suggests use to depress cost of capital  (another subsidy?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Looking for a Geography of Impact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71600" y="1088640"/>
            <a:ext cx="777240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Discussion of initiatives almost a-spatial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(regionally or international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ecause intentions / focus are largely systemic (esp. pre QE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aybe reasonable in relation to bank rate cuts &amp; bail-out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3/4 at risk banks HQ’d outside Lond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ut subsidies accrue essentially to City-type activities –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with half of VA going to pay – could have big job impac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QE impact depends on where activity is stimulated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how much mediating activity in finance sector is involved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Induced investment need not be within country: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UK lending to households / real economy firms did not increas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US commentators in 2010 suggested substantial leakage (inc FDI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Suggestion of QE tapering by Fed in 2013 stimulated literature on strong impacts in emerging markets (esp. portfolio investment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Evidence of UK GDP boost of 1.5-2% -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but sectors unknow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f investment occurring overseas – UK impacts might only be in Cit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inequality of wealth effects  may also bias impacts to Lond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oost to budgets of wealthy would also have favoured Lond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368280"/>
            <a:ext cx="8621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Speculation: Back to Business as Usual ?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71600" y="1494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entral London has done remarkably wel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nd finance sector has been recipient/medium for vast amounts of money since its 2007/8 cris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London gains have been spread across several clusters – not just finance + suppor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nd some other structural/special factors have helped London – at least temporaril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4080" indent="-370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aybe including Tech City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(Nathan &amp; Vandore, 2014)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in small wa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ut it seems very likely that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4080" indent="-37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upports to finance made substantial contribution to muffling a strong London bust and to upswing; and also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4080" indent="-37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laying a substantial part in a new round of speculation-enhanced boom underway in (central) Lond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4080" indent="-37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Referenc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71600" y="176364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N. Buck, I. Gordon, P. Hall, M. Harloe and M. Kleinman (2002)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Working Capital: life and labour in contemporary Londo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, Routledge. R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.R. Gordon (2011) ‘London: capital of boom and bust’,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Observatoire de la Société Britannique: la Revu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 , 11, 69-88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.G.Haldane (2010) ‘The $100 billion question’, Bank of England, speech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.G. Haldane (2012)  ‘On being the right size’, Bank of England ,speech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apur , N. McLeod and N. Singh (2005-6) ‘Plutonomy ‘reports  1-3  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dustry Note: Equity Strateg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, Citigroup Research,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[unofficial copies on several web-sites]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athan, M. and Vandore, E. (2014) 'Here Be Startups: Exploring a young digitalcluster in Inner East London’,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vironment and Planning 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, 46, 2283 – 2299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89" name="Content Placeholder 3" descr="ajay kapur"/>
          <p:cNvPicPr/>
          <p:nvPr/>
        </p:nvPicPr>
        <p:blipFill>
          <a:blip r:embed="rId1"/>
          <a:stretch/>
        </p:blipFill>
        <p:spPr>
          <a:xfrm>
            <a:off x="5472000" y="4419720"/>
            <a:ext cx="2340000" cy="177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s://encrypted-tbn2.gstatic.com/images?q=tbn:ANd9GcQfJNnbF0Hde0QaPCyM6SwaulPI57SJq0C45B7q6BJkycR3Uyk2kg"/>
          <p:cNvPicPr/>
          <p:nvPr/>
        </p:nvPicPr>
        <p:blipFill>
          <a:blip r:embed="rId2"/>
          <a:stretch/>
        </p:blipFill>
        <p:spPr>
          <a:xfrm>
            <a:off x="3132000" y="2889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91" name="irc_mi" descr="http://ia.media-imdb.com/images/M/MV5BMTI3NTI2MzcyOF5BMl5BanBnXkFtZTYwNzgwNjI2._V1_SX640_SY720_.jpg"/>
          <p:cNvPicPr/>
          <p:nvPr/>
        </p:nvPicPr>
        <p:blipFill>
          <a:blip r:embed="rId3"/>
          <a:stretch/>
        </p:blipFill>
        <p:spPr>
          <a:xfrm>
            <a:off x="927000" y="503280"/>
            <a:ext cx="161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3" name="Content Placeholder 3" descr="ajay kapur"/>
          <p:cNvPicPr/>
          <p:nvPr/>
        </p:nvPicPr>
        <p:blipFill>
          <a:blip r:embed="rId1"/>
          <a:stretch/>
        </p:blipFill>
        <p:spPr>
          <a:xfrm>
            <a:off x="5472000" y="4419720"/>
            <a:ext cx="2340000" cy="177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encrypted-tbn2.gstatic.com/images?q=tbn:ANd9GcQfJNnbF0Hde0QaPCyM6SwaulPI57SJq0C45B7q6BJkycR3Uyk2k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889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55" name="irc_mi" descr="http://ia.media-imdb.com/images/M/MV5BMTI3NTI2MzcyOF5BMl5BanBnXkFtZTYwNzgwNjI2._V1_SX640_SY720_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27000" y="503280"/>
            <a:ext cx="161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A puzzle and approaches to a story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6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London was in at the birth of financial crisi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u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overal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it has shown little impact on employmen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7460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n fact, jobs here have grown faster since 2007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  !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Big surprise to (this) believer in boom/bust nature of the ‘new’ London economy of past 30 year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(Buck et al, 2002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⇒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questions about how / if it could be deserve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ot going to be a single answer – or ‘neat’ evidence -but paper tries to put together story, in which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 key element is how finance sectors have been supporte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cluding apparent neglect of their global dimension; 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ven though last bust was muffled - London may remain ‘capital of boom and bust’ 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(Gordon, 2011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74600" indent="-282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74600" indent="-282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3 Motivating Snippet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50560" y="1981080"/>
            <a:ext cx="787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Hat check girl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"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Goodness, what beautiful diamond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londe customer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"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Goodness had nothing to do with it, dearie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ae West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Night After Night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 1937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'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The problem with QE is: it works in practice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but it doesn’t work in theory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‘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en Bernanke,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 final Q &amp; A as Chair of the Fed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 2014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 rising tide raises all (luxury) yachts’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jay Kapur, Citigroup Global Strategy Group, 200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rc_mi" descr="http://ia.media-imdb.com/images/M/MV5BMTI3NTI2MzcyOF5BMl5BanBnXkFtZTYwNzgwNjI2._V1_SX640_SY720_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0560" y="1325520"/>
            <a:ext cx="777960" cy="107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encrypted-tbn2.gstatic.com/images?q=tbn:ANd9GcQfJNnbF0Hde0QaPCyM6SwaulPI57SJq0C45B7q6BJkycR3Uyk2k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8120" y="3579840"/>
            <a:ext cx="1216080" cy="8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ajay kapur"/>
          <p:cNvPicPr/>
          <p:nvPr/>
        </p:nvPicPr>
        <p:blipFill>
          <a:blip r:embed="rId5"/>
          <a:stretch/>
        </p:blipFill>
        <p:spPr>
          <a:xfrm>
            <a:off x="7542360" y="5084640"/>
            <a:ext cx="10476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716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mployment change post-2007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entral London versus RU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3 lines of explanation for the contras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wo conventional account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Economic strength: ‘when the going gets tough’ ?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Political advantage: ‘punching (above) its weight’ ?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 monetary perspective: ‘keeping the City in business’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ancial support policies: from bailouts via QE to the FL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otential spatial impacts of these (within UK/internationally) ?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Speculation: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rom ‘getting away with it’ to a new boom and....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637920"/>
            <a:ext cx="8640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Calibri"/>
                <a:ea typeface="Calibri"/>
              </a:rPr>
              <a:t>Prelude – Established Cyclical Geographies in UK</a:t>
            </a:r>
            <a:endParaRPr b="0" lang="en-US" sz="3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1494000"/>
            <a:ext cx="7772400" cy="45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wo distinct eras (in patterns of employment volatility)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1950s-70s (Fordis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Sensitive sectors: defined by postponability of demands – capital goods and consumer durables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Sensitive regions: those specialising in these sectors - purely structural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ondon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 = most stable of all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1980s-07 (Post - F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Sensitive sectors: defined by growth and knowledge intensity  - IT and financial services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Sensitive regions: those specialising in these sectors – but by much more than simple mix effect – agglomeration of buzz, innovation &amp; speculation  (of all kinds by all groups)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ondon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 = least stable of all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1280" y="41436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 Unicode MS"/>
              </a:rPr>
              <a:t>Waiting for a London Bust that Didn’t Come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96640" y="1223640"/>
            <a:ext cx="7947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gainst reasonable expectations: after 2007/8 cris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ondon employment declined by less/slower than elsewhe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nd then rose earlier/faste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tably in core – in/around the financial district   !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 6 years after sub-prime crisi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entral London showed strong /accelerated job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While RGL and RUK moved into declin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3440" y="4103640"/>
            <a:ext cx="6476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Six Major Growth Clusters in Central London post-2007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nc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anks, other monetary intermediation and auxiliary activities (except for insurance or pensions)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Business administr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ead offices, employment agencies and cleaning services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erty Development/Servic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construction, architecture, real estate agencies and real estate management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Cont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dvertising, radio and TV broadcasting services, [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uter consultancy, programming and repai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ublic Servic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ospitals, primary/tertiary/misc education, and general public administration (not all in public sector)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ouris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otels and restaurant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Explaining imbalance: 3 hypothese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71600" y="1042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1. Economic: structural/competitive advantag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Key sources of structural advantage for (central) London prevailing since 1980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Gained in strength since last major recession ; and/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Confer particular benefits in the special circumstances of </a:t>
            </a:r>
            <a:r>
              <a:rPr b="1" i="1" lang="en-GB" sz="1800" spc="-1" strike="noStrike">
                <a:solidFill>
                  <a:srgbClr val="000000"/>
                </a:solidFill>
                <a:latin typeface="Arial Unicode MS"/>
              </a:rPr>
              <a:t>this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 downturn/recover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Political / strategic advantage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ffective biases in pattern of decision-making within government / major corporation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Have blunted impacts on London of austerity/rationalisation programmes applied across UK since the financial crisis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-298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Unicode MS"/>
              </a:rPr>
              <a:t>3. Protection of IFC activit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ost crisis financial interventions serving more to protect  finance sectors than regenerate/rebalance real econom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Biasing impacts on real activity toward the international financial cent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1:20:34Z</dcterms:created>
  <dc:creator>Administrator</dc:creator>
  <dc:description/>
  <dc:language>en-US</dc:language>
  <cp:lastModifiedBy>Administrator</cp:lastModifiedBy>
  <dcterms:modified xsi:type="dcterms:W3CDTF">2015-02-02T16:31:10Z</dcterms:modified>
  <cp:revision>275</cp:revision>
  <dc:subject/>
  <dc:title>Worklessness in London:  disentangling structural effects from demand pressure in an open spatial labour market</dc:title>
</cp:coreProperties>
</file>