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8.png" ContentType="image/png"/>
  <Override PartName="/ppt/media/image16.wmf" ContentType="image/x-wmf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3.wmf" ContentType="image/x-wmf"/>
  <Override PartName="/ppt/media/image4.png" ContentType="image/png"/>
  <Override PartName="/ppt/media/image13.jpeg" ContentType="image/jpe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5.png" ContentType="image/pn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9867900" cy="66643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01560" y="100080"/>
            <a:ext cx="7353360" cy="566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55320" y="914040"/>
            <a:ext cx="8343720" cy="259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55320" y="3753360"/>
            <a:ext cx="8343720" cy="259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1560" y="100080"/>
            <a:ext cx="7353360" cy="566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55320" y="914040"/>
            <a:ext cx="4071600" cy="259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31040" y="914040"/>
            <a:ext cx="4071600" cy="259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55320" y="3753360"/>
            <a:ext cx="4071600" cy="259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31040" y="3753360"/>
            <a:ext cx="4071600" cy="259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01560" y="100080"/>
            <a:ext cx="7353360" cy="566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55320" y="914040"/>
            <a:ext cx="2686320" cy="259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76280" y="914040"/>
            <a:ext cx="2686320" cy="259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7240" y="914040"/>
            <a:ext cx="2686320" cy="259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55320" y="3753360"/>
            <a:ext cx="2686320" cy="259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76280" y="3753360"/>
            <a:ext cx="2686320" cy="259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7240" y="3753360"/>
            <a:ext cx="2686320" cy="259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1560" y="100080"/>
            <a:ext cx="7353360" cy="566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55320" y="914040"/>
            <a:ext cx="8343720" cy="543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1560" y="100080"/>
            <a:ext cx="7353360" cy="566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55320" y="914040"/>
            <a:ext cx="8343720" cy="5435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1560" y="100080"/>
            <a:ext cx="7353360" cy="566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55320" y="914040"/>
            <a:ext cx="4071600" cy="5435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31040" y="914040"/>
            <a:ext cx="4071600" cy="5435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1560" y="100080"/>
            <a:ext cx="7353360" cy="566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01560" y="100080"/>
            <a:ext cx="7353360" cy="262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1560" y="100080"/>
            <a:ext cx="7353360" cy="566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55320" y="914040"/>
            <a:ext cx="4071600" cy="259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1040" y="914040"/>
            <a:ext cx="4071600" cy="5435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55320" y="3753360"/>
            <a:ext cx="4071600" cy="259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1560" y="100080"/>
            <a:ext cx="7353360" cy="566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55320" y="914040"/>
            <a:ext cx="4071600" cy="5435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1040" y="914040"/>
            <a:ext cx="4071600" cy="259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31040" y="3753360"/>
            <a:ext cx="4071600" cy="259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01560" y="100080"/>
            <a:ext cx="7353360" cy="566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55320" y="914040"/>
            <a:ext cx="4071600" cy="259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31040" y="914040"/>
            <a:ext cx="4071600" cy="259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55320" y="3753360"/>
            <a:ext cx="8343720" cy="259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1560" y="100080"/>
            <a:ext cx="7353360" cy="566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55320" y="914040"/>
            <a:ext cx="8343720" cy="5435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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2001960" y="6448320"/>
            <a:ext cx="23857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Arial"/>
              </a:rPr>
              <a:t>Imperial College Lond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44280" y="762120"/>
            <a:ext cx="9044280" cy="0"/>
          </a:xfrm>
          <a:prstGeom prst="line">
            <a:avLst/>
          </a:prstGeom>
          <a:ln w="5076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 flipV="1">
            <a:off x="25560" y="6438600"/>
            <a:ext cx="8977320" cy="4680"/>
          </a:xfrm>
          <a:prstGeom prst="line">
            <a:avLst/>
          </a:prstGeom>
          <a:ln w="5076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305920" y="6445080"/>
            <a:ext cx="838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4AE0D-1733-44BE-B273-6341EFAC92A0}" type="slidenum">
              <a:rPr b="0" lang="en-GB" sz="16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340240" y="6445080"/>
            <a:ext cx="380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66ff"/>
                </a:solidFill>
                <a:latin typeface="Arial"/>
              </a:rPr>
              <a:t>Centre for Transport Stud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74400" y="1052280"/>
            <a:ext cx="8559720" cy="196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gestion Charging</a:t>
            </a:r>
            <a:br>
              <a:rPr sz="3600"/>
            </a:br>
            <a:br>
              <a:rPr sz="36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ere next?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06440" y="38016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phen Glai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fessor of Transport and Infrastru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erial College Lond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SE 31 January 20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1560" y="100080"/>
            <a:ext cx="7353360" cy="566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272880" y="266760"/>
            <a:ext cx="8871120" cy="57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01560" y="100080"/>
            <a:ext cx="7353360" cy="566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55320" y="914040"/>
            <a:ext cx="8343720" cy="5435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266760" y="382680"/>
            <a:ext cx="8605800" cy="556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1560" y="100080"/>
            <a:ext cx="7353360" cy="566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55320" y="914040"/>
            <a:ext cx="8343720" cy="5435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228600" y="246240"/>
            <a:ext cx="8639280" cy="53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1560" y="100080"/>
            <a:ext cx="7353360" cy="566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55320" y="914040"/>
            <a:ext cx="8343720" cy="5435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54160" y="390600"/>
            <a:ext cx="8529480" cy="564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1560" y="100080"/>
            <a:ext cx="7353360" cy="566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55320" y="914040"/>
            <a:ext cx="8343720" cy="5435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361800"/>
            <a:ext cx="9144000" cy="586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1560" y="100080"/>
            <a:ext cx="7353360" cy="566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ecast scheme revenues and costs for 2003/04 (£ million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812880" y="1114560"/>
            <a:ext cx="6438960" cy="481788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1079640" y="2832120"/>
            <a:ext cx="5803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1560" y="100080"/>
            <a:ext cx="7353360" cy="566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tter pricing has improved quality of servi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55320" y="914040"/>
            <a:ext cx="8343720" cy="5435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London experience has been broadly as economists would anticip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has been fundamental in demonstrat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the publi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ople do respond to price incen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er charges can produce a better outc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ad user charging can be made to work in a large urba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ad user charging can be politically accep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36680" y="0"/>
            <a:ext cx="8542080" cy="566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t is a good solution in principle, but is national charging practical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55320" y="914040"/>
            <a:ext cx="8343720" cy="5435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 does NOT necessarily mean charging m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b of every £0.80 for fuel, over £0.50 is tax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r a charge for use of the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 rot="436200">
            <a:off x="5689080" y="1422000"/>
            <a:ext cx="3075120" cy="47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46120" y="-360"/>
            <a:ext cx="7980480" cy="79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sult of loading additional 22% demand onto 2000’s network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. b. these ar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ver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ff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774720"/>
            <a:ext cx="4572000" cy="63882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4587840" y="800280"/>
            <a:ext cx="4556160" cy="634968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1117440" y="640080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peed reduction 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829480" y="623556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raffic increase 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1560" y="100080"/>
            <a:ext cx="7353360" cy="566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ad costs (pence per vehicle km) 1998 prices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-177840" y="1050840"/>
          <a:ext cx="9144000" cy="4443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77840" y="1050840"/>
                    <a:ext cx="9144000" cy="444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"/>
          <p:cNvSpPr/>
          <p:nvPr/>
        </p:nvSpPr>
        <p:spPr>
          <a:xfrm>
            <a:off x="355680" y="5803920"/>
            <a:ext cx="878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are averages. Values vary by road type and urban densi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1560" y="100080"/>
            <a:ext cx="7353360" cy="566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 rot="525000">
            <a:off x="4483080" y="583920"/>
            <a:ext cx="3857760" cy="55245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 rot="21145800">
            <a:off x="316080" y="393480"/>
            <a:ext cx="4011480" cy="55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14520" y="201240"/>
            <a:ext cx="8369280" cy="477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vironmental tax + congestion charging additional to current duty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tra revenue £10 - £15 bn pa (in 2000 conditions: more in 2010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57320" y="843120"/>
            <a:ext cx="4444920" cy="601488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554360" y="812880"/>
            <a:ext cx="4437360" cy="604512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1434960" y="5676840"/>
            <a:ext cx="1930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06360" y="609588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raffic Reduction 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689440" y="603252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peed increase 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1560" y="100080"/>
            <a:ext cx="7353360" cy="566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ome different policie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55320" y="914040"/>
            <a:ext cx="8343720" cy="5435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previous scenario assumed charges would be added to existing road ta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 would be possible to rebate some, or all fuel duty and/or the tax dis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 order to balance the overall yield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. or to remove tax (over and above standard VAT) and replace it with “proper” road prices, as foll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4689360" y="905040"/>
            <a:ext cx="4211640" cy="595296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174600" y="853920"/>
            <a:ext cx="4248000" cy="600408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82520" y="-360"/>
            <a:ext cx="8661600" cy="770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Zero fuel taxes, environmental + congestion charge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Low environmental costs  (-£4bn)          High environmental costs (+£5 bn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06360" y="6095880"/>
            <a:ext cx="30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raffic change 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257800" y="6070680"/>
            <a:ext cx="313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raffic Change 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1560" y="100080"/>
            <a:ext cx="7353360" cy="566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55320" y="914040"/>
            <a:ext cx="8343720" cy="5435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ral road users are currently paying FAR too much, and peak time city users are paying too litt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 a “middling” view about environmental costs the total tax take “today” is about “right”… but it would have to increase as traffic grow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vironmental costs can be dealt with by pricing (unless they are thought to be infinitely high!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ad pricing could generate congestion benefits and environmental benefits without changing overall traffic by muc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increases the economic value of the road assets by using them more efficient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1560" y="100080"/>
            <a:ext cx="7353360" cy="566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might a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ractica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scheme look lik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55320" y="914040"/>
            <a:ext cx="8343720" cy="5435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L THIS ASSUMES THE COSTS OF COLLECTION CAN BE IGNORED, WHICH THEY CANNO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ince congestion is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very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localised in time and spa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technology must have a moderate degree of discrimin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London technology is very expens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t least half of the revenue is consumed by the investment and administration co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ational road user charging only practical if investment and running costs can be made reason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47760" y="100080"/>
            <a:ext cx="8394480" cy="566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Other  issues: all depend on a clear statement of what the policy 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55320" y="914040"/>
            <a:ext cx="8343720" cy="5435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dministration, enforcement, propensity to offend, penalti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ivacy and human righ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ffects on business and comme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at concession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eferably very few exemp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sidents should not be given too many conces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quity and “social inclusion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epends crucially on how revenues are u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Imperial college for Independent Transport Commission is doing new research on thi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 is absolutely essential that there is clarity about what will happen to the net reven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1560" y="100080"/>
            <a:ext cx="7353360" cy="566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effect on rail finan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55320" y="914040"/>
            <a:ext cx="8343720" cy="5435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would cause transfer to rail in those markets whe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il is already str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il subsidies are l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is little spare capac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would strengthen competition from roads whe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il is already we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il subsidies  are very hig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is unused capac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roads were properly priced then the case for rail subsidies would be weakened:   no congestion relief argu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1560" y="100080"/>
            <a:ext cx="7353360" cy="566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o promise “better alternatives” or not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55320" y="914040"/>
            <a:ext cx="8343720" cy="5435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 is often claimed that alternatives must be offered before road charging is introduced (e.g. better public transpor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is was the case for the central London CC Sche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ut central London is unique in its public transport dens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sewhere it is generally INFEASI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 is NOT NECESSARY to offer a genuine alterna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case for charging is better use of existing system and better investment in exis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 stands irrespective of whether alternatives can be provi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01560" y="100080"/>
            <a:ext cx="7353360" cy="566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promise “revenue neutral” or not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55320" y="914040"/>
            <a:ext cx="8343720" cy="5435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venue neutrality would help reduce opposition from the road-user lob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ut it leaves no net revenue for complementary measures e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ublic transport improv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oad capacity or better mainten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B the London scheme is not revenue neut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venue neutrality might shift cash from urban to  rural are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01560" y="100080"/>
            <a:ext cx="7353360" cy="566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overnance of ro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55320" y="914040"/>
            <a:ext cx="8343720" cy="5435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ch body woul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the charg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 the revenu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ke investment decision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rry the risks on those decision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vernance of the funds. Credibility is essential 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udence and effici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ount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par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1560" y="100080"/>
            <a:ext cx="7353360" cy="566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he car is dominant – outside Central Lond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65040" y="1027080"/>
            <a:ext cx="8325000" cy="521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1560" y="100080"/>
            <a:ext cx="7353360" cy="566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What is the meaning of “a national scheme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55320" y="914040"/>
            <a:ext cx="8343720" cy="5435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at are the respective roles of Whitehall and local governmen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l authorities already have the powers but have great difficulty using th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re must be a degree of national compul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Yet local government knows its area and should set local transport polic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aises issues of devolution and local government finance – would adjustment be necessar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01200" y="100080"/>
            <a:ext cx="8293320" cy="566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The Future of Transport –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ransport White Paper , July 200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79280" y="1557360"/>
            <a:ext cx="8820360" cy="49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1560" y="100080"/>
            <a:ext cx="7353360" cy="566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London Congestion Charging: a chapter of acciden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55320" y="914040"/>
            <a:ext cx="8343720" cy="5435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986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rs Thatcher abolished GLC (Leader K. Livingston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997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ew Labour: elected executive mayor for Lond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0">
              <a:spcBef>
                <a:spcPts val="451"/>
              </a:spcBef>
              <a:buNone/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ttle with Treasury won to allow hypothecation of CC revenues to transport in London a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998 Technical group to design a practical scheme (RoCOL, 200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1560" y="100080"/>
            <a:ext cx="7353360" cy="566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55320" y="914040"/>
            <a:ext cx="8343720" cy="5435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76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0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. Livingstone NOT made official Labour candidate for May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6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6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vingstone stands as an Independen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6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ong public support because of 198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6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6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vingstone puts CC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plicitl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o Manifesto and elec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6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6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1-0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al public consul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6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C survives two attempts to stop it by Judicial Review becaus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yor had an explicit manda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6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lain" startAt="2003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C successfully introduc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6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lain" startAt="2003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vingstone proposes Western Ext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6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lain" startAt="2004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vingstone re-elec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6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lain" startAt="2004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iley proposes alternative way forw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6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1560" y="100080"/>
            <a:ext cx="7353360" cy="566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main obstacles to proper road and rail user charging…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55320" y="914040"/>
            <a:ext cx="8343720" cy="5435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al obstacles are no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eptability of the princi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ding a suitable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obstacles 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ding a trusted, politically accountable system of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vernance and administration of the fu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tional government clearly stating and then sticking to what th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licy 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st will follow if, but only if, these issues are resolv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1560" y="100080"/>
            <a:ext cx="7353360" cy="566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affic speeds in London 1968 - 200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55320" y="914040"/>
            <a:ext cx="8343720" cy="5435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Chart 3.3"/>
          <p:cNvPicPr/>
          <p:nvPr/>
        </p:nvPicPr>
        <p:blipFill>
          <a:blip r:embed="rId1"/>
          <a:stretch/>
        </p:blipFill>
        <p:spPr>
          <a:xfrm>
            <a:off x="163440" y="1874880"/>
            <a:ext cx="8688600" cy="38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1560" y="100080"/>
            <a:ext cx="7353360" cy="566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three op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31640" y="914040"/>
            <a:ext cx="8344080" cy="5435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lerate the conges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lots more road capac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ad user charging – to reflec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gestio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environmental” dam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1560" y="100080"/>
            <a:ext cx="7353360" cy="566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rastructure policy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terlink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su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55320" y="914040"/>
            <a:ext cx="8343720" cy="5435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ce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d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Crowding/ delay/ service qualit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vestment in capac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1688760" y="2108160"/>
            <a:ext cx="2616120" cy="1193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813200" y="2120760"/>
            <a:ext cx="2082960" cy="1168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5206680" y="3924360"/>
            <a:ext cx="1676520" cy="1193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1638000" y="3898800"/>
            <a:ext cx="2158920" cy="1206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277040" y="5410080"/>
            <a:ext cx="1612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se for new capac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048440" y="1574640"/>
            <a:ext cx="2032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tter use of existing syst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5943240" y="2057400"/>
            <a:ext cx="1041480" cy="495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 flipV="1">
            <a:off x="6172200" y="4571640"/>
            <a:ext cx="1015920" cy="939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1676520"/>
            <a:ext cx="144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vels of subsidy &amp; ta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6000" y="5600880"/>
            <a:ext cx="1815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pital finan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854360" y="2222640"/>
            <a:ext cx="952200" cy="444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1841400" y="4648320"/>
            <a:ext cx="723960" cy="914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1560" y="100080"/>
            <a:ext cx="7353360" cy="566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55320" y="914040"/>
            <a:ext cx="8343720" cy="5435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cannot set policy for any one of these in isolation from the oth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you hold urban metro fares below long term growth in real earnings…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 not be surprised if you ge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-crowding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clining reliability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inve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ad user charging: the attempt to  introduce a proper set of incentiv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a) achieves a better use of existing ass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b) provides a source of local revenues to fund infrastru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c) provides a meaningful long term capacity investment r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01560" y="100080"/>
            <a:ext cx="7353360" cy="566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ndon Congestion Charging: February 200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355680" y="914400"/>
            <a:ext cx="8343720" cy="54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1560" y="100080"/>
            <a:ext cx="7353360" cy="566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C area is a tiny part of Lond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55320" y="914040"/>
            <a:ext cx="8343720" cy="5435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Chart 3.2"/>
          <p:cNvPicPr/>
          <p:nvPr/>
        </p:nvPicPr>
        <p:blipFill>
          <a:blip r:embed="rId1"/>
          <a:stretch/>
        </p:blipFill>
        <p:spPr>
          <a:xfrm>
            <a:off x="1285920" y="1338120"/>
            <a:ext cx="6167520" cy="45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1T10:06:39Z</dcterms:created>
  <dc:creator>William Adeney</dc:creator>
  <dc:description/>
  <cp:keywords/>
  <dc:language>en-US</dc:language>
  <cp:lastModifiedBy>Glaister</cp:lastModifiedBy>
  <cp:lastPrinted>2001-12-06T10:47:06Z</cp:lastPrinted>
  <dcterms:modified xsi:type="dcterms:W3CDTF">2005-01-31T11:42:09Z</dcterms:modified>
  <cp:revision>168</cp:revision>
  <dc:subject/>
  <dc:title>Sales Channels and Distribution Case Study</dc:title>
</cp:coreProperties>
</file>