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9867900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5320" y="375336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104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628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240" y="91404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532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628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240" y="3753360"/>
            <a:ext cx="26863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1560" y="100080"/>
            <a:ext cx="7353360" cy="262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1040" y="375336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1040" y="914040"/>
            <a:ext cx="407160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5320" y="3753360"/>
            <a:ext cx="8343720" cy="25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001960" y="6448320"/>
            <a:ext cx="2385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Imperial College Lond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280" y="762120"/>
            <a:ext cx="9044280" cy="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5560" y="6438600"/>
            <a:ext cx="8977320" cy="4680"/>
          </a:xfrm>
          <a:prstGeom prst="line">
            <a:avLst/>
          </a:prstGeom>
          <a:ln w="507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05920" y="6445080"/>
            <a:ext cx="838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F72-45FC-4D9E-998F-DE84B84E7197}" type="slidenum"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40240" y="6445080"/>
            <a:ext cx="38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Centre for Transport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400" y="1052280"/>
            <a:ext cx="8559720" cy="19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gestion Charging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next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06440" y="3801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Gla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of Transport a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 31 January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2880" y="266760"/>
            <a:ext cx="88711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66760" y="382680"/>
            <a:ext cx="86058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246240"/>
            <a:ext cx="863928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4160" y="390600"/>
            <a:ext cx="8529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cast scheme revenues and costs for 2003/04 (£ mill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2880" y="1114560"/>
            <a:ext cx="6438960" cy="4817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79640" y="2832120"/>
            <a:ext cx="58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pricing has improved quality of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don experience has been broadly as economists would an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been fundamental in demonstra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do respond to price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charges can produce a better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can be made to work in a large urba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can be politically 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6680" y="0"/>
            <a:ext cx="854208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good solution in principle, but is national charging practic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does NOT necessarily mean charging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of every £0.80 for fuel, over £0.50 is 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a charge for us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 rot="436200">
            <a:off x="5689080" y="1422000"/>
            <a:ext cx="30751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980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 of loading additional 22% demand onto 2000’s networ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. b. thes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774720"/>
            <a:ext cx="4572000" cy="6388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87840" y="800280"/>
            <a:ext cx="4556160" cy="634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7440" y="6400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reduction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29480" y="623556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increas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d costs (pence per vehicle km) 1998 price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-177840" y="1050840"/>
          <a:ext cx="914400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7840" y="1050840"/>
                    <a:ext cx="914400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355680" y="5803920"/>
            <a:ext cx="87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averages. Values vary by road type and urban dens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525000">
            <a:off x="4483080" y="583920"/>
            <a:ext cx="3857760" cy="552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21145800">
            <a:off x="316080" y="393480"/>
            <a:ext cx="4011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4520" y="201240"/>
            <a:ext cx="8369280" cy="47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tax + congestion charging additional to current du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 revenue £10 - £15 bn pa (in 2000 conditions: more in 20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7320" y="843120"/>
            <a:ext cx="4444920" cy="6014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54360" y="812880"/>
            <a:ext cx="4437360" cy="6045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34960" y="5676840"/>
            <a:ext cx="193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6360" y="6095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Reduction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89440" y="6032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increas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ome different polici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evious scenario assumed charges would be added to existing road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possible to rebate some, or all fuel duty and/or the tax 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balance the overall yie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or to remove tax (over and above standard VAT) and replace it with “proper” road prices, as fol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9360" y="905040"/>
            <a:ext cx="4211640" cy="595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4600" y="853920"/>
            <a:ext cx="4248000" cy="6004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520" y="-360"/>
            <a:ext cx="8661600" cy="77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 fuel taxes, environmental + congestion charg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w environmental costs  (-£4bn)          High environmental costs (+£5 b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06360" y="609588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chang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6070680"/>
            <a:ext cx="31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Change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ral road users are currently paying FAR too much, and peak time city users are paying too li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 “middling” view about environmental costs the total tax take “today” is about “right”… but it would have to increase as traffic g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costs can be dealt with by pricing (unless they are thought to be infinitely high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pricing could generate congestion benefits and environmental benefits without changing overall traffic by m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creases the economic value of the road assets by using them more effici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might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ac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heme look lik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HIS ASSUMES THE COSTS OF COLLECTION CAN BE IGNORED, WHICH THEY CAN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congestion i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ocalised in time and 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echnology must have a moderate degree of discri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ondon technology is very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least half of the revenue is consumed by the investment and administration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road user charging only practical if investment and running costs can be made 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7760" y="100080"/>
            <a:ext cx="839448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ther  issues: all depend on a clear statement of what the policy 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nistration, enforcement, propensity to offend, penal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vacy and human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s on business and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nces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erably very few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idents should not be given too many conc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quity and “social inclus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ends crucially on how revenues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mperial college for Independent Transport Commission is doing new research on th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absolutely essential that there is clarity about what will happen to the net reve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ffect on rail fina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cause transfer to rail in those markets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is already st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subsidies are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little spar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strengthen competition from roads w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is already w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 subsidies  are very hi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unuse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ads were properly priced then the case for rail subsidies would be weakened:   no congestion relief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promise “better alternatives” or no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often claimed that alternatives must be offered before road charging is introduced (e.g. better public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was the case for the central London C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central London is unique in its public transport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sewhere it is generally IN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NOT NECESSARY to offer a genuin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se for charging is better use of existing system and better investment in exis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stands irrespective of whether alternatives can b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ise “revenue neutral” or no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neutrality would help reduce opposition from the road-user lob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it leaves no net revenue for complementary measures 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transport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ad capacity or better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 the London scheme is not revenue 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enue neutrality might shift cash from urban to  rur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ance of ro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body w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char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 the revenu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investment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the risks on those decis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 of the funds. Credibility is essential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udence and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ar is dominant – outside Central Lon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5040" y="1027080"/>
            <a:ext cx="8325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is the meaning of “a national schem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respective roles of Whitehall and local govern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l authorities already have the powers but have great difficulty using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must be a degree of national comp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et local government knows its area and should set local transport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ises issues of devolution and local government finance – would adjustment be necessa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1200" y="100080"/>
            <a:ext cx="829332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 Future of Transport 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port White Paper , July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2036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ndon Congestion Charging: a chapter of acci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86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s Thatcher abolished GLC (Leader K. Livingst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7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Labour: elected executive mayor for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ttle with Treasury won to allow hypothecation of CC revenues to transport in Lond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 Technical group to design a practical scheme (RoCOL,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. Livingstone NOT made official Labour candidate for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stands as an Independ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 public support because of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puts C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Manifesto and 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public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 survives two attempts to stop it by Judicial Review beca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r had an explicit man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 successfully intro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proposes Western 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ingstone re-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00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ey proposes alternative way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in obstacles to proper road and rail user charging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obstacles are no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bility of the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suitabl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tacles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trusted, politically accountable system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ance and administration of the fu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government clearly stating and then sticking to what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will follow if, but only if, these issues are 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speeds in London 1968 -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Chart 3.3"/>
          <p:cNvPicPr/>
          <p:nvPr/>
        </p:nvPicPr>
        <p:blipFill>
          <a:blip r:embed="rId1"/>
          <a:stretch/>
        </p:blipFill>
        <p:spPr>
          <a:xfrm>
            <a:off x="163440" y="1874880"/>
            <a:ext cx="86886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ree o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914040"/>
            <a:ext cx="834408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te the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lots more roa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 – to refl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environmental”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polic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lin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Crowding/ delay/ service 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in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688760" y="2108160"/>
            <a:ext cx="2616120" cy="11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3200" y="2120760"/>
            <a:ext cx="2082960" cy="1168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206680" y="3924360"/>
            <a:ext cx="1676520" cy="119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38000" y="3898800"/>
            <a:ext cx="2158920" cy="120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77040" y="5410080"/>
            <a:ext cx="16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for new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48440" y="1574640"/>
            <a:ext cx="203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use of exis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943240" y="2057400"/>
            <a:ext cx="10414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172200" y="4571640"/>
            <a:ext cx="10159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s of subsidy &amp; t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000" y="560088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fin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54360" y="2222640"/>
            <a:ext cx="95220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841400" y="4648320"/>
            <a:ext cx="72396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not set policy for any one of these in isolation from the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old urban metro fares below long term growth in real earnings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be surprised if you 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-crow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ing reliabil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ad user charging: the attempt to  introduce a proper set of incen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 achieves a better use of exist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provides a source of local revenues to fu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 provides a meaningful long term capacity investment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don Congestion Charging: February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5680" y="914400"/>
            <a:ext cx="83437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1560" y="100080"/>
            <a:ext cx="7353360" cy="56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 area is a tiny part of Lon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5320" y="914040"/>
            <a:ext cx="8343720" cy="54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hart 3.2"/>
          <p:cNvPicPr/>
          <p:nvPr/>
        </p:nvPicPr>
        <p:blipFill>
          <a:blip r:embed="rId1"/>
          <a:stretch/>
        </p:blipFill>
        <p:spPr>
          <a:xfrm>
            <a:off x="1285920" y="1338120"/>
            <a:ext cx="616752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0:06:39Z</dcterms:created>
  <dc:creator>William Adeney</dc:creator>
  <dc:description/>
  <cp:keywords/>
  <dc:language>en-US</dc:language>
  <cp:lastModifiedBy>Glaister</cp:lastModifiedBy>
  <cp:lastPrinted>2001-12-06T10:47:06Z</cp:lastPrinted>
  <dcterms:modified xsi:type="dcterms:W3CDTF">2005-01-31T11:42:09Z</dcterms:modified>
  <cp:revision>168</cp:revision>
  <dc:subject/>
  <dc:title>Sales Channels and Distribution Case Study</dc:title>
</cp:coreProperties>
</file>