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2EA-B355-4096-BEFA-B50EB778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464-B125-4A6D-A64D-33B440D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EE3-E8DC-4E81-B8C7-E49C7506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79B-A055-457F-BF11-7F09EFD6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B27-FCA0-4C52-8C77-38E2B2F3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180-7402-4818-A70C-8C8CD60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051-2849-417F-976C-1105F483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254-1945-4FDB-8107-FCFD72E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933-7145-4012-BBB8-1F4DEBA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CA1-10A5-48EF-A76D-402FE8E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1E2-CEFF-45EA-BA87-2A39980B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D79-4241-4A4E-93A1-2AB3A4A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F30-57EF-4C1E-AD6E-DB33CC83D17E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7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glish cities and regions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importance of migration i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patterns of growth or decli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3213000"/>
            <a:ext cx="83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RDS colleagues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ny Champio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on Rayboul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lin Wy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unding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*preliminary results, not to be quoted*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seph Rowntree Foundation (Census Programm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fice of the Deputy Prime Minister (New Horizo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DWP analysis of “A8” in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146240"/>
            <a:ext cx="831708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"/>
              </a:rPr>
              <a:t>Spatial analysis of A8 migrants (</a:t>
            </a:r>
            <a:r>
              <a:rPr b="1" i="1" lang="en-GB" sz="3200" spc="-1" strike="noStrike">
                <a:solidFill>
                  <a:srgbClr val="ff3300"/>
                </a:solidFill>
                <a:latin typeface="Arial"/>
              </a:rPr>
              <a:t>consult before copying</a:t>
            </a:r>
            <a:r>
              <a:rPr b="0" lang="en-GB" sz="4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338120"/>
            <a:ext cx="7921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3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.Europe-born residents in 200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8172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560" y="33300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What the 2001 Census can tell u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bout migration flows to other countries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means it is not possible to consider net migr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lows across the UK boundary, when some mode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f housing markets emphasise ‘displacement’ eff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th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bout the recent moves of people in differen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ccupation (etc) groups BUT not whether their statu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nged with the move (eg. from being a student) …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r can the movers have a migration rate calculat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cause there are no equivalent ‘population’ count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onsistent about change in migration pattern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nce 1990-1 because Census definitions chang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PECIALLY the Census night location of stud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10120" y="-1576440"/>
            <a:ext cx="12178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9680" y="162864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ities are taken to be continuously built-up areas which are also economically separabl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the starting points are the 2001 Urban Area defini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each city is the bulk of at least one Travel-to-Work Ar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all are also analysed in the State of the Cities resear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the largest 24 such cities in England are examined 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ity regions are as defined by CURDS in the 1990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* each city had most of the 16 features of a regional cit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* each region is a group of Localities round 1 regional 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* commuting/migration flows link the Localities in a reg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33360"/>
            <a:ext cx="85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alysis of cities &amp; city reg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City regions and retail cent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961920"/>
            <a:ext cx="785016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60280"/>
            <a:ext cx="8305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ge factor in migration is critica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100160"/>
            <a:ext cx="838836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/out” ratio: city </a:t>
            </a:r>
            <a:r>
              <a:rPr b="1" i="1" lang="en-GB" sz="4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city region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1371600"/>
            <a:ext cx="8532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Key group: “HM&amp;P MGRPs” 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 [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sic: Higher Professional/Managerial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92944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Structure of the tal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7760" y="2421000"/>
            <a:ext cx="8435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y is migration important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at are the main trends in recent year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ow far can Census data give the detail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ich direction did people move in 2000-1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ere in London did people move to/from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Flows to/from cities beyond their own City Reg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Flows to/from London for the other 26 citie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tes decline with distance from London,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faster for inflows than outflow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In/Out ratios for HMPs higher than 1 only for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London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(plus Brighton and Derb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London and Reading have ‘perfect’ positive relationship between in/out ratio &amp; skill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There are ‘perfect’ negatives for Sheffield, Portsmouth, Nottingham, Glasgow, Coventry, Bradfo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13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ploring contrasts by city typ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o few cities for regression, so group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international migration reveals high inflow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om abroad for a ‘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atewa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’ type of cit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don / Reading / Bright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amining other cities’ in:out ratios (for all migrants a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HM&amp;Ps) to/from beyond their CRs produc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ee types which (very crudely) summarised 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et 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Flows beyond CR boundari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7850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50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abour market factors loom lar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Flows within cities’ own CR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1095480"/>
            <a:ext cx="80643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abour market factors less stro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Flows within the London C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882720"/>
            <a:ext cx="8460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The London CR analysis zon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34920" y="836640"/>
            <a:ext cx="82090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argest flows are </a:t>
            </a: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within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the zones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08000" y="1100160"/>
            <a:ext cx="8136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83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inkage measure: </a:t>
            </a: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“Tij squared”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341360"/>
            <a:ext cx="727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ds together measures on flow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 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flow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[ie. the no. migrating zon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from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ied b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flow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[ie. the no. migrating zon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from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ied b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Why is migration importan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4560" y="1125360"/>
            <a:ext cx="8569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t the regional sca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is classically the mechanism for labour supply to adjust its location to the distribution of labour demand   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(the longer-term &amp; longer-distance version of commuting)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the net flow tends to take more highly skilled peo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so its effects differ for importing/exporting places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ing region has joblessness alleviate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its skill base for regeneration is erode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orting region has skills shortages reduc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its cumulative growth can lead to ‘over-heating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ithin a city reg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is primarily seen as people adjusting housing etc to job locations and domestic constraints and preferences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me areas become favoured … others abandonm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i="1" lang="en-GB" sz="4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on HM&amp;Ps flows in Lond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Summary from </a:t>
            </a: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i="1" lang="en-GB" sz="4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aly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strong linkages are between adjacent zones, due t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tance deter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re is evidence that transport axes shape radial linkag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ter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w radial linkages between conurbation and more rur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zones are str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nkages are weak across the Thames in the centre/eas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don seems to be distinct* in having less differenc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tween the migration patterns of HM&amp;P residen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others in its popul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omparative analyses on Birmingham and Bristol C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/out ratios: zones and rest of C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2000" y="958680"/>
            <a:ext cx="8352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31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d for HM&amp;Ps onl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062000"/>
            <a:ext cx="83170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4596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/out ratios: flows beyond C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8425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732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d for HM&amp;Ps onl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63640" y="1011240"/>
            <a:ext cx="82803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459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Do intra-CR flows raise diversity?</a:t>
            </a:r>
            <a:br>
              <a:rPr sz="1600"/>
            </a:br>
            <a:br>
              <a:rPr sz="1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rrelations (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) of zones’ in/out ratios by social group vs. % residents in group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2708280"/>
          <a:ext cx="7981920" cy="3745080"/>
        </p:xfrm>
        <a:graphic>
          <a:graphicData uri="http://schemas.openxmlformats.org/drawingml/2006/table">
            <a:tbl>
              <a:tblPr/>
              <a:tblGrid>
                <a:gridCol w="4094280"/>
                <a:gridCol w="1862280"/>
                <a:gridCol w="202536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S-SeC classified MGRP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ithin CR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eyond CR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igher Managerial/ Professional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01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6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wer Managerial/ Professional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45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63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rmediat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52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64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w skill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51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31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odels of net flows: big residual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922320"/>
            <a:ext cx="8388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in findings from new analy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6043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atterns across the zones in the London CR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oadly centrifugal intra-CR flows, but inflows to centre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young and HM&amp;P have net inward flow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with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R to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elationship between in/out ratio and social profil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 skill group’s intra-CR flows reinforce social divisions, but HM&amp;P flows neutral; flows from beyond CR strong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inforce concentrations of HM&amp;Ps in inner are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ffects of flows for other citi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flow of young a key potential asset for city like Newcastl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but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udent retention follows sustained economic growth; any flow increase ‘negative’ for city like Hull (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bu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versit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peculation on London implications of flows/trend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don growth relies on continued flow of young/gifted who accept poorer quality housing/life to gain ‘escalator region’ career boost: now more likely short-term and from abroa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333000"/>
            <a:ext cx="8317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as a result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 migration is key indicator of the relative attractivity of any city (region) as a place to live (and/or work) 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reland’s migration turn-around as a Celtic Ti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emphasised – indirectly – by Richard Florida’s thesis that certain types of people drive city grow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licy responding by targeting (selective) net in-migration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cotland’s aim to attract ‘new blood’ in futur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patterns can identify city region boundaries, in the form of housing markets, using regionalisation analy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845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Housing Market Areas (an initial experiment </a:t>
            </a:r>
            <a:r>
              <a:rPr b="1" i="1" lang="en-GB" sz="3600" spc="-1" strike="noStrike">
                <a:solidFill>
                  <a:srgbClr val="ff3300"/>
                </a:solidFill>
                <a:latin typeface="Arial"/>
              </a:rPr>
              <a:t>consult before copying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1225440"/>
            <a:ext cx="741672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Factors linked to in- and/or out-migration (Champion </a:t>
            </a:r>
            <a:r>
              <a:rPr b="1" i="1" lang="en-GB" sz="4400" spc="-1" strike="noStrike">
                <a:solidFill>
                  <a:srgbClr val="000066"/>
                </a:solidFill>
                <a:latin typeface="Arial"/>
              </a:rPr>
              <a:t>et al</a:t>
            </a: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81200" y="2276640"/>
            <a:ext cx="8362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mographic (eg. age stru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ltural/social (eg. ethnicity aspec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abour market (eg. employment ra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using (eg. house price : income rati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vironmental (eg. air pollutio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licies (eg. on green belt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[static or change measures, as appropriate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55640" y="0"/>
          <a:ext cx="132476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13247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Trends in recent year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8388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icro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ssible decline in mobility due to 2-earner househo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udent mobility levels continuing to be dramatically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act of partnership fluidity and more ‘transitory’ behaviour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acro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yclical impacts of ‘regional’ house price differenti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creased international flows (including asylum seekers etc)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bu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possibility that lower proportion aim to settle on arriv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8305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Recent net international 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832040"/>
          <a:ext cx="853272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32040"/>
                    <a:ext cx="8532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9:33:34Z</dcterms:created>
  <dc:creator>AGC</dc:creator>
  <dc:description/>
  <dc:language>en-US</dc:language>
  <cp:lastModifiedBy>nmgc2</cp:lastModifiedBy>
  <dcterms:modified xsi:type="dcterms:W3CDTF">2006-02-21T18:26:35Z</dcterms:modified>
  <cp:revision>61</cp:revision>
  <dc:subject/>
  <dc:title>JRF Census Project on Migration  and the Socio-economic Complexion of Commun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3251273</vt:r8>
  </property>
  <property fmtid="{D5CDD505-2E9C-101B-9397-08002B2CF9AE}" pid="3" name="_AuthorEmail">
    <vt:lpwstr>nmgc2@cpx.ncl.ac.uk</vt:lpwstr>
  </property>
  <property fmtid="{D5CDD505-2E9C-101B-9397-08002B2CF9AE}" pid="4" name="_AuthorEmailDisplayName">
    <vt:lpwstr>Mike Coombes</vt:lpwstr>
  </property>
  <property fmtid="{D5CDD505-2E9C-101B-9397-08002B2CF9AE}" pid="5" name="_EmailSubject">
    <vt:lpwstr>London</vt:lpwstr>
  </property>
</Properties>
</file>