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6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170C-30B9-4BF6-ACD5-5B9CD66F4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596D-0292-4220-B79B-7E18C2D7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171D-E5F7-4E73-A7E6-2B69EE26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86F1-A8FF-4046-B76B-E29BF2A1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B48C-F0F2-4E75-866A-B47B7AC8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1B19-5D4B-451D-93C3-90334F43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F683-5F35-4973-91A5-5120079F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0E44-7E95-4D53-8D4F-F0E372C3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D934-4C20-48D4-807A-6AA2B3F8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F14A-19FC-4F09-95CF-F537F8E2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14A7-DF19-43CC-B727-B7D43617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F32E-1806-490A-BFDA-7B72E925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7D4C-ABD8-4756-AC57-2D08B57580EB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79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nglish cities and regions: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e importance of migration in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patterns of growth or declin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5280" y="3213000"/>
            <a:ext cx="838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URDS colleagues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ny Champion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on Rayboul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lin Wym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unding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*preliminary results, not to be quoted*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oseph Rowntree Foundation (Census Programm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ffice of the Deputy Prime Minister (New Horizon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DWP analysis of “A8” inflow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6920" y="1146240"/>
            <a:ext cx="831708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838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66"/>
                </a:solidFill>
                <a:latin typeface="Arial"/>
              </a:rPr>
              <a:t>Spatial analysis of A8 migrants (</a:t>
            </a:r>
            <a:r>
              <a:rPr b="1" i="1" lang="en-GB" sz="3200" spc="-1" strike="noStrike">
                <a:solidFill>
                  <a:srgbClr val="ff3300"/>
                </a:solidFill>
                <a:latin typeface="Arial"/>
              </a:rPr>
              <a:t>consult before copying</a:t>
            </a:r>
            <a:r>
              <a:rPr b="0" lang="en-GB" sz="4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6920" y="1338120"/>
            <a:ext cx="7921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838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E.Europe-born residents in 2001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817236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560" y="33300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What the 2001 Census can tell u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280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Nothing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bout migration flows to other countries: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is means it is not possible to consider net migration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lows across the UK boundary, when some model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f housing markets emphasise ‘displacement’ effec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omething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bout the recent moves of people in different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ccupation (etc) groups BUT not whether their statu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nged with the move (eg. from being a student) …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or can the movers have a migration rate calculate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ecause there are no equivalent ‘population’ counts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Nothing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consistent about change in migration patterns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ince 1990-1 because Census definitions change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SPECIALLY the Census night location of stud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10120" y="-1576440"/>
            <a:ext cx="12178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9680" y="1628640"/>
            <a:ext cx="837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ities are taken to be continuously built-up areas which are also economically separabl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* the starting points are the 2001 Urban Area defini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* each city is the bulk of at least one Travel-to-Work Are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* all are also analysed in the State of the Cities researc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* the largest 24 such cities in England are examined he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ity regions are as defined by CURDS in the 1990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800080"/>
                </a:solidFill>
                <a:latin typeface="Arial"/>
              </a:rPr>
              <a:t>* each city had most of the 16 features of a regional city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800080"/>
                </a:solidFill>
                <a:latin typeface="Arial"/>
              </a:rPr>
              <a:t>* each region is a group of Localities round 1 regional c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800080"/>
                </a:solidFill>
                <a:latin typeface="Arial"/>
              </a:rPr>
              <a:t>* commuting/migration flows link the Localities in a reg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33360"/>
            <a:ext cx="856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Analysis of cities &amp; city region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City regions and retail cent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42920" y="961920"/>
            <a:ext cx="785016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260280"/>
            <a:ext cx="8305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Age factor in migration is critical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1100160"/>
            <a:ext cx="838836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459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in/out” ratio: city </a:t>
            </a:r>
            <a:r>
              <a:rPr b="1" i="1" lang="en-GB" sz="4400" spc="-1" strike="noStrike">
                <a:solidFill>
                  <a:srgbClr val="000066"/>
                </a:solidFill>
                <a:latin typeface="Arial"/>
              </a:rPr>
              <a:t>or</a:t>
            </a: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 city region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11280" y="1371600"/>
            <a:ext cx="853272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4596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Key group: “HM&amp;P MGRPs” </a:t>
            </a: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  [</a:t>
            </a:r>
            <a:r>
              <a:rPr b="0" i="1" lang="en-GB" sz="3600" spc="-1" strike="noStrike">
                <a:solidFill>
                  <a:srgbClr val="000066"/>
                </a:solidFill>
                <a:latin typeface="Arial"/>
              </a:rPr>
              <a:t>sic: Higher Professional/Managerial</a:t>
            </a: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]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929440" cy="50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91440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Structure of the talk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07760" y="2421000"/>
            <a:ext cx="843588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Why is migration important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What are the main trends in recent years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How far can Census data give the details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Which direction did people move in 2000-1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Where in London did people move to/from?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45964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"/>
              </a:rPr>
              <a:t>Flows to/from cities beyond their own City Region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Flows to/from London for the other 26 cities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ates decline with distance from London,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ut faster for inflows than outflow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In/Out ratios for HMPs higher than 1 only for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London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(plus Brighton and Derby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London and Reading have ‘perfect’ positive relationship between in/out ratio &amp; skill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There are ‘perfect’ negatives for Sheffield, Portsmouth, Nottingham, Glasgow, Coventry, Bradfor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813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Exploring contrasts by city typ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280" y="1916280"/>
            <a:ext cx="820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oo few cities for regression, so group th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alysis of international migration reveals high inflow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rom abroad for a ‘</a:t>
            </a: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Gateway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’ type of city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ndon / Reading / Bright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amining other cities’ in:out ratios (for all migrants an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or HM&amp;Ps) to/from beyond their CRs produce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ree types which (very crudely) summarised 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Net Ga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Net Lo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Flows beyond CR boundari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878508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36480" y="259920"/>
            <a:ext cx="8507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Labour market factors loom larg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35344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838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Flows within cities’ own CR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4360" y="1095480"/>
            <a:ext cx="806436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6480" y="259920"/>
            <a:ext cx="8507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Labour market factors less strong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35344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Flows within the London C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882720"/>
            <a:ext cx="84600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The London CR analysis zon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34920" y="836640"/>
            <a:ext cx="820908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25992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Largest flows are </a:t>
            </a: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within</a:t>
            </a: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 the zones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08000" y="1100160"/>
            <a:ext cx="813600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16000" y="0"/>
            <a:ext cx="831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Linkage measure: </a:t>
            </a: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“Tij squared”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1341360"/>
            <a:ext cx="7273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dds together measures on flows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Tij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Tji  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or flow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Tij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[ie. the no. migrating zone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to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j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]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Tij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s a proportion of all who migrated from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ultiplied b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Tij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s a proportion of all who migrated to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or flow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Tji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[ie. the no. migrating zone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j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to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i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Tji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s a proportion of all who migrated from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ultiplied b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Tji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s a proportion of all who migrated to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Why is migration importan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4560" y="1125360"/>
            <a:ext cx="85694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At the regional sca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igration is classically the mechanism for labour supply to adjust its location to the distribution of labour demand   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(the longer-term &amp; longer-distance version of commuting)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UT the net flow tends to take more highly skilled peop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d so its effects differ for importing/exporting places: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porting region has joblessness alleviated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UT its skill base for regeneration is eroded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mporting region has skills shortages reduce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UT its cumulative growth can lead to ‘over-heating’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ithin a city reg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igration is primarily seen as people adjusting housing etc to job locations and domestic constraints and preferences: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ome areas become favoured … others abandonment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Tij</a:t>
            </a:r>
            <a:r>
              <a:rPr b="0" i="1" lang="en-GB" sz="4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 on HM&amp;Ps flows in Lond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831708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Summary from </a:t>
            </a: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Tij</a:t>
            </a:r>
            <a:r>
              <a:rPr b="0" i="1" lang="en-GB" sz="4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0" lang="en-GB" sz="44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analys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st strong linkages are between adjacent zones, due to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istance deterre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re is evidence that transport axes shape radial linkage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atter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ew radial linkages between conurbation and more rural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zones are stro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inkages are weak across the Thames in the centre/east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ndon seems to be distinct* in having less difference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etween the migration patterns of HM&amp;P resident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d others in its popul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*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comparative analyses on Birmingham and Bristol C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6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In/out ratios: zones and rest of C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92000" y="958680"/>
            <a:ext cx="8352000" cy="58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8317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and for HM&amp;Ps only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1062000"/>
            <a:ext cx="831708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4596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In/out ratios: flows beyond C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84250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67323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and for HM&amp;Ps only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63640" y="1011240"/>
            <a:ext cx="828036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4596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Do intra-CR flows raise diversity?</a:t>
            </a:r>
            <a:br>
              <a:rPr sz="1600"/>
            </a:br>
            <a:br>
              <a:rPr sz="1600"/>
            </a:b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orrelations (</a:t>
            </a:r>
            <a:r>
              <a:rPr b="0" i="1" lang="en-GB" sz="36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) of zones’ in/out ratios by social group vs. % residents in group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838080" y="2708280"/>
          <a:ext cx="7981920" cy="3745080"/>
        </p:xfrm>
        <a:graphic>
          <a:graphicData uri="http://schemas.openxmlformats.org/drawingml/2006/table">
            <a:tbl>
              <a:tblPr/>
              <a:tblGrid>
                <a:gridCol w="4094280"/>
                <a:gridCol w="1862280"/>
                <a:gridCol w="2025360"/>
              </a:tblGrid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NS-SeC classified MGRP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Within CR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Beyond CR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igher Managerial/ Professional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-0.01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+0.60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ower Managerial/ Professional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-0.45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+0.63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Intermediat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+0.52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-0.64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ow skill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+0.51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-0.31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4596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odels of net flows: big residual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00000" y="922320"/>
            <a:ext cx="838836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in findings from new analys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764640"/>
            <a:ext cx="860436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Patterns across the zones in the London CR: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roadly centrifugal intra-CR flows, but inflows to centre;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young and HM&amp;P have net inward flow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within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CR to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Relationship between in/out ratio and social profile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w skill group’s intra-CR flows reinforce social divisions, but HM&amp;P flows neutral; flows from beyond CR strongly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einforce concentrations of HM&amp;Ps in inner are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Effects of flows for other citi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flow of young a key potential asset for city like Newcastle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but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udent retention follows sustained economic growth; any flow increase ‘negative’ for city like Hull (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but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diversity?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peculation on London implications of flows/trend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ndon growth relies on continued flow of young/gifted who accept poorer quality housing/life to gain ‘escalator region’ career boost: now more likely short-term and from abroad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560" y="333000"/>
            <a:ext cx="83170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as a result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et migration is key indicator of the relative attractivity of any city (region) as a place to live (and/or work) 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example: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reland’s migration turn-around as a Celtic Tig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igration emphasised – indirectly – by Richard Florida’s thesis that certain types of people drive city grow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licy responding by targeting (selective) net in-migration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example: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cotland’s aim to attract ‘new blood’ in futur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igration patterns can identify city region boundaries, in the form of housing markets, using regionalisation analy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189000"/>
            <a:ext cx="845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Housing Market Areas (an initial experiment </a:t>
            </a:r>
            <a:r>
              <a:rPr b="1" i="1" lang="en-GB" sz="3600" spc="-1" strike="noStrike">
                <a:solidFill>
                  <a:srgbClr val="ff3300"/>
                </a:solidFill>
                <a:latin typeface="Arial"/>
              </a:rPr>
              <a:t>consult before copying</a:t>
            </a: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84360" y="1225440"/>
            <a:ext cx="7416720" cy="59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"/>
              </a:rPr>
              <a:t>Factors linked to in- and/or out-migration (Champion </a:t>
            </a:r>
            <a:r>
              <a:rPr b="1" i="1" lang="en-GB" sz="4400" spc="-1" strike="noStrike">
                <a:solidFill>
                  <a:srgbClr val="000066"/>
                </a:solidFill>
                <a:latin typeface="Arial"/>
              </a:rPr>
              <a:t>et al</a:t>
            </a:r>
            <a:r>
              <a:rPr b="1" lang="en-GB" sz="4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81200" y="2276640"/>
            <a:ext cx="83628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mographic (eg. age structur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ultural/social (eg. ethnicity aspect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abour market (eg. employment rat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ousing (eg. house price : income ratio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nvironmental (eg. air pollution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licies (eg. on green belts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[static or change measures, as appropriate]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55640" y="0"/>
          <a:ext cx="1324764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0"/>
                    <a:ext cx="13247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Trends in recent year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838836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Micro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ssible decline in mobility due to 2-earner househol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udent mobility levels continuing to be dramatically hig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mpact of partnership fluidity and more ‘transitory’ behaviour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Macro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yclical impacts of ‘regional’ house price differentia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creased international flows (including asylum seekers etc) 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but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possibility that lower proportion aim to settle on arriv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33000"/>
            <a:ext cx="83059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Recent net international flow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11280" y="1832040"/>
          <a:ext cx="8532720" cy="41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32040"/>
                    <a:ext cx="853272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09:33:34Z</dcterms:created>
  <dc:creator>AGC</dc:creator>
  <dc:description/>
  <dc:language>en-US</dc:language>
  <cp:lastModifiedBy>nmgc2</cp:lastModifiedBy>
  <dcterms:modified xsi:type="dcterms:W3CDTF">2006-02-21T18:26:35Z</dcterms:modified>
  <cp:revision>61</cp:revision>
  <dc:subject/>
  <dc:title>JRF Census Project on Migration  and the Socio-economic Complexion of Communit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83251273</vt:r8>
  </property>
  <property fmtid="{D5CDD505-2E9C-101B-9397-08002B2CF9AE}" pid="3" name="_AuthorEmail">
    <vt:lpwstr>nmgc2@cpx.ncl.ac.uk</vt:lpwstr>
  </property>
  <property fmtid="{D5CDD505-2E9C-101B-9397-08002B2CF9AE}" pid="4" name="_AuthorEmailDisplayName">
    <vt:lpwstr>Mike Coombes</vt:lpwstr>
  </property>
  <property fmtid="{D5CDD505-2E9C-101B-9397-08002B2CF9AE}" pid="5" name="_EmailSubject">
    <vt:lpwstr>London</vt:lpwstr>
  </property>
</Properties>
</file>