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627160" y="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3254040" y="528120"/>
            <a:ext cx="3422520" cy="25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62716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C757-A785-4DAD-AC11-258941730E7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7E1-9372-4FE5-9DF7-8462A62514C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790-AC01-41B4-AC2E-8B3DBA0A48E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212-CCCA-4E2E-9118-1005B836F94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4670-E5A3-4A7B-8A67-460C298229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5212-B430-4AFB-80B7-6764CB08E49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6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40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6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40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71600" y="9079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6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240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6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240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71600" y="9079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ISL_Logo_Black"/>
          <p:cNvPicPr/>
          <p:nvPr/>
        </p:nvPicPr>
        <p:blipFill>
          <a:blip r:embed="rId2"/>
          <a:stretch/>
        </p:blipFill>
        <p:spPr>
          <a:xfrm>
            <a:off x="6748560" y="380880"/>
            <a:ext cx="2090520" cy="34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thread"/>
          <p:cNvPicPr/>
          <p:nvPr/>
        </p:nvPicPr>
        <p:blipFill>
          <a:blip r:embed="rId3"/>
          <a:stretch/>
        </p:blipFill>
        <p:spPr>
          <a:xfrm>
            <a:off x="0" y="5800680"/>
            <a:ext cx="9144000" cy="137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ISL_Logo_Black+LtGreen"/>
          <p:cNvPicPr/>
          <p:nvPr/>
        </p:nvPicPr>
        <p:blipFill>
          <a:blip r:embed="rId2"/>
          <a:stretch/>
        </p:blipFill>
        <p:spPr>
          <a:xfrm>
            <a:off x="5943600" y="608040"/>
            <a:ext cx="2774880" cy="45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threadTitle"/>
          <p:cNvPicPr/>
          <p:nvPr/>
        </p:nvPicPr>
        <p:blipFill>
          <a:blip r:embed="rId3"/>
          <a:stretch/>
        </p:blipFill>
        <p:spPr>
          <a:xfrm>
            <a:off x="0" y="51577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oogle.co.uk/url?sa=i&amp;rct=j&amp;q=&amp;esrc=s&amp;source=images&amp;cd=&amp;cad=rja&amp;uact=8&amp;ved=0ahUKEwjQ7Oz1hb7KAhWK2xoKHUR7CfcQjRwIBw&amp;url=http%3A%2F%2Fwww.e-architect.co.uk%2Flondon%2Fvaudeville-court-in-islington&amp;bvm=bv.112454388,d.eWE&amp;psig=AFQjCNFle181ZE0CrI-_GX7r_QdAQyFfWw&amp;ust=1453573638858180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www.google.co.uk/url?sa=i&amp;rct=j&amp;q=&amp;esrc=s&amp;source=images&amp;cd=&amp;cad=rja&amp;uact=8&amp;ved=0ahUKEwjSjdDyir7KAhUC2RoKHVxXCx8QjRwIBw&amp;url=http%3A%2F%2Fwww.building.co.uk%2Fgrid-architects-wins-planning-for-revamp-of-archway-tower%2F5070379.article&amp;psig=AFQjCNFD10RdBZ-1QEooJOyLziDwBuGtog&amp;ust=1453574976467368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www.google.co.uk/url?sa=i&amp;rct=j&amp;q=&amp;esrc=s&amp;source=images&amp;cd=&amp;cad=rja&amp;uact=8&amp;ved=0ahUKEwjhrdK2iL7KAhXJuBoKHRgcAJUQjRwIBw&amp;url=http%3A%2F%2Fwww.skyscrapercity.com%2Fshowthread.php%3Ft%3D315079%26page%3D834&amp;bvm=bv.112454388,d.eWE&amp;psig=AFQjCNGtga13QV4ZkX1uvQeYtpGZUqSnJw&amp;ust=1453574270525282" TargetMode="External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hyperlink" Target="http://www.google.co.uk/url?sa=i&amp;rct=j&amp;q=&amp;esrc=s&amp;source=images&amp;cd=&amp;cad=rja&amp;uact=8&amp;ved=0ahUKEwiDnJXeib7KAhUJfRoKHb0ZA5oQjRwIBw&amp;url=http%3A%2F%2Fwww.morrisroe.co.uk%2F261city-road-the-lexicon%2F&amp;bvm=bv.112454388,d.eWE&amp;psig=AFQjCNGnvYz1_Oa7oFBATHw539ibEyQq9A&amp;ust=1453574476670700" TargetMode="External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i4teSosrvKAhUFzxQKHaFlC-EQjRwIBw&amp;url=http%3A%2F%2Fwww.islington.gov.uk%2Fislington%2Fmaps-statistics%2FPages%2Fborough_map.aspx&amp;bvm=bv.112064104,d.d24&amp;psig=AFQjCNEtSL1M60N3dg6tjLDr7W1qKv3eDw&amp;ust=145348209097555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R6MPUyrvKAhWCuRQKHW0dDZcQjRwIBw&amp;url=http%3A%2F%2Fwww.avon.nhs.uk%2Fphnet%2Favonsafe%2FPreventing%2520Falls%2FPreventing%2520Falls.htm&amp;psig=AFQjCNGJ5AMV4YYangLaW1AoaLREdXszNg&amp;ust=1453488568401286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google.co.uk/url?sa=i&amp;rct=j&amp;q=&amp;esrc=s&amp;source=images&amp;cd=&amp;cad=rja&amp;uact=8&amp;ved=0ahUKEwj93c6MybvKAhVFxRQKHQlwBe4QjRwIBw&amp;url=http%3A%2F%2Fgraphicleftovers.com%2Fgraphic%2Fbig-crowd-of-many-colors-social-people-group%2F&amp;psig=AFQjCNGJ5AMV4YYangLaW1AoaLREdXszNg&amp;ust=1453488568401286" TargetMode="External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.uk/url?sa=i&amp;rct=j&amp;q=&amp;esrc=s&amp;source=images&amp;cd=&amp;cad=rja&amp;uact=8&amp;ved=0ahUKEwiVgcmGtbvKAhUHOxQKHbOsBSoQjRwIBw&amp;url=https%3A%2F%2Fwww.pinterest.com%2Fpin%2F476677941780558985%2F&amp;bvm=bv.112064104,d.d24&amp;psig=AFQjCNFqLqIm2Nc-AD9UsD0qpvjvAwuJkA&amp;ust=1453483199781335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.uk/url?sa=i&amp;rct=j&amp;q=&amp;esrc=s&amp;source=images&amp;cd=&amp;cad=rja&amp;uact=8&amp;ved=0ahUKEwiZjYDYtLvKAhUKWxQKHVepAPcQjRwIBw&amp;url=http%3A%2F%2Fwww.thatgaybackpacker.com%2Fyour-guide-london-theatre-not-west-end-guff%2F&amp;bvm=bv.112064104,d.d24&amp;psig=AFQjCNEqp11j2ag9GgOpvVVb324k9FiRAg&amp;ust=1453483058004939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.uk/url?sa=i&amp;rct=j&amp;q=&amp;esrc=s&amp;source=images&amp;cd=&amp;cad=rja&amp;uact=8&amp;ved=0ahUKEwjZo8aHtLvKAhWKOxQKHexaBlEQjRwIBw&amp;url=http%3A%2F%2Fwww.alamy.com%2Fstock-photo%2Flondon-cafes.html&amp;psig=AFQjCNHnOIRFzXWKUjpNqP3YNKhNUhbiUg&amp;ust=1453482838041228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.uk/url?sa=i&amp;rct=j&amp;q=&amp;esrc=s&amp;source=images&amp;cd=&amp;cad=rja&amp;uact=8&amp;ved=0ahUKEwjs5cz1trvKAhXDuxQKHQ1XCUAQjRwIBw&amp;url=http%3A%2F%2Fwww.homesandproperty.co.uk%2Farea-guides%2Fgreater-london%2Fliving-in-islington-area-guide-to-homes-schools-and-transport-links-32841.html&amp;bvm=bv.112064104,d.d24&amp;psig=AFQjCNEfyxbL0auvhrbWeGlN513AQY6wxg&amp;ust=1453483627787098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s://www.google.co.uk/url?sa=i&amp;rct=j&amp;q=&amp;esrc=s&amp;source=images&amp;cd=&amp;cad=rja&amp;uact=8&amp;ved=0ahUKEwjU0KHKvrvKAhXBWRQKHT5QCNcQjRwIBw&amp;url=https%3A%2F%2Fthornhillsquare.wordpress.com%2Fcategory%2Froads-and-houses%2F&amp;psig=AFQjCNH-Vh-gx4RHwCEr4JMWeuiKQ5MPEQ&amp;ust=1453485749636337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tonycullinanephotography.com/islington-wedding-photographer/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url?sa=i&amp;rct=j&amp;q=&amp;esrc=s&amp;source=images&amp;cd=&amp;cad=rja&amp;uact=8&amp;ved=0ahUKEwjB7qq_tbvKAhVJWxQKHZ2KC5sQjRwIBw&amp;url=http%3A%2F%2Fwww.hostelbookers.com%2Fblog%2Ftop-cities%2Fislington-guide%2F&amp;bvm=bv.112064104,d.d24&amp;psig=AFQjCNFkBwMNL0h6EsbGhYMk3yKYpMm0Ag&amp;ust=1453483329121605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www.google.co.uk/url?sa=i&amp;rct=j&amp;q=&amp;esrc=s&amp;source=images&amp;cd=&amp;cad=rja&amp;uact=8&amp;ved=0ahUKEwjF1oWcsbvKAhUM6xQKHVyuBQsQjRwIBw&amp;url=http%3A%2F%2Fwww.homesandproperty.co.uk%2Farea-guides%2Fgreater-london%2Fspotlight-on-highbury-and-islington-30982.html&amp;psig=AFQjCNEtSL1M60N3dg6tjLDr7W1qKv3eDw&amp;ust=1453482090975555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www.google.co.uk/url?sa=i&amp;rct=j&amp;q=&amp;esrc=s&amp;source=images&amp;cd=&amp;cad=rja&amp;uact=8&amp;ved=0ahUKEwjHhoyhuLvKAhUD2hoKHbbJBTQQjRwIBw&amp;url=http%3A%2F%2Fwww.laurelcanyonuk.com%2Funion-chapel-islington-london%2F&amp;bvm=bv.112064104,d.d24&amp;psig=AFQjCNG1pScd0S6OJ00SljoRVhzWeHLd2Q&amp;ust=1453483962230519" TargetMode="External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S0_CDurvKAhUGXRQKHQDUBZQQjRwIBw&amp;url=http%3A%2F%2Fwww.islingtontribune.com%2Fnews%2F2013%2Fsep%2Fblitz-commuting-dealers-after-stabbing-%25E2%2580%2598we-intend-stop-criminals-coming-outside%25E2%2580%2599-pledg&amp;psig=AFQjCNES2y_Y3MGsKqqX_sZhsAxdsPuClA&amp;ust=145348450073388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ksaonline.co.uk/project/masterplanning/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co.uk/url?sa=i&amp;rct=j&amp;q=&amp;esrc=s&amp;source=images&amp;cd=&amp;cad=rja&amp;uact=8&amp;ved=0ahUKEwimyZPsurvKAhUEvhQKHVUVCjoQjRwIBw&amp;url=http%3A%2F%2Fwww.islingtontribune.com%2Fnews%2F2012%2Fmay%2Fandover-estate-data-leak-witnesses-%25E2%2580%2598we%25E2%2580%2599ll-sue%25E2%2580%2599&amp;bvm=bv.112064104,d.d24&amp;psig=AFQjCNGQSg9YJus9o2dvcBDSfbklBnYvmA&amp;ust=1453484752569582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s://www.google.co.uk/url?sa=i&amp;rct=j&amp;q=&amp;esrc=s&amp;source=images&amp;cd=&amp;cad=rja&amp;uact=8&amp;ved=0ahUKEwjY4d-zvLvKAhUEXhQKHbW2DwEQjRwIBw&amp;url=https%3A%2F%2Fwww.designplan.co.uk%2Fprojects%2Fgambier-house%2F&amp;bvm=bv.112064104,d.d24&amp;psig=AFQjCNH734aHAafP9CFyHaBD08te6mSO_A&amp;ust=1453485127539042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anning in London - A view from a borough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SE - 25 January 2016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Sakiba Gurda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lanning Policy Manager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B Islington   </a:t>
            </a:r>
            <a:endParaRPr b="1" lang="en-US" sz="25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4"/>
          <p:cNvSpPr/>
          <p:nvPr/>
        </p:nvSpPr>
        <p:spPr>
          <a:xfrm>
            <a:off x="108000" y="1469880"/>
            <a:ext cx="8856720" cy="4407120"/>
          </a:xfrm>
          <a:custGeom>
            <a:avLst/>
            <a:gdLst>
              <a:gd name="textAreaLeft" fmla="*/ 0 w 8856720"/>
              <a:gd name="textAreaRight" fmla="*/ 8857080 w 8856720"/>
              <a:gd name="textAreaTop" fmla="*/ 0 h 4407120"/>
              <a:gd name="textAreaBottom" fmla="*/ 4407480 h 4407120"/>
            </a:gdLst>
            <a:ahLst/>
            <a:rect l="textAreaLeft" t="textAreaTop" r="textAreaRight" b="textAreaBottom"/>
            <a:pathLst>
              <a:path w="5579" h="2776">
                <a:moveTo>
                  <a:pt x="0" y="0"/>
                </a:moveTo>
                <a:lnTo>
                  <a:pt x="4318" y="0"/>
                </a:lnTo>
                <a:lnTo>
                  <a:pt x="4332" y="1666"/>
                </a:lnTo>
                <a:lnTo>
                  <a:pt x="5574" y="1661"/>
                </a:lnTo>
                <a:lnTo>
                  <a:pt x="5579" y="2776"/>
                </a:lnTo>
                <a:lnTo>
                  <a:pt x="0" y="2776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cap="rnd" w="9360">
            <a:solidFill>
              <a:srgbClr val="1c1c1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495520" y="260280"/>
            <a:ext cx="2648160" cy="107964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Planning Policy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689200" y="1844640"/>
            <a:ext cx="2273400" cy="8636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90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nd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673360" y="3213000"/>
            <a:ext cx="2303280" cy="72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67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lington Cor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000240" y="4724280"/>
            <a:ext cx="1656000" cy="93672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03680"/>
                <a:tab algn="l" pos="740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076720" y="4724280"/>
            <a:ext cx="3168720" cy="93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69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sbury Loca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ea Action Plan for Bunhill and Clerkenw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4724280"/>
            <a:ext cx="1871640" cy="91296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66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Manage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1"/>
          <p:cNvCxnSpPr>
            <a:stCxn id="120" idx="2"/>
            <a:endCxn id="121" idx="0"/>
          </p:cNvCxnSpPr>
          <p:nvPr/>
        </p:nvCxnSpPr>
        <p:spPr>
          <a:xfrm>
            <a:off x="3819240" y="1352520"/>
            <a:ext cx="6840" cy="480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2"/>
          <p:cNvCxnSpPr>
            <a:stCxn id="121" idx="2"/>
            <a:endCxn id="122" idx="0"/>
          </p:cNvCxnSpPr>
          <p:nvPr/>
        </p:nvCxnSpPr>
        <p:spPr>
          <a:xfrm>
            <a:off x="3825360" y="2720880"/>
            <a:ext cx="1080" cy="480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13"/>
          <p:cNvCxnSpPr>
            <a:stCxn id="122" idx="2"/>
            <a:endCxn id="123" idx="0"/>
          </p:cNvCxnSpPr>
          <p:nvPr/>
        </p:nvCxnSpPr>
        <p:spPr>
          <a:xfrm>
            <a:off x="3825360" y="3946320"/>
            <a:ext cx="3960" cy="765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4"/>
          <p:cNvCxnSpPr>
            <a:stCxn id="122" idx="2"/>
            <a:endCxn id="125" idx="0"/>
          </p:cNvCxnSpPr>
          <p:nvPr/>
        </p:nvCxnSpPr>
        <p:spPr>
          <a:xfrm rot="5400000">
            <a:off x="2340000" y="3226320"/>
            <a:ext cx="765720" cy="220572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5"/>
          <p:cNvCxnSpPr>
            <a:stCxn id="122" idx="2"/>
            <a:endCxn id="124" idx="0"/>
          </p:cNvCxnSpPr>
          <p:nvPr/>
        </p:nvCxnSpPr>
        <p:spPr>
          <a:xfrm flipH="1" rot="16200000">
            <a:off x="4863960" y="2908080"/>
            <a:ext cx="759240" cy="2835720"/>
          </a:xfrm>
          <a:prstGeom prst="bentConnector3">
            <a:avLst>
              <a:gd name="adj1" fmla="val 5037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6"/>
          <p:cNvCxnSpPr>
            <a:stCxn id="125" idx="3"/>
            <a:endCxn id="123" idx="1"/>
          </p:cNvCxnSpPr>
          <p:nvPr/>
        </p:nvCxnSpPr>
        <p:spPr>
          <a:xfrm>
            <a:off x="2568600" y="5181120"/>
            <a:ext cx="419760" cy="11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17"/>
          <p:cNvCxnSpPr>
            <a:stCxn id="123" idx="3"/>
            <a:endCxn id="124" idx="1"/>
          </p:cNvCxnSpPr>
          <p:nvPr/>
        </p:nvCxnSpPr>
        <p:spPr>
          <a:xfrm>
            <a:off x="4668840" y="5192280"/>
            <a:ext cx="3895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" name="Text Box 18"/>
          <p:cNvSpPr/>
          <p:nvPr/>
        </p:nvSpPr>
        <p:spPr>
          <a:xfrm>
            <a:off x="7093080" y="2708280"/>
            <a:ext cx="1944720" cy="106056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84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Area Planning Framework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19"/>
          <p:cNvCxnSpPr>
            <a:stCxn id="121" idx="3"/>
            <a:endCxn id="133" idx="0"/>
          </p:cNvCxnSpPr>
          <p:nvPr/>
        </p:nvCxnSpPr>
        <p:spPr>
          <a:xfrm>
            <a:off x="4975200" y="2276640"/>
            <a:ext cx="3091680" cy="419760"/>
          </a:xfrm>
          <a:prstGeom prst="bentConnector2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AutoShape 20"/>
          <p:cNvCxnSpPr>
            <a:stCxn id="133" idx="2"/>
            <a:endCxn id="124" idx="3"/>
          </p:cNvCxnSpPr>
          <p:nvPr/>
        </p:nvCxnSpPr>
        <p:spPr>
          <a:xfrm flipH="1" rot="16200000">
            <a:off x="7458840" y="4387680"/>
            <a:ext cx="1411920" cy="199080"/>
          </a:xfrm>
          <a:prstGeom prst="bentConnector4">
            <a:avLst>
              <a:gd name="adj1" fmla="val 32950"/>
              <a:gd name="adj2" fmla="val 205434"/>
            </a:avLst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36" name="Text Box 21"/>
          <p:cNvSpPr/>
          <p:nvPr/>
        </p:nvSpPr>
        <p:spPr>
          <a:xfrm>
            <a:off x="179280" y="1844640"/>
            <a:ext cx="2436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83000"/>
          </a:bodyPr>
          <a:p>
            <a:pPr>
              <a:tabLst>
                <a:tab algn="l" pos="0"/>
                <a:tab algn="l" pos="3703680"/>
                <a:tab algn="l" pos="740736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Islington’s Develop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1600" y="5587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Local Plan documents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2360" y="5369040"/>
            <a:ext cx="855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Management Policies                Adopted Jun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 Allocations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sbury Loc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3713040" y="2924280"/>
            <a:ext cx="1633680" cy="22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435640" y="2927520"/>
            <a:ext cx="1612800" cy="227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1" descr=""/>
          <p:cNvPicPr/>
          <p:nvPr/>
        </p:nvPicPr>
        <p:blipFill>
          <a:blip r:embed="rId3"/>
          <a:stretch/>
        </p:blipFill>
        <p:spPr>
          <a:xfrm>
            <a:off x="7196040" y="2927520"/>
            <a:ext cx="1613160" cy="22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14" descr=""/>
          <p:cNvPicPr/>
          <p:nvPr/>
        </p:nvPicPr>
        <p:blipFill>
          <a:blip r:embed="rId4"/>
          <a:stretch/>
        </p:blipFill>
        <p:spPr>
          <a:xfrm>
            <a:off x="355680" y="1268280"/>
            <a:ext cx="1982880" cy="27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2700360" y="1268280"/>
            <a:ext cx="47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Strategy – Adopted Feb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6826"/>
                </a:solidFill>
                <a:latin typeface="Arial"/>
              </a:rPr>
              <a:t>What does a Local Plan deal with - targets/requirements /generic policy</a:t>
            </a: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housing – housing tar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sing provision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fordable ho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ning for futu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ment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kling inequal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historic built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/tackling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space, sport and recre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4897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Islington's recent delivery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34100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ing – high targets (latest 1,264 pa) and remarkable delivery over last 10 +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fordable housing: social housing/genuinely aff. housing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jobs growth, but loss of commercial floorspa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ility – energy efficiency, carbon reduction, green roofs, car free housing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611280" y="4869000"/>
            <a:ext cx="712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o-growth  but growth needs to address key local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ing delivery  in more detail  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4920" y="692280"/>
            <a:ext cx="8497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f the highest delivery rates in London and the country, consistently exceeding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2008/9 and 2014/15 delivered just under 13,000 housing units  in total, continually exceeding  the borough housing targets by  a significant 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the next five years between 2015/16 – 2019/20, it is projected that 8,852 units will be delivered.  140% of the London Plan overall housing target  (1,264 per year, aggregated at 6,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up a total of close to 22,000 residential units over 12 years, which is truly remarkable given that Islington covers an area of less than 6 square miles and is the most densely occupied local authority in the country (2011 Cens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fordable housing – strong delivery in recent years (31-42% out of total delivery, when looking at relevant schemes only – 45 -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S:\Spatial Planning and Transport\S106-Viability Tm\SPD_Development Viability\Photos\Viability\Melody Lane\IMG_3954.JPG"/>
          <p:cNvPicPr/>
          <p:nvPr/>
        </p:nvPicPr>
        <p:blipFill>
          <a:blip r:embed="rId1"/>
          <a:stretch/>
        </p:blipFill>
        <p:spPr>
          <a:xfrm>
            <a:off x="3687840" y="0"/>
            <a:ext cx="3409920" cy="13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http://www.e-architect.co.uk/wp-content/uploads/2015/02/vaudeville-court-in-islington-l230215-1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280" y="65160"/>
            <a:ext cx="3732120" cy="239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S:\Spatial Planning and Transport\S106-Viability Tm\SPD_Development Viability\Photos\Viability\Diespecker Wharf\Diespecker Wharf 6.jpg"/>
          <p:cNvPicPr/>
          <p:nvPr/>
        </p:nvPicPr>
        <p:blipFill>
          <a:blip r:embed="rId4"/>
          <a:stretch/>
        </p:blipFill>
        <p:spPr>
          <a:xfrm>
            <a:off x="5003640" y="1424160"/>
            <a:ext cx="2668680" cy="1685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http://www.building.co.uk/Pictures/web/w/i/n/Archway-Tower-Entrance-Dayligh_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9040" y="65160"/>
            <a:ext cx="1943280" cy="310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s://farm6.staticflickr.com/5649/23403053804_2d6260601b_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22320" y="2405160"/>
            <a:ext cx="5353200" cy="4628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S:\Spatial Planning and Transport\S106-Viability Tm\SPD_Development Viability\Photos\Viability\8-13 Chiswell Street\P022942 3 8-13 CHISWELL STREET3.jpg"/>
          <p:cNvPicPr/>
          <p:nvPr/>
        </p:nvPicPr>
        <p:blipFill>
          <a:blip r:embed="rId9"/>
          <a:stretch/>
        </p:blipFill>
        <p:spPr>
          <a:xfrm>
            <a:off x="5411880" y="2637000"/>
            <a:ext cx="3636720" cy="2670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http://www.morrisroe.co.uk/wp-content/uploads/2014/12/lexicon4-5744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0880" y="5186520"/>
            <a:ext cx="39085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5040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Islington's recent delivery - jobs: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s growth  - almost 30,000 jobs from 2005 –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employment land/floorspace but growth in jobs – (b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ustainable in the future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f the most competitive business locations in the country -  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UK competiveness index (9 out of 10 are Inner London loca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ce of micro,  small and medium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for affordable worksp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plan to accommodate future job growth – over 50,000 to 2036, (30,000 office based) -&gt;  large amount of additional commercial floorspace, particularly offices, needed over the next 15+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12 Net change, B1, by ward, 2005-2015</a:t>
            </a:r>
            <a:br>
              <a:rPr sz="1800"/>
            </a:br>
            <a:endParaRPr b="1" lang="en-US" sz="18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1" name="Content Placeholder 3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553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5 Net change, B1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80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3 Net change, B2, by ward, 2005-2015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islington.gov.uk/PublishingImages/transportandstreets/borough_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189000"/>
            <a:ext cx="8712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6 Net change, B2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7" name="Content Placeholder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14 Net change, B8, by ward, 2005-2015</a:t>
            </a:r>
            <a:br>
              <a:rPr sz="1800"/>
            </a:br>
            <a:endParaRPr b="1" lang="en-US" sz="18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9" name="Content Placeholder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97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7 Net change, B8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81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http://www.avon.nhs.uk/phnet/images/group%20of%20older%20people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203720"/>
            <a:ext cx="152424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encrypted-tbn0.gstatic.com/images?q=tbn:ANd9GcRTLSIrH0gPmtyszCm9cftp1E5NbJe0zLcXJ9MArj_zQFxyIs9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200" y="16398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174" name="Oval 26"/>
          <p:cNvSpPr/>
          <p:nvPr/>
        </p:nvSpPr>
        <p:spPr>
          <a:xfrm>
            <a:off x="7669080" y="5729400"/>
            <a:ext cx="587520" cy="503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5"/>
          <p:cNvSpPr/>
          <p:nvPr/>
        </p:nvSpPr>
        <p:spPr>
          <a:xfrm>
            <a:off x="6934320" y="5589720"/>
            <a:ext cx="1028520" cy="782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Pressures/relationships/dynamics   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3203640" y="3067200"/>
            <a:ext cx="1458720" cy="1136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5538960" y="2421000"/>
            <a:ext cx="1409400" cy="9586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538960" y="1461960"/>
            <a:ext cx="1409400" cy="959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’ment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6664320" y="3440160"/>
            <a:ext cx="11523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6056280" y="3440160"/>
            <a:ext cx="13557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5591160" y="3379680"/>
            <a:ext cx="1357200" cy="986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ther age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9"/>
          <p:cNvSpPr/>
          <p:nvPr/>
        </p:nvSpPr>
        <p:spPr>
          <a:xfrm>
            <a:off x="7635960" y="4543560"/>
            <a:ext cx="995400" cy="701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7042320" y="4471920"/>
            <a:ext cx="1171440" cy="8985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6270480" y="4421160"/>
            <a:ext cx="135576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5591160" y="4424400"/>
            <a:ext cx="13572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6364440" y="5435640"/>
            <a:ext cx="12618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5694480" y="5384880"/>
            <a:ext cx="1438200" cy="9874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Landow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30"/>
          <p:cNvCxnSpPr>
            <a:endCxn id="177" idx="7"/>
          </p:cNvCxnSpPr>
          <p:nvPr/>
        </p:nvCxnSpPr>
        <p:spPr>
          <a:xfrm flipH="1">
            <a:off x="4447800" y="2203560"/>
            <a:ext cx="1091520" cy="1031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Straight Arrow Connector 32"/>
          <p:cNvCxnSpPr/>
          <p:nvPr/>
        </p:nvCxnSpPr>
        <p:spPr>
          <a:xfrm flipH="1">
            <a:off x="4714560" y="3067200"/>
            <a:ext cx="876960" cy="334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34"/>
          <p:cNvCxnSpPr>
            <a:stCxn id="182" idx="3"/>
          </p:cNvCxnSpPr>
          <p:nvPr/>
        </p:nvCxnSpPr>
        <p:spPr>
          <a:xfrm flipH="1" flipV="1">
            <a:off x="4661640" y="3871440"/>
            <a:ext cx="1127880" cy="34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2" name="Straight Arrow Connector 36"/>
          <p:cNvCxnSpPr/>
          <p:nvPr/>
        </p:nvCxnSpPr>
        <p:spPr>
          <a:xfrm flipH="1">
            <a:off x="4787640" y="3635280"/>
            <a:ext cx="90720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38"/>
          <p:cNvCxnSpPr>
            <a:stCxn id="186" idx="2"/>
          </p:cNvCxnSpPr>
          <p:nvPr/>
        </p:nvCxnSpPr>
        <p:spPr>
          <a:xfrm flipH="1" flipV="1">
            <a:off x="4447440" y="4046040"/>
            <a:ext cx="114372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42"/>
          <p:cNvCxnSpPr>
            <a:stCxn id="186" idx="1"/>
          </p:cNvCxnSpPr>
          <p:nvPr/>
        </p:nvCxnSpPr>
        <p:spPr>
          <a:xfrm flipH="1" flipV="1">
            <a:off x="4661640" y="4046040"/>
            <a:ext cx="11278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44"/>
          <p:cNvCxnSpPr/>
          <p:nvPr/>
        </p:nvCxnSpPr>
        <p:spPr>
          <a:xfrm flipH="1" flipV="1">
            <a:off x="4355640" y="4220640"/>
            <a:ext cx="1339200" cy="15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46"/>
          <p:cNvCxnSpPr/>
          <p:nvPr/>
        </p:nvCxnSpPr>
        <p:spPr>
          <a:xfrm flipH="1" flipV="1">
            <a:off x="4571640" y="4304880"/>
            <a:ext cx="1218240" cy="1285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7" name="Straight Arrow Connector 53"/>
          <p:cNvCxnSpPr/>
          <p:nvPr/>
        </p:nvCxnSpPr>
        <p:spPr>
          <a:xfrm>
            <a:off x="2536920" y="3347640"/>
            <a:ext cx="5277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Straight Arrow Connector 55"/>
          <p:cNvCxnSpPr/>
          <p:nvPr/>
        </p:nvCxnSpPr>
        <p:spPr>
          <a:xfrm>
            <a:off x="2391840" y="3634920"/>
            <a:ext cx="66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57"/>
          <p:cNvCxnSpPr/>
          <p:nvPr/>
        </p:nvCxnSpPr>
        <p:spPr>
          <a:xfrm flipV="1">
            <a:off x="2536560" y="3771720"/>
            <a:ext cx="523080" cy="27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0" name="Straight Arrow Connector 61"/>
          <p:cNvCxnSpPr/>
          <p:nvPr/>
        </p:nvCxnSpPr>
        <p:spPr>
          <a:xfrm flipV="1">
            <a:off x="1780920" y="4046040"/>
            <a:ext cx="1423080" cy="875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01" name="Picture 4" descr="http://www.iacto.ie/wp-content/uploads/2014/03/group-of-people-v4.jpg"/>
          <p:cNvPicPr/>
          <p:nvPr/>
        </p:nvPicPr>
        <p:blipFill>
          <a:blip r:embed="rId5"/>
          <a:stretch/>
        </p:blipFill>
        <p:spPr>
          <a:xfrm>
            <a:off x="160200" y="2705040"/>
            <a:ext cx="2376720" cy="166068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48132"/>
          <p:cNvCxnSpPr/>
          <p:nvPr/>
        </p:nvCxnSpPr>
        <p:spPr>
          <a:xfrm flipV="1">
            <a:off x="1780920" y="3909240"/>
            <a:ext cx="142308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48128"/>
          <p:cNvCxnSpPr/>
          <p:nvPr/>
        </p:nvCxnSpPr>
        <p:spPr>
          <a:xfrm>
            <a:off x="2009880" y="2665080"/>
            <a:ext cx="105480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59"/>
          <p:cNvCxnSpPr/>
          <p:nvPr/>
        </p:nvCxnSpPr>
        <p:spPr>
          <a:xfrm>
            <a:off x="2124000" y="2421000"/>
            <a:ext cx="936000" cy="81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Government v Borough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lanning Policy Framework, Primary  Legislation, Secondary Legi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does this  work  in practic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se d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1: Office to residential permitted developmen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rt Challeng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The Central Activities Zone (CAZ)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77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5 Net change, B1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80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Mayor v Borough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yor has extensive powers, proposed to be expended fur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does this  work  in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ROUGH LOCAL PLANS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eral conform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2: “Affordable Rent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NING APPLICATIONS – “call in” po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3: Mount Pleas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LPA and Developers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gotiations/pre-app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pplication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eal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… on rare occasion the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this  work  in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4: Tall Buildings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LPA and Local Resident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d, articulate comm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ation on Local Plans and other planning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ation o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ons/ petitions/ residents speaking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itt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going engagement via local Councill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ters, petitions, questions to Council, letters to pr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ey – development needs to address  local prior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SL_Logo_Black"/>
          <p:cNvPicPr/>
          <p:nvPr/>
        </p:nvPicPr>
        <p:blipFill>
          <a:blip r:embed="rId1"/>
          <a:stretch/>
        </p:blipFill>
        <p:spPr>
          <a:xfrm>
            <a:off x="6748560" y="380880"/>
            <a:ext cx="2090520" cy="346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About Islington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64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borough – less than 6 square miles of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: 2014 estimate -  221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densely populated in E&amp;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.7 times London  average, 34 times England   aver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ough of extremes – polaris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st deprived in England (out of 35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ghest rate of child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n for its historic heritage, cultural  attractions – theatres, pubs…. and Arsenal F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cal planning reform underway – unprecede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tralisation of powers/transfer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o are we planning f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http://www.avon.nhs.uk/phnet/images/group%20of%20older%20people2.JPG"/>
          <p:cNvPicPr/>
          <p:nvPr/>
        </p:nvPicPr>
        <p:blipFill>
          <a:blip r:embed="rId1"/>
          <a:stretch/>
        </p:blipFill>
        <p:spPr>
          <a:xfrm>
            <a:off x="257040" y="4203720"/>
            <a:ext cx="152424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s://encrypted-tbn0.gstatic.com/images?q=tbn:ANd9GcRTLSIrH0gPmtyszCm9cftp1E5NbJe0zLcXJ9MArj_zQFxyIs9r"/>
          <p:cNvPicPr/>
          <p:nvPr/>
        </p:nvPicPr>
        <p:blipFill>
          <a:blip r:embed="rId2"/>
          <a:stretch/>
        </p:blipFill>
        <p:spPr>
          <a:xfrm>
            <a:off x="160200" y="16398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220" name="Oval 26"/>
          <p:cNvSpPr/>
          <p:nvPr/>
        </p:nvSpPr>
        <p:spPr>
          <a:xfrm>
            <a:off x="7669080" y="5729400"/>
            <a:ext cx="587520" cy="503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6934320" y="5589720"/>
            <a:ext cx="1028520" cy="782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Pressures/relationships 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3203640" y="3067200"/>
            <a:ext cx="1458720" cy="1136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5538960" y="2421000"/>
            <a:ext cx="1409400" cy="9586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5538960" y="1461960"/>
            <a:ext cx="1409400" cy="959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’ment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6664320" y="3440160"/>
            <a:ext cx="11523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6056280" y="3440160"/>
            <a:ext cx="13557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5591160" y="3379680"/>
            <a:ext cx="1357200" cy="986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ther age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7635960" y="4543560"/>
            <a:ext cx="995400" cy="701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7042320" y="4471920"/>
            <a:ext cx="1171440" cy="8985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270480" y="4421160"/>
            <a:ext cx="135576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5591160" y="4424400"/>
            <a:ext cx="13572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6364440" y="5435640"/>
            <a:ext cx="12618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5694480" y="5384880"/>
            <a:ext cx="1438200" cy="9874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Landow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30"/>
          <p:cNvCxnSpPr>
            <a:endCxn id="223" idx="7"/>
          </p:cNvCxnSpPr>
          <p:nvPr/>
        </p:nvCxnSpPr>
        <p:spPr>
          <a:xfrm flipH="1">
            <a:off x="4447800" y="2203560"/>
            <a:ext cx="1091520" cy="1031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Straight Arrow Connector 32"/>
          <p:cNvCxnSpPr/>
          <p:nvPr/>
        </p:nvCxnSpPr>
        <p:spPr>
          <a:xfrm flipH="1">
            <a:off x="4714560" y="3067200"/>
            <a:ext cx="876960" cy="334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Straight Arrow Connector 34"/>
          <p:cNvCxnSpPr>
            <a:stCxn id="228" idx="3"/>
          </p:cNvCxnSpPr>
          <p:nvPr/>
        </p:nvCxnSpPr>
        <p:spPr>
          <a:xfrm flipH="1" flipV="1">
            <a:off x="4661640" y="3871440"/>
            <a:ext cx="1127880" cy="34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8" name="Straight Arrow Connector 36"/>
          <p:cNvCxnSpPr/>
          <p:nvPr/>
        </p:nvCxnSpPr>
        <p:spPr>
          <a:xfrm flipH="1">
            <a:off x="4787640" y="3635280"/>
            <a:ext cx="90720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38"/>
          <p:cNvCxnSpPr>
            <a:stCxn id="232" idx="2"/>
          </p:cNvCxnSpPr>
          <p:nvPr/>
        </p:nvCxnSpPr>
        <p:spPr>
          <a:xfrm flipH="1" flipV="1">
            <a:off x="4447440" y="4046040"/>
            <a:ext cx="114372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42"/>
          <p:cNvCxnSpPr>
            <a:stCxn id="232" idx="1"/>
          </p:cNvCxnSpPr>
          <p:nvPr/>
        </p:nvCxnSpPr>
        <p:spPr>
          <a:xfrm flipH="1" flipV="1">
            <a:off x="4661640" y="4046040"/>
            <a:ext cx="11278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44"/>
          <p:cNvCxnSpPr/>
          <p:nvPr/>
        </p:nvCxnSpPr>
        <p:spPr>
          <a:xfrm flipH="1" flipV="1">
            <a:off x="4355640" y="4220640"/>
            <a:ext cx="1339200" cy="15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46"/>
          <p:cNvCxnSpPr/>
          <p:nvPr/>
        </p:nvCxnSpPr>
        <p:spPr>
          <a:xfrm flipH="1" flipV="1">
            <a:off x="4571640" y="4304880"/>
            <a:ext cx="1218240" cy="1285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3" name="Straight Arrow Connector 53"/>
          <p:cNvCxnSpPr/>
          <p:nvPr/>
        </p:nvCxnSpPr>
        <p:spPr>
          <a:xfrm>
            <a:off x="2536920" y="3347640"/>
            <a:ext cx="5277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55"/>
          <p:cNvCxnSpPr/>
          <p:nvPr/>
        </p:nvCxnSpPr>
        <p:spPr>
          <a:xfrm>
            <a:off x="2391840" y="3634920"/>
            <a:ext cx="66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7"/>
          <p:cNvCxnSpPr/>
          <p:nvPr/>
        </p:nvCxnSpPr>
        <p:spPr>
          <a:xfrm flipV="1">
            <a:off x="2536560" y="3771720"/>
            <a:ext cx="523080" cy="27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6" name="Straight Arrow Connector 61"/>
          <p:cNvCxnSpPr/>
          <p:nvPr/>
        </p:nvCxnSpPr>
        <p:spPr>
          <a:xfrm flipV="1">
            <a:off x="1780920" y="4046040"/>
            <a:ext cx="1423080" cy="875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47" name="Picture 4" descr="http://www.iacto.ie/wp-content/uploads/2014/03/group-of-people-v4.jpg"/>
          <p:cNvPicPr/>
          <p:nvPr/>
        </p:nvPicPr>
        <p:blipFill>
          <a:blip r:embed="rId3"/>
          <a:stretch/>
        </p:blipFill>
        <p:spPr>
          <a:xfrm>
            <a:off x="160200" y="2705040"/>
            <a:ext cx="2376720" cy="166068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48132"/>
          <p:cNvCxnSpPr/>
          <p:nvPr/>
        </p:nvCxnSpPr>
        <p:spPr>
          <a:xfrm flipV="1">
            <a:off x="1780920" y="3909240"/>
            <a:ext cx="142308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48128"/>
          <p:cNvCxnSpPr/>
          <p:nvPr/>
        </p:nvCxnSpPr>
        <p:spPr>
          <a:xfrm>
            <a:off x="2009880" y="2665080"/>
            <a:ext cx="105480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59"/>
          <p:cNvCxnSpPr/>
          <p:nvPr/>
        </p:nvCxnSpPr>
        <p:spPr>
          <a:xfrm>
            <a:off x="2124000" y="2421000"/>
            <a:ext cx="936000" cy="81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3357360"/>
            <a:ext cx="87138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islington.gov.uk/LDF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kiba Gurda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kiba.gurda@islington.gov.uk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https://s-media-cache-ak0.pinimg.com/originals/49/40/d3/4940d3e80df03af6e2c64823a77b1e3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" y="4541760"/>
            <a:ext cx="1965240" cy="236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www.thatgaybackpacker.com/wp-content/uploads/2012/11/sadlers-wells-theatr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5560" y="0"/>
            <a:ext cx="2941920" cy="171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l7.alamy.com/zooms/7ed64e483919453c869c4aef9eb5397a/upper-street-islington-london-england-uk-am7w9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71880" y="1563840"/>
            <a:ext cx="5149800" cy="358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http://static.homesandproperty.co.uk/s3fs-public/styles/story_medium/public/thumbnails/image/2015/11/24/00/thornhill-6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12920" y="0"/>
            <a:ext cx="3883320" cy="220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https://thornhillsquare.files.wordpress.com/2010/05/6a00d834803c9a53ef0133ed3ef568970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-28440" y="1995480"/>
            <a:ext cx="3917880" cy="280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onycullinanephotography.com/wp-content/uploads/2015/03/03-8234-page/Islington-Wedding_000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84280" y="3357720"/>
            <a:ext cx="287496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2" descr="http://blog.hostelbookers.com/wp-content/uploads/2012/06/Clissold-pARK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016000" y="4927680"/>
            <a:ext cx="648504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static.homesandproperty.co.uk/legacyimages/regents-canal-350x250_10140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0"/>
            <a:ext cx="333360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http://static1.squarespace.com/static/557b1492e4b0ed1098ee8edd/t/558d04c9e4b064cfb630e8fa/1435305163713/?format=750w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6560" y="4797360"/>
            <a:ext cx="2241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3384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6826"/>
                </a:solidFill>
                <a:latin typeface="Arial"/>
              </a:rPr>
              <a:t>Historic built environment 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0 Conservation area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4,500 statutorily Listed Building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ocally listed buildings</a:t>
            </a:r>
            <a:br>
              <a:rPr sz="1600"/>
            </a:br>
            <a:endParaRPr b="1" lang="en-US" sz="16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264200" y="184320"/>
            <a:ext cx="487980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http://www.islingtontribune.com/sites/all/files/nj_islington/imagecache/main_img/images/news/02_Andover%20Estate%20attack%20sce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480"/>
            <a:ext cx="642312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www.ksaonline.co.uk/wp-content/gallery/masterplan-projects/bemerton_we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2868480"/>
            <a:ext cx="5724360" cy="410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http://www.islingtontribune.com/sites/all/files/nj_islington/imagecache/main_img/images/news/01_andover_estate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394080"/>
            <a:ext cx="439272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http://www.designplan.co.uk/assets/media/Gambier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3120" y="17640"/>
            <a:ext cx="27208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313920"/>
            <a:ext cx="626436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Planning: Big picture – who does what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National planning policy and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Spatial strategy for London, stro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 over boroughs’ Local Plans,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call in” powers on strategic plann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ions, control over funding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ffordable housing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ll local planning and housing functions -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iver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528480" y="1628640"/>
            <a:ext cx="3167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vernment and Parlia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95440" y="3195720"/>
            <a:ext cx="2247840" cy="59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yor of London/G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ince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98320" y="4941720"/>
            <a:ext cx="316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don Borough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2"/>
          <p:cNvSpPr/>
          <p:nvPr/>
        </p:nvSpPr>
        <p:spPr>
          <a:xfrm>
            <a:off x="1027080" y="2297160"/>
            <a:ext cx="289080" cy="871560"/>
          </a:xfrm>
          <a:prstGeom prst="down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9"/>
          <p:cNvSpPr/>
          <p:nvPr/>
        </p:nvSpPr>
        <p:spPr>
          <a:xfrm>
            <a:off x="1055520" y="3952800"/>
            <a:ext cx="289080" cy="844560"/>
          </a:xfrm>
          <a:prstGeom prst="downArrow">
            <a:avLst>
              <a:gd name="adj1" fmla="val 50000"/>
              <a:gd name="adj2" fmla="val 4997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10"/>
          <p:cNvSpPr/>
          <p:nvPr/>
        </p:nvSpPr>
        <p:spPr>
          <a:xfrm>
            <a:off x="3112920" y="2270160"/>
            <a:ext cx="360360" cy="2608200"/>
          </a:xfrm>
          <a:prstGeom prst="downArrow">
            <a:avLst>
              <a:gd name="adj1" fmla="val 50000"/>
              <a:gd name="adj2" fmla="val 4999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What does a Local Planning Authority do?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paration and implementation of a Local Plans and a range of other planning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slington has a Local Plan in place (made up of four elements, will start partial review shortly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ing planning applic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ound 2,500 cases a year, around 40 - 50 maj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, and many pre-applic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mphasis on speed : 8 and 13 week deadlines,  b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use  P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for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action against breaches of planning control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onary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storic buildings - various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statutory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8277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d6826"/>
                </a:solidFill>
                <a:latin typeface="Arial"/>
              </a:rPr>
              <a:t>National Panning Policy Framework (March 2012)</a:t>
            </a:r>
            <a:endParaRPr b="1" lang="en-US" sz="26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sumption  in favour of sustainable develop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eeting objectively assessed needs for housing and other types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4:51:35Z</dcterms:created>
  <dc:creator>乩歫椠䱡畳椀㸲㻸ꔿ㌋䬮ꍰ䞮誀圇짗꾬钒붤鏊꣊㥊揤鞁</dc:creator>
  <dc:description/>
  <dc:language>en-US</dc:language>
  <cp:lastModifiedBy>Ulises Moreno</cp:lastModifiedBy>
  <cp:lastPrinted>2006-10-31T16:17:24Z</cp:lastPrinted>
  <dcterms:modified xsi:type="dcterms:W3CDTF">2016-02-06T12:00:42Z</dcterms:modified>
  <cp:revision>385</cp:revision>
  <dc:subject/>
  <dc:title>Presentation to Name Surname 31 October 2006</dc:title>
</cp:coreProperties>
</file>