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19F-C78B-47E5-9960-A58620A12D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2B1D-9132-43D9-A6C9-98DFB41D422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4106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66"/>
                </a:solidFill>
                <a:latin typeface="Arial Unicode MS"/>
              </a:rPr>
              <a:t>Building London’s private rented sector</a:t>
            </a:r>
            <a:endParaRPr b="0" lang="en-US" sz="48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2349000"/>
            <a:ext cx="80359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3 March 201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Kathleen Scanl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"/>
              </a:rPr>
              <a:t>Christine Whitehea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69696"/>
                </a:solidFill>
                <a:latin typeface="Lucida Sans"/>
              </a:rPr>
              <a:t>LSE London Lent term semin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04800" y="476280"/>
            <a:ext cx="8539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mpared to USA: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the percep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494000"/>
          <a:ext cx="7129800" cy="4227480"/>
        </p:xfrm>
        <a:graphic>
          <a:graphicData uri="http://schemas.openxmlformats.org/drawingml/2006/table">
            <a:tbl>
              <a:tblPr/>
              <a:tblGrid>
                <a:gridCol w="3961080"/>
                <a:gridCol w="3168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dividual landl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rporate landl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ost owning 1-5 units (not building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wning multi-family develop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wellings originally built for sale to occupiers or as social hous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urpose-built for ren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unded by buy-to-let mortg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unded by commercial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mate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ofession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urrent UK policy direc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8728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ncourage construction of rental developmen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o provide big investments for institutions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low faster construction on large sites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troduce specific features suited to renta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ttract more institutional investo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o bring professionalism and financial stabil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ational subsidies specific to PR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uild to Rent Fu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nvestor guarantees for debt fin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barriers must be overcom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1640" y="1484280"/>
            <a:ext cx="7196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ttracting institutions to the sector has long been the holy grai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titutions have argued that yield is too low and that owner-occupation will always be more profitable and will therefore determine land pr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as the world changed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82789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ision-making by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velopers and investor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1981080"/>
            <a:ext cx="74484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The developer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and price =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ross development value – build cost – required profi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The investor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Yield = Income / asset price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Investor’s net income made up of revenue…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8000" y="2205000"/>
          <a:ext cx="5869080" cy="4127400"/>
        </p:xfrm>
        <a:graphic>
          <a:graphicData uri="http://schemas.openxmlformats.org/drawingml/2006/table">
            <a:tbl>
              <a:tblPr/>
              <a:tblGrid>
                <a:gridCol w="1635120"/>
                <a:gridCol w="173520"/>
                <a:gridCol w="4060440"/>
              </a:tblGrid>
              <a:tr h="1471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ven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umber of unit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nt per un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nnual rent incr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666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Yield = Income / asset pr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Yield =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Incom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…</a:t>
            </a: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less cos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87280" y="620640"/>
          <a:ext cx="7848720" cy="5985000"/>
        </p:xfrm>
        <a:graphic>
          <a:graphicData uri="http://schemas.openxmlformats.org/drawingml/2006/table">
            <a:tbl>
              <a:tblPr/>
              <a:tblGrid>
                <a:gridCol w="2238480"/>
                <a:gridCol w="561024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Void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tenant length of st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time to find new ten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-le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verage cost of refurb between ten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Cost of mark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0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Property supervision, including lett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  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nd running the prope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nt col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Arrears and bad deb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210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Other co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pairs and mainten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su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Service charge and ground r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Uti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1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Yield =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Incom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700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Risks add to required yield.  </a:t>
            </a:r>
            <a:r>
              <a:rPr b="0" lang="en-GB" sz="2400" spc="-1" strike="noStrike">
                <a:solidFill>
                  <a:srgbClr val="000066"/>
                </a:solidFill>
                <a:latin typeface="Arial Unicode MS"/>
              </a:rPr>
              <a:t>Some fairly easy to price: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197000"/>
          <a:ext cx="7848720" cy="4732200"/>
        </p:xfrm>
        <a:graphic>
          <a:graphicData uri="http://schemas.openxmlformats.org/drawingml/2006/table">
            <a:tbl>
              <a:tblPr/>
              <a:tblGrid>
                <a:gridCol w="2160720"/>
                <a:gridCol w="5688000"/>
              </a:tblGrid>
              <a:tr h="105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nning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 X% (say 15-20%) for land and planning risk to required returns to develop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4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Develop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Add 5% for construction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5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Initial l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Little experience with large-scale rental developments on which to base estim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Operating or manage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dd x% for operational risk to investor model OR require rent guarantee from AA counterpar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45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Yiel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= Income / asset pric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70112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Others less so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268280"/>
          <a:ext cx="7848720" cy="4191120"/>
        </p:xfrm>
        <a:graphic>
          <a:graphicData uri="http://schemas.openxmlformats.org/drawingml/2006/table">
            <a:tbl>
              <a:tblPr/>
              <a:tblGrid>
                <a:gridCol w="2160720"/>
                <a:gridCol w="5688000"/>
              </a:tblGrid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Exit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Will investor be able to sell—to owner-occupiers or another investor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8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Reputational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Problem tenants, bad management, more general issues with P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1473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Policy or regulatory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Will rent control or security of tenure be reimposed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953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 Unicode MS"/>
                          <a:ea typeface="Calibri"/>
                        </a:rPr>
                        <a:t>Yiel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 = Income / asset pric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land, construction and product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03280" y="1916280"/>
          <a:ext cx="7272360" cy="340344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Value of land driven by owner-occup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pply of land (particularly in London) in the right 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ocal authority policies (Mayoral policies vs those of borough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-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development fin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01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recent headlin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692280"/>
            <a:ext cx="781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cils urged to build homes for private rent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uncils should set targets for building homes for the private rented sector, says new report (Telegraph 24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tter private rented sector can weed out rogue landlords for goo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the fastest growing area of the market, but rented homes are dominated by amateur landlords. It's time for that to change (Guardian 26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rent controls to solve London's housing cris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essential workers are being priced out of the capital. Rent controls could address the uncertainty and unaffordability they face (New Statesman 27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7701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 yield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03280" y="1341360"/>
          <a:ext cx="6264360" cy="280368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lliquidity of residential proper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robust market inform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Manag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Scale of potential inves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8388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Barriers related to investor attitud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76360" y="907920"/>
          <a:ext cx="6624720" cy="448632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Predictability of demand into the longer te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vestors not willing to take planning/development 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Investors’ mandates (industry benchmark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putational risk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Regulatory and policy risk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바탕"/>
                        </a:rPr>
                        <a:t>Lack of expertise within investment hou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011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ave the barriers to investment been overcome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240" y="1484280"/>
            <a:ext cx="7521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ew dedicated new PRS developments to date—but increasing intere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overnment programmes starting to bear frui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yor’s Draft Housing Strategy calls for 5,000 per annum specifically for the PR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sible introduction of covenanted PRS – but benefit of mixed sites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xperience of the early adopters (QDD, Genesis etc) will be cruc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East Village (former Olympic athletes’ village)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63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tratford Halo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281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240" y="1197000"/>
            <a:ext cx="70880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ny of the barriers reflect very specific features of the UK planning system and property market, and will be slow to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ven so, best opportunity in decades for genuine shift in PRS provision – but only at the margi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ampions or first movers will be key -- many from overs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istoric PRS provision in London: Du Cane Cour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olphin Squar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05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happene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68360" y="1052640"/>
            <a:ext cx="75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t-deregulation (starting in the 1950s) companies wanted to sell – and did over the next twenty ye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grew rapidly with well- developed leasehold arrangements and the possibility of buying long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x benefits and other incentives meant private sector building was almost always for owner-occup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rented housing provided in the social sec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line and revival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600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declined to 11% of total stock in England  by the mid-1980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egulation of rents in 1988 led to slow increase in supp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for young people badly hit in early 1990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y-to-Let mortgages introduced in late 1990s – PRS started to increase quite quick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fordability crisis in early 2000s added to pressure on P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The financial crisis and its aftermath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981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edit and housing markets dried u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llers could not sell; purchasers could not buy – so PRS grew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construction fell by more than half; whi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migration and natural growth increased the population of London very rapid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isis of supply with all net growth concentrated in PRS and among individual amateur/part-time landlord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licy makers looked for more housing overall and new build in PRS in particul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Figure 1: Housing tenure,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3360" y="11592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R</cp:lastModifiedBy>
  <cp:lastPrinted>2013-12-13T16:43:24Z</cp:lastPrinted>
  <dcterms:modified xsi:type="dcterms:W3CDTF">2014-03-04T15:56:24Z</dcterms:modified>
  <cp:revision>238</cp:revision>
  <dc:subject/>
  <dc:title>Impacts of Recent International Migration on a Destination City  some observations from London</dc:title>
</cp:coreProperties>
</file>