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62AD-9014-453E-BFF2-E584711DAB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ED75-BF99-4304-918B-CA372E2D5AE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86840"/>
            <a:ext cx="841068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66"/>
                </a:solidFill>
                <a:latin typeface="Arial Unicode MS"/>
              </a:rPr>
              <a:t>Building London’s private rented sector</a:t>
            </a:r>
            <a:endParaRPr b="0" lang="en-US" sz="4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57160" y="2349000"/>
            <a:ext cx="80359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3 March 2014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"/>
              </a:rPr>
              <a:t>Kathleen Scanl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"/>
              </a:rPr>
              <a:t>Christine Whitehead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Lucida Sans"/>
              </a:rPr>
              <a:t>LSE London Lent term semina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04800" y="476280"/>
            <a:ext cx="85392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Compared to USA: 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the perception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47640" y="1494000"/>
          <a:ext cx="7129800" cy="4227480"/>
        </p:xfrm>
        <a:graphic>
          <a:graphicData uri="http://schemas.openxmlformats.org/drawingml/2006/table">
            <a:tbl>
              <a:tblPr/>
              <a:tblGrid>
                <a:gridCol w="3961080"/>
                <a:gridCol w="316872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dividual landl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rporate landl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ost owning 1-5 units (not building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wning multi-family develop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wellings originally built for sale to occupiers or as social hous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urpose-built for ren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unded by buy-to-let mortgag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unded by commercial lo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mate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fession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Current UK policy direction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87280" y="134136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ncourage construction of rental development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o provide big investments for institutions,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llow faster construction on large sites,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ntroduce specific features suited to rental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ttract more institutional investo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o bring professionalism and financial stabil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ational subsidies specific to PR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Build to Rent Fun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nvestor guarantees for debt finan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What barriers must be overcome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31640" y="1484280"/>
            <a:ext cx="71960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ttracting institutions to the sector has long been the holy grai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stitutions have argued that yield is too low and that owner-occupation will always be more profitable and will therefore determine land pric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as the world changed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82789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Decision-making by 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developers and investor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371600" y="1981080"/>
            <a:ext cx="74484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Unicode MS"/>
              </a:rPr>
              <a:t>The developer: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Land price =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gross development value – build cost – required profi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Unicode MS"/>
              </a:rPr>
              <a:t>The investor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Yield = Income / asset price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Investor’s net income made up of revenue…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08000" y="2205000"/>
          <a:ext cx="5869080" cy="4127400"/>
        </p:xfrm>
        <a:graphic>
          <a:graphicData uri="http://schemas.openxmlformats.org/drawingml/2006/table">
            <a:tbl>
              <a:tblPr/>
              <a:tblGrid>
                <a:gridCol w="1635120"/>
                <a:gridCol w="173520"/>
                <a:gridCol w="4060440"/>
              </a:tblGrid>
              <a:tr h="1471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ven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umber of unit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nt per un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nnual rent incr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4666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Yield = Income / asset pric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 Yield =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Incom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/ asset price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 …</a:t>
            </a: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less cost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187280" y="620640"/>
          <a:ext cx="7848720" cy="5985000"/>
        </p:xfrm>
        <a:graphic>
          <a:graphicData uri="http://schemas.openxmlformats.org/drawingml/2006/table">
            <a:tbl>
              <a:tblPr/>
              <a:tblGrid>
                <a:gridCol w="2238480"/>
                <a:gridCol w="5610240"/>
              </a:tblGrid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Voi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Average tenant length of st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Average time to find new te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Re-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Average cost of refurb between tena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Cost of marke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0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Manag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Property supervision, including letting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  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and running the proper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Rent coll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Arrears and bad deb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</a:tr>
              <a:tr h="210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Other co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Repairs and mainten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Insur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Service charge and ground r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Utili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1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 Yield =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Incom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/ asset price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27000"/>
            <a:ext cx="77011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Risks add to required yield.  </a:t>
            </a:r>
            <a:r>
              <a:rPr b="0" lang="en-GB" sz="2400" spc="-1" strike="noStrike">
                <a:solidFill>
                  <a:srgbClr val="000066"/>
                </a:solidFill>
                <a:latin typeface="Arial Unicode MS"/>
              </a:rPr>
              <a:t>Some fairly easy to price: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00000" y="1197000"/>
          <a:ext cx="7848720" cy="4732200"/>
        </p:xfrm>
        <a:graphic>
          <a:graphicData uri="http://schemas.openxmlformats.org/drawingml/2006/table">
            <a:tbl>
              <a:tblPr/>
              <a:tblGrid>
                <a:gridCol w="2160720"/>
                <a:gridCol w="5688000"/>
              </a:tblGrid>
              <a:tr h="1052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nning ri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dd X% (say 15-20%) for land and planning risk to required returns to develop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41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Development ri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Add 5% for construction ris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052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Initial let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Little experience with large-scale rental developments on which to base estim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1261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Operating or management ri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dd x% for operational risk to investor model OR require rent guarantee from AA counterpart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2452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Yiel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= Income / asset price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770112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Others less so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00000" y="1268280"/>
          <a:ext cx="7848720" cy="4191120"/>
        </p:xfrm>
        <a:graphic>
          <a:graphicData uri="http://schemas.openxmlformats.org/drawingml/2006/table">
            <a:tbl>
              <a:tblPr/>
              <a:tblGrid>
                <a:gridCol w="2160720"/>
                <a:gridCol w="5688000"/>
              </a:tblGrid>
              <a:tr h="841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Exit ris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Will investor be able to sell—to owner-occupiers or another investor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81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Reputational ris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Problem tenants, bad management, more general issues with P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1473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Policy or regulatory ris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Will rent control or security of tenure be reimposed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89532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(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 Unicode MS"/>
                          <a:ea typeface="Calibri"/>
                        </a:rPr>
                        <a:t>Yiel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 = Income / asset pric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011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Barriers related to</a:t>
            </a:r>
            <a:br>
              <a:rPr sz="4000"/>
            </a:b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land, construction and product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03280" y="1916280"/>
          <a:ext cx="7272360" cy="3403440"/>
        </p:xfrm>
        <a:graphic>
          <a:graphicData uri="http://schemas.openxmlformats.org/drawingml/2006/table">
            <a:tbl>
              <a:tblPr/>
              <a:tblGrid>
                <a:gridCol w="7272360"/>
              </a:tblGrid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Value of land driven by owner-occupat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upply of land (particularly in London) in the right lo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Local authority policies (Mayoral policies vs those of borough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Lack of development fin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100080"/>
            <a:ext cx="7701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Some recent headlin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2000" y="692280"/>
            <a:ext cx="78120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cils urged to build homes for private rent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councils should set targets for building homes for the private rented sector, says new report (Telegraph 24/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etter private rented sector can weed out rogue landlords for goo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's the fastest growing area of the market, but rented homes are dominated by amateur landlords. It's time for that to change (Guardian 26/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rent controls to solve London's housing crisi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many essential workers are being priced out of the capital. Rent controls could address the uncertainty and unaffordability they face (New Statesman 27/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44280"/>
            <a:ext cx="77011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Barriers related to yield 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03280" y="1341360"/>
          <a:ext cx="6264360" cy="2803680"/>
        </p:xfrm>
        <a:graphic>
          <a:graphicData uri="http://schemas.openxmlformats.org/drawingml/2006/table">
            <a:tbl>
              <a:tblPr/>
              <a:tblGrid>
                <a:gridCol w="626436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Illiquidity of residential proper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Lack of robust market inform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Manag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Scale of potential inves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-100080"/>
            <a:ext cx="83883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Barriers related to investor attitudes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76360" y="907920"/>
          <a:ext cx="6624720" cy="4486320"/>
        </p:xfrm>
        <a:graphic>
          <a:graphicData uri="http://schemas.openxmlformats.org/drawingml/2006/table">
            <a:tbl>
              <a:tblPr/>
              <a:tblGrid>
                <a:gridCol w="6624720"/>
              </a:tblGrid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Predictability of demand into the longer ter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Investors not willing to take planning/development ri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Investors’ mandates (industry benchmark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Reputational risk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Regulatory and policy risk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26180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Lack of expertise within investment hou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7011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Have the barriers to investment been overcome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240" y="1484280"/>
            <a:ext cx="7521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Few dedicated new PRS developments to date—but increasing interes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overnment programmes starting to bear frui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ayor’s Draft Housing Strategy calls for 5,000 per annum specifically for the PR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ossible introduction of covenanted PRS – but benefit of mixed sites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xperience of the early adopters (QDD, Genesis etc) will be crucia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East Village (former Olympic athletes’ village)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66391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Stratford Halo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95" name="Content Placeholder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2814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240" y="1197000"/>
            <a:ext cx="70880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any of the barriers reflect very specific features of the UK planning system and property market, and will be slow to chang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ven so, best opportunity in decades for genuine shift in PRS provision – but only at the margi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ampions or first movers will be key -- many from oversea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Historic PRS provision in London: Du Cane Cour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2178000" y="1981080"/>
            <a:ext cx="615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Dolphin Squar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57" name="Content Placeholder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60564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What happened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68360" y="1052640"/>
            <a:ext cx="75247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ost-deregulation (starting in the 1950s) companies wanted to sell – and did over the next twenty yea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wner-occupation grew rapidly with well- developed leasehold arrangements and the possibility of buying long leas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ax benefits and other incentives meant private sector building was almost always for owner-occup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ew rented housing provided in the social secto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Decline and revival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16000" y="1125000"/>
            <a:ext cx="7772400" cy="49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RS declined to 11% of total stock in England  by the mid-1980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eregulation of rents in 1988 led to slow increase in suppl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wner-occupation for young people badly hit in early 1990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Buy-to-Let mortgages introduced in late 1990s – PRS started to increase quite quickl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ffordability crisis in early 2000s added to pressure on P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The financial crisis and its aftermath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58920" y="981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redit and housing markets dried up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ellers could not sell; purchasers could not buy – so PRS grew rapidl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ew construction fell by more than half; whil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mmigration and natural growth increased the population of London very rapidl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risis of supply with all net growth concentrated in PRS and among individual amateur/part-time landlord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olicy makers looked for more housing overall and new build in PRS in particula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Figure 1: Housing tenure, London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65" name="Chart 3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7345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03360" y="115920"/>
            <a:ext cx="8353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9:16:29Z</dcterms:created>
  <dc:creator>LSE User</dc:creator>
  <dc:description/>
  <dc:language>en-US</dc:language>
  <cp:lastModifiedBy>R</cp:lastModifiedBy>
  <cp:lastPrinted>2013-12-13T16:43:24Z</cp:lastPrinted>
  <dcterms:modified xsi:type="dcterms:W3CDTF">2014-03-04T15:56:24Z</dcterms:modified>
  <cp:revision>238</cp:revision>
  <dc:subject/>
  <dc:title>Impacts of Recent International Migration on a Destination City  some observations from London</dc:title>
</cp:coreProperties>
</file>