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8B6-AE26-46AE-ACB4-EED0A101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A1A-D809-4B2D-B71A-2798A5C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75-A395-4BB0-890E-09CB5FAC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8D9-29F8-42C5-8C6D-B3085B35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24C-B793-494B-AB54-13FA53A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1D7-5106-435D-BBED-844F37D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4C1-630E-430A-B72F-F920B5A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CEC-64CE-487D-A446-29E42B33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C37-86E0-4F6E-AD0D-FFECD1A5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90D-7F3F-4790-8FBE-8470CE1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B0B-1FBE-4590-B4F9-6BA597C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3C9-DCE4-4C1E-8B35-6258E82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EC18-9FD3-4303-A26A-3596CDF308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placement and Densification: Tracing Spatial Impacts of Migration Inflows to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an Gor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Geography Depart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LSE London and Spatial Economics Research Cen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London School of Econo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 hoc set of maps to accompany presentation 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SE London/RUPS MSc seminar 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February 17</a:t>
            </a:r>
            <a:r>
              <a:rPr b="0" lang="en-GB" sz="18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:\LSE London\Displacement Seminar\LayedOutMaps\RICHCBORN01_MONDAY24_Ax.jpg"/>
          <p:cNvPicPr/>
          <p:nvPr/>
        </p:nvPicPr>
        <p:blipFill>
          <a:blip r:embed="rId2"/>
          <a:stretch/>
        </p:blipFill>
        <p:spPr>
          <a:xfrm>
            <a:off x="1428840" y="519120"/>
            <a:ext cx="6286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LSE London\Displacement Seminar\LayedOutMaps\TRANSQUINT_MONDAY24_Ax.jpg"/>
          <p:cNvPicPr/>
          <p:nvPr/>
        </p:nvPicPr>
        <p:blipFill>
          <a:blip r:embed="rId2"/>
          <a:stretch/>
        </p:blipFill>
        <p:spPr>
          <a:xfrm>
            <a:off x="1428840" y="519120"/>
            <a:ext cx="6286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LSE London\Displacement Seminar\LayedOutMaps\RENTPROP_23_MONDAY24_Ax.jpg"/>
          <p:cNvPicPr/>
          <p:nvPr/>
        </p:nvPicPr>
        <p:blipFill>
          <a:blip r:embed="rId2"/>
          <a:stretch/>
        </p:blipFill>
        <p:spPr>
          <a:xfrm>
            <a:off x="1428840" y="509760"/>
            <a:ext cx="628632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urces / Acknowled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s 1 – 8 based on published tables from the 2001 and 2011 Population Censuses (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persal estimates in maps 4/5 also make use of calculations (at UK level) of 2001-11 ‘exit’ probabilities (via death or emigration) for poor/rich country migrants by decade of arrival  in UK – based on 2001 &amp; 2011 LFS data (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 9 is derived from manipulation of web-published DfT ‘accessibility statistics’ on employment centres of different sizes within specific time bands of LSOA by non-car modes in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p 10 is based on published 2002/3 data for Private Rent Determinations for Housing Benefit (from Neighbourhood Statistics web-site), using a simple average of the ‘proposed rents’ for 2 bedroom and 3 bedroom dwell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st of Maps –by LSOA across the Greater South 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sons per room ratio – proportionate growth rate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or country migrants arriving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ch country migrants arriving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imate of dispersal effect for earlier poor country migrants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imate of dispersal effect for earlier rich country migrants 2001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ange in UK born population 2001-11 (prop of total 2001 p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rtion of 2001 population born in poor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portion of 2001 population born in other rich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ob accessibility indicator fo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rents indicator  for 2002/3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t MSOA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LSE London\Displacement Seminar\LayedOutMaps\PPR_GR_MONDAY24_Ax.jpg"/>
          <p:cNvPicPr/>
          <p:nvPr/>
        </p:nvPicPr>
        <p:blipFill>
          <a:blip r:embed="rId2"/>
          <a:stretch/>
        </p:blipFill>
        <p:spPr>
          <a:xfrm>
            <a:off x="1414440" y="504720"/>
            <a:ext cx="631512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LSE London\Displacement Seminar\LayedOutMaps\POORCARRIV_MONDAY24_Ax.jpg"/>
          <p:cNvPicPr/>
          <p:nvPr/>
        </p:nvPicPr>
        <p:blipFill>
          <a:blip r:embed="rId2"/>
          <a:stretch/>
        </p:blipFill>
        <p:spPr>
          <a:xfrm>
            <a:off x="1433520" y="595440"/>
            <a:ext cx="62769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:\LSE London\Displacement Seminar\LayedOutMaps\RICHCARRIV_MONDAY24_Ax.jpg"/>
          <p:cNvPicPr/>
          <p:nvPr/>
        </p:nvPicPr>
        <p:blipFill>
          <a:blip r:embed="rId2"/>
          <a:stretch/>
        </p:blipFill>
        <p:spPr>
          <a:xfrm>
            <a:off x="1433520" y="528480"/>
            <a:ext cx="62769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:\LSE London\Displacement Seminar\LayedOutMaps\DISP_PC0111_Ax.jpg"/>
          <p:cNvPicPr/>
          <p:nvPr/>
        </p:nvPicPr>
        <p:blipFill>
          <a:blip r:embed="rId2"/>
          <a:stretch/>
        </p:blipFill>
        <p:spPr>
          <a:xfrm>
            <a:off x="1442880" y="542880"/>
            <a:ext cx="62582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LSE London\Displacement Seminar\LayedOutMaps\DISP_RC0111_Ax.jpg"/>
          <p:cNvPicPr/>
          <p:nvPr/>
        </p:nvPicPr>
        <p:blipFill>
          <a:blip r:embed="rId2"/>
          <a:stretch/>
        </p:blipFill>
        <p:spPr>
          <a:xfrm>
            <a:off x="1433520" y="500040"/>
            <a:ext cx="6276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LSE London\Displacement Seminar\LayedOutMaps\UKBORN_GR_MONDAY24_Ax.jpg"/>
          <p:cNvPicPr/>
          <p:nvPr/>
        </p:nvPicPr>
        <p:blipFill>
          <a:blip r:embed="rId2"/>
          <a:stretch/>
        </p:blipFill>
        <p:spPr>
          <a:xfrm>
            <a:off x="1428840" y="547560"/>
            <a:ext cx="6286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:\LSE London\Displacement Seminar\LayedOutMaps\POORCBORN01_MONDAY24_Ax.jpg"/>
          <p:cNvPicPr/>
          <p:nvPr/>
        </p:nvPicPr>
        <p:blipFill>
          <a:blip r:embed="rId2"/>
          <a:stretch/>
        </p:blipFill>
        <p:spPr>
          <a:xfrm>
            <a:off x="1442880" y="561960"/>
            <a:ext cx="6258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1:22:05Z</dcterms:created>
  <dc:creator>London School of Economics and Political Science</dc:creator>
  <dc:description/>
  <dc:language>en-US</dc:language>
  <cp:lastModifiedBy>R</cp:lastModifiedBy>
  <dcterms:modified xsi:type="dcterms:W3CDTF">2014-03-04T15:52:46Z</dcterms:modified>
  <cp:revision>17</cp:revision>
  <dc:subject/>
  <dc:title>Displacement and Densification: Tracing Spatial Impacts of Migration Inflows to London</dc:title>
</cp:coreProperties>
</file>