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F22-22C7-493E-9172-C3C74527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690-A795-4CBC-9209-6BF8F2C6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B28-4F9B-4BFC-990D-59B190C6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29E-312B-4F22-BF5C-726C0067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2AD-A423-4714-AD2D-D5CBC42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3DA-EE63-40B6-B277-6A6AC786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A48-79EA-4D5A-AFCC-3C40236E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D81-D7FD-41EC-A1FE-63038B2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FFB-162A-47E2-ABB9-0A0C687A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77B-5D6F-47C2-989C-9201214F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DB7-14C0-457E-9696-B3812E0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13C-B718-4C08-BCAC-B19FC19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B059-1D6E-4CC3-9E6E-A69853442C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placement and Densification: Tracing Spatial Impacts of Migration Inflows to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an Gor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Geography Depart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LSE London and Spatial Economics Research Cen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London School of Econo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 hoc set of maps to accompany presentation 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SE London/RUPS MSc seminar 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February 17</a:t>
            </a:r>
            <a:r>
              <a:rPr b="0" lang="en-GB" sz="18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:\LSE London\Displacement Seminar\LayedOutMaps\RICHCBORN01_MONDAY24_Ax.jpg"/>
          <p:cNvPicPr/>
          <p:nvPr/>
        </p:nvPicPr>
        <p:blipFill>
          <a:blip r:embed="rId2"/>
          <a:stretch/>
        </p:blipFill>
        <p:spPr>
          <a:xfrm>
            <a:off x="1428840" y="519120"/>
            <a:ext cx="6286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:\LSE London\Displacement Seminar\LayedOutMaps\TRANSQUINT_MONDAY24_Ax.jpg"/>
          <p:cNvPicPr/>
          <p:nvPr/>
        </p:nvPicPr>
        <p:blipFill>
          <a:blip r:embed="rId2"/>
          <a:stretch/>
        </p:blipFill>
        <p:spPr>
          <a:xfrm>
            <a:off x="1428840" y="519120"/>
            <a:ext cx="6286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LSE London\Displacement Seminar\LayedOutMaps\RENTPROP_23_MONDAY24_Ax.jpg"/>
          <p:cNvPicPr/>
          <p:nvPr/>
        </p:nvPicPr>
        <p:blipFill>
          <a:blip r:embed="rId2"/>
          <a:stretch/>
        </p:blipFill>
        <p:spPr>
          <a:xfrm>
            <a:off x="1428840" y="509760"/>
            <a:ext cx="628632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urces / Acknowled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ps 1 – 8 based on published tables from the 2001 and 2011 Population Censuses (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persal estimates in maps 4/5 also make use of calculations (at UK level) of 2001-11 ‘exit’ probabilities (via death or emigration) for poor/rich country migrants by decade of arrival  in UK – based on 2001 &amp; 2011 LFS data (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p 9 is derived from manipulation of web-published DfT ‘accessibility statistics’ on employment centres of different sizes within specific time bands of LSOA by non-car modes in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p 10 is based on published 2002/3 data for Private Rent Determinations for Housing Benefit (from Neighbourhood Statistics web-site), using a simple average of the ‘proposed rents’ for 2 bedroom and 3 bedroom dwell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st of Maps –by LSOA across the Greater South 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sons per room ratio – proportionate growth rate 2001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or country migrants arriving 2001-11 (prop of total 2001 p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ich country migrants arriving 2001-11 (prop of total 2001 p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imate of dispersal effect for earlier poor country migrants 2001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imate of dispersal effect for earlier rich country migrants 2001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ange in UK born population 2001-11 (prop of total 2001 p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portion of 2001 population born in poor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portion of 2001 population born in other rich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ob accessibility indicator fo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rents indicator  for 2002/3 -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t MSOA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LSE London\Displacement Seminar\LayedOutMaps\PPR_GR_MONDAY24_Ax.jpg"/>
          <p:cNvPicPr/>
          <p:nvPr/>
        </p:nvPicPr>
        <p:blipFill>
          <a:blip r:embed="rId2"/>
          <a:stretch/>
        </p:blipFill>
        <p:spPr>
          <a:xfrm>
            <a:off x="1414440" y="504720"/>
            <a:ext cx="631512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LSE London\Displacement Seminar\LayedOutMaps\POORCARRIV_MONDAY24_Ax.jpg"/>
          <p:cNvPicPr/>
          <p:nvPr/>
        </p:nvPicPr>
        <p:blipFill>
          <a:blip r:embed="rId2"/>
          <a:stretch/>
        </p:blipFill>
        <p:spPr>
          <a:xfrm>
            <a:off x="1433520" y="595440"/>
            <a:ext cx="627696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:\LSE London\Displacement Seminar\LayedOutMaps\RICHCARRIV_MONDAY24_Ax.jpg"/>
          <p:cNvPicPr/>
          <p:nvPr/>
        </p:nvPicPr>
        <p:blipFill>
          <a:blip r:embed="rId2"/>
          <a:stretch/>
        </p:blipFill>
        <p:spPr>
          <a:xfrm>
            <a:off x="1433520" y="528480"/>
            <a:ext cx="62769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:\LSE London\Displacement Seminar\LayedOutMaps\DISP_PC0111_Ax.jpg"/>
          <p:cNvPicPr/>
          <p:nvPr/>
        </p:nvPicPr>
        <p:blipFill>
          <a:blip r:embed="rId2"/>
          <a:stretch/>
        </p:blipFill>
        <p:spPr>
          <a:xfrm>
            <a:off x="1442880" y="542880"/>
            <a:ext cx="62582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LSE London\Displacement Seminar\LayedOutMaps\DISP_RC0111_Ax.jpg"/>
          <p:cNvPicPr/>
          <p:nvPr/>
        </p:nvPicPr>
        <p:blipFill>
          <a:blip r:embed="rId2"/>
          <a:stretch/>
        </p:blipFill>
        <p:spPr>
          <a:xfrm>
            <a:off x="1433520" y="500040"/>
            <a:ext cx="6276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:\LSE London\Displacement Seminar\LayedOutMaps\UKBORN_GR_MONDAY24_Ax.jpg"/>
          <p:cNvPicPr/>
          <p:nvPr/>
        </p:nvPicPr>
        <p:blipFill>
          <a:blip r:embed="rId2"/>
          <a:stretch/>
        </p:blipFill>
        <p:spPr>
          <a:xfrm>
            <a:off x="1428840" y="547560"/>
            <a:ext cx="6286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:\LSE London\Displacement Seminar\LayedOutMaps\POORCBORN01_MONDAY24_Ax.jpg"/>
          <p:cNvPicPr/>
          <p:nvPr/>
        </p:nvPicPr>
        <p:blipFill>
          <a:blip r:embed="rId2"/>
          <a:stretch/>
        </p:blipFill>
        <p:spPr>
          <a:xfrm>
            <a:off x="1442880" y="561960"/>
            <a:ext cx="62582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1:22:05Z</dcterms:created>
  <dc:creator>London School of Economics and Political Science</dc:creator>
  <dc:description/>
  <dc:language>en-US</dc:language>
  <cp:lastModifiedBy>R</cp:lastModifiedBy>
  <dcterms:modified xsi:type="dcterms:W3CDTF">2014-03-04T15:52:46Z</dcterms:modified>
  <cp:revision>17</cp:revision>
  <dc:subject/>
  <dc:title>Displacement and Densification: Tracing Spatial Impacts of Migration Inflows to London</dc:title>
</cp:coreProperties>
</file>