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Displacement and Densification: Tracing Spatial Impacts of Migration Inflows to London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an Gord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Arial"/>
              </a:rPr>
              <a:t>Geography Department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69696"/>
                </a:solidFill>
                <a:latin typeface="Arial"/>
              </a:rPr>
              <a:t>LSE London and Spatial Economics Research Centr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London School of Economic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SE London/RUPS MSc seminar seri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February 17</a:t>
            </a:r>
            <a:r>
              <a:rPr b="0" lang="en-GB" sz="18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 2014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Unicode MS"/>
              </a:rPr>
              <a:t>From LSEL Migrant Impact Work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716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 key distinction between migrants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xpecting generally better prospects  for someone like the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ypically from significantly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poorer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countries (e.g. LDC/EU_A10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Likely to stay indefinitel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ursuing specific (current) opportunity –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work/training, private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ostly from other ‘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rich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’ countries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 (W. Europe, N. America, ANZA, Japan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Very likely to move on/back subsequentl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Only former face serious barriers to access good job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Despite comparable levels of educa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Notably in first 3 years or so – but long term convergenc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Housing implications include more crowding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ut evidence that gap in headship rates closed after 20 year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6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Unicode MS"/>
              </a:rPr>
              <a:t>So recency of arrival is a second key variable 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B. What Trends at Regional Level Sugges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3716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ooking at evolution /fluctuations in net intra-UK migration for GL and RG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s the scale with long data ser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relation to factors conditioning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emand for additional space (UK-wid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hanges in rate of private housing completi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lative attractiveness of GL /RGSE/RU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Differences in unemployment and house price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+ Net international migration – as  poss. ‘displacer’ 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Findings</a:t>
            </a: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16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e size of London’s outflow varies strongly with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national housing demand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(as does RGSE’s net inflow) consistent with income-elastic space demands being the drive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ough about half the positive effects appear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beyond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the GSE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e housing/labour market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relativitie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that matter for London migration are those between the GSE and the UK – not within the GSE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consistent with singular GSE housing/labour markets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ternational migrational gains into London appear to be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40% displaced into other area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– though primarily beyond the G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.e. the chain of displacements stretches right through the GSE, ending up outside (perhaps in Peter Hall’s larger version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NB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evidence of displacement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from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(less constrained) RG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ut how is the other 60% accommodated ?  By stimulating growth of extra housing space in London ?  Or more crowding?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. What Spatial Patterns of Inter-Censal Change Sugges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Unicode MS"/>
              </a:rPr>
              <a:t>Aim is to answer those questions by looking at  2001-11 Census evidence on: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patial variations in 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ousing market areas where more 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room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have been added to occupied housing stock ; a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neighbourhoods where most 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densification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of room use has taken pla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nd how these connect with our four groups of migrant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ich/poor country x old/new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4978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Broad Tendencies in Location/relocation 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16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hough particular 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oncentrations (old &amp; new) are still clear – at broader richC/poorC level se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Rich C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: new/recent arrivals tend partic to be in: areas of previous (2001) concentration and/or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good job accessibi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revious waves now simply drifting away from areas of concentration – though not far (e.g. Outer London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oor C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: recent arrivals tend partic to be in: areas of previous concentration and/or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low r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revious waves areas shifting toward with more UK-born pop – over wider territory – including right beyond the G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UK born Pop. (including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 Unicode MS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gen ‘migrants’) static overall : rising/falling in about equal no. of localit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xcept in Outer London where falling in 2/3 of LSOA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Accommodating Growth 1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7160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omparisons of growth rates for major ‘rings’ show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trong population growth in each but much faster inside London, especially IL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(+15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ubstantial room growth too, especially in IL &amp; OGSE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(9-10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ut London alone had notable increase in persons per room (5%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ccounting for all of its higher population growth relative to the RGS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ondon’s higher population growth was entirely among foreign born (UK born nos. fell especially in OL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iggest contributory factor was new arrivals from poor countri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ough numbers from earlier cohorts fell, reflecting dispersal as well as ‘exits’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ow may these be linked causally 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Accommodating Growth 2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716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e possible impact of new migrant inflows (from outside housing system) on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dwelling growth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rates was examined in regressions with an array of contextual factors (mostly relating to land supply potential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t LHMA level the latter clearly dominated and there was no sign of a positive effect from poor or rich country arriva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, with a limited number of units (73) estimates of these coefficients were very imprecis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t LSOA level, significant effects were found, suggesting a 10% population growth via rich country migrants might induce a 2% increase in the room stoc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ith a smaller impact (of 0.7%) for those from poor countries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 Unicode MS"/>
              </a:rPr>
              <a:t>Introduct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uzi Hall (last week) presented a street level study of migrant diversity in one London ocal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his talk by contrast uses quantitative evidence for a few broad groups of migrants/natives in areas across the GSE to find spatial impact of flows into Lon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flects view that central problem for understanding / planning metro regions lies in the interlocking chains (often of 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displacements)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linking local behaviour to impacts on the range of localities / popul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It is also about 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densification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(as complement to displacement) and how far London’s recent growth has depended on dense packing-in of  poor migrant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Accommodating Growth 3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716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Finally, local (LSOA) level room density changes were analysed within an ‘accounting’ type model in relation to  numeric changes in all 5 of our population sub-group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ith job accessibility and the 2001 ppr rate as control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 this case, the scale of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new arrivals from poor countries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merged as the strongest influence - with 55 of each 100 apparently being accommodated through denser occupation of existing roo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his compared with just 10 in the case of the UK born, and around 30 for those who had been in the country over 10 yea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For new arrivals from rich countries the average effect seemed insignificant – but this reflected great disparities between arrivals to IL whose impact was as low as for the UK born, whereas in the RGSE it was much stronger (45 per 100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UT:  densification also being driven by demand for accessibi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50920" y="139680"/>
            <a:ext cx="87138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onclusions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716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ccommodating migrants involves some combination of : (a) induced additions to local room stock; (b) denser occupation of those rooms; and (c) displacement  elsewher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r migrants to London (with its constrained space)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c) seems to account for 40%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r poor country migrants (a) accounts for ,10%, (b) for 55% - leaving perhaps 35% for displace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r rich country migrants: (a) accounts for 20% and (b) about 12% - leaving perhaps 68% for displacement 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 [to be tested ]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40040" indent="-20772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nsification effects for poor country  migrants clearly reduce over time – implying the likelihood of substantially more displacement in the long run (as well as dispersal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splacement effects of London immigration clearly spread well beyond the GSE (further than income growth effects?)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ithin London poor country migration is major factor in densification – but so is growing demand for accessibility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Growing Research Interest in </a:t>
            </a:r>
            <a:br>
              <a:rPr sz="3600"/>
            </a:b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Displacement Effects of Migration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alk of displacement often suggests a use of 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forc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ut here just implies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some causal link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between growth/ entry of one group and shrinkage/ exit of another (inc. earlier entrants)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 very old story, in terms of ‘invasion/succession’, but rediscovered in late 1990s for big new waves of migratio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Larger gains from overseas correlated with larger domestic loss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Cross-sectional spatial evidence for US metro areas (W.Frey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ime series evidence for London  (and southern regions in Hatton/Tani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aybe reflecting competition for limited opportuniti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 terms of housing and/or job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or maybe some qualitative impact, disliked by earlier settl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Generating ‘flight’ by whites – or some other old guar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terature tends to focus either on labour market  or white flight – but my hypothesis is that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 competition for limited housing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is key.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London’s ‘Mirror Image’ Migration Trends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1692360" y="1413000"/>
          <a:ext cx="6840360" cy="50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13000"/>
                    <a:ext cx="68403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3 substantive sections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 Unicode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at we might reasonably expec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 Unicode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at time series evidence suggests – in the London/Greater South East ca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 Unicode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What spatial patterns of change across the GSE suggest – for the decade between the last two Censuse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A. What We (Should) Expec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349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pproach is shaped by ideas from 3 sourc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lassic urban land-use theory / social ecolog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Lessons from empirical research on population movement in London’s extended reg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LSE London research on economic aspects of post 1980s international migration to Lon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From Classic (Old) Urban Theory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6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Unicode MS"/>
              </a:rPr>
              <a:t>With free property markets, patterns/density of land-use (and rents) shaped by competition between users: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Who give different priorities to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accessibility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, living/operating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space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+ (maybe) proximity to desired/similar kinds of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neighbour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 cities with a dominant centre this produces a basic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ring pattern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of resident differences (and densities) + some specialised cluster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Cities expand spatially by: attracting </a:t>
            </a:r>
            <a:r>
              <a:rPr b="1" lang="en-GB" sz="2200" spc="-1" strike="noStrike">
                <a:solidFill>
                  <a:srgbClr val="000000"/>
                </a:solidFill>
                <a:latin typeface="Arial Unicode MS"/>
              </a:rPr>
              <a:t>new people; </a:t>
            </a:r>
            <a:r>
              <a:rPr b="0" lang="en-GB" sz="2200" spc="-1" strike="noStrike">
                <a:solidFill>
                  <a:srgbClr val="000000"/>
                </a:solidFill>
                <a:latin typeface="Arial Unicode MS"/>
              </a:rPr>
              <a:t> &amp;/or   effects of residents’ </a:t>
            </a:r>
            <a:r>
              <a:rPr b="1" lang="en-GB" sz="2200" spc="-1" strike="noStrike">
                <a:solidFill>
                  <a:srgbClr val="000000"/>
                </a:solidFill>
                <a:latin typeface="Arial Unicode MS"/>
              </a:rPr>
              <a:t>income growth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creased attraction also increases densiti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 higher average incomes lower them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472040" indent="-210240">
              <a:spcBef>
                <a:spcPts val="34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Unless many richer people value access because of ‘urbane’ leisure taste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 either case, expanding the width of rings ⇨ some displacem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472040" indent="-21024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painlessly in the case of owner-occupiers at leas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Green Belts interrupt this and raise densities – until leapfrogging star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Except for new arrivals &amp; those with big changes in income/family status, re-locations are likely to be short distanc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 contribute to large scale growth/re-shaping of metropolitan reg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From Household Movement Studie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716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eople tend to move for multiple reasons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(inc. e.g. ‘white flight’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 a few basic ones shape overall pattern of change: new job/retirement; larger dwelling; better dwelling/area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ondon’s population ‘loss’ (1939-87) driven by de-densificatio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ner area residents seeking separate/larger hous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Others seeking more spacious environ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Within the metro region (GL + OMA)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at least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hardly anyone moving for/in expectation of a job change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(though happened eventually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ome groups are consistently more likely to choose core are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Notably single people, graduates and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 Unicode MS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/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 Unicode MS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generation migran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ith more urban leisure tast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is bias has scarcely changed since 1970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But size of each group has grown enormousl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ith predictable implications for trends in density/concentration – espacially near the cor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 Unicode MS"/>
              </a:rPr>
              <a:t>Major Planning Constraints in/around the GSE : Green Belts and AONB/National Parks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61" name="Picture 4" descr="C:\Users\gordoni\Desktop\GB_GIS\GSE Map for Seminar\GSE with GB AONB and National Parks.jpg"/>
          <p:cNvPicPr/>
          <p:nvPr/>
        </p:nvPicPr>
        <p:blipFill>
          <a:blip r:embed="rId1"/>
          <a:stretch/>
        </p:blipFill>
        <p:spPr>
          <a:xfrm>
            <a:off x="2050920" y="1341360"/>
            <a:ext cx="5950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R</cp:lastModifiedBy>
  <cp:lastPrinted>2014-02-17T16:10:43Z</cp:lastPrinted>
  <dcterms:modified xsi:type="dcterms:W3CDTF">2014-03-04T15:13:11Z</dcterms:modified>
  <cp:revision>55</cp:revision>
  <dc:subject/>
  <dc:title>Impacts of Recent International Migration on a Destination City  some observations from London</dc:title>
</cp:coreProperties>
</file>