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20D-3AF8-4CB9-9B0C-8B6917FC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BB5-5063-4C91-AEE5-4F025C92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9A4-F48E-409D-8671-DF9C3D91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86E-0815-46A6-84E1-B7AE8A94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858-A6C3-46AA-8A2E-675E3D49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3340-3259-4510-BB06-047AC69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BC9D-D660-4300-9920-2FFF78A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3FAC-2B8E-498B-ABED-B4C82A7D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8E11-0843-4941-AE49-94CB2DF3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C397-B856-403D-BE44-A1C9C512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16BC-9297-4208-BCCC-A3B99FF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DEB-FE00-4175-BB6C-18C5FE0E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BC7-60AC-4D0B-9AE0-F0C3BEF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F434-373D-4B41-B9E0-34F27AB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C3F1-91C8-4365-8B46-B12DE4DC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0697-B48A-441A-8770-1502B7BC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294-47CA-4681-9A12-5695998F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F63-3F77-4C54-B765-1906B06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CF5-F7D8-49B2-8EC7-690320C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DC9-99E8-4EFA-AB9C-C747F15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036-9EB8-45D8-A2F2-F1BDF1EB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E48-AC74-4400-BFF6-B6BD00C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8FF-DCCA-478C-A445-2E435B2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031-9C31-44F6-997A-F7EB179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2782-7B48-4C02-AC00-A97D0D65DE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C65-22DC-402B-8751-2E75890BB9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cal Government Resource Review – Incentivising Grow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cal Government Resource Re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-domestic rate retention’ is the primary objec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cils will keep (a large proportion of) their NDR yie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ariffs’ and ‘Top ups’ to achieve ‘no change’ in Year 1 (2013-1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t of overall NDR yield kept by central government to ensure LG expenditure fits Chancellor’s spending pl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cen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uncils will keep growth in their NDR yield, as tax base gro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ough, any underlying relative growth at the point of revaluation wil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 re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d for authorities such as Westminster, the City and Camden with rising RVs within existing proper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ood for authorities such as Tower Hamlets, Newham and Hackney with opportunities to develop new s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mits on growth for authorities with relatively large NDR b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growth in NDR yield from year to year will determine maximum growth in income/expenditu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us, Westminster, City, Camden pay a ‘levy’ on their grow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 protection for any authorities with low growth or falling RV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urrent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2565360"/>
          <a:ext cx="8001000" cy="2932200"/>
        </p:xfrm>
        <a:graphic>
          <a:graphicData uri="http://schemas.openxmlformats.org/drawingml/2006/table">
            <a:tbl>
              <a:tblPr/>
              <a:tblGrid>
                <a:gridCol w="1773000"/>
                <a:gridCol w="1584360"/>
                <a:gridCol w="1584360"/>
                <a:gridCol w="1459080"/>
                <a:gridCol w="160020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N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w (2013-14) system – (a) with no change from curr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2565360"/>
          <a:ext cx="8001000" cy="2992320"/>
        </p:xfrm>
        <a:graphic>
          <a:graphicData uri="http://schemas.openxmlformats.org/drawingml/2006/table">
            <a:tbl>
              <a:tblPr/>
              <a:tblGrid>
                <a:gridCol w="1773000"/>
                <a:gridCol w="1584360"/>
                <a:gridCol w="1584360"/>
                <a:gridCol w="1459080"/>
                <a:gridCol w="1600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w (2013-14) system – (b) each council’s NDR yield rises by 1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692000"/>
                <a:gridCol w="1439640"/>
                <a:gridCol w="1224000"/>
                <a:gridCol w="1368360"/>
                <a:gridCol w="1224000"/>
                <a:gridCol w="17640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l such incentives work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d to be sure…no evidence from UK in modern history, or when there was such ‘tax competition’ in the p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NDR in London is £5.3bn within an economy of £274bn – less than two per cent of the 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ough the marginal impact on constrained council budgets will be sufficient to be fel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ssures to replace falling (previously central grant) income may be greater than desire to deliver faster economic growth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cils will be able to operate the system in ways that maximise the NDR y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oling’ arrangements of two or more councils could work together to increase their yie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-lateral’ agreements could work even better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w (2013-14) system – (b) each council’s NDR yield rises by 1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692000"/>
                <a:gridCol w="1439640"/>
                <a:gridCol w="1224000"/>
                <a:gridCol w="1368360"/>
                <a:gridCol w="1224000"/>
                <a:gridCol w="17640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(2013-14) system – (c) each council’s NDR yield rises by 1%, but formal pooling arran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800000"/>
                <a:gridCol w="1332000"/>
                <a:gridCol w="1224000"/>
                <a:gridCol w="1368360"/>
                <a:gridCol w="1224000"/>
                <a:gridCol w="176364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[A+B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(2013-14) system – (d) overall NDR yield rises by 1%, but bi-lateral agreement with all of rise in Authority 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989000"/>
          <a:ext cx="8712000" cy="3137040"/>
        </p:xfrm>
        <a:graphic>
          <a:graphicData uri="http://schemas.openxmlformats.org/drawingml/2006/table">
            <a:tbl>
              <a:tblPr/>
              <a:tblGrid>
                <a:gridCol w="1692000"/>
                <a:gridCol w="1439640"/>
                <a:gridCol w="1224000"/>
                <a:gridCol w="1368360"/>
                <a:gridCol w="1224000"/>
                <a:gridCol w="17640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cil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iff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hority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p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London 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Gross Value Added: £274 billion (2010)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Workplace-based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s risen from 56% above UK average to 71% above between 1997 and 20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SE has also pulled away from U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population: 7.83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share of U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VA: 21.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tion 12.6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 fell back in 2010, but appears to be growing relatively faster than UK in 2011 and 201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 negotiations and agreements needed to agree pooling or bi-lateral agre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me Theory expertise needed to convince councillors (and developers) that pooling and bi-lateral agreements designed to maximise NDR yield growth could increase London (or a part of London) yie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ers can be offered NDR reductions and, possibly, other incentives to move their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asier across a boundary than an ‘area’ agreement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ew Homes Bon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uncils now keep the yield of council tax base grow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lanning refor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eighbourhood Forums and plan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ds complexity to planning decisions, especially where there are major city centre develop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ssibility of non-domestic to domestic use changes without planning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LA respon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orough:GLA share of NDR growth not yet determ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A has ambitious plans for NDR retention, and sets London Pla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ax Increment Finan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GRR and NDR retention have been put forward by the government as key elements in their growth strate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ssible to know (yet) how the new local tax incentives will affect boroughs’ behaviou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kelihood that boroughs with significant growth potential, but where 100% of growth is retained will be most affec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ham, Hackney, Southwark, Lambeth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dest, but, interesting reform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t not a radical reform of local government fi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cal Government Resource Review – Incentivising Grow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ndon’s public expendi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don’s ‘Identifiable’ public expenditure: £79 billion (2009-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us ‘non-identifiable’: £89 b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as % of GVA = c33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K = 5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expenditure in London, GSE represents a significantly smaller share of GVA/GDP than in other reg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 = 66%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thern Ireland = 7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ublic expenditure by spending author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 total PE = £89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de up of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ntral department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£61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whi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H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£17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ocial Secur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£27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London Author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£10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rough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£28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LA and Borough expendi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enue (net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£25b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whic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£6.2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rough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£18.8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t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£4b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whic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£2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lnSpc>
                <a:spcPct val="8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rough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£2b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B: ‘Revenue’ includes education; ‘Capital’ excludes hou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LA and Borough In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cil ta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£4.3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es &amp; charges*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c£2.5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NNDR Yiel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£5.3b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us, council tax finances c17% of net revenue expendi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ncil tax + NDR equivalent to 38% of net revenue income (inc educ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cil tax and Non-domestic rates in relation to all public expenditure in London – 2009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 total PE = £89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 total taxation = £97-£100b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 tax ‘export’ of c£10b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cil tax (£4.3bn) would fund 4.8% of all public expendi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 + NDR (£9.6bn) would fund 10.8% of all public expendi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existing local government funding syst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l government revenue expenditure funded 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cil t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nts [Partly funded by NNDR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Fees and char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domestic rate collected by councils and pool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cated as part of central support to L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nt paid, in part, to achieve high levels of equal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nditure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cil tax capa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alis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 many years, England has evolved sophisticated equalisation gr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ar ‘full’ equalisation for differences in assessed needs and taxable capacity (‘resources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a consequence, any increase in the local tax base is ‘equalised away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s, no incentive to increase tax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our government’s ‘LABGI’ experi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8:56:40Z</dcterms:created>
  <dc:creator>Tony Travers</dc:creator>
  <dc:description/>
  <dc:language>en-US</dc:language>
  <cp:lastModifiedBy>hallas</cp:lastModifiedBy>
  <dcterms:modified xsi:type="dcterms:W3CDTF">2012-02-13T16:06:57Z</dcterms:modified>
  <cp:revision>9</cp:revision>
  <dc:subject/>
  <dc:title>Local Government Resource Review – Incentivising Growth</dc:title>
</cp:coreProperties>
</file>