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7859-07B2-4A0D-B4A8-E5B0F34F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A4F2-0E98-4117-8120-53949950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DA7D-9E47-44FD-9BAE-12961E55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377-8482-4B6B-B8D2-CA55ABD9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94DA-E485-466C-9905-9388A15E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D3CA-EA21-4089-8A01-70A7BF7A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1578-01B0-49D8-9D37-0292AE68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5EA6-D18B-4E0F-87C6-89162A90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A3D6-4E55-4154-9DE9-EF9C96A2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9639-25E9-40E8-8103-D4277658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DF46-0627-4CC4-A347-8EB659BC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CB4C-A628-4C07-BF00-10657F9C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5815-4896-4EBE-92B8-A42D53C1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62DA-878C-4494-B62E-9D215437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7A13-F462-4CC6-818F-A90D481B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63A1-EC05-4708-B467-CB0954AA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8F85-BD86-434E-837B-450902EF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7A3-2F04-4177-8712-C3B58680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855-4FAA-4F99-8EDE-37C9E09D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A070-30CC-4463-B615-503E06C6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0120-72BA-4982-BA31-F0A949CB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EA17-1C16-4CED-ADA9-1CC1A6AD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9231-ECA6-41E4-A219-69DB26BA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BFFC-7DA0-4353-A2FF-A0C2ECFF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A33B-3D89-406E-9EEC-6106C70B8D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3481-505B-41B6-BCC1-915B5624469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cal Government Resource Review – Incentivising Growth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ny Tra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ocal Government Resource Review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n-domestic rate retention’ is the primary objecti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uncils will keep (a large proportion of) their NDR yiel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ariffs’ and ‘Top ups’ to achieve ‘no change’ in Year 1 (2013-14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rt of overall NDR yield kept by central government to ensure LG expenditure fits Chancellor’s spending pla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centiv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uncils will keep growth in their NDR yield, as tax base gro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ough, any underlying relative growth at the point of revaluation will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t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 retain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d for authorities such as Westminster, the City and Camden with rising RVs within existing proper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ood for authorities such as Tower Hamlets, Newham and Hackney with opportunities to develop new si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mits on growth for authorities with relatively large NDR bas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% growth in NDR yield from year to year will determine maximum growth in income/expenditur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us, Westminster, City, Camden pay a ‘levy’ on their grow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so protection for any authorities with low growth or falling RV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current syst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11280" y="2565360"/>
          <a:ext cx="8001000" cy="2932200"/>
        </p:xfrm>
        <a:graphic>
          <a:graphicData uri="http://schemas.openxmlformats.org/drawingml/2006/table">
            <a:tbl>
              <a:tblPr/>
              <a:tblGrid>
                <a:gridCol w="1773000"/>
                <a:gridCol w="1584360"/>
                <a:gridCol w="1584360"/>
                <a:gridCol w="1459080"/>
                <a:gridCol w="1600200"/>
              </a:tblGrid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cil 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ND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hority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hority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5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spe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ew (2013-14) system – (a) with no change from curr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11280" y="2565360"/>
          <a:ext cx="8001000" cy="2992320"/>
        </p:xfrm>
        <a:graphic>
          <a:graphicData uri="http://schemas.openxmlformats.org/drawingml/2006/table">
            <a:tbl>
              <a:tblPr/>
              <a:tblGrid>
                <a:gridCol w="1773000"/>
                <a:gridCol w="1584360"/>
                <a:gridCol w="1584360"/>
                <a:gridCol w="1459080"/>
                <a:gridCol w="16002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cil 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D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if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p 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hority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hority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spe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ew (2013-14) system – (b) each council’s NDR yield rises by 1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50920" y="1989000"/>
          <a:ext cx="8712000" cy="3137040"/>
        </p:xfrm>
        <a:graphic>
          <a:graphicData uri="http://schemas.openxmlformats.org/drawingml/2006/table">
            <a:tbl>
              <a:tblPr/>
              <a:tblGrid>
                <a:gridCol w="1692000"/>
                <a:gridCol w="1439640"/>
                <a:gridCol w="1224000"/>
                <a:gridCol w="1368360"/>
                <a:gridCol w="1224000"/>
                <a:gridCol w="176400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cil 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D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if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p 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hority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hority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spe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ill such incentives work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ard to be sure…no evidence from UK in modern history, or when there was such ‘tax competition’ in the pa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NDR in London is £5.3bn within an economy of £274bn – less than two per cent of the econom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ough the marginal impact on constrained council budgets will be sufficient to be fel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essures to replace falling (previously central grant) income may be greater than desire to deliver faster economic growth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ncils will be able to operate the system in ways that maximise the NDR yie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oling’ arrangements of two or more councils could work together to increase their yiel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-lateral’ agreements could work even better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ew (2013-14) system – (b) each council’s NDR yield rises by 1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0920" y="1989000"/>
          <a:ext cx="8712000" cy="3137040"/>
        </p:xfrm>
        <a:graphic>
          <a:graphicData uri="http://schemas.openxmlformats.org/drawingml/2006/table">
            <a:tbl>
              <a:tblPr/>
              <a:tblGrid>
                <a:gridCol w="1692000"/>
                <a:gridCol w="1439640"/>
                <a:gridCol w="1224000"/>
                <a:gridCol w="1368360"/>
                <a:gridCol w="1224000"/>
                <a:gridCol w="176400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cil 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D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if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p 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hority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hority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spe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w (2013-14) system – (c) each council’s NDR yield rises by 1%, but formal pooling arran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989000"/>
          <a:ext cx="8712000" cy="3137040"/>
        </p:xfrm>
        <a:graphic>
          <a:graphicData uri="http://schemas.openxmlformats.org/drawingml/2006/table">
            <a:tbl>
              <a:tblPr/>
              <a:tblGrid>
                <a:gridCol w="1800000"/>
                <a:gridCol w="1332000"/>
                <a:gridCol w="1224000"/>
                <a:gridCol w="1368360"/>
                <a:gridCol w="1224000"/>
                <a:gridCol w="176364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cil 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D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iff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p 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hority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hority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[A+B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8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spe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w (2013-14) system – (d) overall NDR yield rises by 1%, but bi-lateral agreement with all of rise in Authority 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1989000"/>
          <a:ext cx="8712000" cy="3137040"/>
        </p:xfrm>
        <a:graphic>
          <a:graphicData uri="http://schemas.openxmlformats.org/drawingml/2006/table">
            <a:tbl>
              <a:tblPr/>
              <a:tblGrid>
                <a:gridCol w="1692000"/>
                <a:gridCol w="1439640"/>
                <a:gridCol w="1224000"/>
                <a:gridCol w="1368360"/>
                <a:gridCol w="1224000"/>
                <a:gridCol w="176400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cil 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D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iff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p 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hority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hority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spe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London econom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ndon’s Gross Value Added: £274 billion (2010)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Workplace-based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as risen from 56% above UK average to 71% above between 1997 and 201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SE has also pulled away from U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ndon’s population: 7.83m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ndon’s share of U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VA: 21.5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pulation 12.6%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ndon fell back in 2010, but appears to be growing relatively faster than UK in 2011 and 2012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x negotiations and agreements needed to agree pooling or bi-lateral agre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ame Theory expertise needed to convince councillors (and developers) that pooling and bi-lateral agreements designed to maximise NDR yield growth could increase London (or a part of London) yiel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elopers can be offered NDR reductions and, possibly, other incentives to move their develop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asier across a boundary than an ‘area’ agreement?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issu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New Homes Bonu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uncils now keep the yield of council tax base grow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Planning reform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Neighbourhood Forums and plann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dds complexity to planning decisions, especially where there are major city centre develop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ossibility of non-domestic to domestic use changes without planning permis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GLA respons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orough:GLA share of NDR growth not yet determin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LA has ambitious plans for NDR retention, and sets London Pla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Tax Increment Financ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GRR and NDR retention have been put forward by the government as key elements in their growth strateg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ssible to know (yet) how the new local tax incentives will affect boroughs’ behaviou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kelihood that boroughs with significant growth potential, but where 100% of growth is retained will be most affec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wham, Hackney, Southwark, Lambeth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modest, but, interesting reform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t not a radical reform of local government fin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cal Government Resource Review – Incentivising Growth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ny Tra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ondon’s public expenditu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don’s ‘Identifiable’ public expenditure: £79 billion (2009-1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us ‘non-identifiable’: £89 bill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 as % of GVA = c33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K = 50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blic expenditure in London, GSE represents a significantly smaller share of GVA/GDP than in other reg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 = 66%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rthern Ireland = 7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ublic expenditure by spending authorit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ndon total PE = £89b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de up of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entral department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£61b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whi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NH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£17b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Social Securit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£27b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ater London Authorit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£10b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orough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£28b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LA and Borough expenditu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enue (net)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£25b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f which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1640" indent="-389880">
              <a:lnSpc>
                <a:spcPct val="80000"/>
              </a:lnSpc>
              <a:spcBef>
                <a:spcPts val="56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£6.2b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1640" indent="-389880">
              <a:lnSpc>
                <a:spcPct val="80000"/>
              </a:lnSpc>
              <a:spcBef>
                <a:spcPts val="56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rough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£18.8b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pita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£4b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f which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1640" indent="-389880">
              <a:lnSpc>
                <a:spcPct val="80000"/>
              </a:lnSpc>
              <a:spcBef>
                <a:spcPts val="56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£2b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1640" indent="-389880">
              <a:lnSpc>
                <a:spcPct val="80000"/>
              </a:lnSpc>
              <a:spcBef>
                <a:spcPts val="56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rough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£2b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B: ‘Revenue’ includes education; ‘Capital’ excludes hou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LA and Borough Inco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uncil tax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£4.3b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ees &amp; charges*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c£2.5b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NNDR Yield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£5.3b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us, council tax finances c17% of net revenue expendi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ncil tax + NDR equivalent to 38% of net revenue income (inc educ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uncil tax and Non-domestic rates in relation to all public expenditure in London – 2009-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ndon total PE = £89b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ndon total taxation = £97-£100b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t tax ‘export’ of c£10b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uncil tax (£4.3bn) would fund 4.8% of all public expendi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T + NDR (£9.6bn) would fund 10.8% of all public expendi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existing local government funding syst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cal government revenue expenditure funded b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uncil ta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ants [Partly funded by NNDR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Fees and charg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n-domestic rate collected by councils and pool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ocated as part of central support to L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ant paid, in part, to achieve high levels of equalis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enditure nee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uncil tax capa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qualis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 many years, England has evolved sophisticated equalisation gra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ar ‘full’ equalisation for differences in assessed needs and taxable capacity (‘resources’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 a consequence, any increase in the local tax base is ‘equalised away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us, no incentive to increase tax 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bour government’s ‘LABGI’ experi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8:56:40Z</dcterms:created>
  <dc:creator>Tony Travers</dc:creator>
  <dc:description/>
  <dc:language>en-US</dc:language>
  <cp:lastModifiedBy>hallas</cp:lastModifiedBy>
  <dcterms:modified xsi:type="dcterms:W3CDTF">2012-02-13T16:06:57Z</dcterms:modified>
  <cp:revision>9</cp:revision>
  <dc:subject/>
  <dc:title>Local Government Resource Review – Incentivising Growth</dc:title>
</cp:coreProperties>
</file>