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2AEA3-F947-483D-8E28-9BC7B7D664E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AD908-84FF-46DF-AE9A-25582F9DCB4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878040" y="687240"/>
            <a:ext cx="5105160" cy="342756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F2D93-5487-41DD-AC23-AF262DC9E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6EE4C-EB74-4FB6-B78F-3D8ED8C0F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E01CF-1765-413D-8CDA-356087E81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4434D-9D01-4248-873C-B440ECB13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1D27A-F2E5-4FA2-B862-99615F857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FB929-155D-4EA9-BA92-F54A825EA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CA2E1-DDFA-4DFA-856E-5A4F473C6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72AC4-0885-41FF-B2D7-EA9C71042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F2EA5-360E-4520-B343-9747FAB53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CB806-A1B4-473D-AF57-42D400E39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8A0A1-AA04-47C6-BAFE-6D147DB1C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9CAC0-2170-4DF6-912E-1FD971711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A5FFF-BB7D-42AA-8AB2-193EFAC94D87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Do Banks Mat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Bridget Rosewel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Volterra Partners and GL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itle 1"/>
          <p:cNvSpPr/>
          <p:nvPr/>
        </p:nvSpPr>
        <p:spPr>
          <a:xfrm>
            <a:off x="179280" y="115920"/>
            <a:ext cx="876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Foundry Form Sans"/>
              </a:rPr>
              <a:t>Financial services indicator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0" y="6424560"/>
            <a:ext cx="68403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100" spc="-1" strike="noStrike">
                <a:solidFill>
                  <a:srgbClr val="000000"/>
                </a:solidFill>
                <a:latin typeface="Foundry Form Sans"/>
              </a:rPr>
              <a:t>Source:  </a:t>
            </a:r>
            <a:r>
              <a:rPr b="0" i="1" lang="en-US" sz="1100" spc="-1" strike="noStrike">
                <a:solidFill>
                  <a:srgbClr val="000000"/>
                </a:solidFill>
                <a:latin typeface="Foundry Form Sans"/>
              </a:rPr>
              <a:t>Bank for International Settlements</a:t>
            </a:r>
            <a:r>
              <a:rPr b="0" i="1" lang="en-GB" sz="1100" spc="-1" strike="noStrike">
                <a:solidFill>
                  <a:srgbClr val="000000"/>
                </a:solidFill>
                <a:latin typeface="Foundry Form Sans"/>
              </a:rPr>
              <a:t>, London International Financial Futures and Options Exchange, London Metal exchange and London Stock Exchang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250920" y="1557360"/>
          <a:ext cx="8640720" cy="4727520"/>
        </p:xfrm>
        <a:graphic>
          <a:graphicData uri="http://schemas.openxmlformats.org/drawingml/2006/table">
            <a:tbl>
              <a:tblPr/>
              <a:tblGrid>
                <a:gridCol w="2846160"/>
                <a:gridCol w="2287800"/>
                <a:gridCol w="1627200"/>
                <a:gridCol w="187956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Foundry Form Sans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Foundry Form Sans"/>
                          <a:ea typeface="Times New Roman"/>
                        </a:rPr>
                        <a:t>Measur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Foundry Form Sans"/>
                          <a:ea typeface="Times New Roman"/>
                        </a:rPr>
                        <a:t>20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Foundry Form Sans"/>
                          <a:ea typeface="Times New Roman"/>
                        </a:rPr>
                        <a:t>20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6a6a6"/>
                    </a:solidFill>
                  </a:tcPr>
                </a:tc>
              </a:tr>
              <a:tr h="38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Foundry Form Sans"/>
                          <a:ea typeface="Times New Roman"/>
                        </a:rPr>
                        <a:t>Foreign exchang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Foundry Form Sans"/>
                          <a:ea typeface="Times New Roman"/>
                        </a:rPr>
                        <a:t>Daily average turnov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Foundry Form Sans"/>
                          <a:ea typeface="Times New Roman"/>
                        </a:rPr>
                        <a:t>$3,324b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Foundry Form Sans"/>
                          <a:ea typeface="Times New Roman"/>
                        </a:rPr>
                        <a:t>$3,981b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Foundry Form Sans"/>
                          <a:ea typeface="Times New Roman"/>
                        </a:rPr>
                        <a:t>OTC derivativ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Foundry Form Sans"/>
                          <a:ea typeface="Times New Roman"/>
                        </a:rPr>
                        <a:t>Daily average turnov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Foundry Form Sans"/>
                          <a:ea typeface="Times New Roman"/>
                        </a:rPr>
                        <a:t>$1,686b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Foundry Form Sans"/>
                          <a:ea typeface="Times New Roman"/>
                        </a:rPr>
                        <a:t>$2,083b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Foundry Form Sans"/>
                          <a:ea typeface="Times New Roman"/>
                        </a:rPr>
                        <a:t>Turnov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Foundry Form Sans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Foundry Form Sans"/>
                          <a:ea typeface="Times New Roman"/>
                        </a:rPr>
                        <a:t>20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Foundry Form Sans"/>
                          <a:ea typeface="Times New Roman"/>
                        </a:rPr>
                        <a:t>August 20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6a6a6"/>
                    </a:solidFill>
                  </a:tcPr>
                </a:tc>
              </a:tr>
              <a:tr h="38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Foundry Form Sans"/>
                          <a:ea typeface="Times New Roman"/>
                        </a:rPr>
                        <a:t>LIFEE contrac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Foundry Form Sans"/>
                          <a:ea typeface="Times New Roman"/>
                        </a:rPr>
                        <a:t>Daily average turnov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Foundry Form Sans"/>
                          <a:ea typeface="Times New Roman"/>
                        </a:rPr>
                        <a:t>€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Foundry Form Sans"/>
                          <a:ea typeface="Times New Roman"/>
                        </a:rPr>
                        <a:t>1,781b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Foundry Form Sans"/>
                          <a:ea typeface="Times New Roman"/>
                        </a:rPr>
                        <a:t>€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Foundry Form Sans"/>
                          <a:ea typeface="Times New Roman"/>
                        </a:rPr>
                        <a:t>1,994b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Foundry Form Sans"/>
                          <a:ea typeface="Times New Roman"/>
                        </a:rPr>
                        <a:t>LME Futures and opt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Foundry Form Sans"/>
                          <a:ea typeface="Times New Roman"/>
                        </a:rPr>
                        <a:t>Daily average contrac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Foundry Form Sans"/>
                          <a:ea typeface="Times New Roman"/>
                        </a:rPr>
                        <a:t>367,44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Foundry Form Sans"/>
                          <a:ea typeface="Times New Roman"/>
                        </a:rPr>
                        <a:t>471,5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Foundry Form Sans"/>
                          <a:ea typeface="Times New Roman"/>
                        </a:rPr>
                        <a:t>UK Government gil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Foundry Form Sans"/>
                          <a:ea typeface="Times New Roman"/>
                        </a:rPr>
                        <a:t>Annual turnov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Foundry Form Sans"/>
                          <a:ea typeface="Times New Roman"/>
                        </a:rPr>
                        <a:t>£3,507b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Foundry Form Sans"/>
                          <a:ea typeface="Times New Roman"/>
                        </a:rPr>
                        <a:t>£3,888b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Foundry Form Sans"/>
                          <a:ea typeface="Times New Roman"/>
                        </a:rPr>
                        <a:t>UK equities (order book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Foundry Form Sans"/>
                          <a:ea typeface="Times New Roman"/>
                        </a:rPr>
                        <a:t>Annual turnov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Foundry Form Sans"/>
                          <a:ea typeface="Times New Roman"/>
                        </a:rPr>
                        <a:t>£2,158b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Foundry Form Sans"/>
                          <a:ea typeface="Times New Roman"/>
                        </a:rPr>
                        <a:t>£1,018b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Foundry Form Sans"/>
                          <a:ea typeface="Times New Roman"/>
                        </a:rPr>
                        <a:t>Market capitalis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Foundry Form Sans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Foundry Form Sans"/>
                          <a:ea typeface="Times New Roman"/>
                        </a:rPr>
                        <a:t>20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Foundry Form Sans"/>
                          <a:ea typeface="Times New Roman"/>
                        </a:rPr>
                        <a:t>October 20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6a6a6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Foundry Form Sans"/>
                          <a:ea typeface="Times New Roman"/>
                        </a:rPr>
                        <a:t>UK compani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Foundry Form Sans"/>
                          <a:ea typeface="Times New Roman"/>
                        </a:rPr>
                        <a:t>At year end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Foundry Form Sans"/>
                          <a:ea typeface="Times New Roman"/>
                        </a:rPr>
                        <a:t>£2,130b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Foundry Form Sans"/>
                          <a:ea typeface="Times New Roman"/>
                        </a:rPr>
                        <a:t>£1,869b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Foundry Form Sans"/>
                          <a:ea typeface="Times New Roman"/>
                        </a:rPr>
                        <a:t>International compani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Foundry Form Sans"/>
                          <a:ea typeface="Times New Roman"/>
                        </a:rPr>
                        <a:t>At year end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Foundry Form Sans"/>
                          <a:ea typeface="Times New Roman"/>
                        </a:rPr>
                        <a:t>£2,293b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Foundry Form Sans"/>
                          <a:ea typeface="Times New Roman"/>
                        </a:rPr>
                        <a:t>£1,594b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Foundry Form Sans"/>
                          <a:ea typeface="Times New Roman"/>
                        </a:rPr>
                        <a:t>Indice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Foundry Form Sans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Foundry Form Sans"/>
                          <a:ea typeface="Times New Roman"/>
                        </a:rPr>
                        <a:t>20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Foundry Form Sans"/>
                          <a:ea typeface="Times New Roman"/>
                        </a:rPr>
                        <a:t>December 20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6a6a6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Foundry Form Sans"/>
                          <a:ea typeface="Times New Roman"/>
                        </a:rPr>
                        <a:t>FTSE 100 inde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Foundry Form Sans"/>
                          <a:ea typeface="Times New Roman"/>
                        </a:rPr>
                        <a:t>At year end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Foundry Form Sans"/>
                          <a:ea typeface="Times New Roman"/>
                        </a:rPr>
                        <a:t>6,45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Foundry Form Sans"/>
                          <a:ea typeface="Times New Roman"/>
                        </a:rPr>
                        <a:t>5,9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Foundry Form Sans"/>
                          <a:ea typeface="Times New Roman"/>
                        </a:rPr>
                        <a:t>Dow Jones Industri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Foundry Form Sans"/>
                          <a:ea typeface="Times New Roman"/>
                        </a:rPr>
                        <a:t>At year end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Foundry Form Sans"/>
                          <a:ea typeface="Times New Roman"/>
                        </a:rPr>
                        <a:t>13,26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Foundry Form Sans"/>
                          <a:ea typeface="Times New Roman"/>
                        </a:rPr>
                        <a:t>11,58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Percentage of debt held abroa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3" descr=""/>
          <p:cNvPicPr/>
          <p:nvPr/>
        </p:nvPicPr>
        <p:blipFill>
          <a:blip r:embed="rId2"/>
          <a:srcRect l="14787" t="24674" r="65572" b="37943"/>
          <a:stretch/>
        </p:blipFill>
        <p:spPr>
          <a:xfrm>
            <a:off x="468360" y="1557360"/>
            <a:ext cx="799128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UK Banks are Internation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16" name="Chart 3" descr=""/>
          <p:cNvPicPr/>
          <p:nvPr/>
        </p:nvPicPr>
        <p:blipFill>
          <a:blip r:embed="rId2"/>
          <a:stretch/>
        </p:blipFill>
        <p:spPr>
          <a:xfrm>
            <a:off x="542880" y="1487520"/>
            <a:ext cx="8058240" cy="467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Services matter to London exports..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3" descr=""/>
          <p:cNvPicPr/>
          <p:nvPr/>
        </p:nvPicPr>
        <p:blipFill>
          <a:blip r:embed="rId2"/>
          <a:srcRect l="33570" t="18619" r="24697" b="30056"/>
          <a:stretch/>
        </p:blipFill>
        <p:spPr>
          <a:xfrm>
            <a:off x="324000" y="1557360"/>
            <a:ext cx="849600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ectoral Employment Da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22" name="Chart 3" descr=""/>
          <p:cNvPicPr/>
          <p:nvPr/>
        </p:nvPicPr>
        <p:blipFill>
          <a:blip r:embed="rId2"/>
          <a:stretch/>
        </p:blipFill>
        <p:spPr>
          <a:xfrm>
            <a:off x="682560" y="1487520"/>
            <a:ext cx="8010720" cy="484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Financial services matter but have not been the main job crea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 do produce value, and taxes – not all the activity is measur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nternational asset management is going to continue to matter – and to gro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What do banks do, what is their role in the econom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Why this is likely to increa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What is finance sector’s role in London especial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Could we live without i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swer - n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What do Banks do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When economic accounts were first devised, finance had no role, just an intermedi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ndeed in many modern models of the economy (including those used in central banks) money has no ro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nterest costs are an intermediate cost, changing interest costs changes cost of investment and saving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So nothing much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What do Banks do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Not just an intermediary but a manager of assets and balance shee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Pensions, insurance, et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Generating international business, a service to final consum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Definitions in national accounts have changed as a resul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Recent contribution to Growt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3" descr=""/>
          <p:cNvPicPr/>
          <p:nvPr/>
        </p:nvPicPr>
        <p:blipFill>
          <a:blip r:embed="rId2"/>
          <a:srcRect l="22603" t="21014" r="20043" b="14896"/>
          <a:stretch/>
        </p:blipFill>
        <p:spPr>
          <a:xfrm>
            <a:off x="395280" y="1628640"/>
            <a:ext cx="835344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UK Financial Servi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2010 Financial Sector paid 11.2% of UK tax reven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Largest sector paying corporation tax £5.6bn (though down from £12bn in 2007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3.5% of UK workforce generating £24.5bn of employment tax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(PwC study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e structural deficit probl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3" descr=""/>
          <p:cNvPicPr/>
          <p:nvPr/>
        </p:nvPicPr>
        <p:blipFill>
          <a:blip r:embed="rId2"/>
          <a:srcRect l="23108" t="19148" r="20208" b="17286"/>
          <a:stretch/>
        </p:blipFill>
        <p:spPr>
          <a:xfrm>
            <a:off x="611280" y="1773360"/>
            <a:ext cx="7848360" cy="45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Government debt at exceptional level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0" y="6453360"/>
            <a:ext cx="59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Foundry Form Sans"/>
              </a:rPr>
              <a:t>Source: Public Finances First Release, 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Object 8" descr=""/>
          <p:cNvPicPr/>
          <p:nvPr/>
        </p:nvPicPr>
        <p:blipFill>
          <a:blip r:embed="rId1"/>
          <a:stretch/>
        </p:blipFill>
        <p:spPr>
          <a:xfrm>
            <a:off x="179280" y="1413000"/>
            <a:ext cx="8964720" cy="502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France and Germany more exposed to Greek debt than the UK (as of December 201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Rectangle 3"/>
          <p:cNvSpPr/>
          <p:nvPr/>
        </p:nvSpPr>
        <p:spPr>
          <a:xfrm>
            <a:off x="0" y="6308640"/>
            <a:ext cx="586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Foundry Form Sans"/>
                <a:ea typeface="Times New Roman"/>
              </a:rPr>
              <a:t>Source: </a:t>
            </a:r>
            <a:r>
              <a:rPr b="0" lang="en-GB" sz="1200" spc="-1" strike="noStrike">
                <a:solidFill>
                  <a:srgbClr val="000000"/>
                </a:solidFill>
                <a:latin typeface="Foundry Form Sans"/>
              </a:rPr>
              <a:t>Bank for International Settle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6" descr=""/>
          <p:cNvPicPr/>
          <p:nvPr/>
        </p:nvPicPr>
        <p:blipFill>
          <a:blip r:embed="rId1"/>
          <a:stretch/>
        </p:blipFill>
        <p:spPr>
          <a:xfrm>
            <a:off x="0" y="1317600"/>
            <a:ext cx="9020160" cy="506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0T18:02:45Z</dcterms:created>
  <dc:creator>Bridget</dc:creator>
  <dc:description/>
  <dc:language>en-US</dc:language>
  <cp:lastModifiedBy>Administrator</cp:lastModifiedBy>
  <dcterms:modified xsi:type="dcterms:W3CDTF">2012-01-23T17:29:22Z</dcterms:modified>
  <cp:revision>290</cp:revision>
  <dc:subject/>
  <dc:title>Do Banks Matter</dc:title>
</cp:coreProperties>
</file>