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E344-D079-42B7-8F67-E208937A1D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F4A9-E08B-4DFD-A3D2-8FFF594B91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8040" y="687240"/>
            <a:ext cx="5105160" cy="34275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D4-7875-4B17-A0EA-A79405D3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8F4-32C0-499F-9690-0CA67E4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8CA-487F-4680-AA84-2989058C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340-4463-4A28-A4AB-7D15CA99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D16-4E6E-4FC9-81CB-2DCD3B36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9A1-337B-456E-A1B1-F59B36D5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8FE-6903-44E3-9862-CD05F92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085-874F-480F-816C-C1C8949C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DCC-124F-4D36-81F4-E4BC68BD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F17-1F86-4714-AF67-0139945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3D3-E79B-40E1-AC69-185E7853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36F-2EE6-4626-A0D3-1EA5E9B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D9C0-AC7C-4841-80D1-A9C5F8D555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 Banks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ridget Rose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olterra Partners and 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179280" y="115920"/>
            <a:ext cx="876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oundry Form Sans"/>
              </a:rPr>
              <a:t>Financial services indic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6424560"/>
            <a:ext cx="684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Foundry Form Sans"/>
              </a:rPr>
              <a:t>Source:  </a:t>
            </a:r>
            <a:r>
              <a:rPr b="0" i="1" lang="en-US" sz="1100" spc="-1" strike="noStrike">
                <a:solidFill>
                  <a:srgbClr val="000000"/>
                </a:solidFill>
                <a:latin typeface="Foundry Form Sans"/>
              </a:rPr>
              <a:t>Bank for International Settlements</a:t>
            </a:r>
            <a:r>
              <a:rPr b="0" i="1" lang="en-GB" sz="1100" spc="-1" strike="noStrike">
                <a:solidFill>
                  <a:srgbClr val="000000"/>
                </a:solidFill>
                <a:latin typeface="Foundry Form Sans"/>
              </a:rPr>
              <a:t>, London International Financial Futures and Options Exchange, London Metal exchange and London Stock Exchan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57360"/>
          <a:ext cx="8640720" cy="4727520"/>
        </p:xfrm>
        <a:graphic>
          <a:graphicData uri="http://schemas.openxmlformats.org/drawingml/2006/table">
            <a:tbl>
              <a:tblPr/>
              <a:tblGrid>
                <a:gridCol w="2846160"/>
                <a:gridCol w="2287800"/>
                <a:gridCol w="1627200"/>
                <a:gridCol w="1879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Meas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Foreign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3,32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3,981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OTC deriv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1,686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$2,083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ugust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LIFEE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€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,781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€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,99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LME Futures and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aily average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367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471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Government gi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nnual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3,507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3,88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equities (order boo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nnual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15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018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Market capit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Octo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UK compan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130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869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International compan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2,293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£1,594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Ind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ec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FTSE 100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6,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5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Dow Jones 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At year e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3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Foundry Form Sans"/>
                          <a:ea typeface="Times New Roman"/>
                        </a:rPr>
                        <a:t>11,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centage of debt held ab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14787" t="24674" r="65572" b="37943"/>
          <a:stretch/>
        </p:blipFill>
        <p:spPr>
          <a:xfrm>
            <a:off x="468360" y="1557360"/>
            <a:ext cx="799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K Banks are Intern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Chart 3" descr=""/>
          <p:cNvPicPr/>
          <p:nvPr/>
        </p:nvPicPr>
        <p:blipFill>
          <a:blip r:embed="rId2"/>
          <a:stretch/>
        </p:blipFill>
        <p:spPr>
          <a:xfrm>
            <a:off x="542880" y="1487520"/>
            <a:ext cx="80582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rvices matter to London export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rcRect l="33570" t="18619" r="24697" b="30056"/>
          <a:stretch/>
        </p:blipFill>
        <p:spPr>
          <a:xfrm>
            <a:off x="324000" y="1557360"/>
            <a:ext cx="84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ctoral Employment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Chart 3" descr=""/>
          <p:cNvPicPr/>
          <p:nvPr/>
        </p:nvPicPr>
        <p:blipFill>
          <a:blip r:embed="rId2"/>
          <a:stretch/>
        </p:blipFill>
        <p:spPr>
          <a:xfrm>
            <a:off x="682560" y="1487520"/>
            <a:ext cx="8010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 services matter but have not been the main job cr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do produce value, and taxes – not all the activity i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asset management is going to continue to matter – and to g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 banks do, what is their role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this is likely to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finance sector’s role in London especi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ld we live with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swer - 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Bank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economic accounts were first devised, finance had no role, just an intermedi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eed in many modern models of the economy (including those used in central banks) money has no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 costs are an intermediate cost, changing interest costs changes cost of investment and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 nothing mu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Bank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just an intermediary but a manager of assets and balance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nsions, insuranc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ting international business, a service to final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finitions in national accounts have changed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cent contribution to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22603" t="21014" r="20043" b="14896"/>
          <a:stretch/>
        </p:blipFill>
        <p:spPr>
          <a:xfrm>
            <a:off x="395280" y="162864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K Financial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10 Financial Sector paid 11.2% of UK tax reve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st sector paying corporation tax £5.6bn (though down from £12bn in 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5% of UK workforce generating £24.5bn of employment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wC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structural deficit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rcRect l="23108" t="19148" r="20208" b="17286"/>
          <a:stretch/>
        </p:blipFill>
        <p:spPr>
          <a:xfrm>
            <a:off x="611280" y="1773360"/>
            <a:ext cx="784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overnment debt at exceptional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6453360"/>
            <a:ext cx="59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</a:rPr>
              <a:t>Source: Public Finances First Release,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ject 8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nce and Germany more exposed to Greek debt than the UK (as of December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630864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  <a:ea typeface="Times New Roman"/>
              </a:rPr>
              <a:t>Source: </a:t>
            </a:r>
            <a:r>
              <a:rPr b="0" lang="en-GB" sz="1200" spc="-1" strike="noStrike">
                <a:solidFill>
                  <a:srgbClr val="000000"/>
                </a:solidFill>
                <a:latin typeface="Foundry Form Sans"/>
              </a:rPr>
              <a:t>Bank for International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1317600"/>
            <a:ext cx="90201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02:45Z</dcterms:created>
  <dc:creator>Bridget</dc:creator>
  <dc:description/>
  <dc:language>en-US</dc:language>
  <cp:lastModifiedBy>Administrator</cp:lastModifiedBy>
  <dcterms:modified xsi:type="dcterms:W3CDTF">2012-01-23T17:29:22Z</dcterms:modified>
  <cp:revision>290</cp:revision>
  <dc:subject/>
  <dc:title>Do Banks Matter</dc:title>
</cp:coreProperties>
</file>