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13.jpeg" ContentType="image/jpeg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12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dt" idx="16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ftr" idx="17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 type="sldNum" idx="18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D3A57-913A-4285-9F15-A5D1FA86A2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B93B5-3A71-4AF2-B6DF-9D59F6FD4D55}" type="slidenum">
              <a:rPr b="0" lang="en-US" sz="1200" spc="-1" strike="noStrike">
                <a:solidFill>
                  <a:srgbClr val="292934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C0F8D-6905-4522-9C83-2B59D6D1B632}" type="slidenum">
              <a:rPr b="0" lang="en-US" sz="1200" spc="-1" strike="noStrike">
                <a:solidFill>
                  <a:srgbClr val="292934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5D088-5C3F-42D9-A244-DC1AD6972FF6}" type="slidenum">
              <a:rPr b="0" lang="en-US" sz="1200" spc="-1" strike="noStrike">
                <a:solidFill>
                  <a:srgbClr val="292934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AD894-FADD-4A97-A104-7BA87E96D285}" type="slidenum">
              <a:rPr b="0" lang="en-US" sz="1200" spc="-1" strike="noStrike">
                <a:solidFill>
                  <a:srgbClr val="292934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74D6D-5CC6-419D-84D4-BA35E666BE98}" type="slidenum">
              <a:rPr b="0" lang="en-US" sz="1200" spc="-1" strike="noStrike">
                <a:solidFill>
                  <a:srgbClr val="292934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73D5C-8D9A-4D6A-831B-C7275C324BE7}" type="slidenum">
              <a:rPr b="0" lang="en-US" sz="1200" spc="-1" strike="noStrike">
                <a:solidFill>
                  <a:srgbClr val="292934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C63B4-D590-4795-B9A7-B154CB27E4AB}" type="slidenum">
              <a:rPr b="0" lang="en-US" sz="1200" spc="-1" strike="noStrike">
                <a:solidFill>
                  <a:srgbClr val="292934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ED9A2-DDC7-43B0-8418-1D649D272DF9}" type="slidenum">
              <a:rPr b="0" lang="en-US" sz="1200" spc="-1" strike="noStrike">
                <a:solidFill>
                  <a:srgbClr val="292934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650F9-55AB-40E8-89EA-C5E68C95EE31}" type="slidenum">
              <a:rPr b="0" lang="en-US" sz="1200" spc="-1" strike="noStrike">
                <a:solidFill>
                  <a:srgbClr val="292934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B3EBA-4FA1-4E23-8EEB-B081B7DE4F68}" type="slidenum">
              <a:rPr b="0" lang="en-US" sz="1200" spc="-1" strike="noStrike">
                <a:solidFill>
                  <a:srgbClr val="292934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6E2EA-BC05-4F0E-9783-AC8516FD3235}" type="slidenum">
              <a:rPr b="0" lang="en-US" sz="1200" spc="-1" strike="noStrike">
                <a:solidFill>
                  <a:srgbClr val="292934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65302-3C7D-4DA0-8436-EC7F652BCC84}" type="slidenum">
              <a:rPr b="0" lang="en-US" sz="1200" spc="-1" strike="noStrike">
                <a:solidFill>
                  <a:srgbClr val="292934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F6C07-5FE7-45E2-95D2-E73ABA895599}" type="slidenum">
              <a:rPr b="0" lang="en-US" sz="1200" spc="-1" strike="noStrike">
                <a:solidFill>
                  <a:srgbClr val="292934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D6855-8302-4D65-B560-0AFF54FBB0E1}" type="slidenum">
              <a:rPr b="0" lang="en-US" sz="1200" spc="-1" strike="noStrike">
                <a:solidFill>
                  <a:srgbClr val="292934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54224-D3CF-43C3-857F-2E24DC8713AA}" type="slidenum">
              <a:rPr b="0" lang="en-US" sz="1200" spc="-1" strike="noStrike">
                <a:solidFill>
                  <a:srgbClr val="292934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ABF70-1DDE-4A87-BAF1-07E85F347D5C}" type="slidenum">
              <a:rPr b="0" lang="en-US" sz="1200" spc="-1" strike="noStrike">
                <a:solidFill>
                  <a:srgbClr val="292934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75EAC-7D99-40F9-A275-DAD729F04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f2d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FE8D7-332B-4996-9033-8A08335A6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f2d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17AA4-8D39-4044-8EAF-C3F19ACC7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f2d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69464-305E-4836-918D-A8F1C7176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79422-633E-4724-A6C5-31277ECAF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f2d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23B6A-4CAC-43C9-B75A-0D7B821E3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f2d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706FE-A7A1-47A5-95BE-FD6A1F319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f2d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5B127-AC1A-44B3-B30D-45B0BA85F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f2d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B4DFC-A325-4DA1-84F8-20AFA31A8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368CB-9086-4B43-AFAD-78010F6E3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f2d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27BB6-E199-43D1-89A2-8EAD03521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f2d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EF135-BF86-4023-A669-6A9658B46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f2d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633F6-983A-4BEE-82E2-2F266523B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f2d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B5B24-C05F-449E-B840-2FA2C1978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f2d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1261E-D7F2-43E1-BE32-75E82EBD6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f2d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9859C-D4BF-40AD-916D-D0FDBB373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f2d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E4F37-2A66-4494-8A5D-E358A958F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EB6FCF-9F3D-4842-B5F7-EBEA96395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f2d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CC7E8A-26C7-49C4-A1DB-1E5F18F9F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f2d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9A1AC6-20AA-4CB6-8B4C-36D8056B9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f2d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DBF235-D408-4300-B94A-8D1A693E2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f2d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100AF9-150E-4F48-9D76-3CFC6A51E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f2d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85F59-2427-4BA7-8C46-36C95117B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9234F9-913C-45CF-BE0D-24F0CE062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f2d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15D4A2-4462-4601-A568-C8C999FEA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f2d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D62C03-97FC-4A68-80B3-9235B34D0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f2d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9D1FA5-E17F-4704-A475-AB6318B9E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f2d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0474AF-C349-4BE8-98CB-6C06A3AC7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f2dc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65C408-593F-4A59-8E78-0E5C8631B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f2d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DDA3A0-0AF0-4890-8085-A9FF145A3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6D2B49-7889-4DFE-BF50-05E937096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f2dc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B59A7D-01E5-4E5F-8A43-43EC2F569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f2dc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CB8B0A-6B62-408A-9EA5-CB87C433B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f2d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37BBF-AF8D-4244-9285-8FCB42DFF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f2dc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AFBF51-5897-4992-82C5-E404C7768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f2d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2DF4E5-26A9-42D9-9BA3-1AE9C3D08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C5A768-EC73-4D39-88B8-22C99EC3C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f2dc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250C5F-C34A-4D6D-87A9-9A8ACA305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f2dc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A07D3C-A2F2-40C0-AB8D-5AB3FDE58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f2dc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C79FFB-C970-4502-B444-4EB2E7651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f2dc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1DBBD0-D64F-4DBC-9B26-07EF6E9B2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f2dc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B52618-7DBA-456D-9733-488EC1754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f2dc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682C8F-DFB4-4C41-A6E1-B242A5BF5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216321-8BC7-419C-9483-28BC19475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f2d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9C312-F1BE-4DE6-9F85-8D2052795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f2dc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6D21AE-22C8-4479-A342-1361AACE0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f2dc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53B039-471B-4DD2-BC50-4354B48D5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f2dc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E058CC-72B7-4DBD-9DE1-5D7C20607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f2d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C76E56-BAEF-4CCA-AFED-6E16FE22D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B1127E-280E-4617-A9F7-54331B67A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f2dc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6A301D-0A1F-4FF8-9D42-BB5DA7FCB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f2dc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C068D9-C2B3-4715-B116-3FD3A0B42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f2dc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EC2C36-EE49-436D-9816-8109EFDE3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f2dc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08428B-58EC-45BD-B984-9645F3A1B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f2dc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48DD7B-E01F-4CCD-8E22-CAE3FB153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67613-F2EC-4377-9D04-922BF8FB8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f2dc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36AE95-458D-40E3-8FCE-17614EDB1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f2d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B8020-6C17-4AA4-B200-10FEB0806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f2d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413FB-84DA-49CA-BAC3-02D508908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f2d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4BD84-5BE9-483F-8F6C-40D578A03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FD71D-78C5-49A2-8107-32F40631D05B}" type="datetime2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ursday, July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21F74-BCA5-4875-A6CA-8B0B750BC80B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5" name="Straight Connector 7"/>
          <p:cNvSpPr/>
          <p:nvPr/>
        </p:nvSpPr>
        <p:spPr>
          <a:xfrm>
            <a:off x="685800" y="3398760"/>
            <a:ext cx="7848720" cy="1800"/>
          </a:xfrm>
          <a:prstGeom prst="line">
            <a:avLst/>
          </a:prstGeom>
          <a:ln w="19080">
            <a:solidFill>
              <a:srgbClr val="d25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4E302-AD02-4942-AF3F-8408FF8FABC7}" type="datetime2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ursday, July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2DEC2-1B02-4E1B-8296-B76B4ED13502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53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9" name="Straight Connector 6"/>
          <p:cNvSpPr/>
          <p:nvPr/>
        </p:nvSpPr>
        <p:spPr>
          <a:xfrm>
            <a:off x="731880" y="4599000"/>
            <a:ext cx="7848720" cy="1440"/>
          </a:xfrm>
          <a:prstGeom prst="line">
            <a:avLst/>
          </a:prstGeom>
          <a:ln w="19080">
            <a:solidFill>
              <a:srgbClr val="f3f2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3f2d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3f2d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105C2-CFCE-48AE-A410-CCC131EFA701}" type="datetime2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ursday, July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68D9C-A586-4C86-B315-CB220028AB20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2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3" name="Straight Connector 10"/>
          <p:cNvSpPr/>
          <p:nvPr/>
        </p:nvSpPr>
        <p:spPr>
          <a:xfrm flipH="1">
            <a:off x="4572000" y="1692360"/>
            <a:ext cx="1440" cy="4708440"/>
          </a:xfrm>
          <a:prstGeom prst="line">
            <a:avLst/>
          </a:prstGeom>
          <a:ln w="19080">
            <a:solidFill>
              <a:srgbClr val="d25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A70A3-B5C2-4AA4-A52E-2ED05C1DCF4E}" type="datetime2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ursday, July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CCA03-157B-4C04-8329-B6F39A28E10B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6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7" name="Straight Connector 8"/>
          <p:cNvSpPr/>
          <p:nvPr/>
        </p:nvSpPr>
        <p:spPr>
          <a:xfrm flipH="1">
            <a:off x="2774520" y="792000"/>
            <a:ext cx="1800" cy="5578560"/>
          </a:xfrm>
          <a:prstGeom prst="line">
            <a:avLst/>
          </a:prstGeom>
          <a:ln w="19080">
            <a:solidFill>
              <a:srgbClr val="d25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F2073-6DB5-4A02-84CB-12C8E72479E4}" type="datetime2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ursday, July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2040E-49EB-4979-8A53-A75DDBB0DCF8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848720" cy="1927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2533c"/>
                </a:solidFill>
                <a:latin typeface="Arial"/>
              </a:rPr>
              <a:t>THE BENEFIT CAP IN LONDON - HEADACHES ON THE HORIZON?</a:t>
            </a:r>
            <a:endParaRPr b="0" lang="en-US" sz="44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6858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7576e"/>
                </a:solidFill>
                <a:latin typeface="Arial"/>
              </a:rPr>
              <a:t>Philip Clifford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7576e"/>
                </a:solidFill>
                <a:latin typeface="Arial"/>
              </a:rPr>
              <a:t>London Councils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7576e"/>
                </a:solidFill>
                <a:latin typeface="Arial"/>
              </a:rPr>
              <a:t>LSE London Seminar 16 January 2012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Extent of impact across London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pic>
        <p:nvPicPr>
          <p:cNvPr id="246" name="Picture 9" descr="LSE LHA + UC Map"/>
          <p:cNvPicPr/>
          <p:nvPr/>
        </p:nvPicPr>
        <p:blipFill>
          <a:blip r:embed="rId1"/>
          <a:srcRect l="16104" t="3128" r="17551" b="4913"/>
          <a:stretch/>
        </p:blipFill>
        <p:spPr>
          <a:xfrm>
            <a:off x="1181160" y="1523880"/>
            <a:ext cx="6786360" cy="52326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5" descr="UC+LHA - Key.bmp"/>
          <p:cNvPicPr/>
          <p:nvPr/>
        </p:nvPicPr>
        <p:blipFill>
          <a:blip r:embed="rId2"/>
          <a:srcRect l="0" t="0" r="13156" b="0"/>
          <a:stretch/>
        </p:blipFill>
        <p:spPr>
          <a:xfrm>
            <a:off x="7048440" y="5556240"/>
            <a:ext cx="2095560" cy="1301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Split between LHA and UC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pic>
        <p:nvPicPr>
          <p:cNvPr id="249" name="Picture 5" descr=""/>
          <p:cNvPicPr/>
          <p:nvPr/>
        </p:nvPicPr>
        <p:blipFill>
          <a:blip r:embed="rId1"/>
          <a:stretch/>
        </p:blipFill>
        <p:spPr>
          <a:xfrm>
            <a:off x="-162000" y="1139760"/>
            <a:ext cx="9306000" cy="5718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Scale of impac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pic>
        <p:nvPicPr>
          <p:cNvPr id="251" name="Picture 8" descr=""/>
          <p:cNvPicPr/>
          <p:nvPr/>
        </p:nvPicPr>
        <p:blipFill>
          <a:blip r:embed="rId1"/>
          <a:stretch/>
        </p:blipFill>
        <p:spPr>
          <a:xfrm>
            <a:off x="0" y="1974960"/>
            <a:ext cx="9144000" cy="3916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Larger workless households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pic>
        <p:nvPicPr>
          <p:cNvPr id="253" name="Picture 5" descr=""/>
          <p:cNvPicPr/>
          <p:nvPr/>
        </p:nvPicPr>
        <p:blipFill>
          <a:blip r:embed="rId1"/>
          <a:stretch/>
        </p:blipFill>
        <p:spPr>
          <a:xfrm>
            <a:off x="142920" y="1673280"/>
            <a:ext cx="8799480" cy="4672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Mitigations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pic>
        <p:nvPicPr>
          <p:cNvPr id="255" name="Picture 7" descr=""/>
          <p:cNvPicPr/>
          <p:nvPr/>
        </p:nvPicPr>
        <p:blipFill>
          <a:blip r:embed="rId1"/>
          <a:stretch/>
        </p:blipFill>
        <p:spPr>
          <a:xfrm>
            <a:off x="0" y="2212920"/>
            <a:ext cx="9144000" cy="3917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Summary of findings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Over 130,000 households impacted by either LHA or Universal Credit (total benefit) caps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e Universal Credit cap has a much greater impact on affected households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In particular, it disproportionately impacts on larger families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Initial assumptions regarding geographic impact not borne out by evidence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Exemption of child benefit from Universal Credit would reduce impact, but taking account of London’s higher median wage has greater effect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722160" y="2362320"/>
            <a:ext cx="7772400" cy="2200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3f2dc"/>
                </a:solidFill>
                <a:latin typeface="Arial"/>
              </a:rPr>
              <a:t>POTENTIAL IMPLICATIONS</a:t>
            </a:r>
            <a:endParaRPr b="0" lang="en-US" sz="4800" spc="-1" strike="noStrike">
              <a:solidFill>
                <a:srgbClr val="f3f2dc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722160" y="46274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3f2dc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People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92934"/>
                </a:solidFill>
                <a:latin typeface="Arial"/>
              </a:rPr>
              <a:t>Vulnerable households face difficult choices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92934"/>
                </a:solidFill>
                <a:latin typeface="Arial"/>
              </a:rPr>
              <a:t>Do they…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92934"/>
                </a:solidFill>
                <a:latin typeface="Arial"/>
              </a:rPr>
              <a:t>Overcrowd?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92934"/>
                </a:solidFill>
                <a:latin typeface="Arial"/>
              </a:rPr>
              <a:t>Move home?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92934"/>
                </a:solidFill>
                <a:latin typeface="Arial"/>
              </a:rPr>
              <a:t>Split?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92934"/>
                </a:solidFill>
                <a:latin typeface="Arial"/>
              </a:rPr>
              <a:t>Enter the labour market?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92934"/>
                </a:solidFill>
                <a:latin typeface="Arial"/>
              </a:rPr>
              <a:t>Absorb the shortfall?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92934"/>
                </a:solidFill>
                <a:latin typeface="Arial"/>
              </a:rPr>
              <a:t>Exceptional difficulty in accurately forecasting response of households…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Borough services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456840" y="1282320"/>
            <a:ext cx="3932280" cy="212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Housing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Arial"/>
              </a:rPr>
              <a:t>Temporary accommodation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Arial"/>
              </a:rPr>
              <a:t>Housing supply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Arial"/>
              </a:rPr>
              <a:t>Overcrowding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274320" y="3606480"/>
            <a:ext cx="3932280" cy="212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Adult Social Care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Arial"/>
              </a:rPr>
              <a:t>Labour market flexibility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Arial"/>
              </a:rPr>
              <a:t>Mental health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Arial"/>
              </a:rPr>
              <a:t>Service demand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571640" y="1282320"/>
            <a:ext cx="3932280" cy="212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hildren &amp; Young People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Arial"/>
              </a:rPr>
              <a:t>Child poverty, safeguarding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Arial"/>
              </a:rPr>
              <a:t>Discontinuity of provision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Arial"/>
              </a:rPr>
              <a:t>School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71640" y="3606480"/>
            <a:ext cx="3932280" cy="212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ommunity Cohesion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Arial"/>
              </a:rPr>
              <a:t>Displacement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Arial"/>
              </a:rPr>
              <a:t>Competition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Arial"/>
              </a:rPr>
              <a:t>Miscommunication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67" name="Straight Connector 12"/>
          <p:cNvSpPr/>
          <p:nvPr/>
        </p:nvSpPr>
        <p:spPr>
          <a:xfrm>
            <a:off x="274680" y="3403440"/>
            <a:ext cx="8229600" cy="0"/>
          </a:xfrm>
          <a:prstGeom prst="line">
            <a:avLst/>
          </a:prstGeom>
          <a:ln w="26280">
            <a:solidFill>
              <a:srgbClr val="d25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68" name="Straight Connector 16"/>
          <p:cNvSpPr/>
          <p:nvPr/>
        </p:nvSpPr>
        <p:spPr>
          <a:xfrm>
            <a:off x="4397400" y="1282680"/>
            <a:ext cx="0" cy="5016600"/>
          </a:xfrm>
          <a:prstGeom prst="line">
            <a:avLst/>
          </a:prstGeom>
          <a:ln w="26280">
            <a:solidFill>
              <a:srgbClr val="d25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Borough finances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pic>
        <p:nvPicPr>
          <p:cNvPr id="270" name="Picture 4" descr="IMD HB 2"/>
          <p:cNvPicPr/>
          <p:nvPr/>
        </p:nvPicPr>
        <p:blipFill>
          <a:blip r:embed="rId1"/>
          <a:srcRect l="16094" t="1370" r="15098" b="295"/>
          <a:stretch/>
        </p:blipFill>
        <p:spPr>
          <a:xfrm>
            <a:off x="1587600" y="1523880"/>
            <a:ext cx="6019560" cy="4783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722160" y="2362320"/>
            <a:ext cx="7772400" cy="2200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3f2dc"/>
                </a:solidFill>
                <a:latin typeface="Arial"/>
              </a:rPr>
              <a:t>BACKGROUND</a:t>
            </a:r>
            <a:endParaRPr b="0" lang="en-US" sz="4800" spc="-1" strike="noStrike">
              <a:solidFill>
                <a:srgbClr val="f3f2dc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722160" y="46274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3f2dc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722160" y="2362320"/>
            <a:ext cx="7772400" cy="2200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3f2dc"/>
                </a:solidFill>
                <a:latin typeface="Arial"/>
              </a:rPr>
              <a:t>CONCLUSIONS</a:t>
            </a:r>
            <a:endParaRPr b="0" lang="en-US" sz="4800" spc="-1" strike="noStrike">
              <a:solidFill>
                <a:srgbClr val="f3f2dc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722160" y="46274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3f2dc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Headaches on the horizon?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pic>
        <p:nvPicPr>
          <p:cNvPr id="274" name="Content Placeholder 3" descr="stupid.jpg"/>
          <p:cNvPicPr/>
          <p:nvPr/>
        </p:nvPicPr>
        <p:blipFill>
          <a:blip r:embed="rId1"/>
          <a:srcRect l="-16479" t="0" r="-16479" b="0"/>
          <a:stretch/>
        </p:blipFill>
        <p:spPr>
          <a:xfrm>
            <a:off x="457200" y="1600200"/>
            <a:ext cx="8229600" cy="487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Lessons…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e implications of a one-sized cap highlight the tensions between national policy and the realities of geographic variation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Welfare reform offers an insight into the unfolding process of politics and its interaction with policy formulation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uture impact likely to be significant and require long term measuremen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722160" y="2362320"/>
            <a:ext cx="7772400" cy="2200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3f2dc"/>
                </a:solidFill>
                <a:latin typeface="Arial"/>
              </a:rPr>
              <a:t>END</a:t>
            </a:r>
            <a:endParaRPr b="0" lang="en-US" sz="4800" spc="-1" strike="noStrike">
              <a:solidFill>
                <a:srgbClr val="f3f2dc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722160" y="46274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3f2dc"/>
                </a:solidFill>
                <a:latin typeface="Arial"/>
              </a:rPr>
              <a:t>Philip.Clifford@londoncouncils.gov.u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London Councils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pic>
        <p:nvPicPr>
          <p:cNvPr id="231" name="Picture 4" descr="Electoral Map Data 2010 - V2"/>
          <p:cNvPicPr/>
          <p:nvPr/>
        </p:nvPicPr>
        <p:blipFill>
          <a:blip r:embed="rId1"/>
          <a:srcRect l="16050" t="3779" r="16991" b="4475"/>
          <a:stretch/>
        </p:blipFill>
        <p:spPr>
          <a:xfrm>
            <a:off x="1116000" y="1341360"/>
            <a:ext cx="6919920" cy="527220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5" descr="elect map key"/>
          <p:cNvPicPr/>
          <p:nvPr/>
        </p:nvPicPr>
        <p:blipFill>
          <a:blip r:embed="rId2"/>
          <a:srcRect l="0" t="0" r="39448" b="83312"/>
          <a:stretch/>
        </p:blipFill>
        <p:spPr>
          <a:xfrm>
            <a:off x="6715080" y="5560920"/>
            <a:ext cx="1461960" cy="74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Welfare reform – key changes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Local Housing Allowance (LHA)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Arial"/>
              </a:rPr>
              <a:t>New caps on the total amount of housing benefit that can be claimed; max 4 bedrooms.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Arial"/>
              </a:rPr>
              <a:t>Single childless claimants under 35 now subject to single room rate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Arial"/>
              </a:rPr>
              <a:t>Definition of ‘affordable’ changed from median to 30 per cent of market rent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Universal Credi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Arial"/>
              </a:rPr>
              <a:t>Proposed introduction in 2013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Arial"/>
              </a:rPr>
              <a:t>Integrates: jobseekers allowance, housing benefit, child benefit and child tax credit.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Arial"/>
              </a:rPr>
              <a:t>Total benefit cap of £350 per week single person households and £500 per week for family; only applies to working age workless households.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Economic contex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pic>
        <p:nvPicPr>
          <p:cNvPr id="236" name="Picture 6" descr=""/>
          <p:cNvPicPr/>
          <p:nvPr/>
        </p:nvPicPr>
        <p:blipFill>
          <a:blip r:embed="rId1"/>
          <a:stretch/>
        </p:blipFill>
        <p:spPr>
          <a:xfrm>
            <a:off x="1179360" y="1339920"/>
            <a:ext cx="6701040" cy="548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Political contex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pic>
        <p:nvPicPr>
          <p:cNvPr id="238" name="Content Placeholder 5" descr="Java Printing.pdf"/>
          <p:cNvPicPr/>
          <p:nvPr/>
        </p:nvPicPr>
        <p:blipFill>
          <a:blip r:embed="rId1"/>
          <a:srcRect l="8484" t="25834" r="8642" b="25036"/>
          <a:stretch/>
        </p:blipFill>
        <p:spPr>
          <a:xfrm>
            <a:off x="457200" y="2209680"/>
            <a:ext cx="8039160" cy="368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The cap and London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pic>
        <p:nvPicPr>
          <p:cNvPr id="240" name="Picture 5" descr=""/>
          <p:cNvPicPr/>
          <p:nvPr/>
        </p:nvPicPr>
        <p:blipFill>
          <a:blip r:embed="rId1"/>
          <a:stretch/>
        </p:blipFill>
        <p:spPr>
          <a:xfrm>
            <a:off x="0" y="1290600"/>
            <a:ext cx="9144000" cy="5038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722160" y="2362320"/>
            <a:ext cx="7772400" cy="2200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3f2dc"/>
                </a:solidFill>
                <a:latin typeface="Arial"/>
              </a:rPr>
              <a:t>DOES THE CAP FIT?</a:t>
            </a:r>
            <a:endParaRPr b="0" lang="en-US" sz="4800" spc="-1" strike="noStrike">
              <a:solidFill>
                <a:srgbClr val="f3f2dc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722160" y="46274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3f2dc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The commission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Aims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Arial"/>
              </a:rPr>
              <a:t>Determine the impact of the Local Housing Allowance (LHA) and Universal Credit (total benefit) cap on housing affordability in London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Arial"/>
              </a:rPr>
              <a:t>Explore the impact of household choices on public services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Methodology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Arial"/>
              </a:rPr>
              <a:t>Quantitative analysis of 480,000 housing benefit records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45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34"/>
                </a:solidFill>
                <a:latin typeface="Arial"/>
              </a:rPr>
              <a:t>Established ‘living cost benefits’ based on adjusted 2011 cap (£467.26)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Arial"/>
              </a:rPr>
              <a:t>Qualitative research using four ‘task and finish’ groups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45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34"/>
                </a:solidFill>
                <a:latin typeface="Arial"/>
              </a:rPr>
              <a:t>Children and Young People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45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34"/>
                </a:solidFill>
                <a:latin typeface="Arial"/>
              </a:rPr>
              <a:t>Adult Social Care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45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34"/>
                </a:solidFill>
                <a:latin typeface="Arial"/>
              </a:rPr>
              <a:t>Housing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45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34"/>
                </a:solidFill>
                <a:latin typeface="Arial"/>
              </a:rPr>
              <a:t>Community Cohesion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1T14:15:09Z</dcterms:created>
  <dc:creator>Philip Clifford</dc:creator>
  <dc:description/>
  <dc:language>en-US</dc:language>
  <cp:lastModifiedBy>Administrator</cp:lastModifiedBy>
  <dcterms:modified xsi:type="dcterms:W3CDTF">2012-01-24T15:51:44Z</dcterms:modified>
  <cp:revision>41</cp:revision>
  <dc:subject/>
  <dc:title>The benefit cap in London - headaches on the horizon?</dc:title>
</cp:coreProperties>
</file>