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E97-AC14-4E96-9A30-C4A72C77C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D0C-1EA1-4CCF-A268-39052FADFA0A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EE8-2B2B-43FC-BA6E-274F34669947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1652-68CF-4374-8D79-6D128D6C50D1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B37-78A6-4863-9E3A-BF50A5E00A4F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1804-0DD4-4D6D-8515-A980B8350683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EBE-925A-46A2-BE58-E0669AF9E45E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A61E-D28E-48F8-896E-0F11DEA3E541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B61D-80C3-45BC-8708-E7985903F20F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E4F-92D5-4467-8C67-A5102724F485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7D7F-DBC8-451E-B24C-87AC80F09C16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FAD1-EA19-493A-A5D0-17F04DD6CF32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380-48BC-4FAA-9324-30096AF8CB0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FC67-0488-47DE-B64B-F8D2A32D3016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DDC-7D23-4EE2-93DC-212B3717874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624F-2448-4E2D-8FA1-BEDBAADC68B2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3A10-20F5-46B5-B7BE-1F320665286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75B-0AA9-4DBF-A2C1-8446A228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D1C-0F62-4870-BF9F-FB85D8F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0FF-6C26-4BE9-A06E-10BE2F78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566-6FC3-4946-944A-D182B4DE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C5DF-24DD-4CEC-B6DE-DB29A0EC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1440-A90A-4610-8353-7FCE3EA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CB12-27B3-44F7-ABE7-C63BE680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F35E-2F95-450C-807D-08AAF7D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137-67C7-4846-BEA0-3C52C3A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CA1-C8DF-4907-AD00-151B35D8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3A1-F197-4084-B0E8-9315228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2B4-0C96-4443-AB66-46DC273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B42B-1EDD-45E0-8753-AF052E30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2875-7ECC-4768-8EDE-FA207AE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01EC-B5FF-4AEC-B8D7-23BCB1EF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FB66-7CD2-4BAB-80C1-85C633F0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558C-702B-4A2C-9FC8-8CF340FB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24A8-2E2E-45CE-9207-B33486D4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A85C-A87B-426F-B24A-322EB17F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1D4E-85A2-43E3-9BE4-D26A4AC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1BFB-CA8E-4950-9387-D0E63BE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A0D4-3106-43B1-990A-76E49321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D9F-58B3-480F-AE8D-D1B34E7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F9D5-1BD9-4CB9-A6A2-D5B90EF6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2BDF-ABC6-4CB7-B566-D82FCFD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712C-990B-4280-B6BA-21BE8D1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DBE5-7AC5-46C4-9EC9-C612F6B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22E4-2568-41A6-AFF8-F54BD84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982C-0F22-494E-82FC-130A9703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C976-C3CE-45AA-AF52-908855E7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56B5-8744-4155-82F9-DADC24BD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84E5-015F-4CC6-ADA1-247DE8F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92FD-AED3-47A6-AA56-FECD13AA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FD0-946A-4E0E-8591-EFB4171F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45D3-F7BC-4930-A314-B9D899CA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CB32-702A-4E77-9239-AF6D398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0F1EA-A742-4D1D-874D-D403DAC8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A4F5-2560-46A2-882E-8E2E9F2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5AD9-4948-457A-91CA-CD7D816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890A-EAB3-44BB-B76C-8E6A926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1DB5-8CB6-4854-8C22-BE1F88C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2E0FA-E7CC-4300-B328-3C651E4C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2E14A-0136-46F4-BDA7-D691FD3B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EBF0-FB60-43CF-9214-985E40EC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465-07A7-4CB0-8BBD-09957C14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C0477-7DA0-4DF4-AD1E-2AA14C35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C025-9AD6-4638-B3E8-CDEC656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4FED4-3D21-4290-A8A7-4F284C18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BC5B-3D3B-45E1-A7CB-0E334494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53D1-212A-4AFC-9537-AC536031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98FF5-2C50-4B01-B5D6-65A256B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C35A-C782-4E32-B15C-DE462AD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4697-13C5-4C87-B24C-0F3500A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F614-9F90-469A-859F-E2BAE1A9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54C9B-B9DB-40D1-9647-07325541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3F3-CBF4-4074-B6FF-0E5997A7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FB9EA-D8A6-4221-AE09-AA14D217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53A-3F65-4188-B3C1-5F77A62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F5E-5175-4832-BF17-EED5B30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FC2-8681-4102-87D7-CA8C9D3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11DD-A91D-4595-9AED-8BEF06E0385C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2D41-7B54-41E0-878C-B18E723491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6254-CE5A-4033-999C-B760BECFF691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AFA-1F56-489D-99E6-67E9C056D4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1BD-E687-4C7C-8BF8-323178D12B18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9C2-FAB8-48BA-81FC-81FEFF5177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7CA-89B2-45C5-948F-4A6951D3734B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AB8-8B0A-4B26-B7D0-8631C4875D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C13B-4E3C-4655-9499-8778F0DBB003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009-A65C-43ED-A37F-9BB4D03A29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533c"/>
                </a:solidFill>
                <a:latin typeface="Arial"/>
              </a:rPr>
              <a:t>THE BENEFIT CAP IN LONDON - HEADACHES ON THE HORIZON?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Philip Cliff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London Counci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LSE London Seminar 16 January 201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tent of impact across Lond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6" name="Picture 9" descr="LSE LHA + UC Map"/>
          <p:cNvPicPr/>
          <p:nvPr/>
        </p:nvPicPr>
        <p:blipFill>
          <a:blip r:embed="rId1"/>
          <a:srcRect l="16104" t="3128" r="17551" b="4913"/>
          <a:stretch/>
        </p:blipFill>
        <p:spPr>
          <a:xfrm>
            <a:off x="1181160" y="1523880"/>
            <a:ext cx="6786360" cy="523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UC+LHA - Key.bmp"/>
          <p:cNvPicPr/>
          <p:nvPr/>
        </p:nvPicPr>
        <p:blipFill>
          <a:blip r:embed="rId2"/>
          <a:srcRect l="0" t="0" r="13156" b="0"/>
          <a:stretch/>
        </p:blipFill>
        <p:spPr>
          <a:xfrm>
            <a:off x="7048440" y="5556240"/>
            <a:ext cx="209556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lit between LHA and UC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-162000" y="1139760"/>
            <a:ext cx="93060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cale of impa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tretch/>
        </p:blipFill>
        <p:spPr>
          <a:xfrm>
            <a:off x="0" y="1974960"/>
            <a:ext cx="9144000" cy="39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arger workless household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42920" y="1673280"/>
            <a:ext cx="87994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tig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0" y="2212920"/>
            <a:ext cx="914400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ummary of finding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ver 130,000 households impacted by either LHA or Universal Credit (total benefit) cap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Universal Credit cap has a much greater impact on affected househol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 particular, it disproportionately impacts on larger famil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itial assumptions regarding geographic impact not borne out by evid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emption of child benefit from Universal Credit would reduce impact, but taking account of London’s higher median wage has greater eff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POTENTIAL IMPLICATIONS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Vulnerable households face difficult choic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Do they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Overcrowd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Move home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Spli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Enter the labour marke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Absorb the shortfall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Exceptional difficulty in accurately forecasting response of households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Borough servi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28232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ous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emporary accommoda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Housing supp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vercrow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4320" y="360648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dult Social Ca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abour market flexibili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ental health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rvice dem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1640" y="128232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ildren &amp; Young Peop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hild poverty, safeguar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continuity of provis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1640" y="360648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mmunity Cohe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place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iscommunica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Straight Connector 12"/>
          <p:cNvSpPr/>
          <p:nvPr/>
        </p:nvSpPr>
        <p:spPr>
          <a:xfrm>
            <a:off x="274680" y="3403440"/>
            <a:ext cx="8229600" cy="0"/>
          </a:xfrm>
          <a:prstGeom prst="line">
            <a:avLst/>
          </a:prstGeom>
          <a:ln w="262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Straight Connector 16"/>
          <p:cNvSpPr/>
          <p:nvPr/>
        </p:nvSpPr>
        <p:spPr>
          <a:xfrm>
            <a:off x="4397400" y="1282680"/>
            <a:ext cx="0" cy="5016600"/>
          </a:xfrm>
          <a:prstGeom prst="line">
            <a:avLst/>
          </a:prstGeom>
          <a:ln w="262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Borough fina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0" name="Picture 4" descr="IMD HB 2"/>
          <p:cNvPicPr/>
          <p:nvPr/>
        </p:nvPicPr>
        <p:blipFill>
          <a:blip r:embed="rId1"/>
          <a:srcRect l="16094" t="1370" r="15098" b="295"/>
          <a:stretch/>
        </p:blipFill>
        <p:spPr>
          <a:xfrm>
            <a:off x="1587600" y="1523880"/>
            <a:ext cx="60195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BACKGROUND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CONCLUSIONS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eadaches on the horizon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4" name="Content Placeholder 3" descr="stupid.jpg"/>
          <p:cNvPicPr/>
          <p:nvPr/>
        </p:nvPicPr>
        <p:blipFill>
          <a:blip r:embed="rId1"/>
          <a:srcRect l="-16479" t="0" r="-16479" b="0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ssons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implications of a one-sized cap highlight the tensions between national policy and the realities of geographic varia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lfare reform offers an insight into the unfolding process of politics and its interaction with policy formul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uture impact likely to be significant and require long term measurem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END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2dc"/>
                </a:solidFill>
                <a:latin typeface="Arial"/>
              </a:rPr>
              <a:t>Philip.Clifford@londoncouncils.gov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ondon Counc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1" name="Picture 4" descr="Electoral Map Data 2010 - V2"/>
          <p:cNvPicPr/>
          <p:nvPr/>
        </p:nvPicPr>
        <p:blipFill>
          <a:blip r:embed="rId1"/>
          <a:srcRect l="16050" t="3779" r="16991" b="4475"/>
          <a:stretch/>
        </p:blipFill>
        <p:spPr>
          <a:xfrm>
            <a:off x="1116000" y="1341360"/>
            <a:ext cx="6919920" cy="5272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elect map key"/>
          <p:cNvPicPr/>
          <p:nvPr/>
        </p:nvPicPr>
        <p:blipFill>
          <a:blip r:embed="rId2"/>
          <a:srcRect l="0" t="0" r="39448" b="83312"/>
          <a:stretch/>
        </p:blipFill>
        <p:spPr>
          <a:xfrm>
            <a:off x="6715080" y="5560920"/>
            <a:ext cx="146196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elfare reform – key chan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ocal Housing Allowance (LHA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New caps on the total amount of housing benefit that can be claimed; max 4 bedroom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ingle childless claimants under 35 now subject to single room ra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finition of ‘affordable’ changed from median to 30 per cent of market r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iversal Cred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oposed introduction in 201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tegrates: jobseekers allowance, housing benefit, child benefit and child tax credi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otal benefit cap of £350 per week single person households and £500 per week for family; only applies to working age workless household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conomic contex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1179360" y="1339920"/>
            <a:ext cx="6701040" cy="54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olitical contex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8" name="Content Placeholder 5" descr="Java Printing.pdf"/>
          <p:cNvPicPr/>
          <p:nvPr/>
        </p:nvPicPr>
        <p:blipFill>
          <a:blip r:embed="rId1"/>
          <a:srcRect l="8484" t="25834" r="8642" b="25036"/>
          <a:stretch/>
        </p:blipFill>
        <p:spPr>
          <a:xfrm>
            <a:off x="457200" y="2209680"/>
            <a:ext cx="80391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cap and Lond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129060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DOES THE CAP FIT?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commis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i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termine the impact of the Local Housing Allowance (LHA) and Universal Credit (total benefit) cap on housing affordability in Lond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xplore the impact of household choices on public servic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Quantitative analysis of 480,000 housing benefit record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stablished ‘living cost benefits’ based on adjusted 2011 cap (£467.26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Qualitative research using four ‘task and finish’ grou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hildren and Young Peop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dult Social Car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Hous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ommunity Cohesio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4:15:09Z</dcterms:created>
  <dc:creator>Philip Clifford</dc:creator>
  <dc:description/>
  <dc:language>en-US</dc:language>
  <cp:lastModifiedBy>Administrator</cp:lastModifiedBy>
  <dcterms:modified xsi:type="dcterms:W3CDTF">2012-01-24T15:51:44Z</dcterms:modified>
  <cp:revision>41</cp:revision>
  <dc:subject/>
  <dc:title>The benefit cap in London - headaches on the horizon?</dc:title>
</cp:coreProperties>
</file>