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undry Form Sans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AD8-2C92-4BD1-8E33-3F78BB6A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CEEE-00ED-4997-B0C6-A1E6AD3CCFF0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UL HILDRETH - SENSE OF PLACE</a:t>
            </a:r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A4A-3A5B-405B-B4EA-9026A0ADBE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3D3-32E2-46DB-84E8-68B4EAD66E7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5C46-BA8F-41C5-9C96-E10671C1EC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AB0-EFE2-42CA-A592-9E858F335F18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029B-A700-4566-8F7C-8BF406C1B10E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DEAD-5393-4FC6-A0E5-5C2D7BC29208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2F11-E4AB-4DFB-9FAC-CD01A27A956B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B696-878F-4924-993E-9524F4E83166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213-48BC-454D-94AE-FB5DCDFBA8FD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9CD-E527-47AB-89D9-3CAFDA332FB6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21F-78AC-45EC-B1BC-BE456B7E791B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115-1006-4F88-A29B-53E133067DA4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AH 1104 084 10x12"/>
          <p:cNvPicPr/>
          <p:nvPr/>
        </p:nvPicPr>
        <p:blipFill>
          <a:blip r:embed="rId2"/>
          <a:srcRect l="0" t="10701" r="0" b="0"/>
          <a:stretch/>
        </p:blipFill>
        <p:spPr>
          <a:xfrm>
            <a:off x="0" y="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6095880" y="6521400"/>
            <a:ext cx="2400480" cy="18432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AH 1104 084 10x12"/>
          <p:cNvPicPr/>
          <p:nvPr/>
        </p:nvPicPr>
        <p:blipFill>
          <a:blip r:embed="rId2"/>
          <a:srcRect l="0" t="10700" r="0" b="0"/>
          <a:stretch/>
        </p:blipFill>
        <p:spPr>
          <a:xfrm>
            <a:off x="0" y="-3348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6095880" y="6521400"/>
            <a:ext cx="2400480" cy="18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ndonspovertyprofile.org.uk/indicators/maps/3_2.gif" TargetMode="External"/><Relationship Id="rId2" Type="http://schemas.openxmlformats.org/officeDocument/2006/relationships/hyperlink" Target="http://www.londonspovertyprofile.org.uk/indicators/maps/3_2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Foundry Form Sans"/>
              </a:rPr>
              <a:t>London’s Diverse Economy and the Mayor’s Economic Development Strateg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4883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Mark Kleinman 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Assistant Director, Economic and Business Policy,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Greater London Authorit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3152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D:\Mark work\presentations\GaWC 2008 cities cartogram.jpg"/>
          <p:cNvPicPr/>
          <p:nvPr/>
        </p:nvPicPr>
        <p:blipFill>
          <a:blip r:embed="rId1"/>
          <a:stretch/>
        </p:blipFill>
        <p:spPr>
          <a:xfrm>
            <a:off x="444600" y="800280"/>
            <a:ext cx="82548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861048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938160"/>
            <a:ext cx="8763120" cy="470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1227240"/>
            <a:ext cx="8610840" cy="42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479600"/>
            <a:ext cx="876312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5229360"/>
            <a:ext cx="787248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Garamond"/>
              </a:rPr>
              <a:t>The London (city region: Advanced Producer Services (APS) information flows connect  towns &amp; cities at a global ‘mega-city-region’ scale.</a:t>
            </a:r>
            <a:r>
              <a:rPr b="1" lang="en-GB" sz="32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19280" y="0"/>
          <a:ext cx="6991200" cy="524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69912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450720"/>
            <a:ext cx="83059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The proportion of working-age adults receiving out-of-work benefits by ward</a:t>
            </a:r>
            <a:endParaRPr b="0" lang="en-US" sz="1800" spc="-1" strike="noStrike">
              <a:solidFill>
                <a:srgbClr val="000000"/>
              </a:solidFill>
              <a:latin typeface="Foundry Form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inherit"/>
                <a:hlinkClick r:id="rId1"/>
              </a:rPr>
              <a:t>  </a:t>
            </a:r>
            <a:r>
              <a:rPr b="1" lang="en-US" sz="33500" spc="-1" strike="noStrike">
                <a:solidFill>
                  <a:srgbClr val="00cc99"/>
                </a:solidFill>
                <a:latin typeface="inherit"/>
              </a:rPr>
              <a:t> </a:t>
            </a:r>
            <a:r>
              <a:rPr b="1" lang="en-US" sz="900" spc="-1" strike="noStrike">
                <a:solidFill>
                  <a:srgbClr val="00cc99"/>
                </a:solidFill>
                <a:latin typeface="inherit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9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oundry Form Sans"/>
            </a:endParaRPr>
          </a:p>
        </p:txBody>
      </p:sp>
      <p:pic>
        <p:nvPicPr>
          <p:cNvPr id="112" name="Picture 5" descr="3_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3040" y="835200"/>
            <a:ext cx="6476760" cy="532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755640" y="5877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99"/>
                </a:solidFill>
                <a:latin typeface="Times New Roman"/>
              </a:rPr>
              <a:t>Source: London’s poverty profile</a:t>
            </a:r>
            <a:endParaRPr b="0" lang="en-US" sz="20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15" name="" descr="Science research collaboration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57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The Mayor’s Role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The Mayor and Economic Development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The Mayor has a general power to promote economic development and wealth creation in Greater London (GLA Act 1999)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Localism Bill requires the Mayor to prepare and publish an economic development strategy for London.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Also provides for additional housing and regeneration powers, including creating Mayoral Development Corporations.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  </a:t>
            </a: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The Mayor’s vision: London should be “the best big city in the world”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Revised Economic Development Strategy published May 2010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Developed alongside the revised London Plan and Transport Strategy 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EDS: Key Theme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20714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ondon: World Capital of Busines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mproving London’s Competitivenes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ransforming to a low-carbon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xtending economic opportun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nvesting in London’s futur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S is a long-term high-level strateg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How are we going to deliver? 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S identifies actions, what the Mayor will do and what the Mayor will influenc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GLA Group working with Partner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yor has key strategic and influencing rol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DA folding in to GLA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ligning resources of partners towards the Mayor’s priorities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Implementation Plan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Draft IP has been developed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tructured around the actions stated in the EDS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dentifies sub-actions and either direct delivery or influencing roles for the GLA Group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dentifies who we will work with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o be published later in the year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Some key issue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intaining economic diversity: finance and business services; media/culture/creative; digital/tech; many other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intaining competitiveness: tax, regulation, immigration,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conomic opportunity: LLW, apprenticeships, tackling worklessness, up-skilling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Changing national framework: demand-led skills system, Single Work Programme, LEPs etc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Foundry Form Sans"/>
              </a:rPr>
              <a:t>Thank You</a:t>
            </a:r>
            <a:endParaRPr b="1" lang="en-US" sz="7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20714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 algn="ctr">
              <a:spcBef>
                <a:spcPts val="11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Foundry Form Sans"/>
              </a:rPr>
              <a:t>Any Questions?</a:t>
            </a:r>
            <a:endParaRPr b="0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– fundamental strength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13336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Vast, global city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Job growth of 800,000 between 1996 and 2008; possibly another 750,000 by 2031 – 5.45 million in total.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nternational centre of trade and innovation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Resilient, diverse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trong globally competitive position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– potential threats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680" y="23810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Threats to competitiveness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Worklessness and skills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Responding to climate change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Quality of Life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LONDON skyline"/>
          <p:cNvPicPr/>
          <p:nvPr/>
        </p:nvPicPr>
        <p:blipFill>
          <a:blip r:embed="rId1"/>
          <a:stretch/>
        </p:blipFill>
        <p:spPr>
          <a:xfrm>
            <a:off x="500040" y="357120"/>
            <a:ext cx="849960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ONDON skyline"/>
          <p:cNvPicPr/>
          <p:nvPr/>
        </p:nvPicPr>
        <p:blipFill>
          <a:blip r:embed="rId1"/>
          <a:stretch/>
        </p:blipFill>
        <p:spPr>
          <a:xfrm>
            <a:off x="357120" y="571680"/>
            <a:ext cx="8577360" cy="53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ONDON skyline"/>
          <p:cNvPicPr/>
          <p:nvPr/>
        </p:nvPicPr>
        <p:blipFill>
          <a:blip r:embed="rId1"/>
          <a:stretch/>
        </p:blipFill>
        <p:spPr>
          <a:xfrm>
            <a:off x="333360" y="214200"/>
            <a:ext cx="869328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ONDON skyline"/>
          <p:cNvPicPr/>
          <p:nvPr/>
        </p:nvPicPr>
        <p:blipFill>
          <a:blip r:embed="rId1"/>
          <a:stretch/>
        </p:blipFill>
        <p:spPr>
          <a:xfrm>
            <a:off x="1000080" y="0"/>
            <a:ext cx="6792840" cy="64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Cities and Growth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rshall, Krugman, etc. – agglomeration economie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Jane Jacobs – economic divers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 Glaeser - proxim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he world is spiky or flat? Or both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49:05Z</dcterms:created>
  <dc:creator>GLA</dc:creator>
  <dc:description/>
  <dc:language>en-US</dc:language>
  <cp:lastModifiedBy>LSE</cp:lastModifiedBy>
  <dcterms:modified xsi:type="dcterms:W3CDTF">2011-01-31T13:09:36Z</dcterms:modified>
  <cp:revision>160</cp:revision>
  <dc:subject/>
  <dc:title>Title of slideshow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C2CD458C61BDD211A6C60000F803191607006B8DE02DDCFED111A6A00000F80319160000017B8FF70000AD42036E36716A42B2CCAD907DA85524000004B8FF5D0000</vt:lpwstr>
  </property>
  <property fmtid="{D5CDD505-2E9C-101B-9397-08002B2CF9AE}" pid="3" name="_TentativeReviewCycleID">
    <vt:r8>1318787051</vt:r8>
  </property>
</Properties>
</file>