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Foundry Form Sans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undry Form Sans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42B8-978D-46DA-A74D-710D871C6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DEC2-31DF-4907-A8E2-7E9AA6A8B71A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3" name="Header Placeholder 3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UL HILDRETH - SENSE OF PLACE</a:t>
            </a:r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75EE-C324-450E-8063-AC5A79A2A2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FEA2-2AA0-425D-A241-9AFC782517C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1065-2CCA-4EF8-A36B-5ED087C069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BB26-FB0A-478F-B99E-B31C83C8D9A4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2BA9-8098-4024-8AC5-1E4B5B2EC25A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E27A-F971-409F-858C-D4E81194520C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382E-D494-408B-BFCD-4C53C7E7D0E7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3D2F9-EB7E-4C62-92DF-D1B44CDD71A1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DE80-A94E-4E7B-A7D5-01AF49AF58C8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474-D108-4FCF-B3FC-E6C86CC3C52C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0F1B-6A18-4941-8FD6-667FBC0CFE9A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oundry Form Sans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2BA9-31B1-4D77-BC5D-7E8D518656D3}" type="slidenum">
              <a:rPr b="0" lang="en-US" sz="1200" spc="-1" strike="noStrike">
                <a:solidFill>
                  <a:srgbClr val="000000"/>
                </a:solidFill>
                <a:latin typeface="Foundry Form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AH 1104 084 10x12"/>
          <p:cNvPicPr/>
          <p:nvPr/>
        </p:nvPicPr>
        <p:blipFill>
          <a:blip r:embed="rId2"/>
          <a:srcRect l="0" t="10701" r="0" b="0"/>
          <a:stretch/>
        </p:blipFill>
        <p:spPr>
          <a:xfrm>
            <a:off x="0" y="0"/>
            <a:ext cx="9144000" cy="6434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Foundry Form Sans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2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3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4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3"/>
          <a:stretch/>
        </p:blipFill>
        <p:spPr>
          <a:xfrm>
            <a:off x="6095880" y="6521400"/>
            <a:ext cx="2400480" cy="18432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AH 1104 084 10x12"/>
          <p:cNvPicPr/>
          <p:nvPr/>
        </p:nvPicPr>
        <p:blipFill>
          <a:blip r:embed="rId2"/>
          <a:srcRect l="0" t="10700" r="0" b="0"/>
          <a:stretch/>
        </p:blipFill>
        <p:spPr>
          <a:xfrm>
            <a:off x="0" y="-33480"/>
            <a:ext cx="9144000" cy="6434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  <p:pic>
        <p:nvPicPr>
          <p:cNvPr id="43" name="Picture 14" descr=""/>
          <p:cNvPicPr/>
          <p:nvPr/>
        </p:nvPicPr>
        <p:blipFill>
          <a:blip r:embed="rId3"/>
          <a:stretch/>
        </p:blipFill>
        <p:spPr>
          <a:xfrm>
            <a:off x="6095880" y="6521400"/>
            <a:ext cx="2400480" cy="18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Foundry Form Sans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2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3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4"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Foundry Form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Foundry Form San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ondonspovertyprofile.org.uk/indicators/maps/3_2.gif" TargetMode="External"/><Relationship Id="rId2" Type="http://schemas.openxmlformats.org/officeDocument/2006/relationships/hyperlink" Target="http://www.londonspovertyprofile.org.uk/indicators/maps/3_2.gif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534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Foundry Form Sans"/>
              </a:rPr>
              <a:t>London’s Diverse Economy and the Mayor’s Economic Development Strategy</a:t>
            </a:r>
            <a:endParaRPr b="1" lang="en-US" sz="40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4149720"/>
            <a:ext cx="488304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Mark Kleinman 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Assistant Director, Economic and Business Policy,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oundry Form Sans"/>
              </a:rPr>
              <a:t>Greater London Authority</a:t>
            </a:r>
            <a:endParaRPr b="0" lang="en-US" sz="24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73152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D:\Mark work\presentations\GaWC 2008 cities cartogram.jpg"/>
          <p:cNvPicPr/>
          <p:nvPr/>
        </p:nvPicPr>
        <p:blipFill>
          <a:blip r:embed="rId1"/>
          <a:stretch/>
        </p:blipFill>
        <p:spPr>
          <a:xfrm>
            <a:off x="444600" y="800280"/>
            <a:ext cx="8254800" cy="525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225440"/>
            <a:ext cx="8610480" cy="4149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938160"/>
            <a:ext cx="8763120" cy="470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280" y="1227240"/>
            <a:ext cx="8610840" cy="428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479600"/>
            <a:ext cx="8763120" cy="40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5229360"/>
            <a:ext cx="787248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Garamond"/>
              </a:rPr>
              <a:t>The London (city region: Advanced Producer Services (APS) information flows connect  towns &amp; cities at a global ‘mega-city-region’ scale.</a:t>
            </a:r>
            <a:r>
              <a:rPr b="1" lang="en-GB" sz="3200" spc="-1" strike="noStrike">
                <a:solidFill>
                  <a:srgbClr val="003366"/>
                </a:solidFill>
                <a:latin typeface="Foundry Form Sans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619280" y="0"/>
          <a:ext cx="6991200" cy="524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0"/>
                    <a:ext cx="6991200" cy="52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68360" y="450720"/>
            <a:ext cx="830592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Times New Roman"/>
              </a:rPr>
              <a:t>The proportion of working-age adults receiving out-of-work benefits by ward</a:t>
            </a:r>
            <a:endParaRPr b="0" lang="en-US" sz="1800" spc="-1" strike="noStrike">
              <a:solidFill>
                <a:srgbClr val="000000"/>
              </a:solidFill>
              <a:latin typeface="Foundry Form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inherit"/>
                <a:hlinkClick r:id="rId1"/>
              </a:rPr>
              <a:t>  </a:t>
            </a:r>
            <a:r>
              <a:rPr b="1" lang="en-US" sz="33500" spc="-1" strike="noStrike">
                <a:solidFill>
                  <a:srgbClr val="00cc99"/>
                </a:solidFill>
                <a:latin typeface="inherit"/>
              </a:rPr>
              <a:t> </a:t>
            </a:r>
            <a:r>
              <a:rPr b="1" lang="en-US" sz="900" spc="-1" strike="noStrike">
                <a:solidFill>
                  <a:srgbClr val="00cc99"/>
                </a:solidFill>
                <a:latin typeface="inherit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9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Foundry Form Sans"/>
            </a:endParaRPr>
          </a:p>
        </p:txBody>
      </p:sp>
      <p:pic>
        <p:nvPicPr>
          <p:cNvPr id="112" name="Picture 5" descr="3_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3040" y="835200"/>
            <a:ext cx="6476760" cy="5324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755640" y="587700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cc99"/>
                </a:solidFill>
                <a:latin typeface="Times New Roman"/>
              </a:rPr>
              <a:t>Source: London’s poverty profile</a:t>
            </a:r>
            <a:endParaRPr b="0" lang="en-US" sz="2000" spc="-1" strike="noStrike">
              <a:solidFill>
                <a:srgbClr val="000000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pic>
        <p:nvPicPr>
          <p:cNvPr id="115" name="" descr="Science research collaboration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575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66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The Mayor’s Role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London’s Economy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Foundry Form Sans"/>
              </a:rPr>
              <a:t>The Mayor and Economic Development</a:t>
            </a:r>
            <a:endParaRPr b="1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The Mayor has a general power to promote economic development and wealth creation in Greater London (GLA Act 1999)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Localism Bill requires the Mayor to prepare and publish an economic development strategy for London.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Also provides for additional housing and regeneration powers, including creating Mayoral Development Corporations.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  </a:t>
            </a: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The Mayor’s vision: London should be “the best big city in the world”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Revised Economic Development Strategy published May 2010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-327240">
              <a:spcBef>
                <a:spcPts val="64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Foundry Form Sans"/>
              </a:rPr>
              <a:t>Developed alongside the revised London Plan and Transport Strategy </a:t>
            </a: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  <a:p>
            <a:pPr marL="32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EDS: Key Themes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9680" y="207144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London: World Capital of Busines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mproving London’s Competitivenes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Transforming to a low-carbon econom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xtending economic opportunit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nvesting in London’s futur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DS is a long-term high-level strateg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How are we going to deliver? 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DS identifies actions, what the Mayor will do and what the Mayor will influenc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GLA Group working with Partner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yor has key strategic and influencing role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LDA folding in to GLA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Aligning resources of partners towards the Mayor’s priorities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Implementation Plan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Draft IP has been developed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Structured around the actions stated in the EDS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dentifies sub-actions and either direct delivery or influencing roles for the GLA Group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dentifies who we will work with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To be published later in the year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Some key issues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28180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intaining economic diversity: finance and business services; media/culture/creative; digital/tech; many other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intaining competitiveness: tax, regulation, immigration,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conomic opportunity: LLW, apprenticeships, tackling worklessness, up-skilling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298440" indent="-29844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Changing national framework: demand-led skills system, Single Work Programme, LEPs etc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3366"/>
                </a:solidFill>
                <a:latin typeface="Foundry Form Sans"/>
              </a:rPr>
              <a:t>Thank You</a:t>
            </a:r>
            <a:endParaRPr b="1" lang="en-US" sz="72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9680" y="207144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 algn="ctr">
              <a:spcBef>
                <a:spcPts val="11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Foundry Form Sans"/>
              </a:rPr>
              <a:t>Any Questions?</a:t>
            </a:r>
            <a:endParaRPr b="0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London’s economy – fundamental strengths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9680" y="213336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31280" indent="-4312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Vast, global city econom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431280" indent="-4312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Job growth of 800,000 between 1996 and 2008; possibly another 750,000 by 2031 – 5.45 million in total. 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431280" indent="-4312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International centre of trade and innovation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431280" indent="-4312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Resilient, diverse econom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431280" indent="-431280"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Strong globally competitive position</a:t>
            </a: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London’s economy – potential threats 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9680" y="238104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Threats to competitiveness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Worklessness and skills 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Responding to climate change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  <a:p>
            <a:pPr>
              <a:spcBef>
                <a:spcPts val="901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 </a:t>
            </a:r>
            <a:r>
              <a:rPr b="0" lang="en-GB" sz="3600" spc="-1" strike="noStrike">
                <a:solidFill>
                  <a:srgbClr val="003366"/>
                </a:solidFill>
                <a:latin typeface="Foundry Form Sans"/>
              </a:rPr>
              <a:t>Quality of Life</a:t>
            </a:r>
            <a:endParaRPr b="0" lang="en-US" sz="36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LONDON skyline"/>
          <p:cNvPicPr/>
          <p:nvPr/>
        </p:nvPicPr>
        <p:blipFill>
          <a:blip r:embed="rId1"/>
          <a:stretch/>
        </p:blipFill>
        <p:spPr>
          <a:xfrm>
            <a:off x="500040" y="357120"/>
            <a:ext cx="849960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LONDON skyline"/>
          <p:cNvPicPr/>
          <p:nvPr/>
        </p:nvPicPr>
        <p:blipFill>
          <a:blip r:embed="rId1"/>
          <a:stretch/>
        </p:blipFill>
        <p:spPr>
          <a:xfrm>
            <a:off x="357120" y="571680"/>
            <a:ext cx="8577360" cy="53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LONDON skyline"/>
          <p:cNvPicPr/>
          <p:nvPr/>
        </p:nvPicPr>
        <p:blipFill>
          <a:blip r:embed="rId1"/>
          <a:stretch/>
        </p:blipFill>
        <p:spPr>
          <a:xfrm>
            <a:off x="333360" y="214200"/>
            <a:ext cx="869328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LONDON skyline"/>
          <p:cNvPicPr/>
          <p:nvPr/>
        </p:nvPicPr>
        <p:blipFill>
          <a:blip r:embed="rId1"/>
          <a:stretch/>
        </p:blipFill>
        <p:spPr>
          <a:xfrm>
            <a:off x="1000080" y="0"/>
            <a:ext cx="6792840" cy="6478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3366"/>
                </a:solidFill>
                <a:latin typeface="Foundry Form Sans"/>
              </a:rPr>
              <a:t>Cities and Growth</a:t>
            </a:r>
            <a:endParaRPr b="1" lang="en-US" sz="4800" spc="-1" strike="noStrike">
              <a:solidFill>
                <a:srgbClr val="003366"/>
              </a:solidFill>
              <a:latin typeface="Foundry Form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Marshall, Krugman, etc. – agglomeration economies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Jane Jacobs – economic diversit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Ed Glaeser - proximity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Foundry Form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Foundry Form Sans"/>
              </a:rPr>
              <a:t>The world is spiky or flat? Or both?</a:t>
            </a:r>
            <a:endParaRPr b="0" lang="en-US" sz="3200" spc="-1" strike="noStrike">
              <a:solidFill>
                <a:srgbClr val="003366"/>
              </a:solidFill>
              <a:latin typeface="Foundry Form San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5:49:05Z</dcterms:created>
  <dc:creator>GLA</dc:creator>
  <dc:description/>
  <dc:language>en-US</dc:language>
  <cp:lastModifiedBy>LSE</cp:lastModifiedBy>
  <dcterms:modified xsi:type="dcterms:W3CDTF">2011-01-31T13:09:36Z</dcterms:modified>
  <cp:revision>160</cp:revision>
  <dc:subject/>
  <dc:title>Title of slideshow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C2CD458C61BDD211A6C60000F803191607006B8DE02DDCFED111A6A00000F80319160000017B8FF70000AD42036E36716A42B2CCAD907DA85524000004B8FF5D0000</vt:lpwstr>
  </property>
  <property fmtid="{D5CDD505-2E9C-101B-9397-08002B2CF9AE}" pid="3" name="_TentativeReviewCycleID">
    <vt:r8>1318787051</vt:r8>
  </property>
</Properties>
</file>