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51AF-5A78-4E55-A773-5C0EBEB5B9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7BB-279C-456E-BB98-73766630D2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3B70-41A3-45C0-A17F-984AC72AC6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910908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Unicode MS"/>
              </a:rPr>
              <a:t>Who makes it up the London Escalator?</a:t>
            </a:r>
            <a:br>
              <a:rPr sz="3200"/>
            </a:br>
            <a:r>
              <a:rPr b="1" lang="en-US" sz="2800" spc="-1" strike="noStrike">
                <a:solidFill>
                  <a:srgbClr val="3333ff"/>
                </a:solidFill>
                <a:latin typeface="Arial Unicode MS"/>
              </a:rPr>
              <a:t>ambition, migration and advancement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 Unicode MS"/>
              </a:rPr>
              <a:t>in a big city labour market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 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1056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an Gor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  <a:ea typeface="Times New Roman"/>
              </a:rPr>
              <a:t>Geography Department and Spatial Economics Research Centre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Times New Roman"/>
              </a:rPr>
              <a:t>London School of Economic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LSE London Monday seminar,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17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 January 2011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2" name="Picture 4" descr="SERC logo colour rgb"/>
          <p:cNvPicPr/>
          <p:nvPr/>
        </p:nvPicPr>
        <p:blipFill>
          <a:blip r:embed="rId1"/>
          <a:stretch/>
        </p:blipFill>
        <p:spPr>
          <a:xfrm>
            <a:off x="6858000" y="5143680"/>
            <a:ext cx="19432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2. Sketch of Theory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quiring Competenc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ocational Implications and Selectiv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gnall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ife / career Cycl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ummary of Expect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Acquiring competence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17859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 elements of human capit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atic: current competences of value for some activitie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ynamic: capacity/disposition (‘ambition’) to use opportunities on/around job (or study) to add, develop/extend competen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ariability of jobs in opportunities for competence dev.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herently – in relation to job requirements (specialisation, programmability, novelty/proximity to cutting-edg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y design – employers’ choice to inhibit / encourage workers efforts to develop competences of value inside/outside org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Locational Implications &amp; Selectivity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152352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orkers with strong disposition / capacity to develop HC on the job should choos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Jobs with more positive opportunit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ocations with more such job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ense / dynamic flexible labour marke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ith maximum chances to secure financial rewards for acquired HC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ithout  need to incur high movement cost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To organise lives to minimise costs of any necessary move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articular attraction to agglomerations with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High order/non-routine func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Many employers + Flexible / high turnover labour markets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mployers needing such workers (learners / explorers) should also be drawn the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Signalling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ormation is problematic / asymmetric both fo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ynamic aspect of Human Capit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t certified – and may lap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portunities for development offered by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oth workers and firms with real interest in development may signal this b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cating in dense agglomerations with many similar employers, despit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igher money wage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ot particularly high real wages (for competence levels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ife / Career cycl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ople initially attracted to, and benefitting from agglomerations for HC developmental reasons may subsequently move on becaus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terest, capacity and benefits from further on job/local learning diminish with age / success / superior knowledg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r individual and/or employ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cidental cultural characteristics of dynamic / developmental agglomerations fall off /invert with age / success / sta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Summary of Expectation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31640" y="1413000"/>
            <a:ext cx="7561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Escalating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= combined effect of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dividuals’ dynamic HC / ambi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rms’ need for/tolerance of learners in partic job typ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ick, competitive urban labour marke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Geography of escalator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consequence of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patial selectiveness of (a) and (b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lus  agglomeration effects on (c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Very uneven outcomes individually and spatially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s consequence of positive feedback between the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aybe just one dominant escalat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Occupational advancement = key motive for migratio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2 distinct forms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ternal (non-localised) labour markets – career track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ter-firm, private markets with stronger spatialised charact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Migrant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should advance fast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partly as effect of self-selec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191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 Unicode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Scaling the Occupational Ladder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6729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ant a continuous measure of progres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f. Fielding focus on discrete inter-class shift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Job types involve unique combinations of human capit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quired for and / or generated by the wor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n competitive lm:  pay rates reflect prices for each ele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d  reflecting overall s &amp; d: marginal prod + marginal cos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d 2-dimensional job classificatio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 digit occupations (371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 managerial / supervisory status categor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JS scale value for each =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verage hourly earnings (LFS) - logg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mbining direct and regression estimates, depending on 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tandardised for contextual influence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year, region, firm siz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333360"/>
            <a:ext cx="87152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 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Measure of Ambition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920" y="1197000"/>
            <a:ext cx="691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Conceived of as  -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 disposition to seek advancement by acquiring employment-relevant human and social capita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Distinct from (immediate) material objectives  / needs – and from social function of wor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Measure  -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based on two pairs of questions from 1991 /1999 BHPS waves about two most important aspects of ‘work’ and a desirable job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Scoring positively: </a:t>
            </a: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promotion, career, initiative, job cont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Scoring negatively:  </a:t>
            </a: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to afford essentials, people’s compan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Ignoring: </a:t>
            </a: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pay, security, hours, relations with manag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U-shaped relation with (current) age  -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pparently lowered when first enter couplehoo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= part of reason for rather weak correlation across wav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operational measure based on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(a) standardising for age &amp; and scaling to 0-1 range; then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(b) averaging 1991 and 1999 score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Related positively to qualifications + parental social cla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lso current region of residence, but not that of birthplac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effect rather than cause 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3 Modelling Issu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laining levels or chang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rade-off = sample sizes versus process inter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oth used he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e significance of lagged dependent variab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real effect of depreciation of human capital ? and/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purious reflection of measurement errors + other transient ‘noise’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ome efforts at modelling – but results here based on trial valu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igh proportion of JS ‘stayers’ – esp. in short run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under-stated where measurement / coding not consist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exclude (at least for sig tests) becaus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non-normal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J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Escalators paved with gold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504684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301840" cy="33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80000" y="4396320"/>
            <a:ext cx="41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rt spreading the news   ...... these vagabond shoes are longing to stray ..... right through the very heart of 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17 year JS Change (BHPS)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523880" y="1600200"/>
          <a:ext cx="5962680" cy="47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59626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Two Data Source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abour Force Surve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Regular, factual, very large sampl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ongitudinal element only 12 months, b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5 quarter panel structure – all vars but no movers and ?of coding consistenc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Job / residence year ago ?s for all – memory but consist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ritish Household Panel Stu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8 waves 1991-2008 with core of repeated questions + occasional extra attitudinal on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ch smaller sample subject to attrition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Unicode MS"/>
              </a:rPr>
              <a:t>RESUL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407628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. Levels of Occupational Attain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evel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FS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 given age + qualifications: JS sco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uch higher for those working in Central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high also for rest of Greater South Ea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nly 2 of other 7 conurbations above UK aver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gnificant contributor to core’s higher earnings / productiv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HPS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mbition as important as qualificat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amily background matt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on of current residence (all of GSE) significant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ot that of birth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6920" y="843120"/>
            <a:ext cx="7705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7398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407628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2. Occupational Progression over Tim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hang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LFS (1 year)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ll under 50s with degrees progress a bit  mo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But effect really concentrated among sub-set who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migrated inter-regionally; and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work in Central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BHPS (15 years)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part from those gaining new qualifs (degree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Escalator benefit concentrated o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 Unicode MS"/>
              </a:rPr>
              <a:t>Ambitious people spending time as GSE resid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619280" y="611280"/>
            <a:ext cx="6769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94000" y="476280"/>
            <a:ext cx="6607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But Who Makes it Up 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aybe not the poor orphan of lege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rary to popular belief, Dick Whittington was not a poor, ill-treated orphan who managed against all the odds to work his way up to Lord Mayor. Coming from a wealthy family, Richard Whittington had a successful business and civic career before he became Lord Mayor. [and] carved out a successful business career in a very practical way as a mercer (dealer in costly fabrics such as silk), wool merchant and royal financier’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Corporation of London web si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568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eems clear evidence of escalator effects fo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entral London workers and/or GSE resid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ybe largely for migra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may just reflect selection effect for ‘ambition’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combination of Ambition + time in core region seems to be crucial to ‘moving on up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t either on their ow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At least consistent with sketched ‘theory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22" name="Rectangle 3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6228000" cy="378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2301840" cy="3338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00360" cy="2176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796000" y="3921120"/>
            <a:ext cx="33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But perhaps the most professionally ambitiou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0" y="1981080"/>
            <a:ext cx="62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 want to wake up in a city, that never sleeps .. and find I’m a number one .. top of the list, king of the hill …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f I can make it there, I’m gonna make it anywhere ….  It’s up to you ……’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New York, New Y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en we started, the limits of our ambition was just to be the best f ...ing band in London. We disdained the provinces; it was a real London mind-set.  But once the world beckoned ……… ’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K. Richards,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Lif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681440"/>
            <a:ext cx="2700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Or the Foxiest 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3786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ext and motiv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ketch of theor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ults from LFS and BHPS analys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me conclus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text &amp; Motiva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tex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1066680"/>
            <a:ext cx="77724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art of SERC project on skills, migration and labour mark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ith Champion/Coombes  (working on Census LS data cf LFS / BHPS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spired by Fielding’s classic papers on South East England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=extended London region)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s ‘escalator region’ in 1970s/8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eeking to update/extend to wider range of British city-reg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Given even greater concentration of graduate jobs in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Unicode MS"/>
              </a:rPr>
              <a:t>50% above average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Unicode MS"/>
              </a:rPr>
              <a:t>75% filled by migrants from RUK / overseas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Unicode MS"/>
              </a:rPr>
              <a:t>All net RUK migrants now graduates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nd shift focus from inter-class mobility to human capital acquisition + selectivity of mobility / effects &amp; people vs plac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via Glaeser et al on agglomeration / labour market effect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tential policy interests in relation to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T equity / efficiency impacts of agglomerating advanced jobs in co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+   Question of how far life chances (for natives) really vary between core / periphery -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f migration can get you on the escalator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What Needs to be Explained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16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tylised Facts from Fielding studi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xisting workers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(as well as entrants from education)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move further/faster up occupational ladder if based in London/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ffect is particularly strong for migrants to the reg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significant proportion of the beneficiaries subsequently move 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ore generally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y it is that young/qualified migrants are drawn to dynamic city economies - if real incomes for given jobs/quals are no higher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= Aspect of a more general issue for neo-classical models of labour migr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f migration is equilibriating but costly, why does any individual choose to make a move  - rather than wait for others to do so 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20:34Z</dcterms:created>
  <dc:creator>Administrator</dc:creator>
  <dc:description/>
  <dc:language>en-US</dc:language>
  <cp:lastModifiedBy>LSE</cp:lastModifiedBy>
  <dcterms:modified xsi:type="dcterms:W3CDTF">2011-01-17T13:44:10Z</dcterms:modified>
  <cp:revision>58</cp:revision>
  <dc:subject/>
  <dc:title>Worklessness in London:  disentangling structural effects from demand pressure in an open spatial labour market</dc:title>
</cp:coreProperties>
</file>