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12.png" ContentType="image/png"/>
  <Override PartName="/ppt/media/image8.wmf" ContentType="image/x-wmf"/>
  <Override PartName="/ppt/media/image13.png" ContentType="image/png"/>
  <Override PartName="/ppt/media/image6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7E98-0AE5-4AB8-9BF9-1BDEB3E6DD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A438-8205-47B2-B478-7BEEA9013F0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654B-859F-4492-8BB1-A5F8B6B4529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339480" indent="-3394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Line 7"/>
          <p:cNvSpPr/>
          <p:nvPr/>
        </p:nvSpPr>
        <p:spPr>
          <a:xfrm>
            <a:off x="304920" y="3808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8"/>
          <p:cNvSpPr/>
          <p:nvPr/>
        </p:nvSpPr>
        <p:spPr>
          <a:xfrm>
            <a:off x="1371600" y="6629400"/>
            <a:ext cx="739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676520" y="6477120"/>
            <a:ext cx="723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457200" y="304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Picture 15" descr="lselogosm"/>
          <p:cNvPicPr/>
          <p:nvPr/>
        </p:nvPicPr>
        <p:blipFill>
          <a:blip r:embed="rId2"/>
          <a:stretch/>
        </p:blipFill>
        <p:spPr>
          <a:xfrm>
            <a:off x="304920" y="55627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910908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 Unicode MS"/>
              </a:rPr>
              <a:t>Who makes it up the London Escalator?</a:t>
            </a:r>
            <a:br>
              <a:rPr sz="3200"/>
            </a:br>
            <a:r>
              <a:rPr b="1" lang="en-US" sz="2800" spc="-1" strike="noStrike">
                <a:solidFill>
                  <a:srgbClr val="3333ff"/>
                </a:solidFill>
                <a:latin typeface="Arial Unicode MS"/>
              </a:rPr>
              <a:t>ambition, migration and advancement </a:t>
            </a: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Arial Unicode MS"/>
              </a:rPr>
              <a:t>in a big city labour market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Arial"/>
              </a:rPr>
              <a:t>  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3047760"/>
            <a:ext cx="6910560" cy="25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an Gord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  <a:ea typeface="Times New Roman"/>
              </a:rPr>
              <a:t>Geography Department and Spatial Economics Research Centre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  <a:ea typeface="Times New Roman"/>
              </a:rPr>
              <a:t>London School of Economic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Times New Roman"/>
              </a:rPr>
              <a:t>LSE London Monday seminar,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Times New Roman"/>
              </a:rPr>
              <a:t>17</a:t>
            </a:r>
            <a:r>
              <a:rPr b="0" lang="en-US" sz="1400" spc="-1" strike="noStrike" baseline="30000">
                <a:solidFill>
                  <a:srgbClr val="008000"/>
                </a:solidFill>
                <a:latin typeface="Arial"/>
                <a:ea typeface="Times New Roman"/>
              </a:rPr>
              <a:t>th</a:t>
            </a: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Times New Roman"/>
              </a:rPr>
              <a:t> January 2011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2" name="Picture 4" descr="SERC logo colour rgb"/>
          <p:cNvPicPr/>
          <p:nvPr/>
        </p:nvPicPr>
        <p:blipFill>
          <a:blip r:embed="rId1"/>
          <a:stretch/>
        </p:blipFill>
        <p:spPr>
          <a:xfrm>
            <a:off x="6858000" y="5143680"/>
            <a:ext cx="194328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2. Sketch of Theory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Acquiring Competenc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Locational Implications and Selectivity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Signalling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Life / career Cycl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Summary of Expectation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1320" y="60912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</a:rPr>
              <a:t>Acquiring competences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371600" y="1785960"/>
            <a:ext cx="77724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wo elements of human capital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atic: current competences of value for some activities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ynamic: capacity/disposition (‘ambition’) to use opportunities on/around job (or study) to add, develop/extend competenc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Variability of jobs in opportunities for competence dev.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herently – in relation to job requirements (specialisation, programmability, novelty/proximity to cutting-edge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y design – employers’ choice to inhibit / encourage workers efforts to develop competences of value inside/outside org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 Unicode MS"/>
              </a:rPr>
              <a:t>Locational Implications &amp; Selectivity 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71600" y="1523520"/>
            <a:ext cx="77724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Workers with strong disposition / capacity to develop HC on the job should choose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Jobs with more positive opportuniti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Locations with more such job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Dense / dynamic flexible labour market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51560" indent="-210240"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with maximum chances to secure financial rewards for acquired HC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51560" indent="-210240"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without  need to incur high movement costs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To organise lives to minimise costs of any necessary movemen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→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particular attraction to agglomerations with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51560" indent="-21024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High order/non-routine function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Many employers + Flexible / high turnover labour markets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Employers needing such workers (learners / explorers) should also be drawn the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Signalling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3716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formation is problematic / asymmetric both for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ynamic aspect of Human Capita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ot certified – and may laps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Opportunities for development offered by job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oth workers and firms with real interest in development may signal this by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ocating in dense agglomerations with many similar employers, despite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igher money wages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ot particularly high real wages (for competence levels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Life / Career cycle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371600" y="1714680"/>
            <a:ext cx="777240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eople initially attracted to, and benefitting from agglomerations for HC developmental reasons may subsequently move on because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terest, capacity and benefits from further on job/local learning diminish with age / success / superior knowledg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or individual and/or employer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cidental cultural characteristics of dynamic / developmental agglomerations fall off /invert with age / success / stabilit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Unicode MS"/>
              </a:rPr>
              <a:t>Summary of Expectations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31640" y="1413000"/>
            <a:ext cx="7561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Escalating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= combined effect of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individuals’ dynamic HC / ambitio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firms’ need for/tolerance of learners in partic job typ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thick, competitive urban labour market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Geography of escalators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= consequence of;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patial selectiveness of (a) and (b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plus  agglomeration effects on (c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Very uneven outcomes individually and spatially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as consequence of positive feedback between thes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maybe just one dominant escalato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Occupational advancement = key motive for migration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in 2 distinct forms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internal (non-localised) labour markets – career track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inter-firm, private markets with stronger spatialised characte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Migrants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should advance faste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but partly as effect of self-selectio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b-NO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2160" y="191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 Unicode MS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</a:rPr>
              <a:t>Scaling the Occupational Ladder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240" y="1294920"/>
            <a:ext cx="6729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Want a continuous measure of progress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f. Fielding focus on discrete inter-class shift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Job types involve unique combinations of human capita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quired for and / or generated by the work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105000"/>
              </a:lnSpc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n competitive lm:  pay rates reflect prices for each elemen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105000"/>
              </a:lnSpc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nd  reflecting overall s &amp; d: marginal prod + marginal cost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Used 2-dimensional job classification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 digit occupations (371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 managerial / supervisory status categori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JS scale value for each =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verage hourly earnings (LFS) - logged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105000"/>
              </a:lnSpc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mbining direct and regression estimates, depending on n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5000"/>
              </a:lnSpc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tandardised for contextual influences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105000"/>
              </a:lnSpc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year, region, firm size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400" y="333360"/>
            <a:ext cx="87152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 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A Measure of Ambition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58920" y="1197000"/>
            <a:ext cx="6913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  <a:ea typeface="Times New Roman"/>
              </a:rPr>
              <a:t>Conceived of as  - </a:t>
            </a:r>
            <a:r>
              <a:rPr b="1" lang="en-GB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a disposition to seek advancement by acquiring employment-relevant human and social capital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Distinct from (immediate) material objectives  / needs – and from social function of work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  <a:ea typeface="Times New Roman"/>
              </a:rPr>
              <a:t>Measure  - </a:t>
            </a:r>
            <a:r>
              <a:rPr b="1" lang="en-GB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based on two pairs of questions from 1991 /1999 BHPS waves about two most important aspects of ‘work’ and a desirable job: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Scoring positively: </a:t>
            </a:r>
            <a:r>
              <a:rPr b="0" lang="en-GB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promotion, career, initiative, job conten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Scoring negatively:  </a:t>
            </a:r>
            <a:r>
              <a:rPr b="0" lang="en-GB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to afford essentials, people’s company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Ignoring: </a:t>
            </a:r>
            <a:r>
              <a:rPr b="0" lang="en-GB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pay, security, hours, relations with manager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  <a:ea typeface="Times New Roman"/>
              </a:rPr>
              <a:t>U-shaped relation with (current) age  - 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apparently lowered when first enter couplehood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= part of reason for rather weak correlation across waves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operational measure based on: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040"/>
                </a:solidFill>
                <a:latin typeface="Arial"/>
                <a:ea typeface="Times New Roman"/>
              </a:rPr>
              <a:t>(a) standardising for age &amp; and scaling to 0-1 range; then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040"/>
                </a:solidFill>
                <a:latin typeface="Arial"/>
                <a:ea typeface="Times New Roman"/>
              </a:rPr>
              <a:t>(b) averaging 1991 and 1999 scores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  <a:ea typeface="Times New Roman"/>
              </a:rPr>
              <a:t>Related positively to qualifications + parental social clas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Also current region of residence, but not that of birthplace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>
              <a:lnSpc>
                <a:spcPct val="100000"/>
              </a:lnSpc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404040"/>
                </a:solidFill>
                <a:latin typeface="Arial"/>
                <a:ea typeface="Times New Roman"/>
              </a:rPr>
              <a:t>effect rather than cause ?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3 Modelling Issue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Explaining levels or chang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trade-off = sample sizes versus process interes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both used her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The significance of lagged dependent variabl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real effect of depreciation of human capital ? and/or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purious reflection of measurement errors + other transient ‘noise’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ome efforts at modelling – but results here based on trial valu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High proportion of JS ‘stayers’ – esp. in short run;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under-stated where measurement / coding not consisten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but exclude (at least for sig tests) because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non-normal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J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Escalators paved with gold?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54" name="Rectangle 3" descr=""/>
          <p:cNvPicPr/>
          <p:nvPr/>
        </p:nvPicPr>
        <p:blipFill>
          <a:blip r:embed="rId1"/>
          <a:stretch/>
        </p:blipFill>
        <p:spPr>
          <a:xfrm>
            <a:off x="3132000" y="1700280"/>
            <a:ext cx="5046840" cy="2374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2301840" cy="3338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80000" y="4396320"/>
            <a:ext cx="410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tart spreading the news   ...... these vagabond shoes are longing to stray ..... right through the very heart of 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17 year JS Change (BHPS) 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523880" y="1600200"/>
          <a:ext cx="5962680" cy="47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596268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Unicode MS"/>
              </a:rPr>
              <a:t>Two Data Sources</a:t>
            </a:r>
            <a:endParaRPr b="0" lang="en-US" sz="32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Labour Force Survey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Regular, factual, very large sampl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Longitudinal element only 12 months, b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5 quarter panel structure – all vars but no movers and ?of coding consistency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Job / residence year ago ?s for all – memory but consisten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British Household Panel Stud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18 waves 1991-2008 with core of repeated questions + occasional extra attitudinal on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Much smaller sample subject to attrition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Unicode MS"/>
              </a:rPr>
              <a:t>RESULT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71600" y="407628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. Levels of Occupational Attainmen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Level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FS show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r given age + qualifications: JS scor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uch higher for those working in Central Londo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high also for rest of Greater South Eas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nly 2 of other 7 conurbations above UK averag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gnificant contributor to core’s higher earnings / productivit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HPS show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mbition as important as qualification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amily background matt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gion of current residence (all of GSE) significant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ot that of birth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826920" y="843120"/>
            <a:ext cx="77058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739800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71600" y="407628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2. Occupational Progression over Tim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hange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LFS (1 year) show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All under 50s with degrees progress a bit  mor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But effect really concentrated among sub-set who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migrated inter-regionally; and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Unicode MS"/>
              </a:rPr>
              <a:t>work in Central Londo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BHPS (15 years) show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Apart from those gaining new qualifs (degrees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Unicode MS"/>
              </a:rPr>
              <a:t>Escalator benefit concentrated on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 Unicode MS"/>
              </a:rPr>
              <a:t>Ambitious people spending time as GSE resident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1619280" y="611280"/>
            <a:ext cx="676908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494000" y="476280"/>
            <a:ext cx="660708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But Who Makes it Up ?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59280" y="1773000"/>
            <a:ext cx="60847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Maybe not the poor orphan of legen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ntrary to popular belief, Dick Whittington was not a poor, ill-treated orphan who managed against all the odds to work his way up to Lord Mayor. Coming from a wealthy family, Richard Whittington had a successful business and civic career before he became Lord Mayor. [and] carved out a successful business career in a very practical way as a mercer (dealer in costly fabrics such as silk), wool merchant and royal financier’.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 Unicode MS"/>
              </a:rPr>
              <a:t>Corporation of London web sit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25686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onclusion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onclusion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Seems clear evidence of escalator effects for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entral London workers and/or GSE residen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aybe largely for migran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ut may just reflect selection effect for ‘ambition’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The combination of Ambition + time in core region seems to be crucial to ‘moving on up’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Not either on their ow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At least consistent with sketched ‘theory’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122" name="Rectangle 3" descr=""/>
          <p:cNvPicPr/>
          <p:nvPr/>
        </p:nvPicPr>
        <p:blipFill>
          <a:blip r:embed="rId1"/>
          <a:stretch/>
        </p:blipFill>
        <p:spPr>
          <a:xfrm>
            <a:off x="2411280" y="404640"/>
            <a:ext cx="6228000" cy="3780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2301840" cy="3338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24000" y="4437000"/>
            <a:ext cx="2700360" cy="2176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796000" y="3921120"/>
            <a:ext cx="334800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Unicode MS"/>
              </a:rPr>
              <a:t>But perhaps the most professionally ambitious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16000" y="1981080"/>
            <a:ext cx="622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I want to wake up in a city, that never sleeps .. and find I’m a number one .. top of the list, king of the hill …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If I can make it there, I’m gonna make it anywhere ….  It’s up to you ……’ 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 Unicode MS"/>
              </a:rPr>
              <a:t>New York, New York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when we started, the limits of our ambition was just to be the best f ...ing band in London. We disdained the provinces; it was a real London mind-set.  But once the world beckoned ……… ’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K. Richards, </a:t>
            </a:r>
            <a:r>
              <a:rPr b="0" i="1" lang="en-GB" sz="2000" spc="-1" strike="noStrike">
                <a:solidFill>
                  <a:srgbClr val="000000"/>
                </a:solidFill>
                <a:latin typeface="Arial Unicode MS"/>
              </a:rPr>
              <a:t>Life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, 2010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4681440"/>
            <a:ext cx="27003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Or the Foxiest ?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37864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Outline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ontext and motivation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ketch of theory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thod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sults from LFS and BHPS analys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ome conclusion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ontext &amp; Motivation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ontex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371600" y="1066680"/>
            <a:ext cx="777240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Part of SERC project on skills, migration and labour marke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with Champion/Coombes  (working on Census LS data cf LFS / BHPS)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Inspired by Fielding’s classic papers on South East England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(=extended London region)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as ‘escalator region’ in 1970s/80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Seeking to update/extend to wider range of British city-region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Given even greater concentration of graduate jobs in Londo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97280" indent="-219240">
              <a:spcBef>
                <a:spcPts val="374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 Unicode MS"/>
              </a:rPr>
              <a:t>50% above average</a:t>
            </a:r>
            <a:endParaRPr b="0" lang="en-US" sz="15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97280" indent="-219240">
              <a:spcBef>
                <a:spcPts val="374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 Unicode MS"/>
              </a:rPr>
              <a:t>75% filled by migrants from RUK / overseas</a:t>
            </a:r>
            <a:endParaRPr b="0" lang="en-US" sz="15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97280" indent="-219240">
              <a:spcBef>
                <a:spcPts val="374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 Unicode MS"/>
              </a:rPr>
              <a:t>All net RUK migrants now graduates</a:t>
            </a:r>
            <a:endParaRPr b="0" lang="en-US" sz="15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nd shift focus from inter-class mobility to human capital acquisition + selectivity of mobility / effects &amp; people vs place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via Glaeser et al on agglomeration / labour market effects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Potential policy interests in relation to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LT equity / efficiency impacts of agglomerating advanced jobs in core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13160" indent="-274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+   Question of how far life chances (for natives) really vary between core / periphery - </a:t>
            </a:r>
            <a:r>
              <a:rPr b="0" lang="en-GB" sz="1400" spc="-1" strike="noStrike">
                <a:solidFill>
                  <a:srgbClr val="000000"/>
                </a:solidFill>
                <a:latin typeface="Arial Unicode MS"/>
              </a:rPr>
              <a:t>If migration can get you on the escalator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What Needs to be Explained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716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Stylised Facts from Fielding studie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Existing workers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(as well as entrants from education)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move further/faster up occupational ladder if based in London/S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Effect is particularly strong for migrants to the reg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But significant proportion of the beneficiaries subsequently move 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More generally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Why it is that young/qualified migrants are drawn to dynamic city economies - if real incomes for given jobs/quals are no higher ?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-2685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= Aspect of a more general issue for neo-classical models of labour migratio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if migration is equilibriating but costly, why does any individual choose to make a move  - rather than wait for others to do so ?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7T11:20:34Z</dcterms:created>
  <dc:creator>Administrator</dc:creator>
  <dc:description/>
  <dc:language>en-US</dc:language>
  <cp:lastModifiedBy>LSE</cp:lastModifiedBy>
  <dcterms:modified xsi:type="dcterms:W3CDTF">2011-01-17T13:44:10Z</dcterms:modified>
  <cp:revision>58</cp:revision>
  <dc:subject/>
  <dc:title>Worklessness in London:  disentangling structural effects from demand pressure in an open spatial labour market</dc:title>
</cp:coreProperties>
</file>