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ECC-0E9F-46B2-A2EB-55A64DE64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937B-3A97-41A5-83CA-69EBFA130B6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BF25-F320-4E8C-9138-347109C041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85E-7733-4B70-BF3D-727919E6160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512-A4F2-49BA-A6D0-335CB59748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SERC logo colour rgb"/>
          <p:cNvPicPr/>
          <p:nvPr/>
        </p:nvPicPr>
        <p:blipFill>
          <a:blip r:embed="rId3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RC logo colour rgb"/>
          <p:cNvPicPr/>
          <p:nvPr/>
        </p:nvPicPr>
        <p:blipFill>
          <a:blip r:embed="rId3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ERC logo colour rgb"/>
          <p:cNvPicPr/>
          <p:nvPr/>
        </p:nvPicPr>
        <p:blipFill>
          <a:blip r:embed="rId4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THE PUZZLE OF WORKLESSNESS IN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57160" y="350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an Gor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Geography Department, LSE London and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Spatial Economics Research Cent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London School of Economic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LSE London semina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15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February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Two Labour Market Geographi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sts i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mand-press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till essentially N-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d changing north-south relativities simply reflec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cent employment growth differences  +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mpact of national economy on speed of adjustment via labour mig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thin north and south more local (urban-rural) differences reflecting primaril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pulation sorting and (marketable)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ersonal characteristic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fference is that migration equilibrates demand differences but not compositional effe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 geography of former is much smooth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odests121208.wmf"/>
          <p:cNvPicPr/>
          <p:nvPr/>
        </p:nvPicPr>
        <p:blipFill>
          <a:blip r:embed="rId1"/>
          <a:stretch/>
        </p:blipFill>
        <p:spPr>
          <a:xfrm>
            <a:off x="428760" y="571680"/>
            <a:ext cx="48448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ndd121208.wmf"/>
          <p:cNvPicPr/>
          <p:nvPr/>
        </p:nvPicPr>
        <p:blipFill>
          <a:blip r:embed="rId2"/>
          <a:stretch/>
        </p:blipFill>
        <p:spPr>
          <a:xfrm>
            <a:off x="4714920" y="5000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2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North-UK unemployment rate trends: actual and modelled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7286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Long Run Persistence in Conurbation Inactivity Level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57211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5718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3. How Far Personal Characteristics D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Personal Characteristics and Labour Market Outcom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‘job competition’ view personal characteristics affect individuals’ chances of being in work vi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position they are allocated in queue for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 well as influences on their decisions to participate or no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characteristics may also be a product of labour market experie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how they matter is contingent in bot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evailing employer attitudes,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intensity of competition for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are reflected in how population mix           affects area level outcom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Significant Influences on Chances of being Workless 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(GSE summer 2009)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ousing tenure:  mortgaged (-); social renter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thnicity/religion: white (-);  muslim (+, esp for women); language difficulty at work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amily status:  married/cohabiting (- - for men, + for women); women with child under 4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ge: young (16-24 +); old (over 60 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ducation:  no qualifications (+); later completion age (-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ealth: long term limiting condition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ol for these leav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ositive but non-significant London-GSE difference for U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more substantial reamaining diff in inactivity rat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1435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Significant Impacts on London/GSE diff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19200" y="1281240"/>
            <a:ext cx="62676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Demand slack, bumping down and marginalisati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 job competition model, if wages don’t adjust to fall in demand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Redundant workers regain employment by moving down a level in job hierarch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us displacing others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rowding the lowest tiers (where wages may adjust) beyond their capacity – leaving least desirable in unemploy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imilar affects among workless push some into LT unemployment and inactiv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ect this to persist beyond upturn until point    where slack is elimina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f London / GSE trends over 1980s/90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abour Market Slack &amp;&amp; London-GSE unemployment 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996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WHAT’s THE PUZZL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?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HIGH WORKLESS RATE in MOST ‘SUCCESSFUL’ CIT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orst (un)employment rates of any UK region before recess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orking-age employment rate still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 Unicode MS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lowest (behind NI) 2008/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t 69%:  cf. 73% across UK –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78% in rest of Greater South Eas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?    RELUCTANCE (over 30 years) to ACCEPT tha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GSE not London is the functional (closed) labour market reg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ts higher unemployment (at least) relative to RGSE simply due to having many more residents with disadvantaging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characteristics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?   CHANGE in LONDON’s POSITION over PAST DECAD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roader concern with ‘worklessness’ → disclosure of relatively high levels of (voluntary?) inactivity among London WA pop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al deterioration in some elements of worklessne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Trend Looked Rather Good, but ...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rgence in unemployment rates stopped soon af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it was not really evident in activity rat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flected some special factor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rowth of London’s student popula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of Muslim population with low female employment rat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more general growth in numbers reporting lack of interest in work (as well as lack of action to seek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Trends in London Worklessness 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lative to RGSE 1996-2009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755720" y="1928880"/>
            <a:ext cx="616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The London-RGSE Inactivity Rate Gap 1992-2005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1" name="Chart 3" descr=""/>
          <p:cNvPicPr/>
          <p:nvPr/>
        </p:nvPicPr>
        <p:blipFill>
          <a:blip r:embed="rId1"/>
          <a:stretch/>
        </p:blipFill>
        <p:spPr>
          <a:xfrm>
            <a:off x="1494000" y="1779480"/>
            <a:ext cx="60102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4. The Current Puzzle: Rising Voluntary Inactivity in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3 Conjectures about Voluntary Worklessness in Lond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reater concentration of people living outside the economic mainstream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lectively attracted to / produced by the metropolitan environ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 lack of part-time employment opportun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act of recent immigration from poor countries on wages in entry-level job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Alternative Life Styles/Condition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 non-economic attractions of London may include activities given priority over wor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/or stresses of metro life may alienate more people from social interactions including work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82152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London’s Lack of Part-time Work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ly salient for (voluntary) inactiv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9% nationally ‘expected’ in PT not FT 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ly lacking in Londo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0% of London jobs, 22% of Londoners; 27% in RUK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89% of Central London jobs are F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ly reflects pop mix ?  or supply-side constrai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re singles in Lond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ck of local, car accessible jobs ?  Or child care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t larger PT:FT earnings gap suggests primarily demand-side issu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Influences on PT Labour Demand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ractional demands for partic job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small establishm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ncentration of demand in peak hou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or local/personal service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loiting a reserve of cheap labo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ere others not available on FT basi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l likely to be less relevant in London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cale economies → more large establishm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ess local work + 24/7 consumption culture and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mmigrant labour poo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Immigration and the Bottom End of the Labour Marke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t is widely understood that immigration has more/less neutral impact on balance of labour supply/demand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 predictable impact on average wages / earnings levels: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 sig effects actually found in UK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 may affect distribution of earnings etc., depending on complementarity with domestic labour suppl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Some evidence of falling earnings at the botto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London case, can se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New migrants from poor countries initially concentrated in bottom 20% of job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Have depressed (relative/absolute) earnings there – by up to 15% in period of peak arrivals at/after millenniu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ducing employment growth there – but reducing employmen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centives for those with no access to other job typ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tentially →  growth of ‘voluntary’ ina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In-migration from Overseas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(per cap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7416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 bit of theory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Why demand doesn’t explain London’s level of worklessnes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ow far personal characteristics d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puzzle of voluntary inactivity in Lond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London Migrant Jobs by Type and Quintile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2005-6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157" name="Object 177"/>
          <p:cNvGraphicFramePr/>
          <p:nvPr/>
        </p:nvGraphicFramePr>
        <p:xfrm>
          <a:off x="1862280" y="1523880"/>
          <a:ext cx="54180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523880"/>
                    <a:ext cx="5418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178"/>
          <p:cNvSpPr/>
          <p:nvPr/>
        </p:nvSpPr>
        <p:spPr>
          <a:xfrm>
            <a:off x="7238880" y="1676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79"/>
          <p:cNvSpPr/>
          <p:nvPr/>
        </p:nvSpPr>
        <p:spPr>
          <a:xfrm>
            <a:off x="723888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80"/>
          <p:cNvSpPr/>
          <p:nvPr/>
        </p:nvSpPr>
        <p:spPr>
          <a:xfrm>
            <a:off x="1828800" y="5181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81"/>
          <p:cNvSpPr/>
          <p:nvPr/>
        </p:nvSpPr>
        <p:spPr>
          <a:xfrm>
            <a:off x="487692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82"/>
          <p:cNvSpPr/>
          <p:nvPr/>
        </p:nvSpPr>
        <p:spPr>
          <a:xfrm>
            <a:off x="57150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83"/>
          <p:cNvSpPr/>
          <p:nvPr/>
        </p:nvSpPr>
        <p:spPr>
          <a:xfrm>
            <a:off x="64008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84"/>
          <p:cNvSpPr/>
          <p:nvPr/>
        </p:nvSpPr>
        <p:spPr>
          <a:xfrm>
            <a:off x="1905120" y="251460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Relation between Years in UK and Working in Bottom Quintile Job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for Migrants from Poor Countries</a:t>
            </a:r>
            <a:endParaRPr b="0" lang="en-US" sz="2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643040" y="1285920"/>
            <a:ext cx="5500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Bottom Quintile Earning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Looking for Evidence on Thes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3920" y="150012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lternative Life Style’ via 2000 Psychiatric Morbidity Surve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ntrolling for mental illnesses / depression and drug / cannabis u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id not substantially reduce London differential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art-time Job Gap’ + ‘Migrant Wage’ effects tested b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serting measures of salience for indivs in LFS micro-data analyses for years 1996-2009 – across G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easures are logit estimates for probability of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eing in PT rather than FT job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orking in bottom quintile (lowest paid) job (occ/role) not high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stimated across UK in relation to personal characteristic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acted with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ondon dummy + share of PT jobs (for PT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97400" indent="-452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does it explain gap ?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ondon + relative wages in bottom quintilre (for Migrant Wage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97400" indent="-452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does it explain change in gap ?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Still Puzzling Away -  But …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vidence so far (at least) consistent with Migrant Wage s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o compositional factors also contribute to upward drift in London ina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till no evidence of substantial connections with local employment chan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o U/E in Outer London may be a little higher due to lack of job growth the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ominant explanation for high London worklessness is still personal characterist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Or rather: the way the labour market treats the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any case not primarily a simple matter of ‘skill’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. A Bit of Theo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7152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2 Key Perspectives on the Labour Market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t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a marke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Strong version = Thurow’s ‘price auction’ model: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eople choose to work or not at a going (market) wag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More generally: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upply, demand and their spatial/occ distribution interact and adapt strongly to each other and to shock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But dealing in a very </a:t>
            </a: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odd</a:t>
            </a: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 commodity: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Heterogeneous, subjective and recalcitrant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esenting  major problems for recruitment and contr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53560" indent="-508680"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How to identify potential productivity and then get it realised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→    </a:t>
            </a: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Likelihood of Thurow’s ‘job competition model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mpetition via (real / ascribed) characteristic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articularly for better / more secure job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Elements of Worklessness: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28840"/>
            <a:ext cx="74865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classic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Keynesian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omponents of unemploymen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mand – deficiency (DD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uctural – frictional influences on job-worker matching (SF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act so tha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D*SF should give UE r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F/DD should give Vac r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ith Vac/UE measuring pressure of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t spatial variations in UE rate only (not Vacs)     also reflect personal characteristics of resid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 vacancy: unemployment ratio meaningless                   for area comparis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. Why Demand Doesn’t Explain London’s Level of Worklessn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ooking for an Indicator of the Local Pressure of Deman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principle vacancy rates = best simple indicat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regular series have always bee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ry incomplet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iased down for areas such as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ccasional survey data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from Employer Skills Survey)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how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ry different pictu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rong demand pressure in London, close to that in west of G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cause of openness of TTWA level sub-labour markets demand pressure reflects not onl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l employment growth and (non-LM) mig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also both of these across hinterl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:\Documents and Settings\Owner\Desktop\Vacancies_structuralUE_TTWAs\vrate_ess_01map.wmf"/>
          <p:cNvPicPr/>
          <p:nvPr/>
        </p:nvPicPr>
        <p:blipFill>
          <a:blip r:embed="rId1"/>
          <a:stretch/>
        </p:blipFill>
        <p:spPr>
          <a:xfrm>
            <a:off x="428760" y="500040"/>
            <a:ext cx="5067000" cy="717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Owner\Desktop\Vacancies_structuralUE_TTWAs\vrate_enh_01map.wmf"/>
          <p:cNvPicPr/>
          <p:nvPr/>
        </p:nvPicPr>
        <p:blipFill>
          <a:blip r:embed="rId2"/>
          <a:stretch/>
        </p:blipFill>
        <p:spPr>
          <a:xfrm>
            <a:off x="4292640" y="-9360"/>
            <a:ext cx="48513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1:19:27Z</dcterms:created>
  <dc:creator>gordoni</dc:creator>
  <dc:description/>
  <dc:language>en-US</dc:language>
  <cp:lastModifiedBy>LSE</cp:lastModifiedBy>
  <dcterms:modified xsi:type="dcterms:W3CDTF">2010-02-15T14:45:26Z</dcterms:modified>
  <cp:revision>23</cp:revision>
  <dc:subject/>
  <dc:title>Seeking and Interpreting Evidence on the Effects  of Place and Population Mix: the case of Mixed Communities</dc:title>
</cp:coreProperties>
</file>