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19320" y="837720"/>
            <a:ext cx="4114800" cy="30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21840" y="4114800"/>
            <a:ext cx="5038920" cy="4562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0"/>
          </p:nvPr>
        </p:nvSpPr>
        <p:spPr>
          <a:xfrm>
            <a:off x="431640" y="457200"/>
            <a:ext cx="6112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B0DF-6EC8-47F5-ABD5-2557F55A1C9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hdr"/>
          </p:nvPr>
        </p:nvSpPr>
        <p:spPr>
          <a:xfrm>
            <a:off x="1204560" y="457200"/>
            <a:ext cx="5110200" cy="272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&lt;view|header and footer...&gt; to add a common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dt" idx="11"/>
          </p:nvPr>
        </p:nvSpPr>
        <p:spPr>
          <a:xfrm>
            <a:off x="1221840" y="8905680"/>
            <a:ext cx="503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9E64-C55E-4576-BECB-18E97734777E}" type="datetime2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iday 31 July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13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5759280" y="115920"/>
            <a:ext cx="75600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431640" y="457200"/>
            <a:ext cx="611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D9E3-C05A-4206-BD3C-A7B2E77B8DB2}" type="slidenum">
              <a:rPr b="0" lang="en-GB" sz="1200" spc="-1" strike="noStrike">
                <a:solidFill>
                  <a:srgbClr val="590f7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1204920" y="457200"/>
            <a:ext cx="5110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90f78"/>
                </a:solidFill>
                <a:latin typeface="Arial"/>
              </a:rPr>
              <a:t>Use &lt;view|header and footer...&gt; to add a common title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1222200" y="8906040"/>
            <a:ext cx="503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B687-2535-498D-A854-AB6958DE7728}" type="datetime2">
              <a:rPr b="0" lang="en-GB" sz="1200" spc="-1" strike="noStrike">
                <a:solidFill>
                  <a:srgbClr val="590f78"/>
                </a:solidFill>
                <a:latin typeface="Arial"/>
              </a:rPr>
              <a:t>Friday 31 July 2026</a:t>
            </a:fld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19320" y="83808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221840" y="4114800"/>
            <a:ext cx="503892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25494-1F8C-49AA-9D3E-52515DBFD0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85292-2F67-4FCE-96A5-5A4B92244A5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619E1F-7CCC-4004-A5AE-E2EF1B85F1A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1930B-E042-4D32-ACE0-3DD5077E67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87EA5-92E7-4DA6-B6D4-FAEBB112E1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AAA7BF-0067-441E-BD02-549368A3154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F3B9A-652F-4E95-B484-90E30CDBD16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AE060-B7A3-4F48-8CF5-E389B05DD52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9AE50D-CFBA-4E76-9B3B-A23273F764D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6C5C0-F55F-4BB8-B7C0-F7E2B41BD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71EC9-2005-4415-8920-652CC4591F4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F1208-4A15-44BC-B4F7-D5F88779F09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3F415-170B-477E-9F49-2F1A1351FD7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71944-484E-4F0B-A2E6-B86AF6AFCEF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195F2-DBAE-4E49-9438-99FBEB3FA82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35242-3444-45C5-82BA-6EB02F73468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921D2-6D0C-4644-8E57-62F6BF168A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D5217-8A2A-494C-A4AD-F0984DDCA52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B1522-46B0-4228-8AB0-C67AAC51F8B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781A9-24A9-4A77-A01A-722389317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C467F-C9D2-4747-B2F7-527D8ED48EF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1756-21A2-4D93-9FB2-8703535D57E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A0E6-724B-4E68-BCAA-5CE8870C0A6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F9DC0-7487-4F18-B2B1-BA1E9AC4009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CE97-D95D-4A45-8430-EA149E7E322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636A-6217-479F-AD77-A8D7501B79E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9128C-4234-4F47-9F53-F5AA9B66332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2156-9327-4966-A7AF-CFE200CFF30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405E-CF85-4709-BF7A-33808007B65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841C-35A1-47C6-A6D9-ACF9E6B1C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0144-8F7C-49A8-8E2B-5019A33FA8E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4EA0-1D3F-4EA8-9781-0680A05DDED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EF67-36AB-4F97-A106-E55AD95DDC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5FB8-F48F-4A0D-AC5B-61E7367C04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6100-5F89-4799-8529-DCC4C0C450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7098-0FAA-4A13-B025-9B2CFBD803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51BE-AE53-4A3B-96B5-2BD48D24F0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CD44-7F9C-4589-8809-F25F979C7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9C7E-4C20-4826-98A4-C9B4A6D75A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D366-9518-4C27-BA19-BF1AD01407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C99B-EBA0-4DC7-8740-3189E44220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5686-677D-43E1-A0E4-1B77F0DF5F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B7F6-B1B7-4F3A-9E8D-CE9CE8CACA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02E2-518B-41AC-B74D-1689CD1158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BEBB-5D64-4D21-9E00-AE205928D4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7E2C-978C-4DA9-9A03-E50AD3B2FD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D0E7-EEF7-4FDC-BD12-A5709AE1FB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F686-8002-4701-8034-C41D4F4CC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5F83-A886-4B98-B00F-3CB24D7AD4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E0CD-2501-40FB-9014-70545F26F9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AA20-8AD2-47D9-828D-69E9FD569A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BBBA5-42F6-4530-8209-DB96ADD6ED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A4C5-FA2D-420F-BD93-0353E39A5F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EB94-38F5-4CD9-94E5-2635CBFD1B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BA4B-38C1-4A9E-A12A-2B989EB97D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37B9-9C65-4FF1-93F0-F8FD891941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737D-2A9D-4F96-9202-46DB558D54E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9C7-FF13-435D-A597-FB49CAA0D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DCD-28E6-470C-A300-48454F3E396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1C5-9AB2-4FC8-B9B8-CA2CDF9488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002-9F7F-43B0-91CC-AA6489EE224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121-3D76-4930-B99F-B949386E704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D2B-F4FD-42D6-9B17-5034E2A816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52F-FF9A-486D-82DA-8405195006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B75-E941-490A-AF22-58CAA8BD25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0E6-05E6-4EC6-BE87-0C0E4AC471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D18-82CE-4C85-A4CA-3284E7182C6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AB5-C522-4C97-A48A-F0C0A4959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8DC-D029-4B0C-8B53-A5D1842B6AF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EDC9C-2B30-41B7-BA18-3FD428E15BD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D266C-ECE1-458F-8168-4D567B465A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13215-3F87-4E9F-962A-226A598387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2AD2F-1E8B-4FC0-90F1-621F6A07982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30481-1A82-42C9-AA67-7C86F76B51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613A4-C2DF-47CF-AFE6-40BFDCE7AE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0F737-24B7-427A-AA52-EF1288CDAE3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F4F05-A609-4C89-9C3C-D3F482C690B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D71AD-2F1E-4BD2-8283-C8B28A924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602A4-2856-4BDB-B1D8-C44051A1DD0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EBC5F-1730-4BBB-84B8-67B21ECBDF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CF5D7-6023-42E2-99F6-AF9E42D60CF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F68AD-E6E5-4331-9EDF-E4430F5D8B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08EFA-6398-420D-979C-B499AACF16F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7C88F-87BD-4BC1-A498-FF1D9736BFE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991D0-8177-4714-82FF-1F38CF486E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F361F-A4D3-45E9-9B7C-C912C9F1252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38486-D6AC-438A-B810-35685FDFBF1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6608C-B5C3-4A22-82F1-88025E3AE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C9450-BE36-46D5-A5A0-EC9DEE54F35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2252F-D7C6-456B-93BD-D71938E5B85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5A7E7-96D8-44EA-9BC6-A4B1F60DBB9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B837E-78D1-429E-8EF9-0B00945599C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F0737-FE02-4E24-A075-15F19D6B4FB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B5D1-4AFF-472C-A727-6F98BE24A1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6D2E-AE3E-4FA2-83A0-5A74DD4DEA4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4563-266A-437D-BEE3-0832CD99F67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04AB-0A50-4057-87D9-F398D2BD286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F221-D127-4A3D-857E-35481906E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6085-973F-44CA-88F9-8B6D19A162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213D-2BB5-41FC-92C3-8BF043EFD77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5CC9-15B5-44AD-978B-3BE926889C6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D3DF-CCCD-4D70-9B6D-8DEBF910C11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5179-A779-4294-A435-8F5A8BA3C6C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F7BD-A386-46C2-AC6B-34200F565B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671E-9A9E-4DC0-B42E-ADC413463D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9644B-9F18-48DF-AA94-A1DE686D013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5F61CA-31B0-4BA4-89EB-5CABAC7B8A9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BEDEEA-3371-4BEE-A25D-2BEBEAF10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2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3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8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7749-C9A5-4FCE-9806-BD88A57A54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9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90f7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C8DC-B9C2-486A-BCDB-C737163C8DB8}" type="slidenum">
              <a:rPr b="0" lang="en-US" sz="2400" spc="-1" strike="noStrike">
                <a:solidFill>
                  <a:srgbClr val="590f7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47"/>
          <p:cNvSpPr/>
          <p:nvPr/>
        </p:nvSpPr>
        <p:spPr>
          <a:xfrm>
            <a:off x="0" y="1135080"/>
            <a:ext cx="9144000" cy="5722920"/>
          </a:xfrm>
          <a:prstGeom prst="rect">
            <a:avLst/>
          </a:prstGeom>
          <a:solidFill>
            <a:srgbClr val="590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41" name="Picture 1044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45"/>
          <p:cNvSpPr/>
          <p:nvPr/>
        </p:nvSpPr>
        <p:spPr>
          <a:xfrm>
            <a:off x="100980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1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6932-2B2D-4EBA-B2DF-114193598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2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2BB9-DF39-4DA9-B070-7E4D3BB603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3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768B-20B2-49E2-AB89-81D1A016EE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4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38C5-5A63-4851-946F-93422A07C1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5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5AFD-E06B-4CF8-A278-4FE3EF3D11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6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2BAE-875C-48BC-B5AC-C279F34A77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7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19A3-8A03-4970-8E50-0997FA8EE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tal Plac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don’s public spending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00080" y="3285720"/>
            <a:ext cx="6518160" cy="178596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ban &amp; Regional Economic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t Term Seminar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SE London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anuary 2010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6858000" y="5857920"/>
            <a:ext cx="166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k Sorabji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porate Director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cy &amp; Public Affairs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London spend viewed from Whitehal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857240" y="1643040"/>
          <a:ext cx="5024520" cy="5029200"/>
        </p:xfrm>
        <a:graphic>
          <a:graphicData uri="http://schemas.openxmlformats.org/drawingml/2006/table">
            <a:tbl>
              <a:tblPr/>
              <a:tblGrid>
                <a:gridCol w="857520"/>
                <a:gridCol w="2492280"/>
                <a:gridCol w="1674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nd £m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WP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,119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H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773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MT &amp; HMRC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754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CFS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065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fT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046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IUS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445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O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38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MoJ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12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CLG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09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CMS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39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MoD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efra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31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ECC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36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BERR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2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484" name="TextBox 3"/>
          <p:cNvSpPr/>
          <p:nvPr/>
        </p:nvSpPr>
        <p:spPr>
          <a:xfrm>
            <a:off x="7645680" y="635796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2008/9 figures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NDPB London spending 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857160" y="1500120"/>
          <a:ext cx="7358040" cy="4824360"/>
        </p:xfrm>
        <a:graphic>
          <a:graphicData uri="http://schemas.openxmlformats.org/drawingml/2006/table">
            <a:tbl>
              <a:tblPr/>
              <a:tblGrid>
                <a:gridCol w="2030400"/>
                <a:gridCol w="1398600"/>
                <a:gridCol w="1428840"/>
                <a:gridCol w="250020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ies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nd £m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bodies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conomic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38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Recrea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duca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52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ealth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76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Public order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Social Protec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29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ousing &amp; Community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9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General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nvironmental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642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69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487" name="TextBox 4"/>
          <p:cNvSpPr/>
          <p:nvPr/>
        </p:nvSpPr>
        <p:spPr>
          <a:xfrm>
            <a:off x="7645680" y="635796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2008/9 figures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Players in one policy area:</a:t>
            </a:r>
            <a:br>
              <a:rPr sz="3200"/>
            </a:b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Economic Affair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2786040" y="1308240"/>
          <a:ext cx="5572080" cy="5549760"/>
        </p:xfrm>
        <a:graphic>
          <a:graphicData uri="http://schemas.openxmlformats.org/drawingml/2006/table">
            <a:tbl>
              <a:tblPr/>
              <a:tblGrid>
                <a:gridCol w="1857240"/>
                <a:gridCol w="2583000"/>
                <a:gridCol w="1131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ation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nd £m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Local Authorities - transport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358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ational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ational Bodies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314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JCP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71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Big Lottery Fund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71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Local authorities – not transport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64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PSRC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8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Technology Strategy Board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ealth &amp; Safety Commission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BBSRC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SE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orse Race Betting Levy Board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FSA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Visit Britain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Others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27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490" name="TextBox 3"/>
          <p:cNvSpPr/>
          <p:nvPr/>
        </p:nvSpPr>
        <p:spPr>
          <a:xfrm>
            <a:off x="1359360" y="658188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2008/9 figures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Hidden ideas in </a:t>
            </a:r>
            <a:r>
              <a:rPr b="0" i="1" lang="en-US" sz="3200" spc="-1" strike="noStrike">
                <a:solidFill>
                  <a:srgbClr val="590f78"/>
                </a:solidFill>
                <a:latin typeface="Arial"/>
              </a:rPr>
              <a:t>Total Place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13880" y="1571400"/>
            <a:ext cx="777420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Reorganisat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Not practical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ollaboration: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Aligns delivery 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Supports person focu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Unlocks new delivery chain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Accelerates innovation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Major influences on public service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The national policy environment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Lack of local incentiv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3" name="TextBox 3"/>
          <p:cNvSpPr/>
          <p:nvPr/>
        </p:nvSpPr>
        <p:spPr>
          <a:xfrm>
            <a:off x="1875960" y="6286680"/>
            <a:ext cx="56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9008a"/>
                </a:solidFill>
                <a:latin typeface="Arial"/>
              </a:rPr>
              <a:t>Total Place </a:t>
            </a: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as a critique of the traditional Whitehall approach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86439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rom efficiency to innovation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42600" y="1928520"/>
            <a:ext cx="380988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0f78"/>
                </a:solidFill>
                <a:uFillTx/>
                <a:latin typeface="Arial"/>
              </a:rPr>
              <a:t>Efficiency saving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More tasks per hour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Bulk purchase saving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vasive’ control system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More ticket machin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590f78"/>
                </a:solidFill>
                <a:uFillTx/>
                <a:latin typeface="Arial"/>
              </a:rPr>
              <a:t>Doing things better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3280" y="1928520"/>
            <a:ext cx="381168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0f78"/>
                </a:solidFill>
                <a:uFillTx/>
                <a:latin typeface="Arial"/>
              </a:rPr>
              <a:t>Process improvemen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Eliminate task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ifferent purchas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Automatic’ control system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Oyster Card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590f78"/>
                </a:solidFill>
                <a:uFillTx/>
                <a:latin typeface="Arial"/>
              </a:rPr>
              <a:t>Doing better thing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2097000" y="6143760"/>
            <a:ext cx="523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Thinking differently delivers more than squeezing harder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82868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0f78"/>
                </a:solidFill>
                <a:latin typeface="Arial"/>
              </a:rPr>
              <a:t>London Councils’ Strategic Themes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713880" y="1714320"/>
            <a:ext cx="777420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0f78"/>
                </a:solidFill>
                <a:latin typeface="Arial"/>
                <a:ea typeface="Arial"/>
              </a:rPr>
              <a:t>Devolution</a:t>
            </a:r>
            <a:r>
              <a:rPr b="1" lang="en-US" sz="1800" spc="-1" strike="noStrike">
                <a:solidFill>
                  <a:srgbClr val="590f78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– because we believe devolution to our boroughs </a:t>
            </a:r>
            <a:r>
              <a:rPr b="0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ensures better results for Londoners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0f78"/>
                </a:solidFill>
                <a:latin typeface="Arial"/>
                <a:ea typeface="Arial"/>
              </a:rPr>
              <a:t>Partnership</a:t>
            </a:r>
            <a:r>
              <a:rPr b="1" lang="en-US" sz="1800" spc="-1" strike="noStrike">
                <a:solidFill>
                  <a:srgbClr val="590f78"/>
                </a:solidFill>
                <a:latin typeface="Arial"/>
                <a:ea typeface="Arial"/>
              </a:rPr>
              <a:t> – </a:t>
            </a:r>
            <a:r>
              <a:rPr b="1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because we believe our partnership expertise </a:t>
            </a:r>
            <a:r>
              <a:rPr b="0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delivers local feel and London scale; so driving innovation and efficiency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0f78"/>
                </a:solidFill>
                <a:latin typeface="Arial"/>
                <a:ea typeface="Arial"/>
              </a:rPr>
              <a:t>Democracy and trust </a:t>
            </a:r>
            <a:r>
              <a:rPr b="1" lang="en-US" sz="1800" spc="-1" strike="noStrike">
                <a:solidFill>
                  <a:srgbClr val="590f78"/>
                </a:solidFill>
                <a:latin typeface="Arial"/>
                <a:ea typeface="Arial"/>
              </a:rPr>
              <a:t>– </a:t>
            </a:r>
            <a:r>
              <a:rPr b="1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because we believe clear </a:t>
            </a:r>
            <a:r>
              <a:rPr b="0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accountability and real engagement with Londoners happens best at borough level. London boroughs aim to be every Londoner’s first choice for a fair hearing and a fair deal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0f78"/>
                </a:solidFill>
                <a:latin typeface="Arial"/>
                <a:ea typeface="Arial"/>
              </a:rPr>
              <a:t>Resources and risks </a:t>
            </a:r>
            <a:r>
              <a:rPr b="1" lang="en-US" sz="1800" spc="-1" strike="noStrike">
                <a:solidFill>
                  <a:srgbClr val="590f78"/>
                </a:solidFill>
                <a:latin typeface="Arial"/>
                <a:ea typeface="Arial"/>
              </a:rPr>
              <a:t>– </a:t>
            </a:r>
            <a:r>
              <a:rPr b="1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because we believe London </a:t>
            </a:r>
            <a:r>
              <a:rPr b="0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boroughs have the confidence and talent to take on challenges and the associated risks that others are too remote to handle.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0" name="TextBox 5"/>
          <p:cNvSpPr/>
          <p:nvPr/>
        </p:nvSpPr>
        <p:spPr>
          <a:xfrm>
            <a:off x="1748520" y="6000840"/>
            <a:ext cx="565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9008a"/>
                </a:solidFill>
                <a:latin typeface="Arial"/>
              </a:rPr>
              <a:t>Total Place </a:t>
            </a: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can help map out our vision of a new relationship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between central and local government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Managing chronic care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13880" y="1714320"/>
            <a:ext cx="7774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1.3m registered case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900,000  with 3+ condition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72% hospital bed day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65% out patient appointment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osts in London £5 bill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£3 billion NHS, £2 billion social servic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New approaches to chronic care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13880" y="178596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New approache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Prevention &amp; early intervent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Self directed care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Joint service desig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Diabetes £590m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Projected saving £100m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All chronic care extrapolated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Saving £880m, 18%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2960" y="1071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Anti social behaviour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713880" y="185724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ost to London public services £500m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Local authority costs £330m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Youth Offending Team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£150m related cos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Economic cost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Lifetime truancy extrapolated costs £500m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Londoners in prison costs £900m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18,000 adult Londoners in prison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New approaches to ASB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0f78"/>
                </a:solidFill>
                <a:latin typeface="Arial"/>
              </a:rPr>
              <a:t>16 types of public service organisation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0f78"/>
                </a:solidFill>
                <a:latin typeface="Arial"/>
              </a:rPr>
              <a:t>New approache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Personalised intervention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Early act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Systems joined up locally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0f78"/>
                </a:solidFill>
                <a:latin typeface="Arial"/>
              </a:rPr>
              <a:t>Projected savings to the state £85m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0f78"/>
                </a:solidFill>
                <a:latin typeface="Arial"/>
              </a:rPr>
              <a:t>Economic &amp; social savings uncosted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What is Total Place?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713880" y="135720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CLG sponsored pilo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HMT &amp; Cabinet Office suppor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13 pilot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April 2009 to April 2010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A whole area approach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oing better with les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70~ informal pilo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Individual authoritie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London mapp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Strand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ount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ustomer insigh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2583360" y="6519960"/>
            <a:ext cx="38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Trying to go beyond SRB, LAA  and MAA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2960" y="92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Obstacles to work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42960" y="1714320"/>
            <a:ext cx="777384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ost of worklessness £5 bill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New approache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Jointly designed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evolve to integrate system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tegrated case manager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Retain central system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centives for individuals &amp; organisation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Projected savings £630m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creased tax £440m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Implications of PwC research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13880" y="178596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Drivers of better with les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Early interventio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Life stage gap identificatio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Personalisatio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Self direction – guided &amp; unguided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Designed by and around the person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Integrated case management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Not re-organisation but: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Devolve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Integrate funding streams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Outcomes of better for les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£10.65 billion analysed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Projected £1.6 billion saving – 15%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If could apply to all state spending in London saving ~ £11 billio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4" name="TextBox 4"/>
          <p:cNvSpPr/>
          <p:nvPr/>
        </p:nvSpPr>
        <p:spPr>
          <a:xfrm>
            <a:off x="2486880" y="2349360"/>
            <a:ext cx="399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0f78"/>
                </a:solidFill>
                <a:latin typeface="Arial"/>
              </a:rPr>
              <a:t>Total Place</a:t>
            </a:r>
            <a:endParaRPr b="0" lang="en-US" sz="60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0f78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0f78"/>
                </a:solidFill>
                <a:latin typeface="Arial"/>
              </a:rPr>
              <a:t>context</a:t>
            </a:r>
            <a:endParaRPr b="0" lang="en-US" sz="60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0f78"/>
                </a:solidFill>
                <a:latin typeface="Arial"/>
              </a:rPr>
              <a:t>Total Place: changing public service?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713880" y="185724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elivery chain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rocess improv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itizen driven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ommon value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ommon outcome target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Relational marke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ommissioning driven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Scale to influence supplier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ersonalisation close to the customer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Market platforms integrating the two: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eBay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7" name="TextBox 3"/>
          <p:cNvSpPr/>
          <p:nvPr/>
        </p:nvSpPr>
        <p:spPr>
          <a:xfrm>
            <a:off x="2127600" y="6357960"/>
            <a:ext cx="46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Routes to collaboration without permanent merger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864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rst steps in process improvemen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785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Customer focus </a:t>
            </a:r>
            <a:r>
              <a:rPr b="0" lang="en-US" sz="2400" spc="-1" strike="noStrike" u="sng">
                <a:solidFill>
                  <a:srgbClr val="590f78"/>
                </a:solidFill>
                <a:uFillTx/>
                <a:latin typeface="Arial"/>
              </a:rPr>
              <a:t>is</a:t>
            </a: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 efficiency focu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Processes often designed for a structure that was replaced long ago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Between department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Within department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T provides management controls that do not obstruct delivery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Front line staff usually know how a process could be improved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The hard part is getting them to tell you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Middle managers have the hardest time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2286000" y="92700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1" name="TextBox 5"/>
          <p:cNvSpPr/>
          <p:nvPr/>
        </p:nvSpPr>
        <p:spPr>
          <a:xfrm>
            <a:off x="845640" y="6215040"/>
            <a:ext cx="717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Redesigning delivery chains around the customer exposes ineffective delivery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13880" y="928800"/>
            <a:ext cx="7000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A process model of local governmen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3" name="Oval 3"/>
          <p:cNvSpPr/>
          <p:nvPr/>
        </p:nvSpPr>
        <p:spPr>
          <a:xfrm>
            <a:off x="1176480" y="2995560"/>
            <a:ext cx="99036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Contract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4" name="Oval 4"/>
          <p:cNvSpPr/>
          <p:nvPr/>
        </p:nvSpPr>
        <p:spPr>
          <a:xfrm>
            <a:off x="1500120" y="5429160"/>
            <a:ext cx="990720" cy="68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5" name="Oval 5"/>
          <p:cNvSpPr/>
          <p:nvPr/>
        </p:nvSpPr>
        <p:spPr>
          <a:xfrm>
            <a:off x="185760" y="4138560"/>
            <a:ext cx="990720" cy="6858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6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 Sector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6" name="Oval 6"/>
          <p:cNvSpPr/>
          <p:nvPr/>
        </p:nvSpPr>
        <p:spPr>
          <a:xfrm>
            <a:off x="1938240" y="4138560"/>
            <a:ext cx="990720" cy="68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7" name="Oval 7"/>
          <p:cNvSpPr/>
          <p:nvPr/>
        </p:nvSpPr>
        <p:spPr>
          <a:xfrm>
            <a:off x="4300560" y="4138560"/>
            <a:ext cx="990720" cy="68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8" name="Oval 8"/>
          <p:cNvSpPr/>
          <p:nvPr/>
        </p:nvSpPr>
        <p:spPr>
          <a:xfrm>
            <a:off x="5214960" y="2928960"/>
            <a:ext cx="990720" cy="6858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3rd Sector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9" name="Oval 9"/>
          <p:cNvSpPr/>
          <p:nvPr/>
        </p:nvSpPr>
        <p:spPr>
          <a:xfrm>
            <a:off x="5929200" y="3786120"/>
            <a:ext cx="9907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Contract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0" name="Oval 10"/>
          <p:cNvSpPr/>
          <p:nvPr/>
        </p:nvSpPr>
        <p:spPr>
          <a:xfrm>
            <a:off x="5643720" y="5214960"/>
            <a:ext cx="990360" cy="68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1" name="Oval 11"/>
          <p:cNvSpPr/>
          <p:nvPr/>
        </p:nvSpPr>
        <p:spPr>
          <a:xfrm>
            <a:off x="4071960" y="5357880"/>
            <a:ext cx="990720" cy="68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2" name="Freeform 15"/>
          <p:cNvSpPr/>
          <p:nvPr/>
        </p:nvSpPr>
        <p:spPr>
          <a:xfrm>
            <a:off x="566640" y="4519440"/>
            <a:ext cx="7162920" cy="1638360"/>
          </a:xfrm>
          <a:prstGeom prst="pie">
            <a:avLst/>
          </a:prstGeom>
          <a:noFill/>
          <a:ln w="76320">
            <a:solidFill>
              <a:srgbClr val="590f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3" name="Freeform 16"/>
          <p:cNvSpPr/>
          <p:nvPr/>
        </p:nvSpPr>
        <p:spPr>
          <a:xfrm>
            <a:off x="2424240" y="3448080"/>
            <a:ext cx="5410080" cy="1460520"/>
          </a:xfrm>
          <a:prstGeom prst="pie">
            <a:avLst/>
          </a:prstGeom>
          <a:noFill/>
          <a:ln w="57240">
            <a:solidFill>
              <a:srgbClr val="590f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4" name="Oval 13"/>
          <p:cNvSpPr/>
          <p:nvPr/>
        </p:nvSpPr>
        <p:spPr>
          <a:xfrm flipV="1" rot="10800000">
            <a:off x="8071920" y="2142000"/>
            <a:ext cx="785880" cy="4357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5" name="TextBox 14"/>
          <p:cNvSpPr/>
          <p:nvPr/>
        </p:nvSpPr>
        <p:spPr>
          <a:xfrm>
            <a:off x="8193960" y="428616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Citizen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6" name="TextBox 15"/>
          <p:cNvSpPr/>
          <p:nvPr/>
        </p:nvSpPr>
        <p:spPr>
          <a:xfrm>
            <a:off x="2717280" y="6215040"/>
            <a:ext cx="17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(internal customers)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7" name="Isosceles Triangle 16"/>
          <p:cNvSpPr/>
          <p:nvPr/>
        </p:nvSpPr>
        <p:spPr>
          <a:xfrm>
            <a:off x="209520" y="2019240"/>
            <a:ext cx="7215120" cy="42148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cxnSp>
        <p:nvCxnSpPr>
          <p:cNvPr id="538" name="Curved Connector 25"/>
          <p:cNvCxnSpPr/>
          <p:nvPr/>
        </p:nvCxnSpPr>
        <p:spPr>
          <a:xfrm>
            <a:off x="2352240" y="3376080"/>
            <a:ext cx="1715400" cy="1072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590f78"/>
            </a:solidFill>
            <a:miter/>
            <a:tailEnd len="med" type="arrow" w="med"/>
          </a:ln>
        </p:spPr>
      </p:cxnSp>
      <p:sp>
        <p:nvSpPr>
          <p:cNvPr id="539" name="TextBox 18"/>
          <p:cNvSpPr/>
          <p:nvPr/>
        </p:nvSpPr>
        <p:spPr>
          <a:xfrm>
            <a:off x="3212640" y="171468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Local Authority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0f78"/>
                </a:solidFill>
                <a:latin typeface="Arial"/>
              </a:rPr>
              <a:t>Delivering through networks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14240" y="1500120"/>
            <a:ext cx="78501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Understanding others’ business model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Bringing common values to surface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Communication across all level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Co-ordination not control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Education as influence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0f78"/>
                </a:solidFill>
                <a:latin typeface="Arial"/>
              </a:rPr>
              <a:t>Become the network hub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0f78"/>
                </a:solidFill>
                <a:latin typeface="Arial"/>
              </a:rPr>
              <a:t>Strengthen the network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42" name="TextBox 3"/>
          <p:cNvSpPr/>
          <p:nvPr/>
        </p:nvSpPr>
        <p:spPr>
          <a:xfrm>
            <a:off x="2241000" y="5715000"/>
            <a:ext cx="48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Both more flexible and more fragile than hierarchies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raditional local government:</a:t>
            </a:r>
            <a:br>
              <a:rPr sz="3200"/>
            </a:b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Hierarchies and contrac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grpSp>
        <p:nvGrpSpPr>
          <p:cNvPr id="544" name="Organization Chart 2"/>
          <p:cNvGrpSpPr/>
          <p:nvPr/>
        </p:nvGrpSpPr>
        <p:grpSpPr>
          <a:xfrm>
            <a:off x="1835280" y="2455920"/>
            <a:ext cx="5076720" cy="2996640"/>
            <a:chOff x="1835280" y="2455920"/>
            <a:chExt cx="5076720" cy="2996640"/>
          </a:xfrm>
        </p:grpSpPr>
        <p:cxnSp>
          <p:nvCxnSpPr>
            <p:cNvPr id="545" name="_s1028"/>
            <p:cNvCxnSpPr>
              <a:stCxn id="546" idx="0"/>
              <a:endCxn id="547" idx="2"/>
            </p:cNvCxnSpPr>
            <p:nvPr/>
          </p:nvCxnSpPr>
          <p:spPr>
            <a:xfrm flipV="1">
              <a:off x="6141600" y="4773600"/>
              <a:ext cx="252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48" name="_s1029"/>
            <p:cNvCxnSpPr>
              <a:stCxn id="547" idx="0"/>
              <a:endCxn id="549" idx="2"/>
            </p:cNvCxnSpPr>
            <p:nvPr/>
          </p:nvCxnSpPr>
          <p:spPr>
            <a:xfrm flipV="1">
              <a:off x="6141600" y="4094640"/>
              <a:ext cx="252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50" name="_s1030"/>
            <p:cNvCxnSpPr>
              <a:stCxn id="551" idx="0"/>
              <a:endCxn id="552" idx="2"/>
            </p:cNvCxnSpPr>
            <p:nvPr/>
          </p:nvCxnSpPr>
          <p:spPr>
            <a:xfrm flipV="1">
              <a:off x="4373640" y="4773600"/>
              <a:ext cx="216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53" name="_s1031"/>
            <p:cNvCxnSpPr>
              <a:stCxn id="552" idx="0"/>
              <a:endCxn id="554" idx="2"/>
            </p:cNvCxnSpPr>
            <p:nvPr/>
          </p:nvCxnSpPr>
          <p:spPr>
            <a:xfrm flipV="1">
              <a:off x="4373640" y="4094640"/>
              <a:ext cx="216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55" name="_s1032"/>
            <p:cNvCxnSpPr>
              <a:stCxn id="556" idx="0"/>
              <a:endCxn id="557" idx="2"/>
            </p:cNvCxnSpPr>
            <p:nvPr/>
          </p:nvCxnSpPr>
          <p:spPr>
            <a:xfrm flipV="1">
              <a:off x="2605320" y="4773600"/>
              <a:ext cx="216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58" name="_s1033"/>
            <p:cNvCxnSpPr>
              <a:stCxn id="557" idx="0"/>
              <a:endCxn id="559" idx="2"/>
            </p:cNvCxnSpPr>
            <p:nvPr/>
          </p:nvCxnSpPr>
          <p:spPr>
            <a:xfrm flipV="1">
              <a:off x="2605320" y="4094640"/>
              <a:ext cx="216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60" name="_s1034"/>
            <p:cNvCxnSpPr>
              <a:stCxn id="549" idx="0"/>
              <a:endCxn id="561" idx="2"/>
            </p:cNvCxnSpPr>
            <p:nvPr/>
          </p:nvCxnSpPr>
          <p:spPr>
            <a:xfrm flipV="1" rot="16200000">
              <a:off x="5144400" y="2392560"/>
              <a:ext cx="226800" cy="176904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62" name="_s1035"/>
            <p:cNvCxnSpPr>
              <a:stCxn id="554" idx="0"/>
              <a:endCxn id="561" idx="2"/>
            </p:cNvCxnSpPr>
            <p:nvPr/>
          </p:nvCxnSpPr>
          <p:spPr>
            <a:xfrm flipV="1">
              <a:off x="4373640" y="3164040"/>
              <a:ext cx="216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63" name="_s1036"/>
            <p:cNvCxnSpPr>
              <a:stCxn id="559" idx="0"/>
              <a:endCxn id="561" idx="2"/>
            </p:cNvCxnSpPr>
            <p:nvPr/>
          </p:nvCxnSpPr>
          <p:spPr>
            <a:xfrm flipH="1" flipV="1" rot="5400000">
              <a:off x="3376080" y="2392920"/>
              <a:ext cx="226800" cy="176904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590f78"/>
              </a:solidFill>
              <a:miter/>
            </a:ln>
          </p:spPr>
        </p:cxnSp>
        <p:sp>
          <p:nvSpPr>
            <p:cNvPr id="561" name="_s1037"/>
            <p:cNvSpPr/>
            <p:nvPr/>
          </p:nvSpPr>
          <p:spPr>
            <a:xfrm>
              <a:off x="3687840" y="2455920"/>
              <a:ext cx="1371600" cy="70848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Council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Executive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9" name="_s1038"/>
            <p:cNvSpPr/>
            <p:nvPr/>
          </p:nvSpPr>
          <p:spPr>
            <a:xfrm>
              <a:off x="1835280" y="3390840"/>
              <a:ext cx="1539720" cy="7041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Children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4" name="_s1039"/>
            <p:cNvSpPr/>
            <p:nvPr/>
          </p:nvSpPr>
          <p:spPr>
            <a:xfrm>
              <a:off x="3603600" y="3390840"/>
              <a:ext cx="1540080" cy="7041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Environment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49" name="_s1040"/>
            <p:cNvSpPr/>
            <p:nvPr/>
          </p:nvSpPr>
          <p:spPr>
            <a:xfrm>
              <a:off x="5372280" y="3390840"/>
              <a:ext cx="1539720" cy="7041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7" name="_s1041"/>
            <p:cNvSpPr/>
            <p:nvPr/>
          </p:nvSpPr>
          <p:spPr>
            <a:xfrm>
              <a:off x="1919520" y="43214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6" name="_s1042"/>
            <p:cNvSpPr/>
            <p:nvPr/>
          </p:nvSpPr>
          <p:spPr>
            <a:xfrm>
              <a:off x="1919520" y="50000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2" name="_s1043"/>
            <p:cNvSpPr/>
            <p:nvPr/>
          </p:nvSpPr>
          <p:spPr>
            <a:xfrm>
              <a:off x="3687840" y="43214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1" name="_s1044"/>
            <p:cNvSpPr/>
            <p:nvPr/>
          </p:nvSpPr>
          <p:spPr>
            <a:xfrm>
              <a:off x="3687840" y="50000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47" name="_s1045"/>
            <p:cNvSpPr/>
            <p:nvPr/>
          </p:nvSpPr>
          <p:spPr>
            <a:xfrm>
              <a:off x="5456160" y="43214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46" name="_s1046"/>
            <p:cNvSpPr/>
            <p:nvPr/>
          </p:nvSpPr>
          <p:spPr>
            <a:xfrm>
              <a:off x="5456160" y="50000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</p:grpSp>
      <p:sp>
        <p:nvSpPr>
          <p:cNvPr id="564" name="AutoShape 34"/>
          <p:cNvSpPr/>
          <p:nvPr/>
        </p:nvSpPr>
        <p:spPr>
          <a:xfrm>
            <a:off x="7429680" y="3429000"/>
            <a:ext cx="1441440" cy="720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CT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5" name="Line 36"/>
          <p:cNvSpPr/>
          <p:nvPr/>
        </p:nvSpPr>
        <p:spPr>
          <a:xfrm>
            <a:off x="7072200" y="3714840"/>
            <a:ext cx="287280" cy="0"/>
          </a:xfrm>
          <a:prstGeom prst="line">
            <a:avLst/>
          </a:prstGeom>
          <a:ln w="57240">
            <a:solidFill>
              <a:srgbClr val="590f7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6" name="AutoShape 37"/>
          <p:cNvSpPr/>
          <p:nvPr/>
        </p:nvSpPr>
        <p:spPr>
          <a:xfrm>
            <a:off x="3643200" y="5857920"/>
            <a:ext cx="1368360" cy="576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Contractor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7" name="AutoShape 39"/>
          <p:cNvSpPr/>
          <p:nvPr/>
        </p:nvSpPr>
        <p:spPr>
          <a:xfrm>
            <a:off x="5500800" y="5857920"/>
            <a:ext cx="1296720" cy="5745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 Sector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Contractor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8" name="Line 41"/>
          <p:cNvSpPr/>
          <p:nvPr/>
        </p:nvSpPr>
        <p:spPr>
          <a:xfrm>
            <a:off x="4357800" y="5572080"/>
            <a:ext cx="0" cy="216000"/>
          </a:xfrm>
          <a:prstGeom prst="line">
            <a:avLst/>
          </a:prstGeom>
          <a:ln w="57240">
            <a:solidFill>
              <a:srgbClr val="590f7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9" name="Line 42"/>
          <p:cNvSpPr/>
          <p:nvPr/>
        </p:nvSpPr>
        <p:spPr>
          <a:xfrm>
            <a:off x="6143760" y="5572080"/>
            <a:ext cx="0" cy="216000"/>
          </a:xfrm>
          <a:prstGeom prst="line">
            <a:avLst/>
          </a:prstGeom>
          <a:ln w="57240">
            <a:solidFill>
              <a:srgbClr val="590f7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0" name="Line 43"/>
          <p:cNvSpPr/>
          <p:nvPr/>
        </p:nvSpPr>
        <p:spPr>
          <a:xfrm>
            <a:off x="4500720" y="3429000"/>
            <a:ext cx="0" cy="216000"/>
          </a:xfrm>
          <a:prstGeom prst="line">
            <a:avLst/>
          </a:prstGeom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Emerging local government:</a:t>
            </a:r>
            <a:br>
              <a:rPr sz="3200"/>
            </a:b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Hubs and network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2" name="Oval 5"/>
          <p:cNvSpPr/>
          <p:nvPr/>
        </p:nvSpPr>
        <p:spPr>
          <a:xfrm>
            <a:off x="3300480" y="3135240"/>
            <a:ext cx="792000" cy="503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LA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3" name="Oval 7"/>
          <p:cNvSpPr/>
          <p:nvPr/>
        </p:nvSpPr>
        <p:spPr>
          <a:xfrm>
            <a:off x="5316480" y="2198520"/>
            <a:ext cx="792360" cy="50328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4" name="Oval 8"/>
          <p:cNvSpPr/>
          <p:nvPr/>
        </p:nvSpPr>
        <p:spPr>
          <a:xfrm>
            <a:off x="1139760" y="3495600"/>
            <a:ext cx="792360" cy="503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5" name="Oval 9"/>
          <p:cNvSpPr/>
          <p:nvPr/>
        </p:nvSpPr>
        <p:spPr>
          <a:xfrm>
            <a:off x="4214880" y="3643200"/>
            <a:ext cx="792000" cy="503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6" name="Oval 10"/>
          <p:cNvSpPr/>
          <p:nvPr/>
        </p:nvSpPr>
        <p:spPr>
          <a:xfrm>
            <a:off x="5172120" y="3135240"/>
            <a:ext cx="792000" cy="503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LA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7" name="Oval 11"/>
          <p:cNvSpPr/>
          <p:nvPr/>
        </p:nvSpPr>
        <p:spPr>
          <a:xfrm>
            <a:off x="5245200" y="4359240"/>
            <a:ext cx="792000" cy="503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LA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8" name="Oval 12"/>
          <p:cNvSpPr/>
          <p:nvPr/>
        </p:nvSpPr>
        <p:spPr>
          <a:xfrm>
            <a:off x="3156120" y="4430880"/>
            <a:ext cx="792000" cy="502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LA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9" name="Oval 13"/>
          <p:cNvSpPr/>
          <p:nvPr/>
        </p:nvSpPr>
        <p:spPr>
          <a:xfrm>
            <a:off x="6396120" y="3206880"/>
            <a:ext cx="792000" cy="50328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0" name="Oval 14"/>
          <p:cNvSpPr/>
          <p:nvPr/>
        </p:nvSpPr>
        <p:spPr>
          <a:xfrm>
            <a:off x="5964120" y="5511960"/>
            <a:ext cx="792360" cy="50292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1" name="Oval 15"/>
          <p:cNvSpPr/>
          <p:nvPr/>
        </p:nvSpPr>
        <p:spPr>
          <a:xfrm>
            <a:off x="6396120" y="4359240"/>
            <a:ext cx="792000" cy="50328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4019400" y="5151600"/>
            <a:ext cx="792360" cy="502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2868480" y="2198520"/>
            <a:ext cx="792360" cy="50328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7188120" y="5367240"/>
            <a:ext cx="792360" cy="50328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7404120" y="4719600"/>
            <a:ext cx="792000" cy="503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1500120" y="2127240"/>
            <a:ext cx="792360" cy="503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1860480" y="5295960"/>
            <a:ext cx="792360" cy="503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7261200" y="2487600"/>
            <a:ext cx="792360" cy="503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9" name="Oval 24"/>
          <p:cNvSpPr/>
          <p:nvPr/>
        </p:nvSpPr>
        <p:spPr>
          <a:xfrm>
            <a:off x="2579760" y="2774880"/>
            <a:ext cx="3962160" cy="2376720"/>
          </a:xfrm>
          <a:prstGeom prst="ellipse">
            <a:avLst/>
          </a:prstGeom>
          <a:noFill/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0" name="Oval 25"/>
          <p:cNvSpPr/>
          <p:nvPr/>
        </p:nvSpPr>
        <p:spPr>
          <a:xfrm>
            <a:off x="779400" y="1839960"/>
            <a:ext cx="3457800" cy="2590920"/>
          </a:xfrm>
          <a:prstGeom prst="ellipse">
            <a:avLst/>
          </a:prstGeom>
          <a:noFill/>
          <a:ln w="9360">
            <a:solidFill>
              <a:srgbClr val="590f7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1" name="Oval 26"/>
          <p:cNvSpPr/>
          <p:nvPr/>
        </p:nvSpPr>
        <p:spPr>
          <a:xfrm>
            <a:off x="1571760" y="4071960"/>
            <a:ext cx="3457440" cy="2590920"/>
          </a:xfrm>
          <a:prstGeom prst="ellipse">
            <a:avLst/>
          </a:prstGeom>
          <a:noFill/>
          <a:ln w="9360">
            <a:solidFill>
              <a:srgbClr val="590f7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4884840" y="3927600"/>
            <a:ext cx="3457440" cy="2590560"/>
          </a:xfrm>
          <a:prstGeom prst="ellipse">
            <a:avLst/>
          </a:prstGeom>
          <a:noFill/>
          <a:ln w="9360">
            <a:solidFill>
              <a:srgbClr val="590f7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4811760" y="1695600"/>
            <a:ext cx="3457440" cy="2590560"/>
          </a:xfrm>
          <a:prstGeom prst="ellipse">
            <a:avLst/>
          </a:prstGeom>
          <a:noFill/>
          <a:ln w="9360">
            <a:solidFill>
              <a:srgbClr val="590f7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4" name="Text Box 47"/>
          <p:cNvSpPr/>
          <p:nvPr/>
        </p:nvSpPr>
        <p:spPr>
          <a:xfrm>
            <a:off x="6314400" y="255888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0f78"/>
                </a:solidFill>
                <a:latin typeface="Arial"/>
              </a:rPr>
              <a:t>children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5" name="Text Box 48"/>
          <p:cNvSpPr/>
          <p:nvPr/>
        </p:nvSpPr>
        <p:spPr>
          <a:xfrm>
            <a:off x="1820880" y="299088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0f78"/>
                </a:solidFill>
                <a:latin typeface="Arial"/>
              </a:rPr>
              <a:t>elders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6" name="Text Box 49"/>
          <p:cNvSpPr/>
          <p:nvPr/>
        </p:nvSpPr>
        <p:spPr>
          <a:xfrm>
            <a:off x="2950560" y="54388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0f78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7" name="Text Box 50"/>
          <p:cNvSpPr/>
          <p:nvPr/>
        </p:nvSpPr>
        <p:spPr>
          <a:xfrm>
            <a:off x="6118920" y="502776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0f78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5009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Place based public service pressure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13880" y="150012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Organisational listen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Neighbourhood flexibility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Strategic scrutiny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Leadership &amp; mobilisation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Shared service manag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artnership build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Multi agency accountability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ro-active economic develop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Market develop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erformance manag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Financial manag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Risk manag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785520" y="6273720"/>
            <a:ext cx="74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Place based public service requires new skills locally and new thinking nationally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1" name="TextBox 5"/>
          <p:cNvSpPr/>
          <p:nvPr/>
        </p:nvSpPr>
        <p:spPr>
          <a:xfrm rot="19858800">
            <a:off x="5753880" y="2018880"/>
            <a:ext cx="19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Arial"/>
              </a:rPr>
              <a:t>Closer to citizen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2" name="TextBox 7"/>
          <p:cNvSpPr/>
          <p:nvPr/>
        </p:nvSpPr>
        <p:spPr>
          <a:xfrm rot="19858800">
            <a:off x="5825160" y="3381120"/>
            <a:ext cx="19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Arial"/>
              </a:rPr>
              <a:t>Delivery through network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 rot="19858800">
            <a:off x="5712840" y="5219640"/>
            <a:ext cx="25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Arial"/>
              </a:rPr>
              <a:t>Managing uncertainty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Total Places: what &amp; where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714240" y="1643040"/>
            <a:ext cx="381024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Total Place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Birmingham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Bradford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Coventry, Solihull, Warwickshir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Croydon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Dorset, Poole, Bournemouth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Durham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Kent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Leicester &amp; Leicestershir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Lewisham 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Luton &amp; Central Bedfordshir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Manchester city region &amp; Warrington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South Tyneside, Gateshead, Sunderland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Worcestershir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643280" y="1714320"/>
            <a:ext cx="381168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olicy Theme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Alcohol &amp; drug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Health &amp; social care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Childre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High cost communitie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Young people &amp; employment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6" name="TextBox 6"/>
          <p:cNvSpPr/>
          <p:nvPr/>
        </p:nvSpPr>
        <p:spPr>
          <a:xfrm>
            <a:off x="2297520" y="6357960"/>
            <a:ext cx="473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Targeting wicked problems in diverse communities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What next for Total Place?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Government decision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 Budget?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onservative party considerat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 first 100 days?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Locally driven proposal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Kent: </a:t>
            </a:r>
            <a:r>
              <a:rPr b="0" i="1" lang="en-US" sz="2400" spc="-1" strike="noStrike">
                <a:solidFill>
                  <a:srgbClr val="590f78"/>
                </a:solidFill>
                <a:latin typeface="Arial"/>
              </a:rPr>
              <a:t>Bold steps for radical reform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London Councils’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Manifesto for Londoner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3299040" y="3071880"/>
            <a:ext cx="216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590f78"/>
                </a:solidFill>
                <a:latin typeface="Arial"/>
              </a:rPr>
              <a:t>End</a:t>
            </a:r>
            <a:endParaRPr b="0" lang="en-US" sz="88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Total Place : in its place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713880" y="178596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echnology &amp; public service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treamline central governmen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Senior Civil Service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Sharper delivery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Government efficiency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Including re-locat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otal Place &amp; Performance 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entral local framework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9" name="TextBox 7"/>
          <p:cNvSpPr/>
          <p:nvPr/>
        </p:nvSpPr>
        <p:spPr>
          <a:xfrm>
            <a:off x="1253520" y="6286680"/>
            <a:ext cx="72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Competing to be a priority in government response to public finance pressures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0f78"/>
                </a:solidFill>
                <a:latin typeface="Arial"/>
              </a:rPr>
              <a:t>Total Place</a:t>
            </a:r>
            <a:r>
              <a:rPr b="0" i="1" lang="en-US" sz="3600" spc="-1" strike="noStrike">
                <a:solidFill>
                  <a:srgbClr val="590f78"/>
                </a:solidFill>
                <a:latin typeface="Arial"/>
              </a:rPr>
              <a:t>: drivers &amp; destinations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13880" y="150012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Driven by: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Weaknesses in silo delivery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Public finance squeeze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Method: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Looks at all public service in a place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Identifies overlap and duplicatio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Redesigns to improve service &amp; efficiency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Goals: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Operational outcome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Service transformation plan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Early efficiencie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Understanding multi-organisation delivery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Strategic outcome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Creating incentives to innovate locally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Changing central government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72" name="TextBox 7"/>
          <p:cNvSpPr/>
          <p:nvPr/>
        </p:nvSpPr>
        <p:spPr>
          <a:xfrm>
            <a:off x="1785960" y="651996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40084"/>
                </a:solidFill>
                <a:latin typeface="Arial"/>
              </a:rPr>
              <a:t>Total Place</a:t>
            </a:r>
            <a:r>
              <a:rPr b="0" lang="en-US" sz="1600" spc="-1" strike="noStrike">
                <a:solidFill>
                  <a:srgbClr val="e40084"/>
                </a:solidFill>
                <a:latin typeface="Arial"/>
              </a:rPr>
              <a:t> is a theory as well as a national initiativ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London Councils’ </a:t>
            </a:r>
            <a:r>
              <a:rPr b="0" i="1" lang="en-US" sz="3200" spc="-1" strike="noStrike">
                <a:solidFill>
                  <a:srgbClr val="590f78"/>
                </a:solidFill>
                <a:latin typeface="Arial"/>
              </a:rPr>
              <a:t>local audit</a:t>
            </a: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PwC t</a:t>
            </a: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hinking with number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13880" y="1928520"/>
            <a:ext cx="777420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New perspectiv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By policy area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By organisational</a:t>
            </a: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rowding 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eeper investigation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Managing chronic care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Obstacles to work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Whole system approach to youth offend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ifferent focus to </a:t>
            </a:r>
            <a:r>
              <a:rPr b="0" i="1" lang="en-US" sz="2400" spc="-1" strike="noStrike">
                <a:solidFill>
                  <a:srgbClr val="590f78"/>
                </a:solidFill>
                <a:latin typeface="Arial"/>
              </a:rPr>
              <a:t>Total Place </a:t>
            </a: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pilo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entral government reform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Local solutions to national problem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Organisational evidence for London policy proposal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1886400" y="6286680"/>
            <a:ext cx="577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40099"/>
                </a:solidFill>
                <a:latin typeface="Arial"/>
              </a:rPr>
              <a:t>Focusing on the conditions for success more any one success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Total State spending in London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477" name="Chart 4" descr=""/>
          <p:cNvPicPr/>
          <p:nvPr/>
        </p:nvPicPr>
        <p:blipFill>
          <a:blip r:embed="rId1"/>
          <a:stretch/>
        </p:blipFill>
        <p:spPr>
          <a:xfrm>
            <a:off x="1500120" y="2143080"/>
            <a:ext cx="6096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0f78"/>
                </a:solidFill>
                <a:latin typeface="Arial"/>
              </a:rPr>
              <a:t>London locally managed spending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479" name="Chart 4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7151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London public spending 2008/09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857160" y="1500120"/>
          <a:ext cx="7358040" cy="5235480"/>
        </p:xfrm>
        <a:graphic>
          <a:graphicData uri="http://schemas.openxmlformats.org/drawingml/2006/table">
            <a:tbl>
              <a:tblPr/>
              <a:tblGrid>
                <a:gridCol w="1357560"/>
                <a:gridCol w="1095120"/>
                <a:gridCol w="1227240"/>
                <a:gridCol w="1225440"/>
                <a:gridCol w="1227240"/>
                <a:gridCol w="122544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£millions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PBs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efence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Recrea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6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7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General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9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8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28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ousing +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9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84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15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nvironment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7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6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conomic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3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4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52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67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Public order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16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93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639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duca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38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245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ealth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8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36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544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Social Protec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553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3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05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49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12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6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68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36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8:01:23Z</dcterms:created>
  <dc:creator>vyv</dc:creator>
  <dc:description>Version: 29 September 06</dc:description>
  <dc:language>en-US</dc:language>
  <cp:lastModifiedBy>Dick Sorabji</cp:lastModifiedBy>
  <cp:lastPrinted>2001-05-18T11:16:29Z</cp:lastPrinted>
  <dcterms:modified xsi:type="dcterms:W3CDTF">2010-01-25T09:23:51Z</dcterms:modified>
  <cp:revision>74</cp:revision>
  <dc:subject/>
  <dc:title>Please enter your title</dc:title>
</cp:coreProperties>
</file>