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19320" y="837720"/>
            <a:ext cx="4114800" cy="30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21840" y="4114800"/>
            <a:ext cx="50389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0"/>
          </p:nvPr>
        </p:nvSpPr>
        <p:spPr>
          <a:xfrm>
            <a:off x="431640" y="457200"/>
            <a:ext cx="6112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2305-3C3E-46E9-A0AE-690C6BBB273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hdr"/>
          </p:nvPr>
        </p:nvSpPr>
        <p:spPr>
          <a:xfrm>
            <a:off x="1204560" y="457200"/>
            <a:ext cx="5110200" cy="272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&lt;view|header and footer...&gt; to add a common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dt" idx="11"/>
          </p:nvPr>
        </p:nvSpPr>
        <p:spPr>
          <a:xfrm>
            <a:off x="1221840" y="8905680"/>
            <a:ext cx="503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0A69-05B9-4746-8E38-36C39120F137}" type="datetime2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rsday 30 July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13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5759280" y="115920"/>
            <a:ext cx="75600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431640" y="457200"/>
            <a:ext cx="611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DB65-4EA8-4844-99B2-FDFF6F774D64}" type="slidenum">
              <a:rPr b="0" lang="en-GB" sz="1200" spc="-1" strike="noStrike">
                <a:solidFill>
                  <a:srgbClr val="590f7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1204920" y="457200"/>
            <a:ext cx="511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90f78"/>
                </a:solidFill>
                <a:latin typeface="Arial"/>
              </a:rPr>
              <a:t>Use &lt;view|header and footer...&gt; to add a common titl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1222200" y="8906040"/>
            <a:ext cx="503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187A-EFE7-406F-8299-DBF92D1DB491}" type="datetime2">
              <a:rPr b="0" lang="en-GB" sz="1200" spc="-1" strike="noStrike">
                <a:solidFill>
                  <a:srgbClr val="590f78"/>
                </a:solidFill>
                <a:latin typeface="Arial"/>
              </a:rPr>
              <a:t>Thursday 30 July 2026</a:t>
            </a:fld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19320" y="83808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221840" y="4114800"/>
            <a:ext cx="50389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CFF04-C2F1-4625-99E5-02C042164C4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588D3-BCC4-4EF4-A5DF-9708EE9A0A4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37202-C6A9-4CB4-B584-DBAF643D1B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712E5-6C9A-463B-8071-ACC835254A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70879-11A3-4897-BA18-CE2CED824D6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09443-A76D-44DD-9C72-70BC47D8950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F341C-F998-4ECB-A824-D6B7BD722BD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F6054-74F6-4A30-B18C-299866E2A38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63607-76DB-4D46-A781-277387518B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A82CA-76F1-4A76-B877-F88BCE57A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F1421-4779-410A-A74F-80F5190C00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7709E-FE52-4743-A035-471FE52FC0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13749-DD27-492C-8FCB-93EE971C6E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CBDA5-ED81-4CAC-8B2A-BEF696D95C7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08970-9830-4FAB-BE5A-F6C36A6377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CD33B-1C25-450A-861B-02DA30AF49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5DAAA-D752-43E9-AD3D-47FB156C94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549B7-AF93-4036-B7B3-6631E8AD87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C760B-520F-45BF-96FE-77D30357138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DABBC-16A3-4EE2-9EB5-0BBBE22E4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32709-6208-4DD1-9658-7F437ACD0F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AF1B-D1B5-45F7-B762-14818B2F931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6588-41F0-40EC-8831-006651A890E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6F8F-6BCF-4BAC-AA2B-E389540BD9D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79D33-C431-4F10-AD63-5D0A945E5CF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3B1F-3853-414A-83E6-077636B72B9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3C2E-E0FA-4D55-A558-FFD1992418E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046F-0847-4506-8CCB-6174DCFEC4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EB0D-3A80-476C-87BC-2AFCC7D4A6E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A6E8-95F4-4A62-8BAF-B0F0338F6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AAF0-1C60-4D30-954C-46EED74C196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5453-6AB5-4AE2-9B0D-70DA303A0A4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A53F-FBB3-48E9-A383-9D1AAABC16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AA9F-4406-4D65-813D-55455FB99E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4F4D-B4A7-488A-967E-5BACEB6924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ACB7-60BA-41B2-81A0-1BF2396E38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212A-F9A1-44D8-AA27-608030CF7B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FC04-93CD-4AAE-BAEB-753AEA2CEF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8CE8-AFCA-4E3C-9809-52271303F1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89E1-305A-41B7-918C-1FBE141B67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D21B-6FF7-42F0-AB4A-1D0F256290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6ADB-FD91-4E21-B386-8D21AF8F58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52FC-9BF1-4EAD-BA07-8CB6C68935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C685-345E-4346-B43E-9993552AC2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F2F8-4498-4C27-B149-C91EA5D049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5939-DFD0-4E3D-96C2-EAEF07D6C0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31B51-9C65-4B8C-87DF-5691BCF077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18B1-1C69-42E6-9253-00254D12D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F638-DA17-4F0D-A5AF-4F85071BB8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1A76-0F32-4AE8-AE9E-FAC1995A1A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1E84-9F11-4499-8CF5-3E950513E1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5479-246A-43A7-A1A8-54112AE0E9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FFD4-90FE-4359-8814-B839199FA0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BB30-0CED-46FB-9D90-74C015D686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142A-DED4-4461-AB81-ED5CD52644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F0A7-6D3D-4683-A31C-5BA69EA2F4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A0DC-0DBC-4F9D-896F-2F6B6673559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356-2B12-4A50-98DF-71E83ACD5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DDA-A6A0-436D-B1E5-9060A6E5B97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626-A87F-440C-830F-D71BD2004B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A03-04B9-490A-A3D6-474C0FD971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EAF-4531-4CE8-9412-B28B40844A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954-FCAB-47C8-AE17-BB68FA45FF0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D19-E336-4002-8433-39DFBCC536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A5C-EE53-4B23-AC28-6692CE7153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0BA-D98E-452F-91E7-03197E1B43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59A-094A-4DBE-BD8F-51E5347616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29B-BFF4-4EE0-8C50-D980DA691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7A8-44C5-4A6D-9EE2-6EA79FAD3D1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CCB8B-5FFF-4B20-AB1A-D05049624C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5A204-D816-4AE7-A2D7-722F7F5504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408D5-749D-486F-BD1B-B3BD26D818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6EF68-3B55-42D8-8F57-C7010D166F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695FB-2E61-4F9B-832B-8612FE755A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A1B5F-895F-40CF-AC24-E31223FD954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00325-2303-40E7-8990-6A3386CF9A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AE6C7-D377-4D9D-81C6-78D8D6401D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A6E5B-187C-4232-9A6E-F18F6CEC2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55FAF-8FB6-4D4C-8DC3-0ABEDB0E9D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9ED7D-91BB-4142-A731-EDE84D7CBF0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50D90-ECFF-40D9-B282-9F182707E1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C836D-22F6-4CCF-8AB9-6C3F01306E5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33633-34F2-4BFF-9BDB-6E034E340C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7249E-0BC5-4E49-853D-6DE43561F7D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42B48-398E-4085-B38C-7F89D2264E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FC622-6B18-478A-A7A1-D72371C4D16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D6FC7-5919-4DFC-9326-DFDDF754DB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97FEC-FD67-4232-9E37-9CCB753AE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F4449-3472-4E5C-8012-4AD2A132ED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BD876-FEA3-4837-BDD9-C7356272FF1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6901E-705A-44FA-8329-C4C5CBCBF4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254C7-C5E8-4565-BEBF-04B7F732B5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46926-CEDC-4344-AF1E-5E4A381BBD3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4145-12F2-47B0-9378-AE139CA0BE8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CD64-756C-48A7-80C3-69D14D9EC2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C0FF-6C0F-4C68-AD5A-58DB9CF42D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4113-C005-4D33-8E73-67D973C548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0457-0DDB-4D94-871C-8855EDEEB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27A1-B61B-43A9-8CF9-EFC5F6DBF33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9D79-6DD6-49AF-997A-A2CF72F43C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EBAA-969B-4B01-A4AA-8B463E9BE1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E1E-A37F-49D9-8F57-064D4D44BF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1AAB-A441-4A51-8B23-EF2D186A15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0F55-2EDE-4558-A5C9-F5676F29058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B902-7C68-4422-BC20-903490BD9EC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97530-463A-42D2-8A51-C14C09C7AAB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0A602E-B2A5-4339-8975-25E642F4E9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CEA66-7A29-4130-B05E-4570C1F4C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2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3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8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3696-66E0-4E74-8491-84D15F6B46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9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90f7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F6F7-2E4D-400F-896D-3E9E51985DD3}" type="slidenum">
              <a:rPr b="0" lang="en-US" sz="2400" spc="-1" strike="noStrike">
                <a:solidFill>
                  <a:srgbClr val="590f7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47"/>
          <p:cNvSpPr/>
          <p:nvPr/>
        </p:nvSpPr>
        <p:spPr>
          <a:xfrm>
            <a:off x="0" y="1135080"/>
            <a:ext cx="9144000" cy="5722920"/>
          </a:xfrm>
          <a:prstGeom prst="rect">
            <a:avLst/>
          </a:prstGeom>
          <a:solidFill>
            <a:srgbClr val="590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41" name="Picture 1044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45"/>
          <p:cNvSpPr/>
          <p:nvPr/>
        </p:nvSpPr>
        <p:spPr>
          <a:xfrm>
            <a:off x="100980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1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9DE1-A940-41DE-B0E0-49DC3AED1B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2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56E4-E840-43FE-BA66-0482C6116E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3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6726-0A5E-4165-A119-01ED1514D6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4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767D-C732-4239-820C-665EE7A93A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5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3460-03FF-459E-A1EA-50B015C441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6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9A33-010D-46F9-87E7-25B528202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C:\Documents and Settings\vyv\My Documents\LondonCouncils_27sep06\400px.JPG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4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7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45D3-8967-46FB-9A82-4DB680B56E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tal Plac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don’s public spending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00080" y="3285720"/>
            <a:ext cx="6518160" cy="178596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ban &amp; Regional Economic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t Term Seminar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E Londo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anuary 2010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6858000" y="5857920"/>
            <a:ext cx="166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k Sorabji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porate Director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cy &amp; Public Affair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London spend viewed from Whitehal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857240" y="1643040"/>
          <a:ext cx="5024520" cy="5029200"/>
        </p:xfrm>
        <a:graphic>
          <a:graphicData uri="http://schemas.openxmlformats.org/drawingml/2006/table">
            <a:tbl>
              <a:tblPr/>
              <a:tblGrid>
                <a:gridCol w="857520"/>
                <a:gridCol w="2492280"/>
                <a:gridCol w="1674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nd £m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WP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,119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H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773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MT &amp; HMRC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754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CFS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065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fT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046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IUS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445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O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38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MoJ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12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CLG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09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CMS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39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MoD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efra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1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ECC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36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BERR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2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484" name="TextBox 3"/>
          <p:cNvSpPr/>
          <p:nvPr/>
        </p:nvSpPr>
        <p:spPr>
          <a:xfrm>
            <a:off x="7645680" y="635796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2008/9 figure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NDPB London spending 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857160" y="1500120"/>
          <a:ext cx="7358040" cy="4824360"/>
        </p:xfrm>
        <a:graphic>
          <a:graphicData uri="http://schemas.openxmlformats.org/drawingml/2006/table">
            <a:tbl>
              <a:tblPr/>
              <a:tblGrid>
                <a:gridCol w="2030400"/>
                <a:gridCol w="1398600"/>
                <a:gridCol w="1428840"/>
                <a:gridCol w="250020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s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nd £m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bodies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conomic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38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Recrea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52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ealth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76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Public order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Social Protec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29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ousing &amp; Community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9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nvironment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64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487" name="TextBox 4"/>
          <p:cNvSpPr/>
          <p:nvPr/>
        </p:nvSpPr>
        <p:spPr>
          <a:xfrm>
            <a:off x="7645680" y="635796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2008/9 figure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Players in one policy area:</a:t>
            </a:r>
            <a:br>
              <a:rPr sz="3200"/>
            </a:b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Economic Affair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2786040" y="1308240"/>
          <a:ext cx="5572080" cy="5549760"/>
        </p:xfrm>
        <a:graphic>
          <a:graphicData uri="http://schemas.openxmlformats.org/drawingml/2006/table">
            <a:tbl>
              <a:tblPr/>
              <a:tblGrid>
                <a:gridCol w="1857240"/>
                <a:gridCol w="2583000"/>
                <a:gridCol w="1131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tion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nd £m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Local Authorities - transport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358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ational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ational Bodies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14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JCP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Big Lottery Fund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Local authorities – not transport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64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PSRC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8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Technology Strategy Board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ealth &amp; Safety Commission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BBSRC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SE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orse Race Betting Levy Board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FSA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Visit Britain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NDPB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Others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7</a:t>
                      </a: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490" name="TextBox 3"/>
          <p:cNvSpPr/>
          <p:nvPr/>
        </p:nvSpPr>
        <p:spPr>
          <a:xfrm>
            <a:off x="1359360" y="658188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2008/9 figure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Hidden ideas in </a:t>
            </a:r>
            <a:r>
              <a:rPr b="0" i="1" lang="en-US" sz="3200" spc="-1" strike="noStrike">
                <a:solidFill>
                  <a:srgbClr val="590f78"/>
                </a:solidFill>
                <a:latin typeface="Arial"/>
              </a:rPr>
              <a:t>Total Place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13880" y="1571400"/>
            <a:ext cx="77742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Reorganisa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Not practical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llaboration: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Aligns delivery 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Supports person focu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Unlocks new delivery chain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Accelerates innovati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Major influences on public service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The national policy environment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Lack of local incentiv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1875960" y="6286680"/>
            <a:ext cx="56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9008a"/>
                </a:solidFill>
                <a:latin typeface="Arial"/>
              </a:rPr>
              <a:t>Total Place </a:t>
            </a: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as a critique of the traditional Whitehall approach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8643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rom efficiency to innovation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42600" y="1928520"/>
            <a:ext cx="380988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Efficiency saving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More tasks per hour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Bulk purchase saving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vasive’ control system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More ticket machin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Doing things better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3280" y="1928520"/>
            <a:ext cx="381168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Process improvemen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Eliminate task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ifferent purchas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Automatic’ control system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Oyster Card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Doing better thing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2097000" y="6143760"/>
            <a:ext cx="523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Thinking differently delivers more than squeezing harder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82868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London Councils’ Strategic Themes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713880" y="1714320"/>
            <a:ext cx="77742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  <a:ea typeface="Arial"/>
              </a:rPr>
              <a:t>Devolution</a:t>
            </a:r>
            <a:r>
              <a:rPr b="1" lang="en-US" sz="1800" spc="-1" strike="noStrike">
                <a:solidFill>
                  <a:srgbClr val="590f78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– because we believe devolution to our boroughs 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ensures better results for Londoner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  <a:ea typeface="Arial"/>
              </a:rPr>
              <a:t>Partnership</a:t>
            </a:r>
            <a:r>
              <a:rPr b="1" lang="en-US" sz="1800" spc="-1" strike="noStrike">
                <a:solidFill>
                  <a:srgbClr val="590f78"/>
                </a:solidFill>
                <a:latin typeface="Arial"/>
                <a:ea typeface="Arial"/>
              </a:rPr>
              <a:t> – </a:t>
            </a:r>
            <a:r>
              <a:rPr b="1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because we believe our partnership expertise 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delivers local feel and London scale; so driving innovation and efficiency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  <a:ea typeface="Arial"/>
              </a:rPr>
              <a:t>Democracy and trust </a:t>
            </a:r>
            <a:r>
              <a:rPr b="1" lang="en-US" sz="1800" spc="-1" strike="noStrike">
                <a:solidFill>
                  <a:srgbClr val="590f78"/>
                </a:solidFill>
                <a:latin typeface="Arial"/>
                <a:ea typeface="Arial"/>
              </a:rPr>
              <a:t>– </a:t>
            </a:r>
            <a:r>
              <a:rPr b="1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because we believe clear 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accountability and real engagement with Londoners happens best at borough level. London boroughs aim to be every Londoner’s first choice for a fair hearing and a fair deal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  <a:ea typeface="Arial"/>
              </a:rPr>
              <a:t>Resources and risks </a:t>
            </a:r>
            <a:r>
              <a:rPr b="1" lang="en-US" sz="1800" spc="-1" strike="noStrike">
                <a:solidFill>
                  <a:srgbClr val="590f78"/>
                </a:solidFill>
                <a:latin typeface="Arial"/>
                <a:ea typeface="Arial"/>
              </a:rPr>
              <a:t>– </a:t>
            </a:r>
            <a:r>
              <a:rPr b="1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because we believe London 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  <a:ea typeface="Arial"/>
              </a:rPr>
              <a:t>boroughs have the confidence and talent to take on challenges and the associated risks that others are too remote to handle.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0" name="TextBox 5"/>
          <p:cNvSpPr/>
          <p:nvPr/>
        </p:nvSpPr>
        <p:spPr>
          <a:xfrm>
            <a:off x="1748520" y="6000840"/>
            <a:ext cx="565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9008a"/>
                </a:solidFill>
                <a:latin typeface="Arial"/>
              </a:rPr>
              <a:t>Total Place </a:t>
            </a: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can help map out our vision of a new relationship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between central and local government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Managing chronic car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3880" y="1714320"/>
            <a:ext cx="7774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1.3m registered case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900,000  with 3+ condition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72% hospital bed day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65% out patient appointment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sts in London £5 bill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£3 billion NHS, £2 billion social servic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New approaches to chronic car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13880" y="178596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New approach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Prevention &amp; early interven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Self directed care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Joint service desig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Diabetes £590m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Projected saving £100m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All chronic care extrapolated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Saving £880m, 18%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2960" y="1071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Anti social behaviour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713880" y="185724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st to London public services £500m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Local authority costs £330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Youth Offending Team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£150m related cos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Economic cost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Lifetime truancy extrapolated costs £500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Londoners in prison costs £900m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18,000 adult Londoners in pris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New approaches to ASB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0f78"/>
                </a:solidFill>
                <a:latin typeface="Arial"/>
              </a:rPr>
              <a:t>16 types of public service organisation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0f78"/>
                </a:solidFill>
                <a:latin typeface="Arial"/>
              </a:rPr>
              <a:t>New approach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Personalised intervention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Early ac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Systems joined up locally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0f78"/>
                </a:solidFill>
                <a:latin typeface="Arial"/>
              </a:rPr>
              <a:t>Projected savings to the state £85m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0f78"/>
                </a:solidFill>
                <a:latin typeface="Arial"/>
              </a:rPr>
              <a:t>Economic &amp; social savings uncosted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What is Total Place?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713880" y="135720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CLG sponsored pilo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HMT &amp; Cabinet Office suppor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13 pilot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April 2009 to April 2010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A whole area approach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oing better with les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70~ informal pilo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Individual authoritie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London mapp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Strand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ount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ustomer insigh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2583360" y="6519960"/>
            <a:ext cx="38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Trying to go beyond SRB, LAA  and MAA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296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Obstacles to work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42960" y="1714320"/>
            <a:ext cx="777384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st of worklessness £5 bill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New approache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Jointly designed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evolve to integrate system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tegrated case manager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Retain central syste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centives for individuals &amp; organisation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Projected savings £630m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creased tax £440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Implications of PwC research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13880" y="178596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Drivers of better with les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Early intervent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Life stage gap identificat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Personalisat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Self direction – guided &amp; unguided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Designed by and around the person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Integrated case management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Not re-organisation but: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Devolve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Integrate funding streams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Outcomes of better for les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£10.65 billion analysed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Projected £1.6 billion saving – 15%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If could apply to all state spending in London saving ~ £11 bill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2486880" y="2349360"/>
            <a:ext cx="399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0f78"/>
                </a:solidFill>
                <a:latin typeface="Arial"/>
              </a:rPr>
              <a:t>Total Place</a:t>
            </a:r>
            <a:endParaRPr b="0" lang="en-US" sz="60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0f78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0f78"/>
                </a:solidFill>
                <a:latin typeface="Arial"/>
              </a:rPr>
              <a:t>context</a:t>
            </a:r>
            <a:endParaRPr b="0" lang="en-US" sz="60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Total Place: changing public service?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713880" y="185724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elivery chain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rocess improv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itizen drive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ommon value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ommon outcome target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Relational marke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ommissioning drive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Scale to influence supplier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ersonalisation close to the customer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Market platforms integrating the two: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eBay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7" name="TextBox 3"/>
          <p:cNvSpPr/>
          <p:nvPr/>
        </p:nvSpPr>
        <p:spPr>
          <a:xfrm>
            <a:off x="2127600" y="6357960"/>
            <a:ext cx="46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Routes to collaboration without permanent merger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864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rst steps in process improvemen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785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Customer focus </a:t>
            </a:r>
            <a:r>
              <a:rPr b="0" lang="en-US" sz="2400" spc="-1" strike="noStrike" u="sng">
                <a:solidFill>
                  <a:srgbClr val="590f78"/>
                </a:solidFill>
                <a:uFillTx/>
                <a:latin typeface="Arial"/>
              </a:rPr>
              <a:t>is</a:t>
            </a: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 efficiency focu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Processes often designed for a structure that was replaced long ago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Between department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Within department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T provides management controls that do not obstruct delivery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Front line staff usually know how a process could be improved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The hard part is getting them to tell you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Middle managers have the hardest time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2286000" y="92700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1" name="TextBox 5"/>
          <p:cNvSpPr/>
          <p:nvPr/>
        </p:nvSpPr>
        <p:spPr>
          <a:xfrm>
            <a:off x="845640" y="6215040"/>
            <a:ext cx="717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Redesigning delivery chains around the customer exposes ineffective delivery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13880" y="928800"/>
            <a:ext cx="7000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A process model of local governmen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3" name="Oval 3"/>
          <p:cNvSpPr/>
          <p:nvPr/>
        </p:nvSpPr>
        <p:spPr>
          <a:xfrm>
            <a:off x="1176480" y="2995560"/>
            <a:ext cx="99036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Contract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4" name="Oval 4"/>
          <p:cNvSpPr/>
          <p:nvPr/>
        </p:nvSpPr>
        <p:spPr>
          <a:xfrm>
            <a:off x="1500120" y="5429160"/>
            <a:ext cx="99072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185760" y="4138560"/>
            <a:ext cx="990720" cy="6858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6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 Sector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6" name="Oval 6"/>
          <p:cNvSpPr/>
          <p:nvPr/>
        </p:nvSpPr>
        <p:spPr>
          <a:xfrm>
            <a:off x="1938240" y="4138560"/>
            <a:ext cx="99072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7" name="Oval 7"/>
          <p:cNvSpPr/>
          <p:nvPr/>
        </p:nvSpPr>
        <p:spPr>
          <a:xfrm>
            <a:off x="4300560" y="4138560"/>
            <a:ext cx="99072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8" name="Oval 8"/>
          <p:cNvSpPr/>
          <p:nvPr/>
        </p:nvSpPr>
        <p:spPr>
          <a:xfrm>
            <a:off x="5214960" y="2928960"/>
            <a:ext cx="990720" cy="6858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3rd Sector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29" name="Oval 9"/>
          <p:cNvSpPr/>
          <p:nvPr/>
        </p:nvSpPr>
        <p:spPr>
          <a:xfrm>
            <a:off x="5929200" y="3786120"/>
            <a:ext cx="9907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Contract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0" name="Oval 10"/>
          <p:cNvSpPr/>
          <p:nvPr/>
        </p:nvSpPr>
        <p:spPr>
          <a:xfrm>
            <a:off x="5643720" y="5214960"/>
            <a:ext cx="99036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1" name="Oval 11"/>
          <p:cNvSpPr/>
          <p:nvPr/>
        </p:nvSpPr>
        <p:spPr>
          <a:xfrm>
            <a:off x="4071960" y="5357880"/>
            <a:ext cx="990720" cy="68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2" name="Freeform 15"/>
          <p:cNvSpPr/>
          <p:nvPr/>
        </p:nvSpPr>
        <p:spPr>
          <a:xfrm>
            <a:off x="566640" y="4519440"/>
            <a:ext cx="7162920" cy="1638360"/>
          </a:xfrm>
          <a:prstGeom prst="pie">
            <a:avLst/>
          </a:prstGeom>
          <a:noFill/>
          <a:ln w="76320">
            <a:solidFill>
              <a:srgbClr val="590f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3" name="Freeform 16"/>
          <p:cNvSpPr/>
          <p:nvPr/>
        </p:nvSpPr>
        <p:spPr>
          <a:xfrm>
            <a:off x="2424240" y="3448080"/>
            <a:ext cx="5410080" cy="1460520"/>
          </a:xfrm>
          <a:prstGeom prst="pie">
            <a:avLst/>
          </a:prstGeom>
          <a:noFill/>
          <a:ln w="57240">
            <a:solidFill>
              <a:srgbClr val="590f7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4" name="Oval 13"/>
          <p:cNvSpPr/>
          <p:nvPr/>
        </p:nvSpPr>
        <p:spPr>
          <a:xfrm flipV="1" rot="10800000">
            <a:off x="8071920" y="2142000"/>
            <a:ext cx="785880" cy="4357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8193960" y="428616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Citizen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6" name="TextBox 15"/>
          <p:cNvSpPr/>
          <p:nvPr/>
        </p:nvSpPr>
        <p:spPr>
          <a:xfrm>
            <a:off x="2717280" y="621504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(internal customers)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37" name="Isosceles Triangle 16"/>
          <p:cNvSpPr/>
          <p:nvPr/>
        </p:nvSpPr>
        <p:spPr>
          <a:xfrm>
            <a:off x="209520" y="2019240"/>
            <a:ext cx="7215120" cy="42148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cxnSp>
        <p:nvCxnSpPr>
          <p:cNvPr id="538" name="Curved Connector 25"/>
          <p:cNvCxnSpPr/>
          <p:nvPr/>
        </p:nvCxnSpPr>
        <p:spPr>
          <a:xfrm>
            <a:off x="2352240" y="3376080"/>
            <a:ext cx="1715400" cy="1072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590f78"/>
            </a:solidFill>
            <a:miter/>
            <a:tailEnd len="med" type="arrow" w="med"/>
          </a:ln>
        </p:spPr>
      </p:cxnSp>
      <p:sp>
        <p:nvSpPr>
          <p:cNvPr id="539" name="TextBox 18"/>
          <p:cNvSpPr/>
          <p:nvPr/>
        </p:nvSpPr>
        <p:spPr>
          <a:xfrm>
            <a:off x="3212640" y="171468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0f78"/>
                </a:solidFill>
                <a:latin typeface="Arial"/>
              </a:rPr>
              <a:t>Local Authority</a:t>
            </a:r>
            <a:endParaRPr b="0" lang="en-US" sz="1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Delivering through networks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14240" y="1500120"/>
            <a:ext cx="78501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Understanding others’ business model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Bringing common values to surface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Communication across all level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Co-ordination not control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Education as influence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0f78"/>
                </a:solidFill>
                <a:latin typeface="Arial"/>
              </a:rPr>
              <a:t>Become the network hub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0f78"/>
                </a:solidFill>
                <a:latin typeface="Arial"/>
              </a:rPr>
              <a:t>Strengthen the network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42" name="TextBox 3"/>
          <p:cNvSpPr/>
          <p:nvPr/>
        </p:nvSpPr>
        <p:spPr>
          <a:xfrm>
            <a:off x="2241000" y="5715000"/>
            <a:ext cx="48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Both more flexible and more fragile than hierarchie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raditional local government:</a:t>
            </a:r>
            <a:br>
              <a:rPr sz="3200"/>
            </a:b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Hierarchies and contrac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grpSp>
        <p:nvGrpSpPr>
          <p:cNvPr id="544" name="Organization Chart 2"/>
          <p:cNvGrpSpPr/>
          <p:nvPr/>
        </p:nvGrpSpPr>
        <p:grpSpPr>
          <a:xfrm>
            <a:off x="1835280" y="2455920"/>
            <a:ext cx="5076720" cy="2996640"/>
            <a:chOff x="1835280" y="2455920"/>
            <a:chExt cx="5076720" cy="2996640"/>
          </a:xfrm>
        </p:grpSpPr>
        <p:cxnSp>
          <p:nvCxnSpPr>
            <p:cNvPr id="545" name="_s1028"/>
            <p:cNvCxnSpPr>
              <a:stCxn id="546" idx="0"/>
              <a:endCxn id="547" idx="2"/>
            </p:cNvCxnSpPr>
            <p:nvPr/>
          </p:nvCxnSpPr>
          <p:spPr>
            <a:xfrm flipV="1">
              <a:off x="6141600" y="4773600"/>
              <a:ext cx="252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48" name="_s1029"/>
            <p:cNvCxnSpPr>
              <a:stCxn id="547" idx="0"/>
              <a:endCxn id="549" idx="2"/>
            </p:cNvCxnSpPr>
            <p:nvPr/>
          </p:nvCxnSpPr>
          <p:spPr>
            <a:xfrm flipV="1">
              <a:off x="6141600" y="4094640"/>
              <a:ext cx="252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50" name="_s1030"/>
            <p:cNvCxnSpPr>
              <a:stCxn id="551" idx="0"/>
              <a:endCxn id="552" idx="2"/>
            </p:cNvCxnSpPr>
            <p:nvPr/>
          </p:nvCxnSpPr>
          <p:spPr>
            <a:xfrm flipV="1">
              <a:off x="4373640" y="477360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53" name="_s1031"/>
            <p:cNvCxnSpPr>
              <a:stCxn id="552" idx="0"/>
              <a:endCxn id="554" idx="2"/>
            </p:cNvCxnSpPr>
            <p:nvPr/>
          </p:nvCxnSpPr>
          <p:spPr>
            <a:xfrm flipV="1">
              <a:off x="4373640" y="409464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55" name="_s1032"/>
            <p:cNvCxnSpPr>
              <a:stCxn id="556" idx="0"/>
              <a:endCxn id="557" idx="2"/>
            </p:cNvCxnSpPr>
            <p:nvPr/>
          </p:nvCxnSpPr>
          <p:spPr>
            <a:xfrm flipV="1">
              <a:off x="2605320" y="477360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58" name="_s1033"/>
            <p:cNvCxnSpPr>
              <a:stCxn id="557" idx="0"/>
              <a:endCxn id="559" idx="2"/>
            </p:cNvCxnSpPr>
            <p:nvPr/>
          </p:nvCxnSpPr>
          <p:spPr>
            <a:xfrm flipV="1">
              <a:off x="2605320" y="409464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60" name="_s1034"/>
            <p:cNvCxnSpPr>
              <a:stCxn id="549" idx="0"/>
              <a:endCxn id="561" idx="2"/>
            </p:cNvCxnSpPr>
            <p:nvPr/>
          </p:nvCxnSpPr>
          <p:spPr>
            <a:xfrm flipV="1" rot="16200000">
              <a:off x="5144400" y="2392560"/>
              <a:ext cx="226800" cy="176904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62" name="_s1035"/>
            <p:cNvCxnSpPr>
              <a:stCxn id="554" idx="0"/>
              <a:endCxn id="561" idx="2"/>
            </p:cNvCxnSpPr>
            <p:nvPr/>
          </p:nvCxnSpPr>
          <p:spPr>
            <a:xfrm flipV="1">
              <a:off x="4373640" y="3164040"/>
              <a:ext cx="2160" cy="226800"/>
            </a:xfrm>
            <a:prstGeom prst="bentConnector2">
              <a:avLst/>
            </a:prstGeom>
            <a:ln w="28440">
              <a:solidFill>
                <a:srgbClr val="590f78"/>
              </a:solidFill>
              <a:miter/>
            </a:ln>
          </p:spPr>
        </p:cxnSp>
        <p:cxnSp>
          <p:nvCxnSpPr>
            <p:cNvPr id="563" name="_s1036"/>
            <p:cNvCxnSpPr>
              <a:stCxn id="559" idx="0"/>
              <a:endCxn id="561" idx="2"/>
            </p:cNvCxnSpPr>
            <p:nvPr/>
          </p:nvCxnSpPr>
          <p:spPr>
            <a:xfrm flipH="1" flipV="1" rot="5400000">
              <a:off x="3376080" y="2392920"/>
              <a:ext cx="226800" cy="176904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590f78"/>
              </a:solidFill>
              <a:miter/>
            </a:ln>
          </p:spPr>
        </p:cxnSp>
        <p:sp>
          <p:nvSpPr>
            <p:cNvPr id="561" name="_s1037"/>
            <p:cNvSpPr/>
            <p:nvPr/>
          </p:nvSpPr>
          <p:spPr>
            <a:xfrm>
              <a:off x="3687840" y="2455920"/>
              <a:ext cx="1371600" cy="70848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Council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Executive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9" name="_s1038"/>
            <p:cNvSpPr/>
            <p:nvPr/>
          </p:nvSpPr>
          <p:spPr>
            <a:xfrm>
              <a:off x="1835280" y="3390840"/>
              <a:ext cx="1539720" cy="704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Children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4" name="_s1039"/>
            <p:cNvSpPr/>
            <p:nvPr/>
          </p:nvSpPr>
          <p:spPr>
            <a:xfrm>
              <a:off x="3603600" y="3390840"/>
              <a:ext cx="1540080" cy="704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Environment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49" name="_s1040"/>
            <p:cNvSpPr/>
            <p:nvPr/>
          </p:nvSpPr>
          <p:spPr>
            <a:xfrm>
              <a:off x="5372280" y="3390840"/>
              <a:ext cx="1539720" cy="704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7" name="_s1041"/>
            <p:cNvSpPr/>
            <p:nvPr/>
          </p:nvSpPr>
          <p:spPr>
            <a:xfrm>
              <a:off x="1919520" y="43214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6" name="_s1042"/>
            <p:cNvSpPr/>
            <p:nvPr/>
          </p:nvSpPr>
          <p:spPr>
            <a:xfrm>
              <a:off x="1919520" y="50000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2" name="_s1043"/>
            <p:cNvSpPr/>
            <p:nvPr/>
          </p:nvSpPr>
          <p:spPr>
            <a:xfrm>
              <a:off x="3687840" y="43214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51" name="_s1044"/>
            <p:cNvSpPr/>
            <p:nvPr/>
          </p:nvSpPr>
          <p:spPr>
            <a:xfrm>
              <a:off x="3687840" y="50000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47" name="_s1045"/>
            <p:cNvSpPr/>
            <p:nvPr/>
          </p:nvSpPr>
          <p:spPr>
            <a:xfrm>
              <a:off x="5456160" y="43214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  <p:sp>
          <p:nvSpPr>
            <p:cNvPr id="546" name="_s1046"/>
            <p:cNvSpPr/>
            <p:nvPr/>
          </p:nvSpPr>
          <p:spPr>
            <a:xfrm>
              <a:off x="5456160" y="5000040"/>
              <a:ext cx="1371600" cy="452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590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0f7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590f78"/>
                </a:solidFill>
                <a:latin typeface="Arial"/>
              </a:endParaRPr>
            </a:p>
          </p:txBody>
        </p:sp>
      </p:grpSp>
      <p:sp>
        <p:nvSpPr>
          <p:cNvPr id="564" name="AutoShape 34"/>
          <p:cNvSpPr/>
          <p:nvPr/>
        </p:nvSpPr>
        <p:spPr>
          <a:xfrm>
            <a:off x="7429680" y="3429000"/>
            <a:ext cx="1441440" cy="720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CT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5" name="Line 36"/>
          <p:cNvSpPr/>
          <p:nvPr/>
        </p:nvSpPr>
        <p:spPr>
          <a:xfrm>
            <a:off x="7072200" y="3714840"/>
            <a:ext cx="287280" cy="0"/>
          </a:xfrm>
          <a:prstGeom prst="line">
            <a:avLst/>
          </a:prstGeom>
          <a:ln w="57240">
            <a:solidFill>
              <a:srgbClr val="590f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6" name="AutoShape 37"/>
          <p:cNvSpPr/>
          <p:nvPr/>
        </p:nvSpPr>
        <p:spPr>
          <a:xfrm>
            <a:off x="3643200" y="585792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Contractor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7" name="AutoShape 39"/>
          <p:cNvSpPr/>
          <p:nvPr/>
        </p:nvSpPr>
        <p:spPr>
          <a:xfrm>
            <a:off x="5500800" y="5857920"/>
            <a:ext cx="1296720" cy="5745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 Sector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Contractor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8" name="Line 41"/>
          <p:cNvSpPr/>
          <p:nvPr/>
        </p:nvSpPr>
        <p:spPr>
          <a:xfrm>
            <a:off x="4357800" y="5572080"/>
            <a:ext cx="0" cy="216000"/>
          </a:xfrm>
          <a:prstGeom prst="line">
            <a:avLst/>
          </a:prstGeom>
          <a:ln w="57240">
            <a:solidFill>
              <a:srgbClr val="590f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9" name="Line 42"/>
          <p:cNvSpPr/>
          <p:nvPr/>
        </p:nvSpPr>
        <p:spPr>
          <a:xfrm>
            <a:off x="6143760" y="5572080"/>
            <a:ext cx="0" cy="216000"/>
          </a:xfrm>
          <a:prstGeom prst="line">
            <a:avLst/>
          </a:prstGeom>
          <a:ln w="57240">
            <a:solidFill>
              <a:srgbClr val="590f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0" name="Line 43"/>
          <p:cNvSpPr/>
          <p:nvPr/>
        </p:nvSpPr>
        <p:spPr>
          <a:xfrm>
            <a:off x="4500720" y="3429000"/>
            <a:ext cx="0" cy="216000"/>
          </a:xfrm>
          <a:prstGeom prst="line">
            <a:avLst/>
          </a:prstGeom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Emerging local government:</a:t>
            </a:r>
            <a:br>
              <a:rPr sz="3200"/>
            </a:b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Hubs and network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2" name="Oval 5"/>
          <p:cNvSpPr/>
          <p:nvPr/>
        </p:nvSpPr>
        <p:spPr>
          <a:xfrm>
            <a:off x="3300480" y="3135240"/>
            <a:ext cx="792000" cy="503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3" name="Oval 7"/>
          <p:cNvSpPr/>
          <p:nvPr/>
        </p:nvSpPr>
        <p:spPr>
          <a:xfrm>
            <a:off x="5316480" y="2198520"/>
            <a:ext cx="792360" cy="50328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4" name="Oval 8"/>
          <p:cNvSpPr/>
          <p:nvPr/>
        </p:nvSpPr>
        <p:spPr>
          <a:xfrm>
            <a:off x="1139760" y="3495600"/>
            <a:ext cx="79236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5" name="Oval 9"/>
          <p:cNvSpPr/>
          <p:nvPr/>
        </p:nvSpPr>
        <p:spPr>
          <a:xfrm>
            <a:off x="4214880" y="3643200"/>
            <a:ext cx="792000" cy="503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6" name="Oval 10"/>
          <p:cNvSpPr/>
          <p:nvPr/>
        </p:nvSpPr>
        <p:spPr>
          <a:xfrm>
            <a:off x="5172120" y="3135240"/>
            <a:ext cx="792000" cy="503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7" name="Oval 11"/>
          <p:cNvSpPr/>
          <p:nvPr/>
        </p:nvSpPr>
        <p:spPr>
          <a:xfrm>
            <a:off x="5245200" y="4359240"/>
            <a:ext cx="792000" cy="50328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8" name="Oval 12"/>
          <p:cNvSpPr/>
          <p:nvPr/>
        </p:nvSpPr>
        <p:spPr>
          <a:xfrm>
            <a:off x="3156120" y="4430880"/>
            <a:ext cx="792000" cy="502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9" name="Oval 13"/>
          <p:cNvSpPr/>
          <p:nvPr/>
        </p:nvSpPr>
        <p:spPr>
          <a:xfrm>
            <a:off x="6396120" y="3206880"/>
            <a:ext cx="792000" cy="50328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0" name="Oval 14"/>
          <p:cNvSpPr/>
          <p:nvPr/>
        </p:nvSpPr>
        <p:spPr>
          <a:xfrm>
            <a:off x="5964120" y="5511960"/>
            <a:ext cx="792360" cy="50292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1" name="Oval 15"/>
          <p:cNvSpPr/>
          <p:nvPr/>
        </p:nvSpPr>
        <p:spPr>
          <a:xfrm>
            <a:off x="6396120" y="4359240"/>
            <a:ext cx="792000" cy="50328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590f78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4019400" y="5151600"/>
            <a:ext cx="792360" cy="502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2868480" y="2198520"/>
            <a:ext cx="792360" cy="50328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7188120" y="5367240"/>
            <a:ext cx="792360" cy="50328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7404120" y="4719600"/>
            <a:ext cx="79200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1500120" y="2127240"/>
            <a:ext cx="79236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1860480" y="5295960"/>
            <a:ext cx="79236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7261200" y="2487600"/>
            <a:ext cx="792360" cy="503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0f78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2579760" y="2774880"/>
            <a:ext cx="3962160" cy="2376720"/>
          </a:xfrm>
          <a:prstGeom prst="ellipse">
            <a:avLst/>
          </a:prstGeom>
          <a:noFill/>
          <a:ln w="9360">
            <a:solidFill>
              <a:srgbClr val="590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779400" y="1839960"/>
            <a:ext cx="3457800" cy="2590920"/>
          </a:xfrm>
          <a:prstGeom prst="ellipse">
            <a:avLst/>
          </a:prstGeom>
          <a:noFill/>
          <a:ln w="9360">
            <a:solidFill>
              <a:srgbClr val="590f7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571760" y="4071960"/>
            <a:ext cx="3457440" cy="2590920"/>
          </a:xfrm>
          <a:prstGeom prst="ellipse">
            <a:avLst/>
          </a:prstGeom>
          <a:noFill/>
          <a:ln w="9360">
            <a:solidFill>
              <a:srgbClr val="590f7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4884840" y="3927600"/>
            <a:ext cx="3457440" cy="2590560"/>
          </a:xfrm>
          <a:prstGeom prst="ellipse">
            <a:avLst/>
          </a:prstGeom>
          <a:noFill/>
          <a:ln w="9360">
            <a:solidFill>
              <a:srgbClr val="590f7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811760" y="1695600"/>
            <a:ext cx="3457440" cy="2590560"/>
          </a:xfrm>
          <a:prstGeom prst="ellipse">
            <a:avLst/>
          </a:prstGeom>
          <a:noFill/>
          <a:ln w="9360">
            <a:solidFill>
              <a:srgbClr val="590f7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6314400" y="25588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0f78"/>
                </a:solidFill>
                <a:latin typeface="Arial"/>
              </a:rPr>
              <a:t>children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5" name="Text Box 48"/>
          <p:cNvSpPr/>
          <p:nvPr/>
        </p:nvSpPr>
        <p:spPr>
          <a:xfrm>
            <a:off x="1820880" y="299088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0f78"/>
                </a:solidFill>
                <a:latin typeface="Arial"/>
              </a:rPr>
              <a:t>elders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6" name="Text Box 49"/>
          <p:cNvSpPr/>
          <p:nvPr/>
        </p:nvSpPr>
        <p:spPr>
          <a:xfrm>
            <a:off x="2950560" y="54388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0f78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7" name="Text Box 50"/>
          <p:cNvSpPr/>
          <p:nvPr/>
        </p:nvSpPr>
        <p:spPr>
          <a:xfrm>
            <a:off x="6118920" y="502776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0f78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5009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Place based public service pressur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13880" y="150012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Organisational listen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Neighbourhood flexibility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Strategic scrutiny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Leadership &amp; mobilisatio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Shared service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artnership build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Multi agency accountability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ro-active economic develop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Market develop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erformance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Financial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Risk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785520" y="6273720"/>
            <a:ext cx="74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Place based public service requires new skills locally and new thinking nationally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1" name="TextBox 5"/>
          <p:cNvSpPr/>
          <p:nvPr/>
        </p:nvSpPr>
        <p:spPr>
          <a:xfrm rot="19858800">
            <a:off x="5753880" y="2018880"/>
            <a:ext cx="19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Arial"/>
              </a:rPr>
              <a:t>Closer to citizen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2" name="TextBox 7"/>
          <p:cNvSpPr/>
          <p:nvPr/>
        </p:nvSpPr>
        <p:spPr>
          <a:xfrm rot="19858800">
            <a:off x="5825160" y="3381120"/>
            <a:ext cx="19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Arial"/>
              </a:rPr>
              <a:t>Delivery through network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 rot="19858800">
            <a:off x="5712840" y="521964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Arial"/>
              </a:rPr>
              <a:t>Managing uncertaint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Total Places: what &amp; wher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714240" y="1643040"/>
            <a:ext cx="381024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Total Place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Birmingham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Bradford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Coventry, Solihull, Warwickshir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Croydon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Dorset, Poole, Bournemouth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Durham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Kent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Leicester &amp; Leicestershir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Lewisham 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Luton &amp; Central Bedfordshir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Manchester city region &amp; Warrington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South Tyneside, Gateshead, Sunderland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0f78"/>
                </a:solidFill>
                <a:latin typeface="Arial"/>
              </a:rPr>
              <a:t>Worcestershir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43280" y="1714320"/>
            <a:ext cx="381168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Policy Theme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Alcohol &amp; drug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Health &amp; social care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Childre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High cost communitie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Young people &amp; employment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2297520" y="6357960"/>
            <a:ext cx="47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Targeting wicked problems in diverse communitie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What next for Total Place?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Government decision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 Budget?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onservative party considera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In first 100 days?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Locally driven proposal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Kent: </a:t>
            </a:r>
            <a:r>
              <a:rPr b="0" i="1" lang="en-US" sz="2400" spc="-1" strike="noStrike">
                <a:solidFill>
                  <a:srgbClr val="590f78"/>
                </a:solidFill>
                <a:latin typeface="Arial"/>
              </a:rPr>
              <a:t>Bold steps for radical reform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London Councils’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Manifesto for Londoner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3299040" y="3071880"/>
            <a:ext cx="216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590f78"/>
                </a:solidFill>
                <a:latin typeface="Arial"/>
              </a:rPr>
              <a:t>End</a:t>
            </a:r>
            <a:endParaRPr b="0" lang="en-US" sz="88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Total Place : in its place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13880" y="178596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echnology &amp; public servic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treamline central governmen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Senior Civil Service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Sharper delivery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Government efficiency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Including re-location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otal Place &amp; Performance 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Central local framework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9" name="TextBox 7"/>
          <p:cNvSpPr/>
          <p:nvPr/>
        </p:nvSpPr>
        <p:spPr>
          <a:xfrm>
            <a:off x="1253520" y="6286680"/>
            <a:ext cx="72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9008a"/>
                </a:solidFill>
                <a:latin typeface="Arial"/>
              </a:rPr>
              <a:t>Competing to be a priority in government response to public finance pressure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Total Place</a:t>
            </a:r>
            <a:r>
              <a:rPr b="0" i="1" lang="en-US" sz="3600" spc="-1" strike="noStrike">
                <a:solidFill>
                  <a:srgbClr val="590f78"/>
                </a:solidFill>
                <a:latin typeface="Arial"/>
              </a:rPr>
              <a:t>: drivers &amp; destinations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13880" y="1500120"/>
            <a:ext cx="77742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Driven by: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Weaknesses in silo deliver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Public finance squeeze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Method: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Looks at all public service in a place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Identifies overlap and duplication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Redesigns to improve service &amp; efficienc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Goals: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Operational outcome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Service transformation plan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Early efficiencie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Understanding multi-organisation deliver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Strategic outcomes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Creating incentives to innovate locally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590f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0f78"/>
                </a:solidFill>
                <a:latin typeface="Arial"/>
              </a:rPr>
              <a:t>Changing central government</a:t>
            </a:r>
            <a:endParaRPr b="0" lang="en-US" sz="1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72" name="TextBox 7"/>
          <p:cNvSpPr/>
          <p:nvPr/>
        </p:nvSpPr>
        <p:spPr>
          <a:xfrm>
            <a:off x="1785960" y="651996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40084"/>
                </a:solidFill>
                <a:latin typeface="Arial"/>
              </a:rPr>
              <a:t>Total Place</a:t>
            </a:r>
            <a:r>
              <a:rPr b="0" lang="en-US" sz="1600" spc="-1" strike="noStrike">
                <a:solidFill>
                  <a:srgbClr val="e40084"/>
                </a:solidFill>
                <a:latin typeface="Arial"/>
              </a:rPr>
              <a:t> is a theory as well as a national initiative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London Councils’ </a:t>
            </a:r>
            <a:r>
              <a:rPr b="0" i="1" lang="en-US" sz="3200" spc="-1" strike="noStrike">
                <a:solidFill>
                  <a:srgbClr val="590f78"/>
                </a:solidFill>
                <a:latin typeface="Arial"/>
              </a:rPr>
              <a:t>local audit</a:t>
            </a: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PwC t</a:t>
            </a:r>
            <a:r>
              <a:rPr b="0" lang="en-US" sz="2800" spc="-1" strike="noStrike">
                <a:solidFill>
                  <a:srgbClr val="590f78"/>
                </a:solidFill>
                <a:latin typeface="Arial"/>
              </a:rPr>
              <a:t>hinking with number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13880" y="1928520"/>
            <a:ext cx="77742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New perspectiv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By policy area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By organisational</a:t>
            </a: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rowding 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eeper investigati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Managing chronic care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Obstacles to work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Whole system approach to youth offend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Different focus to </a:t>
            </a:r>
            <a:r>
              <a:rPr b="0" i="1" lang="en-US" sz="2400" spc="-1" strike="noStrike">
                <a:solidFill>
                  <a:srgbClr val="590f78"/>
                </a:solidFill>
                <a:latin typeface="Arial"/>
              </a:rPr>
              <a:t>Total Place </a:t>
            </a: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pilot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Central government reform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0f78"/>
                </a:solidFill>
                <a:latin typeface="Arial"/>
              </a:rPr>
              <a:t>Local solutions to national problem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0f78"/>
                </a:solidFill>
                <a:latin typeface="Arial"/>
              </a:rPr>
              <a:t>Organisational evidence for London policy proposal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1886400" y="6286680"/>
            <a:ext cx="577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0099"/>
                </a:solidFill>
                <a:latin typeface="Arial"/>
              </a:rPr>
              <a:t>Focusing on the conditions for success more any one success</a:t>
            </a:r>
            <a:endParaRPr b="0" lang="en-US" sz="16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Total State spending in London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477" name="Chart 4" descr=""/>
          <p:cNvPicPr/>
          <p:nvPr/>
        </p:nvPicPr>
        <p:blipFill>
          <a:blip r:embed="rId1"/>
          <a:stretch/>
        </p:blipFill>
        <p:spPr>
          <a:xfrm>
            <a:off x="1500120" y="2143080"/>
            <a:ext cx="6096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0f78"/>
                </a:solidFill>
                <a:latin typeface="Arial"/>
              </a:rPr>
              <a:t>London locally managed spending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479" name="Chart 4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7151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London public spending 2008/09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857160" y="1500120"/>
          <a:ext cx="7358040" cy="5235480"/>
        </p:xfrm>
        <a:graphic>
          <a:graphicData uri="http://schemas.openxmlformats.org/drawingml/2006/table">
            <a:tbl>
              <a:tblPr/>
              <a:tblGrid>
                <a:gridCol w="1357560"/>
                <a:gridCol w="1095120"/>
                <a:gridCol w="1227240"/>
                <a:gridCol w="1225440"/>
                <a:gridCol w="1227240"/>
                <a:gridCol w="122544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£millions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PBs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Defence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Recrea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65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7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9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ousing +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9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84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15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nvironment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7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16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conomic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84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452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67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Public order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6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93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639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3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245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Health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8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36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544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Social Protection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1553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3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905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249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12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56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368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590f78"/>
                          </a:solidFill>
                          <a:latin typeface="Arial"/>
                        </a:rPr>
                        <a:t>73600</a:t>
                      </a:r>
                      <a:endParaRPr b="0" lang="en-US" sz="18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90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8:01:23Z</dcterms:created>
  <dc:creator>vyv</dc:creator>
  <dc:description>Version: 29 September 06</dc:description>
  <dc:language>en-US</dc:language>
  <cp:lastModifiedBy>Dick Sorabji</cp:lastModifiedBy>
  <cp:lastPrinted>2001-05-18T11:16:29Z</cp:lastPrinted>
  <dcterms:modified xsi:type="dcterms:W3CDTF">2010-01-25T09:23:51Z</dcterms:modified>
  <cp:revision>74</cp:revision>
  <dc:subject/>
  <dc:title>Please enter your title</dc:title>
</cp:coreProperties>
</file>