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7764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4924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43128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776400" y="943128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69CA122-F04D-4346-9661-A91F79C7EB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776760" y="94312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17838E6-3181-4D02-8A71-08CECAD97DF8}" type="slidenum">
              <a:rPr b="0" lang="en-GB" sz="1200" spc="-1" strike="noStrike">
                <a:solidFill>
                  <a:srgbClr val="0218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776760" y="94312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F818C7B-8AD1-4AB4-B5DF-D4770B6B2E7C}" type="slidenum">
              <a:rPr b="0" lang="en-GB" sz="1200" spc="-1" strike="noStrike">
                <a:solidFill>
                  <a:srgbClr val="0218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oundry Form Sans"/>
                <a:ea typeface="Times New Roman"/>
              </a:rPr>
              <a:t>Annual employment growth in London was negative in the second quarter of 2009 to -1.4 per cent from –1.1 per cent in the first quarter. The total number of workforce jobs in London was over 4.6 million in quarter tw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776760" y="94312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9BAC218-80F3-4833-BA46-AB976284DE3B}" type="slidenum">
              <a:rPr b="0" lang="en-US" sz="1200" spc="-1" strike="noStrike">
                <a:solidFill>
                  <a:srgbClr val="0218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22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212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520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22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212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52080" y="107640"/>
            <a:ext cx="76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422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3212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520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422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3212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2080" y="107640"/>
            <a:ext cx="76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gradFill rotWithShape="0">
            <a:gsLst>
              <a:gs pos="0">
                <a:srgbClr val="272f3d"/>
              </a:gs>
              <a:gs pos="50000">
                <a:srgbClr val="546583"/>
              </a:gs>
              <a:gs pos="100000">
                <a:srgbClr val="272f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" name="Picture 12" descr="GLA Economics ol blue 72dpi"/>
          <p:cNvPicPr/>
          <p:nvPr/>
        </p:nvPicPr>
        <p:blipFill>
          <a:blip r:embed="rId2"/>
          <a:stretch/>
        </p:blipFill>
        <p:spPr>
          <a:xfrm>
            <a:off x="6678720" y="6365880"/>
            <a:ext cx="229068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7" descr="GLA Economics rev 50% tint"/>
          <p:cNvPicPr/>
          <p:nvPr/>
        </p:nvPicPr>
        <p:blipFill>
          <a:blip r:embed="rId2"/>
          <a:srcRect l="4402" t="16717" r="7023" b="21499"/>
          <a:stretch/>
        </p:blipFill>
        <p:spPr>
          <a:xfrm>
            <a:off x="6667560" y="6316560"/>
            <a:ext cx="2236680" cy="5158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9" descr="image striip"/>
          <p:cNvPicPr/>
          <p:nvPr/>
        </p:nvPicPr>
        <p:blipFill>
          <a:blip r:embed="rId3"/>
          <a:stretch/>
        </p:blipFill>
        <p:spPr>
          <a:xfrm>
            <a:off x="0" y="0"/>
            <a:ext cx="1063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18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4880" y="2224080"/>
            <a:ext cx="7808760" cy="22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Is London Broke and does it need fixing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18  January 2010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21080" y="519552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oundry Form Sans"/>
              </a:rPr>
              <a:t>Bridget Rosewell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oundry Form Sans"/>
              </a:rPr>
              <a:t>Chief Economic Adviser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nd road speeds still falling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44440" y="1500120"/>
            <a:ext cx="7521480" cy="4899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09600" y="1461960"/>
            <a:ext cx="7815240" cy="5002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Specialisation in productive sector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bility to transform itself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1040" y="1492200"/>
            <a:ext cx="7288200" cy="4832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 highly productive economy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225360" y="1589040"/>
            <a:ext cx="7315200" cy="481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Huge accessibility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28600" y="1438200"/>
            <a:ext cx="6423120" cy="5178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3280" y="20448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 high end centr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92040" y="1584360"/>
            <a:ext cx="6481800" cy="481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nd well spread facilitie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31920" y="1523880"/>
            <a:ext cx="6476760" cy="488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Positive trends even after recession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282600" y="1481040"/>
            <a:ext cx="7067520" cy="4861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London civilian workforce job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066680" y="6248520"/>
            <a:ext cx="59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21832"/>
                </a:solidFill>
                <a:latin typeface="Foundry Form Sans"/>
              </a:rPr>
              <a:t>Source: Office for National Statistics</a:t>
            </a:r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1252440" y="1522440"/>
            <a:ext cx="7659720" cy="4427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Tax levels may become a problem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71440" y="1512720"/>
            <a:ext cx="7176960" cy="4810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Is London broke?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High poverty level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Crowded, expensive, dirty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Diverse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High productivity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Growing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Successfu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Because deficits are significan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285840" y="1531800"/>
            <a:ext cx="7394400" cy="4943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undry Form Sans"/>
              </a:rPr>
              <a:t>Large imbalances in public sector spending, which predate current recession</a:t>
            </a:r>
            <a:endParaRPr b="1" lang="en-US" sz="24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9" name="Picture 0" descr=""/>
          <p:cNvPicPr/>
          <p:nvPr/>
        </p:nvPicPr>
        <p:blipFill>
          <a:blip r:embed="rId1"/>
          <a:stretch/>
        </p:blipFill>
        <p:spPr>
          <a:xfrm>
            <a:off x="1019160" y="1771560"/>
            <a:ext cx="7610400" cy="468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3280" y="3218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Debt still not historically high but rapid rises are a real problem 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279360" y="1627200"/>
            <a:ext cx="7483680" cy="4848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Nor out of line internationally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69880" y="1373040"/>
            <a:ext cx="748368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The challeng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To maintain investmen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Maintain pressure on long standing and embedded problem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Support the successfu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Child poverty higher in London and resistant to chang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39760" y="1539720"/>
            <a:ext cx="7172280" cy="484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Higher poverty among adults too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7160" y="1509840"/>
            <a:ext cx="7253280" cy="4830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Men less likely to work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31920" y="1482840"/>
            <a:ext cx="7011720" cy="4938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Women even less likely to work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87280" y="1486080"/>
            <a:ext cx="7434360" cy="4881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And the unskilled find it hard to get job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18960" y="1628640"/>
            <a:ext cx="6708960" cy="477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Housing is expensiv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31920" y="1509840"/>
            <a:ext cx="7170480" cy="4919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3280" y="16164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On rail too...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77920" y="1565280"/>
            <a:ext cx="6424560" cy="4836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33:13Z</dcterms:created>
  <dc:creator>Eliza Croker</dc:creator>
  <dc:description/>
  <dc:language>en-US</dc:language>
  <cp:lastModifiedBy>LSE</cp:lastModifiedBy>
  <dcterms:modified xsi:type="dcterms:W3CDTF">2010-01-18T09:15:10Z</dcterms:modified>
  <cp:revision>815</cp:revision>
  <dc:subject/>
  <dc:title>PowerPoint Presentation</dc:title>
</cp:coreProperties>
</file>