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5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20.png" ContentType="image/png"/>
  <Override PartName="/ppt/media/image2.wmf" ContentType="image/x-wmf"/>
  <Override PartName="/ppt/media/image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774960" y="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488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0A6C6-9C67-4486-AC59-EED1B17C22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68C6C-A418-4BEB-889A-D1B2199033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4F72A-CFA7-4707-8567-FA2D5DBA0C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8DD82-1FB5-4C01-834B-AC1366A715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63FDC-047C-49B8-A094-1B9C36B867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E585C-F084-4D88-9722-487EEFDFDB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F5B5B-5633-40CA-929E-99B5AC2117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7BAE5-A10F-48E3-A3E2-2FEC7D1182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E6F28-CB38-4361-920A-754BF32257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5CDEF-90AE-4C92-8A14-16107C7839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3C0F9-4091-43CF-98E1-3169744F26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119C-565E-448A-B7EB-DA0A49A8A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78187A-C00C-4A31-8842-6A850D2228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B30E5-0B47-41B5-8241-6E8E7AD0C8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9FC57-F52C-48D8-BAB7-48B7A67CDB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62738-C3F6-41A0-82CB-651E6AB290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46E29-FD41-4EDA-BF58-92FF32C20E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7FB2F-3DF1-4FDF-9E5A-3CD406A72F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CE7E5-C6AB-451B-AF93-F55D3EF074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05E31-0369-45BC-8544-2C73721A4C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6612C-C94F-468B-B4FC-C3795C68B2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4713-1AC2-446F-863D-246985F57E4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34B6-0D00-461C-8658-950A4A58512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3D306-1328-47E3-893A-45767B1680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1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56633-A418-4E12-B2B0-B05A1D6B50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38E-A358-41E6-921F-AB89CC6E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651-7E45-485E-83F3-FC16252C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F8B5-1AD3-441D-ABC9-27805631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8B8-9C8D-4F87-B4CD-71D9D4DD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7FE5-E265-4B51-B771-507763FD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ED4-6033-4B75-BECF-642F75AA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584-E179-4071-9411-C2B59C22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AA6B-EABA-4189-B6BC-A4061529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361960" y="685800"/>
            <a:ext cx="59720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BEF-FC62-4589-9058-E51CD1AE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6845-B08A-41E0-BF2D-E5DA2E95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E1AC-ED1C-4167-8B3E-3E9FFD66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86A6-FF29-47CA-9989-64E4FF45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457200" y="175248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EF96-8D9D-4F19-B37F-EAD46B868F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" name="Picture 17" descr="Logo blue"/>
          <p:cNvPicPr/>
          <p:nvPr/>
        </p:nvPicPr>
        <p:blipFill>
          <a:blip r:embed="rId2"/>
          <a:stretch/>
        </p:blipFill>
        <p:spPr>
          <a:xfrm>
            <a:off x="914400" y="914400"/>
            <a:ext cx="117648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79A9-B094-4D81-9121-40DF09DB27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-360" y="2492280"/>
            <a:ext cx="8929800" cy="33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ondon and national transport policy in a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ow carbon, lean public expenditure futur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ephen Glaist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irector RAC Foundation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London School of Economics           1</a:t>
            </a:r>
            <a:r>
              <a:rPr b="0" lang="en-GB" sz="1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February 2010        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3080" y="285480"/>
            <a:ext cx="59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2009 Budget Repor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1720800"/>
            <a:ext cx="9144000" cy="51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D4A4-F63D-49E6-9AFB-799AAFEE22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68000" y="714240"/>
            <a:ext cx="658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A need for a strategy that is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2960" y="2142720"/>
            <a:ext cx="87408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ong term: road and rai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akes roads safe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als with carb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ffordable – how do we pay for it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356400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London is the focus of the strategic road network and the most congested are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Source: Eddington Review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564000" y="-23760"/>
            <a:ext cx="52578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4508640"/>
            <a:ext cx="352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rce: Eddington Review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140360" y="0"/>
            <a:ext cx="4751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8864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Most rail travel is centred on Lond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-360" y="692280"/>
            <a:ext cx="8604360" cy="5761080"/>
            <a:chOff x="-360" y="692280"/>
            <a:chExt cx="8604360" cy="576108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 rot="5400000">
              <a:off x="1421280" y="-729360"/>
              <a:ext cx="5761080" cy="860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6659640" y="6553080"/>
            <a:ext cx="231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ecff"/>
                </a:solidFill>
                <a:latin typeface="Tahoma"/>
              </a:rPr>
              <a:t>Source: Eddington Review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866920" y="836280"/>
            <a:ext cx="308772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nsport policy in London tends to concentrate on radial corridor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rce: Mayor’s Draft Transport Strategy, 2009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ut a great deal of the movement is within London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nd by car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6894360" cy="5345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837680" y="6356520"/>
            <a:ext cx="40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urce: Mayor’s Draft Transport Strategy, 20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21680" cy="5229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72000" y="6308640"/>
            <a:ext cx="41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urce: Mayor’s Draft Transport Strategy, 20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 Greater London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8128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60 per cent of all personal mechanised trips are by private car;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2 percent are by bus or taxi and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 percent by cycle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60 + 22 + 3 =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83 percent are by road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nly the 17 percent are by rail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Travel in London Report No 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TfL, 2009, Table 3.1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chanised trips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entirely withi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Oute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Lond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76 percent are by ca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8 percent by bus and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 percent by rail.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is a lot going on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2700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rowth will put extra demands on road network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0920" y="5661000"/>
            <a:ext cx="23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Source: Mayor’s Draft Transport Strategy, 200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2273-7ACC-4D36-A1A2-8BB23E5827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2142720"/>
            <a:ext cx="87408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1714680" y="785880"/>
            <a:ext cx="6215040" cy="54608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0" y="6214680"/>
            <a:ext cx="521496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Mayor’s  draft Transport Strategy, 12 October 2009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857160" y="0"/>
            <a:ext cx="8286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What is the strategy for London Road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Funding and priorities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Draft MTS lacks any clear indication of priorities. 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 policies and 129 proposals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ich are the most important? 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unding will be insufficient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94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ere will it be focussed?</a:t>
            </a: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685800"/>
            <a:ext cx="7723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National Polic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ng Term Strategy: road and rai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arties are claiming the economy will recove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ies return to growing demand for road and rai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already short of capacity on both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2526-5C76-4964-BC95-29184C00C0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0" y="549000"/>
            <a:ext cx="687564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lentless road traffic growth</a:t>
            </a:r>
            <a:br>
              <a:rPr sz="3200"/>
            </a:b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(source: Road Statistics 2007, DfT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4200" y="2050920"/>
            <a:ext cx="874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488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1014480"/>
            <a:ext cx="6913440" cy="5843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77120" cy="6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hy congestion has got worse in the pas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F3CC-0379-4816-8769-8CF9790194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14400" y="115920"/>
            <a:ext cx="64292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Congestion will get worse!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0978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f01"/>
                </a:solidFill>
                <a:latin typeface="Arial"/>
              </a:rPr>
              <a:t>Between 2005 and 2041:</a:t>
            </a:r>
            <a:r>
              <a:rPr b="1" lang="en-GB" sz="2400" spc="-1" strike="noStrike">
                <a:solidFill>
                  <a:srgbClr val="ffcf01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RAC Foundation estimates)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ulation will grow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st growth in the E, S and Lond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comes will doub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ad traffic demand up over 40%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ail planning is assuming that rail growth will continue at recent rat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54EA-1A6A-40C3-8A66-298B0680B2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ational Traffic Forecast (DfT, 2008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82240" y="4786200"/>
            <a:ext cx="7604280" cy="1346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2"/>
          <a:stretch/>
        </p:blipFill>
        <p:spPr>
          <a:xfrm>
            <a:off x="611280" y="998640"/>
            <a:ext cx="8281800" cy="585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8136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Plans to  2015 </a:t>
            </a:r>
            <a:br>
              <a:rPr sz="2800"/>
            </a:b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January 2009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55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shoulder running alternative to motorway widening,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20 additional lane miles to the national strategic road network, of which 340 lane miles through hard shoulder running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£6bn announced in July 200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 much new capacity for local road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CD92-D4C5-4D76-9DF3-55D68B1C44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68000" y="691920"/>
            <a:ext cx="687564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12 October 2009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142720"/>
            <a:ext cx="8748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rime Minister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l off the assets” – inc. Dartford bridg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yor of London “Draft Transport Strategy”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don Population up 1.3 million by 2031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don road charging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mittee on Climate Change “First Report”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carbonisation of transpor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tional road charging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Investment good value for money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37" name="Rectangle 3"/>
          <p:cNvGraphicFramePr/>
          <p:nvPr/>
        </p:nvGraphicFramePr>
        <p:xfrm>
          <a:off x="214200" y="1928880"/>
          <a:ext cx="8929800" cy="515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928880"/>
                    <a:ext cx="89298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5"/>
          <p:cNvSpPr/>
          <p:nvPr/>
        </p:nvSpPr>
        <p:spPr>
          <a:xfrm>
            <a:off x="285840" y="6553080"/>
            <a:ext cx="75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Source: Eddington (Dodgson, RAC Foundation, 2009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5716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aisal methods subject to revis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t economic returns look very goo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 the right road or rail schemes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Eddington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ublic transport cannot help muc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4360" y="2276640"/>
            <a:ext cx="878832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transport improvements may be good policy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not make much impact on road congestion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carbon emission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 a cost that is feasibl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l and local bus each have 6% of passenger marke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1008-CF91-4D6E-A83D-FADE623311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59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The alternativ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3200" y="2276640"/>
            <a:ext cx="874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t congestion continue to grow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ild &amp; widen roads without reforming pricing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orm pricing and heavily restrain demand  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reform pricing to improve efficiency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 additional capacity to preserve mobility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988640"/>
            <a:ext cx="845496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ake roads saf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BA28-7115-4691-A9C3-7AF70508B0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9040" y="1988640"/>
            <a:ext cx="845496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Jo Hil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9C90-E7DC-4ABF-8294-6E4F9F52EC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8215200" cy="4843440"/>
          </a:xfrm>
          <a:prstGeom prst="rect">
            <a:avLst/>
          </a:prstGeom>
          <a:ln w="0">
            <a:noFill/>
          </a:ln>
        </p:spPr>
      </p:pic>
      <p:sp>
        <p:nvSpPr>
          <p:cNvPr id="156" name="Title 1"/>
          <p:cNvSpPr/>
          <p:nvPr/>
        </p:nvSpPr>
        <p:spPr>
          <a:xfrm>
            <a:off x="250920" y="0"/>
            <a:ext cx="871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mall expenditures on improving roa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ave very high return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itle 1"/>
          <p:cNvSpPr/>
          <p:nvPr/>
        </p:nvSpPr>
        <p:spPr>
          <a:xfrm>
            <a:off x="0" y="5867280"/>
            <a:ext cx="871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ource: Road Safety Foundation, 200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82000" cy="63864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250920" y="6381720"/>
            <a:ext cx="49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ff"/>
                </a:solidFill>
                <a:latin typeface="Arial"/>
              </a:rPr>
              <a:t>Source: Mitchell, RAC Foundation, March 201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8923320" cy="64594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0" y="6521400"/>
            <a:ext cx="49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ff"/>
                </a:solidFill>
                <a:latin typeface="Arial"/>
              </a:rPr>
              <a:t>Source: Mitchell, RAC Foundation, March 201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988640"/>
            <a:ext cx="845496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eal with carb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CDEF-C3CB-40CA-8656-14E25A624D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Slide Number Placeholder 2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83B7-0B8B-4C49-B3AE-B39511AB66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604800" y="785880"/>
            <a:ext cx="8086680" cy="6072120"/>
          </a:xfrm>
          <a:prstGeom prst="rect">
            <a:avLst/>
          </a:prstGeom>
          <a:ln w="0">
            <a:noFill/>
          </a:ln>
        </p:spPr>
      </p:pic>
      <p:sp>
        <p:nvSpPr>
          <p:cNvPr id="169" name="Title 1"/>
          <p:cNvSpPr/>
          <p:nvPr/>
        </p:nvSpPr>
        <p:spPr>
          <a:xfrm>
            <a:off x="250920" y="0"/>
            <a:ext cx="871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mittee on Climate Change, First Report, 12 October 200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21 October 2009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S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K population of 61.4 million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e to 71.6 million by 2033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1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D258-9EB9-469A-A401-F8C9B57552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642960" y="835200"/>
            <a:ext cx="8072280" cy="6022800"/>
          </a:xfrm>
          <a:prstGeom prst="rect">
            <a:avLst/>
          </a:prstGeom>
          <a:ln w="0">
            <a:noFill/>
          </a:ln>
        </p:spPr>
      </p:pic>
      <p:sp>
        <p:nvSpPr>
          <p:cNvPr id="173" name="Title 1"/>
          <p:cNvSpPr/>
          <p:nvPr/>
        </p:nvSpPr>
        <p:spPr>
          <a:xfrm>
            <a:off x="357120" y="142920"/>
            <a:ext cx="8643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mittee on Climate Change, First Report, 12 October 200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Carbon: 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Follow through principles of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tern and Eddingt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71E7-1E62-491D-8961-20CE77B356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55280" y="2349360"/>
            <a:ext cx="89298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Decide what the price of carbon should be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Ensure everybody pays i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Do road and rail appraisals properly </a:t>
            </a:r>
            <a:r>
              <a:rPr b="1" lang="en-US" sz="2400" spc="-1" strike="noStrike">
                <a:solidFill>
                  <a:srgbClr val="262673"/>
                </a:solidFill>
                <a:latin typeface="Arial"/>
              </a:rPr>
              <a:t>and use them!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785880" y="2205000"/>
            <a:ext cx="6573600" cy="4438800"/>
          </a:xfrm>
          <a:prstGeom prst="rect">
            <a:avLst/>
          </a:prstGeom>
          <a:ln w="0">
            <a:noFill/>
          </a:ln>
        </p:spPr>
      </p:pic>
      <p:sp>
        <p:nvSpPr>
          <p:cNvPr id="180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2155-1E7F-4F10-A72A-B29FC28DEF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900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f01"/>
                </a:solidFill>
                <a:latin typeface="Tahoma"/>
              </a:rPr>
              <a:t>Effects on fuel consumption and carbon emi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C9B4-CB00-4DEB-A880-125AE80061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13880" y="1857240"/>
            <a:ext cx="89298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On current valu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ongestion is a bigger problem than carb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arbon in transport will be reduced by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mplementation of better technology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Decarbonising surface transpor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(see Committee on Climate Change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ore sensible pricing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icture is of more traffic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ble transport carbon emission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ieved by improved vehicle technology etc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ication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 will need more road capacity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187B-D4EB-413D-96EA-41B770DFB5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14240" y="1857240"/>
            <a:ext cx="814392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fordable: how do we pay for it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8EE6-21FA-413C-9DE0-48ACB1AAC5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14240" y="1857240"/>
            <a:ext cx="814392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crease fuel duty or VED?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oads taxation is controversial!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8BCE-9CFD-4938-B74D-D4B480AD8E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914400" y="1833480"/>
            <a:ext cx="807732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2320" y="685800"/>
            <a:ext cx="6457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National Road Charg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 essential, but it helps!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means to manage deman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re efficient use of existing network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way of generating more fund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order to enhance the network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fety,  management, physical capacity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way  of dealing with carb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7280" y="142920"/>
            <a:ext cx="5972400" cy="14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Reform of</a:t>
            </a:r>
            <a:br>
              <a:rPr sz="2800"/>
            </a:b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road investment and charg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9680" y="1928880"/>
            <a:ext cx="831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primary problem: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ck of public understand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en if understood, lack of public trus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body promotes interests of road users</a:t>
            </a: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31 December 2009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y of High Speed 2 Report t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tary of State for Transpor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arent all-party support for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twork of new high speed railways”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or without national road charging 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ange will require change in th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stitution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2195280" y="691920"/>
            <a:ext cx="66625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stitutions and governance matter!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14720" y="71424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stitutions and governance matter!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42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C in London has succeeded: why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operly researched proposi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ear “deal” for the electorat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 accountabilit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cal accountability and transparenc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42720" y="533160"/>
            <a:ext cx="70009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UK regulated utility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elecoms, Gas, Electricity, Water, Rai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umer pays a fee for us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ee determined by independent regulato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blicly declared principles: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conomy, efficiency, fair return on capital,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pacity investment funded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umer protection: eg Quality  of Service is published and debated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673"/>
                </a:solidFill>
                <a:latin typeface="Arial"/>
              </a:rPr>
              <a:t>Direct connection between value to consumer and investment in capacity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14720" y="928800"/>
            <a:ext cx="646272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 Rail there is a coherent strateg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53272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Output Specification  (HLOS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tement of Funds Available  (SoFA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 Rail to promote railway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dependent Regulator to adjudicate that it all adds up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Speed Rail proposals should fit within this framework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6443640" y="2492280"/>
            <a:ext cx="73080" cy="79236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362320" y="685800"/>
            <a:ext cx="6424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Water industry has many lessons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28440" y="2000160"/>
            <a:ext cx="84214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ssive investment funded by charges to user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rovement in water quality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adual acceptance of domestic meter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nchmarking an important driver of efficiency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atutory users’ representation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dustry has a duty to supply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339640" y="62064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trategic Roads</a:t>
            </a:r>
            <a:br>
              <a:rPr sz="2800"/>
            </a:b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like other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regulated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utilities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0920" y="234936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ad infrastructure provider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th an income stream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ld  accountable b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ndependen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regulation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duty to meet the needs of user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sure that it is able to finance its function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nitor its performance in relation to stewardship and service delivery; and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640" y="691920"/>
            <a:ext cx="612144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Defective roads governanc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39200" y="2133720"/>
            <a:ext cx="870444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zantine confusion about who is accountable for wha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bsence of a customer billing relationship between the service provider and the road use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independently reported measure of quality of servic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independent consumer protecti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o long term charging or investment strateg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685800"/>
            <a:ext cx="7939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overnance refor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99680" y="1904760"/>
            <a:ext cx="875844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lessons taken from the other public utilities ?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and </a:t>
            </a:r>
            <a:r>
              <a:rPr b="0" lang="en-US" sz="2000" spc="-1" strike="noStrike">
                <a:solidFill>
                  <a:srgbClr val="262673"/>
                </a:solidFill>
                <a:latin typeface="Arial"/>
              </a:rPr>
              <a:t>independ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uthorities could be a useful part of future reform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need better measures of quality of servic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ould facilitate the necessary rebuilding of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r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tween accountable bodies and user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t must be nationa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43080" y="685800"/>
            <a:ext cx="6500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o progress, a scheme …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42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offer a clear “deal”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standable (keep it simple)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adly “fair” (spell out winners and losers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dible (the arithmetic stacks up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ologically robust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thy of trust (can check if it’s delivered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charging scheme has to be national  (deal on existing road taxes)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London,  (Cambridge)….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24000" y="685800"/>
            <a:ext cx="6696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rporate governance options for roa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42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form of national and local government?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re independence for HA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blic Benefit Corporation  or  public trust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ulated private provider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Winter 2009-10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od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st damage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lready poorly maintained road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of putting infrastructure into good condition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eographical scope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00080" y="2214720"/>
            <a:ext cx="842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tional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gional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ute-based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3357720"/>
            <a:ext cx="73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does London fit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a national reform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84360" y="764640"/>
            <a:ext cx="5972400" cy="6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57160" y="1988640"/>
            <a:ext cx="85298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nothing?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ways Agency given [what?] corporate statu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 independent regulator for roads and road safety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vernment HLOS and SoFA for roads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ormed by input from road users, local authorities and regional bodies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e need a long term strategy f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ailways and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specially roads!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fe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als with carb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ffordable – how it is paid for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E2D8-DD18-4CB8-8E20-A1A12E31A3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340000" y="476280"/>
            <a:ext cx="680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Roads and Reality (RAC Foundation)</a:t>
            </a:r>
            <a:br>
              <a:rPr sz="2800"/>
            </a:br>
            <a:r>
              <a:rPr b="0" lang="en-GB" sz="2000" spc="-1" strike="noStrike">
                <a:solidFill>
                  <a:srgbClr val="ccffff"/>
                </a:solidFill>
                <a:latin typeface="Arial"/>
              </a:rPr>
              <a:t>GB strategic roads Costs and benefits  (£bn p.a. in 2041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79280" y="1844640"/>
          <a:ext cx="8785440" cy="4818240"/>
        </p:xfrm>
        <a:graphic>
          <a:graphicData uri="http://schemas.openxmlformats.org/drawingml/2006/table">
            <a:tbl>
              <a:tblPr/>
              <a:tblGrid>
                <a:gridCol w="3951360"/>
                <a:gridCol w="1593720"/>
                <a:gridCol w="1079640"/>
                <a:gridCol w="1165320"/>
                <a:gridCol w="763560"/>
                <a:gridCol w="231840"/>
              </a:tblGrid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extra capac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0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km p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o pric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oss benefit to socie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of additional  capac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 benefit:cost ratio of scenar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ginal benefit:cost of additional capac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: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: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: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fficient pric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oss benefit to socie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of additional  capac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of charge coll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 benefit:cost ratio of scenar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ginal benefit:cost of additional capacity and coll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: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: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9: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: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car used by rich and poo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57736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6"/>
          <p:cNvSpPr/>
          <p:nvPr/>
        </p:nvSpPr>
        <p:spPr>
          <a:xfrm>
            <a:off x="1447920" y="1752480"/>
            <a:ext cx="6705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           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Highes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7280" y="714240"/>
            <a:ext cx="59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January</a:t>
            </a:r>
            <a:r>
              <a:rPr b="1" lang="en-GB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2010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2017440"/>
            <a:ext cx="8559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ry policies on rail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Less than 10% of passenger and freight market: heavily loss-making.)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 fare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ies more capacity?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 crowd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competitive pressure on Network Rai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 competitive pressure on train operator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est heavily in High Speed Rail network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esa Villiers, 12 January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2928960" y="307188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January</a:t>
            </a:r>
            <a:r>
              <a:rPr b="1" lang="en-GB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2010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ry policies on roa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ore than 90% of passenger and freight market: Profit-making)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ad congestion and unreliability a recognised as a problem…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 road works, traffic light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localised decision-making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rry road user-charging (No general road user-charging)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 Highways Agency more efficien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road projects only “where … consistent with a responsible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ach to the public finances”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resa Villiers, 22 January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After General Elec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vernment expenditure cut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nsport  NOT  “protected”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6:32:23Z</dcterms:created>
  <dc:creator>RAC  Foundation</dc:creator>
  <dc:description/>
  <dc:language>en-US</dc:language>
  <cp:lastModifiedBy>Glaister</cp:lastModifiedBy>
  <dcterms:modified xsi:type="dcterms:W3CDTF">2010-01-31T18:16:40Z</dcterms:modified>
  <cp:revision>430</cp:revision>
  <dc:subject/>
  <dc:title>RAC Foundation</dc:title>
</cp:coreProperties>
</file>