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F75C4-53EE-460B-AB82-DD214B3AEB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B833F-6FAB-486C-9847-49ACDAC11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7CFDF-2845-4110-AB03-0AE206B9D7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D5C13-A81C-41EF-86DA-D347F06B98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E0FBB-88E4-4503-BFA5-D5C3877A1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DF3C4-C63D-4851-8E02-C03626B49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39BE1-47F1-4712-B1FD-7BBF5650F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8E604-0040-4336-8279-318827DC1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EBCFD-3E2A-467E-8FC5-8DFF5DD636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46EE4-DEB2-4222-935C-6CD546007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C800D-928C-4BA4-9736-777B7926D3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5C2-11DF-4DAC-A2A9-C34FE245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52DF2-9659-484E-B999-28889892A9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2FE35-3636-4943-A8D5-A7FF1FFD26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02904-1235-4537-A10E-21E716C2B6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FEBD9-9E51-4CE9-A4F0-E59C30D17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3341C-E950-481E-9A5D-D7738A23B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7AF2C-2803-47DA-BB06-1D89F0DBB5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9281C-E763-40AA-A974-934BF7874C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0AA47-7960-47C4-9DED-0E1B6A8B5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6910E-1D05-4FB9-9BA7-42BE69C04F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F36-C214-4EF3-B21D-A641DE92375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5534-E514-4D01-B0CF-1B425F6092F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21F63-6678-499C-971C-1F33FCD27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45376-66CC-413C-93EF-C008257A58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4B4-06A3-4BAC-BCCB-38217EF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840-037A-4083-B5BE-80091241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5A6-5A0F-4CE8-8177-90D0C6E1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98A-D5C2-4418-86A2-385E5D22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5C5-EB09-49C8-A3ED-2883C3E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C75-13DB-4737-9162-7614760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E94-FE67-4BFD-B438-ACB3B85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63E-78B6-4FED-BBE4-63F7B5A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1960" y="685800"/>
            <a:ext cx="5972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0FE-E017-4045-8CDC-D551D70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B3E-7370-4562-9A95-F14BC44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5F9-ABE8-456E-BB2E-603E847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31E-7B43-49FE-A10D-98C723A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457200" y="17524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456-7A93-4D97-B575-4C641959D2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17" descr="Logo blue"/>
          <p:cNvPicPr/>
          <p:nvPr/>
        </p:nvPicPr>
        <p:blipFill>
          <a:blip r:embed="rId2"/>
          <a:stretch/>
        </p:blipFill>
        <p:spPr>
          <a:xfrm>
            <a:off x="914400" y="914400"/>
            <a:ext cx="11764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A5F5-5821-4D83-B1D7-4D2F9A0F74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2492280"/>
            <a:ext cx="8929800" cy="33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ndon and national transport policy in a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w carbon, lean public expenditure futur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phen Glais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irector RAC Foundatio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ondon School of Economics           1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February 2010       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3080" y="285480"/>
            <a:ext cx="59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2009 Budget Repor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72080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6B0-504E-4BD0-996C-3244D66E2F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714240"/>
            <a:ext cx="658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A need for a strategy that is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2960" y="2142720"/>
            <a:ext cx="874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g term: road and rai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kes roads saf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als with carb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ffordable – how do we pay for it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35640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London is the focus of the strategic road network and the most congested are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Source: Eddingt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64000" y="-23760"/>
            <a:ext cx="52578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450864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: Eddingt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75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ost rail travel is centred on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360" y="692280"/>
            <a:ext cx="8604360" cy="5761080"/>
            <a:chOff x="-360" y="692280"/>
            <a:chExt cx="8604360" cy="57610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1421280" y="-729360"/>
              <a:ext cx="5761080" cy="860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6659640" y="6553080"/>
            <a:ext cx="23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ahoma"/>
              </a:rPr>
              <a:t>Source: Eddington Review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66920" y="836280"/>
            <a:ext cx="30877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ort policy in London tends to concentrate on radial corrido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: Mayor’s Draft Transport Strategy, 2009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t a great deal of the movement is within London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by car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894360" cy="534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37680" y="63565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21680" cy="522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6308640"/>
            <a:ext cx="41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Greater London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0 per cent of all personal mechanised trips are by private car;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2 percent are by bus or taxi and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percent by cyc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60 + 22 + 3 =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83 percent are by road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ly the 17 percent are by rail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ravel in London Report No 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TfL, 2009, Table 3.1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chanised trip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ntirely with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ut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6 percent are by ca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8 percent by bus and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percent by rail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a lot going on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270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owth will put extra demands on road networ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566100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Source: Mayor’s Draft Transport Strategy, 200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4D9-3788-473B-ABC4-54D964B7F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2142720"/>
            <a:ext cx="874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1714680" y="785880"/>
            <a:ext cx="6215040" cy="546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6214680"/>
            <a:ext cx="521496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Mayor’s  draft Transport Strategy, 12 October 2009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857160" y="0"/>
            <a:ext cx="8286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hat is the strategy for London Roa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ding and prioritie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raft MTS lacks any clear indication of priorities.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 policies and 129 proposals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are the most important?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ding will be insufficient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will it be focussed?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685800"/>
            <a:ext cx="7723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ational Poli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Strategy: road and rai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arties are claiming the economy will recov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ies return to growing demand for road and rai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already short of capacity on both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9125-F9EB-4D1F-B3D9-81AA5C4F5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6875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lentless road traffic growth</a:t>
            </a:r>
            <a:br>
              <a:rPr sz="32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source: Road Statistics 2007, DfT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4200" y="205092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48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6913440" cy="5843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7712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hy congestion has got worse in the pa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ACF-1C65-4B7D-ACC2-1B0FDB53C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14400" y="115920"/>
            <a:ext cx="6429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ngestion will get worse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97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f01"/>
                </a:solidFill>
                <a:latin typeface="Arial"/>
              </a:rPr>
              <a:t>Between 2005 and 2041:</a:t>
            </a:r>
            <a:r>
              <a:rPr b="1" lang="en-GB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RAC Foundation estimates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will grow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growth in the E, S and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omes will doub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ad traffic demand up over 40%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il planning is assuming that rail growth will continue at recent rat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162-8BE4-466A-9D45-0E2E5796A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ational Traffic Forecast (DfT, 2008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2240" y="4786200"/>
            <a:ext cx="7604280" cy="134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11280" y="998640"/>
            <a:ext cx="8281800" cy="585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lans to  2015 </a:t>
            </a:r>
            <a:br>
              <a:rPr sz="2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January 2009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55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shoulder running alternative to motorway widening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20 additional lane miles to the national strategic road network, of which 340 lane miles through hard shoulder running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£6bn announced in July 20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much new capacity for local road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BDB-C070-4D88-9FF9-CF4046F26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875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12 Octo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74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ime Minister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l off the assets” – inc. Dartford bridg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or of London “Draft Transport Strategy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don Population up 1.3 million by 203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don road chargi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mittee on Climate Change “First Report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carbonisation of transpor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tional road chargi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vestment good value for money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14200" y="1928880"/>
          <a:ext cx="8929800" cy="51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928880"/>
                    <a:ext cx="89298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85840" y="6553080"/>
            <a:ext cx="75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ource: Eddington (Dodgson, RAC Foundation, 2009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716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aisal methods subject to revi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 economic returns look very go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the right road or rail schemes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Eddington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ublic transport cannot help mu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276640"/>
            <a:ext cx="87883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transport improvements may be good polic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not make much impact on road congestion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arbon emiss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cost that is feasib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 and local bus each have 6% of passenger marke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8E2-18A6-4F79-8CFF-14BD4743B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59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alternativ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3200" y="227664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congestion continue to gro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ild &amp; widen roads without reforming prici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orm pricing and heavily restrain demand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eform pricing to improve efficiency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 additional capacity to preserve mobilit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ke roads saf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0B53-57BE-4BCA-8D4A-8F71976CB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904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Jo Hi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473-6A75-40CD-BAF3-A8556A7A8B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4843440"/>
          </a:xfrm>
          <a:prstGeom prst="rect">
            <a:avLst/>
          </a:prstGeom>
          <a:ln w="0">
            <a:noFill/>
          </a:ln>
        </p:spPr>
      </p:pic>
      <p:sp>
        <p:nvSpPr>
          <p:cNvPr id="156" name="Title 1"/>
          <p:cNvSpPr/>
          <p:nvPr/>
        </p:nvSpPr>
        <p:spPr>
          <a:xfrm>
            <a:off x="250920" y="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mall expenditures on improving roa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ave very high retur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0" y="586728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urce: Road Safety Foundation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82000" cy="6386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50920" y="638172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ff"/>
                </a:solidFill>
                <a:latin typeface="Arial"/>
              </a:rPr>
              <a:t>Source: Mitchell, RAC Foundation, March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8923320" cy="6459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ff"/>
                </a:solidFill>
                <a:latin typeface="Arial"/>
              </a:rPr>
              <a:t>Source: Mitchell, RAC Foundation, March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8640"/>
            <a:ext cx="8454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al with carb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E03-9EBD-4297-BED2-E2C0A4BC60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1B6-B5C0-4CEA-8D8A-12FB47CB35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04800" y="785880"/>
            <a:ext cx="8086680" cy="607212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250920" y="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ittee on Climate Change, First Report, 12 October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1 Octo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S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 population of 61.4 million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to 71.6 million by 2033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123D-A257-4844-9B4D-A4E34A551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42960" y="835200"/>
            <a:ext cx="8072280" cy="6022800"/>
          </a:xfrm>
          <a:prstGeom prst="rect">
            <a:avLst/>
          </a:prstGeom>
          <a:ln w="0">
            <a:noFill/>
          </a:ln>
        </p:spPr>
      </p:pic>
      <p:sp>
        <p:nvSpPr>
          <p:cNvPr id="173" name="Title 1"/>
          <p:cNvSpPr/>
          <p:nvPr/>
        </p:nvSpPr>
        <p:spPr>
          <a:xfrm>
            <a:off x="357120" y="142920"/>
            <a:ext cx="8643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ittee on Climate Change, First Report, 12 October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arbon: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Follow through principles of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tern and Eddingt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8AB6-BACF-446B-B018-E1ADDC9A2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5280" y="2349360"/>
            <a:ext cx="89298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ide what the price of carbon should b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nsure everybody pays i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o road and rail appraisals properly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and use them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785880" y="2205000"/>
            <a:ext cx="6573600" cy="44388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786-02B6-4951-8298-5F8A82B20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00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f01"/>
                </a:solidFill>
                <a:latin typeface="Tahoma"/>
              </a:rPr>
              <a:t>Effects on fuel consumption and carbon e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5077-AAB0-46A2-A387-06CA8D998D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3880" y="1857240"/>
            <a:ext cx="89298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On current val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gestion is a bigger problem than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arbon in transport will be reduced b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mplementation of better technology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arbonising surface transpor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see Committee on Climate Chang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sensible pricing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icture is of more traff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transport carbon emiss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d by improved vehicle technology etc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ication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need more road capacity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DAA-7FC8-4996-9A93-4B466D394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14240" y="1857240"/>
            <a:ext cx="814392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fordable: how do we pay for it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6BAE-0CAA-4B1E-BA54-7D988C4D2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857240"/>
            <a:ext cx="814392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e fuel duty or VED?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ads taxation is controversial!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E09E-C2F5-4F4F-AE15-A8EF61DE2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14400" y="1833480"/>
            <a:ext cx="807732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6457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ational Road Charg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essential, but it helps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eans to manage deman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efficient use of existing net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way of generating more fund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o enhance the net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,  management, physical capacit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way  of dealing with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7280" y="142920"/>
            <a:ext cx="5972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eform of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ad investment and cha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9680" y="1928880"/>
            <a:ext cx="831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imary problem: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ck of public understan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en if understood, lack of public tru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body promotes interests of road users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31 December 200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of High Speed 2 Report 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of State for Transpor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arent all-party support for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twork of new high speed railways”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or without national road charging 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nge will require change in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itu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195280" y="691920"/>
            <a:ext cx="66625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itutions and governance matte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itutions and governance matte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 in London has succeeded: why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erly researched proposi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ear “deal” for the elector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ccountabili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cal accountability and transparenc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42720" y="533160"/>
            <a:ext cx="7000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UK regulated utility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lecoms, Gas, Electricity, Water, Rai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umer pays a fee for us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e determined by independent regulato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ly declared principles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onomy, efficiency, fair return on capital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city investment funde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umer protection: eg Quality  of Service is published and debate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673"/>
                </a:solidFill>
                <a:latin typeface="Arial"/>
              </a:rPr>
              <a:t>Direct connection between value to consumer and investment in capacit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14720" y="928800"/>
            <a:ext cx="6462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Rail there is a coherent strate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53272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Output Specification  (HLO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ement of Funds Available  (SoFA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 Rail to promote railway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ependent Regulator to adjudicate that it all adds up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Speed Rail proposals should fit within this framework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443640" y="2492280"/>
            <a:ext cx="73080" cy="79236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62320" y="685800"/>
            <a:ext cx="642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ater industry has many lesson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8421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ssive investment funded by charges to use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 in water qualit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dual acceptance of domestic meter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chmarking an important driver of efficienc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utory users’ represent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ustry has a duty to supply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39640" y="62064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rategic Roads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like other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egulated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utiliti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 infrastructure provider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an income strea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d  accountable b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regul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duty to meet the needs of use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sure that it is able to finance its function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nitor its performance in relation to stewardship and service delivery; an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640" y="691920"/>
            <a:ext cx="61214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fective roads govern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9200" y="2133720"/>
            <a:ext cx="87044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zantine confusion about who is accountable for wha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bsence of a customer billing relationship between the service provider and the road use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ly reported measure of quality of servic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 consumer protec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 long term charging or investment strateg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685800"/>
            <a:ext cx="793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overnance re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9680" y="1904760"/>
            <a:ext cx="87584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lessons taken from the other public utilities 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and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uthorities could be a useful part of future refo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eed better measures of quality of servic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ould facilitate the necessary rebuilding of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r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accountable bodies and user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t must be nation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3080" y="685800"/>
            <a:ext cx="6500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 progress, a scheme 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offer a clear “deal”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able (keep it simple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ly “fair” (spell out winners and losers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ble (the arithmetic stacks up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cally robust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thy of trust (can check if it’s delivered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harging scheme has to be national  (deal on existing road taxes)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London,  (Cambridge)….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24000" y="685800"/>
            <a:ext cx="6696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rporate governance options for roa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orm of national and local government?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independence for HA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 Benefit Corporation  or  public trust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ed private provider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Winter 2009-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st damage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ready poorly maintained roa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putting infrastructure into good conditio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eographical scop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00080" y="2214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ional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ional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ute-based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335772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does London fit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national reform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84360" y="764640"/>
            <a:ext cx="597240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57160" y="1988640"/>
            <a:ext cx="8529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hing?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ways Agency given [what?] corporate statu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dependent regulator for roads and road safety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vernment HLOS and SoFA for roads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ed by input from road users, local authorities and regional bodies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 need a long term strategy fo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ilways an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specially roads!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fe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als with carb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ffordable – how it is paid for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racfoundation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6514-600E-4DCA-87C3-09CE3AB11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40000" y="476280"/>
            <a:ext cx="680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ads and Reality (RAC Foundation)</a:t>
            </a:r>
            <a:br>
              <a:rPr sz="2800"/>
            </a:br>
            <a:r>
              <a:rPr b="0" lang="en-GB" sz="2000" spc="-1" strike="noStrike">
                <a:solidFill>
                  <a:srgbClr val="ccffff"/>
                </a:solidFill>
                <a:latin typeface="Arial"/>
              </a:rPr>
              <a:t>GB strategic roads Costs and benefits  (£bn p.a. in 2041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1844640"/>
          <a:ext cx="8785440" cy="4818240"/>
        </p:xfrm>
        <a:graphic>
          <a:graphicData uri="http://schemas.openxmlformats.org/drawingml/2006/table">
            <a:tbl>
              <a:tblPr/>
              <a:tblGrid>
                <a:gridCol w="3951360"/>
                <a:gridCol w="1593720"/>
                <a:gridCol w="1079640"/>
                <a:gridCol w="1165320"/>
                <a:gridCol w="763560"/>
                <a:gridCol w="23184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extra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km 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pric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ss benefit to 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additional 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benefit:cost ratio of scena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ginal benefit:cost of additional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fficient pric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ss benefit to 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additional  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of charge coll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benefit:cost ratio of scena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ginal benefit:cost of additional capacity and coll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: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ar used by rich and po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773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1447920" y="1752480"/>
            <a:ext cx="670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          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High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7280" y="714240"/>
            <a:ext cx="59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January</a:t>
            </a: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y policies on rail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ess than 10% of passenger and freight market: heavily loss-making.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far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ies more capacity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crowd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competitive pressure on Network Rai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competitive pressure on train operato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 heavily in High Speed Rail networ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esa Villiers, 12 Januar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928960" y="30718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January</a:t>
            </a: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y policies on ro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re than 90% of passenger and freight market: Profit-making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ad congestion and unreliability a recognised as a problem…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road works, traffic light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localised decision-making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ry road user-charging (No general road user-charging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Highways Agency more efficien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oad projects only “where … consistent with a responsib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ach to the public finances”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sa Villiers, 22 January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5972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After General Ele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vernment expenditure cu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ort  NOT  “protected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6:32:23Z</dcterms:created>
  <dc:creator>RAC  Foundation</dc:creator>
  <dc:description/>
  <dc:language>en-US</dc:language>
  <cp:lastModifiedBy>Glaister</cp:lastModifiedBy>
  <dcterms:modified xsi:type="dcterms:W3CDTF">2010-01-31T18:16:40Z</dcterms:modified>
  <cp:revision>430</cp:revision>
  <dc:subject/>
  <dc:title>RAC Foundation</dc:title>
</cp:coreProperties>
</file>