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2896560"/>
            <a:ext cx="3886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67660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289656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2676600" y="289656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99440" y="198072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13440" y="198072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289656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999440" y="289656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3313440" y="289656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896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676600" y="1980720"/>
            <a:ext cx="1896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76600" y="1980720"/>
            <a:ext cx="1896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289656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896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7660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76600" y="289656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67660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2896560"/>
            <a:ext cx="3886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2896560"/>
            <a:ext cx="3886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7660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289656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676600" y="289656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9440" y="198072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313440" y="198072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289656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999440" y="289656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313440" y="2896560"/>
            <a:ext cx="125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896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2676600" y="1980720"/>
            <a:ext cx="1896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676600" y="1980720"/>
            <a:ext cx="1896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289656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896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67660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76600" y="289656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676600" y="1980720"/>
            <a:ext cx="1896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2896560"/>
            <a:ext cx="3886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0701" r="0" b="0"/>
          <a:stretch/>
        </p:blipFill>
        <p:spPr>
          <a:xfrm>
            <a:off x="0" y="0"/>
            <a:ext cx="9144000" cy="643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Foundry Form Sans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2" marL="912960" indent="144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3" marL="1365120" indent="5040">
              <a:spcBef>
                <a:spcPts val="799"/>
              </a:spcBef>
              <a:buClr>
                <a:srgbClr val="003366"/>
              </a:buClr>
              <a:buFont typeface="Foundry Form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4" marL="1827360" indent="1440">
              <a:spcBef>
                <a:spcPts val="799"/>
              </a:spcBef>
              <a:buClr>
                <a:srgbClr val="003366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5" marL="1827360" indent="1440">
              <a:spcBef>
                <a:spcPts val="799"/>
              </a:spcBef>
              <a:buClr>
                <a:srgbClr val="000000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6" marL="1827360" indent="1440">
              <a:spcBef>
                <a:spcPts val="799"/>
              </a:spcBef>
              <a:buClr>
                <a:srgbClr val="000000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5873760" y="6553080"/>
            <a:ext cx="3041640" cy="15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10700" r="0" b="0"/>
          <a:stretch/>
        </p:blipFill>
        <p:spPr>
          <a:xfrm>
            <a:off x="0" y="-33480"/>
            <a:ext cx="9144000" cy="64342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873760" y="6553080"/>
            <a:ext cx="3041640" cy="15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undry Form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Foundry Form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oundry Form San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3" marL="1370160" algn="ctr">
              <a:spcBef>
                <a:spcPts val="499"/>
              </a:spcBef>
              <a:buClr>
                <a:srgbClr val="003366"/>
              </a:buClr>
              <a:buFont typeface="Foundry Form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oundry Form San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Foundry Form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oundry Form Sans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oundry Form Sans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oundry Form Sans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Foundry Form Sans"/>
              </a:rPr>
              <a:t>Where are we with the London Plan?</a:t>
            </a: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oundry Form Sans"/>
              </a:rPr>
              <a:t>LSE London Seminar</a:t>
            </a: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oundry Form Sans"/>
              </a:rPr>
              <a:t>22 February 2010</a:t>
            </a: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Foundry Form Sans"/>
              </a:rPr>
              <a:t>Basic trends: employment structure</a:t>
            </a:r>
            <a:endParaRPr b="1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10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Foundry Form Sans"/>
              </a:rPr>
              <a:t>Statistically,  these challenges could mean that:</a:t>
            </a:r>
            <a:endParaRPr b="1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Foundry Form Sans"/>
              </a:rPr>
              <a:t>to 2031</a:t>
            </a:r>
            <a:r>
              <a:rPr b="0" lang="en-GB" sz="2400" spc="-1" strike="noStrike">
                <a:solidFill>
                  <a:srgbClr val="1f497d"/>
                </a:solidFill>
                <a:latin typeface="Foundry Form Sans"/>
              </a:rPr>
              <a:t>:</a:t>
            </a:r>
            <a:r>
              <a:rPr b="0" lang="en-GB" sz="2800" spc="-1" strike="noStrike">
                <a:solidFill>
                  <a:srgbClr val="1f497d"/>
                </a:solidFill>
                <a:latin typeface="Foundry Form Sans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population grows by 1.3 mll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households increase by 0.8 mll,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and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employment by 0.7 mll,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with household expenditure 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 almost doubling to £160 bll.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And perhaps: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4 million more trips per day by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 2023,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and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a 15% increase in CO2 output i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 we do nothing to address it.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Foundry Form Sans"/>
              </a:rPr>
              <a:t>Possible need for:</a:t>
            </a:r>
            <a:r>
              <a:rPr b="0" lang="en-GB" sz="3200" spc="-1" strike="noStrike">
                <a:solidFill>
                  <a:srgbClr val="1f497d"/>
                </a:solidFill>
                <a:latin typeface="Foundry Form San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499"/>
              </a:spcBef>
              <a:buClr>
                <a:srgbClr val="1f497d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Foundry Form Sans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40,000 more hotel rooms,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499"/>
              </a:spcBef>
              <a:buClr>
                <a:srgbClr val="1f497d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1.3 – 2.2 mll sq m of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 comparison goods floorspace,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499"/>
              </a:spcBef>
              <a:buClr>
                <a:srgbClr val="1f497d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2.25 sq m of office space in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 central London alone, and 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499"/>
              </a:spcBef>
              <a:buClr>
                <a:srgbClr val="1f497d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33,000 more homes p.a. across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Foundry Form Sans"/>
              </a:rPr>
              <a:t>London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The new Pla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Shorter and more strategic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ore flexibility at local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Eg parking policy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ore on quality of life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ore on places where people live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ore on Outer London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ore on Inner London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ore on economic diversit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The new Plan (2)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Less prescriptive: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et clear objective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More flexible about mean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Fewer target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The new London Pla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t will be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horter and more strategic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More user-friendly; arranged in more topic-based chapter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t will start with a stronger spatial vision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Chapters on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People (eg housing, social infrastructure)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Economy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Transport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Quality of life (eg built/green environment)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Environment/climate change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11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Implementation, monitoring and review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Continuity with previous Pla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Challenges haven’t changed greatly: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ddressing population and employment growth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Maintaining London’s world city statu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upporting a dynamic economy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roviding homes for Londoner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Transport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Climate change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Same old same old..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till seeking to resolve the strategic/local dynamic (an issue since Salisbury in 1899) 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till seeking to contain London’s physical growth (an issue since Morrison in 1934)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till addressing tensions between London and rest of the UK (an issue since Barlow in 1937)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till addressing problems of development and infrastructure (an issue since Uthwatt in 1942)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till addressing London’s resistance to big plans and easy answers (an issue since Wren in 1666)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Late Victorian Londo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1560" y="1905120"/>
            <a:ext cx="6919920" cy="44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Great War Londo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1560" y="1752480"/>
            <a:ext cx="6919920" cy="44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Peak population Londo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1560" y="1752480"/>
            <a:ext cx="691992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The London Pla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ayor’s spatial development strategy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verall strategic plan for London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eographic/locational aspects of Mayoral strategies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ondonwide context for borough plans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olicy framework for Mayoral planing decisions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929120" y="1523880"/>
            <a:ext cx="3246480" cy="441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The EiP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Main test is </a:t>
            </a:r>
            <a:r>
              <a:rPr b="0" i="1" lang="en-GB" sz="2800" spc="-1" strike="noStrike">
                <a:solidFill>
                  <a:srgbClr val="003366"/>
                </a:solidFill>
                <a:latin typeface="Foundry Form Sans"/>
              </a:rPr>
              <a:t>soundness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Clearly spatial?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Consistent with legislation?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Consistent with other Mayoral strategies?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Internally consistent?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Based on credible &amp; robust evidence?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Realistic and capable of implementation?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t will be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Long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Expensive (in both time and money)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2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Hugely dependant on what happens on 6/5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battlegrounds: Strategy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re the growth projections </a:t>
            </a:r>
            <a:r>
              <a:rPr b="0" i="1" lang="en-GB" sz="2800" spc="-1" strike="noStrike">
                <a:solidFill>
                  <a:srgbClr val="003366"/>
                </a:solidFill>
                <a:latin typeface="Foundry Form Sans"/>
              </a:rPr>
              <a:t>right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s growth </a:t>
            </a:r>
            <a:r>
              <a:rPr b="0" i="1" lang="en-GB" sz="2800" spc="-1" strike="noStrike">
                <a:solidFill>
                  <a:srgbClr val="003366"/>
                </a:solidFill>
                <a:latin typeface="Foundry Form Sans"/>
              </a:rPr>
              <a:t>desirable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s growth </a:t>
            </a:r>
            <a:r>
              <a:rPr b="0" i="1" lang="en-GB" sz="2800" spc="-1" strike="noStrike">
                <a:solidFill>
                  <a:srgbClr val="003366"/>
                </a:solidFill>
                <a:latin typeface="Foundry Form Sans"/>
              </a:rPr>
              <a:t>sustainable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s growth </a:t>
            </a:r>
            <a:r>
              <a:rPr b="0" i="1" lang="en-GB" sz="2800" spc="-1" strike="noStrike">
                <a:solidFill>
                  <a:srgbClr val="003366"/>
                </a:solidFill>
                <a:latin typeface="Foundry Form Sans"/>
              </a:rPr>
              <a:t>affordable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Will population and economic growth </a:t>
            </a:r>
            <a:r>
              <a:rPr b="0" i="1" lang="en-GB" sz="2800" spc="-1" strike="noStrike">
                <a:solidFill>
                  <a:srgbClr val="003366"/>
                </a:solidFill>
                <a:latin typeface="Foundry Form Sans"/>
              </a:rPr>
              <a:t>match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lternatives?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Battlegrounds: Housing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Housing need and supply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ffordable housing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Housing design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Gypsies and traveller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ocial infrastructure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laces of worship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battlegrounds: Transport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Airport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Road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Parking polic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Key battlegrounds: Living spaces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Conservation/design v development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Tall building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The River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And afterwards?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mplementation Report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upplementary guidance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Housing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Town Centres/suburb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CAZ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Industrial Land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Sustainable Design and Construction/Energy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Accessible/inclusive environment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Trees/woodland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Afterwards (2)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lterations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Anything arising from EiP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Health and planning?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Any new government requirement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Mayoral manifesto commitment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Housing figures update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Afterwards (3): Infrastructure funding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523880"/>
            <a:ext cx="777240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ty Infrastructure Lev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gulations to be in place for April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mething el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ory frontbench stance unclear, but likely to hav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art of the Crossrail funding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ikely to have major im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iability evidenc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ublic consu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ublic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Afterwards (4)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00200"/>
            <a:ext cx="77724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New inter-regional planning machine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ck to SERPL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P as Part 1 of borough LDF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rategic planning on a SE England ba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New Mayor, New P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Foundry Form Sans"/>
              </a:rPr>
              <a:t>Questions?</a:t>
            </a: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440" y="2895120"/>
            <a:ext cx="3886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Review of the London Plan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irst published 2004; two sets of alterations; consolidated version Feb 2008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anning for a Better London” – setting out Mayoral direction on planning – published for comment July 2008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ayor announced complete review of the Plan December 2008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itial proposals issued in April 2009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raft new Plan issued for consultation 12 October 09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nsultation closed 12 January 2010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Foundry Form Sans"/>
              </a:rPr>
              <a:t>The London Plan Review: Next Steps</a:t>
            </a:r>
            <a:endParaRPr b="1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Now ploughing through 960 response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Next step: Examination in Public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re-enquiry meeting 30 March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EiP opens 28 June (to 16 July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>
              <a:spcBef>
                <a:spcPts val="70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EiP resumes 6 September (to ???) 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Then we wait for the Panel’s report….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Foundry Form Sans"/>
              </a:rPr>
              <a:t>The London Plan: The Endgame</a:t>
            </a:r>
            <a:endParaRPr b="1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ayor decides whether to accept Panel </a:t>
            </a: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	</a:t>
            </a: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recommendation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Gives notice of intention to publish to the </a:t>
            </a: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	</a:t>
            </a: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Secretary of State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SoS decides whether to direct change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Formal publication (end 2011)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The London Plan: Where are we?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Quick answer: about halfway through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In WW2 terms, invasion of Ital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“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I am under no delusion as to the stern fight that lies ahead” - Montgomery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Wider question: where are we in the wider context?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Background: London </a:t>
            </a:r>
            <a:r>
              <a:rPr b="1" i="1" lang="en-GB" sz="4000" spc="-1" strike="noStrike">
                <a:solidFill>
                  <a:srgbClr val="003366"/>
                </a:solidFill>
                <a:latin typeface="Foundry Form Sans"/>
              </a:rPr>
              <a:t>is</a:t>
            </a: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 different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Formally a region in its own right; but functionally part of a wider city-region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 different governance structure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The Greater London Authority: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2" marL="867240" indent="1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Elected, executive Mayor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2" marL="867240" indent="1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Foundry Form Sans"/>
              </a:rPr>
              <a:t>London Assembly</a:t>
            </a:r>
            <a:endParaRPr b="0" lang="en-US" sz="20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RDA a GLA “functional body”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RSS a Mayoral strategy (“The London Plan”)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 different legal basis: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GLA Acts 1999/2007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Regulations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Foundry Form Sans"/>
              </a:rPr>
              <a:t>GOL Circular 1/2008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Background:</a:t>
            </a: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1" lang="en-GB" sz="4000" spc="-1" strike="noStrike">
                <a:solidFill>
                  <a:srgbClr val="003366"/>
                </a:solidFill>
                <a:latin typeface="Foundry Form Sans"/>
              </a:rPr>
              <a:t>Challenges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 growing – and changing – population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More household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 growing – and changing- economy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Persistent poverty and disadvantage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 changing climate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Ensuring the infrastructure London needs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Securing the legacy of 2012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 new focus on quality of life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Foundry Form Sans"/>
              </a:rPr>
              <a:t>A changing planning system</a:t>
            </a: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Foundry Form Sans"/>
              </a:rPr>
              <a:t>Basic trends: demographic structure</a:t>
            </a:r>
            <a:endParaRPr b="1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01000" cy="50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5:49:05Z</dcterms:created>
  <dc:creator>GLA</dc:creator>
  <dc:description/>
  <dc:language>en-US</dc:language>
  <cp:lastModifiedBy>abpurssell</cp:lastModifiedBy>
  <dcterms:modified xsi:type="dcterms:W3CDTF">2010-02-12T17:25:10Z</dcterms:modified>
  <cp:revision>30</cp:revision>
  <dc:subject/>
  <dc:title>Title of slideshow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1881803</vt:r8>
  </property>
  <property fmtid="{D5CDD505-2E9C-101B-9397-08002B2CF9AE}" pid="3" name="_AuthorEmail">
    <vt:lpwstr>Andrew.Barry-Purssell@london.gov.uk</vt:lpwstr>
  </property>
  <property fmtid="{D5CDD505-2E9C-101B-9397-08002B2CF9AE}" pid="4" name="_AuthorEmailDisplayName">
    <vt:lpwstr>Andrew Barry-Purssell</vt:lpwstr>
  </property>
  <property fmtid="{D5CDD505-2E9C-101B-9397-08002B2CF9AE}" pid="5" name="_EmailSubject">
    <vt:lpwstr>LSE London Seminar- February 22</vt:lpwstr>
  </property>
</Properties>
</file>