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0701" r="0" b="0"/>
          <a:stretch/>
        </p:blipFill>
        <p:spPr>
          <a:xfrm>
            <a:off x="0" y="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1365120" indent="504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1827360" indent="144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1827360" indent="144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1827360" indent="144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873760" y="6553080"/>
            <a:ext cx="3041640" cy="1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10700" r="0" b="0"/>
          <a:stretch/>
        </p:blipFill>
        <p:spPr>
          <a:xfrm>
            <a:off x="0" y="-3348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73760" y="6553080"/>
            <a:ext cx="3041640" cy="15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3" marL="1370160" algn="ctr">
              <a:spcBef>
                <a:spcPts val="4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Foundry Form Sans"/>
              </a:rPr>
              <a:t>Current developments in the London Plan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oundry Form Sans"/>
              </a:rPr>
              <a:t>LSE London Seminar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oundry Form Sans"/>
              </a:rPr>
              <a:t>9 February 2009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..some things new..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ondon’s economy: a nasty downturn or something more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ondon’s population: what will happen to migration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ondon’s environment: what differences will climate change bring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..and some thing blue?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Possibility of further political change, whatever the result of an election in or before 2010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mplications for the GLA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mplications for strategic planning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mplications for policy areas such as housing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immediately – implications for work on the London Plan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London: basic facts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opulation 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06: 7.6 mill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26: 8.36 – 8.71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31: up to c8.7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Household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06: 3.2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26: 3.75 – 3.92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mploymen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06: 4.6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2026: 5.5 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ectors 2006 - 2026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nufacturing: -124,000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Fin.&amp;Bus.Services: +605,000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new London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t will b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horter and more strategic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More user-friendly; arranged in more topic-based chapter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t will start with a stronger spatial vis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hapters on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eople (eg housing, social infrastructure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conom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Quality of life (eg built/green environment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nvironment/climate change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mplementation, monitoring and review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Revising the London Plan: Process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ssembly/functional body draft proposal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tatement of Intent”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o be issued Spring 09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ublic consultation” draft pla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Autumn 09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xamination in Public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ummer 2010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anel’s Repor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ntention to Publish” draft: for Governmen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ublication: winter 2011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Emerging objectives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eeting the challenges of growth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n internationally competitive and successful c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 city of diverse, strong, secure and accessible neighbourhood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 city that delights the ey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 world leader in improving the environmen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asy, safe and convenient access to jobs, opportunities and facilitie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Housing (1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Will deal with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Demand/need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Supply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quality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Affordable housing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Remove 50% target, but retain emphasis on maximising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Shift proportions between social and shared ownership/intermediate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upply: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Continued support to maximise output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Optimising (rather than maximising) density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Link with adequacy of infrastructure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Support for more family housing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Housing (2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Quality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pace standard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rotection of back garden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Designing out crime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pecialist housing: new policies 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omes for the elderl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tudent accommodation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Gypsies and Traveller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ranslating pitch need assessment into provision targets (Government requirement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The Econom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ortive policies for all enterprise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Tall building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Outer Lond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Commission to recommend growth hub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entral Activities Zone (CAZ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upport distinctive central commercial etc functions, but also protect/enhance residential areas within the CAZ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Retail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ecuring affordable small shop units through s106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8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upport West End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Design and Community Safet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mote a well designed environment to make the most of London’s heritage and local character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Develop principles for designing out crim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ortive policy framework for community safety/criminal justice facilitie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ort tall buildings in appropriate place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Review London Views Management Framework and enhance protect for World Heritage Sites.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London </a:t>
            </a:r>
            <a:r>
              <a:rPr b="1" i="1" lang="en-GB" sz="4000" spc="-1" strike="noStrike">
                <a:solidFill>
                  <a:srgbClr val="003366"/>
                </a:solidFill>
                <a:latin typeface="Foundry Form Sans"/>
              </a:rPr>
              <a:t>is</a:t>
            </a: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 different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Formally a region in its own right; but functionally part of a wider city-reg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different governance structur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he Greater London Authority: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67240" indent="1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Elected, executive Mayor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67240" indent="1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London Assembly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RDA a GLA “functional body”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RSS a Mayoral strategy (“The London Plan”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different legal basis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LA Acts 1999/2007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Regulation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OL Circular 1/2008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Climate Change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king progress on tackling climate chang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nsuring the most effective use of resources, particularly energy and water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ncouraging decentralised energy infrastructure and exploring the use of low carbon energy option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upporting micro-generation and renewable energ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Open and Green Space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jor administration priorit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motion of London’s green infrastructure to enhance quality of life.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0212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rotect/enhance London’s green and open spaces: 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0212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reen Belt / Metropolitan Open Land to playing fields to local pocket parks.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tect and promote trees and woodland, including the examining ways of protecting street tree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mote the provision of trees in new developmen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Infrastructure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lnSpc>
                <a:spcPct val="90000"/>
              </a:lnSpc>
              <a:spcBef>
                <a:spcPts val="524"/>
              </a:spcBef>
              <a:spcAft>
                <a:spcPts val="876"/>
              </a:spcAft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jor area for review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o support borough planning, as required by PPS12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o prepare for the Community Infrastructure Lev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spcAft>
                <a:spcPts val="876"/>
              </a:spcAft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Transport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Oppose the current plans for a third Heathrow runwa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nvestigate scope for a Thames Estuary airport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ransport to support development of outer London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ive strategic policy support for cycling and walking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20480">
              <a:lnSpc>
                <a:spcPct val="90000"/>
              </a:lnSpc>
              <a:spcBef>
                <a:spcPts val="451"/>
              </a:spcBef>
              <a:spcAft>
                <a:spcPts val="751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romote better use of the Thames and London’s waterway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Infrastructure (2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Will also cover: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Other physical infrastructure, eg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Water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ower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nformation/communications technolog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ocial infrastructure, eg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chool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ealth 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rovision for older Londoner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policy areas: East London and the Thames Gatewa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ontinue to promote East London and Thames Gateway as priority areas for development and regenerat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nsure that new communities have the transport, social, environmental and cultural infrastructure they need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nsure that realistic plans are in place to make the most of the legacy from the 2012 Olympic and Paralympic Games – including accessibilit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London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yor’s spatial development strategy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irst published 2004; two sets of alterations; consolidated version Feb 2008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lteration to support funding of Crossrail currently in train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lanning for a Better London” – setting out Mayoral direction on planning – published for comment July 2008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yor announced complete review of the Plan December 2008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929120" y="1523880"/>
            <a:ext cx="324648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Change….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hang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4784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New Mayor, with new ideas and a new advisory team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94600" indent="1080"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More emphasis on working with the boroughs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94600" indent="1080"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More emphasis on outer London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94600" indent="1080"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More emphasis on heritage and distinctive approach to design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4784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Who have launched a re-write of the London Plan, Transport and Economic Development strategie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4784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conomic turmoil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4784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New issues du jour – eg food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…</a:t>
            </a: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and continuit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Challenges haven’t changed greatly: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ddressing population and employment growth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intaining London’s world city statu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orting a dynamic econom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viding homes for Londoner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Transpor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limate chang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bigger picture: some things old…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seeking to resolve the strategic/local dynamic (an issue since Salisbury in 1899) 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seeking to contain London’s physical growth (an issue since Morrison in 1934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tensions between London and rest of the UK (an issue since Barlow in 1937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problems of development and infrastructure (an issue since Uthwatt in 1942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London’s resistance to big plans and easy answers (an issue since Wren in 1666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Late Victorian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1560" y="1905120"/>
            <a:ext cx="691992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Great War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1560" y="1752480"/>
            <a:ext cx="691992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Peak population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1560" y="1752480"/>
            <a:ext cx="69199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49:05Z</dcterms:created>
  <dc:creator>GLA</dc:creator>
  <dc:description/>
  <dc:language>en-US</dc:language>
  <cp:lastModifiedBy>abpurssell</cp:lastModifiedBy>
  <dcterms:modified xsi:type="dcterms:W3CDTF">2009-02-05T18:23:46Z</dcterms:modified>
  <cp:revision>28</cp:revision>
  <dc:subject/>
  <dc:title>Title of slideshow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69617532</vt:r8>
  </property>
  <property fmtid="{D5CDD505-2E9C-101B-9397-08002B2CF9AE}" pid="3" name="_AuthorEmail">
    <vt:lpwstr>Andrew.Barry-Purssell@london.gov.uk</vt:lpwstr>
  </property>
  <property fmtid="{D5CDD505-2E9C-101B-9397-08002B2CF9AE}" pid="4" name="_AuthorEmailDisplayName">
    <vt:lpwstr>Andrew Barry-Purssell</vt:lpwstr>
  </property>
  <property fmtid="{D5CDD505-2E9C-101B-9397-08002B2CF9AE}" pid="5" name="_EmailSubject">
    <vt:lpwstr>Thank you - and slides</vt:lpwstr>
  </property>
</Properties>
</file>