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798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798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5481FED-FC30-4777-A66E-CB8312336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98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9E651AD-6D72-4054-B346-DEC6CB3B8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798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e counerf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-forward benefit for projects that would have happened anyways, but happen sooner or better, or some projects that never would have been built at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ades of investment take place in a 7-year planning period, with a finite d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ect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happens quickly, and often residents feel left out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tly a sense that outsiders – non-local politicians, private sponsors, business community are in charge of community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arcel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pendent urban research unit in ippr – fresh look at how citie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te the growing role of cities, there is still a lack of knowledge about the levers that matter most in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ga-event of mega-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e smallest oversight can get world-wide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image risk is uncontrollable – Atlanta, Mun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a – Atlantic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don’s plans focussed around LLV – Olympic P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 costs revised up from 2.4 bn, expecting more adjus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is estimating £600m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Midlands estimating multi-million £ tourism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n alum of 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cently published this discuss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per highlights the situation in London, but first I’ll back up and talk more broadly about the Games developmental impacts and the economics of the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’s bid cost an estimated $25.5 m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real: private revenues covered just 5% of the costs of the Games; stadium first completed in 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: no other bidders made a great deal with the IOC.  After LA, there were 22 bids for the next Games (eventually Barcelo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lanta, the private funding model has fallen our of favour with the I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fallen out of the world’s top 10 visitor destinations post-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69040" cy="4426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 of official estimates is weak – often it’s the best-case scenario in terms of job creation – gross number of jobs created, rather than net impact of the Games.  Not taking account of the broader picture in terms of displa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979640" y="5429160"/>
            <a:ext cx="518472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t.kornblatt@ippr.org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1050840"/>
            <a:ext cx="731520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9152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ee7700"/>
                </a:solidFill>
                <a:latin typeface="Arial"/>
              </a:rPr>
              <a:t>Setting the Bar: A review of the developmental role of the Olympics   </a:t>
            </a:r>
            <a:r>
              <a:rPr b="1" lang="en-GB" sz="3600" spc="-1" strike="noStrike">
                <a:solidFill>
                  <a:srgbClr val="ee77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racy Kor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entre for Cities at ip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22 Januar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Short-term economic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1080" y="1628640"/>
          <a:ext cx="8712000" cy="4751640"/>
        </p:xfrm>
        <a:graphic>
          <a:graphicData uri="http://schemas.openxmlformats.org/drawingml/2006/table">
            <a:tbl>
              <a:tblPr/>
              <a:tblGrid>
                <a:gridCol w="877680"/>
                <a:gridCol w="1536840"/>
                <a:gridCol w="2782800"/>
                <a:gridCol w="1787400"/>
                <a:gridCol w="1727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Games Si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Estimated Employmen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Geograph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Barcel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96,640 job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Brunet, in Blake, 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Sp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Atlan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4,742 FT/PT job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77,026 job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Baade and Mathes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Humphreys and Plumm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Atlan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Sydne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5,300 jobs each year in 12-year Games peri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Madd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New South Wa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166760"/>
            <a:ext cx="7559640" cy="5084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Preuss, 1978 in Preuss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mployment sch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mployment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ost employment is in the construction and hospitality/services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ost jobs are short-term, some entry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ery different depending on the level of secondary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nsider where the investment is coming from – public/priv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reas where longer-term benefits can acc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xpansion in tourism and constructio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lien industr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 ideal is to pull-forward investment that matches with post-Game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s can be a substantial benefit, but also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inimise investment in Games-onl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emporary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se of dedicated roads and bu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771480"/>
            <a:ext cx="82072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723960"/>
            <a:ext cx="8280360" cy="5362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1341360"/>
            <a:ext cx="77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1268280"/>
            <a:ext cx="8064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nique context:  decades of under-investment in urba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ad an existing GMP plan (1976) of investments they wanted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sed the Games to pull forward large-scale infrastructure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ing road, new city centre roads, traffic management system, airport expansion, telecommunications facilities, waterfront redevelopment, housing, renewal of parks and squares all over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xample: Barce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Politic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udden, unique pressure from the Games has an impact on the way political agents work with each other and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an unite, or divide, and have lasting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red tape on projects is often averted – which can be a good or bad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leaders become a part of the image of the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800"/>
                </a:solidFill>
                <a:latin typeface="Arial"/>
              </a:rPr>
              <a:t>Social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 Games have had the power to uproot, unite, improve, and destroy neighbourhoods in the 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ften efforts to hide ‘blemish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hancing civic pride – both locally and nationally – Atkinson et a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ealth/sport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620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Example: Atl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125360"/>
            <a:ext cx="8893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cohesion:  already racially-charge politics became even more polar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ians were seen to be working more with the business community and not enough with res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cial impacts: low-income housing decreased – displacement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hile upper-income neighbourhoods were able to successfully move a venue out of their community, lower income neighbourhoods were unable to do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7700"/>
                </a:solidFill>
                <a:latin typeface="Arial"/>
              </a:rPr>
              <a:t>About the Centre</a:t>
            </a:r>
            <a:r>
              <a:rPr b="1" lang="en-US" sz="3200" spc="-1" strike="noStrike">
                <a:solidFill>
                  <a:srgbClr val="ee77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3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Economic focus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: not enough research on the economics of urban regeneration – we aim to fill this knowledge gap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mparative context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using lessons and sharing best practises from the U.S., Canada, and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nform, connect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: feedback our findings to local officials, Whitehall,  private sector stakeholders.  Convene together and further the dialog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Image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 Olympics attract larger television audiences than anything else except “unscheduled accidents” (Tomlinson,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age carries great risk and reward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maller cities may have more to gain, more prominent cities may have more to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usiness investment gains, tourism gains – but not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316080"/>
            <a:ext cx="6553440" cy="60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03280" y="316080"/>
            <a:ext cx="6553440" cy="6027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58920" y="404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Sy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784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Put Sydney – and Australia -- on the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Particular investment in image: worldwide ad campaigns, time with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crease in convention bookings and tourism (actual impact is difficult to estimate with Sept. 11 impact) (Chalip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crease in international businesses opening an office in 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Low US view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Lond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119376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6524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B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2868480"/>
            <a:ext cx="4968720" cy="351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237960"/>
            <a:ext cx="3889440" cy="3876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75280" y="60930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ource: London2012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Londo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ondon 2012 Games coordinated with the Lower Lea Valley re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4 of London’s most deprived boroughs: Hackney, Tower Hamlets, Waltham Forest, and New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sts: £2bn operating costs; £3.3bn in inf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mployment impact: (2005-2016): 8,000 jobs NE London, 39,000 Greater London, 8,000 jobs UK (Blake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Promote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ondon 2012 predicts impacts (UK-wide): in  business, tourism, culture, volunteering,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dditional London benefits: local employment?, boost to Lower Lea Valley Regeneration, housing, athletic facilities, public park, transport improvements, long-term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Regional Development Agency has been working on strategies to capitalise on Olympic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Setting the Bar: Lessons for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eep expectations, pressures reas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Jobs will be mostly in greater London, but maybe not s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nefits of the Games will be mostly in greater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ft benefits – civic pride, social impacts should not be over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sts should be updated and clar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Clos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lthough perceived as a development dream, the Games are risky and the impacts are not clear-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ifficult to compare – evidence base is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any studies on impacts are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 broader range of impacts needs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ere are benefits, but it’s not a windfall, so host cities have to match investments with post-games priorities, manage risk, and think carefully befor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Question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re cities bidding for economic development reasons, or political reasons. Or 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re the Games worth the risks?  For what cities might bidding b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ave the Games become too big?  What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hat more can London/the UK do to maximise the benefits of the G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y am I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Background behind the Games as economic development 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ramework for thinking about th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London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Questions for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questions/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.kornblatt@ipp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www.ippr.org/centrefor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5080" y="210960"/>
            <a:ext cx="453384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Background – Games as Economic Development Cataly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ames are growing in bid pop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nce 1984, steady increase in the number of bids, the cost involved, and the profile of cities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mmon theme of ‘economic developmen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idding cities operating under an “unquestioned assumption that the Games will bring economic and social benefits to those who host them” (Burstyn, 20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ut the evidence is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Although most people are familiar with the ‘Barcelona effect,’ there are other important hos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60: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rst ‘big’ Games: airport, roads, street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72: Mun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ublic debt; negative image,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76: Mont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rious public debt: finally paid off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84: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ndmark profit, littl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92 Barce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-scale public investment; put on th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996 At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ca-cola Games’, temporary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000 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age success, development dis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004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rly to tell, but some imag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5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Difficulties assessing the impact of 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frequent, unique – attempting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ternational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ost reporting is ‘offici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unterfactual is difficult to ass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ft’ impacts that are difficult to qua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5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7700"/>
                </a:solidFill>
                <a:latin typeface="Arial"/>
              </a:rPr>
              <a:t>Key impacts the Games can have on 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hort term economic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litical co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ci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mage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7:15:43Z</dcterms:created>
  <dc:creator>M.Nathan</dc:creator>
  <dc:description/>
  <dc:language>en-US</dc:language>
  <cp:lastModifiedBy> </cp:lastModifiedBy>
  <dcterms:modified xsi:type="dcterms:W3CDTF">2007-01-22T11:04:01Z</dcterms:modified>
  <cp:revision>256</cp:revision>
  <dc:subject/>
  <dc:title>Mission</dc:title>
</cp:coreProperties>
</file>