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10400" cy="983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798360" y="-360"/>
            <a:ext cx="290844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38000"/>
            <a:ext cx="4916520" cy="36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9960" y="4673160"/>
            <a:ext cx="5369040" cy="4426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9342000"/>
            <a:ext cx="290844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798360" y="9342000"/>
            <a:ext cx="290844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A108774-3B5C-4883-A691-C1E9EDE12A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798360" y="9342000"/>
            <a:ext cx="290844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4682515-6A9F-48C9-9ED3-0A7F9AB115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9342000"/>
            <a:ext cx="290844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-360"/>
            <a:ext cx="290844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798360" y="-360"/>
            <a:ext cx="290844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69960" y="4673160"/>
            <a:ext cx="536904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9960" y="4673160"/>
            <a:ext cx="5369040" cy="4426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ember the counerfact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69960" y="4673160"/>
            <a:ext cx="5369040" cy="4426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l-forward benefit for projects that would have happened anyways, but happen sooner or better, or some projects that never would have been built at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ades of investment take place in a 7-year planning period, with a finite dead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ects 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69960" y="4673160"/>
            <a:ext cx="5369040" cy="4426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happens quickly, and often residents feel left out of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tly a sense that outsiders – non-local politicians, private sponsors, business community are in charge of community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69960" y="4673160"/>
            <a:ext cx="5369040" cy="4426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Barcel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69960" y="4673160"/>
            <a:ext cx="5369040" cy="4426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ependent urban research unit in ippr – fresh look at how cities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te the growing role of cities, there is still a lack of knowledge about the levers that matter most in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69960" y="4673160"/>
            <a:ext cx="5369040" cy="4426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ga-event of mega-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e smallest oversight can get world-wide at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 image risk is uncontrollable – Atlanta, Mun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lanta – Atlantic 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69960" y="4673160"/>
            <a:ext cx="5369040" cy="4426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r D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ndon’s plans focussed around LLV – Olympic P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69960" y="4673160"/>
            <a:ext cx="5369040" cy="4426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rastructure costs revised up from 2.4 bn, expecting more adjus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69960" y="4673160"/>
            <a:ext cx="5369040" cy="4426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rkshire is estimating £600m benef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Midlands estimating multi-million £ tourism benef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9960" y="4673160"/>
            <a:ext cx="5369040" cy="4426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an alum of 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cently published this discuss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aper highlights the situation in London, but first I’ll back up and talk more broadly about the Games developmental impacts and the economics of the 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69960" y="4673160"/>
            <a:ext cx="5369040" cy="4426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’s bid cost an estimated $25.5 m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9960" y="4673160"/>
            <a:ext cx="5369040" cy="4426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treal: private revenues covered just 5% of the costs of the Games; stadium first completed in 19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: no other bidders made a great deal with the IOC.  After LA, there were 22 bids for the next Games (eventually Barcelo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69960" y="4673160"/>
            <a:ext cx="5369040" cy="4426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tlanta, the private funding model has fallen our of favour with the I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has fallen out of the world’s top 10 visitor destinations post-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9960" y="4673160"/>
            <a:ext cx="5369040" cy="4426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ability of official estimates is weak – often it’s the best-case scenario in terms of job creation – gross number of jobs created, rather than net impact of the Games.  Not taking account of the broader picture in terms of displac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979640" y="5429160"/>
            <a:ext cx="5184720" cy="16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mailto:t.kornblatt@ippr.org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5280" y="1050840"/>
            <a:ext cx="7315200" cy="26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920" y="1413000"/>
            <a:ext cx="7391520" cy="36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ee7700"/>
                </a:solidFill>
                <a:latin typeface="Arial"/>
              </a:rPr>
              <a:t>Setting the Bar: A review of the developmental role of the Olympics   </a:t>
            </a:r>
            <a:r>
              <a:rPr b="1" lang="en-GB" sz="3600" spc="-1" strike="noStrike">
                <a:solidFill>
                  <a:srgbClr val="ee77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Tracy Kornbla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Centre for Cities at ip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22 January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7700"/>
                </a:solidFill>
                <a:latin typeface="Arial"/>
              </a:rPr>
              <a:t>Short-term economic stim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81080" y="1628640"/>
          <a:ext cx="8712000" cy="4751640"/>
        </p:xfrm>
        <a:graphic>
          <a:graphicData uri="http://schemas.openxmlformats.org/drawingml/2006/table">
            <a:tbl>
              <a:tblPr/>
              <a:tblGrid>
                <a:gridCol w="877680"/>
                <a:gridCol w="1536840"/>
                <a:gridCol w="2782800"/>
                <a:gridCol w="1787400"/>
                <a:gridCol w="17272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Ye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Games Si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Estimated Employmen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Sour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Geograph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Barcelo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296,640 job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Brunet, in Blake, 200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Spai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199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Atlant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24,742 FT/PT job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77,026 job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Baade and Mathes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Humphreys and Plumm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Atlant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Sydne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5,300 jobs each year in 12-year Games perio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Madde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New South Wal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4360" y="1166760"/>
            <a:ext cx="7559640" cy="5084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95280" y="5877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Preuss, 1978 in Preuss 199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33336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7700"/>
                </a:solidFill>
                <a:latin typeface="Arial"/>
              </a:rPr>
              <a:t>Employment schem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7700"/>
                </a:solidFill>
                <a:latin typeface="Arial"/>
              </a:rPr>
              <a:t>Employment continu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Most employment is in the construction and hospitality/services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Most jobs are short-term, some entry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Very different depending on the level of secondary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onsider where the investment is coming from – public/priv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reas where longer-term benefits can accr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xpansion in tourism and construction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lien industry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7700"/>
                </a:solidFill>
                <a:latin typeface="Arial"/>
              </a:rPr>
              <a:t>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e ideal is to pull-forward investment that matches with post-Games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s can be a substantial benefit, but also ri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Minimise investment in Games-only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emporary ve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Use of dedicated roads and bu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8360" y="771480"/>
            <a:ext cx="820728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68360" y="723960"/>
            <a:ext cx="8280360" cy="5362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55640" y="1341360"/>
            <a:ext cx="770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1268280"/>
            <a:ext cx="806436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Unique context:  decades of under-investment in urban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Had an existing GMP plan (1976) of investments they wanted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Used the Games to pull forward large-scale infrastructure pro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Ring road, new city centre roads, traffic management system, airport expansion, telecommunications facilities, waterfront redevelopment, housing, renewal of parks and squares all over the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7700"/>
                </a:solidFill>
                <a:latin typeface="Arial"/>
              </a:rPr>
              <a:t>Example: Barcel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7700"/>
                </a:solidFill>
                <a:latin typeface="Arial"/>
              </a:rPr>
              <a:t>Political cohe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udden, unique pressure from the Games has an impact on the way political agents work with each other and the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an unite, or divide, and have lasting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Political red tape on projects is often averted – which can be a good or bad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Political leaders become a part of the image of the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800"/>
                </a:solidFill>
                <a:latin typeface="Arial"/>
              </a:rPr>
              <a:t>Social Imp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e Games have had the power to uproot, unite, improve, and destroy neighbourhoods in the 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Often efforts to hide ‘blemishe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nhancing civic pride – both locally and nationally – Atkinson et al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Health/sport impa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004840" y="0"/>
            <a:ext cx="513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004840" y="0"/>
            <a:ext cx="51343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116000" y="6206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7700"/>
                </a:solidFill>
                <a:latin typeface="Arial"/>
              </a:rPr>
              <a:t>Example: Atla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125360"/>
            <a:ext cx="88930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Political cohesion:  already racially-charge politics became even more polar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Politicians were seen to be working more with the business community and not enough with resi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ocial impacts: low-income housing decreased – displacement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While upper-income neighbourhoods were able to successfully move a venue out of their community, lower income neighbourhoods were unable to do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7700"/>
                </a:solidFill>
                <a:latin typeface="Arial"/>
              </a:rPr>
              <a:t>About the Centre</a:t>
            </a:r>
            <a:r>
              <a:rPr b="1" lang="en-US" sz="3200" spc="-1" strike="noStrike">
                <a:solidFill>
                  <a:srgbClr val="ee77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3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Economic focus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: not enough research on the economics of urban regeneration – we aim to fill this knowledge gap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3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omparative context: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using lessons and sharing best practises from the U.S., Canada, and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3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Inform, connect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: feedback our findings to local officials, Whitehall,  private sector stakeholders.  Convene together and further the dialogu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7700"/>
                </a:solidFill>
                <a:latin typeface="Arial"/>
              </a:rPr>
              <a:t>Image imp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e Olympics attract larger television audiences than anything else except “unscheduled accidents” (Tomlinson, 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mage carries great risk and reward pos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maller cities may have more to gain, more prominent cities may have more to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Business investment gains, tourism gains – but not al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03280" y="316080"/>
            <a:ext cx="6553440" cy="60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403280" y="316080"/>
            <a:ext cx="6553440" cy="6027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258920" y="40464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7700"/>
                </a:solidFill>
                <a:latin typeface="Arial"/>
              </a:rPr>
              <a:t>Syd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1268280"/>
            <a:ext cx="78487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Put Sydney – and Australia -- on the m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Particular investment in image: worldwide ad campaigns, time with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Increase in convention bookings and tourism (actual impact is difficult to estimate with Sept. 11 impact) (Chalip, 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Increase in international businesses opening an office in Syd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Low US view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7700"/>
                </a:solidFill>
                <a:latin typeface="Arial"/>
              </a:rPr>
              <a:t>London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5280" y="1193760"/>
            <a:ext cx="8424720" cy="5448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4000" y="652464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B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95280" y="2868480"/>
            <a:ext cx="4968720" cy="3516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859280" y="237960"/>
            <a:ext cx="3889440" cy="3876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975280" y="609300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ource: London2012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7700"/>
                </a:solidFill>
                <a:latin typeface="Arial"/>
              </a:rPr>
              <a:t>London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London 2012 Games coordinated with the Lower Lea Valley re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4 of London’s most deprived boroughs: Hackney, Tower Hamlets, Waltham Forest, and Newh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osts: £2bn operating costs; £3.3bn in infrastru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mployment impact: (2005-2016): 8,000 jobs NE London, 39,000 Greater London, 8,000 jobs UK (Blake 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7700"/>
                </a:solidFill>
                <a:latin typeface="Arial"/>
              </a:rPr>
              <a:t>Promoted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London 2012 predicts impacts (UK-wide): in  business, tourism, culture, volunteering, 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dditional London benefits: local employment?, boost to Lower Lea Valley Regeneration, housing, athletic facilities, public park, transport improvements, long-term 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ach Regional Development Agency has been working on strategies to capitalise on Olympic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7700"/>
                </a:solidFill>
                <a:latin typeface="Arial"/>
              </a:rPr>
              <a:t>Setting the Bar: Lessons for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Keep expectations, pressures reason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Jobs will be mostly in greater London, but maybe not so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Benefits of the Games will be mostly in greater Lo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oft benefits – civic pride, social impacts should not be overloo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osts should be updated and clar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7700"/>
                </a:solidFill>
                <a:latin typeface="Arial"/>
              </a:rPr>
              <a:t>Closing Thou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lthough perceived as a development dream, the Games are risky and the impacts are not clear-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Difficult to compare – evidence base is t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Many studies on impacts are not 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 broader range of impacts needs consi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ere are benefits, but it’s not a windfall, so host cities have to match investments with post-games priorities, manage risk, and think carefully before bid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7700"/>
                </a:solidFill>
                <a:latin typeface="Arial"/>
              </a:rPr>
              <a:t>Questions for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re cities bidding for economic development reasons, or political reasons. Or something e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re the Games worth the risks?  For what cities might bidding be be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Have the Games become too big?  What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What more can London/the UK do to maximise the benefits of the Ga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77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Why am I 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Background behind the Games as economic development cataly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Framework for thinking about the 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London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Questions for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questions/com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.kornblatt@ippr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www.ippr.org/centreforc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05080" y="210960"/>
            <a:ext cx="4533840" cy="643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7700"/>
                </a:solidFill>
                <a:latin typeface="Arial"/>
              </a:rPr>
              <a:t>Background – Games as Economic Development Cataly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Games are growing in bid pop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nce 1984, steady increase in the number of bids, the cost involved, and the profile of cities bid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ommon theme of ‘economic development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Bidding cities operating under an “unquestioned assumption that the Games will bring economic and social benefits to those who host them” (Burstyn, 200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But the evidence is mi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07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7700"/>
                </a:solidFill>
                <a:latin typeface="Arial"/>
              </a:rPr>
              <a:t>Although most people are familiar with the ‘Barcelona effect,’ there are other important host s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1960: 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rst ‘big’ Games: airport, roads, street lig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1972: Mun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Public debt; negative image,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1976: Mont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rious public debt: finally paid off in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1984: Los Ang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Landmark profit, little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1992 Barcel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Large-scale public investment; put on the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1996 Atl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oca-cola Games’, temporary ve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2000 Syd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mage success, development disappoin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2004 Ath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arly to tell, but some image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5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7700"/>
                </a:solidFill>
                <a:latin typeface="Arial"/>
              </a:rPr>
              <a:t>Difficulties assessing the impact of the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nfrequent, unique – attempting different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nternational con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Most reporting is ‘official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ounterfactual is difficult to ass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oft’ impacts that are difficult to quant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5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7700"/>
                </a:solidFill>
                <a:latin typeface="Arial"/>
              </a:rPr>
              <a:t>Key impacts the Games can have on economic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hort term economic stim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Political cohe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ocial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mage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7T17:15:43Z</dcterms:created>
  <dc:creator>M.Nathan</dc:creator>
  <dc:description/>
  <dc:language>en-US</dc:language>
  <cp:lastModifiedBy> </cp:lastModifiedBy>
  <dcterms:modified xsi:type="dcterms:W3CDTF">2007-01-22T11:04:01Z</dcterms:modified>
  <cp:revision>256</cp:revision>
  <dc:subject/>
  <dc:title>Mission</dc:title>
</cp:coreProperties>
</file>