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5.wmf" ContentType="image/x-wmf"/>
  <Override PartName="/ppt/media/image2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18.png" ContentType="image/png"/>
  <Override PartName="/ppt/media/image15.wmf" ContentType="image/x-wmf"/>
  <Override PartName="/ppt/media/image14.wmf" ContentType="image/x-wmf"/>
  <Override PartName="/ppt/media/image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0880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908400" cy="100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9412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914280" y="-360"/>
            <a:ext cx="299412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942480" y="752400"/>
            <a:ext cx="502308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21960" y="4770000"/>
            <a:ext cx="5064120" cy="4521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9542160"/>
            <a:ext cx="299412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914280" y="9542160"/>
            <a:ext cx="299412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B5A2B9-10CE-453F-9E0E-A720147B6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42840" y="752400"/>
            <a:ext cx="5023080" cy="3767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90240" y="4770000"/>
            <a:ext cx="6086520" cy="4521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re)bonjour à tou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us allons reprendre ce séminai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rès les analyses macro-économiques de ce matin, nous allons étudier les fondements microéconomiques de la compétitivité des régions européenn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rendan WILLIAMS, de l ’Institut Technologique de Dublin, et moi-même allons vous présenter les premiers résultats des travaux de GEMACA sur le rôle des Cluster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tte analyse a porté sur les régions de Dublin, Londres, Rhin-Ruhr, Paris-Ile-de-France et Bruxel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A210-9CDB-4B9B-9713-A179DAAF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BE7-B0CA-4B4F-9610-83261997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84E-ED4B-4AE1-9438-214DA59F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A72-482E-4E4F-BDF1-9904BD6C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6669-6A73-4A2D-BF7A-12524DB3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F09B-A609-4627-BBE2-09634F65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4197-05D5-4BC7-B1E1-E128424D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5ADA-D880-4268-912C-38B07AF0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0CB4-2C5B-4E96-8711-0A6246E4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748C-6552-4AB8-B0DF-2AD35B5A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BD10-60B8-496C-8F06-5BF7FD24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809-E6BB-4427-B077-352D3B73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85C6-0C5F-4EF6-ABD5-38709741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84D2-EB46-4800-8983-6DA0FC34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EFE0-B477-4823-A629-83F7B1E8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4EBD-5F9B-476D-95E8-6AB70F93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CB0D-5E52-4BB8-AFDF-A8ED6191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DCE-EA7E-4DF2-AF55-6A1FD7D3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46D-6C7E-4337-8D28-31A7073A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6EE-B230-4818-B13C-0B3C3117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E1A-0E14-415D-8023-F8AF2123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B19-838E-4F62-99A0-5690DFF0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607-A81C-4A00-8D69-60884056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9BC-FF2E-4F28-A5F6-EEBF4466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05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4AEA-9A11-440E-AEBE-F875C968A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42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54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9C66-33F5-454E-832C-BDE4CAABC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71400" y="1698480"/>
            <a:ext cx="777240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Times New Roman"/>
              </a:rPr>
              <a:t>Economic position of the Functionnal Urban Reg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830680" y="5711400"/>
            <a:ext cx="383688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ominique Lecomte                                                                                     IAURIF, Paris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08440" y="5680080"/>
            <a:ext cx="39052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logo-gemaca" descr=""/>
          <p:cNvPicPr/>
          <p:nvPr/>
        </p:nvPicPr>
        <p:blipFill>
          <a:blip r:embed="rId1"/>
          <a:srcRect l="0" t="0" r="24298" b="0"/>
          <a:stretch/>
        </p:blipFill>
        <p:spPr>
          <a:xfrm>
            <a:off x="1752480" y="228600"/>
            <a:ext cx="5619960" cy="162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00"/>
                </a:solidFill>
                <a:latin typeface="Arial"/>
              </a:rPr>
              <a:t>Employment trends from 1994 to 1999-2000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0280" y="2077920"/>
            <a:ext cx="782964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33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Part Time Jobs in 1999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57360" y="1494000"/>
            <a:ext cx="78040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imes New Roman"/>
              </a:rPr>
              <a:t>Industry and Services in 1999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11760" y="3344760"/>
            <a:ext cx="1312560" cy="169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71600" y="1725480"/>
            <a:ext cx="80341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1905120"/>
            <a:ext cx="7619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33560" y="2674440"/>
            <a:ext cx="704376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9933"/>
                </a:solidFill>
                <a:latin typeface="Times New Roman"/>
              </a:rPr>
              <a:t>Unemployment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3000" y="285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57560" y="17136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imes New Roman"/>
              </a:rPr>
              <a:t>Unemployment rate in 1994 and 1999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1981080"/>
          <a:ext cx="9144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9144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8360" y="317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imes New Roman"/>
              </a:rPr>
              <a:t>Unemployment rate of people under 25 years ol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2720" y="1768320"/>
            <a:ext cx="791208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0480" y="255240"/>
            <a:ext cx="6783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imes New Roman"/>
              </a:rPr>
              <a:t>Share of long-term unemployment in 1999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66640" y="1687680"/>
            <a:ext cx="782964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2455560"/>
            <a:ext cx="746748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GDP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95720" y="38088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680" y="3621240"/>
            <a:ext cx="8667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537000" y="3895560"/>
            <a:ext cx="2611440" cy="2001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GDP in 1998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73280" y="1773360"/>
            <a:ext cx="75564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5720" y="609120"/>
            <a:ext cx="666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imes New Roman"/>
              </a:rPr>
              <a:t>GDP per inhabitant in 1998 at PP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16120" y="2058840"/>
            <a:ext cx="755784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66760" y="1488960"/>
            <a:ext cx="8602560" cy="42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Popul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Emplo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Unemplo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GD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Synthe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05120"/>
            <a:ext cx="7619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3000" y="285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82692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SUMMARY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Productivity in 1998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22440" y="1792440"/>
            <a:ext cx="77691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80876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imes New Roman"/>
              </a:rPr>
              <a:t>GDP at constant prices from 1995 to 1998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6600" y="1754280"/>
            <a:ext cx="78022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280" y="2227320"/>
            <a:ext cx="746748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9933"/>
                </a:solidFill>
                <a:latin typeface="Times New Roman"/>
              </a:rPr>
              <a:t>Synthesis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76640" y="38088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7680" y="3621240"/>
            <a:ext cx="8667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700440" y="3635280"/>
            <a:ext cx="1935360" cy="193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92000" y="257040"/>
            <a:ext cx="777240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00"/>
                </a:solidFill>
                <a:latin typeface="Times New Roman"/>
              </a:rPr>
              <a:t>Scoring on dynamic indica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71640" y="2227320"/>
            <a:ext cx="74674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RECOMMENDA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76640" y="38088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7680" y="4719600"/>
            <a:ext cx="88963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RECOMMEND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ition of European Functional Urban Reg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duction of annual data for the F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peration of National Institute of Statist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uropean network of RDA requiring economic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1905120"/>
            <a:ext cx="7619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85720" y="2007720"/>
            <a:ext cx="6305400" cy="33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Population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57560" y="22860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3000" y="285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292720" y="44877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921040" y="44751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Population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6080" y="1981080"/>
          <a:ext cx="67658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1981080"/>
                    <a:ext cx="6765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73280" y="255240"/>
            <a:ext cx="7772400" cy="8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Population Trends in the 90 ’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52320" y="1720800"/>
            <a:ext cx="778032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Age 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7680" y="1735200"/>
            <a:ext cx="785484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61840" y="210600"/>
            <a:ext cx="7772400" cy="8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imes New Roman"/>
              </a:rPr>
              <a:t>Higher Education in1999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386" t="0" r="5137" b="0"/>
          <a:stretch/>
        </p:blipFill>
        <p:spPr>
          <a:xfrm>
            <a:off x="479520" y="1195560"/>
            <a:ext cx="8389800" cy="46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455560"/>
            <a:ext cx="746748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9933"/>
                </a:solidFill>
                <a:latin typeface="Times New Roman"/>
              </a:rPr>
              <a:t>Employment 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7680" y="3621240"/>
            <a:ext cx="8667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57560" y="361800"/>
            <a:ext cx="990720" cy="9907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00440" y="42418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253120" y="428004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imes New Roman"/>
              </a:rPr>
              <a:t>Employment Rate in 1999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23880" y="1978200"/>
            <a:ext cx="78026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0:39:59Z</dcterms:created>
  <dc:creator>iaurif</dc:creator>
  <dc:description/>
  <dc:language>en-US</dc:language>
  <cp:lastModifiedBy>iaurif</cp:lastModifiedBy>
  <cp:lastPrinted>2002-02-07T10:57:39Z</cp:lastPrinted>
  <dcterms:modified xsi:type="dcterms:W3CDTF">2002-02-07T11:03:46Z</dcterms:modified>
  <cp:revision>151</cp:revision>
  <dc:subject/>
  <dc:title>PDU DE CERGY-PONTOISE</dc:title>
</cp:coreProperties>
</file>