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png" ContentType="image/png"/>
  <Override PartName="/ppt/media/image15.wmf" ContentType="image/x-wmf"/>
  <Override PartName="/ppt/media/image14.wmf" ContentType="image/x-wmf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0880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908400" cy="100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14280" y="-3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942480" y="752400"/>
            <a:ext cx="502308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21960" y="4770000"/>
            <a:ext cx="5064120" cy="452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5421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14280" y="95421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4522E0-139D-46A9-A9FA-8D8EA3DE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52400"/>
            <a:ext cx="5023080" cy="3767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90240" y="4770000"/>
            <a:ext cx="6086520" cy="452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re)bonjour à to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allons reprendre ce séminai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rès les analyses macro-économiques de ce matin, nous allons étudier les fondements microéconomiques de la compétitivité des régions européen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ndan WILLIAMS, de l ’Institut Technologique de Dublin, et moi-même allons vous présenter les premiers résultats des travaux de GEMACA sur le rôle des Clus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te analyse a porté sur les régions de Dublin, Londres, Rhin-Ruhr, Paris-Ile-de-France et Bruxel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23A-0583-4FFD-AC22-CCD5EBE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D95-92AE-438C-96B2-73643B7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DAC-A7A9-4EF8-A28D-C35FE033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791-D44B-40EA-870A-CAE6E68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322F-D7C1-476E-B555-22F39987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AFF-C010-4351-BCEA-A280FFA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5DD-673D-4C42-ABA4-A6DA6C82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5919-3D81-4DE7-B9AD-EEA0FA6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B41A-B457-4CC3-93D6-F1DD14A6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7658-2E9F-4A1E-ADBD-C5DE111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3BF7-C2EA-40DA-872E-EB04782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CB7-64E8-4919-B13F-86E336C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C46C-77DB-447F-8D83-10AEC49D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63A-932A-4272-B0E7-4FAB191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3120-13DE-4B99-BDF2-DB21CE01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E674-5B7C-4B8E-8BC7-2069A9C9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443D-5D24-4524-95B8-AC4AEBEA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16B-43F3-49EA-9AF7-A71C2955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BAD-DC9B-4253-92FB-E0604BC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AD9-3D3F-4126-9930-2FEB700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30F-2387-4ECA-9A2E-87DF367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50B-A843-4F5D-9157-B65286F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311-E738-4CA1-A2D0-3BB7B9C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D67-A19B-4C84-8858-65E9886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78A-CA49-456E-8D6F-E3742407E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B85-F291-42C3-BA80-34DAA5F19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71400" y="16984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Times New Roman"/>
              </a:rPr>
              <a:t>Economic position of the Functionnal Urban Reg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830680" y="5711400"/>
            <a:ext cx="3836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ominique Lecomte                                                                                     IAURIF, Pari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08440" y="5680080"/>
            <a:ext cx="3905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228600"/>
            <a:ext cx="56199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Arial"/>
              </a:rPr>
              <a:t>Employment trends from 1994 to 1999-2000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0280" y="2077920"/>
            <a:ext cx="7829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33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art Time Jobs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7360" y="1494000"/>
            <a:ext cx="7804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Industry and Services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11760" y="3344760"/>
            <a:ext cx="1312560" cy="1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1600" y="1725480"/>
            <a:ext cx="80341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33560" y="2674440"/>
            <a:ext cx="70437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Unemployment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57560" y="17136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Unemployment rate in 1994 and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981080"/>
          <a:ext cx="9144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360" y="31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Unemployment rate of people under 25 years o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2720" y="1768320"/>
            <a:ext cx="791208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0480" y="255240"/>
            <a:ext cx="678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Share of long-term unemployment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66640" y="1687680"/>
            <a:ext cx="78296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45556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GDP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572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37000" y="3895560"/>
            <a:ext cx="2611440" cy="200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GDP in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3280" y="1773360"/>
            <a:ext cx="75564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5720" y="609120"/>
            <a:ext cx="666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GDP per inhabitant in 1998 at PP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6120" y="2058840"/>
            <a:ext cx="75578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6760" y="1488960"/>
            <a:ext cx="860256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Emplo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Unemplo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GD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Synth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92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roductivity in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2440" y="1792440"/>
            <a:ext cx="7769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80876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GDP at constant prices from 1995 to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6600" y="1754280"/>
            <a:ext cx="78022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227320"/>
            <a:ext cx="746748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Synthesi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7664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00440" y="3635280"/>
            <a:ext cx="1935360" cy="193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92000" y="257040"/>
            <a:ext cx="77724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Times New Roman"/>
              </a:rPr>
              <a:t>Scoring on dynamic indi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71640" y="2227320"/>
            <a:ext cx="7467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RECOMMEND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7664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7680" y="4719600"/>
            <a:ext cx="8896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ition of European Functional Urban Reg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tion of annual data for the F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peration of National Institute of Stat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an network of RDA requiring economic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85720" y="2007720"/>
            <a:ext cx="6305400" cy="33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Populati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57560" y="2286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92720" y="4487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21040" y="4475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6080" y="1981080"/>
          <a:ext cx="67658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81080"/>
                    <a:ext cx="676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3280" y="25524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opulation Trends in the 90 ’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2320" y="1720800"/>
            <a:ext cx="77803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ge 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7680" y="1735200"/>
            <a:ext cx="78548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1840" y="21060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Higher Education in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386" t="0" r="5137" b="0"/>
          <a:stretch/>
        </p:blipFill>
        <p:spPr>
          <a:xfrm>
            <a:off x="479520" y="1195560"/>
            <a:ext cx="838980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45556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Employment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7560" y="3618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00440" y="4241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253120" y="428004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Employment Rate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23880" y="1978200"/>
            <a:ext cx="7802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0:39:59Z</dcterms:created>
  <dc:creator>iaurif</dc:creator>
  <dc:description/>
  <dc:language>en-US</dc:language>
  <cp:lastModifiedBy>iaurif</cp:lastModifiedBy>
  <cp:lastPrinted>2002-02-07T10:57:39Z</cp:lastPrinted>
  <dcterms:modified xsi:type="dcterms:W3CDTF">2002-02-07T11:03:46Z</dcterms:modified>
  <cp:revision>151</cp:revision>
  <dc:subject/>
  <dc:title>PDU DE CERGY-PONTOISE</dc:title>
</cp:coreProperties>
</file>