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584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3CAD-CB16-413D-9865-4276E59A9B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87000" y="4594320"/>
            <a:ext cx="6041880" cy="43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re)bonjour à tou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us allons reprendre ce séminai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rès les analyses macro-économiques de ce matin, nous allons étudier les fondements microéconomiques de la compétitivité des régions européen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ndan WILLIAMS, de l ’Institut Technologique de Dublin, et moi-même allons vous présenter les premiers résultats des travaux de GEMACA sur le rôle des Cluste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tte analyse a porté sur les régions de Dublin, Londres, Rhin-Ruhr, Paris-Ile-de-France et Bruxel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B6B-3F39-4702-8C58-CB5DD487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261-940C-48C3-8EC0-CD8A31FD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0CF-057E-4E65-9B6E-E0ABA86A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258-21B4-4BA5-8472-EA53E72D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8B00-DE3E-4F5D-8784-CE5E3221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9661-5535-4291-8FDA-4CBB4689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4624-8DC0-4091-A677-8906B2EB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232B-999E-484C-AC93-BA06A38A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DCBB-1F76-40DF-A0D5-AF207B2B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5205-61BD-41B2-8494-0F117A4A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6D7D-ACB9-44CB-8C80-C026282C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89B-3772-4258-939C-12EA1A7B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5F15-50B5-44CE-B0E9-DB6CD107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8CA8-9E20-4617-9036-49C5D58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767B-228F-4506-B217-A4404917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C4E2-6ED4-49C4-87C5-88559B51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6322-AC64-4682-9452-9A01E758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583-6C0D-44C9-B2A5-1A18032B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148-91AA-438B-9A2B-ED0036D5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48C-411B-4416-B075-1D2AC4F5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AEA-C008-4AF1-A128-6719B293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BB3-4217-41D0-AC67-EA10CD42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C7F-00E8-4404-B14D-5FA53600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39F-10CF-4857-AC4D-B366A75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05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56AD-4758-4967-9635-10BA01BC841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2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4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20C6-742B-4228-8F24-74DF331823D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logo-gemaca" descr=""/>
          <p:cNvPicPr/>
          <p:nvPr/>
        </p:nvPicPr>
        <p:blipFill>
          <a:blip r:embed="rId1"/>
          <a:srcRect l="0" t="0" r="24298" b="0"/>
          <a:stretch/>
        </p:blipFill>
        <p:spPr>
          <a:xfrm>
            <a:off x="1752480" y="533520"/>
            <a:ext cx="5619960" cy="1620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Urban Regional Guidance and Management Structur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a precondition for the competitiveness of metropolitan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830680" y="5711400"/>
            <a:ext cx="383688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Wolfgang Knap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LS, Dortmund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8440" y="5680080"/>
            <a:ext cx="3905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19720" y="120600"/>
            <a:ext cx="5837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nly a few Types of city-regional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-operative Approa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16080"/>
            <a:ext cx="861048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Informal or privately organis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fora, networks, PPPs., Ltds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Single function or single project institutionalised co- operation</a:t>
            </a:r>
            <a:br>
              <a:rPr sz="2000"/>
            </a:b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    between a few entities</a:t>
            </a:r>
            <a:br>
              <a:rPr sz="20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e. g. special-purpose organisational units in Germany; ‘syndicats</a:t>
            </a:r>
            <a:br>
              <a:rPr sz="2000"/>
            </a:b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 intercommunaux à vocation unique’ in Fra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Multisectoral co-operation between numerous authorities in the</a:t>
            </a:r>
            <a:br>
              <a:rPr sz="2000"/>
            </a:b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    form of an association, covering various activities and services</a:t>
            </a:r>
            <a:br>
              <a:rPr sz="20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(e. g., obligatory multi-purpose associations in Germany;‘Communautés</a:t>
            </a:r>
            <a:br>
              <a:rPr sz="2000"/>
            </a:b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 de villes’, ‘Communautés Urbaines’ in France; Regional Development</a:t>
            </a:r>
            <a:br>
              <a:rPr sz="2000"/>
            </a:b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 Age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Sub-) Regional associations with elected or delegated members </a:t>
            </a:r>
            <a:br>
              <a:rPr sz="20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e. g. Ile-de-France Région; Grater London Authority, Kommunalver-</a:t>
            </a:r>
            <a:br>
              <a:rPr sz="2000"/>
            </a:b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    band Ruhr, Dublin Regional Author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25960" y="533160"/>
            <a:ext cx="811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n the hard way to city-regional organizing capacit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4920" y="1523520"/>
            <a:ext cx="25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a photo 2001 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809880"/>
            <a:ext cx="8915400" cy="914400"/>
          </a:xfrm>
          <a:custGeom>
            <a:avLst/>
            <a:gdLst>
              <a:gd name="textAreaLeft" fmla="*/ 1392840 w 8915400"/>
              <a:gd name="textAreaRight" fmla="*/ 8444160 w 8915400"/>
              <a:gd name="textAreaTop" fmla="*/ 215640 h 914400"/>
              <a:gd name="textAreaBottom" fmla="*/ 69876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100"/>
                </a:moveTo>
                <a:lnTo>
                  <a:pt x="19436" y="5100"/>
                </a:lnTo>
                <a:lnTo>
                  <a:pt x="19436" y="0"/>
                </a:lnTo>
                <a:lnTo>
                  <a:pt x="21600" y="10800"/>
                </a:lnTo>
                <a:lnTo>
                  <a:pt x="19436" y="21600"/>
                </a:lnTo>
                <a:lnTo>
                  <a:pt x="19436" y="16500"/>
                </a:lnTo>
                <a:lnTo>
                  <a:pt x="3375" y="16500"/>
                </a:lnTo>
                <a:close/>
              </a:path>
              <a:path w="21600" h="21600">
                <a:moveTo>
                  <a:pt x="0" y="5100"/>
                </a:moveTo>
                <a:lnTo>
                  <a:pt x="675" y="5100"/>
                </a:lnTo>
                <a:lnTo>
                  <a:pt x="675" y="16500"/>
                </a:lnTo>
                <a:lnTo>
                  <a:pt x="0" y="16500"/>
                </a:lnTo>
                <a:close/>
              </a:path>
              <a:path w="21600" h="21600">
                <a:moveTo>
                  <a:pt x="1350" y="5100"/>
                </a:moveTo>
                <a:lnTo>
                  <a:pt x="2700" y="5100"/>
                </a:lnTo>
                <a:lnTo>
                  <a:pt x="2700" y="16500"/>
                </a:lnTo>
                <a:lnTo>
                  <a:pt x="1350" y="16500"/>
                </a:ln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733920"/>
            <a:ext cx="1752840" cy="10666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heinRu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3733920"/>
            <a:ext cx="1752480" cy="10666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3124080"/>
            <a:ext cx="1752480" cy="10670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267080"/>
            <a:ext cx="1752480" cy="10670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34640" y="502884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5105520"/>
            <a:ext cx="457200" cy="0"/>
          </a:xfrm>
          <a:prstGeom prst="line">
            <a:avLst/>
          </a:prstGeom>
          <a:ln cap="sq"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62920" y="4495680"/>
            <a:ext cx="457200" cy="0"/>
          </a:xfrm>
          <a:prstGeom prst="line">
            <a:avLst/>
          </a:prstGeom>
          <a:ln cap="sq"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086600" y="4648320"/>
            <a:ext cx="457200" cy="0"/>
          </a:xfrm>
          <a:prstGeom prst="line">
            <a:avLst/>
          </a:prstGeom>
          <a:ln cap="sq"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04960" y="48765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11760" y="42541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25960" y="43938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581280"/>
            <a:ext cx="304920" cy="457200"/>
          </a:xfrm>
          <a:custGeom>
            <a:avLst/>
            <a:gdLst>
              <a:gd name="textAreaLeft" fmla="*/ 40680 w 304920"/>
              <a:gd name="textAreaRight" fmla="*/ 264240 w 30492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2971800"/>
            <a:ext cx="304560" cy="457200"/>
          </a:xfrm>
          <a:custGeom>
            <a:avLst/>
            <a:gdLst>
              <a:gd name="textAreaLeft" fmla="*/ 40680 w 304560"/>
              <a:gd name="textAreaRight" fmla="*/ 263880 w 30456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4520" y="685440"/>
            <a:ext cx="901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European Metropolitan Region RheinRuhr‘ –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a ‘designer region’ without regional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overnment but new regional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associationalism in a persistent context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of administrative and institutional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ragment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bcbcb"/>
                </a:solidFill>
                <a:latin typeface="Times New Roman"/>
              </a:rPr>
              <a:t>London Region –</a:t>
            </a:r>
            <a:r>
              <a:rPr b="1" lang="en-GB" sz="36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cbcbcb"/>
                </a:solidFill>
                <a:latin typeface="Times New Roman"/>
              </a:rPr>
              <a:t>no true regionalisation recognising the FUR, but a number of new regional institutions increasing the complexity of governance, with potential for competition and a new regional territoriality resulting in new boundaries dissecting the South East(ern) region and separating London with its Greater London Authority and high profile mayor from its hinterland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bcbcb"/>
                </a:solidFill>
                <a:latin typeface="Times New Roman"/>
              </a:rPr>
              <a:t>Dublin Region –</a:t>
            </a:r>
            <a:r>
              <a:rPr b="1" lang="en-GB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cbcbcb"/>
                </a:solidFill>
                <a:latin typeface="Times New Roman"/>
              </a:rPr>
              <a:t>a ‚landscape‘ of strong centralised local government, two regional authorities, and a range of organisations and semi-autonomous agencies of the central government looking for... new region - wide institutional arrangements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is Regio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advanced but unstable system of regional governanc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built on increased fragmentation of political and economic players and a restructuring of their respective roles and relations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838080"/>
            <a:ext cx="5278320" cy="26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serious problem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679120"/>
            <a:ext cx="43434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actual/potential functional city regions (constituted through socio-economic practices; with unstable boundaries that change with changing social practi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2667960"/>
            <a:ext cx="36576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existing territorial administrative- and steering-structures (typically fragmented among a range of levels and agenc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733920"/>
            <a:ext cx="99072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4191120"/>
            <a:ext cx="99072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7571600">
            <a:off x="3848040" y="3900240"/>
            <a:ext cx="1943280" cy="266400"/>
          </a:xfrm>
          <a:prstGeom prst="flowChartManualInput">
            <a:avLst/>
          </a:prstGeom>
          <a:solidFill>
            <a:srgbClr val="ffff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76640" y="837720"/>
            <a:ext cx="51868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key challeng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53280" y="3109680"/>
            <a:ext cx="78141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ody’</a:t>
            </a:r>
            <a:r>
              <a:rPr b="0" i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that enables regional actors to insti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tutionalize and consolidate management-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evelopment- and marketing- activities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the actual (and potential) function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city-regional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620800"/>
            <a:ext cx="8204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... to create a quasi-regional administ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3640" y="457200"/>
            <a:ext cx="8684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uilding new regional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nstitutional capacit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630800"/>
            <a:ext cx="861048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obilisation, generating the impetus and power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to create new relations and alliances, and develop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new policy age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reating new arenas, rules of engagement and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modes of practice (institutional de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‘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ainstreaming’ in some form, in which the new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relations and networks, and the new agendas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become normalized and embedded in the flow of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governance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68080" y="586692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Patsey Heale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685800"/>
            <a:ext cx="8686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ganising capacities for metropolitan regions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 "organising capacity" is the capacity to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involve all relevant stakeholders in order to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develop collectively new ideas and policies,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which support a sustainable development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in metropolitan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78760" y="6019560"/>
            <a:ext cx="323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Leo van den Berg et al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3733920"/>
            <a:ext cx="8001000" cy="2209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2209680"/>
            <a:ext cx="3124440" cy="1447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944880"/>
            <a:ext cx="3047760" cy="1693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3944880"/>
            <a:ext cx="3200400" cy="1693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4325760"/>
            <a:ext cx="19400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6172200"/>
            <a:ext cx="2514600" cy="536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8240" y="647712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28600" y="838080"/>
            <a:ext cx="0" cy="5639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6477120"/>
            <a:ext cx="2819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915400" y="914400"/>
            <a:ext cx="0" cy="556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9144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838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8195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05720" y="2819520"/>
            <a:ext cx="2209680" cy="1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5410080"/>
            <a:ext cx="533160" cy="685800"/>
          </a:xfrm>
          <a:prstGeom prst="upDownArrow">
            <a:avLst>
              <a:gd name="adj1" fmla="val 50000"/>
              <a:gd name="adj2" fmla="val 2560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3505320"/>
            <a:ext cx="533160" cy="685800"/>
          </a:xfrm>
          <a:prstGeom prst="upDownArrow">
            <a:avLst>
              <a:gd name="adj1" fmla="val 50000"/>
              <a:gd name="adj2" fmla="val 2560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76320"/>
            <a:ext cx="6172200" cy="1828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olitic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ociet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patio-economic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51000" y="4343400"/>
            <a:ext cx="2116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828800"/>
            <a:ext cx="53352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7080" y="0"/>
            <a:ext cx="8597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re city-regional co-operation and co-ordina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mbedded in specific contex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090800"/>
            <a:ext cx="861048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-administrative structures on the nationa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scale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more centralized states like France, UK and Ireland versus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 federal-states like Germany with strong local self-govern-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 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-administrative structures on the local scale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monocentric city-regions with an intra-urban polycentricity 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especially at the scale of the core-city versus inter-urban 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polycentric configurations without a clear leading c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fic actor and power constellations, structur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of interest and potential for compromise under th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given circumstances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(initiators and proponents versus opponents and crit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560" y="133200"/>
            <a:ext cx="906768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onents and Opponents of city-regional co-operation / co-ordina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33920"/>
            <a:ext cx="48006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central government/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federal governmen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interested in modernisising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administrative structures in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metropolitan areas / expect to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permit greater control over the 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local 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core cities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in periods of losing economic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capacity, population, and revenu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371600"/>
            <a:ext cx="192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33"/>
                </a:solidFill>
                <a:latin typeface="Times New Roman"/>
              </a:rPr>
              <a:t>Pro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1371600"/>
            <a:ext cx="18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33"/>
                </a:solidFill>
                <a:latin typeface="Times New Roman"/>
              </a:rPr>
              <a:t>Op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1905480"/>
            <a:ext cx="4800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central government/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federal governmen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fear creating a potential within 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the state which would change the 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existing geography of power)</a:t>
            </a:r>
            <a:br>
              <a:rPr sz="2000"/>
            </a:b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core cities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in periods of economic prosper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suburban governments / 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outlying communities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fear losing power, influence, func-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tions and revenu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560" y="133200"/>
            <a:ext cx="906768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onents and Opponents of city-regional co-operation / co-ordina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086200"/>
            <a:ext cx="48006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Industrie and its actors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interested in simplifying political 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and administrative structures, and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specific location systems)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Professionally involved 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actors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with specific objectives and inte-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rests on new sales and advertising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 mark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371600"/>
            <a:ext cx="192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33"/>
                </a:solidFill>
                <a:latin typeface="Times New Roman"/>
              </a:rPr>
              <a:t>Pro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371600"/>
            <a:ext cx="18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33"/>
                </a:solidFill>
                <a:latin typeface="Times New Roman"/>
              </a:rPr>
              <a:t>Op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116440"/>
            <a:ext cx="48006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Middle-tier governmen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and existing associations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of local authorities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fear a loss of competencies and power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especially through the establishment of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new territorial authorities)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Experts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(critisize new structures as democrati-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cally deficient, too narrow in scope or </a:t>
            </a:r>
            <a:br>
              <a:rPr sz="2000"/>
            </a:b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    too comple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2:50:25Z</dcterms:created>
  <dc:creator>SchmittP</dc:creator>
  <dc:description/>
  <dc:language>en-US</dc:language>
  <cp:lastModifiedBy>Orthograf!</cp:lastModifiedBy>
  <cp:lastPrinted>2002-01-31T15:49:54Z</cp:lastPrinted>
  <dcterms:modified xsi:type="dcterms:W3CDTF">2002-02-01T10:13:01Z</dcterms:modified>
  <cp:revision>29</cp:revision>
  <dc:subject/>
  <dc:title>Kein Folientitel</dc:title>
</cp:coreProperties>
</file>