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776F-CE35-41AC-A386-B2BA3EADAA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87000" y="4594320"/>
            <a:ext cx="6041880" cy="43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re)bonjour à tou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us allons reprendre ce séminai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rès les analyses macro-économiques de ce matin, nous allons étudier les fondements microéconomiques de la compétitivité des régions européen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ndan WILLIAMS, de l ’Institut Technologique de Dublin, et moi-même allons vous présenter les premiers résultats des travaux de GEMACA sur le rôle des Clus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te analyse a porté sur les régions de Dublin, Londres, Rhin-Ruhr, Paris-Ile-de-France et Bruxel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0BA-EA8F-48EA-85FE-DD1FB3DF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CA6-4207-40C7-BDD8-DB2EE32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92C-3D99-4B57-81B7-3608D4FE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EDC-5656-435C-8237-347EE4DE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FF71-50A2-483C-BD01-C35208EA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9FA-B64F-4EF8-8174-9FDE5C4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2BB0-09A4-4211-A8C8-F319C395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4502-3B39-402B-A3C7-6FCBB28B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9225-4428-466B-9B21-7EB1D143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2958-7867-466A-ADA2-C910A2A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460A-7536-42B2-B2CB-1BA8F2A9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87E-C4D7-4E32-901D-9E77B7E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1EB9-F5AE-4BD6-AF43-7DFE883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2F85-C043-4218-9EDB-B65D6AF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D20-6C5E-4609-8E8B-2FAE21B7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798-EDB5-4379-AB8E-07878011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39B5-8591-4619-80D8-611BE938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468-05D6-4438-B604-39A971A7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AB4-8FFF-42C3-B88E-4A43910A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9B4-1BDE-48EF-BED2-1F41332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359-632C-4BDF-B9EA-D81F35B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7DA-68FC-4EC0-9F54-0F0442A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FC8-11FF-49EB-8884-A00D93E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BB6-AE45-401A-B28A-364BAE99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05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26C-D22D-4F41-A5EB-A6DB3DFD852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2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4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EFB7-C359-4419-AB5F-0346F16C024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1752480" y="533520"/>
            <a:ext cx="5619960" cy="1620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Urban Regional Guidance and Management Structur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a precondition for the competitiveness of metropolitan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830680" y="5711400"/>
            <a:ext cx="3836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Wolfgang Knap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LS, Dortmund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8440" y="5680080"/>
            <a:ext cx="3905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19720" y="120600"/>
            <a:ext cx="583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a few Types of city-regional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-operative Approa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16080"/>
            <a:ext cx="86104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Informal or privately organ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fora, networks, PPPs., Ltds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Single function or single project institutionalised co- operation</a:t>
            </a:r>
            <a:br>
              <a:rPr sz="2000"/>
            </a:b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between a few entities</a:t>
            </a:r>
            <a:br>
              <a:rPr sz="20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e. g. special-purpose organisational units in Germany; ‘syndicats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intercommunaux à vocation unique’ in Fr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Multisectoral co-operation between numerous authorities in the</a:t>
            </a:r>
            <a:br>
              <a:rPr sz="2000"/>
            </a:b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form of an association, covering various activities and services</a:t>
            </a:r>
            <a:br>
              <a:rPr sz="20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(e. g., obligatory multi-purpose associations in Germany;‘Communautés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de villes’, ‘Communautés Urbaines’ in France; Regional Development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Age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Sub-) Regional associations with elected or delegated members </a:t>
            </a:r>
            <a:br>
              <a:rPr sz="20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e. g. Ile-de-France Région; Grater London Authority, Kommunalver-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band Ruhr, Dublin Regional Author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25960" y="533160"/>
            <a:ext cx="811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n the hard way to city-regional organizing capaci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4920" y="1523520"/>
            <a:ext cx="25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a photo 2001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809880"/>
            <a:ext cx="8915400" cy="914400"/>
          </a:xfrm>
          <a:custGeom>
            <a:avLst/>
            <a:gdLst>
              <a:gd name="textAreaLeft" fmla="*/ 1392840 w 8915400"/>
              <a:gd name="textAreaRight" fmla="*/ 8444160 w 8915400"/>
              <a:gd name="textAreaTop" fmla="*/ 215640 h 914400"/>
              <a:gd name="textAreaBottom" fmla="*/ 69876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9436" y="5100"/>
                </a:lnTo>
                <a:lnTo>
                  <a:pt x="19436" y="0"/>
                </a:lnTo>
                <a:lnTo>
                  <a:pt x="21600" y="10800"/>
                </a:lnTo>
                <a:lnTo>
                  <a:pt x="19436" y="21600"/>
                </a:lnTo>
                <a:lnTo>
                  <a:pt x="19436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733920"/>
            <a:ext cx="1752840" cy="1066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heinRu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3733920"/>
            <a:ext cx="1752480" cy="1066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3124080"/>
            <a:ext cx="1752480" cy="10670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267080"/>
            <a:ext cx="1752480" cy="10670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4640" y="502884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5105520"/>
            <a:ext cx="457200" cy="0"/>
          </a:xfrm>
          <a:prstGeom prst="line">
            <a:avLst/>
          </a:prstGeom>
          <a:ln cap="sq"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4495680"/>
            <a:ext cx="457200" cy="0"/>
          </a:xfrm>
          <a:prstGeom prst="line">
            <a:avLst/>
          </a:prstGeom>
          <a:ln cap="sq"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086600" y="4648320"/>
            <a:ext cx="457200" cy="0"/>
          </a:xfrm>
          <a:prstGeom prst="line">
            <a:avLst/>
          </a:prstGeom>
          <a:ln cap="sq"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960" y="4876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11760" y="4254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25960" y="43938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58128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2971800"/>
            <a:ext cx="304560" cy="457200"/>
          </a:xfrm>
          <a:custGeom>
            <a:avLst/>
            <a:gdLst>
              <a:gd name="textAreaLeft" fmla="*/ 40680 w 304560"/>
              <a:gd name="textAreaRight" fmla="*/ 263880 w 3045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4520" y="685440"/>
            <a:ext cx="901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European Metropolitan Region RheinRuhr‘ –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 ‘designer region’ without regional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overnment but new regional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ssociationalism in a persistent context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of administrative and institutional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ragment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bcbcb"/>
                </a:solidFill>
                <a:latin typeface="Times New Roman"/>
              </a:rPr>
              <a:t>London Region –</a:t>
            </a:r>
            <a:r>
              <a:rPr b="1" lang="en-GB" sz="36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cbcbcb"/>
                </a:solidFill>
                <a:latin typeface="Times New Roman"/>
              </a:rPr>
              <a:t>no true regionalisation recognising the FUR, but a number of new regional institutions increasing the complexity of governance, with potential for competition and a new regional territoriality resulting in new boundaries dissecting the South East(ern) region and separating London with its Greater London Authority and high profile mayor from its hinterland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bcbcb"/>
                </a:solidFill>
                <a:latin typeface="Times New Roman"/>
              </a:rPr>
              <a:t>Dublin Region –</a:t>
            </a:r>
            <a:r>
              <a:rPr b="1" lang="en-GB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cbcbcb"/>
                </a:solidFill>
                <a:latin typeface="Times New Roman"/>
              </a:rPr>
              <a:t>a ‚landscape‘ of strong centralised local government, two regional authorities, and a range of organisations and semi-autonomous agencies of the central government looking for... new region - wide institutional arrangements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is Reg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advanced but unstable system of regional govern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built on increased fragmentation of political and economic players and a restructuring of their respective roles and relations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838080"/>
            <a:ext cx="527832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erious problem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679120"/>
            <a:ext cx="43434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actual/potential functional city regions (constituted through socio-economic practices; with unstable boundaries that change with changing social practi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667960"/>
            <a:ext cx="36576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xisting territorial administrative- and steering-structures (typically fragmented among a range of levels and agenc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733920"/>
            <a:ext cx="9907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191120"/>
            <a:ext cx="9907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571600">
            <a:off x="3848040" y="3900240"/>
            <a:ext cx="1943280" cy="266400"/>
          </a:xfrm>
          <a:prstGeom prst="flowChartManualInput">
            <a:avLst/>
          </a:prstGeom>
          <a:solidFill>
            <a:srgbClr val="ffff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76640" y="837720"/>
            <a:ext cx="51868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key challeng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3280" y="3109680"/>
            <a:ext cx="78141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ody’</a:t>
            </a:r>
            <a:r>
              <a:rPr b="0" i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at enables regional actors to insti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utionalize and consolidate management-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evelopment- and marketing- activities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e actual (and potential) func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city-regional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620800"/>
            <a:ext cx="8204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... to create a quasi-regional administ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3640" y="457200"/>
            <a:ext cx="868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uilding new regional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nstitutional capacit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30800"/>
            <a:ext cx="861048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obilisation, generating the impetus and power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to create new relations and alliances, and develop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new policy age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reating new arenas, rules of engagement and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modes of practice (institutional de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‘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ainstreaming’ in some form, in which the new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relations and networks, and the new agenda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become normalized and embedded in the flow of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governance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68080" y="586692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Patsey Heale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685800"/>
            <a:ext cx="8686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ganising capacities for metropolitan region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"organising capacity" is the capacity to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involve all relevant stakeholders in order to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develop collectively new ideas and policies,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which support a sustainable development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in metropolitan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78760" y="6019560"/>
            <a:ext cx="323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Leo van den Berg et a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3733920"/>
            <a:ext cx="8001000" cy="2209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209680"/>
            <a:ext cx="3124440" cy="1447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944880"/>
            <a:ext cx="3047760" cy="1693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3944880"/>
            <a:ext cx="3200400" cy="1693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4325760"/>
            <a:ext cx="19400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6172200"/>
            <a:ext cx="2514600" cy="536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240" y="647712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8600" y="838080"/>
            <a:ext cx="0" cy="5639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647712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915400" y="914400"/>
            <a:ext cx="0" cy="556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9144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838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195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05720" y="2819520"/>
            <a:ext cx="2209680" cy="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5410080"/>
            <a:ext cx="533160" cy="685800"/>
          </a:xfrm>
          <a:prstGeom prst="upDownArrow">
            <a:avLst>
              <a:gd name="adj1" fmla="val 50000"/>
              <a:gd name="adj2" fmla="val 2560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505320"/>
            <a:ext cx="533160" cy="685800"/>
          </a:xfrm>
          <a:prstGeom prst="upDownArrow">
            <a:avLst>
              <a:gd name="adj1" fmla="val 50000"/>
              <a:gd name="adj2" fmla="val 2560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76320"/>
            <a:ext cx="6172200" cy="182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olitic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ociet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patio-economic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51000" y="4343400"/>
            <a:ext cx="2116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828800"/>
            <a:ext cx="53352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7080" y="0"/>
            <a:ext cx="8597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re city-regional co-operation and co-ordina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mbedded in specific contex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090800"/>
            <a:ext cx="86104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-administrative structures on the nation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scale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more centralized states like France, UK and Ireland versus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federal-states like Germany with strong local self-govern-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-administrative structures on the local scale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monocentric city-regions with an intra-urban polycentricity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especially at the scale of the core-city versus inter-urban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polycentric configurations without a clear leading c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actor and power constellations, structur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of interest and potential for compromise under th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given circumstances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(initiators and proponents versus opponents and crit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560" y="133200"/>
            <a:ext cx="906768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nents and Opponents of city-regional co-operation / co-ordina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33920"/>
            <a:ext cx="4800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entral government/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federal governmen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terested in modernisising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administrative structures in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metropolitan areas / expect to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permit greater control over the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local 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ore citi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 periods of losing economic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capacity, population, and revenu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371600"/>
            <a:ext cx="192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Pro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1371600"/>
            <a:ext cx="18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Op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905480"/>
            <a:ext cx="4800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entral government/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federal governmen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fear creating a potential within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the state which would change the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existing geography of power)</a:t>
            </a:r>
            <a:br>
              <a:rPr sz="2000"/>
            </a:b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ore citi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 periods of economic prosper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suburban governments /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outlying communiti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fear losing power, influence, func-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tions and revenu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560" y="133200"/>
            <a:ext cx="906768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nents and Opponents of city-regional co-operation / co-ordina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086200"/>
            <a:ext cx="4800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Industrie and its actors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terested in simplifying political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and administrative structures, and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specific location systems)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Professionally involved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actor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with specific objectives and inte-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rests on new sales and advertising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mark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371600"/>
            <a:ext cx="192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Pro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371600"/>
            <a:ext cx="18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Op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116440"/>
            <a:ext cx="4800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Middle-tier governmen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and existing associations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of local authorities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fear a loss of competencies and power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especially through the establishment of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new territorial authorities)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xpert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critisize new structures as democrati-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cally deficient, too narrow in scope or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too comple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2:50:25Z</dcterms:created>
  <dc:creator>SchmittP</dc:creator>
  <dc:description/>
  <dc:language>en-US</dc:language>
  <cp:lastModifiedBy>Orthograf!</cp:lastModifiedBy>
  <cp:lastPrinted>2002-01-31T15:49:54Z</cp:lastPrinted>
  <dcterms:modified xsi:type="dcterms:W3CDTF">2002-02-01T10:13:01Z</dcterms:modified>
  <cp:revision>29</cp:revision>
  <dc:subject/>
  <dc:title>Kein Folientitel</dc:title>
</cp:coreProperties>
</file>