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14.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667500" cy="9805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30" name="PlaceHolder 2"/>
          <p:cNvSpPr>
            <a:spLocks noGrp="1"/>
          </p:cNvSpPr>
          <p:nvPr>
            <p:ph/>
          </p:nvPr>
        </p:nvSpPr>
        <p:spPr>
          <a:xfrm>
            <a:off x="980640" y="168228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3"/>
          <p:cNvSpPr>
            <a:spLocks noGrp="1"/>
          </p:cNvSpPr>
          <p:nvPr>
            <p:ph/>
          </p:nvPr>
        </p:nvSpPr>
        <p:spPr>
          <a:xfrm>
            <a:off x="980640" y="375156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33"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98064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504072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38" name="PlaceHolder 2"/>
          <p:cNvSpPr>
            <a:spLocks noGrp="1"/>
          </p:cNvSpPr>
          <p:nvPr>
            <p:ph/>
          </p:nvPr>
        </p:nvSpPr>
        <p:spPr>
          <a:xfrm>
            <a:off x="98064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 name="PlaceHolder 3"/>
          <p:cNvSpPr>
            <a:spLocks noGrp="1"/>
          </p:cNvSpPr>
          <p:nvPr>
            <p:ph/>
          </p:nvPr>
        </p:nvSpPr>
        <p:spPr>
          <a:xfrm>
            <a:off x="365940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4"/>
          <p:cNvSpPr>
            <a:spLocks noGrp="1"/>
          </p:cNvSpPr>
          <p:nvPr>
            <p:ph/>
          </p:nvPr>
        </p:nvSpPr>
        <p:spPr>
          <a:xfrm>
            <a:off x="633852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5"/>
          <p:cNvSpPr>
            <a:spLocks noGrp="1"/>
          </p:cNvSpPr>
          <p:nvPr>
            <p:ph/>
          </p:nvPr>
        </p:nvSpPr>
        <p:spPr>
          <a:xfrm>
            <a:off x="98064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6"/>
          <p:cNvSpPr>
            <a:spLocks noGrp="1"/>
          </p:cNvSpPr>
          <p:nvPr>
            <p:ph/>
          </p:nvPr>
        </p:nvSpPr>
        <p:spPr>
          <a:xfrm>
            <a:off x="365940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7"/>
          <p:cNvSpPr>
            <a:spLocks noGrp="1"/>
          </p:cNvSpPr>
          <p:nvPr>
            <p:ph/>
          </p:nvPr>
        </p:nvSpPr>
        <p:spPr>
          <a:xfrm>
            <a:off x="633852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55" name="PlaceHolder 2"/>
          <p:cNvSpPr>
            <a:spLocks noGrp="1"/>
          </p:cNvSpPr>
          <p:nvPr>
            <p:ph type="subTitle"/>
          </p:nvPr>
        </p:nvSpPr>
        <p:spPr>
          <a:xfrm>
            <a:off x="980640" y="1682280"/>
            <a:ext cx="7923240" cy="3961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57" name="PlaceHolder 2"/>
          <p:cNvSpPr>
            <a:spLocks noGrp="1"/>
          </p:cNvSpPr>
          <p:nvPr>
            <p:ph/>
          </p:nvPr>
        </p:nvSpPr>
        <p:spPr>
          <a:xfrm>
            <a:off x="980640" y="1682280"/>
            <a:ext cx="792324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59" name="PlaceHolder 2"/>
          <p:cNvSpPr>
            <a:spLocks noGrp="1"/>
          </p:cNvSpPr>
          <p:nvPr>
            <p:ph/>
          </p:nvPr>
        </p:nvSpPr>
        <p:spPr>
          <a:xfrm>
            <a:off x="98064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 name="PlaceHolder 3"/>
          <p:cNvSpPr>
            <a:spLocks noGrp="1"/>
          </p:cNvSpPr>
          <p:nvPr>
            <p:ph/>
          </p:nvPr>
        </p:nvSpPr>
        <p:spPr>
          <a:xfrm>
            <a:off x="504072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81000" y="275760"/>
            <a:ext cx="792648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64"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504072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 name="PlaceHolder 4"/>
          <p:cNvSpPr>
            <a:spLocks noGrp="1"/>
          </p:cNvSpPr>
          <p:nvPr>
            <p:ph/>
          </p:nvPr>
        </p:nvSpPr>
        <p:spPr>
          <a:xfrm>
            <a:off x="98064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9" name="PlaceHolder 2"/>
          <p:cNvSpPr>
            <a:spLocks noGrp="1"/>
          </p:cNvSpPr>
          <p:nvPr>
            <p:ph type="subTitle"/>
          </p:nvPr>
        </p:nvSpPr>
        <p:spPr>
          <a:xfrm>
            <a:off x="980640" y="1682280"/>
            <a:ext cx="7923240" cy="3961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68" name="PlaceHolder 2"/>
          <p:cNvSpPr>
            <a:spLocks noGrp="1"/>
          </p:cNvSpPr>
          <p:nvPr>
            <p:ph/>
          </p:nvPr>
        </p:nvSpPr>
        <p:spPr>
          <a:xfrm>
            <a:off x="98064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4"/>
          <p:cNvSpPr>
            <a:spLocks noGrp="1"/>
          </p:cNvSpPr>
          <p:nvPr>
            <p:ph/>
          </p:nvPr>
        </p:nvSpPr>
        <p:spPr>
          <a:xfrm>
            <a:off x="504072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72"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980640" y="375156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76" name="PlaceHolder 2"/>
          <p:cNvSpPr>
            <a:spLocks noGrp="1"/>
          </p:cNvSpPr>
          <p:nvPr>
            <p:ph/>
          </p:nvPr>
        </p:nvSpPr>
        <p:spPr>
          <a:xfrm>
            <a:off x="980640" y="168228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3"/>
          <p:cNvSpPr>
            <a:spLocks noGrp="1"/>
          </p:cNvSpPr>
          <p:nvPr>
            <p:ph/>
          </p:nvPr>
        </p:nvSpPr>
        <p:spPr>
          <a:xfrm>
            <a:off x="980640" y="375156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79"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 name="PlaceHolder 4"/>
          <p:cNvSpPr>
            <a:spLocks noGrp="1"/>
          </p:cNvSpPr>
          <p:nvPr>
            <p:ph/>
          </p:nvPr>
        </p:nvSpPr>
        <p:spPr>
          <a:xfrm>
            <a:off x="98064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 name="PlaceHolder 5"/>
          <p:cNvSpPr>
            <a:spLocks noGrp="1"/>
          </p:cNvSpPr>
          <p:nvPr>
            <p:ph/>
          </p:nvPr>
        </p:nvSpPr>
        <p:spPr>
          <a:xfrm>
            <a:off x="504072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84" name="PlaceHolder 2"/>
          <p:cNvSpPr>
            <a:spLocks noGrp="1"/>
          </p:cNvSpPr>
          <p:nvPr>
            <p:ph/>
          </p:nvPr>
        </p:nvSpPr>
        <p:spPr>
          <a:xfrm>
            <a:off x="98064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3"/>
          <p:cNvSpPr>
            <a:spLocks noGrp="1"/>
          </p:cNvSpPr>
          <p:nvPr>
            <p:ph/>
          </p:nvPr>
        </p:nvSpPr>
        <p:spPr>
          <a:xfrm>
            <a:off x="365940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4"/>
          <p:cNvSpPr>
            <a:spLocks noGrp="1"/>
          </p:cNvSpPr>
          <p:nvPr>
            <p:ph/>
          </p:nvPr>
        </p:nvSpPr>
        <p:spPr>
          <a:xfrm>
            <a:off x="6338520" y="168228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5"/>
          <p:cNvSpPr>
            <a:spLocks noGrp="1"/>
          </p:cNvSpPr>
          <p:nvPr>
            <p:ph/>
          </p:nvPr>
        </p:nvSpPr>
        <p:spPr>
          <a:xfrm>
            <a:off x="98064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 name="PlaceHolder 6"/>
          <p:cNvSpPr>
            <a:spLocks noGrp="1"/>
          </p:cNvSpPr>
          <p:nvPr>
            <p:ph/>
          </p:nvPr>
        </p:nvSpPr>
        <p:spPr>
          <a:xfrm>
            <a:off x="365940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 name="PlaceHolder 7"/>
          <p:cNvSpPr>
            <a:spLocks noGrp="1"/>
          </p:cNvSpPr>
          <p:nvPr>
            <p:ph/>
          </p:nvPr>
        </p:nvSpPr>
        <p:spPr>
          <a:xfrm>
            <a:off x="6338520" y="3751560"/>
            <a:ext cx="255096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11" name="PlaceHolder 2"/>
          <p:cNvSpPr>
            <a:spLocks noGrp="1"/>
          </p:cNvSpPr>
          <p:nvPr>
            <p:ph/>
          </p:nvPr>
        </p:nvSpPr>
        <p:spPr>
          <a:xfrm>
            <a:off x="980640" y="1682280"/>
            <a:ext cx="792324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13" name="PlaceHolder 2"/>
          <p:cNvSpPr>
            <a:spLocks noGrp="1"/>
          </p:cNvSpPr>
          <p:nvPr>
            <p:ph/>
          </p:nvPr>
        </p:nvSpPr>
        <p:spPr>
          <a:xfrm>
            <a:off x="98064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4072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81000" y="275760"/>
            <a:ext cx="792648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18"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3"/>
          <p:cNvSpPr>
            <a:spLocks noGrp="1"/>
          </p:cNvSpPr>
          <p:nvPr>
            <p:ph/>
          </p:nvPr>
        </p:nvSpPr>
        <p:spPr>
          <a:xfrm>
            <a:off x="504072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4"/>
          <p:cNvSpPr>
            <a:spLocks noGrp="1"/>
          </p:cNvSpPr>
          <p:nvPr>
            <p:ph/>
          </p:nvPr>
        </p:nvSpPr>
        <p:spPr>
          <a:xfrm>
            <a:off x="98064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22" name="PlaceHolder 2"/>
          <p:cNvSpPr>
            <a:spLocks noGrp="1"/>
          </p:cNvSpPr>
          <p:nvPr>
            <p:ph/>
          </p:nvPr>
        </p:nvSpPr>
        <p:spPr>
          <a:xfrm>
            <a:off x="980640" y="1682280"/>
            <a:ext cx="3866400" cy="3961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4"/>
          <p:cNvSpPr>
            <a:spLocks noGrp="1"/>
          </p:cNvSpPr>
          <p:nvPr>
            <p:ph/>
          </p:nvPr>
        </p:nvSpPr>
        <p:spPr>
          <a:xfrm>
            <a:off x="5040720" y="375156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b500"/>
              </a:solidFill>
              <a:latin typeface="Arial Narrow"/>
            </a:endParaRPr>
          </a:p>
        </p:txBody>
      </p:sp>
      <p:sp>
        <p:nvSpPr>
          <p:cNvPr id="26" name="PlaceHolder 2"/>
          <p:cNvSpPr>
            <a:spLocks noGrp="1"/>
          </p:cNvSpPr>
          <p:nvPr>
            <p:ph/>
          </p:nvPr>
        </p:nvSpPr>
        <p:spPr>
          <a:xfrm>
            <a:off x="98064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 name="PlaceHolder 3"/>
          <p:cNvSpPr>
            <a:spLocks noGrp="1"/>
          </p:cNvSpPr>
          <p:nvPr>
            <p:ph/>
          </p:nvPr>
        </p:nvSpPr>
        <p:spPr>
          <a:xfrm>
            <a:off x="5040720" y="1682280"/>
            <a:ext cx="386640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4"/>
          <p:cNvSpPr>
            <a:spLocks noGrp="1"/>
          </p:cNvSpPr>
          <p:nvPr>
            <p:ph/>
          </p:nvPr>
        </p:nvSpPr>
        <p:spPr>
          <a:xfrm>
            <a:off x="980640" y="3751560"/>
            <a:ext cx="7923240" cy="1889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grpSp>
        <p:nvGrpSpPr>
          <p:cNvPr id="0" name=""/>
          <p:cNvGrpSpPr/>
          <p:nvPr/>
        </p:nvGrpSpPr>
        <p:grpSpPr>
          <a:xfrm>
            <a:off x="158760" y="1230480"/>
            <a:ext cx="4922280" cy="5388840"/>
            <a:chOff x="158760" y="1230480"/>
            <a:chExt cx="4922280" cy="5388840"/>
          </a:xfrm>
        </p:grpSpPr>
        <p:sp>
          <p:nvSpPr>
            <p:cNvPr id="1" name=""/>
            <p:cNvSpPr/>
            <p:nvPr/>
          </p:nvSpPr>
          <p:spPr>
            <a:xfrm>
              <a:off x="1856160" y="1230480"/>
              <a:ext cx="3224880" cy="5385600"/>
            </a:xfrm>
            <a:custGeom>
              <a:avLst/>
              <a:gdLst/>
              <a:ahLst/>
              <a:rect l="l" t="t" r="r" b="b"/>
              <a:pathLst>
                <a:path w="4559" h="7616">
                  <a:moveTo>
                    <a:pt x="3327" y="436"/>
                  </a:moveTo>
                  <a:lnTo>
                    <a:pt x="3283" y="396"/>
                  </a:lnTo>
                  <a:lnTo>
                    <a:pt x="3240" y="360"/>
                  </a:lnTo>
                  <a:lnTo>
                    <a:pt x="3195" y="324"/>
                  </a:lnTo>
                  <a:lnTo>
                    <a:pt x="3150" y="293"/>
                  </a:lnTo>
                  <a:lnTo>
                    <a:pt x="3103" y="261"/>
                  </a:lnTo>
                  <a:lnTo>
                    <a:pt x="3056" y="233"/>
                  </a:lnTo>
                  <a:lnTo>
                    <a:pt x="3008" y="204"/>
                  </a:lnTo>
                  <a:lnTo>
                    <a:pt x="2960" y="179"/>
                  </a:lnTo>
                  <a:lnTo>
                    <a:pt x="2909" y="153"/>
                  </a:lnTo>
                  <a:lnTo>
                    <a:pt x="2859" y="132"/>
                  </a:lnTo>
                  <a:lnTo>
                    <a:pt x="2807" y="110"/>
                  </a:lnTo>
                  <a:lnTo>
                    <a:pt x="2756" y="92"/>
                  </a:lnTo>
                  <a:lnTo>
                    <a:pt x="2701" y="74"/>
                  </a:lnTo>
                  <a:lnTo>
                    <a:pt x="2648" y="59"/>
                  </a:lnTo>
                  <a:lnTo>
                    <a:pt x="2594" y="44"/>
                  </a:lnTo>
                  <a:lnTo>
                    <a:pt x="2539" y="33"/>
                  </a:lnTo>
                  <a:lnTo>
                    <a:pt x="2479" y="21"/>
                  </a:lnTo>
                  <a:lnTo>
                    <a:pt x="2420" y="13"/>
                  </a:lnTo>
                  <a:lnTo>
                    <a:pt x="2363" y="6"/>
                  </a:lnTo>
                  <a:lnTo>
                    <a:pt x="2306" y="2"/>
                  </a:lnTo>
                  <a:lnTo>
                    <a:pt x="2249" y="0"/>
                  </a:lnTo>
                  <a:lnTo>
                    <a:pt x="2194" y="1"/>
                  </a:lnTo>
                  <a:lnTo>
                    <a:pt x="2138" y="5"/>
                  </a:lnTo>
                  <a:lnTo>
                    <a:pt x="2085" y="10"/>
                  </a:lnTo>
                  <a:lnTo>
                    <a:pt x="2030" y="18"/>
                  </a:lnTo>
                  <a:lnTo>
                    <a:pt x="1978" y="29"/>
                  </a:lnTo>
                  <a:lnTo>
                    <a:pt x="1926" y="41"/>
                  </a:lnTo>
                  <a:lnTo>
                    <a:pt x="1875" y="56"/>
                  </a:lnTo>
                  <a:lnTo>
                    <a:pt x="1824" y="73"/>
                  </a:lnTo>
                  <a:lnTo>
                    <a:pt x="1774" y="92"/>
                  </a:lnTo>
                  <a:lnTo>
                    <a:pt x="1725" y="114"/>
                  </a:lnTo>
                  <a:lnTo>
                    <a:pt x="1678" y="140"/>
                  </a:lnTo>
                  <a:lnTo>
                    <a:pt x="1645" y="123"/>
                  </a:lnTo>
                  <a:lnTo>
                    <a:pt x="1612" y="108"/>
                  </a:lnTo>
                  <a:lnTo>
                    <a:pt x="1578" y="93"/>
                  </a:lnTo>
                  <a:lnTo>
                    <a:pt x="1545" y="81"/>
                  </a:lnTo>
                  <a:lnTo>
                    <a:pt x="1475" y="57"/>
                  </a:lnTo>
                  <a:lnTo>
                    <a:pt x="1439" y="47"/>
                  </a:lnTo>
                  <a:lnTo>
                    <a:pt x="1404" y="39"/>
                  </a:lnTo>
                  <a:lnTo>
                    <a:pt x="1365" y="30"/>
                  </a:lnTo>
                  <a:lnTo>
                    <a:pt x="1328" y="23"/>
                  </a:lnTo>
                  <a:lnTo>
                    <a:pt x="1289" y="17"/>
                  </a:lnTo>
                  <a:lnTo>
                    <a:pt x="1250" y="14"/>
                  </a:lnTo>
                  <a:lnTo>
                    <a:pt x="1210" y="9"/>
                  </a:lnTo>
                  <a:lnTo>
                    <a:pt x="1170" y="7"/>
                  </a:lnTo>
                  <a:lnTo>
                    <a:pt x="1087" y="6"/>
                  </a:lnTo>
                  <a:lnTo>
                    <a:pt x="1419" y="287"/>
                  </a:lnTo>
                  <a:lnTo>
                    <a:pt x="1087" y="583"/>
                  </a:lnTo>
                  <a:lnTo>
                    <a:pt x="901" y="412"/>
                  </a:lnTo>
                  <a:lnTo>
                    <a:pt x="876" y="434"/>
                  </a:lnTo>
                  <a:lnTo>
                    <a:pt x="854" y="458"/>
                  </a:lnTo>
                  <a:lnTo>
                    <a:pt x="831" y="481"/>
                  </a:lnTo>
                  <a:lnTo>
                    <a:pt x="811" y="505"/>
                  </a:lnTo>
                  <a:lnTo>
                    <a:pt x="771" y="550"/>
                  </a:lnTo>
                  <a:lnTo>
                    <a:pt x="736" y="594"/>
                  </a:lnTo>
                  <a:lnTo>
                    <a:pt x="703" y="636"/>
                  </a:lnTo>
                  <a:lnTo>
                    <a:pt x="676" y="677"/>
                  </a:lnTo>
                  <a:lnTo>
                    <a:pt x="662" y="696"/>
                  </a:lnTo>
                  <a:lnTo>
                    <a:pt x="651" y="717"/>
                  </a:lnTo>
                  <a:lnTo>
                    <a:pt x="632" y="755"/>
                  </a:lnTo>
                  <a:lnTo>
                    <a:pt x="780" y="965"/>
                  </a:lnTo>
                  <a:lnTo>
                    <a:pt x="734" y="1034"/>
                  </a:lnTo>
                  <a:lnTo>
                    <a:pt x="689" y="1107"/>
                  </a:lnTo>
                  <a:lnTo>
                    <a:pt x="645" y="1179"/>
                  </a:lnTo>
                  <a:lnTo>
                    <a:pt x="604" y="1255"/>
                  </a:lnTo>
                  <a:lnTo>
                    <a:pt x="564" y="1330"/>
                  </a:lnTo>
                  <a:lnTo>
                    <a:pt x="525" y="1408"/>
                  </a:lnTo>
                  <a:lnTo>
                    <a:pt x="486" y="1486"/>
                  </a:lnTo>
                  <a:lnTo>
                    <a:pt x="451" y="1568"/>
                  </a:lnTo>
                  <a:lnTo>
                    <a:pt x="415" y="1648"/>
                  </a:lnTo>
                  <a:lnTo>
                    <a:pt x="382" y="1731"/>
                  </a:lnTo>
                  <a:lnTo>
                    <a:pt x="349" y="1815"/>
                  </a:lnTo>
                  <a:lnTo>
                    <a:pt x="319" y="1901"/>
                  </a:lnTo>
                  <a:lnTo>
                    <a:pt x="288" y="1987"/>
                  </a:lnTo>
                  <a:lnTo>
                    <a:pt x="260" y="2077"/>
                  </a:lnTo>
                  <a:lnTo>
                    <a:pt x="233" y="2167"/>
                  </a:lnTo>
                  <a:lnTo>
                    <a:pt x="208" y="2258"/>
                  </a:lnTo>
                  <a:lnTo>
                    <a:pt x="161" y="2434"/>
                  </a:lnTo>
                  <a:lnTo>
                    <a:pt x="121" y="2613"/>
                  </a:lnTo>
                  <a:lnTo>
                    <a:pt x="87" y="2793"/>
                  </a:lnTo>
                  <a:lnTo>
                    <a:pt x="60" y="2977"/>
                  </a:lnTo>
                  <a:lnTo>
                    <a:pt x="36" y="3162"/>
                  </a:lnTo>
                  <a:lnTo>
                    <a:pt x="19" y="3349"/>
                  </a:lnTo>
                  <a:lnTo>
                    <a:pt x="8" y="3538"/>
                  </a:lnTo>
                  <a:lnTo>
                    <a:pt x="2" y="3731"/>
                  </a:lnTo>
                  <a:lnTo>
                    <a:pt x="0" y="3825"/>
                  </a:lnTo>
                  <a:lnTo>
                    <a:pt x="0" y="3920"/>
                  </a:lnTo>
                  <a:lnTo>
                    <a:pt x="5" y="4108"/>
                  </a:lnTo>
                  <a:lnTo>
                    <a:pt x="15" y="4294"/>
                  </a:lnTo>
                  <a:lnTo>
                    <a:pt x="31" y="4480"/>
                  </a:lnTo>
                  <a:lnTo>
                    <a:pt x="51" y="4664"/>
                  </a:lnTo>
                  <a:lnTo>
                    <a:pt x="64" y="4755"/>
                  </a:lnTo>
                  <a:lnTo>
                    <a:pt x="78" y="4846"/>
                  </a:lnTo>
                  <a:lnTo>
                    <a:pt x="111" y="5028"/>
                  </a:lnTo>
                  <a:lnTo>
                    <a:pt x="129" y="5117"/>
                  </a:lnTo>
                  <a:lnTo>
                    <a:pt x="150" y="5208"/>
                  </a:lnTo>
                  <a:lnTo>
                    <a:pt x="170" y="5298"/>
                  </a:lnTo>
                  <a:lnTo>
                    <a:pt x="193" y="5387"/>
                  </a:lnTo>
                  <a:lnTo>
                    <a:pt x="216" y="5476"/>
                  </a:lnTo>
                  <a:lnTo>
                    <a:pt x="242" y="5564"/>
                  </a:lnTo>
                  <a:lnTo>
                    <a:pt x="268" y="5649"/>
                  </a:lnTo>
                  <a:lnTo>
                    <a:pt x="296" y="5734"/>
                  </a:lnTo>
                  <a:lnTo>
                    <a:pt x="324" y="5818"/>
                  </a:lnTo>
                  <a:lnTo>
                    <a:pt x="356" y="5901"/>
                  </a:lnTo>
                  <a:lnTo>
                    <a:pt x="387" y="5981"/>
                  </a:lnTo>
                  <a:lnTo>
                    <a:pt x="420" y="6062"/>
                  </a:lnTo>
                  <a:lnTo>
                    <a:pt x="452" y="6140"/>
                  </a:lnTo>
                  <a:lnTo>
                    <a:pt x="489" y="6218"/>
                  </a:lnTo>
                  <a:lnTo>
                    <a:pt x="525" y="6294"/>
                  </a:lnTo>
                  <a:lnTo>
                    <a:pt x="564" y="6369"/>
                  </a:lnTo>
                  <a:lnTo>
                    <a:pt x="602" y="6443"/>
                  </a:lnTo>
                  <a:lnTo>
                    <a:pt x="644" y="6516"/>
                  </a:lnTo>
                  <a:lnTo>
                    <a:pt x="685" y="6438"/>
                  </a:lnTo>
                  <a:lnTo>
                    <a:pt x="726" y="6359"/>
                  </a:lnTo>
                  <a:lnTo>
                    <a:pt x="764" y="6275"/>
                  </a:lnTo>
                  <a:lnTo>
                    <a:pt x="783" y="6232"/>
                  </a:lnTo>
                  <a:lnTo>
                    <a:pt x="804" y="6190"/>
                  </a:lnTo>
                  <a:lnTo>
                    <a:pt x="822" y="6144"/>
                  </a:lnTo>
                  <a:lnTo>
                    <a:pt x="831" y="6122"/>
                  </a:lnTo>
                  <a:lnTo>
                    <a:pt x="836" y="6110"/>
                  </a:lnTo>
                  <a:lnTo>
                    <a:pt x="838" y="6105"/>
                  </a:lnTo>
                  <a:lnTo>
                    <a:pt x="841" y="6100"/>
                  </a:lnTo>
                  <a:lnTo>
                    <a:pt x="859" y="6054"/>
                  </a:lnTo>
                  <a:lnTo>
                    <a:pt x="879" y="6008"/>
                  </a:lnTo>
                  <a:lnTo>
                    <a:pt x="915" y="5912"/>
                  </a:lnTo>
                  <a:lnTo>
                    <a:pt x="951" y="5815"/>
                  </a:lnTo>
                  <a:lnTo>
                    <a:pt x="909" y="5688"/>
                  </a:lnTo>
                  <a:lnTo>
                    <a:pt x="889" y="5623"/>
                  </a:lnTo>
                  <a:lnTo>
                    <a:pt x="871" y="5559"/>
                  </a:lnTo>
                  <a:lnTo>
                    <a:pt x="836" y="5427"/>
                  </a:lnTo>
                  <a:lnTo>
                    <a:pt x="819" y="5360"/>
                  </a:lnTo>
                  <a:lnTo>
                    <a:pt x="804" y="5294"/>
                  </a:lnTo>
                  <a:lnTo>
                    <a:pt x="788" y="5225"/>
                  </a:lnTo>
                  <a:lnTo>
                    <a:pt x="774" y="5157"/>
                  </a:lnTo>
                  <a:lnTo>
                    <a:pt x="761" y="5088"/>
                  </a:lnTo>
                  <a:lnTo>
                    <a:pt x="749" y="5019"/>
                  </a:lnTo>
                  <a:lnTo>
                    <a:pt x="737" y="4947"/>
                  </a:lnTo>
                  <a:lnTo>
                    <a:pt x="727" y="4876"/>
                  </a:lnTo>
                  <a:lnTo>
                    <a:pt x="717" y="4803"/>
                  </a:lnTo>
                  <a:lnTo>
                    <a:pt x="709" y="4732"/>
                  </a:lnTo>
                  <a:lnTo>
                    <a:pt x="692" y="4583"/>
                  </a:lnTo>
                  <a:lnTo>
                    <a:pt x="679" y="4434"/>
                  </a:lnTo>
                  <a:lnTo>
                    <a:pt x="669" y="4280"/>
                  </a:lnTo>
                  <a:lnTo>
                    <a:pt x="663" y="4124"/>
                  </a:lnTo>
                  <a:lnTo>
                    <a:pt x="660" y="4044"/>
                  </a:lnTo>
                  <a:lnTo>
                    <a:pt x="659" y="3964"/>
                  </a:lnTo>
                  <a:lnTo>
                    <a:pt x="658" y="3884"/>
                  </a:lnTo>
                  <a:lnTo>
                    <a:pt x="659" y="3805"/>
                  </a:lnTo>
                  <a:lnTo>
                    <a:pt x="659" y="3722"/>
                  </a:lnTo>
                  <a:lnTo>
                    <a:pt x="661" y="3640"/>
                  </a:lnTo>
                  <a:lnTo>
                    <a:pt x="663" y="3558"/>
                  </a:lnTo>
                  <a:lnTo>
                    <a:pt x="668" y="3475"/>
                  </a:lnTo>
                  <a:lnTo>
                    <a:pt x="678" y="3331"/>
                  </a:lnTo>
                  <a:lnTo>
                    <a:pt x="690" y="3189"/>
                  </a:lnTo>
                  <a:lnTo>
                    <a:pt x="705" y="3050"/>
                  </a:lnTo>
                  <a:lnTo>
                    <a:pt x="724" y="2912"/>
                  </a:lnTo>
                  <a:lnTo>
                    <a:pt x="744" y="2778"/>
                  </a:lnTo>
                  <a:lnTo>
                    <a:pt x="768" y="2645"/>
                  </a:lnTo>
                  <a:lnTo>
                    <a:pt x="794" y="2515"/>
                  </a:lnTo>
                  <a:lnTo>
                    <a:pt x="823" y="2389"/>
                  </a:lnTo>
                  <a:lnTo>
                    <a:pt x="854" y="2263"/>
                  </a:lnTo>
                  <a:lnTo>
                    <a:pt x="887" y="2139"/>
                  </a:lnTo>
                  <a:lnTo>
                    <a:pt x="923" y="2018"/>
                  </a:lnTo>
                  <a:lnTo>
                    <a:pt x="963" y="1901"/>
                  </a:lnTo>
                  <a:lnTo>
                    <a:pt x="1003" y="1785"/>
                  </a:lnTo>
                  <a:lnTo>
                    <a:pt x="1048" y="1670"/>
                  </a:lnTo>
                  <a:lnTo>
                    <a:pt x="1094" y="1558"/>
                  </a:lnTo>
                  <a:lnTo>
                    <a:pt x="1144" y="1450"/>
                  </a:lnTo>
                  <a:lnTo>
                    <a:pt x="1195" y="1342"/>
                  </a:lnTo>
                  <a:lnTo>
                    <a:pt x="1249" y="1237"/>
                  </a:lnTo>
                  <a:lnTo>
                    <a:pt x="1306" y="1134"/>
                  </a:lnTo>
                  <a:lnTo>
                    <a:pt x="1366" y="1033"/>
                  </a:lnTo>
                  <a:lnTo>
                    <a:pt x="1427" y="934"/>
                  </a:lnTo>
                  <a:lnTo>
                    <a:pt x="1492" y="838"/>
                  </a:lnTo>
                  <a:lnTo>
                    <a:pt x="1559" y="744"/>
                  </a:lnTo>
                  <a:lnTo>
                    <a:pt x="1629" y="654"/>
                  </a:lnTo>
                  <a:lnTo>
                    <a:pt x="1701" y="565"/>
                  </a:lnTo>
                  <a:lnTo>
                    <a:pt x="1775" y="477"/>
                  </a:lnTo>
                  <a:lnTo>
                    <a:pt x="1854" y="392"/>
                  </a:lnTo>
                  <a:lnTo>
                    <a:pt x="1934" y="312"/>
                  </a:lnTo>
                  <a:lnTo>
                    <a:pt x="2017" y="231"/>
                  </a:lnTo>
                  <a:lnTo>
                    <a:pt x="2102" y="153"/>
                  </a:lnTo>
                  <a:lnTo>
                    <a:pt x="2189" y="77"/>
                  </a:lnTo>
                  <a:lnTo>
                    <a:pt x="2281" y="6"/>
                  </a:lnTo>
                  <a:lnTo>
                    <a:pt x="2293" y="17"/>
                  </a:lnTo>
                  <a:lnTo>
                    <a:pt x="2398" y="105"/>
                  </a:lnTo>
                  <a:lnTo>
                    <a:pt x="2500" y="194"/>
                  </a:lnTo>
                  <a:lnTo>
                    <a:pt x="2548" y="239"/>
                  </a:lnTo>
                  <a:lnTo>
                    <a:pt x="2598" y="287"/>
                  </a:lnTo>
                  <a:lnTo>
                    <a:pt x="2694" y="383"/>
                  </a:lnTo>
                  <a:lnTo>
                    <a:pt x="2739" y="431"/>
                  </a:lnTo>
                  <a:lnTo>
                    <a:pt x="2784" y="481"/>
                  </a:lnTo>
                  <a:lnTo>
                    <a:pt x="2871" y="582"/>
                  </a:lnTo>
                  <a:lnTo>
                    <a:pt x="2955" y="685"/>
                  </a:lnTo>
                  <a:lnTo>
                    <a:pt x="2996" y="737"/>
                  </a:lnTo>
                  <a:lnTo>
                    <a:pt x="3037" y="791"/>
                  </a:lnTo>
                  <a:lnTo>
                    <a:pt x="3113" y="899"/>
                  </a:lnTo>
                  <a:lnTo>
                    <a:pt x="3149" y="954"/>
                  </a:lnTo>
                  <a:lnTo>
                    <a:pt x="3187" y="1010"/>
                  </a:lnTo>
                  <a:lnTo>
                    <a:pt x="3256" y="1125"/>
                  </a:lnTo>
                  <a:lnTo>
                    <a:pt x="3323" y="1242"/>
                  </a:lnTo>
                  <a:lnTo>
                    <a:pt x="3385" y="1361"/>
                  </a:lnTo>
                  <a:lnTo>
                    <a:pt x="3444" y="1482"/>
                  </a:lnTo>
                  <a:lnTo>
                    <a:pt x="3499" y="1605"/>
                  </a:lnTo>
                  <a:lnTo>
                    <a:pt x="3553" y="1734"/>
                  </a:lnTo>
                  <a:lnTo>
                    <a:pt x="3595" y="1846"/>
                  </a:lnTo>
                  <a:lnTo>
                    <a:pt x="3636" y="1963"/>
                  </a:lnTo>
                  <a:lnTo>
                    <a:pt x="3673" y="2082"/>
                  </a:lnTo>
                  <a:lnTo>
                    <a:pt x="3708" y="2203"/>
                  </a:lnTo>
                  <a:lnTo>
                    <a:pt x="3739" y="2326"/>
                  </a:lnTo>
                  <a:lnTo>
                    <a:pt x="3769" y="2452"/>
                  </a:lnTo>
                  <a:lnTo>
                    <a:pt x="3795" y="2580"/>
                  </a:lnTo>
                  <a:lnTo>
                    <a:pt x="3808" y="2645"/>
                  </a:lnTo>
                  <a:lnTo>
                    <a:pt x="3820" y="2712"/>
                  </a:lnTo>
                  <a:lnTo>
                    <a:pt x="3841" y="2844"/>
                  </a:lnTo>
                  <a:lnTo>
                    <a:pt x="3860" y="2979"/>
                  </a:lnTo>
                  <a:lnTo>
                    <a:pt x="3875" y="3117"/>
                  </a:lnTo>
                  <a:lnTo>
                    <a:pt x="3889" y="3258"/>
                  </a:lnTo>
                  <a:lnTo>
                    <a:pt x="3900" y="3400"/>
                  </a:lnTo>
                  <a:lnTo>
                    <a:pt x="3908" y="3546"/>
                  </a:lnTo>
                  <a:lnTo>
                    <a:pt x="3910" y="3619"/>
                  </a:lnTo>
                  <a:lnTo>
                    <a:pt x="3913" y="3694"/>
                  </a:lnTo>
                  <a:lnTo>
                    <a:pt x="3917" y="3844"/>
                  </a:lnTo>
                  <a:lnTo>
                    <a:pt x="3916" y="3861"/>
                  </a:lnTo>
                  <a:lnTo>
                    <a:pt x="3916" y="3879"/>
                  </a:lnTo>
                  <a:lnTo>
                    <a:pt x="3916" y="3916"/>
                  </a:lnTo>
                  <a:lnTo>
                    <a:pt x="3914" y="3988"/>
                  </a:lnTo>
                  <a:lnTo>
                    <a:pt x="3912" y="4060"/>
                  </a:lnTo>
                  <a:lnTo>
                    <a:pt x="3911" y="4132"/>
                  </a:lnTo>
                  <a:lnTo>
                    <a:pt x="3906" y="4201"/>
                  </a:lnTo>
                  <a:lnTo>
                    <a:pt x="3903" y="4272"/>
                  </a:lnTo>
                  <a:lnTo>
                    <a:pt x="3899" y="4341"/>
                  </a:lnTo>
                  <a:lnTo>
                    <a:pt x="3895" y="4411"/>
                  </a:lnTo>
                  <a:lnTo>
                    <a:pt x="3883" y="4547"/>
                  </a:lnTo>
                  <a:lnTo>
                    <a:pt x="3876" y="4614"/>
                  </a:lnTo>
                  <a:lnTo>
                    <a:pt x="3869" y="4682"/>
                  </a:lnTo>
                  <a:lnTo>
                    <a:pt x="3860" y="4748"/>
                  </a:lnTo>
                  <a:lnTo>
                    <a:pt x="3855" y="4781"/>
                  </a:lnTo>
                  <a:lnTo>
                    <a:pt x="3852" y="4815"/>
                  </a:lnTo>
                  <a:lnTo>
                    <a:pt x="3843" y="4879"/>
                  </a:lnTo>
                  <a:lnTo>
                    <a:pt x="3834" y="4945"/>
                  </a:lnTo>
                  <a:lnTo>
                    <a:pt x="3810" y="5072"/>
                  </a:lnTo>
                  <a:lnTo>
                    <a:pt x="3803" y="5103"/>
                  </a:lnTo>
                  <a:lnTo>
                    <a:pt x="3798" y="5134"/>
                  </a:lnTo>
                  <a:lnTo>
                    <a:pt x="3786" y="5198"/>
                  </a:lnTo>
                  <a:lnTo>
                    <a:pt x="3772" y="5259"/>
                  </a:lnTo>
                  <a:lnTo>
                    <a:pt x="3758" y="5321"/>
                  </a:lnTo>
                  <a:lnTo>
                    <a:pt x="3750" y="5351"/>
                  </a:lnTo>
                  <a:lnTo>
                    <a:pt x="3743" y="5381"/>
                  </a:lnTo>
                  <a:lnTo>
                    <a:pt x="3730" y="5443"/>
                  </a:lnTo>
                  <a:lnTo>
                    <a:pt x="3713" y="5502"/>
                  </a:lnTo>
                  <a:lnTo>
                    <a:pt x="3697" y="5562"/>
                  </a:lnTo>
                  <a:lnTo>
                    <a:pt x="3688" y="5590"/>
                  </a:lnTo>
                  <a:lnTo>
                    <a:pt x="3680" y="5620"/>
                  </a:lnTo>
                  <a:lnTo>
                    <a:pt x="3663" y="5678"/>
                  </a:lnTo>
                  <a:lnTo>
                    <a:pt x="3643" y="5735"/>
                  </a:lnTo>
                  <a:lnTo>
                    <a:pt x="3625" y="5793"/>
                  </a:lnTo>
                  <a:lnTo>
                    <a:pt x="3606" y="5850"/>
                  </a:lnTo>
                  <a:lnTo>
                    <a:pt x="3600" y="5863"/>
                  </a:lnTo>
                  <a:lnTo>
                    <a:pt x="3596" y="5878"/>
                  </a:lnTo>
                  <a:lnTo>
                    <a:pt x="3587" y="5907"/>
                  </a:lnTo>
                  <a:lnTo>
                    <a:pt x="3562" y="5969"/>
                  </a:lnTo>
                  <a:lnTo>
                    <a:pt x="3555" y="5983"/>
                  </a:lnTo>
                  <a:lnTo>
                    <a:pt x="3549" y="5999"/>
                  </a:lnTo>
                  <a:lnTo>
                    <a:pt x="3538" y="6031"/>
                  </a:lnTo>
                  <a:lnTo>
                    <a:pt x="3524" y="6061"/>
                  </a:lnTo>
                  <a:lnTo>
                    <a:pt x="3518" y="6075"/>
                  </a:lnTo>
                  <a:lnTo>
                    <a:pt x="3512" y="6091"/>
                  </a:lnTo>
                  <a:lnTo>
                    <a:pt x="3487" y="6152"/>
                  </a:lnTo>
                  <a:lnTo>
                    <a:pt x="3459" y="6211"/>
                  </a:lnTo>
                  <a:lnTo>
                    <a:pt x="3431" y="6271"/>
                  </a:lnTo>
                  <a:lnTo>
                    <a:pt x="3402" y="6329"/>
                  </a:lnTo>
                  <a:lnTo>
                    <a:pt x="3374" y="6388"/>
                  </a:lnTo>
                  <a:lnTo>
                    <a:pt x="3342" y="6445"/>
                  </a:lnTo>
                  <a:lnTo>
                    <a:pt x="3326" y="6473"/>
                  </a:lnTo>
                  <a:lnTo>
                    <a:pt x="3311" y="6503"/>
                  </a:lnTo>
                  <a:lnTo>
                    <a:pt x="3294" y="6530"/>
                  </a:lnTo>
                  <a:lnTo>
                    <a:pt x="3278" y="6558"/>
                  </a:lnTo>
                  <a:lnTo>
                    <a:pt x="3247" y="6615"/>
                  </a:lnTo>
                  <a:lnTo>
                    <a:pt x="3212" y="6669"/>
                  </a:lnTo>
                  <a:lnTo>
                    <a:pt x="3178" y="6725"/>
                  </a:lnTo>
                  <a:lnTo>
                    <a:pt x="3159" y="6751"/>
                  </a:lnTo>
                  <a:lnTo>
                    <a:pt x="3142" y="6778"/>
                  </a:lnTo>
                  <a:lnTo>
                    <a:pt x="3107" y="6833"/>
                  </a:lnTo>
                  <a:lnTo>
                    <a:pt x="3069" y="6885"/>
                  </a:lnTo>
                  <a:lnTo>
                    <a:pt x="3031" y="6937"/>
                  </a:lnTo>
                  <a:lnTo>
                    <a:pt x="3011" y="6962"/>
                  </a:lnTo>
                  <a:lnTo>
                    <a:pt x="3001" y="6974"/>
                  </a:lnTo>
                  <a:lnTo>
                    <a:pt x="2992" y="6988"/>
                  </a:lnTo>
                  <a:lnTo>
                    <a:pt x="2953" y="7040"/>
                  </a:lnTo>
                  <a:lnTo>
                    <a:pt x="2912" y="7090"/>
                  </a:lnTo>
                  <a:lnTo>
                    <a:pt x="2871" y="7141"/>
                  </a:lnTo>
                  <a:lnTo>
                    <a:pt x="2860" y="7152"/>
                  </a:lnTo>
                  <a:lnTo>
                    <a:pt x="2850" y="7165"/>
                  </a:lnTo>
                  <a:lnTo>
                    <a:pt x="2830" y="7190"/>
                  </a:lnTo>
                  <a:lnTo>
                    <a:pt x="2788" y="7239"/>
                  </a:lnTo>
                  <a:lnTo>
                    <a:pt x="2743" y="7287"/>
                  </a:lnTo>
                  <a:lnTo>
                    <a:pt x="2721" y="7311"/>
                  </a:lnTo>
                  <a:lnTo>
                    <a:pt x="2699" y="7336"/>
                  </a:lnTo>
                  <a:lnTo>
                    <a:pt x="2654" y="7382"/>
                  </a:lnTo>
                  <a:lnTo>
                    <a:pt x="2608" y="7430"/>
                  </a:lnTo>
                  <a:lnTo>
                    <a:pt x="2561" y="7475"/>
                  </a:lnTo>
                  <a:lnTo>
                    <a:pt x="2513" y="7522"/>
                  </a:lnTo>
                  <a:lnTo>
                    <a:pt x="2488" y="7543"/>
                  </a:lnTo>
                  <a:lnTo>
                    <a:pt x="2465" y="7566"/>
                  </a:lnTo>
                  <a:lnTo>
                    <a:pt x="2416" y="7611"/>
                  </a:lnTo>
                  <a:lnTo>
                    <a:pt x="2444" y="7611"/>
                  </a:lnTo>
                  <a:lnTo>
                    <a:pt x="2458" y="7611"/>
                  </a:lnTo>
                  <a:lnTo>
                    <a:pt x="2465" y="7611"/>
                  </a:lnTo>
                  <a:lnTo>
                    <a:pt x="2468" y="7611"/>
                  </a:lnTo>
                  <a:lnTo>
                    <a:pt x="2472" y="7612"/>
                  </a:lnTo>
                  <a:lnTo>
                    <a:pt x="2526" y="7615"/>
                  </a:lnTo>
                  <a:lnTo>
                    <a:pt x="2574" y="7615"/>
                  </a:lnTo>
                  <a:lnTo>
                    <a:pt x="2597" y="7615"/>
                  </a:lnTo>
                  <a:lnTo>
                    <a:pt x="2608" y="7615"/>
                  </a:lnTo>
                  <a:lnTo>
                    <a:pt x="2614" y="7615"/>
                  </a:lnTo>
                  <a:lnTo>
                    <a:pt x="2621" y="7616"/>
                  </a:lnTo>
                  <a:lnTo>
                    <a:pt x="2641" y="7615"/>
                  </a:lnTo>
                  <a:lnTo>
                    <a:pt x="2662" y="7615"/>
                  </a:lnTo>
                  <a:lnTo>
                    <a:pt x="2671" y="7614"/>
                  </a:lnTo>
                  <a:lnTo>
                    <a:pt x="2681" y="7614"/>
                  </a:lnTo>
                  <a:lnTo>
                    <a:pt x="2700" y="7614"/>
                  </a:lnTo>
                  <a:lnTo>
                    <a:pt x="2734" y="7611"/>
                  </a:lnTo>
                  <a:lnTo>
                    <a:pt x="2765" y="7609"/>
                  </a:lnTo>
                  <a:lnTo>
                    <a:pt x="2786" y="7605"/>
                  </a:lnTo>
                  <a:lnTo>
                    <a:pt x="2809" y="7601"/>
                  </a:lnTo>
                  <a:lnTo>
                    <a:pt x="2814" y="7599"/>
                  </a:lnTo>
                  <a:lnTo>
                    <a:pt x="2816" y="7598"/>
                  </a:lnTo>
                  <a:lnTo>
                    <a:pt x="2819" y="7598"/>
                  </a:lnTo>
                  <a:lnTo>
                    <a:pt x="2831" y="7595"/>
                  </a:lnTo>
                  <a:lnTo>
                    <a:pt x="2853" y="7591"/>
                  </a:lnTo>
                  <a:lnTo>
                    <a:pt x="2874" y="7584"/>
                  </a:lnTo>
                  <a:lnTo>
                    <a:pt x="2878" y="7582"/>
                  </a:lnTo>
                  <a:lnTo>
                    <a:pt x="2881" y="7581"/>
                  </a:lnTo>
                  <a:lnTo>
                    <a:pt x="2884" y="7581"/>
                  </a:lnTo>
                  <a:lnTo>
                    <a:pt x="2895" y="7578"/>
                  </a:lnTo>
                  <a:lnTo>
                    <a:pt x="2915" y="7572"/>
                  </a:lnTo>
                  <a:lnTo>
                    <a:pt x="2935" y="7566"/>
                  </a:lnTo>
                  <a:lnTo>
                    <a:pt x="2952" y="7557"/>
                  </a:lnTo>
                  <a:lnTo>
                    <a:pt x="2970" y="7549"/>
                  </a:lnTo>
                  <a:lnTo>
                    <a:pt x="2987" y="7540"/>
                  </a:lnTo>
                  <a:lnTo>
                    <a:pt x="3005" y="7531"/>
                  </a:lnTo>
                  <a:lnTo>
                    <a:pt x="3021" y="7519"/>
                  </a:lnTo>
                  <a:lnTo>
                    <a:pt x="3022" y="7517"/>
                  </a:lnTo>
                  <a:lnTo>
                    <a:pt x="3025" y="7516"/>
                  </a:lnTo>
                  <a:lnTo>
                    <a:pt x="3029" y="7514"/>
                  </a:lnTo>
                  <a:lnTo>
                    <a:pt x="3038" y="7509"/>
                  </a:lnTo>
                  <a:lnTo>
                    <a:pt x="3053" y="7498"/>
                  </a:lnTo>
                  <a:lnTo>
                    <a:pt x="3069" y="7488"/>
                  </a:lnTo>
                  <a:lnTo>
                    <a:pt x="3113" y="7451"/>
                  </a:lnTo>
                  <a:lnTo>
                    <a:pt x="3158" y="7416"/>
                  </a:lnTo>
                  <a:lnTo>
                    <a:pt x="3202" y="7380"/>
                  </a:lnTo>
                  <a:lnTo>
                    <a:pt x="3247" y="7344"/>
                  </a:lnTo>
                  <a:lnTo>
                    <a:pt x="3289" y="7305"/>
                  </a:lnTo>
                  <a:lnTo>
                    <a:pt x="3332" y="7268"/>
                  </a:lnTo>
                  <a:lnTo>
                    <a:pt x="3373" y="7229"/>
                  </a:lnTo>
                  <a:lnTo>
                    <a:pt x="3414" y="7191"/>
                  </a:lnTo>
                  <a:lnTo>
                    <a:pt x="3453" y="7150"/>
                  </a:lnTo>
                  <a:lnTo>
                    <a:pt x="3493" y="7109"/>
                  </a:lnTo>
                  <a:lnTo>
                    <a:pt x="3531" y="7067"/>
                  </a:lnTo>
                  <a:lnTo>
                    <a:pt x="3570" y="7025"/>
                  </a:lnTo>
                  <a:lnTo>
                    <a:pt x="3606" y="6981"/>
                  </a:lnTo>
                  <a:lnTo>
                    <a:pt x="3643" y="6938"/>
                  </a:lnTo>
                  <a:lnTo>
                    <a:pt x="3660" y="6915"/>
                  </a:lnTo>
                  <a:lnTo>
                    <a:pt x="3679" y="6894"/>
                  </a:lnTo>
                  <a:lnTo>
                    <a:pt x="3715" y="6850"/>
                  </a:lnTo>
                  <a:lnTo>
                    <a:pt x="3748" y="6802"/>
                  </a:lnTo>
                  <a:lnTo>
                    <a:pt x="3782" y="6755"/>
                  </a:lnTo>
                  <a:lnTo>
                    <a:pt x="3815" y="6708"/>
                  </a:lnTo>
                  <a:lnTo>
                    <a:pt x="3847" y="6660"/>
                  </a:lnTo>
                  <a:lnTo>
                    <a:pt x="3878" y="6610"/>
                  </a:lnTo>
                  <a:lnTo>
                    <a:pt x="3893" y="6585"/>
                  </a:lnTo>
                  <a:lnTo>
                    <a:pt x="3909" y="6562"/>
                  </a:lnTo>
                  <a:lnTo>
                    <a:pt x="3938" y="6511"/>
                  </a:lnTo>
                  <a:lnTo>
                    <a:pt x="3969" y="6461"/>
                  </a:lnTo>
                  <a:lnTo>
                    <a:pt x="3996" y="6407"/>
                  </a:lnTo>
                  <a:lnTo>
                    <a:pt x="4024" y="6355"/>
                  </a:lnTo>
                  <a:lnTo>
                    <a:pt x="4037" y="6328"/>
                  </a:lnTo>
                  <a:lnTo>
                    <a:pt x="4050" y="6302"/>
                  </a:lnTo>
                  <a:lnTo>
                    <a:pt x="4078" y="6249"/>
                  </a:lnTo>
                  <a:lnTo>
                    <a:pt x="4103" y="6193"/>
                  </a:lnTo>
                  <a:lnTo>
                    <a:pt x="4127" y="6139"/>
                  </a:lnTo>
                  <a:lnTo>
                    <a:pt x="4139" y="6110"/>
                  </a:lnTo>
                  <a:lnTo>
                    <a:pt x="4151" y="6083"/>
                  </a:lnTo>
                  <a:lnTo>
                    <a:pt x="4176" y="6028"/>
                  </a:lnTo>
                  <a:lnTo>
                    <a:pt x="4193" y="5980"/>
                  </a:lnTo>
                  <a:lnTo>
                    <a:pt x="4211" y="5934"/>
                  </a:lnTo>
                  <a:lnTo>
                    <a:pt x="4228" y="5886"/>
                  </a:lnTo>
                  <a:lnTo>
                    <a:pt x="4247" y="5838"/>
                  </a:lnTo>
                  <a:lnTo>
                    <a:pt x="4262" y="5788"/>
                  </a:lnTo>
                  <a:lnTo>
                    <a:pt x="4270" y="5764"/>
                  </a:lnTo>
                  <a:lnTo>
                    <a:pt x="4279" y="5740"/>
                  </a:lnTo>
                  <a:lnTo>
                    <a:pt x="4311" y="5639"/>
                  </a:lnTo>
                  <a:lnTo>
                    <a:pt x="4341" y="5535"/>
                  </a:lnTo>
                  <a:lnTo>
                    <a:pt x="4354" y="5481"/>
                  </a:lnTo>
                  <a:lnTo>
                    <a:pt x="4369" y="5429"/>
                  </a:lnTo>
                  <a:lnTo>
                    <a:pt x="4381" y="5375"/>
                  </a:lnTo>
                  <a:lnTo>
                    <a:pt x="4395" y="5320"/>
                  </a:lnTo>
                  <a:lnTo>
                    <a:pt x="4420" y="5210"/>
                  </a:lnTo>
                  <a:lnTo>
                    <a:pt x="4443" y="5096"/>
                  </a:lnTo>
                  <a:lnTo>
                    <a:pt x="4453" y="5037"/>
                  </a:lnTo>
                  <a:lnTo>
                    <a:pt x="4464" y="4979"/>
                  </a:lnTo>
                  <a:lnTo>
                    <a:pt x="4473" y="4919"/>
                  </a:lnTo>
                  <a:lnTo>
                    <a:pt x="4483" y="4860"/>
                  </a:lnTo>
                  <a:lnTo>
                    <a:pt x="4502" y="4739"/>
                  </a:lnTo>
                  <a:lnTo>
                    <a:pt x="4517" y="4613"/>
                  </a:lnTo>
                  <a:lnTo>
                    <a:pt x="4524" y="4549"/>
                  </a:lnTo>
                  <a:lnTo>
                    <a:pt x="4528" y="4518"/>
                  </a:lnTo>
                  <a:lnTo>
                    <a:pt x="4532" y="4487"/>
                  </a:lnTo>
                  <a:lnTo>
                    <a:pt x="4538" y="4421"/>
                  </a:lnTo>
                  <a:lnTo>
                    <a:pt x="4545" y="4357"/>
                  </a:lnTo>
                  <a:lnTo>
                    <a:pt x="4550" y="4291"/>
                  </a:lnTo>
                  <a:lnTo>
                    <a:pt x="4557" y="4226"/>
                  </a:lnTo>
                  <a:lnTo>
                    <a:pt x="4558" y="4078"/>
                  </a:lnTo>
                  <a:lnTo>
                    <a:pt x="4559" y="3932"/>
                  </a:lnTo>
                  <a:lnTo>
                    <a:pt x="4558" y="3788"/>
                  </a:lnTo>
                  <a:lnTo>
                    <a:pt x="4555" y="3648"/>
                  </a:lnTo>
                  <a:lnTo>
                    <a:pt x="4548" y="3510"/>
                  </a:lnTo>
                  <a:lnTo>
                    <a:pt x="4540" y="3375"/>
                  </a:lnTo>
                  <a:lnTo>
                    <a:pt x="4530" y="3242"/>
                  </a:lnTo>
                  <a:lnTo>
                    <a:pt x="4523" y="3177"/>
                  </a:lnTo>
                  <a:lnTo>
                    <a:pt x="4517" y="3113"/>
                  </a:lnTo>
                  <a:lnTo>
                    <a:pt x="4503" y="2985"/>
                  </a:lnTo>
                  <a:lnTo>
                    <a:pt x="4494" y="2922"/>
                  </a:lnTo>
                  <a:lnTo>
                    <a:pt x="4486" y="2860"/>
                  </a:lnTo>
                  <a:lnTo>
                    <a:pt x="4475" y="2798"/>
                  </a:lnTo>
                  <a:lnTo>
                    <a:pt x="4466" y="2738"/>
                  </a:lnTo>
                  <a:lnTo>
                    <a:pt x="4445" y="2619"/>
                  </a:lnTo>
                  <a:lnTo>
                    <a:pt x="4432" y="2559"/>
                  </a:lnTo>
                  <a:lnTo>
                    <a:pt x="4421" y="2501"/>
                  </a:lnTo>
                  <a:lnTo>
                    <a:pt x="4395" y="2386"/>
                  </a:lnTo>
                  <a:lnTo>
                    <a:pt x="4367" y="2274"/>
                  </a:lnTo>
                  <a:lnTo>
                    <a:pt x="4352" y="2219"/>
                  </a:lnTo>
                  <a:lnTo>
                    <a:pt x="4338" y="2165"/>
                  </a:lnTo>
                  <a:lnTo>
                    <a:pt x="4299" y="2037"/>
                  </a:lnTo>
                  <a:lnTo>
                    <a:pt x="4257" y="1911"/>
                  </a:lnTo>
                  <a:lnTo>
                    <a:pt x="4234" y="1849"/>
                  </a:lnTo>
                  <a:lnTo>
                    <a:pt x="4211" y="1789"/>
                  </a:lnTo>
                  <a:lnTo>
                    <a:pt x="4164" y="1670"/>
                  </a:lnTo>
                  <a:lnTo>
                    <a:pt x="4138" y="1610"/>
                  </a:lnTo>
                  <a:lnTo>
                    <a:pt x="4112" y="1552"/>
                  </a:lnTo>
                  <a:lnTo>
                    <a:pt x="4057" y="1438"/>
                  </a:lnTo>
                  <a:lnTo>
                    <a:pt x="3998" y="1325"/>
                  </a:lnTo>
                  <a:lnTo>
                    <a:pt x="3968" y="1270"/>
                  </a:lnTo>
                  <a:lnTo>
                    <a:pt x="3938" y="1217"/>
                  </a:lnTo>
                  <a:lnTo>
                    <a:pt x="3872" y="1109"/>
                  </a:lnTo>
                  <a:lnTo>
                    <a:pt x="3838" y="1056"/>
                  </a:lnTo>
                  <a:lnTo>
                    <a:pt x="3804" y="1005"/>
                  </a:lnTo>
                  <a:lnTo>
                    <a:pt x="3732" y="904"/>
                  </a:lnTo>
                  <a:lnTo>
                    <a:pt x="3658" y="805"/>
                  </a:lnTo>
                  <a:lnTo>
                    <a:pt x="3580" y="709"/>
                  </a:lnTo>
                  <a:lnTo>
                    <a:pt x="3499" y="615"/>
                  </a:lnTo>
                  <a:lnTo>
                    <a:pt x="3414" y="523"/>
                  </a:lnTo>
                  <a:lnTo>
                    <a:pt x="3327" y="436"/>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8760" y="1233360"/>
              <a:ext cx="2464560" cy="5379480"/>
            </a:xfrm>
            <a:custGeom>
              <a:avLst/>
              <a:gdLst/>
              <a:ahLst/>
              <a:rect l="l" t="t" r="r" b="b"/>
              <a:pathLst>
                <a:path w="3486" h="7606">
                  <a:moveTo>
                    <a:pt x="3486" y="1"/>
                  </a:moveTo>
                  <a:lnTo>
                    <a:pt x="3484" y="1"/>
                  </a:lnTo>
                  <a:lnTo>
                    <a:pt x="3481" y="1"/>
                  </a:lnTo>
                  <a:lnTo>
                    <a:pt x="3398" y="2"/>
                  </a:lnTo>
                  <a:lnTo>
                    <a:pt x="3317" y="9"/>
                  </a:lnTo>
                  <a:lnTo>
                    <a:pt x="3239" y="18"/>
                  </a:lnTo>
                  <a:lnTo>
                    <a:pt x="3163" y="34"/>
                  </a:lnTo>
                  <a:lnTo>
                    <a:pt x="3089" y="52"/>
                  </a:lnTo>
                  <a:lnTo>
                    <a:pt x="3018" y="76"/>
                  </a:lnTo>
                  <a:lnTo>
                    <a:pt x="2949" y="103"/>
                  </a:lnTo>
                  <a:lnTo>
                    <a:pt x="2915" y="118"/>
                  </a:lnTo>
                  <a:lnTo>
                    <a:pt x="2883" y="135"/>
                  </a:lnTo>
                  <a:lnTo>
                    <a:pt x="2813" y="103"/>
                  </a:lnTo>
                  <a:lnTo>
                    <a:pt x="2744" y="77"/>
                  </a:lnTo>
                  <a:lnTo>
                    <a:pt x="2673" y="53"/>
                  </a:lnTo>
                  <a:lnTo>
                    <a:pt x="2638" y="43"/>
                  </a:lnTo>
                  <a:lnTo>
                    <a:pt x="2604" y="35"/>
                  </a:lnTo>
                  <a:lnTo>
                    <a:pt x="2534" y="19"/>
                  </a:lnTo>
                  <a:lnTo>
                    <a:pt x="2464" y="9"/>
                  </a:lnTo>
                  <a:lnTo>
                    <a:pt x="2427" y="4"/>
                  </a:lnTo>
                  <a:lnTo>
                    <a:pt x="2392" y="2"/>
                  </a:lnTo>
                  <a:lnTo>
                    <a:pt x="2322" y="0"/>
                  </a:lnTo>
                  <a:lnTo>
                    <a:pt x="2250" y="0"/>
                  </a:lnTo>
                  <a:lnTo>
                    <a:pt x="2178" y="5"/>
                  </a:lnTo>
                  <a:lnTo>
                    <a:pt x="2106" y="14"/>
                  </a:lnTo>
                  <a:lnTo>
                    <a:pt x="2033" y="29"/>
                  </a:lnTo>
                  <a:lnTo>
                    <a:pt x="1996" y="36"/>
                  </a:lnTo>
                  <a:lnTo>
                    <a:pt x="1959" y="45"/>
                  </a:lnTo>
                  <a:lnTo>
                    <a:pt x="1887" y="67"/>
                  </a:lnTo>
                  <a:lnTo>
                    <a:pt x="1812" y="92"/>
                  </a:lnTo>
                  <a:lnTo>
                    <a:pt x="1739" y="122"/>
                  </a:lnTo>
                  <a:lnTo>
                    <a:pt x="1673" y="151"/>
                  </a:lnTo>
                  <a:lnTo>
                    <a:pt x="1608" y="182"/>
                  </a:lnTo>
                  <a:lnTo>
                    <a:pt x="1543" y="216"/>
                  </a:lnTo>
                  <a:lnTo>
                    <a:pt x="1482" y="254"/>
                  </a:lnTo>
                  <a:lnTo>
                    <a:pt x="1420" y="292"/>
                  </a:lnTo>
                  <a:lnTo>
                    <a:pt x="1361" y="334"/>
                  </a:lnTo>
                  <a:lnTo>
                    <a:pt x="1302" y="378"/>
                  </a:lnTo>
                  <a:lnTo>
                    <a:pt x="1245" y="425"/>
                  </a:lnTo>
                  <a:lnTo>
                    <a:pt x="1187" y="474"/>
                  </a:lnTo>
                  <a:lnTo>
                    <a:pt x="1133" y="525"/>
                  </a:lnTo>
                  <a:lnTo>
                    <a:pt x="1079" y="578"/>
                  </a:lnTo>
                  <a:lnTo>
                    <a:pt x="1026" y="636"/>
                  </a:lnTo>
                  <a:lnTo>
                    <a:pt x="974" y="694"/>
                  </a:lnTo>
                  <a:lnTo>
                    <a:pt x="924" y="756"/>
                  </a:lnTo>
                  <a:lnTo>
                    <a:pt x="874" y="819"/>
                  </a:lnTo>
                  <a:lnTo>
                    <a:pt x="827" y="886"/>
                  </a:lnTo>
                  <a:lnTo>
                    <a:pt x="757" y="992"/>
                  </a:lnTo>
                  <a:lnTo>
                    <a:pt x="691" y="1099"/>
                  </a:lnTo>
                  <a:lnTo>
                    <a:pt x="627" y="1209"/>
                  </a:lnTo>
                  <a:lnTo>
                    <a:pt x="568" y="1324"/>
                  </a:lnTo>
                  <a:lnTo>
                    <a:pt x="511" y="1438"/>
                  </a:lnTo>
                  <a:lnTo>
                    <a:pt x="457" y="1555"/>
                  </a:lnTo>
                  <a:lnTo>
                    <a:pt x="406" y="1674"/>
                  </a:lnTo>
                  <a:lnTo>
                    <a:pt x="359" y="1797"/>
                  </a:lnTo>
                  <a:lnTo>
                    <a:pt x="313" y="1919"/>
                  </a:lnTo>
                  <a:lnTo>
                    <a:pt x="271" y="2045"/>
                  </a:lnTo>
                  <a:lnTo>
                    <a:pt x="232" y="2173"/>
                  </a:lnTo>
                  <a:lnTo>
                    <a:pt x="197" y="2303"/>
                  </a:lnTo>
                  <a:lnTo>
                    <a:pt x="163" y="2434"/>
                  </a:lnTo>
                  <a:lnTo>
                    <a:pt x="133" y="2569"/>
                  </a:lnTo>
                  <a:lnTo>
                    <a:pt x="106" y="2705"/>
                  </a:lnTo>
                  <a:lnTo>
                    <a:pt x="82" y="2844"/>
                  </a:lnTo>
                  <a:lnTo>
                    <a:pt x="62" y="2974"/>
                  </a:lnTo>
                  <a:lnTo>
                    <a:pt x="45" y="3107"/>
                  </a:lnTo>
                  <a:lnTo>
                    <a:pt x="30" y="3240"/>
                  </a:lnTo>
                  <a:lnTo>
                    <a:pt x="19" y="3373"/>
                  </a:lnTo>
                  <a:lnTo>
                    <a:pt x="10" y="3507"/>
                  </a:lnTo>
                  <a:lnTo>
                    <a:pt x="4" y="3642"/>
                  </a:lnTo>
                  <a:lnTo>
                    <a:pt x="0" y="3777"/>
                  </a:lnTo>
                  <a:lnTo>
                    <a:pt x="0" y="3913"/>
                  </a:lnTo>
                  <a:lnTo>
                    <a:pt x="3" y="4049"/>
                  </a:lnTo>
                  <a:lnTo>
                    <a:pt x="8" y="4186"/>
                  </a:lnTo>
                  <a:lnTo>
                    <a:pt x="16" y="4323"/>
                  </a:lnTo>
                  <a:lnTo>
                    <a:pt x="28" y="4462"/>
                  </a:lnTo>
                  <a:lnTo>
                    <a:pt x="41" y="4600"/>
                  </a:lnTo>
                  <a:lnTo>
                    <a:pt x="58" y="4739"/>
                  </a:lnTo>
                  <a:lnTo>
                    <a:pt x="78" y="4880"/>
                  </a:lnTo>
                  <a:lnTo>
                    <a:pt x="101" y="5022"/>
                  </a:lnTo>
                  <a:lnTo>
                    <a:pt x="126" y="5132"/>
                  </a:lnTo>
                  <a:lnTo>
                    <a:pt x="152" y="5242"/>
                  </a:lnTo>
                  <a:lnTo>
                    <a:pt x="180" y="5347"/>
                  </a:lnTo>
                  <a:lnTo>
                    <a:pt x="209" y="5452"/>
                  </a:lnTo>
                  <a:lnTo>
                    <a:pt x="237" y="5553"/>
                  </a:lnTo>
                  <a:lnTo>
                    <a:pt x="268" y="5653"/>
                  </a:lnTo>
                  <a:lnTo>
                    <a:pt x="300" y="5749"/>
                  </a:lnTo>
                  <a:lnTo>
                    <a:pt x="333" y="5845"/>
                  </a:lnTo>
                  <a:lnTo>
                    <a:pt x="365" y="5935"/>
                  </a:lnTo>
                  <a:lnTo>
                    <a:pt x="400" y="6025"/>
                  </a:lnTo>
                  <a:lnTo>
                    <a:pt x="435" y="6111"/>
                  </a:lnTo>
                  <a:lnTo>
                    <a:pt x="472" y="6196"/>
                  </a:lnTo>
                  <a:lnTo>
                    <a:pt x="508" y="6277"/>
                  </a:lnTo>
                  <a:lnTo>
                    <a:pt x="547" y="6356"/>
                  </a:lnTo>
                  <a:lnTo>
                    <a:pt x="587" y="6432"/>
                  </a:lnTo>
                  <a:lnTo>
                    <a:pt x="627" y="6507"/>
                  </a:lnTo>
                  <a:lnTo>
                    <a:pt x="681" y="6600"/>
                  </a:lnTo>
                  <a:lnTo>
                    <a:pt x="738" y="6690"/>
                  </a:lnTo>
                  <a:lnTo>
                    <a:pt x="796" y="6777"/>
                  </a:lnTo>
                  <a:lnTo>
                    <a:pt x="859" y="6860"/>
                  </a:lnTo>
                  <a:lnTo>
                    <a:pt x="921" y="6940"/>
                  </a:lnTo>
                  <a:lnTo>
                    <a:pt x="987" y="7017"/>
                  </a:lnTo>
                  <a:lnTo>
                    <a:pt x="1054" y="7091"/>
                  </a:lnTo>
                  <a:lnTo>
                    <a:pt x="1125" y="7162"/>
                  </a:lnTo>
                  <a:lnTo>
                    <a:pt x="1196" y="7228"/>
                  </a:lnTo>
                  <a:lnTo>
                    <a:pt x="1270" y="7292"/>
                  </a:lnTo>
                  <a:lnTo>
                    <a:pt x="1346" y="7352"/>
                  </a:lnTo>
                  <a:lnTo>
                    <a:pt x="1427" y="7410"/>
                  </a:lnTo>
                  <a:lnTo>
                    <a:pt x="1507" y="7463"/>
                  </a:lnTo>
                  <a:lnTo>
                    <a:pt x="1590" y="7514"/>
                  </a:lnTo>
                  <a:lnTo>
                    <a:pt x="1675" y="7561"/>
                  </a:lnTo>
                  <a:lnTo>
                    <a:pt x="1763" y="7606"/>
                  </a:lnTo>
                  <a:lnTo>
                    <a:pt x="2157" y="7606"/>
                  </a:lnTo>
                  <a:lnTo>
                    <a:pt x="2094" y="7554"/>
                  </a:lnTo>
                  <a:lnTo>
                    <a:pt x="2034" y="7502"/>
                  </a:lnTo>
                  <a:lnTo>
                    <a:pt x="1974" y="7448"/>
                  </a:lnTo>
                  <a:lnTo>
                    <a:pt x="1917" y="7393"/>
                  </a:lnTo>
                  <a:lnTo>
                    <a:pt x="1861" y="7335"/>
                  </a:lnTo>
                  <a:lnTo>
                    <a:pt x="1806" y="7278"/>
                  </a:lnTo>
                  <a:lnTo>
                    <a:pt x="1752" y="7217"/>
                  </a:lnTo>
                  <a:lnTo>
                    <a:pt x="1701" y="7157"/>
                  </a:lnTo>
                  <a:lnTo>
                    <a:pt x="1649" y="7094"/>
                  </a:lnTo>
                  <a:lnTo>
                    <a:pt x="1599" y="7029"/>
                  </a:lnTo>
                  <a:lnTo>
                    <a:pt x="1549" y="6964"/>
                  </a:lnTo>
                  <a:lnTo>
                    <a:pt x="1502" y="6897"/>
                  </a:lnTo>
                  <a:lnTo>
                    <a:pt x="1456" y="6828"/>
                  </a:lnTo>
                  <a:lnTo>
                    <a:pt x="1412" y="6757"/>
                  </a:lnTo>
                  <a:lnTo>
                    <a:pt x="1368" y="6686"/>
                  </a:lnTo>
                  <a:lnTo>
                    <a:pt x="1326" y="6613"/>
                  </a:lnTo>
                  <a:lnTo>
                    <a:pt x="1290" y="6552"/>
                  </a:lnTo>
                  <a:lnTo>
                    <a:pt x="1256" y="6490"/>
                  </a:lnTo>
                  <a:lnTo>
                    <a:pt x="1192" y="6360"/>
                  </a:lnTo>
                  <a:lnTo>
                    <a:pt x="1159" y="6294"/>
                  </a:lnTo>
                  <a:lnTo>
                    <a:pt x="1128" y="6226"/>
                  </a:lnTo>
                  <a:lnTo>
                    <a:pt x="1068" y="6085"/>
                  </a:lnTo>
                  <a:lnTo>
                    <a:pt x="1011" y="5938"/>
                  </a:lnTo>
                  <a:lnTo>
                    <a:pt x="955" y="5786"/>
                  </a:lnTo>
                  <a:lnTo>
                    <a:pt x="928" y="5708"/>
                  </a:lnTo>
                  <a:lnTo>
                    <a:pt x="902" y="5628"/>
                  </a:lnTo>
                  <a:lnTo>
                    <a:pt x="876" y="5547"/>
                  </a:lnTo>
                  <a:lnTo>
                    <a:pt x="852" y="5465"/>
                  </a:lnTo>
                  <a:lnTo>
                    <a:pt x="810" y="5271"/>
                  </a:lnTo>
                  <a:lnTo>
                    <a:pt x="774" y="5079"/>
                  </a:lnTo>
                  <a:lnTo>
                    <a:pt x="742" y="4889"/>
                  </a:lnTo>
                  <a:lnTo>
                    <a:pt x="717" y="4702"/>
                  </a:lnTo>
                  <a:lnTo>
                    <a:pt x="694" y="4514"/>
                  </a:lnTo>
                  <a:lnTo>
                    <a:pt x="678" y="4329"/>
                  </a:lnTo>
                  <a:lnTo>
                    <a:pt x="667" y="4145"/>
                  </a:lnTo>
                  <a:lnTo>
                    <a:pt x="661" y="3965"/>
                  </a:lnTo>
                  <a:lnTo>
                    <a:pt x="659" y="3784"/>
                  </a:lnTo>
                  <a:lnTo>
                    <a:pt x="661" y="3605"/>
                  </a:lnTo>
                  <a:lnTo>
                    <a:pt x="669" y="3427"/>
                  </a:lnTo>
                  <a:lnTo>
                    <a:pt x="683" y="3252"/>
                  </a:lnTo>
                  <a:lnTo>
                    <a:pt x="700" y="3078"/>
                  </a:lnTo>
                  <a:lnTo>
                    <a:pt x="723" y="2905"/>
                  </a:lnTo>
                  <a:lnTo>
                    <a:pt x="750" y="2734"/>
                  </a:lnTo>
                  <a:lnTo>
                    <a:pt x="784" y="2566"/>
                  </a:lnTo>
                  <a:lnTo>
                    <a:pt x="803" y="2471"/>
                  </a:lnTo>
                  <a:lnTo>
                    <a:pt x="825" y="2378"/>
                  </a:lnTo>
                  <a:lnTo>
                    <a:pt x="847" y="2286"/>
                  </a:lnTo>
                  <a:lnTo>
                    <a:pt x="872" y="2197"/>
                  </a:lnTo>
                  <a:lnTo>
                    <a:pt x="924" y="2019"/>
                  </a:lnTo>
                  <a:lnTo>
                    <a:pt x="953" y="1931"/>
                  </a:lnTo>
                  <a:lnTo>
                    <a:pt x="984" y="1846"/>
                  </a:lnTo>
                  <a:lnTo>
                    <a:pt x="1015" y="1760"/>
                  </a:lnTo>
                  <a:lnTo>
                    <a:pt x="1049" y="1676"/>
                  </a:lnTo>
                  <a:lnTo>
                    <a:pt x="1120" y="1512"/>
                  </a:lnTo>
                  <a:lnTo>
                    <a:pt x="1157" y="1430"/>
                  </a:lnTo>
                  <a:lnTo>
                    <a:pt x="1196" y="1351"/>
                  </a:lnTo>
                  <a:lnTo>
                    <a:pt x="1236" y="1273"/>
                  </a:lnTo>
                  <a:lnTo>
                    <a:pt x="1279" y="1197"/>
                  </a:lnTo>
                  <a:lnTo>
                    <a:pt x="1321" y="1120"/>
                  </a:lnTo>
                  <a:lnTo>
                    <a:pt x="1366" y="1045"/>
                  </a:lnTo>
                  <a:lnTo>
                    <a:pt x="1412" y="970"/>
                  </a:lnTo>
                  <a:lnTo>
                    <a:pt x="1461" y="898"/>
                  </a:lnTo>
                  <a:lnTo>
                    <a:pt x="1508" y="825"/>
                  </a:lnTo>
                  <a:lnTo>
                    <a:pt x="1559" y="755"/>
                  </a:lnTo>
                  <a:lnTo>
                    <a:pt x="1666" y="618"/>
                  </a:lnTo>
                  <a:lnTo>
                    <a:pt x="1719" y="550"/>
                  </a:lnTo>
                  <a:lnTo>
                    <a:pt x="1776" y="484"/>
                  </a:lnTo>
                  <a:lnTo>
                    <a:pt x="1833" y="418"/>
                  </a:lnTo>
                  <a:lnTo>
                    <a:pt x="1894" y="355"/>
                  </a:lnTo>
                  <a:lnTo>
                    <a:pt x="1954" y="291"/>
                  </a:lnTo>
                  <a:lnTo>
                    <a:pt x="2016" y="230"/>
                  </a:lnTo>
                  <a:lnTo>
                    <a:pt x="2145" y="111"/>
                  </a:lnTo>
                  <a:lnTo>
                    <a:pt x="2158" y="92"/>
                  </a:lnTo>
                  <a:lnTo>
                    <a:pt x="2171" y="75"/>
                  </a:lnTo>
                  <a:lnTo>
                    <a:pt x="2200" y="48"/>
                  </a:lnTo>
                  <a:lnTo>
                    <a:pt x="2228" y="29"/>
                  </a:lnTo>
                  <a:lnTo>
                    <a:pt x="2244" y="24"/>
                  </a:lnTo>
                  <a:lnTo>
                    <a:pt x="2260" y="20"/>
                  </a:lnTo>
                  <a:lnTo>
                    <a:pt x="2274" y="17"/>
                  </a:lnTo>
                  <a:lnTo>
                    <a:pt x="2290" y="18"/>
                  </a:lnTo>
                  <a:lnTo>
                    <a:pt x="2306" y="21"/>
                  </a:lnTo>
                  <a:lnTo>
                    <a:pt x="2324" y="27"/>
                  </a:lnTo>
                  <a:lnTo>
                    <a:pt x="2340" y="33"/>
                  </a:lnTo>
                  <a:lnTo>
                    <a:pt x="2358" y="43"/>
                  </a:lnTo>
                  <a:lnTo>
                    <a:pt x="2395" y="69"/>
                  </a:lnTo>
                  <a:lnTo>
                    <a:pt x="2403" y="75"/>
                  </a:lnTo>
                  <a:lnTo>
                    <a:pt x="2413" y="84"/>
                  </a:lnTo>
                  <a:lnTo>
                    <a:pt x="2424" y="94"/>
                  </a:lnTo>
                  <a:lnTo>
                    <a:pt x="2439" y="109"/>
                  </a:lnTo>
                  <a:lnTo>
                    <a:pt x="2454" y="123"/>
                  </a:lnTo>
                  <a:lnTo>
                    <a:pt x="2472" y="140"/>
                  </a:lnTo>
                  <a:lnTo>
                    <a:pt x="2490" y="160"/>
                  </a:lnTo>
                  <a:lnTo>
                    <a:pt x="2511" y="182"/>
                  </a:lnTo>
                  <a:lnTo>
                    <a:pt x="2527" y="199"/>
                  </a:lnTo>
                  <a:lnTo>
                    <a:pt x="2528" y="200"/>
                  </a:lnTo>
                  <a:lnTo>
                    <a:pt x="2531" y="203"/>
                  </a:lnTo>
                  <a:lnTo>
                    <a:pt x="2535" y="207"/>
                  </a:lnTo>
                  <a:lnTo>
                    <a:pt x="2544" y="216"/>
                  </a:lnTo>
                  <a:lnTo>
                    <a:pt x="2551" y="223"/>
                  </a:lnTo>
                  <a:lnTo>
                    <a:pt x="2552" y="224"/>
                  </a:lnTo>
                  <a:lnTo>
                    <a:pt x="2554" y="226"/>
                  </a:lnTo>
                  <a:lnTo>
                    <a:pt x="2559" y="231"/>
                  </a:lnTo>
                  <a:lnTo>
                    <a:pt x="2575" y="245"/>
                  </a:lnTo>
                  <a:lnTo>
                    <a:pt x="2587" y="256"/>
                  </a:lnTo>
                  <a:lnTo>
                    <a:pt x="2601" y="266"/>
                  </a:lnTo>
                  <a:lnTo>
                    <a:pt x="2612" y="274"/>
                  </a:lnTo>
                  <a:lnTo>
                    <a:pt x="2615" y="275"/>
                  </a:lnTo>
                  <a:lnTo>
                    <a:pt x="2618" y="277"/>
                  </a:lnTo>
                  <a:lnTo>
                    <a:pt x="2625" y="282"/>
                  </a:lnTo>
                  <a:lnTo>
                    <a:pt x="2561" y="329"/>
                  </a:lnTo>
                  <a:lnTo>
                    <a:pt x="2529" y="353"/>
                  </a:lnTo>
                  <a:lnTo>
                    <a:pt x="2499" y="381"/>
                  </a:lnTo>
                  <a:lnTo>
                    <a:pt x="2435" y="435"/>
                  </a:lnTo>
                  <a:lnTo>
                    <a:pt x="2404" y="463"/>
                  </a:lnTo>
                  <a:lnTo>
                    <a:pt x="2373" y="494"/>
                  </a:lnTo>
                  <a:lnTo>
                    <a:pt x="2310" y="555"/>
                  </a:lnTo>
                  <a:lnTo>
                    <a:pt x="2246" y="621"/>
                  </a:lnTo>
                  <a:lnTo>
                    <a:pt x="2183" y="689"/>
                  </a:lnTo>
                  <a:lnTo>
                    <a:pt x="2119" y="763"/>
                  </a:lnTo>
                  <a:lnTo>
                    <a:pt x="2055" y="851"/>
                  </a:lnTo>
                  <a:lnTo>
                    <a:pt x="1993" y="943"/>
                  </a:lnTo>
                  <a:lnTo>
                    <a:pt x="1933" y="1036"/>
                  </a:lnTo>
                  <a:lnTo>
                    <a:pt x="1878" y="1131"/>
                  </a:lnTo>
                  <a:lnTo>
                    <a:pt x="1822" y="1226"/>
                  </a:lnTo>
                  <a:lnTo>
                    <a:pt x="1771" y="1325"/>
                  </a:lnTo>
                  <a:lnTo>
                    <a:pt x="1720" y="1424"/>
                  </a:lnTo>
                  <a:lnTo>
                    <a:pt x="1674" y="1526"/>
                  </a:lnTo>
                  <a:lnTo>
                    <a:pt x="1627" y="1626"/>
                  </a:lnTo>
                  <a:lnTo>
                    <a:pt x="1585" y="1731"/>
                  </a:lnTo>
                  <a:lnTo>
                    <a:pt x="1543" y="1836"/>
                  </a:lnTo>
                  <a:lnTo>
                    <a:pt x="1506" y="1944"/>
                  </a:lnTo>
                  <a:lnTo>
                    <a:pt x="1468" y="2052"/>
                  </a:lnTo>
                  <a:lnTo>
                    <a:pt x="1436" y="2163"/>
                  </a:lnTo>
                  <a:lnTo>
                    <a:pt x="1404" y="2274"/>
                  </a:lnTo>
                  <a:lnTo>
                    <a:pt x="1376" y="2388"/>
                  </a:lnTo>
                  <a:lnTo>
                    <a:pt x="1347" y="2502"/>
                  </a:lnTo>
                  <a:lnTo>
                    <a:pt x="1323" y="2618"/>
                  </a:lnTo>
                  <a:lnTo>
                    <a:pt x="1301" y="2735"/>
                  </a:lnTo>
                  <a:lnTo>
                    <a:pt x="1281" y="2855"/>
                  </a:lnTo>
                  <a:lnTo>
                    <a:pt x="1262" y="2975"/>
                  </a:lnTo>
                  <a:lnTo>
                    <a:pt x="1247" y="3098"/>
                  </a:lnTo>
                  <a:lnTo>
                    <a:pt x="1235" y="3221"/>
                  </a:lnTo>
                  <a:lnTo>
                    <a:pt x="1225" y="3347"/>
                  </a:lnTo>
                  <a:lnTo>
                    <a:pt x="1215" y="3473"/>
                  </a:lnTo>
                  <a:lnTo>
                    <a:pt x="1209" y="3601"/>
                  </a:lnTo>
                  <a:lnTo>
                    <a:pt x="1205" y="3730"/>
                  </a:lnTo>
                  <a:lnTo>
                    <a:pt x="1204" y="3863"/>
                  </a:lnTo>
                  <a:lnTo>
                    <a:pt x="1204" y="3996"/>
                  </a:lnTo>
                  <a:lnTo>
                    <a:pt x="1208" y="4131"/>
                  </a:lnTo>
                  <a:lnTo>
                    <a:pt x="1213" y="4267"/>
                  </a:lnTo>
                  <a:lnTo>
                    <a:pt x="1221" y="4405"/>
                  </a:lnTo>
                  <a:lnTo>
                    <a:pt x="1233" y="4517"/>
                  </a:lnTo>
                  <a:lnTo>
                    <a:pt x="1246" y="4628"/>
                  </a:lnTo>
                  <a:lnTo>
                    <a:pt x="1260" y="4737"/>
                  </a:lnTo>
                  <a:lnTo>
                    <a:pt x="1277" y="4845"/>
                  </a:lnTo>
                  <a:lnTo>
                    <a:pt x="1293" y="4949"/>
                  </a:lnTo>
                  <a:lnTo>
                    <a:pt x="1312" y="5052"/>
                  </a:lnTo>
                  <a:lnTo>
                    <a:pt x="1331" y="5153"/>
                  </a:lnTo>
                  <a:lnTo>
                    <a:pt x="1354" y="5253"/>
                  </a:lnTo>
                  <a:lnTo>
                    <a:pt x="1376" y="5349"/>
                  </a:lnTo>
                  <a:lnTo>
                    <a:pt x="1400" y="5445"/>
                  </a:lnTo>
                  <a:lnTo>
                    <a:pt x="1425" y="5536"/>
                  </a:lnTo>
                  <a:lnTo>
                    <a:pt x="1453" y="5628"/>
                  </a:lnTo>
                  <a:lnTo>
                    <a:pt x="1480" y="5717"/>
                  </a:lnTo>
                  <a:lnTo>
                    <a:pt x="1509" y="5804"/>
                  </a:lnTo>
                  <a:lnTo>
                    <a:pt x="1539" y="5889"/>
                  </a:lnTo>
                  <a:lnTo>
                    <a:pt x="1572" y="5973"/>
                  </a:lnTo>
                  <a:lnTo>
                    <a:pt x="1609" y="6069"/>
                  </a:lnTo>
                  <a:lnTo>
                    <a:pt x="1651" y="6164"/>
                  </a:lnTo>
                  <a:lnTo>
                    <a:pt x="1695" y="6258"/>
                  </a:lnTo>
                  <a:lnTo>
                    <a:pt x="1742" y="6350"/>
                  </a:lnTo>
                  <a:lnTo>
                    <a:pt x="1788" y="6440"/>
                  </a:lnTo>
                  <a:lnTo>
                    <a:pt x="1839" y="6528"/>
                  </a:lnTo>
                  <a:lnTo>
                    <a:pt x="1892" y="6614"/>
                  </a:lnTo>
                  <a:lnTo>
                    <a:pt x="1948" y="6699"/>
                  </a:lnTo>
                  <a:lnTo>
                    <a:pt x="2004" y="6781"/>
                  </a:lnTo>
                  <a:lnTo>
                    <a:pt x="2064" y="6862"/>
                  </a:lnTo>
                  <a:lnTo>
                    <a:pt x="2124" y="6941"/>
                  </a:lnTo>
                  <a:lnTo>
                    <a:pt x="2188" y="7019"/>
                  </a:lnTo>
                  <a:lnTo>
                    <a:pt x="2253" y="7094"/>
                  </a:lnTo>
                  <a:lnTo>
                    <a:pt x="2322" y="7168"/>
                  </a:lnTo>
                  <a:lnTo>
                    <a:pt x="2391" y="7239"/>
                  </a:lnTo>
                  <a:lnTo>
                    <a:pt x="2465" y="7310"/>
                  </a:lnTo>
                  <a:lnTo>
                    <a:pt x="2615" y="7138"/>
                  </a:lnTo>
                  <a:lnTo>
                    <a:pt x="2635" y="7112"/>
                  </a:lnTo>
                  <a:lnTo>
                    <a:pt x="2655" y="7088"/>
                  </a:lnTo>
                  <a:lnTo>
                    <a:pt x="2673" y="7064"/>
                  </a:lnTo>
                  <a:lnTo>
                    <a:pt x="2692" y="7043"/>
                  </a:lnTo>
                  <a:lnTo>
                    <a:pt x="2721" y="7001"/>
                  </a:lnTo>
                  <a:lnTo>
                    <a:pt x="2735" y="6982"/>
                  </a:lnTo>
                  <a:lnTo>
                    <a:pt x="2747" y="6965"/>
                  </a:lnTo>
                  <a:lnTo>
                    <a:pt x="2678" y="6869"/>
                  </a:lnTo>
                  <a:lnTo>
                    <a:pt x="2611" y="6772"/>
                  </a:lnTo>
                  <a:lnTo>
                    <a:pt x="2578" y="6721"/>
                  </a:lnTo>
                  <a:lnTo>
                    <a:pt x="2548" y="6671"/>
                  </a:lnTo>
                  <a:lnTo>
                    <a:pt x="2488" y="6568"/>
                  </a:lnTo>
                  <a:lnTo>
                    <a:pt x="2457" y="6514"/>
                  </a:lnTo>
                  <a:lnTo>
                    <a:pt x="2429" y="6460"/>
                  </a:lnTo>
                  <a:lnTo>
                    <a:pt x="2373" y="6350"/>
                  </a:lnTo>
                  <a:lnTo>
                    <a:pt x="2320" y="6236"/>
                  </a:lnTo>
                  <a:lnTo>
                    <a:pt x="2294" y="6178"/>
                  </a:lnTo>
                  <a:lnTo>
                    <a:pt x="2270" y="6120"/>
                  </a:lnTo>
                  <a:lnTo>
                    <a:pt x="2221" y="5999"/>
                  </a:lnTo>
                  <a:lnTo>
                    <a:pt x="2197" y="5938"/>
                  </a:lnTo>
                  <a:lnTo>
                    <a:pt x="2176" y="5876"/>
                  </a:lnTo>
                  <a:lnTo>
                    <a:pt x="2153" y="5813"/>
                  </a:lnTo>
                  <a:lnTo>
                    <a:pt x="2133" y="5749"/>
                  </a:lnTo>
                  <a:lnTo>
                    <a:pt x="2093" y="5621"/>
                  </a:lnTo>
                  <a:lnTo>
                    <a:pt x="2056" y="5488"/>
                  </a:lnTo>
                  <a:lnTo>
                    <a:pt x="2021" y="5353"/>
                  </a:lnTo>
                  <a:lnTo>
                    <a:pt x="1988" y="5213"/>
                  </a:lnTo>
                  <a:lnTo>
                    <a:pt x="1959" y="5072"/>
                  </a:lnTo>
                  <a:lnTo>
                    <a:pt x="1931" y="4878"/>
                  </a:lnTo>
                  <a:lnTo>
                    <a:pt x="1908" y="4686"/>
                  </a:lnTo>
                  <a:lnTo>
                    <a:pt x="1890" y="4497"/>
                  </a:lnTo>
                  <a:lnTo>
                    <a:pt x="1877" y="4312"/>
                  </a:lnTo>
                  <a:lnTo>
                    <a:pt x="1870" y="4219"/>
                  </a:lnTo>
                  <a:lnTo>
                    <a:pt x="1865" y="4128"/>
                  </a:lnTo>
                  <a:lnTo>
                    <a:pt x="1861" y="3948"/>
                  </a:lnTo>
                  <a:lnTo>
                    <a:pt x="1860" y="3770"/>
                  </a:lnTo>
                  <a:lnTo>
                    <a:pt x="1864" y="3594"/>
                  </a:lnTo>
                  <a:lnTo>
                    <a:pt x="1871" y="3421"/>
                  </a:lnTo>
                  <a:lnTo>
                    <a:pt x="1882" y="3250"/>
                  </a:lnTo>
                  <a:lnTo>
                    <a:pt x="1898" y="3081"/>
                  </a:lnTo>
                  <a:lnTo>
                    <a:pt x="1920" y="2917"/>
                  </a:lnTo>
                  <a:lnTo>
                    <a:pt x="1943" y="2753"/>
                  </a:lnTo>
                  <a:lnTo>
                    <a:pt x="1973" y="2593"/>
                  </a:lnTo>
                  <a:lnTo>
                    <a:pt x="2007" y="2436"/>
                  </a:lnTo>
                  <a:lnTo>
                    <a:pt x="2025" y="2358"/>
                  </a:lnTo>
                  <a:lnTo>
                    <a:pt x="2045" y="2282"/>
                  </a:lnTo>
                  <a:lnTo>
                    <a:pt x="2068" y="2192"/>
                  </a:lnTo>
                  <a:lnTo>
                    <a:pt x="2093" y="2105"/>
                  </a:lnTo>
                  <a:lnTo>
                    <a:pt x="2146" y="1934"/>
                  </a:lnTo>
                  <a:lnTo>
                    <a:pt x="2175" y="1849"/>
                  </a:lnTo>
                  <a:lnTo>
                    <a:pt x="2205" y="1766"/>
                  </a:lnTo>
                  <a:lnTo>
                    <a:pt x="2237" y="1684"/>
                  </a:lnTo>
                  <a:lnTo>
                    <a:pt x="2271" y="1605"/>
                  </a:lnTo>
                  <a:lnTo>
                    <a:pt x="2305" y="1524"/>
                  </a:lnTo>
                  <a:lnTo>
                    <a:pt x="2341" y="1446"/>
                  </a:lnTo>
                  <a:lnTo>
                    <a:pt x="2378" y="1368"/>
                  </a:lnTo>
                  <a:lnTo>
                    <a:pt x="2417" y="1292"/>
                  </a:lnTo>
                  <a:lnTo>
                    <a:pt x="2457" y="1216"/>
                  </a:lnTo>
                  <a:lnTo>
                    <a:pt x="2499" y="1142"/>
                  </a:lnTo>
                  <a:lnTo>
                    <a:pt x="2542" y="1070"/>
                  </a:lnTo>
                  <a:lnTo>
                    <a:pt x="2587" y="1000"/>
                  </a:lnTo>
                  <a:lnTo>
                    <a:pt x="2632" y="928"/>
                  </a:lnTo>
                  <a:lnTo>
                    <a:pt x="2679" y="859"/>
                  </a:lnTo>
                  <a:lnTo>
                    <a:pt x="2727" y="790"/>
                  </a:lnTo>
                  <a:lnTo>
                    <a:pt x="2778" y="723"/>
                  </a:lnTo>
                  <a:lnTo>
                    <a:pt x="2829" y="656"/>
                  </a:lnTo>
                  <a:lnTo>
                    <a:pt x="2882" y="592"/>
                  </a:lnTo>
                  <a:lnTo>
                    <a:pt x="2935" y="527"/>
                  </a:lnTo>
                  <a:lnTo>
                    <a:pt x="2992" y="465"/>
                  </a:lnTo>
                  <a:lnTo>
                    <a:pt x="3106" y="341"/>
                  </a:lnTo>
                  <a:lnTo>
                    <a:pt x="3165" y="281"/>
                  </a:lnTo>
                  <a:lnTo>
                    <a:pt x="3228" y="223"/>
                  </a:lnTo>
                  <a:lnTo>
                    <a:pt x="3289" y="165"/>
                  </a:lnTo>
                  <a:lnTo>
                    <a:pt x="3354" y="110"/>
                  </a:lnTo>
                  <a:lnTo>
                    <a:pt x="3418" y="54"/>
                  </a:lnTo>
                  <a:lnTo>
                    <a:pt x="3486" y="1"/>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2718720" y="1520640"/>
              <a:ext cx="1513080" cy="5098680"/>
            </a:xfrm>
            <a:custGeom>
              <a:avLst/>
              <a:gdLst/>
              <a:ahLst/>
              <a:rect l="l" t="t" r="r" b="b"/>
              <a:pathLst>
                <a:path w="2137" h="7210">
                  <a:moveTo>
                    <a:pt x="873" y="0"/>
                  </a:moveTo>
                  <a:lnTo>
                    <a:pt x="592" y="331"/>
                  </a:lnTo>
                  <a:lnTo>
                    <a:pt x="643" y="400"/>
                  </a:lnTo>
                  <a:lnTo>
                    <a:pt x="694" y="472"/>
                  </a:lnTo>
                  <a:lnTo>
                    <a:pt x="743" y="546"/>
                  </a:lnTo>
                  <a:lnTo>
                    <a:pt x="791" y="622"/>
                  </a:lnTo>
                  <a:lnTo>
                    <a:pt x="837" y="699"/>
                  </a:lnTo>
                  <a:lnTo>
                    <a:pt x="882" y="780"/>
                  </a:lnTo>
                  <a:lnTo>
                    <a:pt x="925" y="860"/>
                  </a:lnTo>
                  <a:lnTo>
                    <a:pt x="968" y="944"/>
                  </a:lnTo>
                  <a:lnTo>
                    <a:pt x="1008" y="1028"/>
                  </a:lnTo>
                  <a:lnTo>
                    <a:pt x="1048" y="1115"/>
                  </a:lnTo>
                  <a:lnTo>
                    <a:pt x="1085" y="1202"/>
                  </a:lnTo>
                  <a:lnTo>
                    <a:pt x="1122" y="1293"/>
                  </a:lnTo>
                  <a:lnTo>
                    <a:pt x="1156" y="1385"/>
                  </a:lnTo>
                  <a:lnTo>
                    <a:pt x="1190" y="1479"/>
                  </a:lnTo>
                  <a:lnTo>
                    <a:pt x="1223" y="1574"/>
                  </a:lnTo>
                  <a:lnTo>
                    <a:pt x="1255" y="1673"/>
                  </a:lnTo>
                  <a:lnTo>
                    <a:pt x="1303" y="1866"/>
                  </a:lnTo>
                  <a:lnTo>
                    <a:pt x="1346" y="2058"/>
                  </a:lnTo>
                  <a:lnTo>
                    <a:pt x="1365" y="2154"/>
                  </a:lnTo>
                  <a:lnTo>
                    <a:pt x="1383" y="2249"/>
                  </a:lnTo>
                  <a:lnTo>
                    <a:pt x="1400" y="2344"/>
                  </a:lnTo>
                  <a:lnTo>
                    <a:pt x="1416" y="2440"/>
                  </a:lnTo>
                  <a:lnTo>
                    <a:pt x="1430" y="2534"/>
                  </a:lnTo>
                  <a:lnTo>
                    <a:pt x="1442" y="2630"/>
                  </a:lnTo>
                  <a:lnTo>
                    <a:pt x="1453" y="2724"/>
                  </a:lnTo>
                  <a:lnTo>
                    <a:pt x="1465" y="2819"/>
                  </a:lnTo>
                  <a:lnTo>
                    <a:pt x="1473" y="2912"/>
                  </a:lnTo>
                  <a:lnTo>
                    <a:pt x="1474" y="2935"/>
                  </a:lnTo>
                  <a:lnTo>
                    <a:pt x="1476" y="2958"/>
                  </a:lnTo>
                  <a:lnTo>
                    <a:pt x="1481" y="3006"/>
                  </a:lnTo>
                  <a:lnTo>
                    <a:pt x="1487" y="3099"/>
                  </a:lnTo>
                  <a:lnTo>
                    <a:pt x="1490" y="3146"/>
                  </a:lnTo>
                  <a:lnTo>
                    <a:pt x="1493" y="3193"/>
                  </a:lnTo>
                  <a:lnTo>
                    <a:pt x="1495" y="3285"/>
                  </a:lnTo>
                  <a:lnTo>
                    <a:pt x="1498" y="3378"/>
                  </a:lnTo>
                  <a:lnTo>
                    <a:pt x="1498" y="3423"/>
                  </a:lnTo>
                  <a:lnTo>
                    <a:pt x="1498" y="3446"/>
                  </a:lnTo>
                  <a:lnTo>
                    <a:pt x="1499" y="3470"/>
                  </a:lnTo>
                  <a:lnTo>
                    <a:pt x="1499" y="3563"/>
                  </a:lnTo>
                  <a:lnTo>
                    <a:pt x="1496" y="3653"/>
                  </a:lnTo>
                  <a:lnTo>
                    <a:pt x="1494" y="3745"/>
                  </a:lnTo>
                  <a:lnTo>
                    <a:pt x="1485" y="3929"/>
                  </a:lnTo>
                  <a:lnTo>
                    <a:pt x="1481" y="3973"/>
                  </a:lnTo>
                  <a:lnTo>
                    <a:pt x="1477" y="4018"/>
                  </a:lnTo>
                  <a:lnTo>
                    <a:pt x="1469" y="4109"/>
                  </a:lnTo>
                  <a:lnTo>
                    <a:pt x="1449" y="4290"/>
                  </a:lnTo>
                  <a:lnTo>
                    <a:pt x="1436" y="4379"/>
                  </a:lnTo>
                  <a:lnTo>
                    <a:pt x="1423" y="4470"/>
                  </a:lnTo>
                  <a:lnTo>
                    <a:pt x="1393" y="4649"/>
                  </a:lnTo>
                  <a:lnTo>
                    <a:pt x="1373" y="4746"/>
                  </a:lnTo>
                  <a:lnTo>
                    <a:pt x="1351" y="4844"/>
                  </a:lnTo>
                  <a:lnTo>
                    <a:pt x="1329" y="4940"/>
                  </a:lnTo>
                  <a:lnTo>
                    <a:pt x="1305" y="5035"/>
                  </a:lnTo>
                  <a:lnTo>
                    <a:pt x="1279" y="5128"/>
                  </a:lnTo>
                  <a:lnTo>
                    <a:pt x="1252" y="5221"/>
                  </a:lnTo>
                  <a:lnTo>
                    <a:pt x="1222" y="5313"/>
                  </a:lnTo>
                  <a:lnTo>
                    <a:pt x="1193" y="5404"/>
                  </a:lnTo>
                  <a:lnTo>
                    <a:pt x="1160" y="5492"/>
                  </a:lnTo>
                  <a:lnTo>
                    <a:pt x="1143" y="5535"/>
                  </a:lnTo>
                  <a:lnTo>
                    <a:pt x="1127" y="5579"/>
                  </a:lnTo>
                  <a:lnTo>
                    <a:pt x="1092" y="5666"/>
                  </a:lnTo>
                  <a:lnTo>
                    <a:pt x="1055" y="5752"/>
                  </a:lnTo>
                  <a:lnTo>
                    <a:pt x="1017" y="5834"/>
                  </a:lnTo>
                  <a:lnTo>
                    <a:pt x="997" y="5875"/>
                  </a:lnTo>
                  <a:lnTo>
                    <a:pt x="986" y="5896"/>
                  </a:lnTo>
                  <a:lnTo>
                    <a:pt x="977" y="5917"/>
                  </a:lnTo>
                  <a:lnTo>
                    <a:pt x="935" y="5999"/>
                  </a:lnTo>
                  <a:lnTo>
                    <a:pt x="893" y="6080"/>
                  </a:lnTo>
                  <a:lnTo>
                    <a:pt x="848" y="6159"/>
                  </a:lnTo>
                  <a:lnTo>
                    <a:pt x="803" y="6237"/>
                  </a:lnTo>
                  <a:lnTo>
                    <a:pt x="755" y="6313"/>
                  </a:lnTo>
                  <a:lnTo>
                    <a:pt x="730" y="6350"/>
                  </a:lnTo>
                  <a:lnTo>
                    <a:pt x="706" y="6389"/>
                  </a:lnTo>
                  <a:lnTo>
                    <a:pt x="680" y="6425"/>
                  </a:lnTo>
                  <a:lnTo>
                    <a:pt x="655" y="6462"/>
                  </a:lnTo>
                  <a:lnTo>
                    <a:pt x="603" y="6536"/>
                  </a:lnTo>
                  <a:lnTo>
                    <a:pt x="576" y="6571"/>
                  </a:lnTo>
                  <a:lnTo>
                    <a:pt x="550" y="6608"/>
                  </a:lnTo>
                  <a:lnTo>
                    <a:pt x="496" y="6679"/>
                  </a:lnTo>
                  <a:lnTo>
                    <a:pt x="438" y="6747"/>
                  </a:lnTo>
                  <a:lnTo>
                    <a:pt x="380" y="6815"/>
                  </a:lnTo>
                  <a:lnTo>
                    <a:pt x="364" y="6831"/>
                  </a:lnTo>
                  <a:lnTo>
                    <a:pt x="349" y="6848"/>
                  </a:lnTo>
                  <a:lnTo>
                    <a:pt x="320" y="6882"/>
                  </a:lnTo>
                  <a:lnTo>
                    <a:pt x="304" y="6898"/>
                  </a:lnTo>
                  <a:lnTo>
                    <a:pt x="289" y="6915"/>
                  </a:lnTo>
                  <a:lnTo>
                    <a:pt x="260" y="6949"/>
                  </a:lnTo>
                  <a:lnTo>
                    <a:pt x="196" y="7012"/>
                  </a:lnTo>
                  <a:lnTo>
                    <a:pt x="133" y="7076"/>
                  </a:lnTo>
                  <a:lnTo>
                    <a:pt x="67" y="7138"/>
                  </a:lnTo>
                  <a:lnTo>
                    <a:pt x="0" y="7199"/>
                  </a:lnTo>
                  <a:lnTo>
                    <a:pt x="237" y="7210"/>
                  </a:lnTo>
                  <a:lnTo>
                    <a:pt x="238" y="7208"/>
                  </a:lnTo>
                  <a:lnTo>
                    <a:pt x="240" y="7208"/>
                  </a:lnTo>
                  <a:lnTo>
                    <a:pt x="245" y="7208"/>
                  </a:lnTo>
                  <a:lnTo>
                    <a:pt x="254" y="7208"/>
                  </a:lnTo>
                  <a:lnTo>
                    <a:pt x="272" y="7208"/>
                  </a:lnTo>
                  <a:lnTo>
                    <a:pt x="288" y="7207"/>
                  </a:lnTo>
                  <a:lnTo>
                    <a:pt x="305" y="7207"/>
                  </a:lnTo>
                  <a:lnTo>
                    <a:pt x="337" y="7205"/>
                  </a:lnTo>
                  <a:lnTo>
                    <a:pt x="352" y="7203"/>
                  </a:lnTo>
                  <a:lnTo>
                    <a:pt x="367" y="7202"/>
                  </a:lnTo>
                  <a:lnTo>
                    <a:pt x="395" y="7196"/>
                  </a:lnTo>
                  <a:lnTo>
                    <a:pt x="421" y="7189"/>
                  </a:lnTo>
                  <a:lnTo>
                    <a:pt x="432" y="7185"/>
                  </a:lnTo>
                  <a:lnTo>
                    <a:pt x="438" y="7182"/>
                  </a:lnTo>
                  <a:lnTo>
                    <a:pt x="444" y="7181"/>
                  </a:lnTo>
                  <a:lnTo>
                    <a:pt x="467" y="7173"/>
                  </a:lnTo>
                  <a:lnTo>
                    <a:pt x="488" y="7181"/>
                  </a:lnTo>
                  <a:lnTo>
                    <a:pt x="511" y="7189"/>
                  </a:lnTo>
                  <a:lnTo>
                    <a:pt x="536" y="7196"/>
                  </a:lnTo>
                  <a:lnTo>
                    <a:pt x="565" y="7202"/>
                  </a:lnTo>
                  <a:lnTo>
                    <a:pt x="593" y="7205"/>
                  </a:lnTo>
                  <a:lnTo>
                    <a:pt x="625" y="7207"/>
                  </a:lnTo>
                  <a:lnTo>
                    <a:pt x="656" y="7208"/>
                  </a:lnTo>
                  <a:lnTo>
                    <a:pt x="692" y="7210"/>
                  </a:lnTo>
                  <a:lnTo>
                    <a:pt x="923" y="7199"/>
                  </a:lnTo>
                  <a:lnTo>
                    <a:pt x="726" y="7026"/>
                  </a:lnTo>
                  <a:lnTo>
                    <a:pt x="800" y="6966"/>
                  </a:lnTo>
                  <a:lnTo>
                    <a:pt x="872" y="6907"/>
                  </a:lnTo>
                  <a:lnTo>
                    <a:pt x="938" y="6849"/>
                  </a:lnTo>
                  <a:lnTo>
                    <a:pt x="1001" y="6792"/>
                  </a:lnTo>
                  <a:lnTo>
                    <a:pt x="1058" y="6736"/>
                  </a:lnTo>
                  <a:lnTo>
                    <a:pt x="1112" y="6680"/>
                  </a:lnTo>
                  <a:lnTo>
                    <a:pt x="1160" y="6625"/>
                  </a:lnTo>
                  <a:lnTo>
                    <a:pt x="1205" y="6571"/>
                  </a:lnTo>
                  <a:lnTo>
                    <a:pt x="1220" y="6549"/>
                  </a:lnTo>
                  <a:lnTo>
                    <a:pt x="1236" y="6527"/>
                  </a:lnTo>
                  <a:lnTo>
                    <a:pt x="1267" y="6484"/>
                  </a:lnTo>
                  <a:lnTo>
                    <a:pt x="1297" y="6440"/>
                  </a:lnTo>
                  <a:lnTo>
                    <a:pt x="1328" y="6397"/>
                  </a:lnTo>
                  <a:lnTo>
                    <a:pt x="1356" y="6351"/>
                  </a:lnTo>
                  <a:lnTo>
                    <a:pt x="1385" y="6307"/>
                  </a:lnTo>
                  <a:lnTo>
                    <a:pt x="1414" y="6262"/>
                  </a:lnTo>
                  <a:lnTo>
                    <a:pt x="1443" y="6218"/>
                  </a:lnTo>
                  <a:lnTo>
                    <a:pt x="1496" y="6125"/>
                  </a:lnTo>
                  <a:lnTo>
                    <a:pt x="1550" y="6032"/>
                  </a:lnTo>
                  <a:lnTo>
                    <a:pt x="1598" y="5936"/>
                  </a:lnTo>
                  <a:lnTo>
                    <a:pt x="1610" y="5912"/>
                  </a:lnTo>
                  <a:lnTo>
                    <a:pt x="1622" y="5888"/>
                  </a:lnTo>
                  <a:lnTo>
                    <a:pt x="1647" y="5840"/>
                  </a:lnTo>
                  <a:lnTo>
                    <a:pt x="1669" y="5790"/>
                  </a:lnTo>
                  <a:lnTo>
                    <a:pt x="1691" y="5741"/>
                  </a:lnTo>
                  <a:lnTo>
                    <a:pt x="1736" y="5642"/>
                  </a:lnTo>
                  <a:lnTo>
                    <a:pt x="1775" y="5540"/>
                  </a:lnTo>
                  <a:lnTo>
                    <a:pt x="1815" y="5438"/>
                  </a:lnTo>
                  <a:lnTo>
                    <a:pt x="1823" y="5410"/>
                  </a:lnTo>
                  <a:lnTo>
                    <a:pt x="1832" y="5384"/>
                  </a:lnTo>
                  <a:lnTo>
                    <a:pt x="1850" y="5332"/>
                  </a:lnTo>
                  <a:lnTo>
                    <a:pt x="1858" y="5305"/>
                  </a:lnTo>
                  <a:lnTo>
                    <a:pt x="1867" y="5279"/>
                  </a:lnTo>
                  <a:lnTo>
                    <a:pt x="1885" y="5227"/>
                  </a:lnTo>
                  <a:lnTo>
                    <a:pt x="1901" y="5172"/>
                  </a:lnTo>
                  <a:lnTo>
                    <a:pt x="1909" y="5145"/>
                  </a:lnTo>
                  <a:lnTo>
                    <a:pt x="1918" y="5119"/>
                  </a:lnTo>
                  <a:lnTo>
                    <a:pt x="1933" y="5065"/>
                  </a:lnTo>
                  <a:lnTo>
                    <a:pt x="1949" y="5011"/>
                  </a:lnTo>
                  <a:lnTo>
                    <a:pt x="1975" y="4900"/>
                  </a:lnTo>
                  <a:lnTo>
                    <a:pt x="1987" y="4844"/>
                  </a:lnTo>
                  <a:lnTo>
                    <a:pt x="2001" y="4788"/>
                  </a:lnTo>
                  <a:lnTo>
                    <a:pt x="2025" y="4675"/>
                  </a:lnTo>
                  <a:lnTo>
                    <a:pt x="2029" y="4645"/>
                  </a:lnTo>
                  <a:lnTo>
                    <a:pt x="2035" y="4617"/>
                  </a:lnTo>
                  <a:lnTo>
                    <a:pt x="2046" y="4560"/>
                  </a:lnTo>
                  <a:lnTo>
                    <a:pt x="2064" y="4443"/>
                  </a:lnTo>
                  <a:lnTo>
                    <a:pt x="2081" y="4326"/>
                  </a:lnTo>
                  <a:lnTo>
                    <a:pt x="2096" y="4205"/>
                  </a:lnTo>
                  <a:lnTo>
                    <a:pt x="2109" y="4085"/>
                  </a:lnTo>
                  <a:lnTo>
                    <a:pt x="2113" y="4023"/>
                  </a:lnTo>
                  <a:lnTo>
                    <a:pt x="2119" y="3962"/>
                  </a:lnTo>
                  <a:lnTo>
                    <a:pt x="2120" y="3930"/>
                  </a:lnTo>
                  <a:lnTo>
                    <a:pt x="2122" y="3899"/>
                  </a:lnTo>
                  <a:lnTo>
                    <a:pt x="2127" y="3838"/>
                  </a:lnTo>
                  <a:lnTo>
                    <a:pt x="2129" y="3775"/>
                  </a:lnTo>
                  <a:lnTo>
                    <a:pt x="2130" y="3743"/>
                  </a:lnTo>
                  <a:lnTo>
                    <a:pt x="2132" y="3712"/>
                  </a:lnTo>
                  <a:lnTo>
                    <a:pt x="2136" y="3585"/>
                  </a:lnTo>
                  <a:lnTo>
                    <a:pt x="2137" y="3456"/>
                  </a:lnTo>
                  <a:lnTo>
                    <a:pt x="2136" y="3327"/>
                  </a:lnTo>
                  <a:lnTo>
                    <a:pt x="2132" y="3195"/>
                  </a:lnTo>
                  <a:lnTo>
                    <a:pt x="2130" y="3128"/>
                  </a:lnTo>
                  <a:lnTo>
                    <a:pt x="2129" y="3063"/>
                  </a:lnTo>
                  <a:lnTo>
                    <a:pt x="2119" y="2943"/>
                  </a:lnTo>
                  <a:lnTo>
                    <a:pt x="2107" y="2826"/>
                  </a:lnTo>
                  <a:lnTo>
                    <a:pt x="2094" y="2711"/>
                  </a:lnTo>
                  <a:lnTo>
                    <a:pt x="2080" y="2599"/>
                  </a:lnTo>
                  <a:lnTo>
                    <a:pt x="2064" y="2487"/>
                  </a:lnTo>
                  <a:lnTo>
                    <a:pt x="2047" y="2379"/>
                  </a:lnTo>
                  <a:lnTo>
                    <a:pt x="2028" y="2273"/>
                  </a:lnTo>
                  <a:lnTo>
                    <a:pt x="2009" y="2169"/>
                  </a:lnTo>
                  <a:lnTo>
                    <a:pt x="1986" y="2066"/>
                  </a:lnTo>
                  <a:lnTo>
                    <a:pt x="1963" y="1965"/>
                  </a:lnTo>
                  <a:lnTo>
                    <a:pt x="1939" y="1867"/>
                  </a:lnTo>
                  <a:lnTo>
                    <a:pt x="1914" y="1772"/>
                  </a:lnTo>
                  <a:lnTo>
                    <a:pt x="1886" y="1676"/>
                  </a:lnTo>
                  <a:lnTo>
                    <a:pt x="1858" y="1585"/>
                  </a:lnTo>
                  <a:lnTo>
                    <a:pt x="1827" y="1494"/>
                  </a:lnTo>
                  <a:lnTo>
                    <a:pt x="1797" y="1407"/>
                  </a:lnTo>
                  <a:lnTo>
                    <a:pt x="1755" y="1303"/>
                  </a:lnTo>
                  <a:lnTo>
                    <a:pt x="1713" y="1202"/>
                  </a:lnTo>
                  <a:lnTo>
                    <a:pt x="1669" y="1103"/>
                  </a:lnTo>
                  <a:lnTo>
                    <a:pt x="1622" y="1006"/>
                  </a:lnTo>
                  <a:lnTo>
                    <a:pt x="1571" y="910"/>
                  </a:lnTo>
                  <a:lnTo>
                    <a:pt x="1520" y="818"/>
                  </a:lnTo>
                  <a:lnTo>
                    <a:pt x="1466" y="726"/>
                  </a:lnTo>
                  <a:lnTo>
                    <a:pt x="1410" y="639"/>
                  </a:lnTo>
                  <a:lnTo>
                    <a:pt x="1350" y="552"/>
                  </a:lnTo>
                  <a:lnTo>
                    <a:pt x="1289" y="467"/>
                  </a:lnTo>
                  <a:lnTo>
                    <a:pt x="1224" y="384"/>
                  </a:lnTo>
                  <a:lnTo>
                    <a:pt x="1160" y="304"/>
                  </a:lnTo>
                  <a:lnTo>
                    <a:pt x="1091" y="223"/>
                  </a:lnTo>
                  <a:lnTo>
                    <a:pt x="1020" y="147"/>
                  </a:lnTo>
                  <a:lnTo>
                    <a:pt x="947" y="71"/>
                  </a:lnTo>
                  <a:lnTo>
                    <a:pt x="873" y="0"/>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1866600" y="2078640"/>
              <a:ext cx="1524240" cy="4540320"/>
            </a:xfrm>
            <a:custGeom>
              <a:avLst/>
              <a:gdLst/>
              <a:ahLst/>
              <a:rect l="l" t="t" r="r" b="b"/>
              <a:pathLst>
                <a:path w="2157" h="6422">
                  <a:moveTo>
                    <a:pt x="1206" y="725"/>
                  </a:moveTo>
                  <a:lnTo>
                    <a:pt x="1258" y="910"/>
                  </a:lnTo>
                  <a:lnTo>
                    <a:pt x="1283" y="1003"/>
                  </a:lnTo>
                  <a:lnTo>
                    <a:pt x="1307" y="1096"/>
                  </a:lnTo>
                  <a:lnTo>
                    <a:pt x="1350" y="1283"/>
                  </a:lnTo>
                  <a:lnTo>
                    <a:pt x="1389" y="1472"/>
                  </a:lnTo>
                  <a:lnTo>
                    <a:pt x="1420" y="1660"/>
                  </a:lnTo>
                  <a:lnTo>
                    <a:pt x="1435" y="1756"/>
                  </a:lnTo>
                  <a:lnTo>
                    <a:pt x="1449" y="1851"/>
                  </a:lnTo>
                  <a:lnTo>
                    <a:pt x="1471" y="2042"/>
                  </a:lnTo>
                  <a:lnTo>
                    <a:pt x="1490" y="2235"/>
                  </a:lnTo>
                  <a:lnTo>
                    <a:pt x="1492" y="2284"/>
                  </a:lnTo>
                  <a:lnTo>
                    <a:pt x="1495" y="2334"/>
                  </a:lnTo>
                  <a:lnTo>
                    <a:pt x="1501" y="2433"/>
                  </a:lnTo>
                  <a:lnTo>
                    <a:pt x="1504" y="2531"/>
                  </a:lnTo>
                  <a:lnTo>
                    <a:pt x="1507" y="2631"/>
                  </a:lnTo>
                  <a:lnTo>
                    <a:pt x="1507" y="2826"/>
                  </a:lnTo>
                  <a:lnTo>
                    <a:pt x="1504" y="2922"/>
                  </a:lnTo>
                  <a:lnTo>
                    <a:pt x="1501" y="3020"/>
                  </a:lnTo>
                  <a:lnTo>
                    <a:pt x="1495" y="3115"/>
                  </a:lnTo>
                  <a:lnTo>
                    <a:pt x="1488" y="3211"/>
                  </a:lnTo>
                  <a:lnTo>
                    <a:pt x="1484" y="3258"/>
                  </a:lnTo>
                  <a:lnTo>
                    <a:pt x="1480" y="3305"/>
                  </a:lnTo>
                  <a:lnTo>
                    <a:pt x="1471" y="3400"/>
                  </a:lnTo>
                  <a:lnTo>
                    <a:pt x="1460" y="3493"/>
                  </a:lnTo>
                  <a:lnTo>
                    <a:pt x="1448" y="3589"/>
                  </a:lnTo>
                  <a:lnTo>
                    <a:pt x="1434" y="3682"/>
                  </a:lnTo>
                  <a:lnTo>
                    <a:pt x="1429" y="3704"/>
                  </a:lnTo>
                  <a:lnTo>
                    <a:pt x="1427" y="3716"/>
                  </a:lnTo>
                  <a:lnTo>
                    <a:pt x="1426" y="3728"/>
                  </a:lnTo>
                  <a:lnTo>
                    <a:pt x="1419" y="3776"/>
                  </a:lnTo>
                  <a:lnTo>
                    <a:pt x="1400" y="3878"/>
                  </a:lnTo>
                  <a:lnTo>
                    <a:pt x="1380" y="3979"/>
                  </a:lnTo>
                  <a:lnTo>
                    <a:pt x="1357" y="4078"/>
                  </a:lnTo>
                  <a:lnTo>
                    <a:pt x="1350" y="4102"/>
                  </a:lnTo>
                  <a:lnTo>
                    <a:pt x="1344" y="4127"/>
                  </a:lnTo>
                  <a:lnTo>
                    <a:pt x="1333" y="4177"/>
                  </a:lnTo>
                  <a:lnTo>
                    <a:pt x="1319" y="4225"/>
                  </a:lnTo>
                  <a:lnTo>
                    <a:pt x="1313" y="4248"/>
                  </a:lnTo>
                  <a:lnTo>
                    <a:pt x="1307" y="4273"/>
                  </a:lnTo>
                  <a:lnTo>
                    <a:pt x="1280" y="4370"/>
                  </a:lnTo>
                  <a:lnTo>
                    <a:pt x="1250" y="4465"/>
                  </a:lnTo>
                  <a:lnTo>
                    <a:pt x="1221" y="4559"/>
                  </a:lnTo>
                  <a:lnTo>
                    <a:pt x="1204" y="4604"/>
                  </a:lnTo>
                  <a:lnTo>
                    <a:pt x="1188" y="4651"/>
                  </a:lnTo>
                  <a:lnTo>
                    <a:pt x="1154" y="4741"/>
                  </a:lnTo>
                  <a:lnTo>
                    <a:pt x="1136" y="4786"/>
                  </a:lnTo>
                  <a:lnTo>
                    <a:pt x="1119" y="4831"/>
                  </a:lnTo>
                  <a:lnTo>
                    <a:pt x="1083" y="4919"/>
                  </a:lnTo>
                  <a:lnTo>
                    <a:pt x="1044" y="5006"/>
                  </a:lnTo>
                  <a:lnTo>
                    <a:pt x="1004" y="5092"/>
                  </a:lnTo>
                  <a:lnTo>
                    <a:pt x="993" y="5112"/>
                  </a:lnTo>
                  <a:lnTo>
                    <a:pt x="983" y="5134"/>
                  </a:lnTo>
                  <a:lnTo>
                    <a:pt x="962" y="5177"/>
                  </a:lnTo>
                  <a:lnTo>
                    <a:pt x="919" y="5261"/>
                  </a:lnTo>
                  <a:lnTo>
                    <a:pt x="907" y="5280"/>
                  </a:lnTo>
                  <a:lnTo>
                    <a:pt x="896" y="5300"/>
                  </a:lnTo>
                  <a:lnTo>
                    <a:pt x="873" y="5341"/>
                  </a:lnTo>
                  <a:lnTo>
                    <a:pt x="860" y="5360"/>
                  </a:lnTo>
                  <a:lnTo>
                    <a:pt x="849" y="5381"/>
                  </a:lnTo>
                  <a:lnTo>
                    <a:pt x="826" y="5422"/>
                  </a:lnTo>
                  <a:lnTo>
                    <a:pt x="778" y="5501"/>
                  </a:lnTo>
                  <a:lnTo>
                    <a:pt x="728" y="5579"/>
                  </a:lnTo>
                  <a:lnTo>
                    <a:pt x="676" y="5655"/>
                  </a:lnTo>
                  <a:lnTo>
                    <a:pt x="622" y="5730"/>
                  </a:lnTo>
                  <a:lnTo>
                    <a:pt x="594" y="5766"/>
                  </a:lnTo>
                  <a:lnTo>
                    <a:pt x="567" y="5804"/>
                  </a:lnTo>
                  <a:lnTo>
                    <a:pt x="538" y="5840"/>
                  </a:lnTo>
                  <a:lnTo>
                    <a:pt x="511" y="5877"/>
                  </a:lnTo>
                  <a:lnTo>
                    <a:pt x="452" y="5948"/>
                  </a:lnTo>
                  <a:lnTo>
                    <a:pt x="392" y="6018"/>
                  </a:lnTo>
                  <a:lnTo>
                    <a:pt x="331" y="6086"/>
                  </a:lnTo>
                  <a:lnTo>
                    <a:pt x="269" y="6154"/>
                  </a:lnTo>
                  <a:lnTo>
                    <a:pt x="203" y="6220"/>
                  </a:lnTo>
                  <a:lnTo>
                    <a:pt x="137" y="6284"/>
                  </a:lnTo>
                  <a:lnTo>
                    <a:pt x="69" y="6348"/>
                  </a:lnTo>
                  <a:lnTo>
                    <a:pt x="0" y="6411"/>
                  </a:lnTo>
                  <a:lnTo>
                    <a:pt x="249" y="6422"/>
                  </a:lnTo>
                  <a:lnTo>
                    <a:pt x="251" y="6420"/>
                  </a:lnTo>
                  <a:lnTo>
                    <a:pt x="253" y="6420"/>
                  </a:lnTo>
                  <a:lnTo>
                    <a:pt x="257" y="6420"/>
                  </a:lnTo>
                  <a:lnTo>
                    <a:pt x="266" y="6420"/>
                  </a:lnTo>
                  <a:lnTo>
                    <a:pt x="285" y="6420"/>
                  </a:lnTo>
                  <a:lnTo>
                    <a:pt x="300" y="6419"/>
                  </a:lnTo>
                  <a:lnTo>
                    <a:pt x="317" y="6419"/>
                  </a:lnTo>
                  <a:lnTo>
                    <a:pt x="349" y="6417"/>
                  </a:lnTo>
                  <a:lnTo>
                    <a:pt x="364" y="6415"/>
                  </a:lnTo>
                  <a:lnTo>
                    <a:pt x="380" y="6414"/>
                  </a:lnTo>
                  <a:lnTo>
                    <a:pt x="407" y="6408"/>
                  </a:lnTo>
                  <a:lnTo>
                    <a:pt x="433" y="6401"/>
                  </a:lnTo>
                  <a:lnTo>
                    <a:pt x="444" y="6397"/>
                  </a:lnTo>
                  <a:lnTo>
                    <a:pt x="450" y="6394"/>
                  </a:lnTo>
                  <a:lnTo>
                    <a:pt x="457" y="6393"/>
                  </a:lnTo>
                  <a:lnTo>
                    <a:pt x="480" y="6385"/>
                  </a:lnTo>
                  <a:lnTo>
                    <a:pt x="499" y="6393"/>
                  </a:lnTo>
                  <a:lnTo>
                    <a:pt x="521" y="6401"/>
                  </a:lnTo>
                  <a:lnTo>
                    <a:pt x="545" y="6408"/>
                  </a:lnTo>
                  <a:lnTo>
                    <a:pt x="574" y="6414"/>
                  </a:lnTo>
                  <a:lnTo>
                    <a:pt x="602" y="6417"/>
                  </a:lnTo>
                  <a:lnTo>
                    <a:pt x="634" y="6419"/>
                  </a:lnTo>
                  <a:lnTo>
                    <a:pt x="667" y="6420"/>
                  </a:lnTo>
                  <a:lnTo>
                    <a:pt x="704" y="6422"/>
                  </a:lnTo>
                  <a:lnTo>
                    <a:pt x="935" y="6411"/>
                  </a:lnTo>
                  <a:lnTo>
                    <a:pt x="738" y="6238"/>
                  </a:lnTo>
                  <a:lnTo>
                    <a:pt x="1071" y="5943"/>
                  </a:lnTo>
                  <a:lnTo>
                    <a:pt x="1244" y="6115"/>
                  </a:lnTo>
                  <a:lnTo>
                    <a:pt x="1283" y="6072"/>
                  </a:lnTo>
                  <a:lnTo>
                    <a:pt x="1322" y="6030"/>
                  </a:lnTo>
                  <a:lnTo>
                    <a:pt x="1359" y="5987"/>
                  </a:lnTo>
                  <a:lnTo>
                    <a:pt x="1395" y="5945"/>
                  </a:lnTo>
                  <a:lnTo>
                    <a:pt x="1429" y="5901"/>
                  </a:lnTo>
                  <a:lnTo>
                    <a:pt x="1463" y="5858"/>
                  </a:lnTo>
                  <a:lnTo>
                    <a:pt x="1495" y="5813"/>
                  </a:lnTo>
                  <a:lnTo>
                    <a:pt x="1526" y="5770"/>
                  </a:lnTo>
                  <a:lnTo>
                    <a:pt x="1377" y="5562"/>
                  </a:lnTo>
                  <a:lnTo>
                    <a:pt x="1399" y="5526"/>
                  </a:lnTo>
                  <a:lnTo>
                    <a:pt x="1422" y="5491"/>
                  </a:lnTo>
                  <a:lnTo>
                    <a:pt x="1466" y="5418"/>
                  </a:lnTo>
                  <a:lnTo>
                    <a:pt x="1486" y="5381"/>
                  </a:lnTo>
                  <a:lnTo>
                    <a:pt x="1508" y="5345"/>
                  </a:lnTo>
                  <a:lnTo>
                    <a:pt x="1550" y="5270"/>
                  </a:lnTo>
                  <a:lnTo>
                    <a:pt x="1589" y="5193"/>
                  </a:lnTo>
                  <a:lnTo>
                    <a:pt x="1628" y="5116"/>
                  </a:lnTo>
                  <a:lnTo>
                    <a:pt x="1646" y="5076"/>
                  </a:lnTo>
                  <a:lnTo>
                    <a:pt x="1665" y="5037"/>
                  </a:lnTo>
                  <a:lnTo>
                    <a:pt x="1703" y="4958"/>
                  </a:lnTo>
                  <a:lnTo>
                    <a:pt x="1737" y="4875"/>
                  </a:lnTo>
                  <a:lnTo>
                    <a:pt x="1771" y="4793"/>
                  </a:lnTo>
                  <a:lnTo>
                    <a:pt x="1802" y="4709"/>
                  </a:lnTo>
                  <a:lnTo>
                    <a:pt x="1834" y="4624"/>
                  </a:lnTo>
                  <a:lnTo>
                    <a:pt x="1864" y="4536"/>
                  </a:lnTo>
                  <a:lnTo>
                    <a:pt x="1877" y="4492"/>
                  </a:lnTo>
                  <a:lnTo>
                    <a:pt x="1892" y="4449"/>
                  </a:lnTo>
                  <a:lnTo>
                    <a:pt x="1919" y="4359"/>
                  </a:lnTo>
                  <a:lnTo>
                    <a:pt x="1932" y="4314"/>
                  </a:lnTo>
                  <a:lnTo>
                    <a:pt x="1945" y="4270"/>
                  </a:lnTo>
                  <a:lnTo>
                    <a:pt x="1968" y="4180"/>
                  </a:lnTo>
                  <a:lnTo>
                    <a:pt x="1989" y="4092"/>
                  </a:lnTo>
                  <a:lnTo>
                    <a:pt x="2010" y="4002"/>
                  </a:lnTo>
                  <a:lnTo>
                    <a:pt x="2030" y="3914"/>
                  </a:lnTo>
                  <a:lnTo>
                    <a:pt x="2064" y="3733"/>
                  </a:lnTo>
                  <a:lnTo>
                    <a:pt x="2080" y="3641"/>
                  </a:lnTo>
                  <a:lnTo>
                    <a:pt x="2095" y="3550"/>
                  </a:lnTo>
                  <a:lnTo>
                    <a:pt x="2106" y="3457"/>
                  </a:lnTo>
                  <a:lnTo>
                    <a:pt x="2118" y="3365"/>
                  </a:lnTo>
                  <a:lnTo>
                    <a:pt x="2122" y="3318"/>
                  </a:lnTo>
                  <a:lnTo>
                    <a:pt x="2124" y="3294"/>
                  </a:lnTo>
                  <a:lnTo>
                    <a:pt x="2128" y="3271"/>
                  </a:lnTo>
                  <a:lnTo>
                    <a:pt x="2137" y="3178"/>
                  </a:lnTo>
                  <a:lnTo>
                    <a:pt x="2144" y="3083"/>
                  </a:lnTo>
                  <a:lnTo>
                    <a:pt x="2146" y="3035"/>
                  </a:lnTo>
                  <a:lnTo>
                    <a:pt x="2146" y="3023"/>
                  </a:lnTo>
                  <a:lnTo>
                    <a:pt x="2147" y="3012"/>
                  </a:lnTo>
                  <a:lnTo>
                    <a:pt x="2149" y="2989"/>
                  </a:lnTo>
                  <a:lnTo>
                    <a:pt x="2154" y="2894"/>
                  </a:lnTo>
                  <a:lnTo>
                    <a:pt x="2157" y="2798"/>
                  </a:lnTo>
                  <a:lnTo>
                    <a:pt x="2157" y="2607"/>
                  </a:lnTo>
                  <a:lnTo>
                    <a:pt x="2153" y="2419"/>
                  </a:lnTo>
                  <a:lnTo>
                    <a:pt x="2148" y="2323"/>
                  </a:lnTo>
                  <a:lnTo>
                    <a:pt x="2142" y="2231"/>
                  </a:lnTo>
                  <a:lnTo>
                    <a:pt x="2136" y="2138"/>
                  </a:lnTo>
                  <a:lnTo>
                    <a:pt x="2128" y="2046"/>
                  </a:lnTo>
                  <a:lnTo>
                    <a:pt x="2118" y="1953"/>
                  </a:lnTo>
                  <a:lnTo>
                    <a:pt x="2106" y="1861"/>
                  </a:lnTo>
                  <a:lnTo>
                    <a:pt x="2094" y="1769"/>
                  </a:lnTo>
                  <a:lnTo>
                    <a:pt x="2080" y="1678"/>
                  </a:lnTo>
                  <a:lnTo>
                    <a:pt x="2064" y="1588"/>
                  </a:lnTo>
                  <a:lnTo>
                    <a:pt x="2047" y="1497"/>
                  </a:lnTo>
                  <a:lnTo>
                    <a:pt x="2011" y="1319"/>
                  </a:lnTo>
                  <a:lnTo>
                    <a:pt x="1988" y="1226"/>
                  </a:lnTo>
                  <a:lnTo>
                    <a:pt x="1966" y="1135"/>
                  </a:lnTo>
                  <a:lnTo>
                    <a:pt x="1942" y="1046"/>
                  </a:lnTo>
                  <a:lnTo>
                    <a:pt x="1917" y="959"/>
                  </a:lnTo>
                  <a:lnTo>
                    <a:pt x="1890" y="871"/>
                  </a:lnTo>
                  <a:lnTo>
                    <a:pt x="1862" y="786"/>
                  </a:lnTo>
                  <a:lnTo>
                    <a:pt x="1833" y="701"/>
                  </a:lnTo>
                  <a:lnTo>
                    <a:pt x="1804" y="620"/>
                  </a:lnTo>
                  <a:lnTo>
                    <a:pt x="1771" y="537"/>
                  </a:lnTo>
                  <a:lnTo>
                    <a:pt x="1738" y="456"/>
                  </a:lnTo>
                  <a:lnTo>
                    <a:pt x="1704" y="376"/>
                  </a:lnTo>
                  <a:lnTo>
                    <a:pt x="1669" y="299"/>
                  </a:lnTo>
                  <a:lnTo>
                    <a:pt x="1631" y="222"/>
                  </a:lnTo>
                  <a:lnTo>
                    <a:pt x="1593" y="147"/>
                  </a:lnTo>
                  <a:lnTo>
                    <a:pt x="1553" y="72"/>
                  </a:lnTo>
                  <a:lnTo>
                    <a:pt x="1513" y="0"/>
                  </a:lnTo>
                  <a:lnTo>
                    <a:pt x="1486" y="48"/>
                  </a:lnTo>
                  <a:lnTo>
                    <a:pt x="1461" y="98"/>
                  </a:lnTo>
                  <a:lnTo>
                    <a:pt x="1436" y="147"/>
                  </a:lnTo>
                  <a:lnTo>
                    <a:pt x="1414" y="197"/>
                  </a:lnTo>
                  <a:lnTo>
                    <a:pt x="1369" y="291"/>
                  </a:lnTo>
                  <a:lnTo>
                    <a:pt x="1330" y="384"/>
                  </a:lnTo>
                  <a:lnTo>
                    <a:pt x="1292" y="472"/>
                  </a:lnTo>
                  <a:lnTo>
                    <a:pt x="1275" y="515"/>
                  </a:lnTo>
                  <a:lnTo>
                    <a:pt x="1261" y="560"/>
                  </a:lnTo>
                  <a:lnTo>
                    <a:pt x="1245" y="600"/>
                  </a:lnTo>
                  <a:lnTo>
                    <a:pt x="1231" y="642"/>
                  </a:lnTo>
                  <a:lnTo>
                    <a:pt x="1217" y="683"/>
                  </a:lnTo>
                  <a:lnTo>
                    <a:pt x="1206" y="725"/>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Click to edit the title text format</a:t>
            </a:r>
            <a:endParaRPr b="0" lang="en-US" sz="3600" spc="-1" strike="noStrike">
              <a:solidFill>
                <a:srgbClr val="e8b500"/>
              </a:solidFill>
              <a:latin typeface="Arial Narrow"/>
            </a:endParaRPr>
          </a:p>
        </p:txBody>
      </p:sp>
      <p:sp>
        <p:nvSpPr>
          <p:cNvPr id="6" name="PlaceHolder 2"/>
          <p:cNvSpPr>
            <a:spLocks noGrp="1"/>
          </p:cNvSpPr>
          <p:nvPr>
            <p:ph type="body"/>
          </p:nvPr>
        </p:nvSpPr>
        <p:spPr>
          <a:xfrm>
            <a:off x="980640" y="1682280"/>
            <a:ext cx="7923240" cy="3961080"/>
          </a:xfrm>
          <a:prstGeom prst="rect">
            <a:avLst/>
          </a:prstGeom>
          <a:noFill/>
          <a:ln w="0">
            <a:noFill/>
          </a:ln>
        </p:spPr>
        <p:txBody>
          <a:bodyPr lIns="92160" rIns="92160" tIns="46080" bIns="46080" anchor="t">
            <a:normAutofit/>
          </a:bodyPr>
          <a:p>
            <a:pPr marL="343080" indent="-343080">
              <a:spcBef>
                <a:spcPts val="700"/>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7" name="logo" descr=""/>
          <p:cNvPicPr/>
          <p:nvPr/>
        </p:nvPicPr>
        <p:blipFill>
          <a:blip r:embed="rId2"/>
          <a:stretch/>
        </p:blipFill>
        <p:spPr>
          <a:xfrm>
            <a:off x="7350120" y="6210360"/>
            <a:ext cx="146052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grpSp>
        <p:nvGrpSpPr>
          <p:cNvPr id="44" name=""/>
          <p:cNvGrpSpPr/>
          <p:nvPr/>
        </p:nvGrpSpPr>
        <p:grpSpPr>
          <a:xfrm>
            <a:off x="158760" y="1230480"/>
            <a:ext cx="4922280" cy="5388840"/>
            <a:chOff x="158760" y="1230480"/>
            <a:chExt cx="4922280" cy="5388840"/>
          </a:xfrm>
        </p:grpSpPr>
        <p:sp>
          <p:nvSpPr>
            <p:cNvPr id="45" name=""/>
            <p:cNvSpPr/>
            <p:nvPr/>
          </p:nvSpPr>
          <p:spPr>
            <a:xfrm>
              <a:off x="1856160" y="1230480"/>
              <a:ext cx="3224880" cy="5385600"/>
            </a:xfrm>
            <a:custGeom>
              <a:avLst/>
              <a:gdLst/>
              <a:ahLst/>
              <a:rect l="l" t="t" r="r" b="b"/>
              <a:pathLst>
                <a:path w="4559" h="7616">
                  <a:moveTo>
                    <a:pt x="3327" y="436"/>
                  </a:moveTo>
                  <a:lnTo>
                    <a:pt x="3283" y="396"/>
                  </a:lnTo>
                  <a:lnTo>
                    <a:pt x="3240" y="360"/>
                  </a:lnTo>
                  <a:lnTo>
                    <a:pt x="3195" y="324"/>
                  </a:lnTo>
                  <a:lnTo>
                    <a:pt x="3150" y="293"/>
                  </a:lnTo>
                  <a:lnTo>
                    <a:pt x="3103" y="261"/>
                  </a:lnTo>
                  <a:lnTo>
                    <a:pt x="3056" y="233"/>
                  </a:lnTo>
                  <a:lnTo>
                    <a:pt x="3008" y="204"/>
                  </a:lnTo>
                  <a:lnTo>
                    <a:pt x="2960" y="179"/>
                  </a:lnTo>
                  <a:lnTo>
                    <a:pt x="2909" y="153"/>
                  </a:lnTo>
                  <a:lnTo>
                    <a:pt x="2859" y="132"/>
                  </a:lnTo>
                  <a:lnTo>
                    <a:pt x="2807" y="110"/>
                  </a:lnTo>
                  <a:lnTo>
                    <a:pt x="2756" y="92"/>
                  </a:lnTo>
                  <a:lnTo>
                    <a:pt x="2701" y="74"/>
                  </a:lnTo>
                  <a:lnTo>
                    <a:pt x="2648" y="59"/>
                  </a:lnTo>
                  <a:lnTo>
                    <a:pt x="2594" y="44"/>
                  </a:lnTo>
                  <a:lnTo>
                    <a:pt x="2539" y="33"/>
                  </a:lnTo>
                  <a:lnTo>
                    <a:pt x="2479" y="21"/>
                  </a:lnTo>
                  <a:lnTo>
                    <a:pt x="2420" y="13"/>
                  </a:lnTo>
                  <a:lnTo>
                    <a:pt x="2363" y="6"/>
                  </a:lnTo>
                  <a:lnTo>
                    <a:pt x="2306" y="2"/>
                  </a:lnTo>
                  <a:lnTo>
                    <a:pt x="2249" y="0"/>
                  </a:lnTo>
                  <a:lnTo>
                    <a:pt x="2194" y="1"/>
                  </a:lnTo>
                  <a:lnTo>
                    <a:pt x="2138" y="5"/>
                  </a:lnTo>
                  <a:lnTo>
                    <a:pt x="2085" y="10"/>
                  </a:lnTo>
                  <a:lnTo>
                    <a:pt x="2030" y="18"/>
                  </a:lnTo>
                  <a:lnTo>
                    <a:pt x="1978" y="29"/>
                  </a:lnTo>
                  <a:lnTo>
                    <a:pt x="1926" y="41"/>
                  </a:lnTo>
                  <a:lnTo>
                    <a:pt x="1875" y="56"/>
                  </a:lnTo>
                  <a:lnTo>
                    <a:pt x="1824" y="73"/>
                  </a:lnTo>
                  <a:lnTo>
                    <a:pt x="1774" y="92"/>
                  </a:lnTo>
                  <a:lnTo>
                    <a:pt x="1725" y="114"/>
                  </a:lnTo>
                  <a:lnTo>
                    <a:pt x="1678" y="140"/>
                  </a:lnTo>
                  <a:lnTo>
                    <a:pt x="1645" y="123"/>
                  </a:lnTo>
                  <a:lnTo>
                    <a:pt x="1612" y="108"/>
                  </a:lnTo>
                  <a:lnTo>
                    <a:pt x="1578" y="93"/>
                  </a:lnTo>
                  <a:lnTo>
                    <a:pt x="1545" y="81"/>
                  </a:lnTo>
                  <a:lnTo>
                    <a:pt x="1475" y="57"/>
                  </a:lnTo>
                  <a:lnTo>
                    <a:pt x="1439" y="47"/>
                  </a:lnTo>
                  <a:lnTo>
                    <a:pt x="1404" y="39"/>
                  </a:lnTo>
                  <a:lnTo>
                    <a:pt x="1365" y="30"/>
                  </a:lnTo>
                  <a:lnTo>
                    <a:pt x="1328" y="23"/>
                  </a:lnTo>
                  <a:lnTo>
                    <a:pt x="1289" y="17"/>
                  </a:lnTo>
                  <a:lnTo>
                    <a:pt x="1250" y="14"/>
                  </a:lnTo>
                  <a:lnTo>
                    <a:pt x="1210" y="9"/>
                  </a:lnTo>
                  <a:lnTo>
                    <a:pt x="1170" y="7"/>
                  </a:lnTo>
                  <a:lnTo>
                    <a:pt x="1087" y="6"/>
                  </a:lnTo>
                  <a:lnTo>
                    <a:pt x="1419" y="287"/>
                  </a:lnTo>
                  <a:lnTo>
                    <a:pt x="1087" y="583"/>
                  </a:lnTo>
                  <a:lnTo>
                    <a:pt x="901" y="412"/>
                  </a:lnTo>
                  <a:lnTo>
                    <a:pt x="876" y="434"/>
                  </a:lnTo>
                  <a:lnTo>
                    <a:pt x="854" y="458"/>
                  </a:lnTo>
                  <a:lnTo>
                    <a:pt x="831" y="481"/>
                  </a:lnTo>
                  <a:lnTo>
                    <a:pt x="811" y="505"/>
                  </a:lnTo>
                  <a:lnTo>
                    <a:pt x="771" y="550"/>
                  </a:lnTo>
                  <a:lnTo>
                    <a:pt x="736" y="594"/>
                  </a:lnTo>
                  <a:lnTo>
                    <a:pt x="703" y="636"/>
                  </a:lnTo>
                  <a:lnTo>
                    <a:pt x="676" y="677"/>
                  </a:lnTo>
                  <a:lnTo>
                    <a:pt x="662" y="696"/>
                  </a:lnTo>
                  <a:lnTo>
                    <a:pt x="651" y="717"/>
                  </a:lnTo>
                  <a:lnTo>
                    <a:pt x="632" y="755"/>
                  </a:lnTo>
                  <a:lnTo>
                    <a:pt x="780" y="965"/>
                  </a:lnTo>
                  <a:lnTo>
                    <a:pt x="734" y="1034"/>
                  </a:lnTo>
                  <a:lnTo>
                    <a:pt x="689" y="1107"/>
                  </a:lnTo>
                  <a:lnTo>
                    <a:pt x="645" y="1179"/>
                  </a:lnTo>
                  <a:lnTo>
                    <a:pt x="604" y="1255"/>
                  </a:lnTo>
                  <a:lnTo>
                    <a:pt x="564" y="1330"/>
                  </a:lnTo>
                  <a:lnTo>
                    <a:pt x="525" y="1408"/>
                  </a:lnTo>
                  <a:lnTo>
                    <a:pt x="486" y="1486"/>
                  </a:lnTo>
                  <a:lnTo>
                    <a:pt x="451" y="1568"/>
                  </a:lnTo>
                  <a:lnTo>
                    <a:pt x="415" y="1648"/>
                  </a:lnTo>
                  <a:lnTo>
                    <a:pt x="382" y="1731"/>
                  </a:lnTo>
                  <a:lnTo>
                    <a:pt x="349" y="1815"/>
                  </a:lnTo>
                  <a:lnTo>
                    <a:pt x="319" y="1901"/>
                  </a:lnTo>
                  <a:lnTo>
                    <a:pt x="288" y="1987"/>
                  </a:lnTo>
                  <a:lnTo>
                    <a:pt x="260" y="2077"/>
                  </a:lnTo>
                  <a:lnTo>
                    <a:pt x="233" y="2167"/>
                  </a:lnTo>
                  <a:lnTo>
                    <a:pt x="208" y="2258"/>
                  </a:lnTo>
                  <a:lnTo>
                    <a:pt x="161" y="2434"/>
                  </a:lnTo>
                  <a:lnTo>
                    <a:pt x="121" y="2613"/>
                  </a:lnTo>
                  <a:lnTo>
                    <a:pt x="87" y="2793"/>
                  </a:lnTo>
                  <a:lnTo>
                    <a:pt x="60" y="2977"/>
                  </a:lnTo>
                  <a:lnTo>
                    <a:pt x="36" y="3162"/>
                  </a:lnTo>
                  <a:lnTo>
                    <a:pt x="19" y="3349"/>
                  </a:lnTo>
                  <a:lnTo>
                    <a:pt x="8" y="3538"/>
                  </a:lnTo>
                  <a:lnTo>
                    <a:pt x="2" y="3731"/>
                  </a:lnTo>
                  <a:lnTo>
                    <a:pt x="0" y="3825"/>
                  </a:lnTo>
                  <a:lnTo>
                    <a:pt x="0" y="3920"/>
                  </a:lnTo>
                  <a:lnTo>
                    <a:pt x="5" y="4108"/>
                  </a:lnTo>
                  <a:lnTo>
                    <a:pt x="15" y="4294"/>
                  </a:lnTo>
                  <a:lnTo>
                    <a:pt x="31" y="4480"/>
                  </a:lnTo>
                  <a:lnTo>
                    <a:pt x="51" y="4664"/>
                  </a:lnTo>
                  <a:lnTo>
                    <a:pt x="64" y="4755"/>
                  </a:lnTo>
                  <a:lnTo>
                    <a:pt x="78" y="4846"/>
                  </a:lnTo>
                  <a:lnTo>
                    <a:pt x="111" y="5028"/>
                  </a:lnTo>
                  <a:lnTo>
                    <a:pt x="129" y="5117"/>
                  </a:lnTo>
                  <a:lnTo>
                    <a:pt x="150" y="5208"/>
                  </a:lnTo>
                  <a:lnTo>
                    <a:pt x="170" y="5298"/>
                  </a:lnTo>
                  <a:lnTo>
                    <a:pt x="193" y="5387"/>
                  </a:lnTo>
                  <a:lnTo>
                    <a:pt x="216" y="5476"/>
                  </a:lnTo>
                  <a:lnTo>
                    <a:pt x="242" y="5564"/>
                  </a:lnTo>
                  <a:lnTo>
                    <a:pt x="268" y="5649"/>
                  </a:lnTo>
                  <a:lnTo>
                    <a:pt x="296" y="5734"/>
                  </a:lnTo>
                  <a:lnTo>
                    <a:pt x="324" y="5818"/>
                  </a:lnTo>
                  <a:lnTo>
                    <a:pt x="356" y="5901"/>
                  </a:lnTo>
                  <a:lnTo>
                    <a:pt x="387" y="5981"/>
                  </a:lnTo>
                  <a:lnTo>
                    <a:pt x="420" y="6062"/>
                  </a:lnTo>
                  <a:lnTo>
                    <a:pt x="452" y="6140"/>
                  </a:lnTo>
                  <a:lnTo>
                    <a:pt x="489" y="6218"/>
                  </a:lnTo>
                  <a:lnTo>
                    <a:pt x="525" y="6294"/>
                  </a:lnTo>
                  <a:lnTo>
                    <a:pt x="564" y="6369"/>
                  </a:lnTo>
                  <a:lnTo>
                    <a:pt x="602" y="6443"/>
                  </a:lnTo>
                  <a:lnTo>
                    <a:pt x="644" y="6516"/>
                  </a:lnTo>
                  <a:lnTo>
                    <a:pt x="685" y="6438"/>
                  </a:lnTo>
                  <a:lnTo>
                    <a:pt x="726" y="6359"/>
                  </a:lnTo>
                  <a:lnTo>
                    <a:pt x="764" y="6275"/>
                  </a:lnTo>
                  <a:lnTo>
                    <a:pt x="783" y="6232"/>
                  </a:lnTo>
                  <a:lnTo>
                    <a:pt x="804" y="6190"/>
                  </a:lnTo>
                  <a:lnTo>
                    <a:pt x="822" y="6144"/>
                  </a:lnTo>
                  <a:lnTo>
                    <a:pt x="831" y="6122"/>
                  </a:lnTo>
                  <a:lnTo>
                    <a:pt x="836" y="6110"/>
                  </a:lnTo>
                  <a:lnTo>
                    <a:pt x="838" y="6105"/>
                  </a:lnTo>
                  <a:lnTo>
                    <a:pt x="841" y="6100"/>
                  </a:lnTo>
                  <a:lnTo>
                    <a:pt x="859" y="6054"/>
                  </a:lnTo>
                  <a:lnTo>
                    <a:pt x="879" y="6008"/>
                  </a:lnTo>
                  <a:lnTo>
                    <a:pt x="915" y="5912"/>
                  </a:lnTo>
                  <a:lnTo>
                    <a:pt x="951" y="5815"/>
                  </a:lnTo>
                  <a:lnTo>
                    <a:pt x="909" y="5688"/>
                  </a:lnTo>
                  <a:lnTo>
                    <a:pt x="889" y="5623"/>
                  </a:lnTo>
                  <a:lnTo>
                    <a:pt x="871" y="5559"/>
                  </a:lnTo>
                  <a:lnTo>
                    <a:pt x="836" y="5427"/>
                  </a:lnTo>
                  <a:lnTo>
                    <a:pt x="819" y="5360"/>
                  </a:lnTo>
                  <a:lnTo>
                    <a:pt x="804" y="5294"/>
                  </a:lnTo>
                  <a:lnTo>
                    <a:pt x="788" y="5225"/>
                  </a:lnTo>
                  <a:lnTo>
                    <a:pt x="774" y="5157"/>
                  </a:lnTo>
                  <a:lnTo>
                    <a:pt x="761" y="5088"/>
                  </a:lnTo>
                  <a:lnTo>
                    <a:pt x="749" y="5019"/>
                  </a:lnTo>
                  <a:lnTo>
                    <a:pt x="737" y="4947"/>
                  </a:lnTo>
                  <a:lnTo>
                    <a:pt x="727" y="4876"/>
                  </a:lnTo>
                  <a:lnTo>
                    <a:pt x="717" y="4803"/>
                  </a:lnTo>
                  <a:lnTo>
                    <a:pt x="709" y="4732"/>
                  </a:lnTo>
                  <a:lnTo>
                    <a:pt x="692" y="4583"/>
                  </a:lnTo>
                  <a:lnTo>
                    <a:pt x="679" y="4434"/>
                  </a:lnTo>
                  <a:lnTo>
                    <a:pt x="669" y="4280"/>
                  </a:lnTo>
                  <a:lnTo>
                    <a:pt x="663" y="4124"/>
                  </a:lnTo>
                  <a:lnTo>
                    <a:pt x="660" y="4044"/>
                  </a:lnTo>
                  <a:lnTo>
                    <a:pt x="659" y="3964"/>
                  </a:lnTo>
                  <a:lnTo>
                    <a:pt x="658" y="3884"/>
                  </a:lnTo>
                  <a:lnTo>
                    <a:pt x="659" y="3805"/>
                  </a:lnTo>
                  <a:lnTo>
                    <a:pt x="659" y="3722"/>
                  </a:lnTo>
                  <a:lnTo>
                    <a:pt x="661" y="3640"/>
                  </a:lnTo>
                  <a:lnTo>
                    <a:pt x="663" y="3558"/>
                  </a:lnTo>
                  <a:lnTo>
                    <a:pt x="668" y="3475"/>
                  </a:lnTo>
                  <a:lnTo>
                    <a:pt x="678" y="3331"/>
                  </a:lnTo>
                  <a:lnTo>
                    <a:pt x="690" y="3189"/>
                  </a:lnTo>
                  <a:lnTo>
                    <a:pt x="705" y="3050"/>
                  </a:lnTo>
                  <a:lnTo>
                    <a:pt x="724" y="2912"/>
                  </a:lnTo>
                  <a:lnTo>
                    <a:pt x="744" y="2778"/>
                  </a:lnTo>
                  <a:lnTo>
                    <a:pt x="768" y="2645"/>
                  </a:lnTo>
                  <a:lnTo>
                    <a:pt x="794" y="2515"/>
                  </a:lnTo>
                  <a:lnTo>
                    <a:pt x="823" y="2389"/>
                  </a:lnTo>
                  <a:lnTo>
                    <a:pt x="854" y="2263"/>
                  </a:lnTo>
                  <a:lnTo>
                    <a:pt x="887" y="2139"/>
                  </a:lnTo>
                  <a:lnTo>
                    <a:pt x="923" y="2018"/>
                  </a:lnTo>
                  <a:lnTo>
                    <a:pt x="963" y="1901"/>
                  </a:lnTo>
                  <a:lnTo>
                    <a:pt x="1003" y="1785"/>
                  </a:lnTo>
                  <a:lnTo>
                    <a:pt x="1048" y="1670"/>
                  </a:lnTo>
                  <a:lnTo>
                    <a:pt x="1094" y="1558"/>
                  </a:lnTo>
                  <a:lnTo>
                    <a:pt x="1144" y="1450"/>
                  </a:lnTo>
                  <a:lnTo>
                    <a:pt x="1195" y="1342"/>
                  </a:lnTo>
                  <a:lnTo>
                    <a:pt x="1249" y="1237"/>
                  </a:lnTo>
                  <a:lnTo>
                    <a:pt x="1306" y="1134"/>
                  </a:lnTo>
                  <a:lnTo>
                    <a:pt x="1366" y="1033"/>
                  </a:lnTo>
                  <a:lnTo>
                    <a:pt x="1427" y="934"/>
                  </a:lnTo>
                  <a:lnTo>
                    <a:pt x="1492" y="838"/>
                  </a:lnTo>
                  <a:lnTo>
                    <a:pt x="1559" y="744"/>
                  </a:lnTo>
                  <a:lnTo>
                    <a:pt x="1629" y="654"/>
                  </a:lnTo>
                  <a:lnTo>
                    <a:pt x="1701" y="565"/>
                  </a:lnTo>
                  <a:lnTo>
                    <a:pt x="1775" y="477"/>
                  </a:lnTo>
                  <a:lnTo>
                    <a:pt x="1854" y="392"/>
                  </a:lnTo>
                  <a:lnTo>
                    <a:pt x="1934" y="312"/>
                  </a:lnTo>
                  <a:lnTo>
                    <a:pt x="2017" y="231"/>
                  </a:lnTo>
                  <a:lnTo>
                    <a:pt x="2102" y="153"/>
                  </a:lnTo>
                  <a:lnTo>
                    <a:pt x="2189" y="77"/>
                  </a:lnTo>
                  <a:lnTo>
                    <a:pt x="2281" y="6"/>
                  </a:lnTo>
                  <a:lnTo>
                    <a:pt x="2293" y="17"/>
                  </a:lnTo>
                  <a:lnTo>
                    <a:pt x="2398" y="105"/>
                  </a:lnTo>
                  <a:lnTo>
                    <a:pt x="2500" y="194"/>
                  </a:lnTo>
                  <a:lnTo>
                    <a:pt x="2548" y="239"/>
                  </a:lnTo>
                  <a:lnTo>
                    <a:pt x="2598" y="287"/>
                  </a:lnTo>
                  <a:lnTo>
                    <a:pt x="2694" y="383"/>
                  </a:lnTo>
                  <a:lnTo>
                    <a:pt x="2739" y="431"/>
                  </a:lnTo>
                  <a:lnTo>
                    <a:pt x="2784" y="481"/>
                  </a:lnTo>
                  <a:lnTo>
                    <a:pt x="2871" y="582"/>
                  </a:lnTo>
                  <a:lnTo>
                    <a:pt x="2955" y="685"/>
                  </a:lnTo>
                  <a:lnTo>
                    <a:pt x="2996" y="737"/>
                  </a:lnTo>
                  <a:lnTo>
                    <a:pt x="3037" y="791"/>
                  </a:lnTo>
                  <a:lnTo>
                    <a:pt x="3113" y="899"/>
                  </a:lnTo>
                  <a:lnTo>
                    <a:pt x="3149" y="954"/>
                  </a:lnTo>
                  <a:lnTo>
                    <a:pt x="3187" y="1010"/>
                  </a:lnTo>
                  <a:lnTo>
                    <a:pt x="3256" y="1125"/>
                  </a:lnTo>
                  <a:lnTo>
                    <a:pt x="3323" y="1242"/>
                  </a:lnTo>
                  <a:lnTo>
                    <a:pt x="3385" y="1361"/>
                  </a:lnTo>
                  <a:lnTo>
                    <a:pt x="3444" y="1482"/>
                  </a:lnTo>
                  <a:lnTo>
                    <a:pt x="3499" y="1605"/>
                  </a:lnTo>
                  <a:lnTo>
                    <a:pt x="3553" y="1734"/>
                  </a:lnTo>
                  <a:lnTo>
                    <a:pt x="3595" y="1846"/>
                  </a:lnTo>
                  <a:lnTo>
                    <a:pt x="3636" y="1963"/>
                  </a:lnTo>
                  <a:lnTo>
                    <a:pt x="3673" y="2082"/>
                  </a:lnTo>
                  <a:lnTo>
                    <a:pt x="3708" y="2203"/>
                  </a:lnTo>
                  <a:lnTo>
                    <a:pt x="3739" y="2326"/>
                  </a:lnTo>
                  <a:lnTo>
                    <a:pt x="3769" y="2452"/>
                  </a:lnTo>
                  <a:lnTo>
                    <a:pt x="3795" y="2580"/>
                  </a:lnTo>
                  <a:lnTo>
                    <a:pt x="3808" y="2645"/>
                  </a:lnTo>
                  <a:lnTo>
                    <a:pt x="3820" y="2712"/>
                  </a:lnTo>
                  <a:lnTo>
                    <a:pt x="3841" y="2844"/>
                  </a:lnTo>
                  <a:lnTo>
                    <a:pt x="3860" y="2979"/>
                  </a:lnTo>
                  <a:lnTo>
                    <a:pt x="3875" y="3117"/>
                  </a:lnTo>
                  <a:lnTo>
                    <a:pt x="3889" y="3258"/>
                  </a:lnTo>
                  <a:lnTo>
                    <a:pt x="3900" y="3400"/>
                  </a:lnTo>
                  <a:lnTo>
                    <a:pt x="3908" y="3546"/>
                  </a:lnTo>
                  <a:lnTo>
                    <a:pt x="3910" y="3619"/>
                  </a:lnTo>
                  <a:lnTo>
                    <a:pt x="3913" y="3694"/>
                  </a:lnTo>
                  <a:lnTo>
                    <a:pt x="3917" y="3844"/>
                  </a:lnTo>
                  <a:lnTo>
                    <a:pt x="3916" y="3861"/>
                  </a:lnTo>
                  <a:lnTo>
                    <a:pt x="3916" y="3879"/>
                  </a:lnTo>
                  <a:lnTo>
                    <a:pt x="3916" y="3916"/>
                  </a:lnTo>
                  <a:lnTo>
                    <a:pt x="3914" y="3988"/>
                  </a:lnTo>
                  <a:lnTo>
                    <a:pt x="3912" y="4060"/>
                  </a:lnTo>
                  <a:lnTo>
                    <a:pt x="3911" y="4132"/>
                  </a:lnTo>
                  <a:lnTo>
                    <a:pt x="3906" y="4201"/>
                  </a:lnTo>
                  <a:lnTo>
                    <a:pt x="3903" y="4272"/>
                  </a:lnTo>
                  <a:lnTo>
                    <a:pt x="3899" y="4341"/>
                  </a:lnTo>
                  <a:lnTo>
                    <a:pt x="3895" y="4411"/>
                  </a:lnTo>
                  <a:lnTo>
                    <a:pt x="3883" y="4547"/>
                  </a:lnTo>
                  <a:lnTo>
                    <a:pt x="3876" y="4614"/>
                  </a:lnTo>
                  <a:lnTo>
                    <a:pt x="3869" y="4682"/>
                  </a:lnTo>
                  <a:lnTo>
                    <a:pt x="3860" y="4748"/>
                  </a:lnTo>
                  <a:lnTo>
                    <a:pt x="3855" y="4781"/>
                  </a:lnTo>
                  <a:lnTo>
                    <a:pt x="3852" y="4815"/>
                  </a:lnTo>
                  <a:lnTo>
                    <a:pt x="3843" y="4879"/>
                  </a:lnTo>
                  <a:lnTo>
                    <a:pt x="3834" y="4945"/>
                  </a:lnTo>
                  <a:lnTo>
                    <a:pt x="3810" y="5072"/>
                  </a:lnTo>
                  <a:lnTo>
                    <a:pt x="3803" y="5103"/>
                  </a:lnTo>
                  <a:lnTo>
                    <a:pt x="3798" y="5134"/>
                  </a:lnTo>
                  <a:lnTo>
                    <a:pt x="3786" y="5198"/>
                  </a:lnTo>
                  <a:lnTo>
                    <a:pt x="3772" y="5259"/>
                  </a:lnTo>
                  <a:lnTo>
                    <a:pt x="3758" y="5321"/>
                  </a:lnTo>
                  <a:lnTo>
                    <a:pt x="3750" y="5351"/>
                  </a:lnTo>
                  <a:lnTo>
                    <a:pt x="3743" y="5381"/>
                  </a:lnTo>
                  <a:lnTo>
                    <a:pt x="3730" y="5443"/>
                  </a:lnTo>
                  <a:lnTo>
                    <a:pt x="3713" y="5502"/>
                  </a:lnTo>
                  <a:lnTo>
                    <a:pt x="3697" y="5562"/>
                  </a:lnTo>
                  <a:lnTo>
                    <a:pt x="3688" y="5590"/>
                  </a:lnTo>
                  <a:lnTo>
                    <a:pt x="3680" y="5620"/>
                  </a:lnTo>
                  <a:lnTo>
                    <a:pt x="3663" y="5678"/>
                  </a:lnTo>
                  <a:lnTo>
                    <a:pt x="3643" y="5735"/>
                  </a:lnTo>
                  <a:lnTo>
                    <a:pt x="3625" y="5793"/>
                  </a:lnTo>
                  <a:lnTo>
                    <a:pt x="3606" y="5850"/>
                  </a:lnTo>
                  <a:lnTo>
                    <a:pt x="3600" y="5863"/>
                  </a:lnTo>
                  <a:lnTo>
                    <a:pt x="3596" y="5878"/>
                  </a:lnTo>
                  <a:lnTo>
                    <a:pt x="3587" y="5907"/>
                  </a:lnTo>
                  <a:lnTo>
                    <a:pt x="3562" y="5969"/>
                  </a:lnTo>
                  <a:lnTo>
                    <a:pt x="3555" y="5983"/>
                  </a:lnTo>
                  <a:lnTo>
                    <a:pt x="3549" y="5999"/>
                  </a:lnTo>
                  <a:lnTo>
                    <a:pt x="3538" y="6031"/>
                  </a:lnTo>
                  <a:lnTo>
                    <a:pt x="3524" y="6061"/>
                  </a:lnTo>
                  <a:lnTo>
                    <a:pt x="3518" y="6075"/>
                  </a:lnTo>
                  <a:lnTo>
                    <a:pt x="3512" y="6091"/>
                  </a:lnTo>
                  <a:lnTo>
                    <a:pt x="3487" y="6152"/>
                  </a:lnTo>
                  <a:lnTo>
                    <a:pt x="3459" y="6211"/>
                  </a:lnTo>
                  <a:lnTo>
                    <a:pt x="3431" y="6271"/>
                  </a:lnTo>
                  <a:lnTo>
                    <a:pt x="3402" y="6329"/>
                  </a:lnTo>
                  <a:lnTo>
                    <a:pt x="3374" y="6388"/>
                  </a:lnTo>
                  <a:lnTo>
                    <a:pt x="3342" y="6445"/>
                  </a:lnTo>
                  <a:lnTo>
                    <a:pt x="3326" y="6473"/>
                  </a:lnTo>
                  <a:lnTo>
                    <a:pt x="3311" y="6503"/>
                  </a:lnTo>
                  <a:lnTo>
                    <a:pt x="3294" y="6530"/>
                  </a:lnTo>
                  <a:lnTo>
                    <a:pt x="3278" y="6558"/>
                  </a:lnTo>
                  <a:lnTo>
                    <a:pt x="3247" y="6615"/>
                  </a:lnTo>
                  <a:lnTo>
                    <a:pt x="3212" y="6669"/>
                  </a:lnTo>
                  <a:lnTo>
                    <a:pt x="3178" y="6725"/>
                  </a:lnTo>
                  <a:lnTo>
                    <a:pt x="3159" y="6751"/>
                  </a:lnTo>
                  <a:lnTo>
                    <a:pt x="3142" y="6778"/>
                  </a:lnTo>
                  <a:lnTo>
                    <a:pt x="3107" y="6833"/>
                  </a:lnTo>
                  <a:lnTo>
                    <a:pt x="3069" y="6885"/>
                  </a:lnTo>
                  <a:lnTo>
                    <a:pt x="3031" y="6937"/>
                  </a:lnTo>
                  <a:lnTo>
                    <a:pt x="3011" y="6962"/>
                  </a:lnTo>
                  <a:lnTo>
                    <a:pt x="3001" y="6974"/>
                  </a:lnTo>
                  <a:lnTo>
                    <a:pt x="2992" y="6988"/>
                  </a:lnTo>
                  <a:lnTo>
                    <a:pt x="2953" y="7040"/>
                  </a:lnTo>
                  <a:lnTo>
                    <a:pt x="2912" y="7090"/>
                  </a:lnTo>
                  <a:lnTo>
                    <a:pt x="2871" y="7141"/>
                  </a:lnTo>
                  <a:lnTo>
                    <a:pt x="2860" y="7152"/>
                  </a:lnTo>
                  <a:lnTo>
                    <a:pt x="2850" y="7165"/>
                  </a:lnTo>
                  <a:lnTo>
                    <a:pt x="2830" y="7190"/>
                  </a:lnTo>
                  <a:lnTo>
                    <a:pt x="2788" y="7239"/>
                  </a:lnTo>
                  <a:lnTo>
                    <a:pt x="2743" y="7287"/>
                  </a:lnTo>
                  <a:lnTo>
                    <a:pt x="2721" y="7311"/>
                  </a:lnTo>
                  <a:lnTo>
                    <a:pt x="2699" y="7336"/>
                  </a:lnTo>
                  <a:lnTo>
                    <a:pt x="2654" y="7382"/>
                  </a:lnTo>
                  <a:lnTo>
                    <a:pt x="2608" y="7430"/>
                  </a:lnTo>
                  <a:lnTo>
                    <a:pt x="2561" y="7475"/>
                  </a:lnTo>
                  <a:lnTo>
                    <a:pt x="2513" y="7522"/>
                  </a:lnTo>
                  <a:lnTo>
                    <a:pt x="2488" y="7543"/>
                  </a:lnTo>
                  <a:lnTo>
                    <a:pt x="2465" y="7566"/>
                  </a:lnTo>
                  <a:lnTo>
                    <a:pt x="2416" y="7611"/>
                  </a:lnTo>
                  <a:lnTo>
                    <a:pt x="2444" y="7611"/>
                  </a:lnTo>
                  <a:lnTo>
                    <a:pt x="2458" y="7611"/>
                  </a:lnTo>
                  <a:lnTo>
                    <a:pt x="2465" y="7611"/>
                  </a:lnTo>
                  <a:lnTo>
                    <a:pt x="2468" y="7611"/>
                  </a:lnTo>
                  <a:lnTo>
                    <a:pt x="2472" y="7612"/>
                  </a:lnTo>
                  <a:lnTo>
                    <a:pt x="2526" y="7615"/>
                  </a:lnTo>
                  <a:lnTo>
                    <a:pt x="2574" y="7615"/>
                  </a:lnTo>
                  <a:lnTo>
                    <a:pt x="2597" y="7615"/>
                  </a:lnTo>
                  <a:lnTo>
                    <a:pt x="2608" y="7615"/>
                  </a:lnTo>
                  <a:lnTo>
                    <a:pt x="2614" y="7615"/>
                  </a:lnTo>
                  <a:lnTo>
                    <a:pt x="2621" y="7616"/>
                  </a:lnTo>
                  <a:lnTo>
                    <a:pt x="2641" y="7615"/>
                  </a:lnTo>
                  <a:lnTo>
                    <a:pt x="2662" y="7615"/>
                  </a:lnTo>
                  <a:lnTo>
                    <a:pt x="2671" y="7614"/>
                  </a:lnTo>
                  <a:lnTo>
                    <a:pt x="2681" y="7614"/>
                  </a:lnTo>
                  <a:lnTo>
                    <a:pt x="2700" y="7614"/>
                  </a:lnTo>
                  <a:lnTo>
                    <a:pt x="2734" y="7611"/>
                  </a:lnTo>
                  <a:lnTo>
                    <a:pt x="2765" y="7609"/>
                  </a:lnTo>
                  <a:lnTo>
                    <a:pt x="2786" y="7605"/>
                  </a:lnTo>
                  <a:lnTo>
                    <a:pt x="2809" y="7601"/>
                  </a:lnTo>
                  <a:lnTo>
                    <a:pt x="2814" y="7599"/>
                  </a:lnTo>
                  <a:lnTo>
                    <a:pt x="2816" y="7598"/>
                  </a:lnTo>
                  <a:lnTo>
                    <a:pt x="2819" y="7598"/>
                  </a:lnTo>
                  <a:lnTo>
                    <a:pt x="2831" y="7595"/>
                  </a:lnTo>
                  <a:lnTo>
                    <a:pt x="2853" y="7591"/>
                  </a:lnTo>
                  <a:lnTo>
                    <a:pt x="2874" y="7584"/>
                  </a:lnTo>
                  <a:lnTo>
                    <a:pt x="2878" y="7582"/>
                  </a:lnTo>
                  <a:lnTo>
                    <a:pt x="2881" y="7581"/>
                  </a:lnTo>
                  <a:lnTo>
                    <a:pt x="2884" y="7581"/>
                  </a:lnTo>
                  <a:lnTo>
                    <a:pt x="2895" y="7578"/>
                  </a:lnTo>
                  <a:lnTo>
                    <a:pt x="2915" y="7572"/>
                  </a:lnTo>
                  <a:lnTo>
                    <a:pt x="2935" y="7566"/>
                  </a:lnTo>
                  <a:lnTo>
                    <a:pt x="2952" y="7557"/>
                  </a:lnTo>
                  <a:lnTo>
                    <a:pt x="2970" y="7549"/>
                  </a:lnTo>
                  <a:lnTo>
                    <a:pt x="2987" y="7540"/>
                  </a:lnTo>
                  <a:lnTo>
                    <a:pt x="3005" y="7531"/>
                  </a:lnTo>
                  <a:lnTo>
                    <a:pt x="3021" y="7519"/>
                  </a:lnTo>
                  <a:lnTo>
                    <a:pt x="3022" y="7517"/>
                  </a:lnTo>
                  <a:lnTo>
                    <a:pt x="3025" y="7516"/>
                  </a:lnTo>
                  <a:lnTo>
                    <a:pt x="3029" y="7514"/>
                  </a:lnTo>
                  <a:lnTo>
                    <a:pt x="3038" y="7509"/>
                  </a:lnTo>
                  <a:lnTo>
                    <a:pt x="3053" y="7498"/>
                  </a:lnTo>
                  <a:lnTo>
                    <a:pt x="3069" y="7488"/>
                  </a:lnTo>
                  <a:lnTo>
                    <a:pt x="3113" y="7451"/>
                  </a:lnTo>
                  <a:lnTo>
                    <a:pt x="3158" y="7416"/>
                  </a:lnTo>
                  <a:lnTo>
                    <a:pt x="3202" y="7380"/>
                  </a:lnTo>
                  <a:lnTo>
                    <a:pt x="3247" y="7344"/>
                  </a:lnTo>
                  <a:lnTo>
                    <a:pt x="3289" y="7305"/>
                  </a:lnTo>
                  <a:lnTo>
                    <a:pt x="3332" y="7268"/>
                  </a:lnTo>
                  <a:lnTo>
                    <a:pt x="3373" y="7229"/>
                  </a:lnTo>
                  <a:lnTo>
                    <a:pt x="3414" y="7191"/>
                  </a:lnTo>
                  <a:lnTo>
                    <a:pt x="3453" y="7150"/>
                  </a:lnTo>
                  <a:lnTo>
                    <a:pt x="3493" y="7109"/>
                  </a:lnTo>
                  <a:lnTo>
                    <a:pt x="3531" y="7067"/>
                  </a:lnTo>
                  <a:lnTo>
                    <a:pt x="3570" y="7025"/>
                  </a:lnTo>
                  <a:lnTo>
                    <a:pt x="3606" y="6981"/>
                  </a:lnTo>
                  <a:lnTo>
                    <a:pt x="3643" y="6938"/>
                  </a:lnTo>
                  <a:lnTo>
                    <a:pt x="3660" y="6915"/>
                  </a:lnTo>
                  <a:lnTo>
                    <a:pt x="3679" y="6894"/>
                  </a:lnTo>
                  <a:lnTo>
                    <a:pt x="3715" y="6850"/>
                  </a:lnTo>
                  <a:lnTo>
                    <a:pt x="3748" y="6802"/>
                  </a:lnTo>
                  <a:lnTo>
                    <a:pt x="3782" y="6755"/>
                  </a:lnTo>
                  <a:lnTo>
                    <a:pt x="3815" y="6708"/>
                  </a:lnTo>
                  <a:lnTo>
                    <a:pt x="3847" y="6660"/>
                  </a:lnTo>
                  <a:lnTo>
                    <a:pt x="3878" y="6610"/>
                  </a:lnTo>
                  <a:lnTo>
                    <a:pt x="3893" y="6585"/>
                  </a:lnTo>
                  <a:lnTo>
                    <a:pt x="3909" y="6562"/>
                  </a:lnTo>
                  <a:lnTo>
                    <a:pt x="3938" y="6511"/>
                  </a:lnTo>
                  <a:lnTo>
                    <a:pt x="3969" y="6461"/>
                  </a:lnTo>
                  <a:lnTo>
                    <a:pt x="3996" y="6407"/>
                  </a:lnTo>
                  <a:lnTo>
                    <a:pt x="4024" y="6355"/>
                  </a:lnTo>
                  <a:lnTo>
                    <a:pt x="4037" y="6328"/>
                  </a:lnTo>
                  <a:lnTo>
                    <a:pt x="4050" y="6302"/>
                  </a:lnTo>
                  <a:lnTo>
                    <a:pt x="4078" y="6249"/>
                  </a:lnTo>
                  <a:lnTo>
                    <a:pt x="4103" y="6193"/>
                  </a:lnTo>
                  <a:lnTo>
                    <a:pt x="4127" y="6139"/>
                  </a:lnTo>
                  <a:lnTo>
                    <a:pt x="4139" y="6110"/>
                  </a:lnTo>
                  <a:lnTo>
                    <a:pt x="4151" y="6083"/>
                  </a:lnTo>
                  <a:lnTo>
                    <a:pt x="4176" y="6028"/>
                  </a:lnTo>
                  <a:lnTo>
                    <a:pt x="4193" y="5980"/>
                  </a:lnTo>
                  <a:lnTo>
                    <a:pt x="4211" y="5934"/>
                  </a:lnTo>
                  <a:lnTo>
                    <a:pt x="4228" y="5886"/>
                  </a:lnTo>
                  <a:lnTo>
                    <a:pt x="4247" y="5838"/>
                  </a:lnTo>
                  <a:lnTo>
                    <a:pt x="4262" y="5788"/>
                  </a:lnTo>
                  <a:lnTo>
                    <a:pt x="4270" y="5764"/>
                  </a:lnTo>
                  <a:lnTo>
                    <a:pt x="4279" y="5740"/>
                  </a:lnTo>
                  <a:lnTo>
                    <a:pt x="4311" y="5639"/>
                  </a:lnTo>
                  <a:lnTo>
                    <a:pt x="4341" y="5535"/>
                  </a:lnTo>
                  <a:lnTo>
                    <a:pt x="4354" y="5481"/>
                  </a:lnTo>
                  <a:lnTo>
                    <a:pt x="4369" y="5429"/>
                  </a:lnTo>
                  <a:lnTo>
                    <a:pt x="4381" y="5375"/>
                  </a:lnTo>
                  <a:lnTo>
                    <a:pt x="4395" y="5320"/>
                  </a:lnTo>
                  <a:lnTo>
                    <a:pt x="4420" y="5210"/>
                  </a:lnTo>
                  <a:lnTo>
                    <a:pt x="4443" y="5096"/>
                  </a:lnTo>
                  <a:lnTo>
                    <a:pt x="4453" y="5037"/>
                  </a:lnTo>
                  <a:lnTo>
                    <a:pt x="4464" y="4979"/>
                  </a:lnTo>
                  <a:lnTo>
                    <a:pt x="4473" y="4919"/>
                  </a:lnTo>
                  <a:lnTo>
                    <a:pt x="4483" y="4860"/>
                  </a:lnTo>
                  <a:lnTo>
                    <a:pt x="4502" y="4739"/>
                  </a:lnTo>
                  <a:lnTo>
                    <a:pt x="4517" y="4613"/>
                  </a:lnTo>
                  <a:lnTo>
                    <a:pt x="4524" y="4549"/>
                  </a:lnTo>
                  <a:lnTo>
                    <a:pt x="4528" y="4518"/>
                  </a:lnTo>
                  <a:lnTo>
                    <a:pt x="4532" y="4487"/>
                  </a:lnTo>
                  <a:lnTo>
                    <a:pt x="4538" y="4421"/>
                  </a:lnTo>
                  <a:lnTo>
                    <a:pt x="4545" y="4357"/>
                  </a:lnTo>
                  <a:lnTo>
                    <a:pt x="4550" y="4291"/>
                  </a:lnTo>
                  <a:lnTo>
                    <a:pt x="4557" y="4226"/>
                  </a:lnTo>
                  <a:lnTo>
                    <a:pt x="4558" y="4078"/>
                  </a:lnTo>
                  <a:lnTo>
                    <a:pt x="4559" y="3932"/>
                  </a:lnTo>
                  <a:lnTo>
                    <a:pt x="4558" y="3788"/>
                  </a:lnTo>
                  <a:lnTo>
                    <a:pt x="4555" y="3648"/>
                  </a:lnTo>
                  <a:lnTo>
                    <a:pt x="4548" y="3510"/>
                  </a:lnTo>
                  <a:lnTo>
                    <a:pt x="4540" y="3375"/>
                  </a:lnTo>
                  <a:lnTo>
                    <a:pt x="4530" y="3242"/>
                  </a:lnTo>
                  <a:lnTo>
                    <a:pt x="4523" y="3177"/>
                  </a:lnTo>
                  <a:lnTo>
                    <a:pt x="4517" y="3113"/>
                  </a:lnTo>
                  <a:lnTo>
                    <a:pt x="4503" y="2985"/>
                  </a:lnTo>
                  <a:lnTo>
                    <a:pt x="4494" y="2922"/>
                  </a:lnTo>
                  <a:lnTo>
                    <a:pt x="4486" y="2860"/>
                  </a:lnTo>
                  <a:lnTo>
                    <a:pt x="4475" y="2798"/>
                  </a:lnTo>
                  <a:lnTo>
                    <a:pt x="4466" y="2738"/>
                  </a:lnTo>
                  <a:lnTo>
                    <a:pt x="4445" y="2619"/>
                  </a:lnTo>
                  <a:lnTo>
                    <a:pt x="4432" y="2559"/>
                  </a:lnTo>
                  <a:lnTo>
                    <a:pt x="4421" y="2501"/>
                  </a:lnTo>
                  <a:lnTo>
                    <a:pt x="4395" y="2386"/>
                  </a:lnTo>
                  <a:lnTo>
                    <a:pt x="4367" y="2274"/>
                  </a:lnTo>
                  <a:lnTo>
                    <a:pt x="4352" y="2219"/>
                  </a:lnTo>
                  <a:lnTo>
                    <a:pt x="4338" y="2165"/>
                  </a:lnTo>
                  <a:lnTo>
                    <a:pt x="4299" y="2037"/>
                  </a:lnTo>
                  <a:lnTo>
                    <a:pt x="4257" y="1911"/>
                  </a:lnTo>
                  <a:lnTo>
                    <a:pt x="4234" y="1849"/>
                  </a:lnTo>
                  <a:lnTo>
                    <a:pt x="4211" y="1789"/>
                  </a:lnTo>
                  <a:lnTo>
                    <a:pt x="4164" y="1670"/>
                  </a:lnTo>
                  <a:lnTo>
                    <a:pt x="4138" y="1610"/>
                  </a:lnTo>
                  <a:lnTo>
                    <a:pt x="4112" y="1552"/>
                  </a:lnTo>
                  <a:lnTo>
                    <a:pt x="4057" y="1438"/>
                  </a:lnTo>
                  <a:lnTo>
                    <a:pt x="3998" y="1325"/>
                  </a:lnTo>
                  <a:lnTo>
                    <a:pt x="3968" y="1270"/>
                  </a:lnTo>
                  <a:lnTo>
                    <a:pt x="3938" y="1217"/>
                  </a:lnTo>
                  <a:lnTo>
                    <a:pt x="3872" y="1109"/>
                  </a:lnTo>
                  <a:lnTo>
                    <a:pt x="3838" y="1056"/>
                  </a:lnTo>
                  <a:lnTo>
                    <a:pt x="3804" y="1005"/>
                  </a:lnTo>
                  <a:lnTo>
                    <a:pt x="3732" y="904"/>
                  </a:lnTo>
                  <a:lnTo>
                    <a:pt x="3658" y="805"/>
                  </a:lnTo>
                  <a:lnTo>
                    <a:pt x="3580" y="709"/>
                  </a:lnTo>
                  <a:lnTo>
                    <a:pt x="3499" y="615"/>
                  </a:lnTo>
                  <a:lnTo>
                    <a:pt x="3414" y="523"/>
                  </a:lnTo>
                  <a:lnTo>
                    <a:pt x="3327" y="436"/>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58760" y="1233360"/>
              <a:ext cx="2464560" cy="5379480"/>
            </a:xfrm>
            <a:custGeom>
              <a:avLst/>
              <a:gdLst/>
              <a:ahLst/>
              <a:rect l="l" t="t" r="r" b="b"/>
              <a:pathLst>
                <a:path w="3486" h="7606">
                  <a:moveTo>
                    <a:pt x="3486" y="1"/>
                  </a:moveTo>
                  <a:lnTo>
                    <a:pt x="3484" y="1"/>
                  </a:lnTo>
                  <a:lnTo>
                    <a:pt x="3481" y="1"/>
                  </a:lnTo>
                  <a:lnTo>
                    <a:pt x="3398" y="2"/>
                  </a:lnTo>
                  <a:lnTo>
                    <a:pt x="3317" y="9"/>
                  </a:lnTo>
                  <a:lnTo>
                    <a:pt x="3239" y="18"/>
                  </a:lnTo>
                  <a:lnTo>
                    <a:pt x="3163" y="34"/>
                  </a:lnTo>
                  <a:lnTo>
                    <a:pt x="3089" y="52"/>
                  </a:lnTo>
                  <a:lnTo>
                    <a:pt x="3018" y="76"/>
                  </a:lnTo>
                  <a:lnTo>
                    <a:pt x="2949" y="103"/>
                  </a:lnTo>
                  <a:lnTo>
                    <a:pt x="2915" y="118"/>
                  </a:lnTo>
                  <a:lnTo>
                    <a:pt x="2883" y="135"/>
                  </a:lnTo>
                  <a:lnTo>
                    <a:pt x="2813" y="103"/>
                  </a:lnTo>
                  <a:lnTo>
                    <a:pt x="2744" y="77"/>
                  </a:lnTo>
                  <a:lnTo>
                    <a:pt x="2673" y="53"/>
                  </a:lnTo>
                  <a:lnTo>
                    <a:pt x="2638" y="43"/>
                  </a:lnTo>
                  <a:lnTo>
                    <a:pt x="2604" y="35"/>
                  </a:lnTo>
                  <a:lnTo>
                    <a:pt x="2534" y="19"/>
                  </a:lnTo>
                  <a:lnTo>
                    <a:pt x="2464" y="9"/>
                  </a:lnTo>
                  <a:lnTo>
                    <a:pt x="2427" y="4"/>
                  </a:lnTo>
                  <a:lnTo>
                    <a:pt x="2392" y="2"/>
                  </a:lnTo>
                  <a:lnTo>
                    <a:pt x="2322" y="0"/>
                  </a:lnTo>
                  <a:lnTo>
                    <a:pt x="2250" y="0"/>
                  </a:lnTo>
                  <a:lnTo>
                    <a:pt x="2178" y="5"/>
                  </a:lnTo>
                  <a:lnTo>
                    <a:pt x="2106" y="14"/>
                  </a:lnTo>
                  <a:lnTo>
                    <a:pt x="2033" y="29"/>
                  </a:lnTo>
                  <a:lnTo>
                    <a:pt x="1996" y="36"/>
                  </a:lnTo>
                  <a:lnTo>
                    <a:pt x="1959" y="45"/>
                  </a:lnTo>
                  <a:lnTo>
                    <a:pt x="1887" y="67"/>
                  </a:lnTo>
                  <a:lnTo>
                    <a:pt x="1812" y="92"/>
                  </a:lnTo>
                  <a:lnTo>
                    <a:pt x="1739" y="122"/>
                  </a:lnTo>
                  <a:lnTo>
                    <a:pt x="1673" y="151"/>
                  </a:lnTo>
                  <a:lnTo>
                    <a:pt x="1608" y="182"/>
                  </a:lnTo>
                  <a:lnTo>
                    <a:pt x="1543" y="216"/>
                  </a:lnTo>
                  <a:lnTo>
                    <a:pt x="1482" y="254"/>
                  </a:lnTo>
                  <a:lnTo>
                    <a:pt x="1420" y="292"/>
                  </a:lnTo>
                  <a:lnTo>
                    <a:pt x="1361" y="334"/>
                  </a:lnTo>
                  <a:lnTo>
                    <a:pt x="1302" y="378"/>
                  </a:lnTo>
                  <a:lnTo>
                    <a:pt x="1245" y="425"/>
                  </a:lnTo>
                  <a:lnTo>
                    <a:pt x="1187" y="474"/>
                  </a:lnTo>
                  <a:lnTo>
                    <a:pt x="1133" y="525"/>
                  </a:lnTo>
                  <a:lnTo>
                    <a:pt x="1079" y="578"/>
                  </a:lnTo>
                  <a:lnTo>
                    <a:pt x="1026" y="636"/>
                  </a:lnTo>
                  <a:lnTo>
                    <a:pt x="974" y="694"/>
                  </a:lnTo>
                  <a:lnTo>
                    <a:pt x="924" y="756"/>
                  </a:lnTo>
                  <a:lnTo>
                    <a:pt x="874" y="819"/>
                  </a:lnTo>
                  <a:lnTo>
                    <a:pt x="827" y="886"/>
                  </a:lnTo>
                  <a:lnTo>
                    <a:pt x="757" y="992"/>
                  </a:lnTo>
                  <a:lnTo>
                    <a:pt x="691" y="1099"/>
                  </a:lnTo>
                  <a:lnTo>
                    <a:pt x="627" y="1209"/>
                  </a:lnTo>
                  <a:lnTo>
                    <a:pt x="568" y="1324"/>
                  </a:lnTo>
                  <a:lnTo>
                    <a:pt x="511" y="1438"/>
                  </a:lnTo>
                  <a:lnTo>
                    <a:pt x="457" y="1555"/>
                  </a:lnTo>
                  <a:lnTo>
                    <a:pt x="406" y="1674"/>
                  </a:lnTo>
                  <a:lnTo>
                    <a:pt x="359" y="1797"/>
                  </a:lnTo>
                  <a:lnTo>
                    <a:pt x="313" y="1919"/>
                  </a:lnTo>
                  <a:lnTo>
                    <a:pt x="271" y="2045"/>
                  </a:lnTo>
                  <a:lnTo>
                    <a:pt x="232" y="2173"/>
                  </a:lnTo>
                  <a:lnTo>
                    <a:pt x="197" y="2303"/>
                  </a:lnTo>
                  <a:lnTo>
                    <a:pt x="163" y="2434"/>
                  </a:lnTo>
                  <a:lnTo>
                    <a:pt x="133" y="2569"/>
                  </a:lnTo>
                  <a:lnTo>
                    <a:pt x="106" y="2705"/>
                  </a:lnTo>
                  <a:lnTo>
                    <a:pt x="82" y="2844"/>
                  </a:lnTo>
                  <a:lnTo>
                    <a:pt x="62" y="2974"/>
                  </a:lnTo>
                  <a:lnTo>
                    <a:pt x="45" y="3107"/>
                  </a:lnTo>
                  <a:lnTo>
                    <a:pt x="30" y="3240"/>
                  </a:lnTo>
                  <a:lnTo>
                    <a:pt x="19" y="3373"/>
                  </a:lnTo>
                  <a:lnTo>
                    <a:pt x="10" y="3507"/>
                  </a:lnTo>
                  <a:lnTo>
                    <a:pt x="4" y="3642"/>
                  </a:lnTo>
                  <a:lnTo>
                    <a:pt x="0" y="3777"/>
                  </a:lnTo>
                  <a:lnTo>
                    <a:pt x="0" y="3913"/>
                  </a:lnTo>
                  <a:lnTo>
                    <a:pt x="3" y="4049"/>
                  </a:lnTo>
                  <a:lnTo>
                    <a:pt x="8" y="4186"/>
                  </a:lnTo>
                  <a:lnTo>
                    <a:pt x="16" y="4323"/>
                  </a:lnTo>
                  <a:lnTo>
                    <a:pt x="28" y="4462"/>
                  </a:lnTo>
                  <a:lnTo>
                    <a:pt x="41" y="4600"/>
                  </a:lnTo>
                  <a:lnTo>
                    <a:pt x="58" y="4739"/>
                  </a:lnTo>
                  <a:lnTo>
                    <a:pt x="78" y="4880"/>
                  </a:lnTo>
                  <a:lnTo>
                    <a:pt x="101" y="5022"/>
                  </a:lnTo>
                  <a:lnTo>
                    <a:pt x="126" y="5132"/>
                  </a:lnTo>
                  <a:lnTo>
                    <a:pt x="152" y="5242"/>
                  </a:lnTo>
                  <a:lnTo>
                    <a:pt x="180" y="5347"/>
                  </a:lnTo>
                  <a:lnTo>
                    <a:pt x="209" y="5452"/>
                  </a:lnTo>
                  <a:lnTo>
                    <a:pt x="237" y="5553"/>
                  </a:lnTo>
                  <a:lnTo>
                    <a:pt x="268" y="5653"/>
                  </a:lnTo>
                  <a:lnTo>
                    <a:pt x="300" y="5749"/>
                  </a:lnTo>
                  <a:lnTo>
                    <a:pt x="333" y="5845"/>
                  </a:lnTo>
                  <a:lnTo>
                    <a:pt x="365" y="5935"/>
                  </a:lnTo>
                  <a:lnTo>
                    <a:pt x="400" y="6025"/>
                  </a:lnTo>
                  <a:lnTo>
                    <a:pt x="435" y="6111"/>
                  </a:lnTo>
                  <a:lnTo>
                    <a:pt x="472" y="6196"/>
                  </a:lnTo>
                  <a:lnTo>
                    <a:pt x="508" y="6277"/>
                  </a:lnTo>
                  <a:lnTo>
                    <a:pt x="547" y="6356"/>
                  </a:lnTo>
                  <a:lnTo>
                    <a:pt x="587" y="6432"/>
                  </a:lnTo>
                  <a:lnTo>
                    <a:pt x="627" y="6507"/>
                  </a:lnTo>
                  <a:lnTo>
                    <a:pt x="681" y="6600"/>
                  </a:lnTo>
                  <a:lnTo>
                    <a:pt x="738" y="6690"/>
                  </a:lnTo>
                  <a:lnTo>
                    <a:pt x="796" y="6777"/>
                  </a:lnTo>
                  <a:lnTo>
                    <a:pt x="859" y="6860"/>
                  </a:lnTo>
                  <a:lnTo>
                    <a:pt x="921" y="6940"/>
                  </a:lnTo>
                  <a:lnTo>
                    <a:pt x="987" y="7017"/>
                  </a:lnTo>
                  <a:lnTo>
                    <a:pt x="1054" y="7091"/>
                  </a:lnTo>
                  <a:lnTo>
                    <a:pt x="1125" y="7162"/>
                  </a:lnTo>
                  <a:lnTo>
                    <a:pt x="1196" y="7228"/>
                  </a:lnTo>
                  <a:lnTo>
                    <a:pt x="1270" y="7292"/>
                  </a:lnTo>
                  <a:lnTo>
                    <a:pt x="1346" y="7352"/>
                  </a:lnTo>
                  <a:lnTo>
                    <a:pt x="1427" y="7410"/>
                  </a:lnTo>
                  <a:lnTo>
                    <a:pt x="1507" y="7463"/>
                  </a:lnTo>
                  <a:lnTo>
                    <a:pt x="1590" y="7514"/>
                  </a:lnTo>
                  <a:lnTo>
                    <a:pt x="1675" y="7561"/>
                  </a:lnTo>
                  <a:lnTo>
                    <a:pt x="1763" y="7606"/>
                  </a:lnTo>
                  <a:lnTo>
                    <a:pt x="2157" y="7606"/>
                  </a:lnTo>
                  <a:lnTo>
                    <a:pt x="2094" y="7554"/>
                  </a:lnTo>
                  <a:lnTo>
                    <a:pt x="2034" y="7502"/>
                  </a:lnTo>
                  <a:lnTo>
                    <a:pt x="1974" y="7448"/>
                  </a:lnTo>
                  <a:lnTo>
                    <a:pt x="1917" y="7393"/>
                  </a:lnTo>
                  <a:lnTo>
                    <a:pt x="1861" y="7335"/>
                  </a:lnTo>
                  <a:lnTo>
                    <a:pt x="1806" y="7278"/>
                  </a:lnTo>
                  <a:lnTo>
                    <a:pt x="1752" y="7217"/>
                  </a:lnTo>
                  <a:lnTo>
                    <a:pt x="1701" y="7157"/>
                  </a:lnTo>
                  <a:lnTo>
                    <a:pt x="1649" y="7094"/>
                  </a:lnTo>
                  <a:lnTo>
                    <a:pt x="1599" y="7029"/>
                  </a:lnTo>
                  <a:lnTo>
                    <a:pt x="1549" y="6964"/>
                  </a:lnTo>
                  <a:lnTo>
                    <a:pt x="1502" y="6897"/>
                  </a:lnTo>
                  <a:lnTo>
                    <a:pt x="1456" y="6828"/>
                  </a:lnTo>
                  <a:lnTo>
                    <a:pt x="1412" y="6757"/>
                  </a:lnTo>
                  <a:lnTo>
                    <a:pt x="1368" y="6686"/>
                  </a:lnTo>
                  <a:lnTo>
                    <a:pt x="1326" y="6613"/>
                  </a:lnTo>
                  <a:lnTo>
                    <a:pt x="1290" y="6552"/>
                  </a:lnTo>
                  <a:lnTo>
                    <a:pt x="1256" y="6490"/>
                  </a:lnTo>
                  <a:lnTo>
                    <a:pt x="1192" y="6360"/>
                  </a:lnTo>
                  <a:lnTo>
                    <a:pt x="1159" y="6294"/>
                  </a:lnTo>
                  <a:lnTo>
                    <a:pt x="1128" y="6226"/>
                  </a:lnTo>
                  <a:lnTo>
                    <a:pt x="1068" y="6085"/>
                  </a:lnTo>
                  <a:lnTo>
                    <a:pt x="1011" y="5938"/>
                  </a:lnTo>
                  <a:lnTo>
                    <a:pt x="955" y="5786"/>
                  </a:lnTo>
                  <a:lnTo>
                    <a:pt x="928" y="5708"/>
                  </a:lnTo>
                  <a:lnTo>
                    <a:pt x="902" y="5628"/>
                  </a:lnTo>
                  <a:lnTo>
                    <a:pt x="876" y="5547"/>
                  </a:lnTo>
                  <a:lnTo>
                    <a:pt x="852" y="5465"/>
                  </a:lnTo>
                  <a:lnTo>
                    <a:pt x="810" y="5271"/>
                  </a:lnTo>
                  <a:lnTo>
                    <a:pt x="774" y="5079"/>
                  </a:lnTo>
                  <a:lnTo>
                    <a:pt x="742" y="4889"/>
                  </a:lnTo>
                  <a:lnTo>
                    <a:pt x="717" y="4702"/>
                  </a:lnTo>
                  <a:lnTo>
                    <a:pt x="694" y="4514"/>
                  </a:lnTo>
                  <a:lnTo>
                    <a:pt x="678" y="4329"/>
                  </a:lnTo>
                  <a:lnTo>
                    <a:pt x="667" y="4145"/>
                  </a:lnTo>
                  <a:lnTo>
                    <a:pt x="661" y="3965"/>
                  </a:lnTo>
                  <a:lnTo>
                    <a:pt x="659" y="3784"/>
                  </a:lnTo>
                  <a:lnTo>
                    <a:pt x="661" y="3605"/>
                  </a:lnTo>
                  <a:lnTo>
                    <a:pt x="669" y="3427"/>
                  </a:lnTo>
                  <a:lnTo>
                    <a:pt x="683" y="3252"/>
                  </a:lnTo>
                  <a:lnTo>
                    <a:pt x="700" y="3078"/>
                  </a:lnTo>
                  <a:lnTo>
                    <a:pt x="723" y="2905"/>
                  </a:lnTo>
                  <a:lnTo>
                    <a:pt x="750" y="2734"/>
                  </a:lnTo>
                  <a:lnTo>
                    <a:pt x="784" y="2566"/>
                  </a:lnTo>
                  <a:lnTo>
                    <a:pt x="803" y="2471"/>
                  </a:lnTo>
                  <a:lnTo>
                    <a:pt x="825" y="2378"/>
                  </a:lnTo>
                  <a:lnTo>
                    <a:pt x="847" y="2286"/>
                  </a:lnTo>
                  <a:lnTo>
                    <a:pt x="872" y="2197"/>
                  </a:lnTo>
                  <a:lnTo>
                    <a:pt x="924" y="2019"/>
                  </a:lnTo>
                  <a:lnTo>
                    <a:pt x="953" y="1931"/>
                  </a:lnTo>
                  <a:lnTo>
                    <a:pt x="984" y="1846"/>
                  </a:lnTo>
                  <a:lnTo>
                    <a:pt x="1015" y="1760"/>
                  </a:lnTo>
                  <a:lnTo>
                    <a:pt x="1049" y="1676"/>
                  </a:lnTo>
                  <a:lnTo>
                    <a:pt x="1120" y="1512"/>
                  </a:lnTo>
                  <a:lnTo>
                    <a:pt x="1157" y="1430"/>
                  </a:lnTo>
                  <a:lnTo>
                    <a:pt x="1196" y="1351"/>
                  </a:lnTo>
                  <a:lnTo>
                    <a:pt x="1236" y="1273"/>
                  </a:lnTo>
                  <a:lnTo>
                    <a:pt x="1279" y="1197"/>
                  </a:lnTo>
                  <a:lnTo>
                    <a:pt x="1321" y="1120"/>
                  </a:lnTo>
                  <a:lnTo>
                    <a:pt x="1366" y="1045"/>
                  </a:lnTo>
                  <a:lnTo>
                    <a:pt x="1412" y="970"/>
                  </a:lnTo>
                  <a:lnTo>
                    <a:pt x="1461" y="898"/>
                  </a:lnTo>
                  <a:lnTo>
                    <a:pt x="1508" y="825"/>
                  </a:lnTo>
                  <a:lnTo>
                    <a:pt x="1559" y="755"/>
                  </a:lnTo>
                  <a:lnTo>
                    <a:pt x="1666" y="618"/>
                  </a:lnTo>
                  <a:lnTo>
                    <a:pt x="1719" y="550"/>
                  </a:lnTo>
                  <a:lnTo>
                    <a:pt x="1776" y="484"/>
                  </a:lnTo>
                  <a:lnTo>
                    <a:pt x="1833" y="418"/>
                  </a:lnTo>
                  <a:lnTo>
                    <a:pt x="1894" y="355"/>
                  </a:lnTo>
                  <a:lnTo>
                    <a:pt x="1954" y="291"/>
                  </a:lnTo>
                  <a:lnTo>
                    <a:pt x="2016" y="230"/>
                  </a:lnTo>
                  <a:lnTo>
                    <a:pt x="2145" y="111"/>
                  </a:lnTo>
                  <a:lnTo>
                    <a:pt x="2158" y="92"/>
                  </a:lnTo>
                  <a:lnTo>
                    <a:pt x="2171" y="75"/>
                  </a:lnTo>
                  <a:lnTo>
                    <a:pt x="2200" y="48"/>
                  </a:lnTo>
                  <a:lnTo>
                    <a:pt x="2228" y="29"/>
                  </a:lnTo>
                  <a:lnTo>
                    <a:pt x="2244" y="24"/>
                  </a:lnTo>
                  <a:lnTo>
                    <a:pt x="2260" y="20"/>
                  </a:lnTo>
                  <a:lnTo>
                    <a:pt x="2274" y="17"/>
                  </a:lnTo>
                  <a:lnTo>
                    <a:pt x="2290" y="18"/>
                  </a:lnTo>
                  <a:lnTo>
                    <a:pt x="2306" y="21"/>
                  </a:lnTo>
                  <a:lnTo>
                    <a:pt x="2324" y="27"/>
                  </a:lnTo>
                  <a:lnTo>
                    <a:pt x="2340" y="33"/>
                  </a:lnTo>
                  <a:lnTo>
                    <a:pt x="2358" y="43"/>
                  </a:lnTo>
                  <a:lnTo>
                    <a:pt x="2395" y="69"/>
                  </a:lnTo>
                  <a:lnTo>
                    <a:pt x="2403" y="75"/>
                  </a:lnTo>
                  <a:lnTo>
                    <a:pt x="2413" y="84"/>
                  </a:lnTo>
                  <a:lnTo>
                    <a:pt x="2424" y="94"/>
                  </a:lnTo>
                  <a:lnTo>
                    <a:pt x="2439" y="109"/>
                  </a:lnTo>
                  <a:lnTo>
                    <a:pt x="2454" y="123"/>
                  </a:lnTo>
                  <a:lnTo>
                    <a:pt x="2472" y="140"/>
                  </a:lnTo>
                  <a:lnTo>
                    <a:pt x="2490" y="160"/>
                  </a:lnTo>
                  <a:lnTo>
                    <a:pt x="2511" y="182"/>
                  </a:lnTo>
                  <a:lnTo>
                    <a:pt x="2527" y="199"/>
                  </a:lnTo>
                  <a:lnTo>
                    <a:pt x="2528" y="200"/>
                  </a:lnTo>
                  <a:lnTo>
                    <a:pt x="2531" y="203"/>
                  </a:lnTo>
                  <a:lnTo>
                    <a:pt x="2535" y="207"/>
                  </a:lnTo>
                  <a:lnTo>
                    <a:pt x="2544" y="216"/>
                  </a:lnTo>
                  <a:lnTo>
                    <a:pt x="2551" y="223"/>
                  </a:lnTo>
                  <a:lnTo>
                    <a:pt x="2552" y="224"/>
                  </a:lnTo>
                  <a:lnTo>
                    <a:pt x="2554" y="226"/>
                  </a:lnTo>
                  <a:lnTo>
                    <a:pt x="2559" y="231"/>
                  </a:lnTo>
                  <a:lnTo>
                    <a:pt x="2575" y="245"/>
                  </a:lnTo>
                  <a:lnTo>
                    <a:pt x="2587" y="256"/>
                  </a:lnTo>
                  <a:lnTo>
                    <a:pt x="2601" y="266"/>
                  </a:lnTo>
                  <a:lnTo>
                    <a:pt x="2612" y="274"/>
                  </a:lnTo>
                  <a:lnTo>
                    <a:pt x="2615" y="275"/>
                  </a:lnTo>
                  <a:lnTo>
                    <a:pt x="2618" y="277"/>
                  </a:lnTo>
                  <a:lnTo>
                    <a:pt x="2625" y="282"/>
                  </a:lnTo>
                  <a:lnTo>
                    <a:pt x="2561" y="329"/>
                  </a:lnTo>
                  <a:lnTo>
                    <a:pt x="2529" y="353"/>
                  </a:lnTo>
                  <a:lnTo>
                    <a:pt x="2499" y="381"/>
                  </a:lnTo>
                  <a:lnTo>
                    <a:pt x="2435" y="435"/>
                  </a:lnTo>
                  <a:lnTo>
                    <a:pt x="2404" y="463"/>
                  </a:lnTo>
                  <a:lnTo>
                    <a:pt x="2373" y="494"/>
                  </a:lnTo>
                  <a:lnTo>
                    <a:pt x="2310" y="555"/>
                  </a:lnTo>
                  <a:lnTo>
                    <a:pt x="2246" y="621"/>
                  </a:lnTo>
                  <a:lnTo>
                    <a:pt x="2183" y="689"/>
                  </a:lnTo>
                  <a:lnTo>
                    <a:pt x="2119" y="763"/>
                  </a:lnTo>
                  <a:lnTo>
                    <a:pt x="2055" y="851"/>
                  </a:lnTo>
                  <a:lnTo>
                    <a:pt x="1993" y="943"/>
                  </a:lnTo>
                  <a:lnTo>
                    <a:pt x="1933" y="1036"/>
                  </a:lnTo>
                  <a:lnTo>
                    <a:pt x="1878" y="1131"/>
                  </a:lnTo>
                  <a:lnTo>
                    <a:pt x="1822" y="1226"/>
                  </a:lnTo>
                  <a:lnTo>
                    <a:pt x="1771" y="1325"/>
                  </a:lnTo>
                  <a:lnTo>
                    <a:pt x="1720" y="1424"/>
                  </a:lnTo>
                  <a:lnTo>
                    <a:pt x="1674" y="1526"/>
                  </a:lnTo>
                  <a:lnTo>
                    <a:pt x="1627" y="1626"/>
                  </a:lnTo>
                  <a:lnTo>
                    <a:pt x="1585" y="1731"/>
                  </a:lnTo>
                  <a:lnTo>
                    <a:pt x="1543" y="1836"/>
                  </a:lnTo>
                  <a:lnTo>
                    <a:pt x="1506" y="1944"/>
                  </a:lnTo>
                  <a:lnTo>
                    <a:pt x="1468" y="2052"/>
                  </a:lnTo>
                  <a:lnTo>
                    <a:pt x="1436" y="2163"/>
                  </a:lnTo>
                  <a:lnTo>
                    <a:pt x="1404" y="2274"/>
                  </a:lnTo>
                  <a:lnTo>
                    <a:pt x="1376" y="2388"/>
                  </a:lnTo>
                  <a:lnTo>
                    <a:pt x="1347" y="2502"/>
                  </a:lnTo>
                  <a:lnTo>
                    <a:pt x="1323" y="2618"/>
                  </a:lnTo>
                  <a:lnTo>
                    <a:pt x="1301" y="2735"/>
                  </a:lnTo>
                  <a:lnTo>
                    <a:pt x="1281" y="2855"/>
                  </a:lnTo>
                  <a:lnTo>
                    <a:pt x="1262" y="2975"/>
                  </a:lnTo>
                  <a:lnTo>
                    <a:pt x="1247" y="3098"/>
                  </a:lnTo>
                  <a:lnTo>
                    <a:pt x="1235" y="3221"/>
                  </a:lnTo>
                  <a:lnTo>
                    <a:pt x="1225" y="3347"/>
                  </a:lnTo>
                  <a:lnTo>
                    <a:pt x="1215" y="3473"/>
                  </a:lnTo>
                  <a:lnTo>
                    <a:pt x="1209" y="3601"/>
                  </a:lnTo>
                  <a:lnTo>
                    <a:pt x="1205" y="3730"/>
                  </a:lnTo>
                  <a:lnTo>
                    <a:pt x="1204" y="3863"/>
                  </a:lnTo>
                  <a:lnTo>
                    <a:pt x="1204" y="3996"/>
                  </a:lnTo>
                  <a:lnTo>
                    <a:pt x="1208" y="4131"/>
                  </a:lnTo>
                  <a:lnTo>
                    <a:pt x="1213" y="4267"/>
                  </a:lnTo>
                  <a:lnTo>
                    <a:pt x="1221" y="4405"/>
                  </a:lnTo>
                  <a:lnTo>
                    <a:pt x="1233" y="4517"/>
                  </a:lnTo>
                  <a:lnTo>
                    <a:pt x="1246" y="4628"/>
                  </a:lnTo>
                  <a:lnTo>
                    <a:pt x="1260" y="4737"/>
                  </a:lnTo>
                  <a:lnTo>
                    <a:pt x="1277" y="4845"/>
                  </a:lnTo>
                  <a:lnTo>
                    <a:pt x="1293" y="4949"/>
                  </a:lnTo>
                  <a:lnTo>
                    <a:pt x="1312" y="5052"/>
                  </a:lnTo>
                  <a:lnTo>
                    <a:pt x="1331" y="5153"/>
                  </a:lnTo>
                  <a:lnTo>
                    <a:pt x="1354" y="5253"/>
                  </a:lnTo>
                  <a:lnTo>
                    <a:pt x="1376" y="5349"/>
                  </a:lnTo>
                  <a:lnTo>
                    <a:pt x="1400" y="5445"/>
                  </a:lnTo>
                  <a:lnTo>
                    <a:pt x="1425" y="5536"/>
                  </a:lnTo>
                  <a:lnTo>
                    <a:pt x="1453" y="5628"/>
                  </a:lnTo>
                  <a:lnTo>
                    <a:pt x="1480" y="5717"/>
                  </a:lnTo>
                  <a:lnTo>
                    <a:pt x="1509" y="5804"/>
                  </a:lnTo>
                  <a:lnTo>
                    <a:pt x="1539" y="5889"/>
                  </a:lnTo>
                  <a:lnTo>
                    <a:pt x="1572" y="5973"/>
                  </a:lnTo>
                  <a:lnTo>
                    <a:pt x="1609" y="6069"/>
                  </a:lnTo>
                  <a:lnTo>
                    <a:pt x="1651" y="6164"/>
                  </a:lnTo>
                  <a:lnTo>
                    <a:pt x="1695" y="6258"/>
                  </a:lnTo>
                  <a:lnTo>
                    <a:pt x="1742" y="6350"/>
                  </a:lnTo>
                  <a:lnTo>
                    <a:pt x="1788" y="6440"/>
                  </a:lnTo>
                  <a:lnTo>
                    <a:pt x="1839" y="6528"/>
                  </a:lnTo>
                  <a:lnTo>
                    <a:pt x="1892" y="6614"/>
                  </a:lnTo>
                  <a:lnTo>
                    <a:pt x="1948" y="6699"/>
                  </a:lnTo>
                  <a:lnTo>
                    <a:pt x="2004" y="6781"/>
                  </a:lnTo>
                  <a:lnTo>
                    <a:pt x="2064" y="6862"/>
                  </a:lnTo>
                  <a:lnTo>
                    <a:pt x="2124" y="6941"/>
                  </a:lnTo>
                  <a:lnTo>
                    <a:pt x="2188" y="7019"/>
                  </a:lnTo>
                  <a:lnTo>
                    <a:pt x="2253" y="7094"/>
                  </a:lnTo>
                  <a:lnTo>
                    <a:pt x="2322" y="7168"/>
                  </a:lnTo>
                  <a:lnTo>
                    <a:pt x="2391" y="7239"/>
                  </a:lnTo>
                  <a:lnTo>
                    <a:pt x="2465" y="7310"/>
                  </a:lnTo>
                  <a:lnTo>
                    <a:pt x="2615" y="7138"/>
                  </a:lnTo>
                  <a:lnTo>
                    <a:pt x="2635" y="7112"/>
                  </a:lnTo>
                  <a:lnTo>
                    <a:pt x="2655" y="7088"/>
                  </a:lnTo>
                  <a:lnTo>
                    <a:pt x="2673" y="7064"/>
                  </a:lnTo>
                  <a:lnTo>
                    <a:pt x="2692" y="7043"/>
                  </a:lnTo>
                  <a:lnTo>
                    <a:pt x="2721" y="7001"/>
                  </a:lnTo>
                  <a:lnTo>
                    <a:pt x="2735" y="6982"/>
                  </a:lnTo>
                  <a:lnTo>
                    <a:pt x="2747" y="6965"/>
                  </a:lnTo>
                  <a:lnTo>
                    <a:pt x="2678" y="6869"/>
                  </a:lnTo>
                  <a:lnTo>
                    <a:pt x="2611" y="6772"/>
                  </a:lnTo>
                  <a:lnTo>
                    <a:pt x="2578" y="6721"/>
                  </a:lnTo>
                  <a:lnTo>
                    <a:pt x="2548" y="6671"/>
                  </a:lnTo>
                  <a:lnTo>
                    <a:pt x="2488" y="6568"/>
                  </a:lnTo>
                  <a:lnTo>
                    <a:pt x="2457" y="6514"/>
                  </a:lnTo>
                  <a:lnTo>
                    <a:pt x="2429" y="6460"/>
                  </a:lnTo>
                  <a:lnTo>
                    <a:pt x="2373" y="6350"/>
                  </a:lnTo>
                  <a:lnTo>
                    <a:pt x="2320" y="6236"/>
                  </a:lnTo>
                  <a:lnTo>
                    <a:pt x="2294" y="6178"/>
                  </a:lnTo>
                  <a:lnTo>
                    <a:pt x="2270" y="6120"/>
                  </a:lnTo>
                  <a:lnTo>
                    <a:pt x="2221" y="5999"/>
                  </a:lnTo>
                  <a:lnTo>
                    <a:pt x="2197" y="5938"/>
                  </a:lnTo>
                  <a:lnTo>
                    <a:pt x="2176" y="5876"/>
                  </a:lnTo>
                  <a:lnTo>
                    <a:pt x="2153" y="5813"/>
                  </a:lnTo>
                  <a:lnTo>
                    <a:pt x="2133" y="5749"/>
                  </a:lnTo>
                  <a:lnTo>
                    <a:pt x="2093" y="5621"/>
                  </a:lnTo>
                  <a:lnTo>
                    <a:pt x="2056" y="5488"/>
                  </a:lnTo>
                  <a:lnTo>
                    <a:pt x="2021" y="5353"/>
                  </a:lnTo>
                  <a:lnTo>
                    <a:pt x="1988" y="5213"/>
                  </a:lnTo>
                  <a:lnTo>
                    <a:pt x="1959" y="5072"/>
                  </a:lnTo>
                  <a:lnTo>
                    <a:pt x="1931" y="4878"/>
                  </a:lnTo>
                  <a:lnTo>
                    <a:pt x="1908" y="4686"/>
                  </a:lnTo>
                  <a:lnTo>
                    <a:pt x="1890" y="4497"/>
                  </a:lnTo>
                  <a:lnTo>
                    <a:pt x="1877" y="4312"/>
                  </a:lnTo>
                  <a:lnTo>
                    <a:pt x="1870" y="4219"/>
                  </a:lnTo>
                  <a:lnTo>
                    <a:pt x="1865" y="4128"/>
                  </a:lnTo>
                  <a:lnTo>
                    <a:pt x="1861" y="3948"/>
                  </a:lnTo>
                  <a:lnTo>
                    <a:pt x="1860" y="3770"/>
                  </a:lnTo>
                  <a:lnTo>
                    <a:pt x="1864" y="3594"/>
                  </a:lnTo>
                  <a:lnTo>
                    <a:pt x="1871" y="3421"/>
                  </a:lnTo>
                  <a:lnTo>
                    <a:pt x="1882" y="3250"/>
                  </a:lnTo>
                  <a:lnTo>
                    <a:pt x="1898" y="3081"/>
                  </a:lnTo>
                  <a:lnTo>
                    <a:pt x="1920" y="2917"/>
                  </a:lnTo>
                  <a:lnTo>
                    <a:pt x="1943" y="2753"/>
                  </a:lnTo>
                  <a:lnTo>
                    <a:pt x="1973" y="2593"/>
                  </a:lnTo>
                  <a:lnTo>
                    <a:pt x="2007" y="2436"/>
                  </a:lnTo>
                  <a:lnTo>
                    <a:pt x="2025" y="2358"/>
                  </a:lnTo>
                  <a:lnTo>
                    <a:pt x="2045" y="2282"/>
                  </a:lnTo>
                  <a:lnTo>
                    <a:pt x="2068" y="2192"/>
                  </a:lnTo>
                  <a:lnTo>
                    <a:pt x="2093" y="2105"/>
                  </a:lnTo>
                  <a:lnTo>
                    <a:pt x="2146" y="1934"/>
                  </a:lnTo>
                  <a:lnTo>
                    <a:pt x="2175" y="1849"/>
                  </a:lnTo>
                  <a:lnTo>
                    <a:pt x="2205" y="1766"/>
                  </a:lnTo>
                  <a:lnTo>
                    <a:pt x="2237" y="1684"/>
                  </a:lnTo>
                  <a:lnTo>
                    <a:pt x="2271" y="1605"/>
                  </a:lnTo>
                  <a:lnTo>
                    <a:pt x="2305" y="1524"/>
                  </a:lnTo>
                  <a:lnTo>
                    <a:pt x="2341" y="1446"/>
                  </a:lnTo>
                  <a:lnTo>
                    <a:pt x="2378" y="1368"/>
                  </a:lnTo>
                  <a:lnTo>
                    <a:pt x="2417" y="1292"/>
                  </a:lnTo>
                  <a:lnTo>
                    <a:pt x="2457" y="1216"/>
                  </a:lnTo>
                  <a:lnTo>
                    <a:pt x="2499" y="1142"/>
                  </a:lnTo>
                  <a:lnTo>
                    <a:pt x="2542" y="1070"/>
                  </a:lnTo>
                  <a:lnTo>
                    <a:pt x="2587" y="1000"/>
                  </a:lnTo>
                  <a:lnTo>
                    <a:pt x="2632" y="928"/>
                  </a:lnTo>
                  <a:lnTo>
                    <a:pt x="2679" y="859"/>
                  </a:lnTo>
                  <a:lnTo>
                    <a:pt x="2727" y="790"/>
                  </a:lnTo>
                  <a:lnTo>
                    <a:pt x="2778" y="723"/>
                  </a:lnTo>
                  <a:lnTo>
                    <a:pt x="2829" y="656"/>
                  </a:lnTo>
                  <a:lnTo>
                    <a:pt x="2882" y="592"/>
                  </a:lnTo>
                  <a:lnTo>
                    <a:pt x="2935" y="527"/>
                  </a:lnTo>
                  <a:lnTo>
                    <a:pt x="2992" y="465"/>
                  </a:lnTo>
                  <a:lnTo>
                    <a:pt x="3106" y="341"/>
                  </a:lnTo>
                  <a:lnTo>
                    <a:pt x="3165" y="281"/>
                  </a:lnTo>
                  <a:lnTo>
                    <a:pt x="3228" y="223"/>
                  </a:lnTo>
                  <a:lnTo>
                    <a:pt x="3289" y="165"/>
                  </a:lnTo>
                  <a:lnTo>
                    <a:pt x="3354" y="110"/>
                  </a:lnTo>
                  <a:lnTo>
                    <a:pt x="3418" y="54"/>
                  </a:lnTo>
                  <a:lnTo>
                    <a:pt x="3486" y="1"/>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2718720" y="1520640"/>
              <a:ext cx="1513080" cy="5098680"/>
            </a:xfrm>
            <a:custGeom>
              <a:avLst/>
              <a:gdLst/>
              <a:ahLst/>
              <a:rect l="l" t="t" r="r" b="b"/>
              <a:pathLst>
                <a:path w="2137" h="7210">
                  <a:moveTo>
                    <a:pt x="873" y="0"/>
                  </a:moveTo>
                  <a:lnTo>
                    <a:pt x="592" y="331"/>
                  </a:lnTo>
                  <a:lnTo>
                    <a:pt x="643" y="400"/>
                  </a:lnTo>
                  <a:lnTo>
                    <a:pt x="694" y="472"/>
                  </a:lnTo>
                  <a:lnTo>
                    <a:pt x="743" y="546"/>
                  </a:lnTo>
                  <a:lnTo>
                    <a:pt x="791" y="622"/>
                  </a:lnTo>
                  <a:lnTo>
                    <a:pt x="837" y="699"/>
                  </a:lnTo>
                  <a:lnTo>
                    <a:pt x="882" y="780"/>
                  </a:lnTo>
                  <a:lnTo>
                    <a:pt x="925" y="860"/>
                  </a:lnTo>
                  <a:lnTo>
                    <a:pt x="968" y="944"/>
                  </a:lnTo>
                  <a:lnTo>
                    <a:pt x="1008" y="1028"/>
                  </a:lnTo>
                  <a:lnTo>
                    <a:pt x="1048" y="1115"/>
                  </a:lnTo>
                  <a:lnTo>
                    <a:pt x="1085" y="1202"/>
                  </a:lnTo>
                  <a:lnTo>
                    <a:pt x="1122" y="1293"/>
                  </a:lnTo>
                  <a:lnTo>
                    <a:pt x="1156" y="1385"/>
                  </a:lnTo>
                  <a:lnTo>
                    <a:pt x="1190" y="1479"/>
                  </a:lnTo>
                  <a:lnTo>
                    <a:pt x="1223" y="1574"/>
                  </a:lnTo>
                  <a:lnTo>
                    <a:pt x="1255" y="1673"/>
                  </a:lnTo>
                  <a:lnTo>
                    <a:pt x="1303" y="1866"/>
                  </a:lnTo>
                  <a:lnTo>
                    <a:pt x="1346" y="2058"/>
                  </a:lnTo>
                  <a:lnTo>
                    <a:pt x="1365" y="2154"/>
                  </a:lnTo>
                  <a:lnTo>
                    <a:pt x="1383" y="2249"/>
                  </a:lnTo>
                  <a:lnTo>
                    <a:pt x="1400" y="2344"/>
                  </a:lnTo>
                  <a:lnTo>
                    <a:pt x="1416" y="2440"/>
                  </a:lnTo>
                  <a:lnTo>
                    <a:pt x="1430" y="2534"/>
                  </a:lnTo>
                  <a:lnTo>
                    <a:pt x="1442" y="2630"/>
                  </a:lnTo>
                  <a:lnTo>
                    <a:pt x="1453" y="2724"/>
                  </a:lnTo>
                  <a:lnTo>
                    <a:pt x="1465" y="2819"/>
                  </a:lnTo>
                  <a:lnTo>
                    <a:pt x="1473" y="2912"/>
                  </a:lnTo>
                  <a:lnTo>
                    <a:pt x="1474" y="2935"/>
                  </a:lnTo>
                  <a:lnTo>
                    <a:pt x="1476" y="2958"/>
                  </a:lnTo>
                  <a:lnTo>
                    <a:pt x="1481" y="3006"/>
                  </a:lnTo>
                  <a:lnTo>
                    <a:pt x="1487" y="3099"/>
                  </a:lnTo>
                  <a:lnTo>
                    <a:pt x="1490" y="3146"/>
                  </a:lnTo>
                  <a:lnTo>
                    <a:pt x="1493" y="3193"/>
                  </a:lnTo>
                  <a:lnTo>
                    <a:pt x="1495" y="3285"/>
                  </a:lnTo>
                  <a:lnTo>
                    <a:pt x="1498" y="3378"/>
                  </a:lnTo>
                  <a:lnTo>
                    <a:pt x="1498" y="3423"/>
                  </a:lnTo>
                  <a:lnTo>
                    <a:pt x="1498" y="3446"/>
                  </a:lnTo>
                  <a:lnTo>
                    <a:pt x="1499" y="3470"/>
                  </a:lnTo>
                  <a:lnTo>
                    <a:pt x="1499" y="3563"/>
                  </a:lnTo>
                  <a:lnTo>
                    <a:pt x="1496" y="3653"/>
                  </a:lnTo>
                  <a:lnTo>
                    <a:pt x="1494" y="3745"/>
                  </a:lnTo>
                  <a:lnTo>
                    <a:pt x="1485" y="3929"/>
                  </a:lnTo>
                  <a:lnTo>
                    <a:pt x="1481" y="3973"/>
                  </a:lnTo>
                  <a:lnTo>
                    <a:pt x="1477" y="4018"/>
                  </a:lnTo>
                  <a:lnTo>
                    <a:pt x="1469" y="4109"/>
                  </a:lnTo>
                  <a:lnTo>
                    <a:pt x="1449" y="4290"/>
                  </a:lnTo>
                  <a:lnTo>
                    <a:pt x="1436" y="4379"/>
                  </a:lnTo>
                  <a:lnTo>
                    <a:pt x="1423" y="4470"/>
                  </a:lnTo>
                  <a:lnTo>
                    <a:pt x="1393" y="4649"/>
                  </a:lnTo>
                  <a:lnTo>
                    <a:pt x="1373" y="4746"/>
                  </a:lnTo>
                  <a:lnTo>
                    <a:pt x="1351" y="4844"/>
                  </a:lnTo>
                  <a:lnTo>
                    <a:pt x="1329" y="4940"/>
                  </a:lnTo>
                  <a:lnTo>
                    <a:pt x="1305" y="5035"/>
                  </a:lnTo>
                  <a:lnTo>
                    <a:pt x="1279" y="5128"/>
                  </a:lnTo>
                  <a:lnTo>
                    <a:pt x="1252" y="5221"/>
                  </a:lnTo>
                  <a:lnTo>
                    <a:pt x="1222" y="5313"/>
                  </a:lnTo>
                  <a:lnTo>
                    <a:pt x="1193" y="5404"/>
                  </a:lnTo>
                  <a:lnTo>
                    <a:pt x="1160" y="5492"/>
                  </a:lnTo>
                  <a:lnTo>
                    <a:pt x="1143" y="5535"/>
                  </a:lnTo>
                  <a:lnTo>
                    <a:pt x="1127" y="5579"/>
                  </a:lnTo>
                  <a:lnTo>
                    <a:pt x="1092" y="5666"/>
                  </a:lnTo>
                  <a:lnTo>
                    <a:pt x="1055" y="5752"/>
                  </a:lnTo>
                  <a:lnTo>
                    <a:pt x="1017" y="5834"/>
                  </a:lnTo>
                  <a:lnTo>
                    <a:pt x="997" y="5875"/>
                  </a:lnTo>
                  <a:lnTo>
                    <a:pt x="986" y="5896"/>
                  </a:lnTo>
                  <a:lnTo>
                    <a:pt x="977" y="5917"/>
                  </a:lnTo>
                  <a:lnTo>
                    <a:pt x="935" y="5999"/>
                  </a:lnTo>
                  <a:lnTo>
                    <a:pt x="893" y="6080"/>
                  </a:lnTo>
                  <a:lnTo>
                    <a:pt x="848" y="6159"/>
                  </a:lnTo>
                  <a:lnTo>
                    <a:pt x="803" y="6237"/>
                  </a:lnTo>
                  <a:lnTo>
                    <a:pt x="755" y="6313"/>
                  </a:lnTo>
                  <a:lnTo>
                    <a:pt x="730" y="6350"/>
                  </a:lnTo>
                  <a:lnTo>
                    <a:pt x="706" y="6389"/>
                  </a:lnTo>
                  <a:lnTo>
                    <a:pt x="680" y="6425"/>
                  </a:lnTo>
                  <a:lnTo>
                    <a:pt x="655" y="6462"/>
                  </a:lnTo>
                  <a:lnTo>
                    <a:pt x="603" y="6536"/>
                  </a:lnTo>
                  <a:lnTo>
                    <a:pt x="576" y="6571"/>
                  </a:lnTo>
                  <a:lnTo>
                    <a:pt x="550" y="6608"/>
                  </a:lnTo>
                  <a:lnTo>
                    <a:pt x="496" y="6679"/>
                  </a:lnTo>
                  <a:lnTo>
                    <a:pt x="438" y="6747"/>
                  </a:lnTo>
                  <a:lnTo>
                    <a:pt x="380" y="6815"/>
                  </a:lnTo>
                  <a:lnTo>
                    <a:pt x="364" y="6831"/>
                  </a:lnTo>
                  <a:lnTo>
                    <a:pt x="349" y="6848"/>
                  </a:lnTo>
                  <a:lnTo>
                    <a:pt x="320" y="6882"/>
                  </a:lnTo>
                  <a:lnTo>
                    <a:pt x="304" y="6898"/>
                  </a:lnTo>
                  <a:lnTo>
                    <a:pt x="289" y="6915"/>
                  </a:lnTo>
                  <a:lnTo>
                    <a:pt x="260" y="6949"/>
                  </a:lnTo>
                  <a:lnTo>
                    <a:pt x="196" y="7012"/>
                  </a:lnTo>
                  <a:lnTo>
                    <a:pt x="133" y="7076"/>
                  </a:lnTo>
                  <a:lnTo>
                    <a:pt x="67" y="7138"/>
                  </a:lnTo>
                  <a:lnTo>
                    <a:pt x="0" y="7199"/>
                  </a:lnTo>
                  <a:lnTo>
                    <a:pt x="237" y="7210"/>
                  </a:lnTo>
                  <a:lnTo>
                    <a:pt x="238" y="7208"/>
                  </a:lnTo>
                  <a:lnTo>
                    <a:pt x="240" y="7208"/>
                  </a:lnTo>
                  <a:lnTo>
                    <a:pt x="245" y="7208"/>
                  </a:lnTo>
                  <a:lnTo>
                    <a:pt x="254" y="7208"/>
                  </a:lnTo>
                  <a:lnTo>
                    <a:pt x="272" y="7208"/>
                  </a:lnTo>
                  <a:lnTo>
                    <a:pt x="288" y="7207"/>
                  </a:lnTo>
                  <a:lnTo>
                    <a:pt x="305" y="7207"/>
                  </a:lnTo>
                  <a:lnTo>
                    <a:pt x="337" y="7205"/>
                  </a:lnTo>
                  <a:lnTo>
                    <a:pt x="352" y="7203"/>
                  </a:lnTo>
                  <a:lnTo>
                    <a:pt x="367" y="7202"/>
                  </a:lnTo>
                  <a:lnTo>
                    <a:pt x="395" y="7196"/>
                  </a:lnTo>
                  <a:lnTo>
                    <a:pt x="421" y="7189"/>
                  </a:lnTo>
                  <a:lnTo>
                    <a:pt x="432" y="7185"/>
                  </a:lnTo>
                  <a:lnTo>
                    <a:pt x="438" y="7182"/>
                  </a:lnTo>
                  <a:lnTo>
                    <a:pt x="444" y="7181"/>
                  </a:lnTo>
                  <a:lnTo>
                    <a:pt x="467" y="7173"/>
                  </a:lnTo>
                  <a:lnTo>
                    <a:pt x="488" y="7181"/>
                  </a:lnTo>
                  <a:lnTo>
                    <a:pt x="511" y="7189"/>
                  </a:lnTo>
                  <a:lnTo>
                    <a:pt x="536" y="7196"/>
                  </a:lnTo>
                  <a:lnTo>
                    <a:pt x="565" y="7202"/>
                  </a:lnTo>
                  <a:lnTo>
                    <a:pt x="593" y="7205"/>
                  </a:lnTo>
                  <a:lnTo>
                    <a:pt x="625" y="7207"/>
                  </a:lnTo>
                  <a:lnTo>
                    <a:pt x="656" y="7208"/>
                  </a:lnTo>
                  <a:lnTo>
                    <a:pt x="692" y="7210"/>
                  </a:lnTo>
                  <a:lnTo>
                    <a:pt x="923" y="7199"/>
                  </a:lnTo>
                  <a:lnTo>
                    <a:pt x="726" y="7026"/>
                  </a:lnTo>
                  <a:lnTo>
                    <a:pt x="800" y="6966"/>
                  </a:lnTo>
                  <a:lnTo>
                    <a:pt x="872" y="6907"/>
                  </a:lnTo>
                  <a:lnTo>
                    <a:pt x="938" y="6849"/>
                  </a:lnTo>
                  <a:lnTo>
                    <a:pt x="1001" y="6792"/>
                  </a:lnTo>
                  <a:lnTo>
                    <a:pt x="1058" y="6736"/>
                  </a:lnTo>
                  <a:lnTo>
                    <a:pt x="1112" y="6680"/>
                  </a:lnTo>
                  <a:lnTo>
                    <a:pt x="1160" y="6625"/>
                  </a:lnTo>
                  <a:lnTo>
                    <a:pt x="1205" y="6571"/>
                  </a:lnTo>
                  <a:lnTo>
                    <a:pt x="1220" y="6549"/>
                  </a:lnTo>
                  <a:lnTo>
                    <a:pt x="1236" y="6527"/>
                  </a:lnTo>
                  <a:lnTo>
                    <a:pt x="1267" y="6484"/>
                  </a:lnTo>
                  <a:lnTo>
                    <a:pt x="1297" y="6440"/>
                  </a:lnTo>
                  <a:lnTo>
                    <a:pt x="1328" y="6397"/>
                  </a:lnTo>
                  <a:lnTo>
                    <a:pt x="1356" y="6351"/>
                  </a:lnTo>
                  <a:lnTo>
                    <a:pt x="1385" y="6307"/>
                  </a:lnTo>
                  <a:lnTo>
                    <a:pt x="1414" y="6262"/>
                  </a:lnTo>
                  <a:lnTo>
                    <a:pt x="1443" y="6218"/>
                  </a:lnTo>
                  <a:lnTo>
                    <a:pt x="1496" y="6125"/>
                  </a:lnTo>
                  <a:lnTo>
                    <a:pt x="1550" y="6032"/>
                  </a:lnTo>
                  <a:lnTo>
                    <a:pt x="1598" y="5936"/>
                  </a:lnTo>
                  <a:lnTo>
                    <a:pt x="1610" y="5912"/>
                  </a:lnTo>
                  <a:lnTo>
                    <a:pt x="1622" y="5888"/>
                  </a:lnTo>
                  <a:lnTo>
                    <a:pt x="1647" y="5840"/>
                  </a:lnTo>
                  <a:lnTo>
                    <a:pt x="1669" y="5790"/>
                  </a:lnTo>
                  <a:lnTo>
                    <a:pt x="1691" y="5741"/>
                  </a:lnTo>
                  <a:lnTo>
                    <a:pt x="1736" y="5642"/>
                  </a:lnTo>
                  <a:lnTo>
                    <a:pt x="1775" y="5540"/>
                  </a:lnTo>
                  <a:lnTo>
                    <a:pt x="1815" y="5438"/>
                  </a:lnTo>
                  <a:lnTo>
                    <a:pt x="1823" y="5410"/>
                  </a:lnTo>
                  <a:lnTo>
                    <a:pt x="1832" y="5384"/>
                  </a:lnTo>
                  <a:lnTo>
                    <a:pt x="1850" y="5332"/>
                  </a:lnTo>
                  <a:lnTo>
                    <a:pt x="1858" y="5305"/>
                  </a:lnTo>
                  <a:lnTo>
                    <a:pt x="1867" y="5279"/>
                  </a:lnTo>
                  <a:lnTo>
                    <a:pt x="1885" y="5227"/>
                  </a:lnTo>
                  <a:lnTo>
                    <a:pt x="1901" y="5172"/>
                  </a:lnTo>
                  <a:lnTo>
                    <a:pt x="1909" y="5145"/>
                  </a:lnTo>
                  <a:lnTo>
                    <a:pt x="1918" y="5119"/>
                  </a:lnTo>
                  <a:lnTo>
                    <a:pt x="1933" y="5065"/>
                  </a:lnTo>
                  <a:lnTo>
                    <a:pt x="1949" y="5011"/>
                  </a:lnTo>
                  <a:lnTo>
                    <a:pt x="1975" y="4900"/>
                  </a:lnTo>
                  <a:lnTo>
                    <a:pt x="1987" y="4844"/>
                  </a:lnTo>
                  <a:lnTo>
                    <a:pt x="2001" y="4788"/>
                  </a:lnTo>
                  <a:lnTo>
                    <a:pt x="2025" y="4675"/>
                  </a:lnTo>
                  <a:lnTo>
                    <a:pt x="2029" y="4645"/>
                  </a:lnTo>
                  <a:lnTo>
                    <a:pt x="2035" y="4617"/>
                  </a:lnTo>
                  <a:lnTo>
                    <a:pt x="2046" y="4560"/>
                  </a:lnTo>
                  <a:lnTo>
                    <a:pt x="2064" y="4443"/>
                  </a:lnTo>
                  <a:lnTo>
                    <a:pt x="2081" y="4326"/>
                  </a:lnTo>
                  <a:lnTo>
                    <a:pt x="2096" y="4205"/>
                  </a:lnTo>
                  <a:lnTo>
                    <a:pt x="2109" y="4085"/>
                  </a:lnTo>
                  <a:lnTo>
                    <a:pt x="2113" y="4023"/>
                  </a:lnTo>
                  <a:lnTo>
                    <a:pt x="2119" y="3962"/>
                  </a:lnTo>
                  <a:lnTo>
                    <a:pt x="2120" y="3930"/>
                  </a:lnTo>
                  <a:lnTo>
                    <a:pt x="2122" y="3899"/>
                  </a:lnTo>
                  <a:lnTo>
                    <a:pt x="2127" y="3838"/>
                  </a:lnTo>
                  <a:lnTo>
                    <a:pt x="2129" y="3775"/>
                  </a:lnTo>
                  <a:lnTo>
                    <a:pt x="2130" y="3743"/>
                  </a:lnTo>
                  <a:lnTo>
                    <a:pt x="2132" y="3712"/>
                  </a:lnTo>
                  <a:lnTo>
                    <a:pt x="2136" y="3585"/>
                  </a:lnTo>
                  <a:lnTo>
                    <a:pt x="2137" y="3456"/>
                  </a:lnTo>
                  <a:lnTo>
                    <a:pt x="2136" y="3327"/>
                  </a:lnTo>
                  <a:lnTo>
                    <a:pt x="2132" y="3195"/>
                  </a:lnTo>
                  <a:lnTo>
                    <a:pt x="2130" y="3128"/>
                  </a:lnTo>
                  <a:lnTo>
                    <a:pt x="2129" y="3063"/>
                  </a:lnTo>
                  <a:lnTo>
                    <a:pt x="2119" y="2943"/>
                  </a:lnTo>
                  <a:lnTo>
                    <a:pt x="2107" y="2826"/>
                  </a:lnTo>
                  <a:lnTo>
                    <a:pt x="2094" y="2711"/>
                  </a:lnTo>
                  <a:lnTo>
                    <a:pt x="2080" y="2599"/>
                  </a:lnTo>
                  <a:lnTo>
                    <a:pt x="2064" y="2487"/>
                  </a:lnTo>
                  <a:lnTo>
                    <a:pt x="2047" y="2379"/>
                  </a:lnTo>
                  <a:lnTo>
                    <a:pt x="2028" y="2273"/>
                  </a:lnTo>
                  <a:lnTo>
                    <a:pt x="2009" y="2169"/>
                  </a:lnTo>
                  <a:lnTo>
                    <a:pt x="1986" y="2066"/>
                  </a:lnTo>
                  <a:lnTo>
                    <a:pt x="1963" y="1965"/>
                  </a:lnTo>
                  <a:lnTo>
                    <a:pt x="1939" y="1867"/>
                  </a:lnTo>
                  <a:lnTo>
                    <a:pt x="1914" y="1772"/>
                  </a:lnTo>
                  <a:lnTo>
                    <a:pt x="1886" y="1676"/>
                  </a:lnTo>
                  <a:lnTo>
                    <a:pt x="1858" y="1585"/>
                  </a:lnTo>
                  <a:lnTo>
                    <a:pt x="1827" y="1494"/>
                  </a:lnTo>
                  <a:lnTo>
                    <a:pt x="1797" y="1407"/>
                  </a:lnTo>
                  <a:lnTo>
                    <a:pt x="1755" y="1303"/>
                  </a:lnTo>
                  <a:lnTo>
                    <a:pt x="1713" y="1202"/>
                  </a:lnTo>
                  <a:lnTo>
                    <a:pt x="1669" y="1103"/>
                  </a:lnTo>
                  <a:lnTo>
                    <a:pt x="1622" y="1006"/>
                  </a:lnTo>
                  <a:lnTo>
                    <a:pt x="1571" y="910"/>
                  </a:lnTo>
                  <a:lnTo>
                    <a:pt x="1520" y="818"/>
                  </a:lnTo>
                  <a:lnTo>
                    <a:pt x="1466" y="726"/>
                  </a:lnTo>
                  <a:lnTo>
                    <a:pt x="1410" y="639"/>
                  </a:lnTo>
                  <a:lnTo>
                    <a:pt x="1350" y="552"/>
                  </a:lnTo>
                  <a:lnTo>
                    <a:pt x="1289" y="467"/>
                  </a:lnTo>
                  <a:lnTo>
                    <a:pt x="1224" y="384"/>
                  </a:lnTo>
                  <a:lnTo>
                    <a:pt x="1160" y="304"/>
                  </a:lnTo>
                  <a:lnTo>
                    <a:pt x="1091" y="223"/>
                  </a:lnTo>
                  <a:lnTo>
                    <a:pt x="1020" y="147"/>
                  </a:lnTo>
                  <a:lnTo>
                    <a:pt x="947" y="71"/>
                  </a:lnTo>
                  <a:lnTo>
                    <a:pt x="873" y="0"/>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866600" y="2078640"/>
              <a:ext cx="1524240" cy="4540320"/>
            </a:xfrm>
            <a:custGeom>
              <a:avLst/>
              <a:gdLst/>
              <a:ahLst/>
              <a:rect l="l" t="t" r="r" b="b"/>
              <a:pathLst>
                <a:path w="2157" h="6422">
                  <a:moveTo>
                    <a:pt x="1206" y="725"/>
                  </a:moveTo>
                  <a:lnTo>
                    <a:pt x="1258" y="910"/>
                  </a:lnTo>
                  <a:lnTo>
                    <a:pt x="1283" y="1003"/>
                  </a:lnTo>
                  <a:lnTo>
                    <a:pt x="1307" y="1096"/>
                  </a:lnTo>
                  <a:lnTo>
                    <a:pt x="1350" y="1283"/>
                  </a:lnTo>
                  <a:lnTo>
                    <a:pt x="1389" y="1472"/>
                  </a:lnTo>
                  <a:lnTo>
                    <a:pt x="1420" y="1660"/>
                  </a:lnTo>
                  <a:lnTo>
                    <a:pt x="1435" y="1756"/>
                  </a:lnTo>
                  <a:lnTo>
                    <a:pt x="1449" y="1851"/>
                  </a:lnTo>
                  <a:lnTo>
                    <a:pt x="1471" y="2042"/>
                  </a:lnTo>
                  <a:lnTo>
                    <a:pt x="1490" y="2235"/>
                  </a:lnTo>
                  <a:lnTo>
                    <a:pt x="1492" y="2284"/>
                  </a:lnTo>
                  <a:lnTo>
                    <a:pt x="1495" y="2334"/>
                  </a:lnTo>
                  <a:lnTo>
                    <a:pt x="1501" y="2433"/>
                  </a:lnTo>
                  <a:lnTo>
                    <a:pt x="1504" y="2531"/>
                  </a:lnTo>
                  <a:lnTo>
                    <a:pt x="1507" y="2631"/>
                  </a:lnTo>
                  <a:lnTo>
                    <a:pt x="1507" y="2826"/>
                  </a:lnTo>
                  <a:lnTo>
                    <a:pt x="1504" y="2922"/>
                  </a:lnTo>
                  <a:lnTo>
                    <a:pt x="1501" y="3020"/>
                  </a:lnTo>
                  <a:lnTo>
                    <a:pt x="1495" y="3115"/>
                  </a:lnTo>
                  <a:lnTo>
                    <a:pt x="1488" y="3211"/>
                  </a:lnTo>
                  <a:lnTo>
                    <a:pt x="1484" y="3258"/>
                  </a:lnTo>
                  <a:lnTo>
                    <a:pt x="1480" y="3305"/>
                  </a:lnTo>
                  <a:lnTo>
                    <a:pt x="1471" y="3400"/>
                  </a:lnTo>
                  <a:lnTo>
                    <a:pt x="1460" y="3493"/>
                  </a:lnTo>
                  <a:lnTo>
                    <a:pt x="1448" y="3589"/>
                  </a:lnTo>
                  <a:lnTo>
                    <a:pt x="1434" y="3682"/>
                  </a:lnTo>
                  <a:lnTo>
                    <a:pt x="1429" y="3704"/>
                  </a:lnTo>
                  <a:lnTo>
                    <a:pt x="1427" y="3716"/>
                  </a:lnTo>
                  <a:lnTo>
                    <a:pt x="1426" y="3728"/>
                  </a:lnTo>
                  <a:lnTo>
                    <a:pt x="1419" y="3776"/>
                  </a:lnTo>
                  <a:lnTo>
                    <a:pt x="1400" y="3878"/>
                  </a:lnTo>
                  <a:lnTo>
                    <a:pt x="1380" y="3979"/>
                  </a:lnTo>
                  <a:lnTo>
                    <a:pt x="1357" y="4078"/>
                  </a:lnTo>
                  <a:lnTo>
                    <a:pt x="1350" y="4102"/>
                  </a:lnTo>
                  <a:lnTo>
                    <a:pt x="1344" y="4127"/>
                  </a:lnTo>
                  <a:lnTo>
                    <a:pt x="1333" y="4177"/>
                  </a:lnTo>
                  <a:lnTo>
                    <a:pt x="1319" y="4225"/>
                  </a:lnTo>
                  <a:lnTo>
                    <a:pt x="1313" y="4248"/>
                  </a:lnTo>
                  <a:lnTo>
                    <a:pt x="1307" y="4273"/>
                  </a:lnTo>
                  <a:lnTo>
                    <a:pt x="1280" y="4370"/>
                  </a:lnTo>
                  <a:lnTo>
                    <a:pt x="1250" y="4465"/>
                  </a:lnTo>
                  <a:lnTo>
                    <a:pt x="1221" y="4559"/>
                  </a:lnTo>
                  <a:lnTo>
                    <a:pt x="1204" y="4604"/>
                  </a:lnTo>
                  <a:lnTo>
                    <a:pt x="1188" y="4651"/>
                  </a:lnTo>
                  <a:lnTo>
                    <a:pt x="1154" y="4741"/>
                  </a:lnTo>
                  <a:lnTo>
                    <a:pt x="1136" y="4786"/>
                  </a:lnTo>
                  <a:lnTo>
                    <a:pt x="1119" y="4831"/>
                  </a:lnTo>
                  <a:lnTo>
                    <a:pt x="1083" y="4919"/>
                  </a:lnTo>
                  <a:lnTo>
                    <a:pt x="1044" y="5006"/>
                  </a:lnTo>
                  <a:lnTo>
                    <a:pt x="1004" y="5092"/>
                  </a:lnTo>
                  <a:lnTo>
                    <a:pt x="993" y="5112"/>
                  </a:lnTo>
                  <a:lnTo>
                    <a:pt x="983" y="5134"/>
                  </a:lnTo>
                  <a:lnTo>
                    <a:pt x="962" y="5177"/>
                  </a:lnTo>
                  <a:lnTo>
                    <a:pt x="919" y="5261"/>
                  </a:lnTo>
                  <a:lnTo>
                    <a:pt x="907" y="5280"/>
                  </a:lnTo>
                  <a:lnTo>
                    <a:pt x="896" y="5300"/>
                  </a:lnTo>
                  <a:lnTo>
                    <a:pt x="873" y="5341"/>
                  </a:lnTo>
                  <a:lnTo>
                    <a:pt x="860" y="5360"/>
                  </a:lnTo>
                  <a:lnTo>
                    <a:pt x="849" y="5381"/>
                  </a:lnTo>
                  <a:lnTo>
                    <a:pt x="826" y="5422"/>
                  </a:lnTo>
                  <a:lnTo>
                    <a:pt x="778" y="5501"/>
                  </a:lnTo>
                  <a:lnTo>
                    <a:pt x="728" y="5579"/>
                  </a:lnTo>
                  <a:lnTo>
                    <a:pt x="676" y="5655"/>
                  </a:lnTo>
                  <a:lnTo>
                    <a:pt x="622" y="5730"/>
                  </a:lnTo>
                  <a:lnTo>
                    <a:pt x="594" y="5766"/>
                  </a:lnTo>
                  <a:lnTo>
                    <a:pt x="567" y="5804"/>
                  </a:lnTo>
                  <a:lnTo>
                    <a:pt x="538" y="5840"/>
                  </a:lnTo>
                  <a:lnTo>
                    <a:pt x="511" y="5877"/>
                  </a:lnTo>
                  <a:lnTo>
                    <a:pt x="452" y="5948"/>
                  </a:lnTo>
                  <a:lnTo>
                    <a:pt x="392" y="6018"/>
                  </a:lnTo>
                  <a:lnTo>
                    <a:pt x="331" y="6086"/>
                  </a:lnTo>
                  <a:lnTo>
                    <a:pt x="269" y="6154"/>
                  </a:lnTo>
                  <a:lnTo>
                    <a:pt x="203" y="6220"/>
                  </a:lnTo>
                  <a:lnTo>
                    <a:pt x="137" y="6284"/>
                  </a:lnTo>
                  <a:lnTo>
                    <a:pt x="69" y="6348"/>
                  </a:lnTo>
                  <a:lnTo>
                    <a:pt x="0" y="6411"/>
                  </a:lnTo>
                  <a:lnTo>
                    <a:pt x="249" y="6422"/>
                  </a:lnTo>
                  <a:lnTo>
                    <a:pt x="251" y="6420"/>
                  </a:lnTo>
                  <a:lnTo>
                    <a:pt x="253" y="6420"/>
                  </a:lnTo>
                  <a:lnTo>
                    <a:pt x="257" y="6420"/>
                  </a:lnTo>
                  <a:lnTo>
                    <a:pt x="266" y="6420"/>
                  </a:lnTo>
                  <a:lnTo>
                    <a:pt x="285" y="6420"/>
                  </a:lnTo>
                  <a:lnTo>
                    <a:pt x="300" y="6419"/>
                  </a:lnTo>
                  <a:lnTo>
                    <a:pt x="317" y="6419"/>
                  </a:lnTo>
                  <a:lnTo>
                    <a:pt x="349" y="6417"/>
                  </a:lnTo>
                  <a:lnTo>
                    <a:pt x="364" y="6415"/>
                  </a:lnTo>
                  <a:lnTo>
                    <a:pt x="380" y="6414"/>
                  </a:lnTo>
                  <a:lnTo>
                    <a:pt x="407" y="6408"/>
                  </a:lnTo>
                  <a:lnTo>
                    <a:pt x="433" y="6401"/>
                  </a:lnTo>
                  <a:lnTo>
                    <a:pt x="444" y="6397"/>
                  </a:lnTo>
                  <a:lnTo>
                    <a:pt x="450" y="6394"/>
                  </a:lnTo>
                  <a:lnTo>
                    <a:pt x="457" y="6393"/>
                  </a:lnTo>
                  <a:lnTo>
                    <a:pt x="480" y="6385"/>
                  </a:lnTo>
                  <a:lnTo>
                    <a:pt x="499" y="6393"/>
                  </a:lnTo>
                  <a:lnTo>
                    <a:pt x="521" y="6401"/>
                  </a:lnTo>
                  <a:lnTo>
                    <a:pt x="545" y="6408"/>
                  </a:lnTo>
                  <a:lnTo>
                    <a:pt x="574" y="6414"/>
                  </a:lnTo>
                  <a:lnTo>
                    <a:pt x="602" y="6417"/>
                  </a:lnTo>
                  <a:lnTo>
                    <a:pt x="634" y="6419"/>
                  </a:lnTo>
                  <a:lnTo>
                    <a:pt x="667" y="6420"/>
                  </a:lnTo>
                  <a:lnTo>
                    <a:pt x="704" y="6422"/>
                  </a:lnTo>
                  <a:lnTo>
                    <a:pt x="935" y="6411"/>
                  </a:lnTo>
                  <a:lnTo>
                    <a:pt x="738" y="6238"/>
                  </a:lnTo>
                  <a:lnTo>
                    <a:pt x="1071" y="5943"/>
                  </a:lnTo>
                  <a:lnTo>
                    <a:pt x="1244" y="6115"/>
                  </a:lnTo>
                  <a:lnTo>
                    <a:pt x="1283" y="6072"/>
                  </a:lnTo>
                  <a:lnTo>
                    <a:pt x="1322" y="6030"/>
                  </a:lnTo>
                  <a:lnTo>
                    <a:pt x="1359" y="5987"/>
                  </a:lnTo>
                  <a:lnTo>
                    <a:pt x="1395" y="5945"/>
                  </a:lnTo>
                  <a:lnTo>
                    <a:pt x="1429" y="5901"/>
                  </a:lnTo>
                  <a:lnTo>
                    <a:pt x="1463" y="5858"/>
                  </a:lnTo>
                  <a:lnTo>
                    <a:pt x="1495" y="5813"/>
                  </a:lnTo>
                  <a:lnTo>
                    <a:pt x="1526" y="5770"/>
                  </a:lnTo>
                  <a:lnTo>
                    <a:pt x="1377" y="5562"/>
                  </a:lnTo>
                  <a:lnTo>
                    <a:pt x="1399" y="5526"/>
                  </a:lnTo>
                  <a:lnTo>
                    <a:pt x="1422" y="5491"/>
                  </a:lnTo>
                  <a:lnTo>
                    <a:pt x="1466" y="5418"/>
                  </a:lnTo>
                  <a:lnTo>
                    <a:pt x="1486" y="5381"/>
                  </a:lnTo>
                  <a:lnTo>
                    <a:pt x="1508" y="5345"/>
                  </a:lnTo>
                  <a:lnTo>
                    <a:pt x="1550" y="5270"/>
                  </a:lnTo>
                  <a:lnTo>
                    <a:pt x="1589" y="5193"/>
                  </a:lnTo>
                  <a:lnTo>
                    <a:pt x="1628" y="5116"/>
                  </a:lnTo>
                  <a:lnTo>
                    <a:pt x="1646" y="5076"/>
                  </a:lnTo>
                  <a:lnTo>
                    <a:pt x="1665" y="5037"/>
                  </a:lnTo>
                  <a:lnTo>
                    <a:pt x="1703" y="4958"/>
                  </a:lnTo>
                  <a:lnTo>
                    <a:pt x="1737" y="4875"/>
                  </a:lnTo>
                  <a:lnTo>
                    <a:pt x="1771" y="4793"/>
                  </a:lnTo>
                  <a:lnTo>
                    <a:pt x="1802" y="4709"/>
                  </a:lnTo>
                  <a:lnTo>
                    <a:pt x="1834" y="4624"/>
                  </a:lnTo>
                  <a:lnTo>
                    <a:pt x="1864" y="4536"/>
                  </a:lnTo>
                  <a:lnTo>
                    <a:pt x="1877" y="4492"/>
                  </a:lnTo>
                  <a:lnTo>
                    <a:pt x="1892" y="4449"/>
                  </a:lnTo>
                  <a:lnTo>
                    <a:pt x="1919" y="4359"/>
                  </a:lnTo>
                  <a:lnTo>
                    <a:pt x="1932" y="4314"/>
                  </a:lnTo>
                  <a:lnTo>
                    <a:pt x="1945" y="4270"/>
                  </a:lnTo>
                  <a:lnTo>
                    <a:pt x="1968" y="4180"/>
                  </a:lnTo>
                  <a:lnTo>
                    <a:pt x="1989" y="4092"/>
                  </a:lnTo>
                  <a:lnTo>
                    <a:pt x="2010" y="4002"/>
                  </a:lnTo>
                  <a:lnTo>
                    <a:pt x="2030" y="3914"/>
                  </a:lnTo>
                  <a:lnTo>
                    <a:pt x="2064" y="3733"/>
                  </a:lnTo>
                  <a:lnTo>
                    <a:pt x="2080" y="3641"/>
                  </a:lnTo>
                  <a:lnTo>
                    <a:pt x="2095" y="3550"/>
                  </a:lnTo>
                  <a:lnTo>
                    <a:pt x="2106" y="3457"/>
                  </a:lnTo>
                  <a:lnTo>
                    <a:pt x="2118" y="3365"/>
                  </a:lnTo>
                  <a:lnTo>
                    <a:pt x="2122" y="3318"/>
                  </a:lnTo>
                  <a:lnTo>
                    <a:pt x="2124" y="3294"/>
                  </a:lnTo>
                  <a:lnTo>
                    <a:pt x="2128" y="3271"/>
                  </a:lnTo>
                  <a:lnTo>
                    <a:pt x="2137" y="3178"/>
                  </a:lnTo>
                  <a:lnTo>
                    <a:pt x="2144" y="3083"/>
                  </a:lnTo>
                  <a:lnTo>
                    <a:pt x="2146" y="3035"/>
                  </a:lnTo>
                  <a:lnTo>
                    <a:pt x="2146" y="3023"/>
                  </a:lnTo>
                  <a:lnTo>
                    <a:pt x="2147" y="3012"/>
                  </a:lnTo>
                  <a:lnTo>
                    <a:pt x="2149" y="2989"/>
                  </a:lnTo>
                  <a:lnTo>
                    <a:pt x="2154" y="2894"/>
                  </a:lnTo>
                  <a:lnTo>
                    <a:pt x="2157" y="2798"/>
                  </a:lnTo>
                  <a:lnTo>
                    <a:pt x="2157" y="2607"/>
                  </a:lnTo>
                  <a:lnTo>
                    <a:pt x="2153" y="2419"/>
                  </a:lnTo>
                  <a:lnTo>
                    <a:pt x="2148" y="2323"/>
                  </a:lnTo>
                  <a:lnTo>
                    <a:pt x="2142" y="2231"/>
                  </a:lnTo>
                  <a:lnTo>
                    <a:pt x="2136" y="2138"/>
                  </a:lnTo>
                  <a:lnTo>
                    <a:pt x="2128" y="2046"/>
                  </a:lnTo>
                  <a:lnTo>
                    <a:pt x="2118" y="1953"/>
                  </a:lnTo>
                  <a:lnTo>
                    <a:pt x="2106" y="1861"/>
                  </a:lnTo>
                  <a:lnTo>
                    <a:pt x="2094" y="1769"/>
                  </a:lnTo>
                  <a:lnTo>
                    <a:pt x="2080" y="1678"/>
                  </a:lnTo>
                  <a:lnTo>
                    <a:pt x="2064" y="1588"/>
                  </a:lnTo>
                  <a:lnTo>
                    <a:pt x="2047" y="1497"/>
                  </a:lnTo>
                  <a:lnTo>
                    <a:pt x="2011" y="1319"/>
                  </a:lnTo>
                  <a:lnTo>
                    <a:pt x="1988" y="1226"/>
                  </a:lnTo>
                  <a:lnTo>
                    <a:pt x="1966" y="1135"/>
                  </a:lnTo>
                  <a:lnTo>
                    <a:pt x="1942" y="1046"/>
                  </a:lnTo>
                  <a:lnTo>
                    <a:pt x="1917" y="959"/>
                  </a:lnTo>
                  <a:lnTo>
                    <a:pt x="1890" y="871"/>
                  </a:lnTo>
                  <a:lnTo>
                    <a:pt x="1862" y="786"/>
                  </a:lnTo>
                  <a:lnTo>
                    <a:pt x="1833" y="701"/>
                  </a:lnTo>
                  <a:lnTo>
                    <a:pt x="1804" y="620"/>
                  </a:lnTo>
                  <a:lnTo>
                    <a:pt x="1771" y="537"/>
                  </a:lnTo>
                  <a:lnTo>
                    <a:pt x="1738" y="456"/>
                  </a:lnTo>
                  <a:lnTo>
                    <a:pt x="1704" y="376"/>
                  </a:lnTo>
                  <a:lnTo>
                    <a:pt x="1669" y="299"/>
                  </a:lnTo>
                  <a:lnTo>
                    <a:pt x="1631" y="222"/>
                  </a:lnTo>
                  <a:lnTo>
                    <a:pt x="1593" y="147"/>
                  </a:lnTo>
                  <a:lnTo>
                    <a:pt x="1553" y="72"/>
                  </a:lnTo>
                  <a:lnTo>
                    <a:pt x="1513" y="0"/>
                  </a:lnTo>
                  <a:lnTo>
                    <a:pt x="1486" y="48"/>
                  </a:lnTo>
                  <a:lnTo>
                    <a:pt x="1461" y="98"/>
                  </a:lnTo>
                  <a:lnTo>
                    <a:pt x="1436" y="147"/>
                  </a:lnTo>
                  <a:lnTo>
                    <a:pt x="1414" y="197"/>
                  </a:lnTo>
                  <a:lnTo>
                    <a:pt x="1369" y="291"/>
                  </a:lnTo>
                  <a:lnTo>
                    <a:pt x="1330" y="384"/>
                  </a:lnTo>
                  <a:lnTo>
                    <a:pt x="1292" y="472"/>
                  </a:lnTo>
                  <a:lnTo>
                    <a:pt x="1275" y="515"/>
                  </a:lnTo>
                  <a:lnTo>
                    <a:pt x="1261" y="560"/>
                  </a:lnTo>
                  <a:lnTo>
                    <a:pt x="1245" y="600"/>
                  </a:lnTo>
                  <a:lnTo>
                    <a:pt x="1231" y="642"/>
                  </a:lnTo>
                  <a:lnTo>
                    <a:pt x="1217" y="683"/>
                  </a:lnTo>
                  <a:lnTo>
                    <a:pt x="1206" y="725"/>
                  </a:lnTo>
                  <a:close/>
                </a:path>
              </a:pathLst>
            </a:custGeom>
            <a:gradFill rotWithShape="0">
              <a:gsLst>
                <a:gs pos="0">
                  <a:srgbClr val="004463"/>
                </a:gs>
                <a:gs pos="100000">
                  <a:srgbClr val="00162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49" name="top" descr=""/>
          <p:cNvPicPr/>
          <p:nvPr/>
        </p:nvPicPr>
        <p:blipFill>
          <a:blip r:embed="rId2"/>
          <a:stretch/>
        </p:blipFill>
        <p:spPr>
          <a:xfrm>
            <a:off x="0" y="1760400"/>
            <a:ext cx="9144000" cy="3187800"/>
          </a:xfrm>
          <a:prstGeom prst="rect">
            <a:avLst/>
          </a:prstGeom>
          <a:ln w="0">
            <a:noFill/>
          </a:ln>
        </p:spPr>
      </p:pic>
      <p:pic>
        <p:nvPicPr>
          <p:cNvPr id="50" name="bottom" descr=""/>
          <p:cNvPicPr/>
          <p:nvPr/>
        </p:nvPicPr>
        <p:blipFill>
          <a:blip r:embed="rId3"/>
          <a:stretch/>
        </p:blipFill>
        <p:spPr>
          <a:xfrm>
            <a:off x="961920" y="4946760"/>
            <a:ext cx="2610000" cy="1936800"/>
          </a:xfrm>
          <a:prstGeom prst="rect">
            <a:avLst/>
          </a:prstGeom>
          <a:ln w="0">
            <a:noFill/>
          </a:ln>
        </p:spPr>
      </p:pic>
      <p:sp>
        <p:nvSpPr>
          <p:cNvPr id="51" name="PlaceHolder 1"/>
          <p:cNvSpPr>
            <a:spLocks noGrp="1"/>
          </p:cNvSpPr>
          <p:nvPr>
            <p:ph type="title"/>
          </p:nvPr>
        </p:nvSpPr>
        <p:spPr>
          <a:xfrm>
            <a:off x="547200" y="1857240"/>
            <a:ext cx="7967880" cy="90648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Click to edit the title text format</a:t>
            </a:r>
            <a:endParaRPr b="0" lang="en-US" sz="2800" spc="-1" strike="noStrike">
              <a:solidFill>
                <a:srgbClr val="e8b500"/>
              </a:solidFill>
              <a:latin typeface="Arial Narrow"/>
            </a:endParaRPr>
          </a:p>
        </p:txBody>
      </p:sp>
      <p:pic>
        <p:nvPicPr>
          <p:cNvPr id="52" name="logo" descr=""/>
          <p:cNvPicPr/>
          <p:nvPr/>
        </p:nvPicPr>
        <p:blipFill>
          <a:blip r:embed="rId4"/>
          <a:stretch/>
        </p:blipFill>
        <p:spPr>
          <a:xfrm>
            <a:off x="6332400" y="5818320"/>
            <a:ext cx="2219400" cy="72360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outline text format</a:t>
            </a:r>
            <a:endParaRPr b="0" lang="en-US" sz="36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algn="ctr">
              <a:spcBef>
                <a:spcPts val="499"/>
              </a:spcBef>
              <a:buClr>
                <a:srgbClr val="ffffff"/>
              </a:buClr>
              <a:buSzPct val="39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algn="ctr">
              <a:spcBef>
                <a:spcPts val="451"/>
              </a:spcBef>
              <a:buClr>
                <a:srgbClr val="ffffff"/>
              </a:buClr>
              <a:buSzPct val="39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a:spcBef>
                <a:spcPts val="451"/>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a:spcBef>
                <a:spcPts val="451"/>
              </a:spcBef>
              <a:buClr>
                <a:srgbClr val="ffffff"/>
              </a:buClr>
              <a:buSzPct val="3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90" name=""/>
          <p:cNvSpPr/>
          <p:nvPr/>
        </p:nvSpPr>
        <p:spPr>
          <a:xfrm>
            <a:off x="314280" y="6229440"/>
            <a:ext cx="4703760" cy="447480"/>
          </a:xfrm>
          <a:prstGeom prst="rect">
            <a:avLst/>
          </a:prstGeom>
          <a:noFill/>
          <a:ln w="0">
            <a:noFill/>
          </a:ln>
        </p:spPr>
        <p:style>
          <a:lnRef idx="0"/>
          <a:fillRef idx="0"/>
          <a:effectRef idx="0"/>
          <a:fontRef idx="minor"/>
        </p:style>
        <p:txBody>
          <a:bodyPr lIns="36360" rIns="36360" tIns="36360" bIns="36360" anchor="t"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1"/>
          <p:cNvSpPr>
            <a:spLocks noGrp="1"/>
          </p:cNvSpPr>
          <p:nvPr>
            <p:ph type="title"/>
          </p:nvPr>
        </p:nvSpPr>
        <p:spPr>
          <a:xfrm>
            <a:off x="1020240" y="2050560"/>
            <a:ext cx="7155000" cy="16700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e8b500"/>
                </a:solidFill>
                <a:latin typeface="Arial Narrow"/>
              </a:rPr>
              <a:t>Commercial Real Estate Development and the “City Offer”</a:t>
            </a:r>
            <a:endParaRPr b="0" lang="en-US" sz="3600" spc="-1" strike="noStrike">
              <a:solidFill>
                <a:srgbClr val="e8b500"/>
              </a:solidFill>
              <a:latin typeface="Arial Narrow"/>
            </a:endParaRPr>
          </a:p>
        </p:txBody>
      </p:sp>
      <p:sp>
        <p:nvSpPr>
          <p:cNvPr id="92" name="PlaceHolder 2"/>
          <p:cNvSpPr>
            <a:spLocks noGrp="1"/>
          </p:cNvSpPr>
          <p:nvPr>
            <p:ph type="subTitle"/>
          </p:nvPr>
        </p:nvSpPr>
        <p:spPr>
          <a:xfrm>
            <a:off x="614520" y="4338720"/>
            <a:ext cx="7967520" cy="689040"/>
          </a:xfrm>
          <a:prstGeom prst="rect">
            <a:avLst/>
          </a:prstGeom>
          <a:noFill/>
          <a:ln w="0">
            <a:noFill/>
          </a:ln>
        </p:spPr>
        <p:txBody>
          <a:bodyPr lIns="36360" rIns="36360" tIns="36360" bIns="36360" anchor="t"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Narrow"/>
              </a:rPr>
              <a:t>Jeremy.Kelly@eu.joneslanglasalle.com</a:t>
            </a:r>
            <a:endParaRPr b="0" lang="en-US" sz="3600" spc="-1" strike="noStrike">
              <a:solidFill>
                <a:srgbClr val="ffffff"/>
              </a:solidFill>
              <a:latin typeface="Arial Narrow"/>
            </a:endParaRPr>
          </a:p>
        </p:txBody>
      </p:sp>
      <p:sp>
        <p:nvSpPr>
          <p:cNvPr id="93" name=""/>
          <p:cNvSpPr/>
          <p:nvPr/>
        </p:nvSpPr>
        <p:spPr>
          <a:xfrm>
            <a:off x="765000" y="5721480"/>
            <a:ext cx="2673360" cy="666720"/>
          </a:xfrm>
          <a:prstGeom prst="rect">
            <a:avLst/>
          </a:prstGeom>
          <a:noFill/>
          <a:ln w="0">
            <a:noFill/>
          </a:ln>
        </p:spPr>
        <p:style>
          <a:lnRef idx="0"/>
          <a:fillRef idx="0"/>
          <a:effectRef idx="0"/>
          <a:fontRef idx="minor"/>
        </p:style>
        <p:txBody>
          <a:bodyPr lIns="36360" rIns="36360" tIns="36360" bIns="36360" anchor="t"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8</a:t>
            </a:r>
            <a:r>
              <a:rPr b="0" lang="en-US" sz="2800" spc="-1" strike="noStrike" baseline="30000">
                <a:solidFill>
                  <a:srgbClr val="ffffff"/>
                </a:solidFill>
                <a:latin typeface="Arial Narrow"/>
              </a:rPr>
              <a:t>th</a:t>
            </a:r>
            <a:r>
              <a:rPr b="0" lang="en-US" sz="2800" spc="-1" strike="noStrike">
                <a:solidFill>
                  <a:srgbClr val="ffffff"/>
                </a:solidFill>
                <a:latin typeface="Arial Narrow"/>
              </a:rPr>
              <a:t> February 2002</a:t>
            </a:r>
            <a:endParaRPr b="0" lang="en-US" sz="2800" spc="-1" strike="noStrike">
              <a:solidFill>
                <a:srgbClr val="ffffff"/>
              </a:solidFill>
              <a:latin typeface="Times New Roman"/>
            </a:endParaRPr>
          </a:p>
        </p:txBody>
      </p:sp>
      <p:sp>
        <p:nvSpPr>
          <p:cNvPr id="94" name=""/>
          <p:cNvSpPr/>
          <p:nvPr/>
        </p:nvSpPr>
        <p:spPr>
          <a:xfrm>
            <a:off x="3214440" y="515880"/>
            <a:ext cx="2766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maca II  Seminar</a:t>
            </a:r>
            <a:br>
              <a:rPr sz="2800"/>
            </a:br>
            <a:endParaRPr b="0" lang="en-US" sz="2800" spc="-1" strike="noStrike">
              <a:solidFill>
                <a:srgbClr val="ffffff"/>
              </a:solidFill>
              <a:latin typeface="Times New Roman"/>
            </a:endParaRPr>
          </a:p>
        </p:txBody>
      </p:sp>
      <p:sp>
        <p:nvSpPr>
          <p:cNvPr id="95" name=""/>
          <p:cNvSpPr/>
          <p:nvPr/>
        </p:nvSpPr>
        <p:spPr>
          <a:xfrm>
            <a:off x="552240" y="973080"/>
            <a:ext cx="81331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conomic Performance of the Major European Metro Region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ing their Competit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86" name=""/>
          <p:cNvSpPr/>
          <p:nvPr/>
        </p:nvSpPr>
        <p:spPr>
          <a:xfrm>
            <a:off x="1073160" y="1752480"/>
            <a:ext cx="6549840" cy="361980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PlaceHolder 1"/>
          <p:cNvSpPr>
            <a:spLocks noGrp="1"/>
          </p:cNvSpPr>
          <p:nvPr>
            <p:ph type="title"/>
          </p:nvPr>
        </p:nvSpPr>
        <p:spPr>
          <a:xfrm>
            <a:off x="980640" y="275760"/>
            <a:ext cx="7629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Response: Peak of Cycles</a:t>
            </a:r>
            <a:endParaRPr b="0" lang="en-US" sz="3600" spc="-1" strike="noStrike">
              <a:solidFill>
                <a:srgbClr val="e8b500"/>
              </a:solidFill>
              <a:latin typeface="Arial Narrow"/>
            </a:endParaRPr>
          </a:p>
        </p:txBody>
      </p:sp>
      <p:graphicFrame>
        <p:nvGraphicFramePr>
          <p:cNvPr id="388" name=""/>
          <p:cNvGraphicFramePr/>
          <p:nvPr/>
        </p:nvGraphicFramePr>
        <p:xfrm>
          <a:off x="920880" y="1614600"/>
          <a:ext cx="6845040" cy="4330440"/>
        </p:xfrm>
        <a:graphic>
          <a:graphicData uri="http://schemas.openxmlformats.org/presentationml/2006/ole">
            <p:oleObj r:id="rId1" spid="">
              <p:embed/>
              <p:pic>
                <p:nvPicPr>
                  <p:cNvPr id="389" name="" descr=""/>
                  <p:cNvPicPr/>
                  <p:nvPr/>
                </p:nvPicPr>
                <p:blipFill>
                  <a:blip r:embed="rId2"/>
                  <a:stretch/>
                </p:blipFill>
                <p:spPr>
                  <a:xfrm>
                    <a:off x="920880" y="1614600"/>
                    <a:ext cx="6845040" cy="4330440"/>
                  </a:xfrm>
                  <a:prstGeom prst="rect">
                    <a:avLst/>
                  </a:prstGeom>
                  <a:ln w="0">
                    <a:noFill/>
                  </a:ln>
                </p:spPr>
              </p:pic>
            </p:oleObj>
          </a:graphicData>
        </a:graphic>
      </p:graphicFrame>
      <p:sp>
        <p:nvSpPr>
          <p:cNvPr id="390" name=""/>
          <p:cNvSpPr/>
          <p:nvPr/>
        </p:nvSpPr>
        <p:spPr>
          <a:xfrm>
            <a:off x="1333440" y="2552760"/>
            <a:ext cx="6134040" cy="2000160"/>
          </a:xfrm>
          <a:custGeom>
            <a:avLst/>
            <a:gdLst/>
            <a:ahLst/>
            <a:rect l="l" t="t" r="r" b="b"/>
            <a:pathLst>
              <a:path w="3864" h="1260">
                <a:moveTo>
                  <a:pt x="0" y="948"/>
                </a:moveTo>
                <a:lnTo>
                  <a:pt x="93" y="833"/>
                </a:lnTo>
                <a:lnTo>
                  <a:pt x="216" y="636"/>
                </a:lnTo>
                <a:lnTo>
                  <a:pt x="312" y="504"/>
                </a:lnTo>
                <a:lnTo>
                  <a:pt x="396" y="408"/>
                </a:lnTo>
                <a:lnTo>
                  <a:pt x="468" y="336"/>
                </a:lnTo>
                <a:lnTo>
                  <a:pt x="564" y="216"/>
                </a:lnTo>
                <a:lnTo>
                  <a:pt x="684" y="120"/>
                </a:lnTo>
                <a:lnTo>
                  <a:pt x="828" y="36"/>
                </a:lnTo>
                <a:lnTo>
                  <a:pt x="996" y="12"/>
                </a:lnTo>
                <a:lnTo>
                  <a:pt x="1224" y="0"/>
                </a:lnTo>
                <a:lnTo>
                  <a:pt x="1488" y="132"/>
                </a:lnTo>
                <a:lnTo>
                  <a:pt x="1668" y="324"/>
                </a:lnTo>
                <a:lnTo>
                  <a:pt x="1776" y="468"/>
                </a:lnTo>
                <a:lnTo>
                  <a:pt x="1932" y="696"/>
                </a:lnTo>
                <a:lnTo>
                  <a:pt x="2040" y="864"/>
                </a:lnTo>
                <a:lnTo>
                  <a:pt x="2196" y="1092"/>
                </a:lnTo>
                <a:lnTo>
                  <a:pt x="2436" y="1224"/>
                </a:lnTo>
                <a:lnTo>
                  <a:pt x="2736" y="1260"/>
                </a:lnTo>
                <a:lnTo>
                  <a:pt x="2988" y="1212"/>
                </a:lnTo>
                <a:lnTo>
                  <a:pt x="3168" y="1056"/>
                </a:lnTo>
                <a:lnTo>
                  <a:pt x="3300" y="840"/>
                </a:lnTo>
                <a:lnTo>
                  <a:pt x="3425" y="664"/>
                </a:lnTo>
                <a:lnTo>
                  <a:pt x="3501" y="560"/>
                </a:lnTo>
                <a:lnTo>
                  <a:pt x="3568" y="496"/>
                </a:lnTo>
                <a:lnTo>
                  <a:pt x="3682" y="416"/>
                </a:lnTo>
                <a:lnTo>
                  <a:pt x="3864" y="336"/>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rot="16200000">
            <a:off x="399960" y="2895120"/>
            <a:ext cx="838440" cy="83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ompletions</a:t>
            </a:r>
            <a:endParaRPr b="0" lang="en-US" sz="1600" spc="-1" strike="noStrike">
              <a:solidFill>
                <a:srgbClr val="ffffff"/>
              </a:solidFill>
              <a:latin typeface="Times New Roman"/>
            </a:endParaRPr>
          </a:p>
        </p:txBody>
      </p:sp>
      <p:sp>
        <p:nvSpPr>
          <p:cNvPr id="392" name=""/>
          <p:cNvSpPr/>
          <p:nvPr/>
        </p:nvSpPr>
        <p:spPr>
          <a:xfrm>
            <a:off x="7356600" y="2368440"/>
            <a:ext cx="0" cy="4636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918480" y="2355840"/>
            <a:ext cx="0" cy="4636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1409760" y="1333440"/>
            <a:ext cx="2247840" cy="76212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447920" y="1581120"/>
            <a:ext cx="5331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FRA</a:t>
            </a:r>
            <a:endParaRPr b="0" lang="en-US" sz="1400" spc="-1" strike="noStrike">
              <a:solidFill>
                <a:srgbClr val="ffffff"/>
              </a:solidFill>
              <a:latin typeface="Times New Roman"/>
            </a:endParaRPr>
          </a:p>
        </p:txBody>
      </p:sp>
      <p:sp>
        <p:nvSpPr>
          <p:cNvPr id="396" name=""/>
          <p:cNvSpPr/>
          <p:nvPr/>
        </p:nvSpPr>
        <p:spPr>
          <a:xfrm>
            <a:off x="1822320" y="1581120"/>
            <a:ext cx="5335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BRU</a:t>
            </a:r>
            <a:endParaRPr b="0" lang="en-US" sz="1400" spc="-1" strike="noStrike">
              <a:solidFill>
                <a:srgbClr val="ffffff"/>
              </a:solidFill>
              <a:latin typeface="Times New Roman"/>
            </a:endParaRPr>
          </a:p>
        </p:txBody>
      </p:sp>
      <p:sp>
        <p:nvSpPr>
          <p:cNvPr id="397" name=""/>
          <p:cNvSpPr/>
          <p:nvPr/>
        </p:nvSpPr>
        <p:spPr>
          <a:xfrm>
            <a:off x="2260440" y="1581120"/>
            <a:ext cx="5335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DI</a:t>
            </a:r>
            <a:endParaRPr b="0" lang="en-US" sz="1400" spc="-1" strike="noStrike">
              <a:solidFill>
                <a:srgbClr val="ffffff"/>
              </a:solidFill>
              <a:latin typeface="Times New Roman"/>
            </a:endParaRPr>
          </a:p>
        </p:txBody>
      </p:sp>
      <p:sp>
        <p:nvSpPr>
          <p:cNvPr id="398" name=""/>
          <p:cNvSpPr/>
          <p:nvPr/>
        </p:nvSpPr>
        <p:spPr>
          <a:xfrm>
            <a:off x="2673360" y="1568520"/>
            <a:ext cx="5335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UB</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U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ON</a:t>
            </a:r>
            <a:endParaRPr b="0" lang="en-US" sz="1400" spc="-1" strike="noStrike">
              <a:solidFill>
                <a:srgbClr val="ffffff"/>
              </a:solidFill>
              <a:latin typeface="Times New Roman"/>
            </a:endParaRPr>
          </a:p>
        </p:txBody>
      </p:sp>
      <p:sp>
        <p:nvSpPr>
          <p:cNvPr id="399" name=""/>
          <p:cNvSpPr/>
          <p:nvPr/>
        </p:nvSpPr>
        <p:spPr>
          <a:xfrm>
            <a:off x="3124080" y="1593720"/>
            <a:ext cx="533520" cy="311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AR</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N</a:t>
            </a:r>
            <a:endParaRPr b="0" lang="en-US" sz="1400" spc="-1" strike="noStrike">
              <a:solidFill>
                <a:srgbClr val="ffffff"/>
              </a:solidFill>
              <a:latin typeface="Times New Roman"/>
            </a:endParaRPr>
          </a:p>
        </p:txBody>
      </p:sp>
      <p:sp>
        <p:nvSpPr>
          <p:cNvPr id="400" name=""/>
          <p:cNvSpPr/>
          <p:nvPr/>
        </p:nvSpPr>
        <p:spPr>
          <a:xfrm>
            <a:off x="2955960" y="2070000"/>
            <a:ext cx="0" cy="3621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H="1">
            <a:off x="2520720" y="1886040"/>
            <a:ext cx="6120" cy="5461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H="1">
            <a:off x="2082600" y="1886040"/>
            <a:ext cx="6120" cy="5461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H="1">
            <a:off x="1695240" y="1886040"/>
            <a:ext cx="6120" cy="5461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6629400" y="1143000"/>
            <a:ext cx="974880" cy="114300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629400" y="1778040"/>
            <a:ext cx="5335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AR</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DI</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FRA</a:t>
            </a:r>
            <a:endParaRPr b="0" lang="en-US" sz="1400" spc="-1" strike="noStrike">
              <a:solidFill>
                <a:srgbClr val="ffffff"/>
              </a:solidFill>
              <a:latin typeface="Times New Roman"/>
            </a:endParaRPr>
          </a:p>
        </p:txBody>
      </p:sp>
      <p:sp>
        <p:nvSpPr>
          <p:cNvPr id="406" name=""/>
          <p:cNvSpPr/>
          <p:nvPr/>
        </p:nvSpPr>
        <p:spPr>
          <a:xfrm>
            <a:off x="7099200" y="1536840"/>
            <a:ext cx="5335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BRU</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U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ON</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AR</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N</a:t>
            </a:r>
            <a:endParaRPr b="0" lang="en-US" sz="1400" spc="-1" strike="noStrike">
              <a:solidFill>
                <a:srgbClr val="ffffff"/>
              </a:solidFill>
              <a:latin typeface="Times New Roman"/>
            </a:endParaRPr>
          </a:p>
        </p:txBody>
      </p:sp>
      <p:sp>
        <p:nvSpPr>
          <p:cNvPr id="407" name=""/>
          <p:cNvSpPr/>
          <p:nvPr/>
        </p:nvSpPr>
        <p:spPr>
          <a:xfrm>
            <a:off x="3394080" y="2050920"/>
            <a:ext cx="0" cy="3621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Response: Office Completions</a:t>
            </a:r>
            <a:endParaRPr b="0" lang="en-US" sz="3600" spc="-1" strike="noStrike">
              <a:solidFill>
                <a:srgbClr val="e8b500"/>
              </a:solidFill>
              <a:latin typeface="Arial Narrow"/>
            </a:endParaRPr>
          </a:p>
        </p:txBody>
      </p:sp>
      <p:graphicFrame>
        <p:nvGraphicFramePr>
          <p:cNvPr id="409" name=""/>
          <p:cNvGraphicFramePr/>
          <p:nvPr/>
        </p:nvGraphicFramePr>
        <p:xfrm>
          <a:off x="1969920" y="1657440"/>
          <a:ext cx="4835520" cy="4141800"/>
        </p:xfrm>
        <a:graphic>
          <a:graphicData uri="http://schemas.openxmlformats.org/presentationml/2006/ole">
            <p:oleObj r:id="rId1" spid="">
              <p:embed/>
              <p:pic>
                <p:nvPicPr>
                  <p:cNvPr id="410" name="" descr=""/>
                  <p:cNvPicPr/>
                  <p:nvPr/>
                </p:nvPicPr>
                <p:blipFill>
                  <a:blip r:embed="rId2"/>
                  <a:stretch/>
                </p:blipFill>
                <p:spPr>
                  <a:xfrm>
                    <a:off x="1969920" y="1657440"/>
                    <a:ext cx="4835520" cy="4141800"/>
                  </a:xfrm>
                  <a:prstGeom prst="rect">
                    <a:avLst/>
                  </a:prstGeom>
                  <a:ln w="0">
                    <a:noFill/>
                  </a:ln>
                </p:spPr>
              </p:pic>
            </p:oleObj>
          </a:graphicData>
        </a:graphic>
      </p:graphicFrame>
      <p:sp>
        <p:nvSpPr>
          <p:cNvPr id="411" name=""/>
          <p:cNvSpPr/>
          <p:nvPr/>
        </p:nvSpPr>
        <p:spPr>
          <a:xfrm>
            <a:off x="338040" y="2284560"/>
            <a:ext cx="1784520" cy="233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Dublin</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Brussels</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Dusseldorf</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Randstad</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London</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Frankfurt</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dinburgh </a:t>
            </a:r>
            <a:endParaRPr b="0" lang="en-US" sz="2000" spc="-1" strike="noStrike">
              <a:solidFill>
                <a:srgbClr val="ffffff"/>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aris</a:t>
            </a:r>
            <a:endParaRPr b="0" lang="en-US" sz="2000" spc="-1" strike="noStrike">
              <a:solidFill>
                <a:srgbClr val="ffffff"/>
              </a:solidFill>
              <a:latin typeface="Times New Roman"/>
            </a:endParaRPr>
          </a:p>
        </p:txBody>
      </p:sp>
      <p:sp>
        <p:nvSpPr>
          <p:cNvPr id="412" name=""/>
          <p:cNvSpPr/>
          <p:nvPr/>
        </p:nvSpPr>
        <p:spPr>
          <a:xfrm>
            <a:off x="6581880" y="5172120"/>
            <a:ext cx="29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7324560" y="5172120"/>
            <a:ext cx="0" cy="5724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4" name=""/>
          <p:cNvSpPr/>
          <p:nvPr/>
        </p:nvSpPr>
        <p:spPr>
          <a:xfrm>
            <a:off x="7210440" y="5353200"/>
            <a:ext cx="228600" cy="18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a:t>
            </a:r>
            <a:endParaRPr b="0" lang="en-US" sz="1400" spc="-1" strike="noStrike">
              <a:solidFill>
                <a:srgbClr val="ffffff"/>
              </a:solidFill>
              <a:latin typeface="Times New Roman"/>
            </a:endParaRPr>
          </a:p>
        </p:txBody>
      </p:sp>
      <p:sp>
        <p:nvSpPr>
          <p:cNvPr id="415" name=""/>
          <p:cNvSpPr/>
          <p:nvPr/>
        </p:nvSpPr>
        <p:spPr>
          <a:xfrm>
            <a:off x="6872400" y="5035680"/>
            <a:ext cx="126720" cy="250560"/>
          </a:xfrm>
          <a:custGeom>
            <a:avLst/>
            <a:gdLst/>
            <a:ahLst/>
            <a:rect l="l" t="t" r="r" b="b"/>
            <a:pathLst>
              <a:path w="80" h="158">
                <a:moveTo>
                  <a:pt x="0" y="88"/>
                </a:moveTo>
                <a:cubicBezTo>
                  <a:pt x="4" y="75"/>
                  <a:pt x="15" y="0"/>
                  <a:pt x="24" y="10"/>
                </a:cubicBezTo>
                <a:cubicBezTo>
                  <a:pt x="33" y="20"/>
                  <a:pt x="44" y="134"/>
                  <a:pt x="53" y="146"/>
                </a:cubicBezTo>
                <a:cubicBezTo>
                  <a:pt x="62" y="158"/>
                  <a:pt x="75" y="98"/>
                  <a:pt x="80" y="85"/>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6996240" y="5172120"/>
            <a:ext cx="3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6496200" y="1855800"/>
            <a:ext cx="71100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848640" y="1847880"/>
            <a:ext cx="223560" cy="176040"/>
          </a:xfrm>
          <a:custGeom>
            <a:avLst/>
            <a:gdLst/>
            <a:ahLst/>
            <a:rect l="l" t="t" r="r" b="b"/>
            <a:pathLst>
              <a:path w="160" h="172">
                <a:moveTo>
                  <a:pt x="0" y="164"/>
                </a:moveTo>
                <a:lnTo>
                  <a:pt x="48" y="88"/>
                </a:lnTo>
                <a:lnTo>
                  <a:pt x="0" y="4"/>
                </a:lnTo>
                <a:lnTo>
                  <a:pt x="104" y="0"/>
                </a:lnTo>
                <a:lnTo>
                  <a:pt x="160" y="88"/>
                </a:lnTo>
                <a:lnTo>
                  <a:pt x="112" y="172"/>
                </a:lnTo>
                <a:lnTo>
                  <a:pt x="0" y="164"/>
                </a:lnTo>
                <a:close/>
              </a:path>
            </a:pathLst>
          </a:custGeom>
          <a:solidFill>
            <a:srgbClr val="0044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7219800" y="1781280"/>
            <a:ext cx="2732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9.8</a:t>
            </a:r>
            <a:endParaRPr b="0" lang="en-US" sz="1400" spc="-1" strike="noStrike">
              <a:solidFill>
                <a:srgbClr val="ffffff"/>
              </a:solidFill>
              <a:latin typeface="Times New Roman"/>
            </a:endParaRPr>
          </a:p>
        </p:txBody>
      </p:sp>
      <p:sp>
        <p:nvSpPr>
          <p:cNvPr id="420" name=""/>
          <p:cNvSpPr/>
          <p:nvPr/>
        </p:nvSpPr>
        <p:spPr>
          <a:xfrm>
            <a:off x="2322360" y="1184400"/>
            <a:ext cx="428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Cycles Compared</a:t>
            </a:r>
            <a:endParaRPr b="0" lang="en-US" sz="2800" spc="-1" strike="noStrike">
              <a:solidFill>
                <a:srgbClr val="ffffff"/>
              </a:solidFill>
              <a:latin typeface="Times New Roman"/>
            </a:endParaRPr>
          </a:p>
        </p:txBody>
      </p:sp>
      <p:sp>
        <p:nvSpPr>
          <p:cNvPr id="421" name=""/>
          <p:cNvSpPr/>
          <p:nvPr/>
        </p:nvSpPr>
        <p:spPr>
          <a:xfrm>
            <a:off x="6400800" y="4191120"/>
            <a:ext cx="330120" cy="188640"/>
          </a:xfrm>
          <a:prstGeom prst="rect">
            <a:avLst/>
          </a:prstGeom>
          <a:solidFill>
            <a:srgbClr val="e8b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400800" y="3886200"/>
            <a:ext cx="330120" cy="18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553080" y="3716280"/>
            <a:ext cx="1219320" cy="78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98 – 02</a:t>
            </a:r>
            <a:endParaRPr b="0" lang="en-US" sz="16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88 - 92</a:t>
            </a:r>
            <a:endParaRPr b="0" lang="en-US" sz="1600" spc="-1" strike="noStrike">
              <a:solidFill>
                <a:srgbClr val="ffffff"/>
              </a:solidFill>
              <a:latin typeface="Times New Roman"/>
            </a:endParaRPr>
          </a:p>
        </p:txBody>
      </p:sp>
      <p:sp>
        <p:nvSpPr>
          <p:cNvPr id="424" name=""/>
          <p:cNvSpPr/>
          <p:nvPr/>
        </p:nvSpPr>
        <p:spPr>
          <a:xfrm>
            <a:off x="6629400" y="4800600"/>
            <a:ext cx="536400" cy="276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of Stock pa</a:t>
            </a:r>
            <a:endParaRPr b="0" lang="en-US" sz="1600" spc="-1" strike="noStrike">
              <a:solidFill>
                <a:srgbClr val="ffffff"/>
              </a:solidFill>
              <a:latin typeface="Times New Roman"/>
            </a:endParaRPr>
          </a:p>
        </p:txBody>
      </p:sp>
      <p:sp>
        <p:nvSpPr>
          <p:cNvPr id="425"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August 200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61920" y="20916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Response: </a:t>
            </a:r>
            <a:br>
              <a:rPr sz="3600"/>
            </a:br>
            <a:r>
              <a:rPr b="0" lang="en-US" sz="3600" spc="-1" strike="noStrike">
                <a:solidFill>
                  <a:srgbClr val="e8b500"/>
                </a:solidFill>
                <a:latin typeface="Arial Narrow"/>
              </a:rPr>
              <a:t>Volatility of Office Completions 1986 - 2002</a:t>
            </a:r>
            <a:endParaRPr b="0" lang="en-US" sz="3600" spc="-1" strike="noStrike">
              <a:solidFill>
                <a:srgbClr val="e8b500"/>
              </a:solidFill>
              <a:latin typeface="Arial Narrow"/>
            </a:endParaRPr>
          </a:p>
        </p:txBody>
      </p:sp>
      <p:graphicFrame>
        <p:nvGraphicFramePr>
          <p:cNvPr id="427" name=""/>
          <p:cNvGraphicFramePr/>
          <p:nvPr/>
        </p:nvGraphicFramePr>
        <p:xfrm>
          <a:off x="990720" y="1143000"/>
          <a:ext cx="7429320" cy="4667400"/>
        </p:xfrm>
        <a:graphic>
          <a:graphicData uri="http://schemas.openxmlformats.org/presentationml/2006/ole">
            <p:oleObj r:id="rId1" spid="">
              <p:embed/>
              <p:pic>
                <p:nvPicPr>
                  <p:cNvPr id="428" name="" descr=""/>
                  <p:cNvPicPr/>
                  <p:nvPr/>
                </p:nvPicPr>
                <p:blipFill>
                  <a:blip r:embed="rId2"/>
                  <a:stretch/>
                </p:blipFill>
                <p:spPr>
                  <a:xfrm>
                    <a:off x="990720" y="1143000"/>
                    <a:ext cx="7429320" cy="4667400"/>
                  </a:xfrm>
                  <a:prstGeom prst="rect">
                    <a:avLst/>
                  </a:prstGeom>
                  <a:ln w="0">
                    <a:noFill/>
                  </a:ln>
                </p:spPr>
              </p:pic>
            </p:oleObj>
          </a:graphicData>
        </a:graphic>
      </p:graphicFrame>
      <p:sp>
        <p:nvSpPr>
          <p:cNvPr id="429" name=""/>
          <p:cNvSpPr/>
          <p:nvPr/>
        </p:nvSpPr>
        <p:spPr>
          <a:xfrm rot="16183200">
            <a:off x="138600" y="1976400"/>
            <a:ext cx="1523880" cy="31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mpletions % p.a</a:t>
            </a:r>
            <a:endParaRPr b="0" lang="en-US" sz="1800" spc="-1" strike="noStrike">
              <a:solidFill>
                <a:srgbClr val="ffffff"/>
              </a:solidFill>
              <a:latin typeface="Times New Roman"/>
            </a:endParaRPr>
          </a:p>
        </p:txBody>
      </p:sp>
      <p:sp>
        <p:nvSpPr>
          <p:cNvPr id="430" name=""/>
          <p:cNvSpPr/>
          <p:nvPr/>
        </p:nvSpPr>
        <p:spPr>
          <a:xfrm rot="21591000">
            <a:off x="3592440" y="5762520"/>
            <a:ext cx="1524240" cy="31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tandard Deviation</a:t>
            </a:r>
            <a:endParaRPr b="0" lang="en-US" sz="1800" spc="-1" strike="noStrike">
              <a:solidFill>
                <a:srgbClr val="ffffff"/>
              </a:solidFill>
              <a:latin typeface="Times New Roman"/>
            </a:endParaRPr>
          </a:p>
        </p:txBody>
      </p:sp>
      <p:sp>
        <p:nvSpPr>
          <p:cNvPr id="431"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a:t>
            </a:r>
            <a:endParaRPr b="0" lang="en-US" sz="1200" spc="-1" strike="noStrike">
              <a:solidFill>
                <a:srgbClr val="ffffff"/>
              </a:solidFill>
              <a:latin typeface="Times New Roman"/>
            </a:endParaRPr>
          </a:p>
        </p:txBody>
      </p:sp>
      <p:sp>
        <p:nvSpPr>
          <p:cNvPr id="432" name=""/>
          <p:cNvSpPr/>
          <p:nvPr/>
        </p:nvSpPr>
        <p:spPr>
          <a:xfrm>
            <a:off x="2514600" y="3505320"/>
            <a:ext cx="7621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BRU</a:t>
            </a:r>
            <a:endParaRPr b="0" lang="en-US" sz="1600" spc="-1" strike="noStrike">
              <a:solidFill>
                <a:srgbClr val="ffffff"/>
              </a:solidFill>
              <a:latin typeface="Times New Roman"/>
            </a:endParaRPr>
          </a:p>
        </p:txBody>
      </p:sp>
      <p:sp>
        <p:nvSpPr>
          <p:cNvPr id="433" name=""/>
          <p:cNvSpPr/>
          <p:nvPr/>
        </p:nvSpPr>
        <p:spPr>
          <a:xfrm>
            <a:off x="1752480" y="3962520"/>
            <a:ext cx="7621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AN</a:t>
            </a:r>
            <a:endParaRPr b="0" lang="en-US" sz="1600" spc="-1" strike="noStrike">
              <a:solidFill>
                <a:srgbClr val="ffffff"/>
              </a:solidFill>
              <a:latin typeface="Times New Roman"/>
            </a:endParaRPr>
          </a:p>
        </p:txBody>
      </p:sp>
      <p:sp>
        <p:nvSpPr>
          <p:cNvPr id="434" name=""/>
          <p:cNvSpPr/>
          <p:nvPr/>
        </p:nvSpPr>
        <p:spPr>
          <a:xfrm>
            <a:off x="2743200" y="4191120"/>
            <a:ext cx="7621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DI</a:t>
            </a:r>
            <a:endParaRPr b="0" lang="en-US" sz="1600" spc="-1" strike="noStrike">
              <a:solidFill>
                <a:srgbClr val="ffffff"/>
              </a:solidFill>
              <a:latin typeface="Times New Roman"/>
            </a:endParaRPr>
          </a:p>
        </p:txBody>
      </p:sp>
      <p:sp>
        <p:nvSpPr>
          <p:cNvPr id="435" name=""/>
          <p:cNvSpPr/>
          <p:nvPr/>
        </p:nvSpPr>
        <p:spPr>
          <a:xfrm>
            <a:off x="3505320" y="411480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FRA</a:t>
            </a:r>
            <a:endParaRPr b="0" lang="en-US" sz="1600" spc="-1" strike="noStrike">
              <a:solidFill>
                <a:srgbClr val="ffffff"/>
              </a:solidFill>
              <a:latin typeface="Times New Roman"/>
            </a:endParaRPr>
          </a:p>
        </p:txBody>
      </p:sp>
      <p:sp>
        <p:nvSpPr>
          <p:cNvPr id="436" name=""/>
          <p:cNvSpPr/>
          <p:nvPr/>
        </p:nvSpPr>
        <p:spPr>
          <a:xfrm>
            <a:off x="2971800" y="3352680"/>
            <a:ext cx="7621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AR</a:t>
            </a:r>
            <a:endParaRPr b="0" lang="en-US" sz="1600" spc="-1" strike="noStrike">
              <a:solidFill>
                <a:srgbClr val="ffffff"/>
              </a:solidFill>
              <a:latin typeface="Times New Roman"/>
            </a:endParaRPr>
          </a:p>
        </p:txBody>
      </p:sp>
      <p:sp>
        <p:nvSpPr>
          <p:cNvPr id="437" name=""/>
          <p:cNvSpPr/>
          <p:nvPr/>
        </p:nvSpPr>
        <p:spPr>
          <a:xfrm>
            <a:off x="3733920" y="358128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LON</a:t>
            </a:r>
            <a:endParaRPr b="0" lang="en-US" sz="1600" spc="-1" strike="noStrike">
              <a:solidFill>
                <a:srgbClr val="ffffff"/>
              </a:solidFill>
              <a:latin typeface="Times New Roman"/>
            </a:endParaRPr>
          </a:p>
        </p:txBody>
      </p:sp>
      <p:sp>
        <p:nvSpPr>
          <p:cNvPr id="438" name=""/>
          <p:cNvSpPr/>
          <p:nvPr/>
        </p:nvSpPr>
        <p:spPr>
          <a:xfrm>
            <a:off x="3352680" y="2971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US</a:t>
            </a:r>
            <a:endParaRPr b="0" lang="en-US" sz="1600" spc="-1" strike="noStrike">
              <a:solidFill>
                <a:srgbClr val="ffffff"/>
              </a:solidFill>
              <a:latin typeface="Times New Roman"/>
            </a:endParaRPr>
          </a:p>
        </p:txBody>
      </p:sp>
      <p:sp>
        <p:nvSpPr>
          <p:cNvPr id="439" name=""/>
          <p:cNvSpPr/>
          <p:nvPr/>
        </p:nvSpPr>
        <p:spPr>
          <a:xfrm>
            <a:off x="609588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UB</a:t>
            </a:r>
            <a:endParaRPr b="0" lang="en-US" sz="1600" spc="-1" strike="noStrike">
              <a:solidFill>
                <a:srgbClr val="ffffff"/>
              </a:solidFill>
              <a:latin typeface="Times New Roman"/>
            </a:endParaRPr>
          </a:p>
        </p:txBody>
      </p:sp>
      <p:sp>
        <p:nvSpPr>
          <p:cNvPr id="440" name=""/>
          <p:cNvSpPr/>
          <p:nvPr/>
        </p:nvSpPr>
        <p:spPr>
          <a:xfrm flipV="1">
            <a:off x="3124080" y="3634920"/>
            <a:ext cx="127080" cy="32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rot="1525800">
            <a:off x="2163240" y="3352320"/>
            <a:ext cx="655920" cy="1131840"/>
          </a:xfrm>
          <a:prstGeom prst="ellipse">
            <a:avLst/>
          </a:prstGeom>
          <a:noFill/>
          <a:ln w="38160">
            <a:solidFill>
              <a:srgbClr val="e8b5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2666880" y="2781360"/>
            <a:ext cx="228600" cy="533520"/>
          </a:xfrm>
          <a:prstGeom prst="line">
            <a:avLst/>
          </a:prstGeom>
          <a:ln w="28440">
            <a:solidFill>
              <a:srgbClr val="e8b5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209680" y="2209680"/>
            <a:ext cx="1371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8b500"/>
                </a:solidFill>
                <a:latin typeface="Arial Narrow"/>
              </a:rPr>
              <a:t>Least Volatile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8b500"/>
                </a:solidFill>
                <a:latin typeface="Arial Narrow"/>
              </a:rPr>
              <a:t>Marke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44" name=""/>
          <p:cNvSpPr/>
          <p:nvPr/>
        </p:nvSpPr>
        <p:spPr>
          <a:xfrm>
            <a:off x="1047600" y="5122800"/>
            <a:ext cx="2598840" cy="97308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047600" y="1447920"/>
            <a:ext cx="7277400" cy="358128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PlaceHolder 1"/>
          <p:cNvSpPr>
            <a:spLocks noGrp="1"/>
          </p:cNvSpPr>
          <p:nvPr>
            <p:ph type="title"/>
          </p:nvPr>
        </p:nvSpPr>
        <p:spPr>
          <a:xfrm>
            <a:off x="914040" y="390240"/>
            <a:ext cx="8163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Triggers: Supply Responsiveness 1998 - 2002</a:t>
            </a:r>
            <a:endParaRPr b="0" lang="en-US" sz="3600" spc="-1" strike="noStrike">
              <a:solidFill>
                <a:srgbClr val="e8b500"/>
              </a:solidFill>
              <a:latin typeface="Arial Narrow"/>
            </a:endParaRPr>
          </a:p>
        </p:txBody>
      </p:sp>
      <p:sp>
        <p:nvSpPr>
          <p:cNvPr id="447" name=""/>
          <p:cNvSpPr/>
          <p:nvPr/>
        </p:nvSpPr>
        <p:spPr>
          <a:xfrm>
            <a:off x="1187280" y="2133720"/>
            <a:ext cx="3070440" cy="2685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Dubl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Brusse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Dusseldor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Frankfur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ar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Lond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dinburg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Randstad</a:t>
            </a:r>
            <a:endParaRPr b="0" lang="en-US" sz="2000" spc="-1" strike="noStrike">
              <a:solidFill>
                <a:srgbClr val="ffffff"/>
              </a:solidFill>
              <a:latin typeface="Times New Roman"/>
            </a:endParaRPr>
          </a:p>
        </p:txBody>
      </p:sp>
      <p:sp>
        <p:nvSpPr>
          <p:cNvPr id="448" name=""/>
          <p:cNvSpPr/>
          <p:nvPr/>
        </p:nvSpPr>
        <p:spPr>
          <a:xfrm>
            <a:off x="2533680" y="1517760"/>
            <a:ext cx="141912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conomic </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rowth</a:t>
            </a:r>
            <a:endParaRPr b="0" lang="en-US" sz="2000" spc="-1" strike="noStrike">
              <a:solidFill>
                <a:srgbClr val="ffffff"/>
              </a:solidFill>
              <a:latin typeface="Times New Roman"/>
            </a:endParaRPr>
          </a:p>
        </p:txBody>
      </p:sp>
      <p:sp>
        <p:nvSpPr>
          <p:cNvPr id="449" name=""/>
          <p:cNvSpPr/>
          <p:nvPr/>
        </p:nvSpPr>
        <p:spPr>
          <a:xfrm>
            <a:off x="4038480" y="1517760"/>
            <a:ext cx="141948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Vacancy</a:t>
            </a:r>
            <a:br>
              <a:rPr sz="2000"/>
            </a:br>
            <a:r>
              <a:rPr b="0" lang="en-US" sz="2000" spc="-1" strike="noStrike">
                <a:solidFill>
                  <a:srgbClr val="ffffff"/>
                </a:solidFill>
                <a:latin typeface="Arial Narrow"/>
              </a:rPr>
              <a:t>Rates</a:t>
            </a:r>
            <a:endParaRPr b="0" lang="en-US" sz="2000" spc="-1" strike="noStrike">
              <a:solidFill>
                <a:srgbClr val="ffffff"/>
              </a:solidFill>
              <a:latin typeface="Times New Roman"/>
            </a:endParaRPr>
          </a:p>
        </p:txBody>
      </p:sp>
      <p:sp>
        <p:nvSpPr>
          <p:cNvPr id="450" name=""/>
          <p:cNvSpPr/>
          <p:nvPr/>
        </p:nvSpPr>
        <p:spPr>
          <a:xfrm>
            <a:off x="5391000" y="1536840"/>
            <a:ext cx="141948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ntal</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rowth</a:t>
            </a:r>
            <a:endParaRPr b="0" lang="en-US" sz="2000" spc="-1" strike="noStrike">
              <a:solidFill>
                <a:srgbClr val="ffffff"/>
              </a:solidFill>
              <a:latin typeface="Times New Roman"/>
            </a:endParaRPr>
          </a:p>
        </p:txBody>
      </p:sp>
      <p:sp>
        <p:nvSpPr>
          <p:cNvPr id="451" name=""/>
          <p:cNvSpPr/>
          <p:nvPr/>
        </p:nvSpPr>
        <p:spPr>
          <a:xfrm>
            <a:off x="6808680" y="1517760"/>
            <a:ext cx="141948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ross</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turns</a:t>
            </a:r>
            <a:endParaRPr b="0" lang="en-US" sz="2000" spc="-1" strike="noStrike">
              <a:solidFill>
                <a:srgbClr val="ffffff"/>
              </a:solidFill>
              <a:latin typeface="Times New Roman"/>
            </a:endParaRPr>
          </a:p>
        </p:txBody>
      </p:sp>
      <p:sp>
        <p:nvSpPr>
          <p:cNvPr id="452" name=""/>
          <p:cNvSpPr/>
          <p:nvPr/>
        </p:nvSpPr>
        <p:spPr>
          <a:xfrm>
            <a:off x="2646360" y="2152800"/>
            <a:ext cx="1135080" cy="268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p:txBody>
      </p:sp>
      <p:sp>
        <p:nvSpPr>
          <p:cNvPr id="453" name=""/>
          <p:cNvSpPr/>
          <p:nvPr/>
        </p:nvSpPr>
        <p:spPr>
          <a:xfrm>
            <a:off x="4170240" y="2171880"/>
            <a:ext cx="1135080" cy="268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n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X</a:t>
            </a:r>
            <a:endParaRPr b="0" lang="en-US" sz="2000" spc="-1" strike="noStrike">
              <a:solidFill>
                <a:srgbClr val="ffffff"/>
              </a:solidFill>
              <a:latin typeface="Times New Roman"/>
            </a:endParaRPr>
          </a:p>
        </p:txBody>
      </p:sp>
      <p:sp>
        <p:nvSpPr>
          <p:cNvPr id="454" name=""/>
          <p:cNvSpPr/>
          <p:nvPr/>
        </p:nvSpPr>
        <p:spPr>
          <a:xfrm>
            <a:off x="5522760" y="2171880"/>
            <a:ext cx="1135080" cy="268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p:txBody>
      </p:sp>
      <p:sp>
        <p:nvSpPr>
          <p:cNvPr id="455" name=""/>
          <p:cNvSpPr/>
          <p:nvPr/>
        </p:nvSpPr>
        <p:spPr>
          <a:xfrm>
            <a:off x="6902280" y="2190600"/>
            <a:ext cx="1135080" cy="268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p:txBody>
      </p:sp>
      <p:sp>
        <p:nvSpPr>
          <p:cNvPr id="456" name=""/>
          <p:cNvSpPr/>
          <p:nvPr/>
        </p:nvSpPr>
        <p:spPr>
          <a:xfrm>
            <a:off x="1131840" y="5486400"/>
            <a:ext cx="3808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
            </a:r>
            <a:endParaRPr b="0" lang="en-US" sz="2000" spc="-1" strike="noStrike">
              <a:solidFill>
                <a:srgbClr val="ffffff"/>
              </a:solidFill>
              <a:latin typeface="Times New Roman"/>
            </a:endParaRPr>
          </a:p>
        </p:txBody>
      </p:sp>
      <p:sp>
        <p:nvSpPr>
          <p:cNvPr id="457" name=""/>
          <p:cNvSpPr/>
          <p:nvPr/>
        </p:nvSpPr>
        <p:spPr>
          <a:xfrm>
            <a:off x="1436760" y="5257800"/>
            <a:ext cx="15238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ver respons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nder respons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easured response</a:t>
            </a:r>
            <a:endParaRPr b="0" lang="en-US" sz="2000" spc="-1" strike="noStrike">
              <a:solidFill>
                <a:srgbClr val="ffffff"/>
              </a:solidFill>
              <a:latin typeface="Times New Roman"/>
            </a:endParaRPr>
          </a:p>
        </p:txBody>
      </p:sp>
      <p:sp>
        <p:nvSpPr>
          <p:cNvPr id="458" name=""/>
          <p:cNvSpPr/>
          <p:nvPr/>
        </p:nvSpPr>
        <p:spPr>
          <a:xfrm>
            <a:off x="876240" y="927000"/>
            <a:ext cx="3390840" cy="463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3400" y="247320"/>
            <a:ext cx="517212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Supply Responsiveness – Current Cycle (1998 – 2002)</a:t>
            </a:r>
            <a:endParaRPr b="0" lang="en-US" sz="3600" spc="-1" strike="noStrike">
              <a:solidFill>
                <a:srgbClr val="e8b500"/>
              </a:solidFill>
              <a:latin typeface="Arial Narrow"/>
            </a:endParaRPr>
          </a:p>
        </p:txBody>
      </p:sp>
      <p:sp>
        <p:nvSpPr>
          <p:cNvPr id="460" name=""/>
          <p:cNvSpPr/>
          <p:nvPr/>
        </p:nvSpPr>
        <p:spPr>
          <a:xfrm>
            <a:off x="2743200" y="1539720"/>
            <a:ext cx="6002280" cy="437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igh development activity reflecting strong economic growth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ut analysis indicates development market may have “over-responded”</a:t>
            </a:r>
            <a:endParaRPr b="0" lang="en-US" sz="24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ow supply-side volatility (historically)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reasing supply side response in current cycle – driven by EU demand</a:t>
            </a:r>
            <a:endParaRPr b="0" lang="en-US" sz="24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ove average supply side response, despite relatively weak economic and market fundamental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
          <p:cNvSpPr/>
          <p:nvPr/>
        </p:nvSpPr>
        <p:spPr>
          <a:xfrm>
            <a:off x="927000" y="1641600"/>
            <a:ext cx="1397160" cy="2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Dublin</a:t>
            </a:r>
            <a:endParaRPr b="0" lang="en-US" sz="2800" spc="-1" strike="noStrike">
              <a:solidFill>
                <a:srgbClr val="ffffff"/>
              </a:solidFill>
              <a:latin typeface="Times New Roman"/>
            </a:endParaRPr>
          </a:p>
        </p:txBody>
      </p:sp>
      <p:sp>
        <p:nvSpPr>
          <p:cNvPr id="462" name=""/>
          <p:cNvSpPr/>
          <p:nvPr/>
        </p:nvSpPr>
        <p:spPr>
          <a:xfrm>
            <a:off x="927000" y="3314880"/>
            <a:ext cx="1397160" cy="247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Brussels</a:t>
            </a:r>
            <a:endParaRPr b="0" lang="en-US" sz="2800" spc="-1" strike="noStrike">
              <a:solidFill>
                <a:srgbClr val="ffffff"/>
              </a:solidFill>
              <a:latin typeface="Times New Roman"/>
            </a:endParaRPr>
          </a:p>
        </p:txBody>
      </p:sp>
      <p:sp>
        <p:nvSpPr>
          <p:cNvPr id="463" name=""/>
          <p:cNvSpPr/>
          <p:nvPr/>
        </p:nvSpPr>
        <p:spPr>
          <a:xfrm>
            <a:off x="927000" y="4762440"/>
            <a:ext cx="1397160" cy="2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8b500"/>
                </a:solidFill>
                <a:latin typeface="Arial Narrow"/>
              </a:rPr>
              <a:t>Dusseldor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61560" y="285480"/>
            <a:ext cx="5172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Supply Responsiveness – Current Cycle (1998 – 2002)</a:t>
            </a:r>
            <a:endParaRPr b="0" lang="en-US" sz="3600" spc="-1" strike="noStrike">
              <a:solidFill>
                <a:srgbClr val="e8b500"/>
              </a:solidFill>
              <a:latin typeface="Arial Narrow"/>
            </a:endParaRPr>
          </a:p>
        </p:txBody>
      </p:sp>
      <p:sp>
        <p:nvSpPr>
          <p:cNvPr id="465" name=""/>
          <p:cNvSpPr/>
          <p:nvPr/>
        </p:nvSpPr>
        <p:spPr>
          <a:xfrm>
            <a:off x="1085760" y="2076480"/>
            <a:ext cx="8763120" cy="320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2552760" y="1498680"/>
            <a:ext cx="6210360" cy="3819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d response in current development cycle.</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action to stronger supply side response in last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cycle</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d supply-side response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latively stable supply side response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nalysis indicated “under response” in current cycle</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UT increasing focus on Amsterdam</a:t>
            </a:r>
            <a:endParaRPr b="0" lang="en-US" sz="2400" spc="-1" strike="noStrike">
              <a:solidFill>
                <a:srgbClr val="ffffff"/>
              </a:solidFill>
              <a:latin typeface="Times New Roman"/>
            </a:endParaRPr>
          </a:p>
        </p:txBody>
      </p:sp>
      <p:sp>
        <p:nvSpPr>
          <p:cNvPr id="467" name=""/>
          <p:cNvSpPr/>
          <p:nvPr/>
        </p:nvSpPr>
        <p:spPr>
          <a:xfrm>
            <a:off x="933480" y="2133720"/>
            <a:ext cx="1396800" cy="24768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Frankfurt</a:t>
            </a:r>
            <a:endParaRPr b="0" lang="en-US" sz="2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London</a:t>
            </a:r>
            <a:endParaRPr b="0" lang="en-US" sz="2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Paris</a:t>
            </a:r>
            <a:endParaRPr b="0" lang="en-US" sz="2800" spc="-1" strike="noStrike">
              <a:solidFill>
                <a:srgbClr val="ffffff"/>
              </a:solidFill>
              <a:latin typeface="Times New Roman"/>
            </a:endParaRPr>
          </a:p>
        </p:txBody>
      </p:sp>
      <p:sp>
        <p:nvSpPr>
          <p:cNvPr id="468" name=""/>
          <p:cNvSpPr/>
          <p:nvPr/>
        </p:nvSpPr>
        <p:spPr>
          <a:xfrm>
            <a:off x="933480" y="3276720"/>
            <a:ext cx="1396800" cy="2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Edinburgh</a:t>
            </a:r>
            <a:endParaRPr b="0" lang="en-US" sz="2800" spc="-1" strike="noStrike">
              <a:solidFill>
                <a:srgbClr val="ffffff"/>
              </a:solidFill>
              <a:latin typeface="Times New Roman"/>
            </a:endParaRPr>
          </a:p>
        </p:txBody>
      </p:sp>
      <p:sp>
        <p:nvSpPr>
          <p:cNvPr id="469" name=""/>
          <p:cNvSpPr/>
          <p:nvPr/>
        </p:nvSpPr>
        <p:spPr>
          <a:xfrm>
            <a:off x="933480" y="3981600"/>
            <a:ext cx="1396800" cy="2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b500"/>
                </a:solidFill>
                <a:latin typeface="Arial Narrow"/>
              </a:rPr>
              <a:t>Randsta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70" name=""/>
          <p:cNvSpPr/>
          <p:nvPr/>
        </p:nvSpPr>
        <p:spPr>
          <a:xfrm>
            <a:off x="4973760" y="3683160"/>
            <a:ext cx="3579840" cy="233676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965840" y="1273320"/>
            <a:ext cx="3579840" cy="225720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915840" y="3695760"/>
            <a:ext cx="3579840" cy="233676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114560" y="5692680"/>
            <a:ext cx="20304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474" name=""/>
          <p:cNvSpPr/>
          <p:nvPr/>
        </p:nvSpPr>
        <p:spPr>
          <a:xfrm>
            <a:off x="4098960" y="5692680"/>
            <a:ext cx="20304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
        <p:nvSpPr>
          <p:cNvPr id="475" name=""/>
          <p:cNvSpPr/>
          <p:nvPr/>
        </p:nvSpPr>
        <p:spPr>
          <a:xfrm>
            <a:off x="907920" y="1285920"/>
            <a:ext cx="3579840" cy="225756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977400" y="250560"/>
            <a:ext cx="5931000" cy="685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Rental Evolution 1980 – 2001: Cyclical Markets</a:t>
            </a:r>
            <a:endParaRPr b="0" lang="en-US" sz="3600" spc="-1" strike="noStrike">
              <a:solidFill>
                <a:srgbClr val="e8b500"/>
              </a:solidFill>
              <a:latin typeface="Arial Narrow"/>
            </a:endParaRPr>
          </a:p>
        </p:txBody>
      </p:sp>
      <p:graphicFrame>
        <p:nvGraphicFramePr>
          <p:cNvPr id="477" name=""/>
          <p:cNvGraphicFramePr/>
          <p:nvPr/>
        </p:nvGraphicFramePr>
        <p:xfrm>
          <a:off x="1009800" y="1533600"/>
          <a:ext cx="3305160" cy="1746000"/>
        </p:xfrm>
        <a:graphic>
          <a:graphicData uri="http://schemas.openxmlformats.org/presentationml/2006/ole">
            <p:oleObj r:id="rId1" spid="">
              <p:embed/>
              <p:pic>
                <p:nvPicPr>
                  <p:cNvPr id="478" name="" descr=""/>
                  <p:cNvPicPr/>
                  <p:nvPr/>
                </p:nvPicPr>
                <p:blipFill>
                  <a:blip r:embed="rId2"/>
                  <a:stretch/>
                </p:blipFill>
                <p:spPr>
                  <a:xfrm>
                    <a:off x="1009800" y="1533600"/>
                    <a:ext cx="3305160" cy="1746000"/>
                  </a:xfrm>
                  <a:prstGeom prst="rect">
                    <a:avLst/>
                  </a:prstGeom>
                  <a:ln w="0">
                    <a:noFill/>
                  </a:ln>
                </p:spPr>
              </p:pic>
            </p:oleObj>
          </a:graphicData>
        </a:graphic>
      </p:graphicFrame>
      <p:graphicFrame>
        <p:nvGraphicFramePr>
          <p:cNvPr id="479" name=""/>
          <p:cNvGraphicFramePr/>
          <p:nvPr/>
        </p:nvGraphicFramePr>
        <p:xfrm>
          <a:off x="1054080" y="4014720"/>
          <a:ext cx="3289320" cy="1760760"/>
        </p:xfrm>
        <a:graphic>
          <a:graphicData uri="http://schemas.openxmlformats.org/presentationml/2006/ole">
            <p:oleObj r:id="rId3" spid="">
              <p:embed/>
              <p:pic>
                <p:nvPicPr>
                  <p:cNvPr id="480" name="" descr=""/>
                  <p:cNvPicPr/>
                  <p:nvPr/>
                </p:nvPicPr>
                <p:blipFill>
                  <a:blip r:embed="rId4"/>
                  <a:stretch/>
                </p:blipFill>
                <p:spPr>
                  <a:xfrm>
                    <a:off x="1054080" y="4014720"/>
                    <a:ext cx="3289320" cy="1760760"/>
                  </a:xfrm>
                  <a:prstGeom prst="rect">
                    <a:avLst/>
                  </a:prstGeom>
                  <a:ln w="0">
                    <a:noFill/>
                  </a:ln>
                </p:spPr>
              </p:pic>
            </p:oleObj>
          </a:graphicData>
        </a:graphic>
      </p:graphicFrame>
      <p:sp>
        <p:nvSpPr>
          <p:cNvPr id="481" name=""/>
          <p:cNvSpPr/>
          <p:nvPr/>
        </p:nvSpPr>
        <p:spPr>
          <a:xfrm>
            <a:off x="2398680" y="3643200"/>
            <a:ext cx="85716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ondon</a:t>
            </a:r>
            <a:endParaRPr b="0" lang="en-US" sz="2400" spc="-1" strike="noStrike">
              <a:solidFill>
                <a:srgbClr val="ffffff"/>
              </a:solidFill>
              <a:latin typeface="Times New Roman"/>
            </a:endParaRPr>
          </a:p>
        </p:txBody>
      </p:sp>
      <p:sp>
        <p:nvSpPr>
          <p:cNvPr id="482" name=""/>
          <p:cNvSpPr/>
          <p:nvPr/>
        </p:nvSpPr>
        <p:spPr>
          <a:xfrm>
            <a:off x="2297160" y="1192320"/>
            <a:ext cx="85716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is</a:t>
            </a:r>
            <a:endParaRPr b="0" lang="en-US" sz="2400" spc="-1" strike="noStrike">
              <a:solidFill>
                <a:srgbClr val="ffffff"/>
              </a:solidFill>
              <a:latin typeface="Times New Roman"/>
            </a:endParaRPr>
          </a:p>
        </p:txBody>
      </p:sp>
      <p:sp>
        <p:nvSpPr>
          <p:cNvPr id="483" name=""/>
          <p:cNvSpPr/>
          <p:nvPr/>
        </p:nvSpPr>
        <p:spPr>
          <a:xfrm>
            <a:off x="6378480" y="3643200"/>
            <a:ext cx="85752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Dusseldorf</a:t>
            </a:r>
            <a:endParaRPr b="0" lang="en-US" sz="2400" spc="-1" strike="noStrike">
              <a:solidFill>
                <a:srgbClr val="ffffff"/>
              </a:solidFill>
              <a:latin typeface="Times New Roman"/>
            </a:endParaRPr>
          </a:p>
        </p:txBody>
      </p:sp>
      <p:sp>
        <p:nvSpPr>
          <p:cNvPr id="484" name=""/>
          <p:cNvSpPr/>
          <p:nvPr/>
        </p:nvSpPr>
        <p:spPr>
          <a:xfrm>
            <a:off x="6311880" y="1190520"/>
            <a:ext cx="85716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ankfurt</a:t>
            </a:r>
            <a:endParaRPr b="0" lang="en-US" sz="2400" spc="-1" strike="noStrike">
              <a:solidFill>
                <a:srgbClr val="ffffff"/>
              </a:solidFill>
              <a:latin typeface="Times New Roman"/>
            </a:endParaRPr>
          </a:p>
        </p:txBody>
      </p:sp>
      <p:sp>
        <p:nvSpPr>
          <p:cNvPr id="485" name=""/>
          <p:cNvSpPr/>
          <p:nvPr/>
        </p:nvSpPr>
        <p:spPr>
          <a:xfrm>
            <a:off x="1041480" y="3220920"/>
            <a:ext cx="20304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486" name=""/>
          <p:cNvSpPr/>
          <p:nvPr/>
        </p:nvSpPr>
        <p:spPr>
          <a:xfrm>
            <a:off x="4060800" y="3220920"/>
            <a:ext cx="20340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graphicFrame>
        <p:nvGraphicFramePr>
          <p:cNvPr id="487" name=""/>
          <p:cNvGraphicFramePr/>
          <p:nvPr/>
        </p:nvGraphicFramePr>
        <p:xfrm>
          <a:off x="5103720" y="1488960"/>
          <a:ext cx="3262320" cy="1846440"/>
        </p:xfrm>
        <a:graphic>
          <a:graphicData uri="http://schemas.openxmlformats.org/presentationml/2006/ole">
            <p:oleObj r:id="rId5" spid="">
              <p:embed/>
              <p:pic>
                <p:nvPicPr>
                  <p:cNvPr id="488" name="" descr=""/>
                  <p:cNvPicPr/>
                  <p:nvPr/>
                </p:nvPicPr>
                <p:blipFill>
                  <a:blip r:embed="rId6"/>
                  <a:stretch/>
                </p:blipFill>
                <p:spPr>
                  <a:xfrm>
                    <a:off x="5103720" y="1488960"/>
                    <a:ext cx="3262320" cy="1846440"/>
                  </a:xfrm>
                  <a:prstGeom prst="rect">
                    <a:avLst/>
                  </a:prstGeom>
                  <a:ln w="0">
                    <a:noFill/>
                  </a:ln>
                </p:spPr>
              </p:pic>
            </p:oleObj>
          </a:graphicData>
        </a:graphic>
      </p:graphicFrame>
      <p:graphicFrame>
        <p:nvGraphicFramePr>
          <p:cNvPr id="489" name=""/>
          <p:cNvGraphicFramePr/>
          <p:nvPr/>
        </p:nvGraphicFramePr>
        <p:xfrm>
          <a:off x="5103720" y="3978360"/>
          <a:ext cx="3289320" cy="1760400"/>
        </p:xfrm>
        <a:graphic>
          <a:graphicData uri="http://schemas.openxmlformats.org/presentationml/2006/ole">
            <p:oleObj r:id="rId7" spid="">
              <p:embed/>
              <p:pic>
                <p:nvPicPr>
                  <p:cNvPr id="490" name="" descr=""/>
                  <p:cNvPicPr/>
                  <p:nvPr/>
                </p:nvPicPr>
                <p:blipFill>
                  <a:blip r:embed="rId8"/>
                  <a:stretch/>
                </p:blipFill>
                <p:spPr>
                  <a:xfrm>
                    <a:off x="5103720" y="3978360"/>
                    <a:ext cx="3289320" cy="1760400"/>
                  </a:xfrm>
                  <a:prstGeom prst="rect">
                    <a:avLst/>
                  </a:prstGeom>
                  <a:ln w="0">
                    <a:noFill/>
                  </a:ln>
                </p:spPr>
              </p:pic>
            </p:oleObj>
          </a:graphicData>
        </a:graphic>
      </p:graphicFrame>
      <p:sp>
        <p:nvSpPr>
          <p:cNvPr id="491" name=""/>
          <p:cNvSpPr/>
          <p:nvPr/>
        </p:nvSpPr>
        <p:spPr>
          <a:xfrm>
            <a:off x="5110200" y="3222720"/>
            <a:ext cx="20304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492" name=""/>
          <p:cNvSpPr/>
          <p:nvPr/>
        </p:nvSpPr>
        <p:spPr>
          <a:xfrm>
            <a:off x="8129520" y="3222720"/>
            <a:ext cx="20340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
        <p:nvSpPr>
          <p:cNvPr id="493" name=""/>
          <p:cNvSpPr/>
          <p:nvPr/>
        </p:nvSpPr>
        <p:spPr>
          <a:xfrm>
            <a:off x="5156280" y="5691240"/>
            <a:ext cx="20304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494" name=""/>
          <p:cNvSpPr/>
          <p:nvPr/>
        </p:nvSpPr>
        <p:spPr>
          <a:xfrm>
            <a:off x="8140680" y="5691240"/>
            <a:ext cx="20340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495" name=""/>
          <p:cNvSpPr/>
          <p:nvPr/>
        </p:nvSpPr>
        <p:spPr>
          <a:xfrm>
            <a:off x="4973760" y="3701880"/>
            <a:ext cx="3579840" cy="233712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965840" y="1263600"/>
            <a:ext cx="3579840" cy="231480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915840" y="3714840"/>
            <a:ext cx="3579840" cy="233676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907920" y="1276200"/>
            <a:ext cx="3579840" cy="231480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99" name=""/>
          <p:cNvGraphicFramePr/>
          <p:nvPr/>
        </p:nvGraphicFramePr>
        <p:xfrm>
          <a:off x="1054080" y="1511280"/>
          <a:ext cx="3260880" cy="1905120"/>
        </p:xfrm>
        <a:graphic>
          <a:graphicData uri="http://schemas.openxmlformats.org/presentationml/2006/ole">
            <p:oleObj r:id="rId1" spid="">
              <p:embed/>
              <p:pic>
                <p:nvPicPr>
                  <p:cNvPr id="500" name="" descr=""/>
                  <p:cNvPicPr/>
                  <p:nvPr/>
                </p:nvPicPr>
                <p:blipFill>
                  <a:blip r:embed="rId2"/>
                  <a:stretch/>
                </p:blipFill>
                <p:spPr>
                  <a:xfrm>
                    <a:off x="1054080" y="1511280"/>
                    <a:ext cx="3260880" cy="1905120"/>
                  </a:xfrm>
                  <a:prstGeom prst="rect">
                    <a:avLst/>
                  </a:prstGeom>
                  <a:ln w="0">
                    <a:noFill/>
                  </a:ln>
                </p:spPr>
              </p:pic>
            </p:oleObj>
          </a:graphicData>
        </a:graphic>
      </p:graphicFrame>
      <p:graphicFrame>
        <p:nvGraphicFramePr>
          <p:cNvPr id="501" name=""/>
          <p:cNvGraphicFramePr/>
          <p:nvPr/>
        </p:nvGraphicFramePr>
        <p:xfrm>
          <a:off x="1054080" y="3948120"/>
          <a:ext cx="3232080" cy="1905120"/>
        </p:xfrm>
        <a:graphic>
          <a:graphicData uri="http://schemas.openxmlformats.org/presentationml/2006/ole">
            <p:oleObj r:id="rId3" spid="">
              <p:embed/>
              <p:pic>
                <p:nvPicPr>
                  <p:cNvPr id="502" name="" descr=""/>
                  <p:cNvPicPr/>
                  <p:nvPr/>
                </p:nvPicPr>
                <p:blipFill>
                  <a:blip r:embed="rId4"/>
                  <a:stretch/>
                </p:blipFill>
                <p:spPr>
                  <a:xfrm>
                    <a:off x="1054080" y="3948120"/>
                    <a:ext cx="3232080" cy="1905120"/>
                  </a:xfrm>
                  <a:prstGeom prst="rect">
                    <a:avLst/>
                  </a:prstGeom>
                  <a:ln w="0">
                    <a:noFill/>
                  </a:ln>
                </p:spPr>
              </p:pic>
            </p:oleObj>
          </a:graphicData>
        </a:graphic>
      </p:graphicFrame>
      <p:sp>
        <p:nvSpPr>
          <p:cNvPr id="503" name=""/>
          <p:cNvSpPr/>
          <p:nvPr/>
        </p:nvSpPr>
        <p:spPr>
          <a:xfrm>
            <a:off x="2273400" y="1203480"/>
            <a:ext cx="857160" cy="49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andstad</a:t>
            </a:r>
            <a:endParaRPr b="0" lang="en-US" sz="2400" spc="-1" strike="noStrike">
              <a:solidFill>
                <a:srgbClr val="ffffff"/>
              </a:solidFill>
              <a:latin typeface="Times New Roman"/>
            </a:endParaRPr>
          </a:p>
        </p:txBody>
      </p:sp>
      <p:sp>
        <p:nvSpPr>
          <p:cNvPr id="504" name=""/>
          <p:cNvSpPr/>
          <p:nvPr/>
        </p:nvSpPr>
        <p:spPr>
          <a:xfrm>
            <a:off x="2330280" y="3594240"/>
            <a:ext cx="857520" cy="49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ussels</a:t>
            </a:r>
            <a:endParaRPr b="0" lang="en-US" sz="2400" spc="-1" strike="noStrike">
              <a:solidFill>
                <a:srgbClr val="ffffff"/>
              </a:solidFill>
              <a:latin typeface="Times New Roman"/>
            </a:endParaRPr>
          </a:p>
        </p:txBody>
      </p:sp>
      <p:graphicFrame>
        <p:nvGraphicFramePr>
          <p:cNvPr id="505" name=""/>
          <p:cNvGraphicFramePr/>
          <p:nvPr/>
        </p:nvGraphicFramePr>
        <p:xfrm>
          <a:off x="5126040" y="1482840"/>
          <a:ext cx="3189240" cy="1860480"/>
        </p:xfrm>
        <a:graphic>
          <a:graphicData uri="http://schemas.openxmlformats.org/presentationml/2006/ole">
            <p:oleObj r:id="rId5" spid="">
              <p:embed/>
              <p:pic>
                <p:nvPicPr>
                  <p:cNvPr id="506" name="" descr=""/>
                  <p:cNvPicPr/>
                  <p:nvPr/>
                </p:nvPicPr>
                <p:blipFill>
                  <a:blip r:embed="rId6"/>
                  <a:stretch/>
                </p:blipFill>
                <p:spPr>
                  <a:xfrm>
                    <a:off x="5126040" y="1482840"/>
                    <a:ext cx="3189240" cy="1860480"/>
                  </a:xfrm>
                  <a:prstGeom prst="rect">
                    <a:avLst/>
                  </a:prstGeom>
                  <a:ln w="0">
                    <a:noFill/>
                  </a:ln>
                </p:spPr>
              </p:pic>
            </p:oleObj>
          </a:graphicData>
        </a:graphic>
      </p:graphicFrame>
      <p:graphicFrame>
        <p:nvGraphicFramePr>
          <p:cNvPr id="507" name=""/>
          <p:cNvGraphicFramePr/>
          <p:nvPr/>
        </p:nvGraphicFramePr>
        <p:xfrm>
          <a:off x="5124600" y="3933720"/>
          <a:ext cx="3233520" cy="1890720"/>
        </p:xfrm>
        <a:graphic>
          <a:graphicData uri="http://schemas.openxmlformats.org/presentationml/2006/ole">
            <p:oleObj r:id="rId7" spid="">
              <p:embed/>
              <p:pic>
                <p:nvPicPr>
                  <p:cNvPr id="508" name="" descr=""/>
                  <p:cNvPicPr/>
                  <p:nvPr/>
                </p:nvPicPr>
                <p:blipFill>
                  <a:blip r:embed="rId8"/>
                  <a:stretch/>
                </p:blipFill>
                <p:spPr>
                  <a:xfrm>
                    <a:off x="5124600" y="3933720"/>
                    <a:ext cx="3233520" cy="1890720"/>
                  </a:xfrm>
                  <a:prstGeom prst="rect">
                    <a:avLst/>
                  </a:prstGeom>
                  <a:ln w="0">
                    <a:noFill/>
                  </a:ln>
                </p:spPr>
              </p:pic>
            </p:oleObj>
          </a:graphicData>
        </a:graphic>
      </p:graphicFrame>
      <p:sp>
        <p:nvSpPr>
          <p:cNvPr id="509" name=""/>
          <p:cNvSpPr/>
          <p:nvPr/>
        </p:nvSpPr>
        <p:spPr>
          <a:xfrm>
            <a:off x="6405480" y="1204920"/>
            <a:ext cx="85716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ublin</a:t>
            </a:r>
            <a:endParaRPr b="0" lang="en-US" sz="2400" spc="-1" strike="noStrike">
              <a:solidFill>
                <a:srgbClr val="ffffff"/>
              </a:solidFill>
              <a:latin typeface="Times New Roman"/>
            </a:endParaRPr>
          </a:p>
        </p:txBody>
      </p:sp>
      <p:sp>
        <p:nvSpPr>
          <p:cNvPr id="510" name=""/>
          <p:cNvSpPr/>
          <p:nvPr/>
        </p:nvSpPr>
        <p:spPr>
          <a:xfrm>
            <a:off x="6424560" y="3595680"/>
            <a:ext cx="857160" cy="49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dinburgh</a:t>
            </a:r>
            <a:endParaRPr b="0" lang="en-US" sz="2400" spc="-1" strike="noStrike">
              <a:solidFill>
                <a:srgbClr val="ffffff"/>
              </a:solidFill>
              <a:latin typeface="Times New Roman"/>
            </a:endParaRPr>
          </a:p>
        </p:txBody>
      </p:sp>
      <p:sp>
        <p:nvSpPr>
          <p:cNvPr id="511" name="PlaceHolder 1"/>
          <p:cNvSpPr>
            <a:spLocks noGrp="1"/>
          </p:cNvSpPr>
          <p:nvPr>
            <p:ph type="title"/>
          </p:nvPr>
        </p:nvSpPr>
        <p:spPr>
          <a:xfrm>
            <a:off x="966600" y="218880"/>
            <a:ext cx="7926120" cy="685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Rental Evolution 1980 – 2001:                     Stepped Growth</a:t>
            </a:r>
            <a:endParaRPr b="0" lang="en-US" sz="3600" spc="-1" strike="noStrike">
              <a:solidFill>
                <a:srgbClr val="e8b500"/>
              </a:solidFill>
              <a:latin typeface="Arial Narrow"/>
            </a:endParaRPr>
          </a:p>
        </p:txBody>
      </p:sp>
      <p:sp>
        <p:nvSpPr>
          <p:cNvPr id="512" name=""/>
          <p:cNvSpPr/>
          <p:nvPr/>
        </p:nvSpPr>
        <p:spPr>
          <a:xfrm>
            <a:off x="1085760" y="5726160"/>
            <a:ext cx="20340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513" name=""/>
          <p:cNvSpPr/>
          <p:nvPr/>
        </p:nvSpPr>
        <p:spPr>
          <a:xfrm>
            <a:off x="4070520" y="5726160"/>
            <a:ext cx="20304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
        <p:nvSpPr>
          <p:cNvPr id="514" name=""/>
          <p:cNvSpPr/>
          <p:nvPr/>
        </p:nvSpPr>
        <p:spPr>
          <a:xfrm>
            <a:off x="5184720" y="5724360"/>
            <a:ext cx="20340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515" name=""/>
          <p:cNvSpPr/>
          <p:nvPr/>
        </p:nvSpPr>
        <p:spPr>
          <a:xfrm>
            <a:off x="8112240" y="5724360"/>
            <a:ext cx="20304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
        <p:nvSpPr>
          <p:cNvPr id="516" name=""/>
          <p:cNvSpPr/>
          <p:nvPr/>
        </p:nvSpPr>
        <p:spPr>
          <a:xfrm>
            <a:off x="1098720" y="3311640"/>
            <a:ext cx="20304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517" name=""/>
          <p:cNvSpPr/>
          <p:nvPr/>
        </p:nvSpPr>
        <p:spPr>
          <a:xfrm>
            <a:off x="4060800" y="3311640"/>
            <a:ext cx="203400" cy="23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
        <p:nvSpPr>
          <p:cNvPr id="518" name=""/>
          <p:cNvSpPr/>
          <p:nvPr/>
        </p:nvSpPr>
        <p:spPr>
          <a:xfrm>
            <a:off x="5181480" y="3298680"/>
            <a:ext cx="20340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80</a:t>
            </a:r>
            <a:endParaRPr b="0" lang="en-US" sz="1800" spc="-1" strike="noStrike">
              <a:solidFill>
                <a:srgbClr val="ffffff"/>
              </a:solidFill>
              <a:latin typeface="Times New Roman"/>
            </a:endParaRPr>
          </a:p>
        </p:txBody>
      </p:sp>
      <p:sp>
        <p:nvSpPr>
          <p:cNvPr id="519" name=""/>
          <p:cNvSpPr/>
          <p:nvPr/>
        </p:nvSpPr>
        <p:spPr>
          <a:xfrm>
            <a:off x="8072280" y="3255840"/>
            <a:ext cx="203400" cy="23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0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3760" y="2828520"/>
            <a:ext cx="2868480" cy="1940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ublin</a:t>
            </a:r>
            <a:br>
              <a:rPr sz="3600"/>
            </a:br>
            <a:r>
              <a:rPr b="0" lang="en-US" sz="3600" spc="-1" strike="noStrike">
                <a:solidFill>
                  <a:srgbClr val="e8b500"/>
                </a:solidFill>
                <a:latin typeface="Arial Narrow"/>
              </a:rPr>
              <a:t>Frankfurt</a:t>
            </a:r>
            <a:br>
              <a:rPr sz="3600"/>
            </a:br>
            <a:r>
              <a:rPr b="0" lang="en-US" sz="3600" spc="-1" strike="noStrike">
                <a:solidFill>
                  <a:srgbClr val="e8b500"/>
                </a:solidFill>
                <a:latin typeface="Arial Narrow"/>
              </a:rPr>
              <a:t>London</a:t>
            </a:r>
            <a:br>
              <a:rPr sz="3600"/>
            </a:br>
            <a:r>
              <a:rPr b="0" lang="en-US" sz="3600" spc="-1" strike="noStrike">
                <a:solidFill>
                  <a:srgbClr val="e8b500"/>
                </a:solidFill>
                <a:latin typeface="Arial Narrow"/>
              </a:rPr>
              <a:t>Paris</a:t>
            </a:r>
            <a:endParaRPr b="0" lang="en-US" sz="3600" spc="-1" strike="noStrike">
              <a:solidFill>
                <a:srgbClr val="e8b500"/>
              </a:solidFill>
              <a:latin typeface="Arial Narrow"/>
            </a:endParaRPr>
          </a:p>
        </p:txBody>
      </p:sp>
      <p:sp>
        <p:nvSpPr>
          <p:cNvPr id="521" name=""/>
          <p:cNvSpPr/>
          <p:nvPr/>
        </p:nvSpPr>
        <p:spPr>
          <a:xfrm>
            <a:off x="3390120" y="198432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2. City Review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228240"/>
            <a:ext cx="7629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ea typeface="Times New Roman"/>
              </a:rPr>
              <a:t>Dublin</a:t>
            </a:r>
            <a:r>
              <a:rPr b="0" lang="en-US" sz="3600" spc="-1" strike="noStrike">
                <a:solidFill>
                  <a:srgbClr val="e8b500"/>
                </a:solidFill>
                <a:latin typeface="Arial Narrow"/>
                <a:ea typeface="Times New Roman"/>
              </a:rPr>
              <a:t>	</a:t>
            </a:r>
            <a:r>
              <a:rPr b="0" lang="en-US" sz="3600" spc="-1" strike="noStrike">
                <a:solidFill>
                  <a:srgbClr val="e8b500"/>
                </a:solidFill>
                <a:latin typeface="Arial Narrow"/>
                <a:ea typeface="Times New Roman"/>
              </a:rPr>
              <a:t>	</a:t>
            </a:r>
            <a:endParaRPr b="0" lang="en-US" sz="3600" spc="-1" strike="noStrike">
              <a:solidFill>
                <a:srgbClr val="e8b500"/>
              </a:solidFill>
              <a:latin typeface="Arial Narrow"/>
            </a:endParaRPr>
          </a:p>
        </p:txBody>
      </p:sp>
      <p:sp>
        <p:nvSpPr>
          <p:cNvPr id="523" name=""/>
          <p:cNvSpPr/>
          <p:nvPr/>
        </p:nvSpPr>
        <p:spPr>
          <a:xfrm>
            <a:off x="1085760" y="2076480"/>
            <a:ext cx="8763120" cy="320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
          <p:cNvSpPr/>
          <p:nvPr/>
        </p:nvSpPr>
        <p:spPr>
          <a:xfrm>
            <a:off x="355680" y="1054080"/>
            <a:ext cx="8610480" cy="5014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Very strong supply-side response during both development cycles </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Response to strong economy and structural changes</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Analysis indicates that market may have “over-responded” in current cycle</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Relatively centralised office stock (three-quarters is located in the CBD) </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Development focus :</a:t>
            </a:r>
            <a:endParaRPr b="0" lang="en-US" sz="1800" spc="-1" strike="noStrike">
              <a:solidFill>
                <a:srgbClr val="ffffff"/>
              </a:solidFill>
              <a:latin typeface="Times New Roman"/>
            </a:endParaRPr>
          </a:p>
          <a:p>
            <a:pPr marL="289080" indent="-289080">
              <a:lnSpc>
                <a:spcPct val="90000"/>
              </a:lnSpc>
              <a:spcBef>
                <a:spcPts val="1125"/>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International Financial Services Centre – development zone during both cycles </a:t>
            </a:r>
            <a:endParaRPr b="0" lang="en-US" sz="1800" spc="-1" strike="noStrike">
              <a:solidFill>
                <a:srgbClr val="ffffff"/>
              </a:solidFill>
              <a:latin typeface="Times New Roman"/>
            </a:endParaRPr>
          </a:p>
          <a:p>
            <a:pPr marL="289080" indent="-289080">
              <a:lnSpc>
                <a:spcPct val="90000"/>
              </a:lnSpc>
              <a:spcBef>
                <a:spcPts val="1125"/>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Business/Office Parks in the suburbs – feature of the current cycle – focused within the M50 </a:t>
            </a:r>
            <a:endParaRPr b="0" lang="en-US" sz="1800" spc="-1" strike="noStrike">
              <a:solidFill>
                <a:srgbClr val="ffffff"/>
              </a:solidFill>
              <a:latin typeface="Times New Roman"/>
            </a:endParaRPr>
          </a:p>
          <a:p>
            <a:pPr marL="289080" indent="-289080">
              <a:lnSpc>
                <a:spcPct val="90000"/>
              </a:lnSpc>
              <a:spcBef>
                <a:spcPts val="1125"/>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Cheaper ‘edge of prime’ district – central location important for access to labour market </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Levels of refurbishment remain low – even in city centre – as sites still available in Docklands</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Few constraints – apart from planning delays – outweighed by grants and tax incentives</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Cautious bank lending during the current cycle – also funding by Irish institutions, property co’s</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Primarily Irish investors and developers, but also UK players</a:t>
            </a:r>
            <a:endParaRPr b="0" lang="en-US" sz="1800" spc="-1" strike="noStrike">
              <a:solidFill>
                <a:srgbClr val="ffffff"/>
              </a:solidFill>
              <a:latin typeface="Times New Roman"/>
            </a:endParaRPr>
          </a:p>
          <a:p>
            <a:pPr marL="289080" indent="-289080">
              <a:lnSpc>
                <a:spcPct val="90000"/>
              </a:lnSpc>
              <a:spcBef>
                <a:spcPts val="1125"/>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Low levels of international activity reflect small size of market and lack of international grade stock</a:t>
            </a:r>
            <a:endParaRPr b="0" lang="en-US" sz="1800" spc="-1" strike="noStrike">
              <a:solidFill>
                <a:srgbClr val="ffffff"/>
              </a:solidFill>
              <a:latin typeface="Times New Roman"/>
            </a:endParaRPr>
          </a:p>
        </p:txBody>
      </p:sp>
      <p:graphicFrame>
        <p:nvGraphicFramePr>
          <p:cNvPr id="525" name=""/>
          <p:cNvGraphicFramePr/>
          <p:nvPr/>
        </p:nvGraphicFramePr>
        <p:xfrm>
          <a:off x="6480000" y="158760"/>
          <a:ext cx="2467080" cy="1428840"/>
        </p:xfrm>
        <a:graphic>
          <a:graphicData uri="http://schemas.openxmlformats.org/presentationml/2006/ole">
            <p:oleObj r:id="rId1" spid="">
              <p:embed/>
              <p:pic>
                <p:nvPicPr>
                  <p:cNvPr id="526" name="" descr=""/>
                  <p:cNvPicPr/>
                  <p:nvPr/>
                </p:nvPicPr>
                <p:blipFill>
                  <a:blip r:embed="rId2"/>
                  <a:stretch/>
                </p:blipFill>
                <p:spPr>
                  <a:xfrm>
                    <a:off x="6480000" y="158760"/>
                    <a:ext cx="2467080" cy="1428840"/>
                  </a:xfrm>
                  <a:prstGeom prst="rect">
                    <a:avLst/>
                  </a:prstGeom>
                  <a:ln w="9360">
                    <a:solidFill>
                      <a:srgbClr val="969696"/>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96" name=""/>
          <p:cNvSpPr/>
          <p:nvPr/>
        </p:nvSpPr>
        <p:spPr>
          <a:xfrm>
            <a:off x="1409760" y="1411200"/>
            <a:ext cx="2286000" cy="323712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751280" y="1374840"/>
            <a:ext cx="3440160" cy="3282840"/>
          </a:xfrm>
          <a:prstGeom prst="rect">
            <a:avLst/>
          </a:prstGeom>
          <a:gradFill rotWithShape="0">
            <a:gsLst>
              <a:gs pos="0">
                <a:srgbClr val="002f42"/>
              </a:gs>
              <a:gs pos="100000">
                <a:srgbClr val="00679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505320" y="5110200"/>
            <a:ext cx="1981080" cy="110160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ject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clusions </a:t>
            </a:r>
            <a:endParaRPr b="0" lang="en-US" sz="2400" spc="-1" strike="noStrike">
              <a:solidFill>
                <a:srgbClr val="ffffff"/>
              </a:solidFill>
              <a:latin typeface="Times New Roman"/>
            </a:endParaRPr>
          </a:p>
        </p:txBody>
      </p:sp>
      <p:sp>
        <p:nvSpPr>
          <p:cNvPr id="99" name=""/>
          <p:cNvSpPr/>
          <p:nvPr/>
        </p:nvSpPr>
        <p:spPr>
          <a:xfrm rot="2115000">
            <a:off x="2361960" y="4572000"/>
            <a:ext cx="1411200" cy="533520"/>
          </a:xfrm>
          <a:prstGeom prst="rightArrow">
            <a:avLst>
              <a:gd name="adj1" fmla="val 50000"/>
              <a:gd name="adj2" fmla="val 66127"/>
            </a:avLst>
          </a:prstGeom>
          <a:gradFill rotWithShape="0">
            <a:gsLst>
              <a:gs pos="0">
                <a:srgbClr val="e8b500"/>
              </a:gs>
              <a:gs pos="100000">
                <a:srgbClr val="00679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942840" y="5243400"/>
            <a:ext cx="1981440" cy="11019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Demand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nalysi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naud Diziain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IAURIF)</a:t>
            </a:r>
            <a:endParaRPr b="0" lang="en-US" sz="2400" spc="-1" strike="noStrike">
              <a:solidFill>
                <a:srgbClr val="ffffff"/>
              </a:solidFill>
              <a:latin typeface="Times New Roman"/>
            </a:endParaRPr>
          </a:p>
        </p:txBody>
      </p:sp>
      <p:sp>
        <p:nvSpPr>
          <p:cNvPr id="101" name=""/>
          <p:cNvSpPr/>
          <p:nvPr/>
        </p:nvSpPr>
        <p:spPr>
          <a:xfrm flipH="1" rot="19485000">
            <a:off x="5218920" y="4628880"/>
            <a:ext cx="1411200" cy="533520"/>
          </a:xfrm>
          <a:prstGeom prst="rightArrow">
            <a:avLst>
              <a:gd name="adj1" fmla="val 50000"/>
              <a:gd name="adj2" fmla="val 66127"/>
            </a:avLst>
          </a:prstGeom>
          <a:gradFill rotWithShape="0">
            <a:gsLst>
              <a:gs pos="0">
                <a:srgbClr val="006790"/>
              </a:gs>
              <a:gs pos="100000">
                <a:srgbClr val="e8b5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286000" y="5391000"/>
            <a:ext cx="1390680" cy="513000"/>
          </a:xfrm>
          <a:prstGeom prst="rightArrow">
            <a:avLst>
              <a:gd name="adj1" fmla="val 50000"/>
              <a:gd name="adj2" fmla="val 67772"/>
            </a:avLst>
          </a:prstGeom>
          <a:no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538960" y="1490760"/>
            <a:ext cx="1885680" cy="72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Qualitative </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ity Reviews</a:t>
            </a:r>
            <a:endParaRPr b="0" lang="en-US" sz="2400" spc="-1" strike="noStrike">
              <a:solidFill>
                <a:srgbClr val="ffffff"/>
              </a:solidFill>
              <a:latin typeface="Times New Roman"/>
            </a:endParaRPr>
          </a:p>
        </p:txBody>
      </p:sp>
      <p:sp>
        <p:nvSpPr>
          <p:cNvPr id="104" name=""/>
          <p:cNvSpPr/>
          <p:nvPr/>
        </p:nvSpPr>
        <p:spPr>
          <a:xfrm>
            <a:off x="4881600" y="3043080"/>
            <a:ext cx="1886040" cy="725760"/>
          </a:xfrm>
          <a:prstGeom prst="rect">
            <a:avLst/>
          </a:prstGeom>
          <a:noFill/>
          <a:ln w="0">
            <a:noFill/>
          </a:ln>
        </p:spPr>
        <p:style>
          <a:lnRef idx="0"/>
          <a:fillRef idx="0"/>
          <a:effectRef idx="0"/>
          <a:fontRef idx="minor"/>
        </p:style>
        <p:txBody>
          <a:bodyPr wrap="none" lIns="90000" rIns="90000" tIns="46800" bIns="46800" anchor="ctr">
            <a:noAutofit/>
          </a:bodyPr>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ment Triggers</a:t>
            </a:r>
            <a:endParaRPr b="0" lang="en-US" sz="2000" spc="-1" strike="noStrike">
              <a:solidFill>
                <a:srgbClr val="ffffff"/>
              </a:solidFill>
              <a:latin typeface="Times New Roman"/>
            </a:endParaRPr>
          </a:p>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cation of Development</a:t>
            </a:r>
            <a:endParaRPr b="0" lang="en-US" sz="2000" spc="-1" strike="noStrike">
              <a:solidFill>
                <a:srgbClr val="ffffff"/>
              </a:solidFill>
              <a:latin typeface="Times New Roman"/>
            </a:endParaRPr>
          </a:p>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haracteristics of Development</a:t>
            </a:r>
            <a:endParaRPr b="0" lang="en-US" sz="2000" spc="-1" strike="noStrike">
              <a:solidFill>
                <a:srgbClr val="ffffff"/>
              </a:solidFill>
              <a:latin typeface="Times New Roman"/>
            </a:endParaRPr>
          </a:p>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upply-side Constraints</a:t>
            </a:r>
            <a:endParaRPr b="0" lang="en-US" sz="2000" spc="-1" strike="noStrike">
              <a:solidFill>
                <a:srgbClr val="ffffff"/>
              </a:solidFill>
              <a:latin typeface="Times New Roman"/>
            </a:endParaRPr>
          </a:p>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ment Funding </a:t>
            </a:r>
            <a:endParaRPr b="0" lang="en-US" sz="2000" spc="-1" strike="noStrike">
              <a:solidFill>
                <a:srgbClr val="ffffff"/>
              </a:solidFill>
              <a:latin typeface="Times New Roman"/>
            </a:endParaRPr>
          </a:p>
          <a:p>
            <a:pPr marL="187200" indent="-18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Key Developers / Investors</a:t>
            </a:r>
            <a:endParaRPr b="0" lang="en-US" sz="2000" spc="-1" strike="noStrike">
              <a:solidFill>
                <a:srgbClr val="ffffff"/>
              </a:solidFill>
              <a:latin typeface="Times New Roman"/>
            </a:endParaRPr>
          </a:p>
        </p:txBody>
      </p:sp>
      <p:sp>
        <p:nvSpPr>
          <p:cNvPr id="105" name=""/>
          <p:cNvSpPr/>
          <p:nvPr/>
        </p:nvSpPr>
        <p:spPr>
          <a:xfrm>
            <a:off x="1608120" y="1523880"/>
            <a:ext cx="1886040" cy="72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Quantitative </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nalysis</a:t>
            </a:r>
            <a:endParaRPr b="0" lang="en-US" sz="2400" spc="-1" strike="noStrike">
              <a:solidFill>
                <a:srgbClr val="ffffff"/>
              </a:solidFill>
              <a:latin typeface="Times New Roman"/>
            </a:endParaRPr>
          </a:p>
        </p:txBody>
      </p:sp>
      <p:sp>
        <p:nvSpPr>
          <p:cNvPr id="106" name=""/>
          <p:cNvSpPr/>
          <p:nvPr/>
        </p:nvSpPr>
        <p:spPr>
          <a:xfrm>
            <a:off x="1592280" y="2241720"/>
            <a:ext cx="1886040" cy="72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ffice Completions</a:t>
            </a:r>
            <a:endParaRPr b="0" lang="en-US" sz="2000" spc="-1" strike="noStrike">
              <a:solidFill>
                <a:srgbClr val="ffffff"/>
              </a:solidFill>
              <a:latin typeface="Times New Roman"/>
            </a:endParaRPr>
          </a:p>
        </p:txBody>
      </p:sp>
      <p:sp>
        <p:nvSpPr>
          <p:cNvPr id="107" name=""/>
          <p:cNvSpPr/>
          <p:nvPr/>
        </p:nvSpPr>
        <p:spPr>
          <a:xfrm>
            <a:off x="1592280" y="3427560"/>
            <a:ext cx="1886040" cy="72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conomic Growt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Vacancy Ra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ntal Growt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ross Returns</a:t>
            </a:r>
            <a:endParaRPr b="0" lang="en-US" sz="2000" spc="-1" strike="noStrike">
              <a:solidFill>
                <a:srgbClr val="ffffff"/>
              </a:solidFill>
              <a:latin typeface="Times New Roman"/>
            </a:endParaRPr>
          </a:p>
        </p:txBody>
      </p:sp>
      <p:sp>
        <p:nvSpPr>
          <p:cNvPr id="108" name=""/>
          <p:cNvSpPr/>
          <p:nvPr/>
        </p:nvSpPr>
        <p:spPr>
          <a:xfrm>
            <a:off x="2324160" y="2781360"/>
            <a:ext cx="457200" cy="371520"/>
          </a:xfrm>
          <a:prstGeom prst="downArrow">
            <a:avLst>
              <a:gd name="adj1" fmla="val 50000"/>
              <a:gd name="adj2" fmla="val 25000"/>
            </a:avLst>
          </a:prstGeom>
          <a:gradFill rotWithShape="0">
            <a:gsLst>
              <a:gs pos="0">
                <a:srgbClr val="006790"/>
              </a:gs>
              <a:gs pos="100000">
                <a:srgbClr val="e8b5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981000" y="24732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Commercial Real Estate Development         and the “City Offer” – Project Approach</a:t>
            </a:r>
            <a:endParaRPr b="0" lang="en-US" sz="3600" spc="-1" strike="noStrike">
              <a:solidFill>
                <a:srgbClr val="e8b5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28360" y="228240"/>
            <a:ext cx="7629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ea typeface="Times New Roman"/>
              </a:rPr>
              <a:t>Frankfurt</a:t>
            </a:r>
            <a:r>
              <a:rPr b="0" lang="en-US" sz="3600" spc="-1" strike="noStrike">
                <a:solidFill>
                  <a:srgbClr val="e8b500"/>
                </a:solidFill>
                <a:latin typeface="Arial Narrow"/>
                <a:ea typeface="Times New Roman"/>
              </a:rPr>
              <a:t>	</a:t>
            </a:r>
            <a:r>
              <a:rPr b="0" lang="en-US" sz="3600" spc="-1" strike="noStrike">
                <a:solidFill>
                  <a:srgbClr val="e8b500"/>
                </a:solidFill>
                <a:latin typeface="Arial Narrow"/>
                <a:ea typeface="Times New Roman"/>
              </a:rPr>
              <a:t>	</a:t>
            </a:r>
            <a:endParaRPr b="0" lang="en-US" sz="3600" spc="-1" strike="noStrike">
              <a:solidFill>
                <a:srgbClr val="e8b500"/>
              </a:solidFill>
              <a:latin typeface="Arial Narrow"/>
            </a:endParaRPr>
          </a:p>
        </p:txBody>
      </p:sp>
      <p:sp>
        <p:nvSpPr>
          <p:cNvPr id="528" name=""/>
          <p:cNvSpPr/>
          <p:nvPr/>
        </p:nvSpPr>
        <p:spPr>
          <a:xfrm>
            <a:off x="433440" y="2757600"/>
            <a:ext cx="9669240" cy="346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533520" y="685800"/>
            <a:ext cx="8115120" cy="5000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9080" indent="-289080">
              <a:lnSpc>
                <a:spcPct val="6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Measured supply-side response in the current cycle </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Frankfurt aggressively establishing itself as a financial centre </a:t>
            </a:r>
            <a:endParaRPr b="0" lang="en-US" sz="1800" spc="-1" strike="noStrike">
              <a:solidFill>
                <a:srgbClr val="ffffff"/>
              </a:solidFill>
              <a:latin typeface="Times New Roman"/>
            </a:endParaRPr>
          </a:p>
          <a:p>
            <a:pPr marL="289080" indent="-289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         – </a:t>
            </a:r>
            <a:r>
              <a:rPr b="0" lang="en-US" sz="1800" spc="-1" strike="noStrike">
                <a:solidFill>
                  <a:srgbClr val="ffffff"/>
                </a:solidFill>
                <a:latin typeface="Arial Narrow"/>
                <a:ea typeface="Times New Roman"/>
              </a:rPr>
              <a:t>reflected in authorities positive stance towards development.</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CBD/Banking District is the focus of development</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Growth in mixed use development</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Site assembly constrains development</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Future re-development of Frankfurt Station</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Authorities forcing developers to consider ecological impacts</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Investment dominated by German funds </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Increasing number of investors (funds, banks, insurance) are considering development route</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Partnerships between developers/investors becoming more common</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Owner-occupation (est. 50%) is higher than in other cities</a:t>
            </a:r>
            <a:endParaRPr b="0" lang="en-US" sz="1800" spc="-1" strike="noStrike">
              <a:solidFill>
                <a:srgbClr val="ffffff"/>
              </a:solidFill>
              <a:latin typeface="Times New Roman"/>
            </a:endParaRPr>
          </a:p>
        </p:txBody>
      </p:sp>
      <p:graphicFrame>
        <p:nvGraphicFramePr>
          <p:cNvPr id="530" name=""/>
          <p:cNvGraphicFramePr/>
          <p:nvPr/>
        </p:nvGraphicFramePr>
        <p:xfrm>
          <a:off x="6480000" y="158760"/>
          <a:ext cx="2467080" cy="1428840"/>
        </p:xfrm>
        <a:graphic>
          <a:graphicData uri="http://schemas.openxmlformats.org/presentationml/2006/ole">
            <p:oleObj r:id="rId1" spid="">
              <p:embed/>
              <p:pic>
                <p:nvPicPr>
                  <p:cNvPr id="531" name="" descr=""/>
                  <p:cNvPicPr/>
                  <p:nvPr/>
                </p:nvPicPr>
                <p:blipFill>
                  <a:blip r:embed="rId2"/>
                  <a:stretch/>
                </p:blipFill>
                <p:spPr>
                  <a:xfrm>
                    <a:off x="6480000" y="158760"/>
                    <a:ext cx="2467080" cy="1428840"/>
                  </a:xfrm>
                  <a:prstGeom prst="rect">
                    <a:avLst/>
                  </a:prstGeom>
                  <a:ln w="9360">
                    <a:solidFill>
                      <a:srgbClr val="969696"/>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28360" y="228240"/>
            <a:ext cx="7629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ea typeface="Times New Roman"/>
              </a:rPr>
              <a:t>London</a:t>
            </a:r>
            <a:r>
              <a:rPr b="0" lang="en-US" sz="3600" spc="-1" strike="noStrike">
                <a:solidFill>
                  <a:srgbClr val="e8b500"/>
                </a:solidFill>
                <a:latin typeface="Arial Narrow"/>
                <a:ea typeface="Times New Roman"/>
              </a:rPr>
              <a:t>	</a:t>
            </a:r>
            <a:r>
              <a:rPr b="0" lang="en-US" sz="3600" spc="-1" strike="noStrike">
                <a:solidFill>
                  <a:srgbClr val="e8b500"/>
                </a:solidFill>
                <a:latin typeface="Arial Narrow"/>
                <a:ea typeface="Times New Roman"/>
              </a:rPr>
              <a:t>	</a:t>
            </a:r>
            <a:endParaRPr b="0" lang="en-US" sz="3600" spc="-1" strike="noStrike">
              <a:solidFill>
                <a:srgbClr val="e8b500"/>
              </a:solidFill>
              <a:latin typeface="Arial Narrow"/>
            </a:endParaRPr>
          </a:p>
        </p:txBody>
      </p:sp>
      <p:sp>
        <p:nvSpPr>
          <p:cNvPr id="533" name=""/>
          <p:cNvSpPr/>
          <p:nvPr/>
        </p:nvSpPr>
        <p:spPr>
          <a:xfrm>
            <a:off x="1085760" y="2076480"/>
            <a:ext cx="8763120" cy="320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571680" y="749160"/>
            <a:ext cx="8234280" cy="5446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80000"/>
              </a:lnSpc>
              <a:spcBef>
                <a:spcPts val="1125"/>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London saw very strong supply-side response in last </a:t>
            </a:r>
            <a:endParaRPr b="0" lang="en-US" sz="1800" spc="-1" strike="noStrike">
              <a:solidFill>
                <a:srgbClr val="ffffff"/>
              </a:solidFill>
              <a:latin typeface="Times New Roman"/>
            </a:endParaRPr>
          </a:p>
          <a:p>
            <a:pPr marL="289080" indent="-289080">
              <a:lnSpc>
                <a:spcPts val="0"/>
              </a:lnSpc>
              <a:spcBef>
                <a:spcPts val="13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development cycle (1988-92) </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Current supply-side response (1998-2002) is much lower, and more in line with expectations</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Relatively centralised office stock (2/3rds of Greater London stock is in CBD)</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Development focus:</a:t>
            </a:r>
            <a:endParaRPr b="0" lang="en-US" sz="1800" spc="-1" strike="noStrike">
              <a:solidFill>
                <a:srgbClr val="ffffff"/>
              </a:solidFill>
              <a:latin typeface="Times New Roman"/>
            </a:endParaRPr>
          </a:p>
          <a:p>
            <a:pPr marL="289080" indent="-289080">
              <a:lnSpc>
                <a:spcPct val="80000"/>
              </a:lnSpc>
              <a:spcBef>
                <a:spcPts val="13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Docklands/Canary Wharf  – benefiting from improved transport - developing critical mass –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attracting occupier with large requirements – more “front office” functions</a:t>
            </a:r>
            <a:endParaRPr b="0" lang="en-US" sz="1800" spc="-1" strike="noStrike">
              <a:solidFill>
                <a:srgbClr val="ffffff"/>
              </a:solidFill>
              <a:latin typeface="Times New Roman"/>
            </a:endParaRPr>
          </a:p>
          <a:p>
            <a:pPr marL="289080" indent="-289080">
              <a:lnSpc>
                <a:spcPct val="80000"/>
              </a:lnSpc>
              <a:spcBef>
                <a:spcPts val="13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City – authorities responding to competition from Canary Wharf</a:t>
            </a:r>
            <a:endParaRPr b="0" lang="en-US" sz="1800" spc="-1" strike="noStrike">
              <a:solidFill>
                <a:srgbClr val="ffffff"/>
              </a:solidFill>
              <a:latin typeface="Times New Roman"/>
            </a:endParaRPr>
          </a:p>
          <a:p>
            <a:pPr marL="289080" indent="-289080">
              <a:lnSpc>
                <a:spcPct val="80000"/>
              </a:lnSpc>
              <a:spcBef>
                <a:spcPts val="13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Rail Termini – Paddington Basin, Kings Cross, Waterloo/South Bank</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Quality of stock is high (40-45% of Central London stock is Grade A)</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Trend towards mixed-use development</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London is very open to outside players – UK or US developers have dominated activity</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Development traditionally funded/forward-sold to institutions (UK, German)</a:t>
            </a:r>
            <a:endParaRPr b="0" lang="en-US" sz="1800" spc="-1" strike="noStrike">
              <a:solidFill>
                <a:srgbClr val="ffffff"/>
              </a:solidFill>
              <a:latin typeface="Times New Roman"/>
            </a:endParaRPr>
          </a:p>
          <a:p>
            <a:pPr marL="289080" indent="-289080">
              <a:lnSpc>
                <a:spcPct val="80000"/>
              </a:lnSpc>
              <a:spcBef>
                <a:spcPts val="1349"/>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Lenders/funders have been reluctant to finance speculative development</a:t>
            </a:r>
            <a:endParaRPr b="0" lang="en-US" sz="1800" spc="-1" strike="noStrike">
              <a:solidFill>
                <a:srgbClr val="ffffff"/>
              </a:solidFill>
              <a:latin typeface="Times New Roman"/>
            </a:endParaRPr>
          </a:p>
        </p:txBody>
      </p:sp>
      <p:graphicFrame>
        <p:nvGraphicFramePr>
          <p:cNvPr id="535" name=""/>
          <p:cNvGraphicFramePr/>
          <p:nvPr/>
        </p:nvGraphicFramePr>
        <p:xfrm>
          <a:off x="6480000" y="158760"/>
          <a:ext cx="2467080" cy="1428840"/>
        </p:xfrm>
        <a:graphic>
          <a:graphicData uri="http://schemas.openxmlformats.org/presentationml/2006/ole">
            <p:oleObj r:id="rId1" spid="">
              <p:embed/>
              <p:pic>
                <p:nvPicPr>
                  <p:cNvPr id="536" name="" descr=""/>
                  <p:cNvPicPr/>
                  <p:nvPr/>
                </p:nvPicPr>
                <p:blipFill>
                  <a:blip r:embed="rId2"/>
                  <a:stretch/>
                </p:blipFill>
                <p:spPr>
                  <a:xfrm>
                    <a:off x="6480000" y="158760"/>
                    <a:ext cx="2467080" cy="1428840"/>
                  </a:xfrm>
                  <a:prstGeom prst="rect">
                    <a:avLst/>
                  </a:prstGeom>
                  <a:ln w="9360">
                    <a:solidFill>
                      <a:srgbClr val="969696"/>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28360" y="228240"/>
            <a:ext cx="7629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ea typeface="Times New Roman"/>
              </a:rPr>
              <a:t>Paris</a:t>
            </a:r>
            <a:r>
              <a:rPr b="0" lang="en-US" sz="3600" spc="-1" strike="noStrike">
                <a:solidFill>
                  <a:srgbClr val="e8b500"/>
                </a:solidFill>
                <a:latin typeface="Arial Narrow"/>
                <a:ea typeface="Times New Roman"/>
              </a:rPr>
              <a:t>	</a:t>
            </a:r>
            <a:r>
              <a:rPr b="0" lang="en-US" sz="3600" spc="-1" strike="noStrike">
                <a:solidFill>
                  <a:srgbClr val="e8b500"/>
                </a:solidFill>
                <a:latin typeface="Arial Narrow"/>
                <a:ea typeface="Times New Roman"/>
              </a:rPr>
              <a:t>	</a:t>
            </a:r>
            <a:r>
              <a:rPr b="0" lang="en-US" sz="3600" spc="-1" strike="noStrike">
                <a:solidFill>
                  <a:srgbClr val="e8b500"/>
                </a:solidFill>
                <a:latin typeface="Arial Narrow"/>
                <a:ea typeface="Times New Roman"/>
              </a:rPr>
              <a:t>	</a:t>
            </a:r>
            <a:endParaRPr b="0" lang="en-US" sz="3600" spc="-1" strike="noStrike">
              <a:solidFill>
                <a:srgbClr val="e8b500"/>
              </a:solidFill>
              <a:latin typeface="Arial Narrow"/>
            </a:endParaRPr>
          </a:p>
        </p:txBody>
      </p:sp>
      <p:sp>
        <p:nvSpPr>
          <p:cNvPr id="538" name=""/>
          <p:cNvSpPr/>
          <p:nvPr/>
        </p:nvSpPr>
        <p:spPr>
          <a:xfrm>
            <a:off x="1085760" y="2076480"/>
            <a:ext cx="8763120" cy="320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571680" y="663480"/>
            <a:ext cx="8115120" cy="5868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70000"/>
              </a:lnSpc>
              <a:spcBef>
                <a:spcPts val="1125"/>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Paris saw strong supply-side response in last cycle (88-92)</a:t>
            </a:r>
            <a:endParaRPr b="0" lang="en-US" sz="1800" spc="-1" strike="noStrike">
              <a:solidFill>
                <a:srgbClr val="ffffff"/>
              </a:solidFill>
              <a:latin typeface="Times New Roman"/>
            </a:endParaRPr>
          </a:p>
          <a:p>
            <a:pPr marL="289080" indent="-289080">
              <a:lnSpc>
                <a:spcPct val="70000"/>
              </a:lnSpc>
              <a:spcBef>
                <a:spcPts val="326"/>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289080" indent="-289080">
              <a:lnSpc>
                <a:spcPct val="4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During the most recent development upswing, response has </a:t>
            </a:r>
            <a:endParaRPr b="0" lang="en-US" sz="1800" spc="-1" strike="noStrike">
              <a:solidFill>
                <a:srgbClr val="ffffff"/>
              </a:solidFill>
              <a:latin typeface="Times New Roman"/>
            </a:endParaRPr>
          </a:p>
          <a:p>
            <a:pPr marL="289080" indent="-289080">
              <a:lnSpc>
                <a:spcPct val="4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been more “measured” – reflecting weak market conditions of </a:t>
            </a:r>
            <a:endParaRPr b="0" lang="en-US" sz="1800" spc="-1" strike="noStrike">
              <a:solidFill>
                <a:srgbClr val="ffffff"/>
              </a:solidFill>
              <a:latin typeface="Times New Roman"/>
            </a:endParaRPr>
          </a:p>
          <a:p>
            <a:pPr marL="289080" indent="-289080">
              <a:lnSpc>
                <a:spcPct val="4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late 1990s.  Also higher levels of pre-letting.</a:t>
            </a:r>
            <a:endParaRPr b="0" lang="en-US" sz="1800" spc="-1" strike="noStrike">
              <a:solidFill>
                <a:srgbClr val="ffffff"/>
              </a:solidFill>
              <a:latin typeface="Times New Roman"/>
            </a:endParaRPr>
          </a:p>
          <a:p>
            <a:pPr marL="289080" indent="-289080">
              <a:lnSpc>
                <a:spcPct val="40000"/>
              </a:lnSpc>
              <a:spcBef>
                <a:spcPts val="326"/>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289080" indent="-289080">
              <a:lnSpc>
                <a:spcPct val="5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Tightly controlled urban planning has forced new development outside the CBD</a:t>
            </a: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Development Focus:</a:t>
            </a:r>
            <a:endParaRPr b="0" lang="en-US" sz="1800" spc="-1" strike="noStrike">
              <a:solidFill>
                <a:srgbClr val="ffffff"/>
              </a:solidFill>
              <a:latin typeface="Times New Roman"/>
            </a:endParaRPr>
          </a:p>
          <a:p>
            <a:pPr marL="289080" indent="-289080">
              <a:lnSpc>
                <a:spcPct val="7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Established office satellites - La Defense/Golden Crescent</a:t>
            </a:r>
            <a:endParaRPr b="0" lang="en-US" sz="1800" spc="-1" strike="noStrike">
              <a:solidFill>
                <a:srgbClr val="ffffff"/>
              </a:solidFill>
              <a:latin typeface="Times New Roman"/>
            </a:endParaRPr>
          </a:p>
          <a:p>
            <a:pPr marL="289080" indent="-289080">
              <a:lnSpc>
                <a:spcPct val="7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Emerging zones – esp. north between CBD and CdG Airport (St Denis, Clichy, St Ouen)</a:t>
            </a:r>
            <a:endParaRPr b="0" lang="en-US" sz="1800" spc="-1" strike="noStrike">
              <a:solidFill>
                <a:srgbClr val="ffffff"/>
              </a:solidFill>
              <a:latin typeface="Times New Roman"/>
            </a:endParaRPr>
          </a:p>
          <a:p>
            <a:pPr marL="289080" indent="-289080">
              <a:lnSpc>
                <a:spcPct val="7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Government-backed schemes - Rive Gauche – occupiers attracted by Ministry of</a:t>
            </a:r>
            <a:endParaRPr b="0" lang="en-US" sz="1800" spc="-1" strike="noStrike">
              <a:solidFill>
                <a:srgbClr val="ffffff"/>
              </a:solidFill>
              <a:latin typeface="Times New Roman"/>
            </a:endParaRPr>
          </a:p>
          <a:p>
            <a:pPr marL="289080" indent="-289080">
              <a:lnSpc>
                <a:spcPct val="3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Finance/French National Library</a:t>
            </a: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New office developments is of higher standard – large floorplates, high technical spec, </a:t>
            </a:r>
            <a:endParaRPr b="0" lang="en-US" sz="1800" spc="-1" strike="noStrike">
              <a:solidFill>
                <a:srgbClr val="ffffff"/>
              </a:solidFill>
              <a:latin typeface="Times New Roman"/>
            </a:endParaRPr>
          </a:p>
          <a:p>
            <a:pPr marL="289080" indent="-289080">
              <a:lnSpc>
                <a:spcPct val="30000"/>
              </a:lnSpc>
              <a:spcBef>
                <a:spcPts val="1463"/>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	</a:t>
            </a:r>
            <a:r>
              <a:rPr b="0" lang="en-GB" sz="1800" spc="-1" strike="noStrike">
                <a:solidFill>
                  <a:srgbClr val="ffffff"/>
                </a:solidFill>
                <a:latin typeface="Arial Narrow"/>
                <a:ea typeface="Times New Roman"/>
              </a:rPr>
              <a:t>design – but with low operating costs </a:t>
            </a: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Balanced mix of domestic and international developers.  </a:t>
            </a: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US developers/funds have been very active.  US funds forced into development</a:t>
            </a:r>
            <a:endParaRPr b="0" lang="en-US" sz="1800" spc="-1" strike="noStrike">
              <a:solidFill>
                <a:srgbClr val="ffffff"/>
              </a:solidFill>
              <a:latin typeface="Times New Roman"/>
            </a:endParaRPr>
          </a:p>
          <a:p>
            <a:pPr marL="289080" indent="-289080">
              <a:lnSpc>
                <a:spcPct val="70000"/>
              </a:lnSpc>
              <a:spcBef>
                <a:spcPts val="1463"/>
              </a:spcBef>
              <a:buClr>
                <a:srgbClr val="ffffff"/>
              </a:buClr>
              <a:buFont typeface="Arial Narrow"/>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ea typeface="Times New Roman"/>
              </a:rPr>
              <a:t>International developers have tended to take greater risks.</a:t>
            </a:r>
            <a:endParaRPr b="0" lang="en-US" sz="1800" spc="-1" strike="noStrike">
              <a:solidFill>
                <a:srgbClr val="ffffff"/>
              </a:solidFill>
              <a:latin typeface="Times New Roman"/>
            </a:endParaRPr>
          </a:p>
        </p:txBody>
      </p:sp>
      <p:graphicFrame>
        <p:nvGraphicFramePr>
          <p:cNvPr id="540" name=""/>
          <p:cNvGraphicFramePr/>
          <p:nvPr/>
        </p:nvGraphicFramePr>
        <p:xfrm>
          <a:off x="6480000" y="158760"/>
          <a:ext cx="2467080" cy="1428840"/>
        </p:xfrm>
        <a:graphic>
          <a:graphicData uri="http://schemas.openxmlformats.org/presentationml/2006/ole">
            <p:oleObj r:id="rId1" spid="">
              <p:embed/>
              <p:pic>
                <p:nvPicPr>
                  <p:cNvPr id="541" name="" descr=""/>
                  <p:cNvPicPr/>
                  <p:nvPr/>
                </p:nvPicPr>
                <p:blipFill>
                  <a:blip r:embed="rId2"/>
                  <a:stretch/>
                </p:blipFill>
                <p:spPr>
                  <a:xfrm>
                    <a:off x="6480000" y="158760"/>
                    <a:ext cx="2467080" cy="1428840"/>
                  </a:xfrm>
                  <a:prstGeom prst="rect">
                    <a:avLst/>
                  </a:prstGeom>
                  <a:ln w="9360">
                    <a:solidFill>
                      <a:srgbClr val="969696"/>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42480" y="228240"/>
            <a:ext cx="5172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Conclusions</a:t>
            </a:r>
            <a:endParaRPr b="0" lang="en-US" sz="3600" spc="-1" strike="noStrike">
              <a:solidFill>
                <a:srgbClr val="e8b500"/>
              </a:solidFill>
              <a:latin typeface="Arial Narrow"/>
            </a:endParaRPr>
          </a:p>
        </p:txBody>
      </p:sp>
      <p:sp>
        <p:nvSpPr>
          <p:cNvPr id="543" name=""/>
          <p:cNvSpPr/>
          <p:nvPr/>
        </p:nvSpPr>
        <p:spPr>
          <a:xfrm>
            <a:off x="1054080" y="1333440"/>
            <a:ext cx="3670200" cy="371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977760" y="1143000"/>
            <a:ext cx="7763040" cy="466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al Estate product &amp; prices do play a role in city competitiveness</a:t>
            </a:r>
            <a:endParaRPr b="0" lang="en-US" sz="2400" spc="-1" strike="noStrike">
              <a:solidFill>
                <a:srgbClr val="ffffff"/>
              </a:solidFill>
              <a:latin typeface="Times New Roman"/>
            </a:endParaRPr>
          </a:p>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en-US" sz="2400" spc="-1" strike="noStrike">
                <a:solidFill>
                  <a:srgbClr val="ffffff"/>
                </a:solidFill>
                <a:latin typeface="Arial Narrow"/>
              </a:rPr>
              <a:t>Global Competitiveness” underpins many master plans</a:t>
            </a:r>
            <a:endParaRPr b="0" lang="en-US" sz="2400" spc="-1" strike="noStrike">
              <a:solidFill>
                <a:srgbClr val="ffffff"/>
              </a:solidFill>
              <a:latin typeface="Times New Roman"/>
            </a:endParaRPr>
          </a:p>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ility to accommodate large corporate occupiers is seen as a key competitive advantage</a:t>
            </a:r>
            <a:endParaRPr b="0" lang="en-US" sz="2400" spc="-1" strike="noStrike">
              <a:solidFill>
                <a:srgbClr val="ffffff"/>
              </a:solidFill>
              <a:latin typeface="Times New Roman"/>
            </a:endParaRPr>
          </a:p>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ew office development focussed on transport interchanges, CBD fringe, out-of-town</a:t>
            </a:r>
            <a:endParaRPr b="0" lang="en-US" sz="2400" spc="-1" strike="noStrike">
              <a:solidFill>
                <a:srgbClr val="ffffff"/>
              </a:solidFill>
              <a:latin typeface="Times New Roman"/>
            </a:endParaRPr>
          </a:p>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t</a:t>
            </a:r>
            <a:r>
              <a:rPr b="0" lang="en-US" sz="2400" spc="-1" strike="noStrike">
                <a:solidFill>
                  <a:srgbClr val="ffffff"/>
                </a:solidFill>
                <a:latin typeface="Arial Narrow"/>
              </a:rPr>
              <a:t> analysis has shown that different supply side responses have not significantly affected city competitiveness</a:t>
            </a:r>
            <a:endParaRPr b="0" lang="en-US" sz="2400" spc="-1" strike="noStrike">
              <a:solidFill>
                <a:srgbClr val="ffffff"/>
              </a:solidFill>
              <a:latin typeface="Times New Roman"/>
            </a:endParaRPr>
          </a:p>
          <a:p>
            <a:pPr marL="285840" indent="-285840">
              <a:lnSpc>
                <a:spcPct val="9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ther factors play a greater role in corporate location decision making – communications, labour force, reg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774360" y="3017880"/>
            <a:ext cx="7923240" cy="2471760"/>
          </a:xfrm>
          <a:prstGeom prst="rect">
            <a:avLst/>
          </a:prstGeom>
          <a:noFill/>
          <a:ln w="0">
            <a:noFill/>
          </a:ln>
        </p:spPr>
        <p:txBody>
          <a:bodyPr lIns="92160" rIns="92160" tIns="46080" bIns="46080" anchor="t">
            <a:normAutofit/>
          </a:bodyPr>
          <a:p>
            <a:pPr indent="0" algn="ctr">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OPYRIGHT © JONES LANG LASALLE 2002</a:t>
            </a:r>
            <a:endParaRPr b="0" lang="en-US" sz="1400" spc="-1" strike="noStrike">
              <a:solidFill>
                <a:srgbClr val="ffffff"/>
              </a:solidFill>
              <a:latin typeface="Arial Narrow"/>
            </a:endParaRPr>
          </a:p>
          <a:p>
            <a:pPr indent="0" algn="ctr">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No part of this presentation may be reproduced or transmitted in any form or by any means, or stored in any database or retrieval system of any nature, without prior written permission of Jones Lang LaSalle except for any permitted fair dealing in accordance with all applicable copyright laws. Full acknowledgement must be given for any such use. </a:t>
            </a:r>
            <a:endParaRPr b="0" lang="en-US" sz="1400" spc="-1" strike="noStrike">
              <a:solidFill>
                <a:srgbClr val="ffffff"/>
              </a:solidFill>
              <a:latin typeface="Arial Narrow"/>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This presentation is based upon materials either compiled by us through independent research or supplied to us by third parties. Whilst we have made every effort to ensure the accuracy and completeness of the data used in the presentation, we cannot offer any warranty that no factual errors are present. We take no responsibility for any direct or indirect actual or potential damage or loss suffered as a result of any inaccuracy or incompleteness of any kind in this presentation. We would, however, like to be told of any such errors in order to correct them. </a:t>
            </a:r>
            <a:endParaRPr b="0" lang="en-US" sz="1400" spc="-1" strike="noStrike">
              <a:solidFill>
                <a:srgbClr val="ffffff"/>
              </a:solidFill>
              <a:latin typeface="Arial Narrow"/>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110" name=""/>
          <p:cNvSpPr/>
          <p:nvPr/>
        </p:nvSpPr>
        <p:spPr>
          <a:xfrm>
            <a:off x="4049640" y="5037120"/>
            <a:ext cx="2190960" cy="898560"/>
          </a:xfrm>
          <a:prstGeom prst="rect">
            <a:avLst/>
          </a:prstGeom>
          <a:solidFill>
            <a:srgbClr val="0067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992320" y="5961240"/>
            <a:ext cx="69840" cy="69840"/>
          </a:xfrm>
          <a:custGeom>
            <a:avLst/>
            <a:gdLst/>
            <a:ahLst/>
            <a:rect l="l" t="t" r="r" b="b"/>
            <a:pathLst>
              <a:path w="26" h="26">
                <a:moveTo>
                  <a:pt x="5" y="1"/>
                </a:moveTo>
                <a:lnTo>
                  <a:pt x="15" y="0"/>
                </a:lnTo>
                <a:lnTo>
                  <a:pt x="25" y="8"/>
                </a:lnTo>
                <a:lnTo>
                  <a:pt x="25" y="21"/>
                </a:lnTo>
                <a:lnTo>
                  <a:pt x="10" y="25"/>
                </a:lnTo>
                <a:lnTo>
                  <a:pt x="0" y="13"/>
                </a:lnTo>
                <a:lnTo>
                  <a:pt x="5" y="1"/>
                </a:lnTo>
              </a:path>
            </a:pathLst>
          </a:custGeom>
          <a:solidFill>
            <a:srgbClr val="006790"/>
          </a:solidFill>
          <a:ln cap="rnd" w="3240">
            <a:solidFill>
              <a:srgbClr val="004463"/>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2" name=""/>
          <p:cNvSpPr/>
          <p:nvPr/>
        </p:nvSpPr>
        <p:spPr>
          <a:xfrm>
            <a:off x="4275000" y="4160880"/>
            <a:ext cx="144720" cy="198360"/>
          </a:xfrm>
          <a:custGeom>
            <a:avLst/>
            <a:gdLst/>
            <a:ahLst/>
            <a:rect l="l" t="t" r="r" b="b"/>
            <a:pathLst>
              <a:path w="52" h="77">
                <a:moveTo>
                  <a:pt x="26" y="0"/>
                </a:moveTo>
                <a:lnTo>
                  <a:pt x="29" y="8"/>
                </a:lnTo>
                <a:lnTo>
                  <a:pt x="38" y="16"/>
                </a:lnTo>
                <a:lnTo>
                  <a:pt x="36" y="28"/>
                </a:lnTo>
                <a:lnTo>
                  <a:pt x="46" y="38"/>
                </a:lnTo>
                <a:lnTo>
                  <a:pt x="51" y="49"/>
                </a:lnTo>
                <a:lnTo>
                  <a:pt x="43" y="63"/>
                </a:lnTo>
                <a:lnTo>
                  <a:pt x="39" y="71"/>
                </a:lnTo>
                <a:lnTo>
                  <a:pt x="14" y="76"/>
                </a:lnTo>
                <a:lnTo>
                  <a:pt x="0" y="66"/>
                </a:lnTo>
                <a:lnTo>
                  <a:pt x="0" y="54"/>
                </a:lnTo>
                <a:lnTo>
                  <a:pt x="5" y="46"/>
                </a:lnTo>
                <a:lnTo>
                  <a:pt x="0" y="34"/>
                </a:lnTo>
                <a:lnTo>
                  <a:pt x="0" y="16"/>
                </a:lnTo>
                <a:lnTo>
                  <a:pt x="13" y="0"/>
                </a:lnTo>
                <a:lnTo>
                  <a:pt x="26"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4735440" y="-1309680"/>
            <a:ext cx="3309120" cy="3417480"/>
            <a:chOff x="4735440" y="-1309680"/>
            <a:chExt cx="3309120" cy="3417480"/>
          </a:xfrm>
        </p:grpSpPr>
        <p:sp>
          <p:nvSpPr>
            <p:cNvPr id="114" name=""/>
            <p:cNvSpPr/>
            <p:nvPr/>
          </p:nvSpPr>
          <p:spPr>
            <a:xfrm>
              <a:off x="4757400" y="-1309680"/>
              <a:ext cx="3287160" cy="3417480"/>
            </a:xfrm>
            <a:custGeom>
              <a:avLst/>
              <a:gdLst/>
              <a:ahLst/>
              <a:rect l="l" t="t" r="r" b="b"/>
              <a:pathLst>
                <a:path w="1177" h="1332">
                  <a:moveTo>
                    <a:pt x="320" y="1254"/>
                  </a:moveTo>
                  <a:lnTo>
                    <a:pt x="335" y="1257"/>
                  </a:lnTo>
                  <a:lnTo>
                    <a:pt x="345" y="1214"/>
                  </a:lnTo>
                  <a:lnTo>
                    <a:pt x="357" y="1193"/>
                  </a:lnTo>
                  <a:lnTo>
                    <a:pt x="357" y="1173"/>
                  </a:lnTo>
                  <a:lnTo>
                    <a:pt x="385" y="1155"/>
                  </a:lnTo>
                  <a:lnTo>
                    <a:pt x="401" y="1100"/>
                  </a:lnTo>
                  <a:lnTo>
                    <a:pt x="390" y="1082"/>
                  </a:lnTo>
                  <a:lnTo>
                    <a:pt x="391" y="1047"/>
                  </a:lnTo>
                  <a:lnTo>
                    <a:pt x="416" y="1016"/>
                  </a:lnTo>
                  <a:lnTo>
                    <a:pt x="416" y="999"/>
                  </a:lnTo>
                  <a:lnTo>
                    <a:pt x="396" y="976"/>
                  </a:lnTo>
                  <a:lnTo>
                    <a:pt x="396" y="952"/>
                  </a:lnTo>
                  <a:lnTo>
                    <a:pt x="401" y="942"/>
                  </a:lnTo>
                  <a:lnTo>
                    <a:pt x="401" y="912"/>
                  </a:lnTo>
                  <a:lnTo>
                    <a:pt x="398" y="885"/>
                  </a:lnTo>
                  <a:lnTo>
                    <a:pt x="405" y="867"/>
                  </a:lnTo>
                  <a:lnTo>
                    <a:pt x="401" y="851"/>
                  </a:lnTo>
                  <a:lnTo>
                    <a:pt x="401" y="831"/>
                  </a:lnTo>
                  <a:lnTo>
                    <a:pt x="405" y="808"/>
                  </a:lnTo>
                  <a:lnTo>
                    <a:pt x="416" y="786"/>
                  </a:lnTo>
                  <a:lnTo>
                    <a:pt x="458" y="742"/>
                  </a:lnTo>
                  <a:lnTo>
                    <a:pt x="484" y="747"/>
                  </a:lnTo>
                  <a:lnTo>
                    <a:pt x="502" y="745"/>
                  </a:lnTo>
                  <a:lnTo>
                    <a:pt x="512" y="729"/>
                  </a:lnTo>
                  <a:lnTo>
                    <a:pt x="509" y="714"/>
                  </a:lnTo>
                  <a:lnTo>
                    <a:pt x="500" y="704"/>
                  </a:lnTo>
                  <a:lnTo>
                    <a:pt x="502" y="682"/>
                  </a:lnTo>
                  <a:lnTo>
                    <a:pt x="510" y="653"/>
                  </a:lnTo>
                  <a:lnTo>
                    <a:pt x="527" y="629"/>
                  </a:lnTo>
                  <a:lnTo>
                    <a:pt x="530" y="587"/>
                  </a:lnTo>
                  <a:lnTo>
                    <a:pt x="540" y="560"/>
                  </a:lnTo>
                  <a:lnTo>
                    <a:pt x="547" y="540"/>
                  </a:lnTo>
                  <a:lnTo>
                    <a:pt x="543" y="519"/>
                  </a:lnTo>
                  <a:lnTo>
                    <a:pt x="573" y="514"/>
                  </a:lnTo>
                  <a:lnTo>
                    <a:pt x="583" y="499"/>
                  </a:lnTo>
                  <a:lnTo>
                    <a:pt x="583" y="482"/>
                  </a:lnTo>
                  <a:lnTo>
                    <a:pt x="603" y="464"/>
                  </a:lnTo>
                  <a:lnTo>
                    <a:pt x="608" y="446"/>
                  </a:lnTo>
                  <a:lnTo>
                    <a:pt x="619" y="425"/>
                  </a:lnTo>
                  <a:lnTo>
                    <a:pt x="624" y="408"/>
                  </a:lnTo>
                  <a:lnTo>
                    <a:pt x="621" y="393"/>
                  </a:lnTo>
                  <a:lnTo>
                    <a:pt x="646" y="359"/>
                  </a:lnTo>
                  <a:lnTo>
                    <a:pt x="659" y="332"/>
                  </a:lnTo>
                  <a:lnTo>
                    <a:pt x="677" y="331"/>
                  </a:lnTo>
                  <a:lnTo>
                    <a:pt x="692" y="344"/>
                  </a:lnTo>
                  <a:lnTo>
                    <a:pt x="707" y="321"/>
                  </a:lnTo>
                  <a:lnTo>
                    <a:pt x="707" y="311"/>
                  </a:lnTo>
                  <a:lnTo>
                    <a:pt x="718" y="288"/>
                  </a:lnTo>
                  <a:lnTo>
                    <a:pt x="735" y="293"/>
                  </a:lnTo>
                  <a:lnTo>
                    <a:pt x="760" y="291"/>
                  </a:lnTo>
                  <a:lnTo>
                    <a:pt x="776" y="307"/>
                  </a:lnTo>
                  <a:lnTo>
                    <a:pt x="788" y="298"/>
                  </a:lnTo>
                  <a:lnTo>
                    <a:pt x="799" y="261"/>
                  </a:lnTo>
                  <a:lnTo>
                    <a:pt x="794" y="231"/>
                  </a:lnTo>
                  <a:lnTo>
                    <a:pt x="799" y="223"/>
                  </a:lnTo>
                  <a:lnTo>
                    <a:pt x="824" y="223"/>
                  </a:lnTo>
                  <a:lnTo>
                    <a:pt x="824" y="200"/>
                  </a:lnTo>
                  <a:lnTo>
                    <a:pt x="841" y="198"/>
                  </a:lnTo>
                  <a:lnTo>
                    <a:pt x="857" y="235"/>
                  </a:lnTo>
                  <a:lnTo>
                    <a:pt x="867" y="255"/>
                  </a:lnTo>
                  <a:lnTo>
                    <a:pt x="890" y="264"/>
                  </a:lnTo>
                  <a:lnTo>
                    <a:pt x="923" y="263"/>
                  </a:lnTo>
                  <a:lnTo>
                    <a:pt x="933" y="251"/>
                  </a:lnTo>
                  <a:lnTo>
                    <a:pt x="960" y="269"/>
                  </a:lnTo>
                  <a:lnTo>
                    <a:pt x="988" y="268"/>
                  </a:lnTo>
                  <a:lnTo>
                    <a:pt x="994" y="246"/>
                  </a:lnTo>
                  <a:lnTo>
                    <a:pt x="1012" y="226"/>
                  </a:lnTo>
                  <a:lnTo>
                    <a:pt x="1008" y="180"/>
                  </a:lnTo>
                  <a:lnTo>
                    <a:pt x="1004" y="160"/>
                  </a:lnTo>
                  <a:lnTo>
                    <a:pt x="1019" y="134"/>
                  </a:lnTo>
                  <a:lnTo>
                    <a:pt x="1041" y="124"/>
                  </a:lnTo>
                  <a:lnTo>
                    <a:pt x="1049" y="111"/>
                  </a:lnTo>
                  <a:lnTo>
                    <a:pt x="1095" y="144"/>
                  </a:lnTo>
                  <a:lnTo>
                    <a:pt x="1098" y="179"/>
                  </a:lnTo>
                  <a:lnTo>
                    <a:pt x="1102" y="208"/>
                  </a:lnTo>
                  <a:lnTo>
                    <a:pt x="1108" y="223"/>
                  </a:lnTo>
                  <a:lnTo>
                    <a:pt x="1130" y="203"/>
                  </a:lnTo>
                  <a:lnTo>
                    <a:pt x="1155" y="190"/>
                  </a:lnTo>
                  <a:lnTo>
                    <a:pt x="1153" y="167"/>
                  </a:lnTo>
                  <a:lnTo>
                    <a:pt x="1159" y="152"/>
                  </a:lnTo>
                  <a:lnTo>
                    <a:pt x="1176" y="144"/>
                  </a:lnTo>
                  <a:lnTo>
                    <a:pt x="1174" y="127"/>
                  </a:lnTo>
                  <a:lnTo>
                    <a:pt x="1169" y="127"/>
                  </a:lnTo>
                  <a:lnTo>
                    <a:pt x="1166" y="144"/>
                  </a:lnTo>
                  <a:lnTo>
                    <a:pt x="1155" y="121"/>
                  </a:lnTo>
                  <a:lnTo>
                    <a:pt x="1150" y="146"/>
                  </a:lnTo>
                  <a:lnTo>
                    <a:pt x="1140" y="134"/>
                  </a:lnTo>
                  <a:lnTo>
                    <a:pt x="1121" y="142"/>
                  </a:lnTo>
                  <a:lnTo>
                    <a:pt x="1133" y="122"/>
                  </a:lnTo>
                  <a:lnTo>
                    <a:pt x="1117" y="121"/>
                  </a:lnTo>
                  <a:lnTo>
                    <a:pt x="1110" y="109"/>
                  </a:lnTo>
                  <a:lnTo>
                    <a:pt x="1079" y="99"/>
                  </a:lnTo>
                  <a:lnTo>
                    <a:pt x="1108" y="98"/>
                  </a:lnTo>
                  <a:lnTo>
                    <a:pt x="1130" y="101"/>
                  </a:lnTo>
                  <a:lnTo>
                    <a:pt x="1159" y="78"/>
                  </a:lnTo>
                  <a:lnTo>
                    <a:pt x="1168" y="58"/>
                  </a:lnTo>
                  <a:lnTo>
                    <a:pt x="1153" y="48"/>
                  </a:lnTo>
                  <a:lnTo>
                    <a:pt x="1143" y="53"/>
                  </a:lnTo>
                  <a:lnTo>
                    <a:pt x="1126" y="38"/>
                  </a:lnTo>
                  <a:lnTo>
                    <a:pt x="1103" y="37"/>
                  </a:lnTo>
                  <a:lnTo>
                    <a:pt x="1102" y="27"/>
                  </a:lnTo>
                  <a:lnTo>
                    <a:pt x="1085" y="27"/>
                  </a:lnTo>
                  <a:lnTo>
                    <a:pt x="1084" y="51"/>
                  </a:lnTo>
                  <a:lnTo>
                    <a:pt x="1085" y="61"/>
                  </a:lnTo>
                  <a:lnTo>
                    <a:pt x="1080" y="71"/>
                  </a:lnTo>
                  <a:lnTo>
                    <a:pt x="1074" y="83"/>
                  </a:lnTo>
                  <a:lnTo>
                    <a:pt x="1074" y="71"/>
                  </a:lnTo>
                  <a:lnTo>
                    <a:pt x="1072" y="56"/>
                  </a:lnTo>
                  <a:lnTo>
                    <a:pt x="1067" y="56"/>
                  </a:lnTo>
                  <a:lnTo>
                    <a:pt x="1064" y="71"/>
                  </a:lnTo>
                  <a:lnTo>
                    <a:pt x="1052" y="70"/>
                  </a:lnTo>
                  <a:lnTo>
                    <a:pt x="1054" y="61"/>
                  </a:lnTo>
                  <a:lnTo>
                    <a:pt x="1065" y="50"/>
                  </a:lnTo>
                  <a:lnTo>
                    <a:pt x="1070" y="38"/>
                  </a:lnTo>
                  <a:lnTo>
                    <a:pt x="1065" y="35"/>
                  </a:lnTo>
                  <a:lnTo>
                    <a:pt x="1057" y="46"/>
                  </a:lnTo>
                  <a:lnTo>
                    <a:pt x="1047" y="50"/>
                  </a:lnTo>
                  <a:lnTo>
                    <a:pt x="1037" y="56"/>
                  </a:lnTo>
                  <a:lnTo>
                    <a:pt x="1039" y="43"/>
                  </a:lnTo>
                  <a:lnTo>
                    <a:pt x="1049" y="40"/>
                  </a:lnTo>
                  <a:lnTo>
                    <a:pt x="1049" y="33"/>
                  </a:lnTo>
                  <a:lnTo>
                    <a:pt x="1039" y="23"/>
                  </a:lnTo>
                  <a:lnTo>
                    <a:pt x="1046" y="20"/>
                  </a:lnTo>
                  <a:lnTo>
                    <a:pt x="1060" y="27"/>
                  </a:lnTo>
                  <a:lnTo>
                    <a:pt x="1070" y="30"/>
                  </a:lnTo>
                  <a:lnTo>
                    <a:pt x="1075" y="17"/>
                  </a:lnTo>
                  <a:lnTo>
                    <a:pt x="1070" y="15"/>
                  </a:lnTo>
                  <a:lnTo>
                    <a:pt x="1057" y="13"/>
                  </a:lnTo>
                  <a:lnTo>
                    <a:pt x="1064" y="8"/>
                  </a:lnTo>
                  <a:lnTo>
                    <a:pt x="1057" y="2"/>
                  </a:lnTo>
                  <a:lnTo>
                    <a:pt x="1047" y="4"/>
                  </a:lnTo>
                  <a:lnTo>
                    <a:pt x="1042" y="7"/>
                  </a:lnTo>
                  <a:lnTo>
                    <a:pt x="1039" y="0"/>
                  </a:lnTo>
                  <a:lnTo>
                    <a:pt x="1031" y="0"/>
                  </a:lnTo>
                  <a:lnTo>
                    <a:pt x="1024" y="0"/>
                  </a:lnTo>
                  <a:lnTo>
                    <a:pt x="1026" y="8"/>
                  </a:lnTo>
                  <a:lnTo>
                    <a:pt x="1032" y="12"/>
                  </a:lnTo>
                  <a:lnTo>
                    <a:pt x="1034" y="17"/>
                  </a:lnTo>
                  <a:lnTo>
                    <a:pt x="1027" y="13"/>
                  </a:lnTo>
                  <a:lnTo>
                    <a:pt x="1017" y="12"/>
                  </a:lnTo>
                  <a:lnTo>
                    <a:pt x="1014" y="20"/>
                  </a:lnTo>
                  <a:lnTo>
                    <a:pt x="1024" y="23"/>
                  </a:lnTo>
                  <a:lnTo>
                    <a:pt x="1031" y="28"/>
                  </a:lnTo>
                  <a:lnTo>
                    <a:pt x="1031" y="37"/>
                  </a:lnTo>
                  <a:lnTo>
                    <a:pt x="1027" y="40"/>
                  </a:lnTo>
                  <a:lnTo>
                    <a:pt x="1027" y="53"/>
                  </a:lnTo>
                  <a:lnTo>
                    <a:pt x="1024" y="65"/>
                  </a:lnTo>
                  <a:lnTo>
                    <a:pt x="1027" y="70"/>
                  </a:lnTo>
                  <a:lnTo>
                    <a:pt x="1017" y="78"/>
                  </a:lnTo>
                  <a:lnTo>
                    <a:pt x="1006" y="79"/>
                  </a:lnTo>
                  <a:lnTo>
                    <a:pt x="1008" y="70"/>
                  </a:lnTo>
                  <a:lnTo>
                    <a:pt x="1012" y="63"/>
                  </a:lnTo>
                  <a:lnTo>
                    <a:pt x="1012" y="51"/>
                  </a:lnTo>
                  <a:lnTo>
                    <a:pt x="1004" y="48"/>
                  </a:lnTo>
                  <a:lnTo>
                    <a:pt x="1009" y="38"/>
                  </a:lnTo>
                  <a:lnTo>
                    <a:pt x="1004" y="28"/>
                  </a:lnTo>
                  <a:lnTo>
                    <a:pt x="999" y="25"/>
                  </a:lnTo>
                  <a:lnTo>
                    <a:pt x="993" y="30"/>
                  </a:lnTo>
                  <a:lnTo>
                    <a:pt x="984" y="43"/>
                  </a:lnTo>
                  <a:lnTo>
                    <a:pt x="981" y="53"/>
                  </a:lnTo>
                  <a:lnTo>
                    <a:pt x="978" y="65"/>
                  </a:lnTo>
                  <a:lnTo>
                    <a:pt x="984" y="75"/>
                  </a:lnTo>
                  <a:lnTo>
                    <a:pt x="976" y="71"/>
                  </a:lnTo>
                  <a:lnTo>
                    <a:pt x="971" y="86"/>
                  </a:lnTo>
                  <a:lnTo>
                    <a:pt x="973" y="98"/>
                  </a:lnTo>
                  <a:lnTo>
                    <a:pt x="971" y="111"/>
                  </a:lnTo>
                  <a:lnTo>
                    <a:pt x="953" y="113"/>
                  </a:lnTo>
                  <a:lnTo>
                    <a:pt x="951" y="101"/>
                  </a:lnTo>
                  <a:lnTo>
                    <a:pt x="956" y="89"/>
                  </a:lnTo>
                  <a:lnTo>
                    <a:pt x="958" y="78"/>
                  </a:lnTo>
                  <a:lnTo>
                    <a:pt x="956" y="68"/>
                  </a:lnTo>
                  <a:lnTo>
                    <a:pt x="965" y="56"/>
                  </a:lnTo>
                  <a:lnTo>
                    <a:pt x="970" y="46"/>
                  </a:lnTo>
                  <a:lnTo>
                    <a:pt x="976" y="40"/>
                  </a:lnTo>
                  <a:lnTo>
                    <a:pt x="976" y="30"/>
                  </a:lnTo>
                  <a:lnTo>
                    <a:pt x="970" y="25"/>
                  </a:lnTo>
                  <a:lnTo>
                    <a:pt x="958" y="22"/>
                  </a:lnTo>
                  <a:lnTo>
                    <a:pt x="950" y="23"/>
                  </a:lnTo>
                  <a:lnTo>
                    <a:pt x="951" y="33"/>
                  </a:lnTo>
                  <a:lnTo>
                    <a:pt x="943" y="30"/>
                  </a:lnTo>
                  <a:lnTo>
                    <a:pt x="933" y="20"/>
                  </a:lnTo>
                  <a:lnTo>
                    <a:pt x="927" y="25"/>
                  </a:lnTo>
                  <a:lnTo>
                    <a:pt x="918" y="30"/>
                  </a:lnTo>
                  <a:lnTo>
                    <a:pt x="922" y="38"/>
                  </a:lnTo>
                  <a:lnTo>
                    <a:pt x="933" y="40"/>
                  </a:lnTo>
                  <a:lnTo>
                    <a:pt x="937" y="51"/>
                  </a:lnTo>
                  <a:lnTo>
                    <a:pt x="925" y="46"/>
                  </a:lnTo>
                  <a:lnTo>
                    <a:pt x="918" y="53"/>
                  </a:lnTo>
                  <a:lnTo>
                    <a:pt x="923" y="61"/>
                  </a:lnTo>
                  <a:lnTo>
                    <a:pt x="928" y="71"/>
                  </a:lnTo>
                  <a:lnTo>
                    <a:pt x="915" y="75"/>
                  </a:lnTo>
                  <a:lnTo>
                    <a:pt x="913" y="68"/>
                  </a:lnTo>
                  <a:lnTo>
                    <a:pt x="907" y="79"/>
                  </a:lnTo>
                  <a:lnTo>
                    <a:pt x="899" y="83"/>
                  </a:lnTo>
                  <a:lnTo>
                    <a:pt x="894" y="98"/>
                  </a:lnTo>
                  <a:lnTo>
                    <a:pt x="895" y="113"/>
                  </a:lnTo>
                  <a:lnTo>
                    <a:pt x="899" y="119"/>
                  </a:lnTo>
                  <a:lnTo>
                    <a:pt x="905" y="124"/>
                  </a:lnTo>
                  <a:lnTo>
                    <a:pt x="897" y="127"/>
                  </a:lnTo>
                  <a:lnTo>
                    <a:pt x="887" y="134"/>
                  </a:lnTo>
                  <a:lnTo>
                    <a:pt x="885" y="122"/>
                  </a:lnTo>
                  <a:lnTo>
                    <a:pt x="882" y="114"/>
                  </a:lnTo>
                  <a:lnTo>
                    <a:pt x="885" y="106"/>
                  </a:lnTo>
                  <a:lnTo>
                    <a:pt x="869" y="116"/>
                  </a:lnTo>
                  <a:lnTo>
                    <a:pt x="877" y="101"/>
                  </a:lnTo>
                  <a:lnTo>
                    <a:pt x="862" y="101"/>
                  </a:lnTo>
                  <a:lnTo>
                    <a:pt x="857" y="109"/>
                  </a:lnTo>
                  <a:lnTo>
                    <a:pt x="849" y="101"/>
                  </a:lnTo>
                  <a:lnTo>
                    <a:pt x="837" y="96"/>
                  </a:lnTo>
                  <a:lnTo>
                    <a:pt x="831" y="99"/>
                  </a:lnTo>
                  <a:lnTo>
                    <a:pt x="819" y="94"/>
                  </a:lnTo>
                  <a:lnTo>
                    <a:pt x="819" y="103"/>
                  </a:lnTo>
                  <a:lnTo>
                    <a:pt x="832" y="114"/>
                  </a:lnTo>
                  <a:lnTo>
                    <a:pt x="849" y="119"/>
                  </a:lnTo>
                  <a:lnTo>
                    <a:pt x="849" y="127"/>
                  </a:lnTo>
                  <a:lnTo>
                    <a:pt x="844" y="129"/>
                  </a:lnTo>
                  <a:lnTo>
                    <a:pt x="846" y="144"/>
                  </a:lnTo>
                  <a:lnTo>
                    <a:pt x="857" y="152"/>
                  </a:lnTo>
                  <a:lnTo>
                    <a:pt x="861" y="159"/>
                  </a:lnTo>
                  <a:lnTo>
                    <a:pt x="849" y="151"/>
                  </a:lnTo>
                  <a:lnTo>
                    <a:pt x="837" y="149"/>
                  </a:lnTo>
                  <a:lnTo>
                    <a:pt x="834" y="141"/>
                  </a:lnTo>
                  <a:lnTo>
                    <a:pt x="831" y="131"/>
                  </a:lnTo>
                  <a:lnTo>
                    <a:pt x="829" y="122"/>
                  </a:lnTo>
                  <a:lnTo>
                    <a:pt x="823" y="126"/>
                  </a:lnTo>
                  <a:lnTo>
                    <a:pt x="816" y="131"/>
                  </a:lnTo>
                  <a:lnTo>
                    <a:pt x="813" y="144"/>
                  </a:lnTo>
                  <a:lnTo>
                    <a:pt x="808" y="159"/>
                  </a:lnTo>
                  <a:lnTo>
                    <a:pt x="808" y="169"/>
                  </a:lnTo>
                  <a:lnTo>
                    <a:pt x="803" y="174"/>
                  </a:lnTo>
                  <a:lnTo>
                    <a:pt x="786" y="182"/>
                  </a:lnTo>
                  <a:lnTo>
                    <a:pt x="790" y="175"/>
                  </a:lnTo>
                  <a:lnTo>
                    <a:pt x="793" y="160"/>
                  </a:lnTo>
                  <a:lnTo>
                    <a:pt x="793" y="144"/>
                  </a:lnTo>
                  <a:lnTo>
                    <a:pt x="780" y="141"/>
                  </a:lnTo>
                  <a:lnTo>
                    <a:pt x="776" y="155"/>
                  </a:lnTo>
                  <a:lnTo>
                    <a:pt x="775" y="174"/>
                  </a:lnTo>
                  <a:lnTo>
                    <a:pt x="761" y="172"/>
                  </a:lnTo>
                  <a:lnTo>
                    <a:pt x="768" y="159"/>
                  </a:lnTo>
                  <a:lnTo>
                    <a:pt x="768" y="147"/>
                  </a:lnTo>
                  <a:lnTo>
                    <a:pt x="753" y="154"/>
                  </a:lnTo>
                  <a:lnTo>
                    <a:pt x="748" y="165"/>
                  </a:lnTo>
                  <a:lnTo>
                    <a:pt x="750" y="179"/>
                  </a:lnTo>
                  <a:lnTo>
                    <a:pt x="743" y="184"/>
                  </a:lnTo>
                  <a:lnTo>
                    <a:pt x="747" y="193"/>
                  </a:lnTo>
                  <a:lnTo>
                    <a:pt x="761" y="200"/>
                  </a:lnTo>
                  <a:lnTo>
                    <a:pt x="763" y="208"/>
                  </a:lnTo>
                  <a:lnTo>
                    <a:pt x="758" y="213"/>
                  </a:lnTo>
                  <a:lnTo>
                    <a:pt x="753" y="207"/>
                  </a:lnTo>
                  <a:lnTo>
                    <a:pt x="748" y="198"/>
                  </a:lnTo>
                  <a:lnTo>
                    <a:pt x="738" y="188"/>
                  </a:lnTo>
                  <a:lnTo>
                    <a:pt x="737" y="180"/>
                  </a:lnTo>
                  <a:lnTo>
                    <a:pt x="732" y="177"/>
                  </a:lnTo>
                  <a:lnTo>
                    <a:pt x="723" y="180"/>
                  </a:lnTo>
                  <a:lnTo>
                    <a:pt x="730" y="192"/>
                  </a:lnTo>
                  <a:lnTo>
                    <a:pt x="740" y="202"/>
                  </a:lnTo>
                  <a:lnTo>
                    <a:pt x="715" y="197"/>
                  </a:lnTo>
                  <a:lnTo>
                    <a:pt x="714" y="190"/>
                  </a:lnTo>
                  <a:lnTo>
                    <a:pt x="705" y="193"/>
                  </a:lnTo>
                  <a:lnTo>
                    <a:pt x="704" y="203"/>
                  </a:lnTo>
                  <a:lnTo>
                    <a:pt x="710" y="213"/>
                  </a:lnTo>
                  <a:lnTo>
                    <a:pt x="705" y="220"/>
                  </a:lnTo>
                  <a:lnTo>
                    <a:pt x="690" y="218"/>
                  </a:lnTo>
                  <a:lnTo>
                    <a:pt x="685" y="225"/>
                  </a:lnTo>
                  <a:lnTo>
                    <a:pt x="684" y="235"/>
                  </a:lnTo>
                  <a:lnTo>
                    <a:pt x="689" y="245"/>
                  </a:lnTo>
                  <a:lnTo>
                    <a:pt x="690" y="256"/>
                  </a:lnTo>
                  <a:lnTo>
                    <a:pt x="677" y="264"/>
                  </a:lnTo>
                  <a:lnTo>
                    <a:pt x="667" y="264"/>
                  </a:lnTo>
                  <a:lnTo>
                    <a:pt x="657" y="269"/>
                  </a:lnTo>
                  <a:lnTo>
                    <a:pt x="651" y="286"/>
                  </a:lnTo>
                  <a:lnTo>
                    <a:pt x="639" y="286"/>
                  </a:lnTo>
                  <a:lnTo>
                    <a:pt x="629" y="298"/>
                  </a:lnTo>
                  <a:lnTo>
                    <a:pt x="649" y="298"/>
                  </a:lnTo>
                  <a:lnTo>
                    <a:pt x="664" y="286"/>
                  </a:lnTo>
                  <a:lnTo>
                    <a:pt x="676" y="293"/>
                  </a:lnTo>
                  <a:lnTo>
                    <a:pt x="684" y="291"/>
                  </a:lnTo>
                  <a:lnTo>
                    <a:pt x="677" y="306"/>
                  </a:lnTo>
                  <a:lnTo>
                    <a:pt x="674" y="317"/>
                  </a:lnTo>
                  <a:lnTo>
                    <a:pt x="664" y="306"/>
                  </a:lnTo>
                  <a:lnTo>
                    <a:pt x="649" y="306"/>
                  </a:lnTo>
                  <a:lnTo>
                    <a:pt x="633" y="312"/>
                  </a:lnTo>
                  <a:lnTo>
                    <a:pt x="638" y="326"/>
                  </a:lnTo>
                  <a:lnTo>
                    <a:pt x="644" y="337"/>
                  </a:lnTo>
                  <a:lnTo>
                    <a:pt x="634" y="345"/>
                  </a:lnTo>
                  <a:lnTo>
                    <a:pt x="629" y="337"/>
                  </a:lnTo>
                  <a:lnTo>
                    <a:pt x="626" y="324"/>
                  </a:lnTo>
                  <a:lnTo>
                    <a:pt x="623" y="312"/>
                  </a:lnTo>
                  <a:lnTo>
                    <a:pt x="609" y="319"/>
                  </a:lnTo>
                  <a:lnTo>
                    <a:pt x="598" y="321"/>
                  </a:lnTo>
                  <a:lnTo>
                    <a:pt x="595" y="329"/>
                  </a:lnTo>
                  <a:lnTo>
                    <a:pt x="608" y="332"/>
                  </a:lnTo>
                  <a:lnTo>
                    <a:pt x="613" y="340"/>
                  </a:lnTo>
                  <a:lnTo>
                    <a:pt x="598" y="337"/>
                  </a:lnTo>
                  <a:lnTo>
                    <a:pt x="588" y="339"/>
                  </a:lnTo>
                  <a:lnTo>
                    <a:pt x="588" y="345"/>
                  </a:lnTo>
                  <a:lnTo>
                    <a:pt x="568" y="350"/>
                  </a:lnTo>
                  <a:lnTo>
                    <a:pt x="571" y="362"/>
                  </a:lnTo>
                  <a:lnTo>
                    <a:pt x="590" y="357"/>
                  </a:lnTo>
                  <a:lnTo>
                    <a:pt x="596" y="350"/>
                  </a:lnTo>
                  <a:lnTo>
                    <a:pt x="603" y="357"/>
                  </a:lnTo>
                  <a:lnTo>
                    <a:pt x="595" y="360"/>
                  </a:lnTo>
                  <a:lnTo>
                    <a:pt x="591" y="372"/>
                  </a:lnTo>
                  <a:lnTo>
                    <a:pt x="600" y="378"/>
                  </a:lnTo>
                  <a:lnTo>
                    <a:pt x="603" y="383"/>
                  </a:lnTo>
                  <a:lnTo>
                    <a:pt x="603" y="395"/>
                  </a:lnTo>
                  <a:lnTo>
                    <a:pt x="590" y="385"/>
                  </a:lnTo>
                  <a:lnTo>
                    <a:pt x="580" y="377"/>
                  </a:lnTo>
                  <a:lnTo>
                    <a:pt x="563" y="378"/>
                  </a:lnTo>
                  <a:lnTo>
                    <a:pt x="567" y="388"/>
                  </a:lnTo>
                  <a:lnTo>
                    <a:pt x="573" y="392"/>
                  </a:lnTo>
                  <a:lnTo>
                    <a:pt x="562" y="395"/>
                  </a:lnTo>
                  <a:lnTo>
                    <a:pt x="543" y="405"/>
                  </a:lnTo>
                  <a:lnTo>
                    <a:pt x="550" y="415"/>
                  </a:lnTo>
                  <a:lnTo>
                    <a:pt x="568" y="408"/>
                  </a:lnTo>
                  <a:lnTo>
                    <a:pt x="583" y="405"/>
                  </a:lnTo>
                  <a:lnTo>
                    <a:pt x="593" y="411"/>
                  </a:lnTo>
                  <a:lnTo>
                    <a:pt x="603" y="416"/>
                  </a:lnTo>
                  <a:lnTo>
                    <a:pt x="591" y="421"/>
                  </a:lnTo>
                  <a:lnTo>
                    <a:pt x="576" y="416"/>
                  </a:lnTo>
                  <a:lnTo>
                    <a:pt x="560" y="423"/>
                  </a:lnTo>
                  <a:lnTo>
                    <a:pt x="555" y="421"/>
                  </a:lnTo>
                  <a:lnTo>
                    <a:pt x="548" y="428"/>
                  </a:lnTo>
                  <a:lnTo>
                    <a:pt x="547" y="435"/>
                  </a:lnTo>
                  <a:lnTo>
                    <a:pt x="537" y="430"/>
                  </a:lnTo>
                  <a:lnTo>
                    <a:pt x="525" y="435"/>
                  </a:lnTo>
                  <a:lnTo>
                    <a:pt x="515" y="438"/>
                  </a:lnTo>
                  <a:lnTo>
                    <a:pt x="520" y="453"/>
                  </a:lnTo>
                  <a:lnTo>
                    <a:pt x="527" y="461"/>
                  </a:lnTo>
                  <a:lnTo>
                    <a:pt x="507" y="456"/>
                  </a:lnTo>
                  <a:lnTo>
                    <a:pt x="509" y="468"/>
                  </a:lnTo>
                  <a:lnTo>
                    <a:pt x="520" y="476"/>
                  </a:lnTo>
                  <a:lnTo>
                    <a:pt x="499" y="468"/>
                  </a:lnTo>
                  <a:lnTo>
                    <a:pt x="502" y="478"/>
                  </a:lnTo>
                  <a:lnTo>
                    <a:pt x="494" y="486"/>
                  </a:lnTo>
                  <a:lnTo>
                    <a:pt x="494" y="499"/>
                  </a:lnTo>
                  <a:lnTo>
                    <a:pt x="489" y="501"/>
                  </a:lnTo>
                  <a:lnTo>
                    <a:pt x="487" y="511"/>
                  </a:lnTo>
                  <a:lnTo>
                    <a:pt x="507" y="511"/>
                  </a:lnTo>
                  <a:lnTo>
                    <a:pt x="520" y="512"/>
                  </a:lnTo>
                  <a:lnTo>
                    <a:pt x="504" y="516"/>
                  </a:lnTo>
                  <a:lnTo>
                    <a:pt x="487" y="516"/>
                  </a:lnTo>
                  <a:lnTo>
                    <a:pt x="479" y="517"/>
                  </a:lnTo>
                  <a:lnTo>
                    <a:pt x="479" y="527"/>
                  </a:lnTo>
                  <a:lnTo>
                    <a:pt x="492" y="530"/>
                  </a:lnTo>
                  <a:lnTo>
                    <a:pt x="481" y="537"/>
                  </a:lnTo>
                  <a:lnTo>
                    <a:pt x="486" y="552"/>
                  </a:lnTo>
                  <a:lnTo>
                    <a:pt x="471" y="547"/>
                  </a:lnTo>
                  <a:lnTo>
                    <a:pt x="462" y="557"/>
                  </a:lnTo>
                  <a:lnTo>
                    <a:pt x="462" y="567"/>
                  </a:lnTo>
                  <a:lnTo>
                    <a:pt x="456" y="563"/>
                  </a:lnTo>
                  <a:lnTo>
                    <a:pt x="448" y="570"/>
                  </a:lnTo>
                  <a:lnTo>
                    <a:pt x="453" y="583"/>
                  </a:lnTo>
                  <a:lnTo>
                    <a:pt x="464" y="587"/>
                  </a:lnTo>
                  <a:lnTo>
                    <a:pt x="458" y="595"/>
                  </a:lnTo>
                  <a:lnTo>
                    <a:pt x="448" y="583"/>
                  </a:lnTo>
                  <a:lnTo>
                    <a:pt x="441" y="587"/>
                  </a:lnTo>
                  <a:lnTo>
                    <a:pt x="441" y="600"/>
                  </a:lnTo>
                  <a:lnTo>
                    <a:pt x="454" y="608"/>
                  </a:lnTo>
                  <a:lnTo>
                    <a:pt x="454" y="613"/>
                  </a:lnTo>
                  <a:lnTo>
                    <a:pt x="467" y="611"/>
                  </a:lnTo>
                  <a:lnTo>
                    <a:pt x="454" y="621"/>
                  </a:lnTo>
                  <a:lnTo>
                    <a:pt x="439" y="626"/>
                  </a:lnTo>
                  <a:lnTo>
                    <a:pt x="434" y="620"/>
                  </a:lnTo>
                  <a:lnTo>
                    <a:pt x="420" y="621"/>
                  </a:lnTo>
                  <a:lnTo>
                    <a:pt x="413" y="629"/>
                  </a:lnTo>
                  <a:lnTo>
                    <a:pt x="418" y="638"/>
                  </a:lnTo>
                  <a:lnTo>
                    <a:pt x="421" y="648"/>
                  </a:lnTo>
                  <a:lnTo>
                    <a:pt x="401" y="656"/>
                  </a:lnTo>
                  <a:lnTo>
                    <a:pt x="396" y="669"/>
                  </a:lnTo>
                  <a:lnTo>
                    <a:pt x="410" y="684"/>
                  </a:lnTo>
                  <a:lnTo>
                    <a:pt x="393" y="691"/>
                  </a:lnTo>
                  <a:lnTo>
                    <a:pt x="382" y="696"/>
                  </a:lnTo>
                  <a:lnTo>
                    <a:pt x="378" y="705"/>
                  </a:lnTo>
                  <a:lnTo>
                    <a:pt x="372" y="687"/>
                  </a:lnTo>
                  <a:lnTo>
                    <a:pt x="368" y="676"/>
                  </a:lnTo>
                  <a:lnTo>
                    <a:pt x="358" y="682"/>
                  </a:lnTo>
                  <a:lnTo>
                    <a:pt x="344" y="697"/>
                  </a:lnTo>
                  <a:lnTo>
                    <a:pt x="339" y="712"/>
                  </a:lnTo>
                  <a:lnTo>
                    <a:pt x="329" y="725"/>
                  </a:lnTo>
                  <a:lnTo>
                    <a:pt x="320" y="734"/>
                  </a:lnTo>
                  <a:lnTo>
                    <a:pt x="327" y="740"/>
                  </a:lnTo>
                  <a:lnTo>
                    <a:pt x="314" y="742"/>
                  </a:lnTo>
                  <a:lnTo>
                    <a:pt x="299" y="745"/>
                  </a:lnTo>
                  <a:lnTo>
                    <a:pt x="299" y="747"/>
                  </a:lnTo>
                  <a:lnTo>
                    <a:pt x="301" y="747"/>
                  </a:lnTo>
                  <a:lnTo>
                    <a:pt x="301" y="748"/>
                  </a:lnTo>
                  <a:lnTo>
                    <a:pt x="302" y="750"/>
                  </a:lnTo>
                  <a:lnTo>
                    <a:pt x="302" y="752"/>
                  </a:lnTo>
                  <a:lnTo>
                    <a:pt x="304" y="752"/>
                  </a:lnTo>
                  <a:lnTo>
                    <a:pt x="304" y="753"/>
                  </a:lnTo>
                  <a:lnTo>
                    <a:pt x="306" y="753"/>
                  </a:lnTo>
                  <a:lnTo>
                    <a:pt x="306" y="755"/>
                  </a:lnTo>
                  <a:lnTo>
                    <a:pt x="307" y="757"/>
                  </a:lnTo>
                  <a:lnTo>
                    <a:pt x="309" y="758"/>
                  </a:lnTo>
                  <a:lnTo>
                    <a:pt x="292" y="760"/>
                  </a:lnTo>
                  <a:lnTo>
                    <a:pt x="296" y="768"/>
                  </a:lnTo>
                  <a:lnTo>
                    <a:pt x="317" y="762"/>
                  </a:lnTo>
                  <a:lnTo>
                    <a:pt x="317" y="763"/>
                  </a:lnTo>
                  <a:lnTo>
                    <a:pt x="319" y="763"/>
                  </a:lnTo>
                  <a:lnTo>
                    <a:pt x="319" y="765"/>
                  </a:lnTo>
                  <a:lnTo>
                    <a:pt x="319" y="767"/>
                  </a:lnTo>
                  <a:lnTo>
                    <a:pt x="317" y="767"/>
                  </a:lnTo>
                  <a:lnTo>
                    <a:pt x="317" y="768"/>
                  </a:lnTo>
                  <a:lnTo>
                    <a:pt x="315" y="768"/>
                  </a:lnTo>
                  <a:lnTo>
                    <a:pt x="315" y="770"/>
                  </a:lnTo>
                  <a:lnTo>
                    <a:pt x="314" y="770"/>
                  </a:lnTo>
                  <a:lnTo>
                    <a:pt x="314" y="772"/>
                  </a:lnTo>
                  <a:lnTo>
                    <a:pt x="312" y="772"/>
                  </a:lnTo>
                  <a:lnTo>
                    <a:pt x="312" y="773"/>
                  </a:lnTo>
                  <a:lnTo>
                    <a:pt x="311" y="773"/>
                  </a:lnTo>
                  <a:lnTo>
                    <a:pt x="319" y="785"/>
                  </a:lnTo>
                  <a:lnTo>
                    <a:pt x="347" y="776"/>
                  </a:lnTo>
                  <a:lnTo>
                    <a:pt x="355" y="765"/>
                  </a:lnTo>
                  <a:lnTo>
                    <a:pt x="353" y="753"/>
                  </a:lnTo>
                  <a:lnTo>
                    <a:pt x="358" y="743"/>
                  </a:lnTo>
                  <a:lnTo>
                    <a:pt x="380" y="729"/>
                  </a:lnTo>
                  <a:lnTo>
                    <a:pt x="391" y="735"/>
                  </a:lnTo>
                  <a:lnTo>
                    <a:pt x="377" y="742"/>
                  </a:lnTo>
                  <a:lnTo>
                    <a:pt x="365" y="750"/>
                  </a:lnTo>
                  <a:lnTo>
                    <a:pt x="372" y="760"/>
                  </a:lnTo>
                  <a:lnTo>
                    <a:pt x="380" y="753"/>
                  </a:lnTo>
                  <a:lnTo>
                    <a:pt x="380" y="773"/>
                  </a:lnTo>
                  <a:lnTo>
                    <a:pt x="365" y="768"/>
                  </a:lnTo>
                  <a:lnTo>
                    <a:pt x="350" y="778"/>
                  </a:lnTo>
                  <a:lnTo>
                    <a:pt x="353" y="788"/>
                  </a:lnTo>
                  <a:lnTo>
                    <a:pt x="345" y="793"/>
                  </a:lnTo>
                  <a:lnTo>
                    <a:pt x="322" y="800"/>
                  </a:lnTo>
                  <a:lnTo>
                    <a:pt x="324" y="811"/>
                  </a:lnTo>
                  <a:lnTo>
                    <a:pt x="314" y="798"/>
                  </a:lnTo>
                  <a:lnTo>
                    <a:pt x="299" y="783"/>
                  </a:lnTo>
                  <a:lnTo>
                    <a:pt x="289" y="780"/>
                  </a:lnTo>
                  <a:lnTo>
                    <a:pt x="269" y="783"/>
                  </a:lnTo>
                  <a:lnTo>
                    <a:pt x="279" y="793"/>
                  </a:lnTo>
                  <a:lnTo>
                    <a:pt x="274" y="800"/>
                  </a:lnTo>
                  <a:lnTo>
                    <a:pt x="266" y="791"/>
                  </a:lnTo>
                  <a:lnTo>
                    <a:pt x="251" y="786"/>
                  </a:lnTo>
                  <a:lnTo>
                    <a:pt x="241" y="791"/>
                  </a:lnTo>
                  <a:lnTo>
                    <a:pt x="248" y="803"/>
                  </a:lnTo>
                  <a:lnTo>
                    <a:pt x="236" y="806"/>
                  </a:lnTo>
                  <a:lnTo>
                    <a:pt x="236" y="818"/>
                  </a:lnTo>
                  <a:lnTo>
                    <a:pt x="246" y="828"/>
                  </a:lnTo>
                  <a:lnTo>
                    <a:pt x="241" y="839"/>
                  </a:lnTo>
                  <a:lnTo>
                    <a:pt x="223" y="813"/>
                  </a:lnTo>
                  <a:lnTo>
                    <a:pt x="210" y="823"/>
                  </a:lnTo>
                  <a:lnTo>
                    <a:pt x="226" y="843"/>
                  </a:lnTo>
                  <a:lnTo>
                    <a:pt x="235" y="862"/>
                  </a:lnTo>
                  <a:lnTo>
                    <a:pt x="220" y="838"/>
                  </a:lnTo>
                  <a:lnTo>
                    <a:pt x="203" y="829"/>
                  </a:lnTo>
                  <a:lnTo>
                    <a:pt x="197" y="828"/>
                  </a:lnTo>
                  <a:lnTo>
                    <a:pt x="175" y="813"/>
                  </a:lnTo>
                  <a:lnTo>
                    <a:pt x="164" y="818"/>
                  </a:lnTo>
                  <a:lnTo>
                    <a:pt x="164" y="828"/>
                  </a:lnTo>
                  <a:lnTo>
                    <a:pt x="159" y="839"/>
                  </a:lnTo>
                  <a:lnTo>
                    <a:pt x="182" y="846"/>
                  </a:lnTo>
                  <a:lnTo>
                    <a:pt x="206" y="849"/>
                  </a:lnTo>
                  <a:lnTo>
                    <a:pt x="185" y="856"/>
                  </a:lnTo>
                  <a:lnTo>
                    <a:pt x="168" y="869"/>
                  </a:lnTo>
                  <a:lnTo>
                    <a:pt x="159" y="852"/>
                  </a:lnTo>
                  <a:lnTo>
                    <a:pt x="140" y="847"/>
                  </a:lnTo>
                  <a:lnTo>
                    <a:pt x="117" y="851"/>
                  </a:lnTo>
                  <a:lnTo>
                    <a:pt x="106" y="857"/>
                  </a:lnTo>
                  <a:lnTo>
                    <a:pt x="116" y="864"/>
                  </a:lnTo>
                  <a:lnTo>
                    <a:pt x="111" y="872"/>
                  </a:lnTo>
                  <a:lnTo>
                    <a:pt x="124" y="877"/>
                  </a:lnTo>
                  <a:lnTo>
                    <a:pt x="145" y="872"/>
                  </a:lnTo>
                  <a:lnTo>
                    <a:pt x="155" y="884"/>
                  </a:lnTo>
                  <a:lnTo>
                    <a:pt x="159" y="894"/>
                  </a:lnTo>
                  <a:lnTo>
                    <a:pt x="150" y="910"/>
                  </a:lnTo>
                  <a:lnTo>
                    <a:pt x="145" y="882"/>
                  </a:lnTo>
                  <a:lnTo>
                    <a:pt x="144" y="882"/>
                  </a:lnTo>
                  <a:lnTo>
                    <a:pt x="142" y="882"/>
                  </a:lnTo>
                  <a:lnTo>
                    <a:pt x="140" y="882"/>
                  </a:lnTo>
                  <a:lnTo>
                    <a:pt x="139" y="882"/>
                  </a:lnTo>
                  <a:lnTo>
                    <a:pt x="137" y="882"/>
                  </a:lnTo>
                  <a:lnTo>
                    <a:pt x="135" y="882"/>
                  </a:lnTo>
                  <a:lnTo>
                    <a:pt x="134" y="882"/>
                  </a:lnTo>
                  <a:lnTo>
                    <a:pt x="132" y="882"/>
                  </a:lnTo>
                  <a:lnTo>
                    <a:pt x="130" y="882"/>
                  </a:lnTo>
                  <a:lnTo>
                    <a:pt x="129" y="884"/>
                  </a:lnTo>
                  <a:lnTo>
                    <a:pt x="127" y="884"/>
                  </a:lnTo>
                  <a:lnTo>
                    <a:pt x="130" y="904"/>
                  </a:lnTo>
                  <a:lnTo>
                    <a:pt x="121" y="892"/>
                  </a:lnTo>
                  <a:lnTo>
                    <a:pt x="116" y="879"/>
                  </a:lnTo>
                  <a:lnTo>
                    <a:pt x="104" y="881"/>
                  </a:lnTo>
                  <a:lnTo>
                    <a:pt x="102" y="897"/>
                  </a:lnTo>
                  <a:lnTo>
                    <a:pt x="111" y="910"/>
                  </a:lnTo>
                  <a:lnTo>
                    <a:pt x="96" y="909"/>
                  </a:lnTo>
                  <a:lnTo>
                    <a:pt x="84" y="881"/>
                  </a:lnTo>
                  <a:lnTo>
                    <a:pt x="73" y="885"/>
                  </a:lnTo>
                  <a:lnTo>
                    <a:pt x="71" y="904"/>
                  </a:lnTo>
                  <a:lnTo>
                    <a:pt x="54" y="909"/>
                  </a:lnTo>
                  <a:lnTo>
                    <a:pt x="58" y="915"/>
                  </a:lnTo>
                  <a:lnTo>
                    <a:pt x="78" y="919"/>
                  </a:lnTo>
                  <a:lnTo>
                    <a:pt x="94" y="932"/>
                  </a:lnTo>
                  <a:lnTo>
                    <a:pt x="116" y="933"/>
                  </a:lnTo>
                  <a:lnTo>
                    <a:pt x="127" y="933"/>
                  </a:lnTo>
                  <a:lnTo>
                    <a:pt x="116" y="940"/>
                  </a:lnTo>
                  <a:lnTo>
                    <a:pt x="86" y="935"/>
                  </a:lnTo>
                  <a:lnTo>
                    <a:pt x="66" y="922"/>
                  </a:lnTo>
                  <a:lnTo>
                    <a:pt x="51" y="923"/>
                  </a:lnTo>
                  <a:lnTo>
                    <a:pt x="54" y="940"/>
                  </a:lnTo>
                  <a:lnTo>
                    <a:pt x="45" y="953"/>
                  </a:lnTo>
                  <a:lnTo>
                    <a:pt x="66" y="963"/>
                  </a:lnTo>
                  <a:lnTo>
                    <a:pt x="40" y="960"/>
                  </a:lnTo>
                  <a:lnTo>
                    <a:pt x="36" y="981"/>
                  </a:lnTo>
                  <a:lnTo>
                    <a:pt x="50" y="999"/>
                  </a:lnTo>
                  <a:lnTo>
                    <a:pt x="73" y="993"/>
                  </a:lnTo>
                  <a:lnTo>
                    <a:pt x="91" y="1003"/>
                  </a:lnTo>
                  <a:lnTo>
                    <a:pt x="101" y="999"/>
                  </a:lnTo>
                  <a:lnTo>
                    <a:pt x="106" y="988"/>
                  </a:lnTo>
                  <a:lnTo>
                    <a:pt x="122" y="999"/>
                  </a:lnTo>
                  <a:lnTo>
                    <a:pt x="130" y="1009"/>
                  </a:lnTo>
                  <a:lnTo>
                    <a:pt x="147" y="1008"/>
                  </a:lnTo>
                  <a:lnTo>
                    <a:pt x="149" y="993"/>
                  </a:lnTo>
                  <a:lnTo>
                    <a:pt x="145" y="980"/>
                  </a:lnTo>
                  <a:lnTo>
                    <a:pt x="159" y="975"/>
                  </a:lnTo>
                  <a:lnTo>
                    <a:pt x="157" y="1001"/>
                  </a:lnTo>
                  <a:lnTo>
                    <a:pt x="168" y="1006"/>
                  </a:lnTo>
                  <a:lnTo>
                    <a:pt x="154" y="1016"/>
                  </a:lnTo>
                  <a:lnTo>
                    <a:pt x="129" y="1018"/>
                  </a:lnTo>
                  <a:lnTo>
                    <a:pt x="126" y="1031"/>
                  </a:lnTo>
                  <a:lnTo>
                    <a:pt x="112" y="1031"/>
                  </a:lnTo>
                  <a:lnTo>
                    <a:pt x="117" y="1021"/>
                  </a:lnTo>
                  <a:lnTo>
                    <a:pt x="106" y="1003"/>
                  </a:lnTo>
                  <a:lnTo>
                    <a:pt x="83" y="1011"/>
                  </a:lnTo>
                  <a:lnTo>
                    <a:pt x="71" y="1001"/>
                  </a:lnTo>
                  <a:lnTo>
                    <a:pt x="35" y="998"/>
                  </a:lnTo>
                  <a:lnTo>
                    <a:pt x="30" y="1011"/>
                  </a:lnTo>
                  <a:lnTo>
                    <a:pt x="38" y="1021"/>
                  </a:lnTo>
                  <a:lnTo>
                    <a:pt x="50" y="1023"/>
                  </a:lnTo>
                  <a:lnTo>
                    <a:pt x="41" y="1031"/>
                  </a:lnTo>
                  <a:lnTo>
                    <a:pt x="46" y="1037"/>
                  </a:lnTo>
                  <a:lnTo>
                    <a:pt x="66" y="1044"/>
                  </a:lnTo>
                  <a:lnTo>
                    <a:pt x="68" y="1059"/>
                  </a:lnTo>
                  <a:lnTo>
                    <a:pt x="48" y="1066"/>
                  </a:lnTo>
                  <a:lnTo>
                    <a:pt x="28" y="1061"/>
                  </a:lnTo>
                  <a:lnTo>
                    <a:pt x="26" y="1087"/>
                  </a:lnTo>
                  <a:lnTo>
                    <a:pt x="48" y="1094"/>
                  </a:lnTo>
                  <a:lnTo>
                    <a:pt x="40" y="1107"/>
                  </a:lnTo>
                  <a:lnTo>
                    <a:pt x="48" y="1113"/>
                  </a:lnTo>
                  <a:lnTo>
                    <a:pt x="63" y="1089"/>
                  </a:lnTo>
                  <a:lnTo>
                    <a:pt x="84" y="1070"/>
                  </a:lnTo>
                  <a:lnTo>
                    <a:pt x="102" y="1075"/>
                  </a:lnTo>
                  <a:lnTo>
                    <a:pt x="86" y="1110"/>
                  </a:lnTo>
                  <a:lnTo>
                    <a:pt x="89" y="1080"/>
                  </a:lnTo>
                  <a:lnTo>
                    <a:pt x="78" y="1089"/>
                  </a:lnTo>
                  <a:lnTo>
                    <a:pt x="66" y="1105"/>
                  </a:lnTo>
                  <a:lnTo>
                    <a:pt x="69" y="1113"/>
                  </a:lnTo>
                  <a:lnTo>
                    <a:pt x="45" y="1125"/>
                  </a:lnTo>
                  <a:lnTo>
                    <a:pt x="41" y="1137"/>
                  </a:lnTo>
                  <a:lnTo>
                    <a:pt x="63" y="1138"/>
                  </a:lnTo>
                  <a:lnTo>
                    <a:pt x="38" y="1143"/>
                  </a:lnTo>
                  <a:lnTo>
                    <a:pt x="26" y="1153"/>
                  </a:lnTo>
                  <a:lnTo>
                    <a:pt x="23" y="1133"/>
                  </a:lnTo>
                  <a:lnTo>
                    <a:pt x="7" y="1148"/>
                  </a:lnTo>
                  <a:lnTo>
                    <a:pt x="0" y="1168"/>
                  </a:lnTo>
                  <a:lnTo>
                    <a:pt x="15" y="1181"/>
                  </a:lnTo>
                  <a:lnTo>
                    <a:pt x="36" y="1168"/>
                  </a:lnTo>
                  <a:lnTo>
                    <a:pt x="48" y="1173"/>
                  </a:lnTo>
                  <a:lnTo>
                    <a:pt x="68" y="1163"/>
                  </a:lnTo>
                  <a:lnTo>
                    <a:pt x="74" y="1171"/>
                  </a:lnTo>
                  <a:lnTo>
                    <a:pt x="53" y="1179"/>
                  </a:lnTo>
                  <a:lnTo>
                    <a:pt x="41" y="1183"/>
                  </a:lnTo>
                  <a:lnTo>
                    <a:pt x="50" y="1198"/>
                  </a:lnTo>
                  <a:lnTo>
                    <a:pt x="41" y="1199"/>
                  </a:lnTo>
                  <a:lnTo>
                    <a:pt x="38" y="1212"/>
                  </a:lnTo>
                  <a:lnTo>
                    <a:pt x="38" y="1229"/>
                  </a:lnTo>
                  <a:lnTo>
                    <a:pt x="26" y="1221"/>
                  </a:lnTo>
                  <a:lnTo>
                    <a:pt x="23" y="1214"/>
                  </a:lnTo>
                  <a:lnTo>
                    <a:pt x="8" y="1211"/>
                  </a:lnTo>
                  <a:lnTo>
                    <a:pt x="8" y="1241"/>
                  </a:lnTo>
                  <a:lnTo>
                    <a:pt x="12" y="1265"/>
                  </a:lnTo>
                  <a:lnTo>
                    <a:pt x="23" y="1280"/>
                  </a:lnTo>
                  <a:lnTo>
                    <a:pt x="45" y="1290"/>
                  </a:lnTo>
                  <a:lnTo>
                    <a:pt x="58" y="1298"/>
                  </a:lnTo>
                  <a:lnTo>
                    <a:pt x="50" y="1303"/>
                  </a:lnTo>
                  <a:lnTo>
                    <a:pt x="45" y="1318"/>
                  </a:lnTo>
                  <a:lnTo>
                    <a:pt x="61" y="1320"/>
                  </a:lnTo>
                  <a:lnTo>
                    <a:pt x="69" y="1315"/>
                  </a:lnTo>
                  <a:lnTo>
                    <a:pt x="89" y="1323"/>
                  </a:lnTo>
                  <a:lnTo>
                    <a:pt x="106" y="1331"/>
                  </a:lnTo>
                  <a:lnTo>
                    <a:pt x="112" y="1318"/>
                  </a:lnTo>
                  <a:lnTo>
                    <a:pt x="132" y="1317"/>
                  </a:lnTo>
                  <a:lnTo>
                    <a:pt x="137" y="1323"/>
                  </a:lnTo>
                  <a:lnTo>
                    <a:pt x="147" y="1318"/>
                  </a:lnTo>
                  <a:lnTo>
                    <a:pt x="157" y="1308"/>
                  </a:lnTo>
                  <a:lnTo>
                    <a:pt x="168" y="1298"/>
                  </a:lnTo>
                  <a:lnTo>
                    <a:pt x="185" y="1282"/>
                  </a:lnTo>
                  <a:lnTo>
                    <a:pt x="200" y="1280"/>
                  </a:lnTo>
                  <a:lnTo>
                    <a:pt x="192" y="1270"/>
                  </a:lnTo>
                  <a:lnTo>
                    <a:pt x="213" y="1262"/>
                  </a:lnTo>
                  <a:lnTo>
                    <a:pt x="215" y="1255"/>
                  </a:lnTo>
                  <a:lnTo>
                    <a:pt x="221" y="1252"/>
                  </a:lnTo>
                  <a:lnTo>
                    <a:pt x="226" y="1249"/>
                  </a:lnTo>
                  <a:lnTo>
                    <a:pt x="218" y="1234"/>
                  </a:lnTo>
                  <a:lnTo>
                    <a:pt x="233" y="1236"/>
                  </a:lnTo>
                  <a:lnTo>
                    <a:pt x="236" y="1250"/>
                  </a:lnTo>
                  <a:lnTo>
                    <a:pt x="253" y="1246"/>
                  </a:lnTo>
                  <a:lnTo>
                    <a:pt x="271" y="1226"/>
                  </a:lnTo>
                  <a:lnTo>
                    <a:pt x="273" y="1216"/>
                  </a:lnTo>
                  <a:lnTo>
                    <a:pt x="273" y="1193"/>
                  </a:lnTo>
                  <a:lnTo>
                    <a:pt x="282" y="1193"/>
                  </a:lnTo>
                  <a:lnTo>
                    <a:pt x="286" y="1181"/>
                  </a:lnTo>
                  <a:lnTo>
                    <a:pt x="292" y="1173"/>
                  </a:lnTo>
                  <a:lnTo>
                    <a:pt x="299" y="1153"/>
                  </a:lnTo>
                  <a:lnTo>
                    <a:pt x="296" y="1178"/>
                  </a:lnTo>
                  <a:lnTo>
                    <a:pt x="294" y="1201"/>
                  </a:lnTo>
                  <a:lnTo>
                    <a:pt x="289" y="1221"/>
                  </a:lnTo>
                  <a:lnTo>
                    <a:pt x="296" y="1236"/>
                  </a:lnTo>
                  <a:lnTo>
                    <a:pt x="306" y="1241"/>
                  </a:lnTo>
                  <a:lnTo>
                    <a:pt x="324" y="1247"/>
                  </a:lnTo>
                  <a:lnTo>
                    <a:pt x="324" y="1249"/>
                  </a:lnTo>
                  <a:lnTo>
                    <a:pt x="324" y="1250"/>
                  </a:lnTo>
                  <a:lnTo>
                    <a:pt x="322" y="1250"/>
                  </a:lnTo>
                  <a:lnTo>
                    <a:pt x="322" y="1252"/>
                  </a:lnTo>
                  <a:lnTo>
                    <a:pt x="322" y="1254"/>
                  </a:lnTo>
                  <a:lnTo>
                    <a:pt x="320" y="1254"/>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821480" y="1533240"/>
              <a:ext cx="47160" cy="51120"/>
            </a:xfrm>
            <a:custGeom>
              <a:avLst/>
              <a:gdLst/>
              <a:ahLst/>
              <a:rect l="l" t="t" r="r" b="b"/>
              <a:pathLst>
                <a:path w="17" h="20">
                  <a:moveTo>
                    <a:pt x="12" y="0"/>
                  </a:moveTo>
                  <a:lnTo>
                    <a:pt x="3" y="2"/>
                  </a:lnTo>
                  <a:lnTo>
                    <a:pt x="0" y="9"/>
                  </a:lnTo>
                  <a:lnTo>
                    <a:pt x="6" y="19"/>
                  </a:lnTo>
                  <a:lnTo>
                    <a:pt x="16" y="14"/>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16" name=""/>
            <p:cNvSpPr/>
            <p:nvPr/>
          </p:nvSpPr>
          <p:spPr>
            <a:xfrm>
              <a:off x="4779720" y="1537920"/>
              <a:ext cx="47160" cy="59040"/>
            </a:xfrm>
            <a:custGeom>
              <a:avLst/>
              <a:gdLst/>
              <a:ahLst/>
              <a:rect l="l" t="t" r="r" b="b"/>
              <a:pathLst>
                <a:path w="17" h="23">
                  <a:moveTo>
                    <a:pt x="5" y="0"/>
                  </a:moveTo>
                  <a:lnTo>
                    <a:pt x="16" y="8"/>
                  </a:lnTo>
                  <a:lnTo>
                    <a:pt x="13" y="18"/>
                  </a:lnTo>
                  <a:lnTo>
                    <a:pt x="5" y="22"/>
                  </a:lnTo>
                  <a:lnTo>
                    <a:pt x="0" y="13"/>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17" name=""/>
            <p:cNvSpPr/>
            <p:nvPr/>
          </p:nvSpPr>
          <p:spPr>
            <a:xfrm>
              <a:off x="4735440" y="1577160"/>
              <a:ext cx="47160" cy="48240"/>
            </a:xfrm>
            <a:custGeom>
              <a:avLst/>
              <a:gdLst/>
              <a:ahLst/>
              <a:rect l="l" t="t" r="r" b="b"/>
              <a:pathLst>
                <a:path w="17" h="19">
                  <a:moveTo>
                    <a:pt x="4" y="0"/>
                  </a:moveTo>
                  <a:lnTo>
                    <a:pt x="16" y="5"/>
                  </a:lnTo>
                  <a:lnTo>
                    <a:pt x="16" y="12"/>
                  </a:lnTo>
                  <a:lnTo>
                    <a:pt x="0" y="18"/>
                  </a:lnTo>
                  <a:lnTo>
                    <a:pt x="4" y="0"/>
                  </a:lnTo>
                </a:path>
              </a:pathLst>
            </a:custGeom>
            <a:solidFill>
              <a:srgbClr val="006790"/>
            </a:solidFill>
            <a:ln cap="rnd" w="3240">
              <a:solidFill>
                <a:srgbClr val="004463"/>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4737960" y="1704960"/>
              <a:ext cx="47160" cy="48600"/>
            </a:xfrm>
            <a:custGeom>
              <a:avLst/>
              <a:gdLst/>
              <a:ahLst/>
              <a:rect l="l" t="t" r="r" b="b"/>
              <a:pathLst>
                <a:path w="17" h="19">
                  <a:moveTo>
                    <a:pt x="3" y="0"/>
                  </a:moveTo>
                  <a:lnTo>
                    <a:pt x="16" y="8"/>
                  </a:lnTo>
                  <a:lnTo>
                    <a:pt x="14" y="16"/>
                  </a:lnTo>
                  <a:lnTo>
                    <a:pt x="0" y="18"/>
                  </a:lnTo>
                  <a:lnTo>
                    <a:pt x="3" y="0"/>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19" name=""/>
            <p:cNvSpPr/>
            <p:nvPr/>
          </p:nvSpPr>
          <p:spPr>
            <a:xfrm>
              <a:off x="4821480" y="1328040"/>
              <a:ext cx="66960" cy="61560"/>
            </a:xfrm>
            <a:custGeom>
              <a:avLst/>
              <a:gdLst/>
              <a:ahLst/>
              <a:rect l="l" t="t" r="r" b="b"/>
              <a:pathLst>
                <a:path w="24" h="24">
                  <a:moveTo>
                    <a:pt x="0" y="0"/>
                  </a:moveTo>
                  <a:lnTo>
                    <a:pt x="12" y="23"/>
                  </a:lnTo>
                  <a:lnTo>
                    <a:pt x="23" y="18"/>
                  </a:lnTo>
                  <a:lnTo>
                    <a:pt x="10" y="6"/>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 name=""/>
            <p:cNvSpPr/>
            <p:nvPr/>
          </p:nvSpPr>
          <p:spPr>
            <a:xfrm>
              <a:off x="4863240" y="1381680"/>
              <a:ext cx="61200" cy="43560"/>
            </a:xfrm>
            <a:custGeom>
              <a:avLst/>
              <a:gdLst/>
              <a:ahLst/>
              <a:rect l="l" t="t" r="r" b="b"/>
              <a:pathLst>
                <a:path w="22" h="17">
                  <a:moveTo>
                    <a:pt x="13" y="0"/>
                  </a:moveTo>
                  <a:lnTo>
                    <a:pt x="2" y="8"/>
                  </a:lnTo>
                  <a:lnTo>
                    <a:pt x="0" y="14"/>
                  </a:lnTo>
                  <a:lnTo>
                    <a:pt x="10" y="16"/>
                  </a:lnTo>
                  <a:lnTo>
                    <a:pt x="21" y="9"/>
                  </a:lnTo>
                  <a:lnTo>
                    <a:pt x="20" y="0"/>
                  </a:lnTo>
                  <a:lnTo>
                    <a:pt x="13"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1" name=""/>
            <p:cNvSpPr/>
            <p:nvPr/>
          </p:nvSpPr>
          <p:spPr>
            <a:xfrm>
              <a:off x="4815720" y="1212120"/>
              <a:ext cx="47160" cy="43560"/>
            </a:xfrm>
            <a:custGeom>
              <a:avLst/>
              <a:gdLst/>
              <a:ahLst/>
              <a:rect l="l" t="t" r="r" b="b"/>
              <a:pathLst>
                <a:path w="17" h="17">
                  <a:moveTo>
                    <a:pt x="5" y="0"/>
                  </a:moveTo>
                  <a:lnTo>
                    <a:pt x="0" y="5"/>
                  </a:lnTo>
                  <a:lnTo>
                    <a:pt x="2" y="11"/>
                  </a:lnTo>
                  <a:lnTo>
                    <a:pt x="5" y="16"/>
                  </a:lnTo>
                  <a:lnTo>
                    <a:pt x="16" y="8"/>
                  </a:lnTo>
                  <a:lnTo>
                    <a:pt x="13" y="0"/>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2" name=""/>
            <p:cNvSpPr/>
            <p:nvPr/>
          </p:nvSpPr>
          <p:spPr>
            <a:xfrm>
              <a:off x="4793400" y="1348200"/>
              <a:ext cx="47160" cy="48600"/>
            </a:xfrm>
            <a:custGeom>
              <a:avLst/>
              <a:gdLst/>
              <a:ahLst/>
              <a:rect l="l" t="t" r="r" b="b"/>
              <a:pathLst>
                <a:path w="17" h="19">
                  <a:moveTo>
                    <a:pt x="8" y="0"/>
                  </a:moveTo>
                  <a:lnTo>
                    <a:pt x="0" y="5"/>
                  </a:lnTo>
                  <a:lnTo>
                    <a:pt x="6" y="13"/>
                  </a:lnTo>
                  <a:lnTo>
                    <a:pt x="16" y="18"/>
                  </a:lnTo>
                  <a:lnTo>
                    <a:pt x="14" y="8"/>
                  </a:lnTo>
                  <a:lnTo>
                    <a:pt x="8" y="0"/>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23" name=""/>
            <p:cNvSpPr/>
            <p:nvPr/>
          </p:nvSpPr>
          <p:spPr>
            <a:xfrm>
              <a:off x="4777200" y="1420560"/>
              <a:ext cx="47160" cy="73800"/>
            </a:xfrm>
            <a:custGeom>
              <a:avLst/>
              <a:gdLst/>
              <a:ahLst/>
              <a:rect l="l" t="t" r="r" b="b"/>
              <a:pathLst>
                <a:path w="17" h="29">
                  <a:moveTo>
                    <a:pt x="6" y="0"/>
                  </a:moveTo>
                  <a:lnTo>
                    <a:pt x="0" y="10"/>
                  </a:lnTo>
                  <a:lnTo>
                    <a:pt x="0" y="21"/>
                  </a:lnTo>
                  <a:lnTo>
                    <a:pt x="12" y="28"/>
                  </a:lnTo>
                  <a:lnTo>
                    <a:pt x="16" y="3"/>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24" name=""/>
            <p:cNvSpPr/>
            <p:nvPr/>
          </p:nvSpPr>
          <p:spPr>
            <a:xfrm>
              <a:off x="4872240" y="960840"/>
              <a:ext cx="52560" cy="59040"/>
            </a:xfrm>
            <a:custGeom>
              <a:avLst/>
              <a:gdLst/>
              <a:ahLst/>
              <a:rect l="l" t="t" r="r" b="b"/>
              <a:pathLst>
                <a:path w="19" h="23">
                  <a:moveTo>
                    <a:pt x="10" y="0"/>
                  </a:moveTo>
                  <a:lnTo>
                    <a:pt x="0" y="15"/>
                  </a:lnTo>
                  <a:lnTo>
                    <a:pt x="7" y="22"/>
                  </a:lnTo>
                  <a:lnTo>
                    <a:pt x="18" y="14"/>
                  </a:lnTo>
                  <a:lnTo>
                    <a:pt x="18" y="12"/>
                  </a:lnTo>
                  <a:lnTo>
                    <a:pt x="17" y="12"/>
                  </a:lnTo>
                  <a:lnTo>
                    <a:pt x="17" y="10"/>
                  </a:lnTo>
                  <a:lnTo>
                    <a:pt x="15" y="10"/>
                  </a:lnTo>
                  <a:lnTo>
                    <a:pt x="15" y="9"/>
                  </a:lnTo>
                  <a:lnTo>
                    <a:pt x="13" y="7"/>
                  </a:lnTo>
                  <a:lnTo>
                    <a:pt x="13" y="5"/>
                  </a:lnTo>
                  <a:lnTo>
                    <a:pt x="12" y="5"/>
                  </a:lnTo>
                  <a:lnTo>
                    <a:pt x="12" y="4"/>
                  </a:lnTo>
                  <a:lnTo>
                    <a:pt x="10" y="2"/>
                  </a:lnTo>
                  <a:lnTo>
                    <a:pt x="10" y="0"/>
                  </a:lnTo>
                </a:path>
              </a:pathLst>
            </a:custGeom>
            <a:solidFill>
              <a:srgbClr val="006790"/>
            </a:solidFill>
            <a:ln cap="rnd" w="3240">
              <a:solidFill>
                <a:srgbClr val="004463"/>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5" name=""/>
            <p:cNvSpPr/>
            <p:nvPr/>
          </p:nvSpPr>
          <p:spPr>
            <a:xfrm>
              <a:off x="4849200" y="1035360"/>
              <a:ext cx="47160" cy="43560"/>
            </a:xfrm>
            <a:custGeom>
              <a:avLst/>
              <a:gdLst/>
              <a:ahLst/>
              <a:rect l="l" t="t" r="r" b="b"/>
              <a:pathLst>
                <a:path w="17" h="17">
                  <a:moveTo>
                    <a:pt x="3" y="0"/>
                  </a:moveTo>
                  <a:lnTo>
                    <a:pt x="0" y="7"/>
                  </a:lnTo>
                  <a:lnTo>
                    <a:pt x="3" y="16"/>
                  </a:lnTo>
                  <a:lnTo>
                    <a:pt x="16" y="16"/>
                  </a:lnTo>
                  <a:lnTo>
                    <a:pt x="13" y="7"/>
                  </a:lnTo>
                  <a:lnTo>
                    <a:pt x="3"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6" name=""/>
            <p:cNvSpPr/>
            <p:nvPr/>
          </p:nvSpPr>
          <p:spPr>
            <a:xfrm>
              <a:off x="4858200" y="1089360"/>
              <a:ext cx="47160" cy="43560"/>
            </a:xfrm>
            <a:custGeom>
              <a:avLst/>
              <a:gdLst/>
              <a:ahLst/>
              <a:rect l="l" t="t" r="r" b="b"/>
              <a:pathLst>
                <a:path w="17" h="17">
                  <a:moveTo>
                    <a:pt x="2" y="0"/>
                  </a:moveTo>
                  <a:lnTo>
                    <a:pt x="0" y="16"/>
                  </a:lnTo>
                  <a:lnTo>
                    <a:pt x="16" y="6"/>
                  </a:lnTo>
                  <a:lnTo>
                    <a:pt x="13" y="0"/>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7" name=""/>
            <p:cNvSpPr/>
            <p:nvPr/>
          </p:nvSpPr>
          <p:spPr>
            <a:xfrm>
              <a:off x="4977720" y="927720"/>
              <a:ext cx="52920" cy="43560"/>
            </a:xfrm>
            <a:custGeom>
              <a:avLst/>
              <a:gdLst/>
              <a:ahLst/>
              <a:rect l="l" t="t" r="r" b="b"/>
              <a:pathLst>
                <a:path w="19" h="17">
                  <a:moveTo>
                    <a:pt x="9" y="0"/>
                  </a:moveTo>
                  <a:lnTo>
                    <a:pt x="0" y="5"/>
                  </a:lnTo>
                  <a:lnTo>
                    <a:pt x="2" y="9"/>
                  </a:lnTo>
                  <a:lnTo>
                    <a:pt x="12" y="16"/>
                  </a:lnTo>
                  <a:lnTo>
                    <a:pt x="18" y="9"/>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8" name=""/>
            <p:cNvSpPr/>
            <p:nvPr/>
          </p:nvSpPr>
          <p:spPr>
            <a:xfrm>
              <a:off x="5282640" y="763560"/>
              <a:ext cx="49680" cy="43560"/>
            </a:xfrm>
            <a:custGeom>
              <a:avLst/>
              <a:gdLst/>
              <a:ahLst/>
              <a:rect l="l" t="t" r="r" b="b"/>
              <a:pathLst>
                <a:path w="18" h="17">
                  <a:moveTo>
                    <a:pt x="7" y="0"/>
                  </a:moveTo>
                  <a:lnTo>
                    <a:pt x="0" y="6"/>
                  </a:lnTo>
                  <a:lnTo>
                    <a:pt x="10" y="16"/>
                  </a:lnTo>
                  <a:lnTo>
                    <a:pt x="17" y="9"/>
                  </a:lnTo>
                  <a:lnTo>
                    <a:pt x="7"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29" name=""/>
            <p:cNvSpPr/>
            <p:nvPr/>
          </p:nvSpPr>
          <p:spPr>
            <a:xfrm>
              <a:off x="5402880" y="729720"/>
              <a:ext cx="46800" cy="43560"/>
            </a:xfrm>
            <a:custGeom>
              <a:avLst/>
              <a:gdLst/>
              <a:ahLst/>
              <a:rect l="l" t="t" r="r" b="b"/>
              <a:pathLst>
                <a:path w="17" h="17">
                  <a:moveTo>
                    <a:pt x="0" y="0"/>
                  </a:moveTo>
                  <a:lnTo>
                    <a:pt x="4" y="16"/>
                  </a:lnTo>
                  <a:lnTo>
                    <a:pt x="16" y="9"/>
                  </a:lnTo>
                  <a:lnTo>
                    <a:pt x="14"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0" name=""/>
            <p:cNvSpPr/>
            <p:nvPr/>
          </p:nvSpPr>
          <p:spPr>
            <a:xfrm>
              <a:off x="5371920" y="745560"/>
              <a:ext cx="47160" cy="43560"/>
            </a:xfrm>
            <a:custGeom>
              <a:avLst/>
              <a:gdLst/>
              <a:ahLst/>
              <a:rect l="l" t="t" r="r" b="b"/>
              <a:pathLst>
                <a:path w="17" h="17">
                  <a:moveTo>
                    <a:pt x="9" y="0"/>
                  </a:moveTo>
                  <a:lnTo>
                    <a:pt x="0" y="3"/>
                  </a:lnTo>
                  <a:lnTo>
                    <a:pt x="9" y="16"/>
                  </a:lnTo>
                  <a:lnTo>
                    <a:pt x="16" y="12"/>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1" name=""/>
            <p:cNvSpPr/>
            <p:nvPr/>
          </p:nvSpPr>
          <p:spPr>
            <a:xfrm>
              <a:off x="5352120" y="686160"/>
              <a:ext cx="50400" cy="43560"/>
            </a:xfrm>
            <a:custGeom>
              <a:avLst/>
              <a:gdLst/>
              <a:ahLst/>
              <a:rect l="l" t="t" r="r" b="b"/>
              <a:pathLst>
                <a:path w="18" h="17">
                  <a:moveTo>
                    <a:pt x="13" y="0"/>
                  </a:moveTo>
                  <a:lnTo>
                    <a:pt x="7" y="0"/>
                  </a:lnTo>
                  <a:lnTo>
                    <a:pt x="0" y="8"/>
                  </a:lnTo>
                  <a:lnTo>
                    <a:pt x="3" y="16"/>
                  </a:lnTo>
                  <a:lnTo>
                    <a:pt x="17" y="12"/>
                  </a:lnTo>
                  <a:lnTo>
                    <a:pt x="13"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2" name=""/>
            <p:cNvSpPr/>
            <p:nvPr/>
          </p:nvSpPr>
          <p:spPr>
            <a:xfrm>
              <a:off x="5407920" y="622080"/>
              <a:ext cx="102960" cy="72000"/>
            </a:xfrm>
            <a:custGeom>
              <a:avLst/>
              <a:gdLst/>
              <a:ahLst/>
              <a:rect l="l" t="t" r="r" b="b"/>
              <a:pathLst>
                <a:path w="37" h="28">
                  <a:moveTo>
                    <a:pt x="26" y="0"/>
                  </a:moveTo>
                  <a:lnTo>
                    <a:pt x="23" y="5"/>
                  </a:lnTo>
                  <a:lnTo>
                    <a:pt x="11" y="7"/>
                  </a:lnTo>
                  <a:lnTo>
                    <a:pt x="0" y="22"/>
                  </a:lnTo>
                  <a:lnTo>
                    <a:pt x="3" y="27"/>
                  </a:lnTo>
                  <a:lnTo>
                    <a:pt x="20" y="22"/>
                  </a:lnTo>
                  <a:lnTo>
                    <a:pt x="35" y="22"/>
                  </a:lnTo>
                  <a:lnTo>
                    <a:pt x="36" y="10"/>
                  </a:lnTo>
                  <a:lnTo>
                    <a:pt x="28" y="5"/>
                  </a:lnTo>
                  <a:lnTo>
                    <a:pt x="26" y="0"/>
                  </a:lnTo>
                </a:path>
              </a:pathLst>
            </a:custGeom>
            <a:solidFill>
              <a:srgbClr val="006790"/>
            </a:solidFill>
            <a:ln cap="rnd" w="3240">
              <a:solidFill>
                <a:srgbClr val="004463"/>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33" name=""/>
            <p:cNvSpPr/>
            <p:nvPr/>
          </p:nvSpPr>
          <p:spPr>
            <a:xfrm>
              <a:off x="5399640" y="583560"/>
              <a:ext cx="83520" cy="43560"/>
            </a:xfrm>
            <a:custGeom>
              <a:avLst/>
              <a:gdLst/>
              <a:ahLst/>
              <a:rect l="l" t="t" r="r" b="b"/>
              <a:pathLst>
                <a:path w="30" h="17">
                  <a:moveTo>
                    <a:pt x="29" y="0"/>
                  </a:moveTo>
                  <a:lnTo>
                    <a:pt x="29" y="10"/>
                  </a:lnTo>
                  <a:lnTo>
                    <a:pt x="18" y="13"/>
                  </a:lnTo>
                  <a:lnTo>
                    <a:pt x="1" y="16"/>
                  </a:lnTo>
                  <a:lnTo>
                    <a:pt x="0" y="10"/>
                  </a:lnTo>
                  <a:lnTo>
                    <a:pt x="19" y="5"/>
                  </a:lnTo>
                  <a:lnTo>
                    <a:pt x="29"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4" name=""/>
            <p:cNvSpPr/>
            <p:nvPr/>
          </p:nvSpPr>
          <p:spPr>
            <a:xfrm>
              <a:off x="5799240" y="390960"/>
              <a:ext cx="49680" cy="69120"/>
            </a:xfrm>
            <a:custGeom>
              <a:avLst/>
              <a:gdLst/>
              <a:ahLst/>
              <a:rect l="l" t="t" r="r" b="b"/>
              <a:pathLst>
                <a:path w="18" h="27">
                  <a:moveTo>
                    <a:pt x="13" y="0"/>
                  </a:moveTo>
                  <a:lnTo>
                    <a:pt x="0" y="4"/>
                  </a:lnTo>
                  <a:lnTo>
                    <a:pt x="7" y="18"/>
                  </a:lnTo>
                  <a:lnTo>
                    <a:pt x="12" y="26"/>
                  </a:lnTo>
                  <a:lnTo>
                    <a:pt x="17" y="23"/>
                  </a:lnTo>
                  <a:lnTo>
                    <a:pt x="15" y="11"/>
                  </a:lnTo>
                  <a:lnTo>
                    <a:pt x="13" y="0"/>
                  </a:lnTo>
                </a:path>
              </a:pathLst>
            </a:custGeom>
            <a:solidFill>
              <a:srgbClr val="006790"/>
            </a:solidFill>
            <a:ln cap="rnd" w="3240">
              <a:solidFill>
                <a:srgbClr val="004463"/>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35" name=""/>
            <p:cNvSpPr/>
            <p:nvPr/>
          </p:nvSpPr>
          <p:spPr>
            <a:xfrm>
              <a:off x="5835600" y="321840"/>
              <a:ext cx="77760" cy="61560"/>
            </a:xfrm>
            <a:custGeom>
              <a:avLst/>
              <a:gdLst/>
              <a:ahLst/>
              <a:rect l="l" t="t" r="r" b="b"/>
              <a:pathLst>
                <a:path w="28" h="24">
                  <a:moveTo>
                    <a:pt x="7" y="3"/>
                  </a:moveTo>
                  <a:lnTo>
                    <a:pt x="4" y="10"/>
                  </a:lnTo>
                  <a:lnTo>
                    <a:pt x="0" y="18"/>
                  </a:lnTo>
                  <a:lnTo>
                    <a:pt x="4" y="23"/>
                  </a:lnTo>
                  <a:lnTo>
                    <a:pt x="12" y="13"/>
                  </a:lnTo>
                  <a:lnTo>
                    <a:pt x="24" y="13"/>
                  </a:lnTo>
                  <a:lnTo>
                    <a:pt x="27" y="7"/>
                  </a:lnTo>
                  <a:lnTo>
                    <a:pt x="24" y="0"/>
                  </a:lnTo>
                  <a:lnTo>
                    <a:pt x="7" y="3"/>
                  </a:lnTo>
                </a:path>
              </a:pathLst>
            </a:custGeom>
            <a:solidFill>
              <a:srgbClr val="006790"/>
            </a:solidFill>
            <a:ln cap="rnd" w="3240">
              <a:solidFill>
                <a:srgbClr val="004463"/>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36" name=""/>
            <p:cNvSpPr/>
            <p:nvPr/>
          </p:nvSpPr>
          <p:spPr>
            <a:xfrm>
              <a:off x="5776560" y="327240"/>
              <a:ext cx="50400" cy="43560"/>
            </a:xfrm>
            <a:custGeom>
              <a:avLst/>
              <a:gdLst/>
              <a:ahLst/>
              <a:rect l="l" t="t" r="r" b="b"/>
              <a:pathLst>
                <a:path w="18" h="17">
                  <a:moveTo>
                    <a:pt x="10" y="0"/>
                  </a:moveTo>
                  <a:lnTo>
                    <a:pt x="15" y="4"/>
                  </a:lnTo>
                  <a:lnTo>
                    <a:pt x="17" y="14"/>
                  </a:lnTo>
                  <a:lnTo>
                    <a:pt x="0" y="16"/>
                  </a:lnTo>
                  <a:lnTo>
                    <a:pt x="1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7" name=""/>
            <p:cNvSpPr/>
            <p:nvPr/>
          </p:nvSpPr>
          <p:spPr>
            <a:xfrm>
              <a:off x="5849280" y="268200"/>
              <a:ext cx="47160" cy="43560"/>
            </a:xfrm>
            <a:custGeom>
              <a:avLst/>
              <a:gdLst/>
              <a:ahLst/>
              <a:rect l="l" t="t" r="r" b="b"/>
              <a:pathLst>
                <a:path w="17" h="17">
                  <a:moveTo>
                    <a:pt x="12" y="0"/>
                  </a:moveTo>
                  <a:lnTo>
                    <a:pt x="0" y="11"/>
                  </a:lnTo>
                  <a:lnTo>
                    <a:pt x="6" y="16"/>
                  </a:lnTo>
                  <a:lnTo>
                    <a:pt x="16" y="11"/>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8" name=""/>
            <p:cNvSpPr/>
            <p:nvPr/>
          </p:nvSpPr>
          <p:spPr>
            <a:xfrm>
              <a:off x="5966640" y="255600"/>
              <a:ext cx="47160" cy="43560"/>
            </a:xfrm>
            <a:custGeom>
              <a:avLst/>
              <a:gdLst/>
              <a:ahLst/>
              <a:rect l="l" t="t" r="r" b="b"/>
              <a:pathLst>
                <a:path w="17" h="17">
                  <a:moveTo>
                    <a:pt x="6" y="0"/>
                  </a:moveTo>
                  <a:lnTo>
                    <a:pt x="0" y="8"/>
                  </a:lnTo>
                  <a:lnTo>
                    <a:pt x="9" y="16"/>
                  </a:lnTo>
                  <a:lnTo>
                    <a:pt x="16" y="9"/>
                  </a:lnTo>
                  <a:lnTo>
                    <a:pt x="7" y="0"/>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39" name=""/>
            <p:cNvSpPr/>
            <p:nvPr/>
          </p:nvSpPr>
          <p:spPr>
            <a:xfrm>
              <a:off x="5952600" y="119160"/>
              <a:ext cx="47160" cy="48600"/>
            </a:xfrm>
            <a:custGeom>
              <a:avLst/>
              <a:gdLst/>
              <a:ahLst/>
              <a:rect l="l" t="t" r="r" b="b"/>
              <a:pathLst>
                <a:path w="17" h="19">
                  <a:moveTo>
                    <a:pt x="6" y="5"/>
                  </a:moveTo>
                  <a:lnTo>
                    <a:pt x="0" y="10"/>
                  </a:lnTo>
                  <a:lnTo>
                    <a:pt x="3" y="18"/>
                  </a:lnTo>
                  <a:lnTo>
                    <a:pt x="13" y="15"/>
                  </a:lnTo>
                  <a:lnTo>
                    <a:pt x="16" y="6"/>
                  </a:lnTo>
                  <a:lnTo>
                    <a:pt x="13" y="0"/>
                  </a:lnTo>
                  <a:lnTo>
                    <a:pt x="6" y="5"/>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0" name=""/>
            <p:cNvSpPr/>
            <p:nvPr/>
          </p:nvSpPr>
          <p:spPr>
            <a:xfrm>
              <a:off x="6031080" y="60120"/>
              <a:ext cx="47160" cy="43560"/>
            </a:xfrm>
            <a:custGeom>
              <a:avLst/>
              <a:gdLst/>
              <a:ahLst/>
              <a:rect l="l" t="t" r="r" b="b"/>
              <a:pathLst>
                <a:path w="17" h="17">
                  <a:moveTo>
                    <a:pt x="16" y="0"/>
                  </a:moveTo>
                  <a:lnTo>
                    <a:pt x="8" y="0"/>
                  </a:lnTo>
                  <a:lnTo>
                    <a:pt x="0" y="6"/>
                  </a:lnTo>
                  <a:lnTo>
                    <a:pt x="5" y="16"/>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41" name=""/>
            <p:cNvSpPr/>
            <p:nvPr/>
          </p:nvSpPr>
          <p:spPr>
            <a:xfrm>
              <a:off x="6022440" y="-11160"/>
              <a:ext cx="52920" cy="48600"/>
            </a:xfrm>
            <a:custGeom>
              <a:avLst/>
              <a:gdLst/>
              <a:ahLst/>
              <a:rect l="l" t="t" r="r" b="b"/>
              <a:pathLst>
                <a:path w="19" h="19">
                  <a:moveTo>
                    <a:pt x="14" y="0"/>
                  </a:moveTo>
                  <a:lnTo>
                    <a:pt x="3" y="8"/>
                  </a:lnTo>
                  <a:lnTo>
                    <a:pt x="0" y="14"/>
                  </a:lnTo>
                  <a:lnTo>
                    <a:pt x="9" y="18"/>
                  </a:lnTo>
                  <a:lnTo>
                    <a:pt x="18" y="8"/>
                  </a:lnTo>
                  <a:lnTo>
                    <a:pt x="14" y="0"/>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2" name=""/>
            <p:cNvSpPr/>
            <p:nvPr/>
          </p:nvSpPr>
          <p:spPr>
            <a:xfrm>
              <a:off x="6145200" y="-157320"/>
              <a:ext cx="47160" cy="43560"/>
            </a:xfrm>
            <a:custGeom>
              <a:avLst/>
              <a:gdLst/>
              <a:ahLst/>
              <a:rect l="l" t="t" r="r" b="b"/>
              <a:pathLst>
                <a:path w="17" h="17">
                  <a:moveTo>
                    <a:pt x="0" y="0"/>
                  </a:moveTo>
                  <a:lnTo>
                    <a:pt x="0" y="13"/>
                  </a:lnTo>
                  <a:lnTo>
                    <a:pt x="16" y="16"/>
                  </a:lnTo>
                  <a:lnTo>
                    <a:pt x="16" y="4"/>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43" name=""/>
            <p:cNvSpPr/>
            <p:nvPr/>
          </p:nvSpPr>
          <p:spPr>
            <a:xfrm>
              <a:off x="6215400" y="-542520"/>
              <a:ext cx="86040" cy="66600"/>
            </a:xfrm>
            <a:custGeom>
              <a:avLst/>
              <a:gdLst/>
              <a:ahLst/>
              <a:rect l="l" t="t" r="r" b="b"/>
              <a:pathLst>
                <a:path w="31" h="26">
                  <a:moveTo>
                    <a:pt x="11" y="0"/>
                  </a:moveTo>
                  <a:lnTo>
                    <a:pt x="3" y="12"/>
                  </a:lnTo>
                  <a:lnTo>
                    <a:pt x="0" y="25"/>
                  </a:lnTo>
                  <a:lnTo>
                    <a:pt x="10" y="25"/>
                  </a:lnTo>
                  <a:lnTo>
                    <a:pt x="30" y="12"/>
                  </a:lnTo>
                  <a:lnTo>
                    <a:pt x="18" y="7"/>
                  </a:lnTo>
                  <a:lnTo>
                    <a:pt x="11" y="0"/>
                  </a:lnTo>
                </a:path>
              </a:pathLst>
            </a:custGeom>
            <a:solidFill>
              <a:srgbClr val="006790"/>
            </a:solidFill>
            <a:ln cap="rnd" w="3240">
              <a:solidFill>
                <a:srgbClr val="004463"/>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4" name=""/>
            <p:cNvSpPr/>
            <p:nvPr/>
          </p:nvSpPr>
          <p:spPr>
            <a:xfrm>
              <a:off x="6128640" y="-486000"/>
              <a:ext cx="55440" cy="69120"/>
            </a:xfrm>
            <a:custGeom>
              <a:avLst/>
              <a:gdLst/>
              <a:ahLst/>
              <a:rect l="l" t="t" r="r" b="b"/>
              <a:pathLst>
                <a:path w="20" h="27">
                  <a:moveTo>
                    <a:pt x="14" y="0"/>
                  </a:moveTo>
                  <a:lnTo>
                    <a:pt x="19" y="10"/>
                  </a:lnTo>
                  <a:lnTo>
                    <a:pt x="11" y="19"/>
                  </a:lnTo>
                  <a:lnTo>
                    <a:pt x="1" y="26"/>
                  </a:lnTo>
                  <a:lnTo>
                    <a:pt x="0" y="13"/>
                  </a:lnTo>
                  <a:lnTo>
                    <a:pt x="14" y="0"/>
                  </a:lnTo>
                </a:path>
              </a:pathLst>
            </a:custGeom>
            <a:solidFill>
              <a:srgbClr val="006790"/>
            </a:solidFill>
            <a:ln cap="rnd" w="3240">
              <a:solidFill>
                <a:srgbClr val="004463"/>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45" name=""/>
            <p:cNvSpPr/>
            <p:nvPr/>
          </p:nvSpPr>
          <p:spPr>
            <a:xfrm>
              <a:off x="6307560" y="-568080"/>
              <a:ext cx="66960" cy="79560"/>
            </a:xfrm>
            <a:custGeom>
              <a:avLst/>
              <a:gdLst/>
              <a:ahLst/>
              <a:rect l="l" t="t" r="r" b="b"/>
              <a:pathLst>
                <a:path w="24" h="31">
                  <a:moveTo>
                    <a:pt x="23" y="0"/>
                  </a:moveTo>
                  <a:lnTo>
                    <a:pt x="12" y="2"/>
                  </a:lnTo>
                  <a:lnTo>
                    <a:pt x="5" y="13"/>
                  </a:lnTo>
                  <a:lnTo>
                    <a:pt x="0" y="25"/>
                  </a:lnTo>
                  <a:lnTo>
                    <a:pt x="8" y="30"/>
                  </a:lnTo>
                  <a:lnTo>
                    <a:pt x="15" y="20"/>
                  </a:lnTo>
                  <a:lnTo>
                    <a:pt x="16" y="13"/>
                  </a:lnTo>
                  <a:lnTo>
                    <a:pt x="23" y="12"/>
                  </a:lnTo>
                  <a:lnTo>
                    <a:pt x="23" y="10"/>
                  </a:lnTo>
                  <a:lnTo>
                    <a:pt x="23" y="9"/>
                  </a:lnTo>
                  <a:lnTo>
                    <a:pt x="23" y="7"/>
                  </a:lnTo>
                  <a:lnTo>
                    <a:pt x="23" y="5"/>
                  </a:lnTo>
                  <a:lnTo>
                    <a:pt x="23" y="4"/>
                  </a:lnTo>
                  <a:lnTo>
                    <a:pt x="23" y="2"/>
                  </a:lnTo>
                  <a:lnTo>
                    <a:pt x="23" y="0"/>
                  </a:lnTo>
                </a:path>
              </a:pathLst>
            </a:custGeom>
            <a:solidFill>
              <a:srgbClr val="006790"/>
            </a:solidFill>
            <a:ln cap="rnd" w="3240">
              <a:solidFill>
                <a:srgbClr val="00446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 name=""/>
            <p:cNvSpPr/>
            <p:nvPr/>
          </p:nvSpPr>
          <p:spPr>
            <a:xfrm>
              <a:off x="6547320" y="-704160"/>
              <a:ext cx="47160" cy="43560"/>
            </a:xfrm>
            <a:custGeom>
              <a:avLst/>
              <a:gdLst/>
              <a:ahLst/>
              <a:rect l="l" t="t" r="r" b="b"/>
              <a:pathLst>
                <a:path w="17" h="17">
                  <a:moveTo>
                    <a:pt x="8" y="0"/>
                  </a:moveTo>
                  <a:lnTo>
                    <a:pt x="0" y="8"/>
                  </a:lnTo>
                  <a:lnTo>
                    <a:pt x="9" y="16"/>
                  </a:lnTo>
                  <a:lnTo>
                    <a:pt x="16" y="8"/>
                  </a:lnTo>
                  <a:lnTo>
                    <a:pt x="8"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47" name=""/>
            <p:cNvSpPr/>
            <p:nvPr/>
          </p:nvSpPr>
          <p:spPr>
            <a:xfrm>
              <a:off x="6330240" y="-711720"/>
              <a:ext cx="105480" cy="107640"/>
            </a:xfrm>
            <a:custGeom>
              <a:avLst/>
              <a:gdLst/>
              <a:ahLst/>
              <a:rect l="l" t="t" r="r" b="b"/>
              <a:pathLst>
                <a:path w="38" h="42">
                  <a:moveTo>
                    <a:pt x="10" y="12"/>
                  </a:moveTo>
                  <a:lnTo>
                    <a:pt x="4" y="20"/>
                  </a:lnTo>
                  <a:lnTo>
                    <a:pt x="0" y="28"/>
                  </a:lnTo>
                  <a:lnTo>
                    <a:pt x="5" y="36"/>
                  </a:lnTo>
                  <a:lnTo>
                    <a:pt x="17" y="25"/>
                  </a:lnTo>
                  <a:lnTo>
                    <a:pt x="18" y="27"/>
                  </a:lnTo>
                  <a:lnTo>
                    <a:pt x="15" y="36"/>
                  </a:lnTo>
                  <a:lnTo>
                    <a:pt x="22" y="41"/>
                  </a:lnTo>
                  <a:lnTo>
                    <a:pt x="33" y="23"/>
                  </a:lnTo>
                  <a:lnTo>
                    <a:pt x="33" y="13"/>
                  </a:lnTo>
                  <a:lnTo>
                    <a:pt x="37" y="7"/>
                  </a:lnTo>
                  <a:lnTo>
                    <a:pt x="30" y="0"/>
                  </a:lnTo>
                  <a:lnTo>
                    <a:pt x="23" y="3"/>
                  </a:lnTo>
                  <a:lnTo>
                    <a:pt x="20" y="15"/>
                  </a:lnTo>
                  <a:lnTo>
                    <a:pt x="13" y="18"/>
                  </a:lnTo>
                  <a:lnTo>
                    <a:pt x="10" y="12"/>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405480" y="-693720"/>
              <a:ext cx="158760" cy="171360"/>
            </a:xfrm>
            <a:custGeom>
              <a:avLst/>
              <a:gdLst/>
              <a:ahLst/>
              <a:rect l="l" t="t" r="r" b="b"/>
              <a:pathLst>
                <a:path w="57" h="67">
                  <a:moveTo>
                    <a:pt x="26" y="0"/>
                  </a:moveTo>
                  <a:lnTo>
                    <a:pt x="16" y="10"/>
                  </a:lnTo>
                  <a:lnTo>
                    <a:pt x="19" y="20"/>
                  </a:lnTo>
                  <a:lnTo>
                    <a:pt x="10" y="26"/>
                  </a:lnTo>
                  <a:lnTo>
                    <a:pt x="0" y="39"/>
                  </a:lnTo>
                  <a:lnTo>
                    <a:pt x="5" y="49"/>
                  </a:lnTo>
                  <a:lnTo>
                    <a:pt x="11" y="49"/>
                  </a:lnTo>
                  <a:lnTo>
                    <a:pt x="8" y="58"/>
                  </a:lnTo>
                  <a:lnTo>
                    <a:pt x="18" y="66"/>
                  </a:lnTo>
                  <a:lnTo>
                    <a:pt x="21" y="38"/>
                  </a:lnTo>
                  <a:lnTo>
                    <a:pt x="26" y="49"/>
                  </a:lnTo>
                  <a:lnTo>
                    <a:pt x="34" y="48"/>
                  </a:lnTo>
                  <a:lnTo>
                    <a:pt x="34" y="39"/>
                  </a:lnTo>
                  <a:lnTo>
                    <a:pt x="54" y="31"/>
                  </a:lnTo>
                  <a:lnTo>
                    <a:pt x="56" y="13"/>
                  </a:lnTo>
                  <a:lnTo>
                    <a:pt x="49" y="10"/>
                  </a:lnTo>
                  <a:lnTo>
                    <a:pt x="43" y="16"/>
                  </a:lnTo>
                  <a:lnTo>
                    <a:pt x="48" y="24"/>
                  </a:lnTo>
                  <a:lnTo>
                    <a:pt x="38" y="26"/>
                  </a:lnTo>
                  <a:lnTo>
                    <a:pt x="23" y="31"/>
                  </a:lnTo>
                  <a:lnTo>
                    <a:pt x="29" y="20"/>
                  </a:lnTo>
                  <a:lnTo>
                    <a:pt x="28" y="15"/>
                  </a:lnTo>
                  <a:lnTo>
                    <a:pt x="29" y="8"/>
                  </a:lnTo>
                  <a:lnTo>
                    <a:pt x="26"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436080" y="-817200"/>
              <a:ext cx="114480" cy="112680"/>
            </a:xfrm>
            <a:custGeom>
              <a:avLst/>
              <a:gdLst/>
              <a:ahLst/>
              <a:rect l="l" t="t" r="r" b="b"/>
              <a:pathLst>
                <a:path w="41" h="44">
                  <a:moveTo>
                    <a:pt x="38" y="0"/>
                  </a:moveTo>
                  <a:lnTo>
                    <a:pt x="23" y="5"/>
                  </a:lnTo>
                  <a:lnTo>
                    <a:pt x="15" y="20"/>
                  </a:lnTo>
                  <a:lnTo>
                    <a:pt x="5" y="28"/>
                  </a:lnTo>
                  <a:lnTo>
                    <a:pt x="0" y="38"/>
                  </a:lnTo>
                  <a:lnTo>
                    <a:pt x="2" y="43"/>
                  </a:lnTo>
                  <a:lnTo>
                    <a:pt x="10" y="41"/>
                  </a:lnTo>
                  <a:lnTo>
                    <a:pt x="18" y="36"/>
                  </a:lnTo>
                  <a:lnTo>
                    <a:pt x="18" y="30"/>
                  </a:lnTo>
                  <a:lnTo>
                    <a:pt x="25" y="21"/>
                  </a:lnTo>
                  <a:lnTo>
                    <a:pt x="40" y="13"/>
                  </a:lnTo>
                  <a:lnTo>
                    <a:pt x="38"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592320" y="-855720"/>
              <a:ext cx="136800" cy="146520"/>
            </a:xfrm>
            <a:custGeom>
              <a:avLst/>
              <a:gdLst/>
              <a:ahLst/>
              <a:rect l="l" t="t" r="r" b="b"/>
              <a:pathLst>
                <a:path w="49" h="57">
                  <a:moveTo>
                    <a:pt x="25" y="0"/>
                  </a:moveTo>
                  <a:lnTo>
                    <a:pt x="0" y="11"/>
                  </a:lnTo>
                  <a:lnTo>
                    <a:pt x="7" y="18"/>
                  </a:lnTo>
                  <a:lnTo>
                    <a:pt x="7" y="25"/>
                  </a:lnTo>
                  <a:lnTo>
                    <a:pt x="0" y="30"/>
                  </a:lnTo>
                  <a:lnTo>
                    <a:pt x="2" y="35"/>
                  </a:lnTo>
                  <a:lnTo>
                    <a:pt x="7" y="38"/>
                  </a:lnTo>
                  <a:lnTo>
                    <a:pt x="0" y="41"/>
                  </a:lnTo>
                  <a:lnTo>
                    <a:pt x="0" y="49"/>
                  </a:lnTo>
                  <a:lnTo>
                    <a:pt x="14" y="49"/>
                  </a:lnTo>
                  <a:lnTo>
                    <a:pt x="17" y="56"/>
                  </a:lnTo>
                  <a:lnTo>
                    <a:pt x="22" y="54"/>
                  </a:lnTo>
                  <a:lnTo>
                    <a:pt x="30" y="31"/>
                  </a:lnTo>
                  <a:lnTo>
                    <a:pt x="40" y="31"/>
                  </a:lnTo>
                  <a:lnTo>
                    <a:pt x="40" y="18"/>
                  </a:lnTo>
                  <a:lnTo>
                    <a:pt x="48" y="5"/>
                  </a:lnTo>
                  <a:lnTo>
                    <a:pt x="38" y="2"/>
                  </a:lnTo>
                  <a:lnTo>
                    <a:pt x="32" y="5"/>
                  </a:lnTo>
                  <a:lnTo>
                    <a:pt x="25"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737400" y="-850320"/>
              <a:ext cx="47160" cy="43560"/>
            </a:xfrm>
            <a:custGeom>
              <a:avLst/>
              <a:gdLst/>
              <a:ahLst/>
              <a:rect l="l" t="t" r="r" b="b"/>
              <a:pathLst>
                <a:path w="17" h="17">
                  <a:moveTo>
                    <a:pt x="8" y="0"/>
                  </a:moveTo>
                  <a:lnTo>
                    <a:pt x="0" y="5"/>
                  </a:lnTo>
                  <a:lnTo>
                    <a:pt x="1" y="16"/>
                  </a:lnTo>
                  <a:lnTo>
                    <a:pt x="16" y="16"/>
                  </a:lnTo>
                  <a:lnTo>
                    <a:pt x="16" y="14"/>
                  </a:lnTo>
                  <a:lnTo>
                    <a:pt x="14" y="14"/>
                  </a:lnTo>
                  <a:lnTo>
                    <a:pt x="14" y="10"/>
                  </a:lnTo>
                  <a:lnTo>
                    <a:pt x="14" y="8"/>
                  </a:lnTo>
                  <a:lnTo>
                    <a:pt x="10" y="8"/>
                  </a:lnTo>
                  <a:lnTo>
                    <a:pt x="10" y="5"/>
                  </a:lnTo>
                  <a:lnTo>
                    <a:pt x="8" y="5"/>
                  </a:lnTo>
                  <a:lnTo>
                    <a:pt x="8" y="1"/>
                  </a:lnTo>
                  <a:lnTo>
                    <a:pt x="8"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52" name=""/>
            <p:cNvSpPr/>
            <p:nvPr/>
          </p:nvSpPr>
          <p:spPr>
            <a:xfrm>
              <a:off x="6726600" y="-945360"/>
              <a:ext cx="105480" cy="84240"/>
            </a:xfrm>
            <a:custGeom>
              <a:avLst/>
              <a:gdLst/>
              <a:ahLst/>
              <a:rect l="l" t="t" r="r" b="b"/>
              <a:pathLst>
                <a:path w="38" h="33">
                  <a:moveTo>
                    <a:pt x="22" y="0"/>
                  </a:moveTo>
                  <a:lnTo>
                    <a:pt x="9" y="10"/>
                  </a:lnTo>
                  <a:lnTo>
                    <a:pt x="0" y="22"/>
                  </a:lnTo>
                  <a:lnTo>
                    <a:pt x="4" y="32"/>
                  </a:lnTo>
                  <a:lnTo>
                    <a:pt x="22" y="30"/>
                  </a:lnTo>
                  <a:lnTo>
                    <a:pt x="32" y="22"/>
                  </a:lnTo>
                  <a:lnTo>
                    <a:pt x="37" y="2"/>
                  </a:lnTo>
                  <a:lnTo>
                    <a:pt x="22" y="0"/>
                  </a:lnTo>
                </a:path>
              </a:pathLst>
            </a:custGeom>
            <a:solidFill>
              <a:srgbClr val="006790"/>
            </a:solidFill>
            <a:ln cap="rnd" w="3240">
              <a:solidFill>
                <a:srgbClr val="004463"/>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 name=""/>
            <p:cNvSpPr/>
            <p:nvPr/>
          </p:nvSpPr>
          <p:spPr>
            <a:xfrm>
              <a:off x="6818400" y="-1004400"/>
              <a:ext cx="86760" cy="66600"/>
            </a:xfrm>
            <a:custGeom>
              <a:avLst/>
              <a:gdLst/>
              <a:ahLst/>
              <a:rect l="l" t="t" r="r" b="b"/>
              <a:pathLst>
                <a:path w="31" h="26">
                  <a:moveTo>
                    <a:pt x="10" y="2"/>
                  </a:moveTo>
                  <a:lnTo>
                    <a:pt x="0" y="13"/>
                  </a:lnTo>
                  <a:lnTo>
                    <a:pt x="5" y="20"/>
                  </a:lnTo>
                  <a:lnTo>
                    <a:pt x="14" y="25"/>
                  </a:lnTo>
                  <a:lnTo>
                    <a:pt x="20" y="22"/>
                  </a:lnTo>
                  <a:lnTo>
                    <a:pt x="30" y="7"/>
                  </a:lnTo>
                  <a:lnTo>
                    <a:pt x="25" y="0"/>
                  </a:lnTo>
                  <a:lnTo>
                    <a:pt x="18" y="5"/>
                  </a:lnTo>
                  <a:lnTo>
                    <a:pt x="10" y="2"/>
                  </a:lnTo>
                </a:path>
              </a:pathLst>
            </a:custGeom>
            <a:solidFill>
              <a:srgbClr val="006790"/>
            </a:solidFill>
            <a:ln cap="rnd" w="3240">
              <a:solidFill>
                <a:srgbClr val="004463"/>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 name=""/>
            <p:cNvSpPr/>
            <p:nvPr/>
          </p:nvSpPr>
          <p:spPr>
            <a:xfrm>
              <a:off x="6782400" y="-1017360"/>
              <a:ext cx="47160" cy="43560"/>
            </a:xfrm>
            <a:custGeom>
              <a:avLst/>
              <a:gdLst/>
              <a:ahLst/>
              <a:rect l="l" t="t" r="r" b="b"/>
              <a:pathLst>
                <a:path w="17" h="17">
                  <a:moveTo>
                    <a:pt x="16" y="0"/>
                  </a:moveTo>
                  <a:lnTo>
                    <a:pt x="13" y="16"/>
                  </a:lnTo>
                  <a:lnTo>
                    <a:pt x="0" y="16"/>
                  </a:lnTo>
                  <a:lnTo>
                    <a:pt x="2" y="6"/>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55" name=""/>
            <p:cNvSpPr/>
            <p:nvPr/>
          </p:nvSpPr>
          <p:spPr>
            <a:xfrm>
              <a:off x="6832440" y="-1063440"/>
              <a:ext cx="47160" cy="54000"/>
            </a:xfrm>
            <a:custGeom>
              <a:avLst/>
              <a:gdLst/>
              <a:ahLst/>
              <a:rect l="l" t="t" r="r" b="b"/>
              <a:pathLst>
                <a:path w="17" h="21">
                  <a:moveTo>
                    <a:pt x="4" y="0"/>
                  </a:moveTo>
                  <a:lnTo>
                    <a:pt x="4" y="8"/>
                  </a:lnTo>
                  <a:lnTo>
                    <a:pt x="0" y="17"/>
                  </a:lnTo>
                  <a:lnTo>
                    <a:pt x="11" y="20"/>
                  </a:lnTo>
                  <a:lnTo>
                    <a:pt x="16" y="12"/>
                  </a:lnTo>
                  <a:lnTo>
                    <a:pt x="12" y="0"/>
                  </a:lnTo>
                  <a:lnTo>
                    <a:pt x="4" y="0"/>
                  </a:lnTo>
                </a:path>
              </a:pathLst>
            </a:custGeom>
            <a:solidFill>
              <a:srgbClr val="006790"/>
            </a:solidFill>
            <a:ln cap="rnd" w="3240">
              <a:solidFill>
                <a:srgbClr val="00446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6" name=""/>
            <p:cNvSpPr/>
            <p:nvPr/>
          </p:nvSpPr>
          <p:spPr>
            <a:xfrm>
              <a:off x="6894000" y="-1063440"/>
              <a:ext cx="52920" cy="66600"/>
            </a:xfrm>
            <a:custGeom>
              <a:avLst/>
              <a:gdLst/>
              <a:ahLst/>
              <a:rect l="l" t="t" r="r" b="b"/>
              <a:pathLst>
                <a:path w="19" h="26">
                  <a:moveTo>
                    <a:pt x="0" y="0"/>
                  </a:moveTo>
                  <a:lnTo>
                    <a:pt x="3" y="12"/>
                  </a:lnTo>
                  <a:lnTo>
                    <a:pt x="8" y="21"/>
                  </a:lnTo>
                  <a:lnTo>
                    <a:pt x="16" y="25"/>
                  </a:lnTo>
                  <a:lnTo>
                    <a:pt x="18" y="13"/>
                  </a:lnTo>
                  <a:lnTo>
                    <a:pt x="11" y="2"/>
                  </a:lnTo>
                  <a:lnTo>
                    <a:pt x="10" y="2"/>
                  </a:lnTo>
                  <a:lnTo>
                    <a:pt x="8" y="2"/>
                  </a:lnTo>
                  <a:lnTo>
                    <a:pt x="6" y="2"/>
                  </a:lnTo>
                  <a:lnTo>
                    <a:pt x="6" y="0"/>
                  </a:lnTo>
                  <a:lnTo>
                    <a:pt x="5" y="0"/>
                  </a:lnTo>
                  <a:lnTo>
                    <a:pt x="3" y="0"/>
                  </a:lnTo>
                  <a:lnTo>
                    <a:pt x="1"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 name=""/>
            <p:cNvSpPr/>
            <p:nvPr/>
          </p:nvSpPr>
          <p:spPr>
            <a:xfrm>
              <a:off x="6989040" y="-1032480"/>
              <a:ext cx="47160" cy="43560"/>
            </a:xfrm>
            <a:custGeom>
              <a:avLst/>
              <a:gdLst/>
              <a:ahLst/>
              <a:rect l="l" t="t" r="r" b="b"/>
              <a:pathLst>
                <a:path w="17" h="17">
                  <a:moveTo>
                    <a:pt x="5" y="0"/>
                  </a:moveTo>
                  <a:lnTo>
                    <a:pt x="0" y="8"/>
                  </a:lnTo>
                  <a:lnTo>
                    <a:pt x="4" y="16"/>
                  </a:lnTo>
                  <a:lnTo>
                    <a:pt x="16" y="11"/>
                  </a:lnTo>
                  <a:lnTo>
                    <a:pt x="14" y="9"/>
                  </a:lnTo>
                  <a:lnTo>
                    <a:pt x="12" y="8"/>
                  </a:lnTo>
                  <a:lnTo>
                    <a:pt x="10" y="6"/>
                  </a:lnTo>
                  <a:lnTo>
                    <a:pt x="10" y="5"/>
                  </a:lnTo>
                  <a:lnTo>
                    <a:pt x="9" y="5"/>
                  </a:lnTo>
                  <a:lnTo>
                    <a:pt x="7" y="3"/>
                  </a:lnTo>
                  <a:lnTo>
                    <a:pt x="7" y="1"/>
                  </a:lnTo>
                  <a:lnTo>
                    <a:pt x="5" y="1"/>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58" name=""/>
            <p:cNvSpPr/>
            <p:nvPr/>
          </p:nvSpPr>
          <p:spPr>
            <a:xfrm>
              <a:off x="7427880" y="-1309680"/>
              <a:ext cx="86040" cy="58680"/>
            </a:xfrm>
            <a:custGeom>
              <a:avLst/>
              <a:gdLst/>
              <a:ahLst/>
              <a:rect l="l" t="t" r="r" b="b"/>
              <a:pathLst>
                <a:path w="31" h="23">
                  <a:moveTo>
                    <a:pt x="17" y="0"/>
                  </a:moveTo>
                  <a:lnTo>
                    <a:pt x="0" y="8"/>
                  </a:lnTo>
                  <a:lnTo>
                    <a:pt x="0" y="18"/>
                  </a:lnTo>
                  <a:lnTo>
                    <a:pt x="14" y="22"/>
                  </a:lnTo>
                  <a:lnTo>
                    <a:pt x="30" y="15"/>
                  </a:lnTo>
                  <a:lnTo>
                    <a:pt x="28" y="10"/>
                  </a:lnTo>
                  <a:lnTo>
                    <a:pt x="18" y="7"/>
                  </a:lnTo>
                  <a:lnTo>
                    <a:pt x="17" y="0"/>
                  </a:lnTo>
                </a:path>
              </a:pathLst>
            </a:custGeom>
            <a:solidFill>
              <a:srgbClr val="006790"/>
            </a:solidFill>
            <a:ln cap="rnd" w="3240">
              <a:solidFill>
                <a:srgbClr val="00446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 name=""/>
            <p:cNvSpPr/>
            <p:nvPr/>
          </p:nvSpPr>
          <p:spPr>
            <a:xfrm>
              <a:off x="7248600" y="-1199520"/>
              <a:ext cx="66960" cy="54000"/>
            </a:xfrm>
            <a:custGeom>
              <a:avLst/>
              <a:gdLst/>
              <a:ahLst/>
              <a:rect l="l" t="t" r="r" b="b"/>
              <a:pathLst>
                <a:path w="24" h="21">
                  <a:moveTo>
                    <a:pt x="18" y="3"/>
                  </a:moveTo>
                  <a:lnTo>
                    <a:pt x="7" y="0"/>
                  </a:lnTo>
                  <a:lnTo>
                    <a:pt x="0" y="7"/>
                  </a:lnTo>
                  <a:lnTo>
                    <a:pt x="10" y="12"/>
                  </a:lnTo>
                  <a:lnTo>
                    <a:pt x="13" y="20"/>
                  </a:lnTo>
                  <a:lnTo>
                    <a:pt x="23" y="17"/>
                  </a:lnTo>
                  <a:lnTo>
                    <a:pt x="18" y="3"/>
                  </a:lnTo>
                </a:path>
              </a:pathLst>
            </a:custGeom>
            <a:solidFill>
              <a:srgbClr val="006790"/>
            </a:solidFill>
            <a:ln cap="rnd" w="3240">
              <a:solidFill>
                <a:srgbClr val="00446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0" name=""/>
            <p:cNvSpPr/>
            <p:nvPr/>
          </p:nvSpPr>
          <p:spPr>
            <a:xfrm>
              <a:off x="7206840" y="-1153080"/>
              <a:ext cx="52920" cy="66240"/>
            </a:xfrm>
            <a:custGeom>
              <a:avLst/>
              <a:gdLst/>
              <a:ahLst/>
              <a:rect l="l" t="t" r="r" b="b"/>
              <a:pathLst>
                <a:path w="19" h="26">
                  <a:moveTo>
                    <a:pt x="18" y="10"/>
                  </a:moveTo>
                  <a:lnTo>
                    <a:pt x="12" y="0"/>
                  </a:lnTo>
                  <a:lnTo>
                    <a:pt x="0" y="12"/>
                  </a:lnTo>
                  <a:lnTo>
                    <a:pt x="0" y="22"/>
                  </a:lnTo>
                  <a:lnTo>
                    <a:pt x="12" y="25"/>
                  </a:lnTo>
                  <a:lnTo>
                    <a:pt x="18" y="10"/>
                  </a:lnTo>
                </a:path>
              </a:pathLst>
            </a:custGeom>
            <a:solidFill>
              <a:srgbClr val="006790"/>
            </a:solidFill>
            <a:ln cap="rnd" w="3240">
              <a:solidFill>
                <a:srgbClr val="004463"/>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1" name=""/>
            <p:cNvSpPr/>
            <p:nvPr/>
          </p:nvSpPr>
          <p:spPr>
            <a:xfrm>
              <a:off x="7156800" y="-1083600"/>
              <a:ext cx="66960" cy="43560"/>
            </a:xfrm>
            <a:custGeom>
              <a:avLst/>
              <a:gdLst/>
              <a:ahLst/>
              <a:rect l="l" t="t" r="r" b="b"/>
              <a:pathLst>
                <a:path w="24" h="17">
                  <a:moveTo>
                    <a:pt x="11" y="0"/>
                  </a:moveTo>
                  <a:lnTo>
                    <a:pt x="0" y="2"/>
                  </a:lnTo>
                  <a:lnTo>
                    <a:pt x="3" y="12"/>
                  </a:lnTo>
                  <a:lnTo>
                    <a:pt x="23" y="16"/>
                  </a:lnTo>
                  <a:lnTo>
                    <a:pt x="23" y="2"/>
                  </a:lnTo>
                  <a:lnTo>
                    <a:pt x="11"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62" name=""/>
            <p:cNvSpPr/>
            <p:nvPr/>
          </p:nvSpPr>
          <p:spPr>
            <a:xfrm>
              <a:off x="7095240" y="-1227600"/>
              <a:ext cx="156240" cy="102240"/>
            </a:xfrm>
            <a:custGeom>
              <a:avLst/>
              <a:gdLst/>
              <a:ahLst/>
              <a:rect l="l" t="t" r="r" b="b"/>
              <a:pathLst>
                <a:path w="56" h="40">
                  <a:moveTo>
                    <a:pt x="55" y="6"/>
                  </a:moveTo>
                  <a:lnTo>
                    <a:pt x="47" y="16"/>
                  </a:lnTo>
                  <a:lnTo>
                    <a:pt x="38" y="26"/>
                  </a:lnTo>
                  <a:lnTo>
                    <a:pt x="35" y="36"/>
                  </a:lnTo>
                  <a:lnTo>
                    <a:pt x="22" y="36"/>
                  </a:lnTo>
                  <a:lnTo>
                    <a:pt x="15" y="39"/>
                  </a:lnTo>
                  <a:lnTo>
                    <a:pt x="9" y="28"/>
                  </a:lnTo>
                  <a:lnTo>
                    <a:pt x="0" y="26"/>
                  </a:lnTo>
                  <a:lnTo>
                    <a:pt x="2" y="16"/>
                  </a:lnTo>
                  <a:lnTo>
                    <a:pt x="25" y="8"/>
                  </a:lnTo>
                  <a:lnTo>
                    <a:pt x="40" y="1"/>
                  </a:lnTo>
                  <a:lnTo>
                    <a:pt x="55" y="0"/>
                  </a:lnTo>
                  <a:lnTo>
                    <a:pt x="55" y="6"/>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958440" y="-983520"/>
              <a:ext cx="47160" cy="43560"/>
            </a:xfrm>
            <a:custGeom>
              <a:avLst/>
              <a:gdLst/>
              <a:ahLst/>
              <a:rect l="l" t="t" r="r" b="b"/>
              <a:pathLst>
                <a:path w="17" h="17">
                  <a:moveTo>
                    <a:pt x="0" y="2"/>
                  </a:moveTo>
                  <a:lnTo>
                    <a:pt x="4" y="16"/>
                  </a:lnTo>
                  <a:lnTo>
                    <a:pt x="16" y="13"/>
                  </a:lnTo>
                  <a:lnTo>
                    <a:pt x="12" y="0"/>
                  </a:lnTo>
                  <a:lnTo>
                    <a:pt x="0" y="2"/>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grpSp>
        <p:nvGrpSpPr>
          <p:cNvPr id="164" name=""/>
          <p:cNvGrpSpPr/>
          <p:nvPr/>
        </p:nvGrpSpPr>
        <p:grpSpPr>
          <a:xfrm>
            <a:off x="3240000" y="509760"/>
            <a:ext cx="2916000" cy="2609280"/>
            <a:chOff x="3240000" y="509760"/>
            <a:chExt cx="2916000" cy="2609280"/>
          </a:xfrm>
        </p:grpSpPr>
        <p:sp>
          <p:nvSpPr>
            <p:cNvPr id="165" name=""/>
            <p:cNvSpPr/>
            <p:nvPr/>
          </p:nvSpPr>
          <p:spPr>
            <a:xfrm>
              <a:off x="3401280" y="509760"/>
              <a:ext cx="47160" cy="56160"/>
            </a:xfrm>
            <a:custGeom>
              <a:avLst/>
              <a:gdLst/>
              <a:ahLst/>
              <a:rect l="l" t="t" r="r" b="b"/>
              <a:pathLst>
                <a:path w="17" h="22">
                  <a:moveTo>
                    <a:pt x="3" y="0"/>
                  </a:moveTo>
                  <a:lnTo>
                    <a:pt x="0" y="5"/>
                  </a:lnTo>
                  <a:lnTo>
                    <a:pt x="1" y="13"/>
                  </a:lnTo>
                  <a:lnTo>
                    <a:pt x="6" y="21"/>
                  </a:lnTo>
                  <a:lnTo>
                    <a:pt x="16" y="15"/>
                  </a:lnTo>
                  <a:lnTo>
                    <a:pt x="15" y="6"/>
                  </a:lnTo>
                  <a:lnTo>
                    <a:pt x="6" y="5"/>
                  </a:lnTo>
                  <a:lnTo>
                    <a:pt x="3" y="0"/>
                  </a:lnTo>
                </a:path>
              </a:pathLst>
            </a:custGeom>
            <a:solidFill>
              <a:srgbClr val="006790"/>
            </a:solidFill>
            <a:ln cap="rnd" w="3240">
              <a:solidFill>
                <a:srgbClr val="004463"/>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6" name=""/>
            <p:cNvSpPr/>
            <p:nvPr/>
          </p:nvSpPr>
          <p:spPr>
            <a:xfrm>
              <a:off x="3339720" y="517320"/>
              <a:ext cx="50400" cy="92520"/>
            </a:xfrm>
            <a:custGeom>
              <a:avLst/>
              <a:gdLst/>
              <a:ahLst/>
              <a:rect l="l" t="t" r="r" b="b"/>
              <a:pathLst>
                <a:path w="18" h="36">
                  <a:moveTo>
                    <a:pt x="2" y="0"/>
                  </a:moveTo>
                  <a:lnTo>
                    <a:pt x="0" y="10"/>
                  </a:lnTo>
                  <a:lnTo>
                    <a:pt x="4" y="18"/>
                  </a:lnTo>
                  <a:lnTo>
                    <a:pt x="5" y="26"/>
                  </a:lnTo>
                  <a:lnTo>
                    <a:pt x="9" y="35"/>
                  </a:lnTo>
                  <a:lnTo>
                    <a:pt x="13" y="30"/>
                  </a:lnTo>
                  <a:lnTo>
                    <a:pt x="17" y="22"/>
                  </a:lnTo>
                  <a:lnTo>
                    <a:pt x="15" y="15"/>
                  </a:lnTo>
                  <a:lnTo>
                    <a:pt x="12" y="12"/>
                  </a:lnTo>
                  <a:lnTo>
                    <a:pt x="12" y="3"/>
                  </a:lnTo>
                  <a:lnTo>
                    <a:pt x="10" y="0"/>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167" name=""/>
            <p:cNvSpPr/>
            <p:nvPr/>
          </p:nvSpPr>
          <p:spPr>
            <a:xfrm>
              <a:off x="3297960" y="522360"/>
              <a:ext cx="47160" cy="94680"/>
            </a:xfrm>
            <a:custGeom>
              <a:avLst/>
              <a:gdLst/>
              <a:ahLst/>
              <a:rect l="l" t="t" r="r" b="b"/>
              <a:pathLst>
                <a:path w="17" h="37">
                  <a:moveTo>
                    <a:pt x="10" y="0"/>
                  </a:moveTo>
                  <a:lnTo>
                    <a:pt x="0" y="3"/>
                  </a:lnTo>
                  <a:lnTo>
                    <a:pt x="2" y="11"/>
                  </a:lnTo>
                  <a:lnTo>
                    <a:pt x="2" y="20"/>
                  </a:lnTo>
                  <a:lnTo>
                    <a:pt x="4" y="31"/>
                  </a:lnTo>
                  <a:lnTo>
                    <a:pt x="10" y="36"/>
                  </a:lnTo>
                  <a:lnTo>
                    <a:pt x="16" y="31"/>
                  </a:lnTo>
                  <a:lnTo>
                    <a:pt x="16" y="18"/>
                  </a:lnTo>
                  <a:lnTo>
                    <a:pt x="11" y="10"/>
                  </a:lnTo>
                  <a:lnTo>
                    <a:pt x="10"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258720" y="542880"/>
              <a:ext cx="47160" cy="43560"/>
            </a:xfrm>
            <a:custGeom>
              <a:avLst/>
              <a:gdLst/>
              <a:ahLst/>
              <a:rect l="l" t="t" r="r" b="b"/>
              <a:pathLst>
                <a:path w="17" h="17">
                  <a:moveTo>
                    <a:pt x="11" y="0"/>
                  </a:moveTo>
                  <a:lnTo>
                    <a:pt x="16" y="9"/>
                  </a:lnTo>
                  <a:lnTo>
                    <a:pt x="11" y="16"/>
                  </a:lnTo>
                  <a:lnTo>
                    <a:pt x="1" y="9"/>
                  </a:lnTo>
                  <a:lnTo>
                    <a:pt x="0" y="0"/>
                  </a:lnTo>
                  <a:lnTo>
                    <a:pt x="11"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69" name=""/>
            <p:cNvSpPr/>
            <p:nvPr/>
          </p:nvSpPr>
          <p:spPr>
            <a:xfrm>
              <a:off x="3284280" y="635400"/>
              <a:ext cx="55440" cy="72000"/>
            </a:xfrm>
            <a:custGeom>
              <a:avLst/>
              <a:gdLst/>
              <a:ahLst/>
              <a:rect l="l" t="t" r="r" b="b"/>
              <a:pathLst>
                <a:path w="20" h="28">
                  <a:moveTo>
                    <a:pt x="2" y="0"/>
                  </a:moveTo>
                  <a:lnTo>
                    <a:pt x="0" y="9"/>
                  </a:lnTo>
                  <a:lnTo>
                    <a:pt x="2" y="14"/>
                  </a:lnTo>
                  <a:lnTo>
                    <a:pt x="10" y="15"/>
                  </a:lnTo>
                  <a:lnTo>
                    <a:pt x="10" y="25"/>
                  </a:lnTo>
                  <a:lnTo>
                    <a:pt x="17" y="27"/>
                  </a:lnTo>
                  <a:lnTo>
                    <a:pt x="19" y="17"/>
                  </a:lnTo>
                  <a:lnTo>
                    <a:pt x="12" y="12"/>
                  </a:lnTo>
                  <a:lnTo>
                    <a:pt x="5" y="5"/>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70" name=""/>
            <p:cNvSpPr/>
            <p:nvPr/>
          </p:nvSpPr>
          <p:spPr>
            <a:xfrm>
              <a:off x="3240000" y="691920"/>
              <a:ext cx="47160" cy="90000"/>
            </a:xfrm>
            <a:custGeom>
              <a:avLst/>
              <a:gdLst/>
              <a:ahLst/>
              <a:rect l="l" t="t" r="r" b="b"/>
              <a:pathLst>
                <a:path w="17" h="35">
                  <a:moveTo>
                    <a:pt x="5" y="0"/>
                  </a:moveTo>
                  <a:lnTo>
                    <a:pt x="0" y="8"/>
                  </a:lnTo>
                  <a:lnTo>
                    <a:pt x="0" y="21"/>
                  </a:lnTo>
                  <a:lnTo>
                    <a:pt x="2" y="28"/>
                  </a:lnTo>
                  <a:lnTo>
                    <a:pt x="7" y="34"/>
                  </a:lnTo>
                  <a:lnTo>
                    <a:pt x="13" y="26"/>
                  </a:lnTo>
                  <a:lnTo>
                    <a:pt x="13" y="15"/>
                  </a:lnTo>
                  <a:lnTo>
                    <a:pt x="16" y="10"/>
                  </a:lnTo>
                  <a:lnTo>
                    <a:pt x="13" y="1"/>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71" name=""/>
            <p:cNvSpPr/>
            <p:nvPr/>
          </p:nvSpPr>
          <p:spPr>
            <a:xfrm>
              <a:off x="4972680" y="2431080"/>
              <a:ext cx="560520" cy="587520"/>
            </a:xfrm>
            <a:custGeom>
              <a:avLst/>
              <a:gdLst/>
              <a:ahLst/>
              <a:rect l="l" t="t" r="r" b="b"/>
              <a:pathLst>
                <a:path w="201" h="229">
                  <a:moveTo>
                    <a:pt x="33" y="208"/>
                  </a:moveTo>
                  <a:lnTo>
                    <a:pt x="46" y="208"/>
                  </a:lnTo>
                  <a:lnTo>
                    <a:pt x="63" y="221"/>
                  </a:lnTo>
                  <a:lnTo>
                    <a:pt x="79" y="228"/>
                  </a:lnTo>
                  <a:lnTo>
                    <a:pt x="96" y="225"/>
                  </a:lnTo>
                  <a:lnTo>
                    <a:pt x="101" y="226"/>
                  </a:lnTo>
                  <a:lnTo>
                    <a:pt x="101" y="225"/>
                  </a:lnTo>
                  <a:lnTo>
                    <a:pt x="94" y="211"/>
                  </a:lnTo>
                  <a:lnTo>
                    <a:pt x="79" y="195"/>
                  </a:lnTo>
                  <a:lnTo>
                    <a:pt x="88" y="183"/>
                  </a:lnTo>
                  <a:lnTo>
                    <a:pt x="97" y="182"/>
                  </a:lnTo>
                  <a:lnTo>
                    <a:pt x="101" y="170"/>
                  </a:lnTo>
                  <a:lnTo>
                    <a:pt x="97" y="160"/>
                  </a:lnTo>
                  <a:lnTo>
                    <a:pt x="89" y="150"/>
                  </a:lnTo>
                  <a:lnTo>
                    <a:pt x="106" y="149"/>
                  </a:lnTo>
                  <a:lnTo>
                    <a:pt x="109" y="137"/>
                  </a:lnTo>
                  <a:lnTo>
                    <a:pt x="101" y="129"/>
                  </a:lnTo>
                  <a:lnTo>
                    <a:pt x="119" y="130"/>
                  </a:lnTo>
                  <a:lnTo>
                    <a:pt x="132" y="119"/>
                  </a:lnTo>
                  <a:lnTo>
                    <a:pt x="144" y="117"/>
                  </a:lnTo>
                  <a:lnTo>
                    <a:pt x="147" y="84"/>
                  </a:lnTo>
                  <a:lnTo>
                    <a:pt x="167" y="84"/>
                  </a:lnTo>
                  <a:lnTo>
                    <a:pt x="155" y="92"/>
                  </a:lnTo>
                  <a:lnTo>
                    <a:pt x="155" y="101"/>
                  </a:lnTo>
                  <a:lnTo>
                    <a:pt x="180" y="101"/>
                  </a:lnTo>
                  <a:lnTo>
                    <a:pt x="190" y="86"/>
                  </a:lnTo>
                  <a:lnTo>
                    <a:pt x="200" y="71"/>
                  </a:lnTo>
                  <a:lnTo>
                    <a:pt x="190" y="54"/>
                  </a:lnTo>
                  <a:lnTo>
                    <a:pt x="159" y="53"/>
                  </a:lnTo>
                  <a:lnTo>
                    <a:pt x="150" y="45"/>
                  </a:lnTo>
                  <a:lnTo>
                    <a:pt x="154" y="33"/>
                  </a:lnTo>
                  <a:lnTo>
                    <a:pt x="162" y="8"/>
                  </a:lnTo>
                  <a:lnTo>
                    <a:pt x="150" y="2"/>
                  </a:lnTo>
                  <a:lnTo>
                    <a:pt x="116" y="0"/>
                  </a:lnTo>
                  <a:lnTo>
                    <a:pt x="96" y="8"/>
                  </a:lnTo>
                  <a:lnTo>
                    <a:pt x="92" y="30"/>
                  </a:lnTo>
                  <a:lnTo>
                    <a:pt x="81" y="48"/>
                  </a:lnTo>
                  <a:lnTo>
                    <a:pt x="88" y="31"/>
                  </a:lnTo>
                  <a:lnTo>
                    <a:pt x="84" y="28"/>
                  </a:lnTo>
                  <a:lnTo>
                    <a:pt x="66" y="43"/>
                  </a:lnTo>
                  <a:lnTo>
                    <a:pt x="61" y="63"/>
                  </a:lnTo>
                  <a:lnTo>
                    <a:pt x="54" y="45"/>
                  </a:lnTo>
                  <a:lnTo>
                    <a:pt x="38" y="36"/>
                  </a:lnTo>
                  <a:lnTo>
                    <a:pt x="21" y="53"/>
                  </a:lnTo>
                  <a:lnTo>
                    <a:pt x="35" y="64"/>
                  </a:lnTo>
                  <a:lnTo>
                    <a:pt x="23" y="64"/>
                  </a:lnTo>
                  <a:lnTo>
                    <a:pt x="12" y="87"/>
                  </a:lnTo>
                  <a:lnTo>
                    <a:pt x="15" y="122"/>
                  </a:lnTo>
                  <a:lnTo>
                    <a:pt x="0" y="139"/>
                  </a:lnTo>
                  <a:lnTo>
                    <a:pt x="13" y="154"/>
                  </a:lnTo>
                  <a:lnTo>
                    <a:pt x="21" y="142"/>
                  </a:lnTo>
                  <a:lnTo>
                    <a:pt x="33" y="157"/>
                  </a:lnTo>
                  <a:lnTo>
                    <a:pt x="30" y="183"/>
                  </a:lnTo>
                  <a:lnTo>
                    <a:pt x="33" y="208"/>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6083280" y="2972880"/>
              <a:ext cx="72720" cy="72000"/>
            </a:xfrm>
            <a:custGeom>
              <a:avLst/>
              <a:gdLst/>
              <a:ahLst/>
              <a:rect l="l" t="t" r="r" b="b"/>
              <a:pathLst>
                <a:path w="26" h="28">
                  <a:moveTo>
                    <a:pt x="7" y="0"/>
                  </a:moveTo>
                  <a:lnTo>
                    <a:pt x="0" y="10"/>
                  </a:lnTo>
                  <a:lnTo>
                    <a:pt x="2" y="19"/>
                  </a:lnTo>
                  <a:lnTo>
                    <a:pt x="17" y="27"/>
                  </a:lnTo>
                  <a:lnTo>
                    <a:pt x="25" y="20"/>
                  </a:lnTo>
                  <a:lnTo>
                    <a:pt x="7" y="0"/>
                  </a:lnTo>
                </a:path>
              </a:pathLst>
            </a:custGeom>
            <a:solidFill>
              <a:srgbClr val="006790"/>
            </a:solidFill>
            <a:ln cap="rnd" w="3240">
              <a:solidFill>
                <a:srgbClr val="004463"/>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73" name=""/>
            <p:cNvSpPr/>
            <p:nvPr/>
          </p:nvSpPr>
          <p:spPr>
            <a:xfrm>
              <a:off x="5447160" y="3011400"/>
              <a:ext cx="144720" cy="87120"/>
            </a:xfrm>
            <a:custGeom>
              <a:avLst/>
              <a:gdLst/>
              <a:ahLst/>
              <a:rect l="l" t="t" r="r" b="b"/>
              <a:pathLst>
                <a:path w="52" h="34">
                  <a:moveTo>
                    <a:pt x="12" y="0"/>
                  </a:moveTo>
                  <a:lnTo>
                    <a:pt x="5" y="7"/>
                  </a:lnTo>
                  <a:lnTo>
                    <a:pt x="7" y="12"/>
                  </a:lnTo>
                  <a:lnTo>
                    <a:pt x="0" y="17"/>
                  </a:lnTo>
                  <a:lnTo>
                    <a:pt x="12" y="22"/>
                  </a:lnTo>
                  <a:lnTo>
                    <a:pt x="22" y="20"/>
                  </a:lnTo>
                  <a:lnTo>
                    <a:pt x="30" y="33"/>
                  </a:lnTo>
                  <a:lnTo>
                    <a:pt x="51" y="30"/>
                  </a:lnTo>
                  <a:lnTo>
                    <a:pt x="51" y="18"/>
                  </a:lnTo>
                  <a:lnTo>
                    <a:pt x="45" y="8"/>
                  </a:lnTo>
                  <a:lnTo>
                    <a:pt x="33" y="13"/>
                  </a:lnTo>
                  <a:lnTo>
                    <a:pt x="20" y="0"/>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 name=""/>
            <p:cNvSpPr/>
            <p:nvPr/>
          </p:nvSpPr>
          <p:spPr>
            <a:xfrm>
              <a:off x="5594760" y="3032280"/>
              <a:ext cx="58680" cy="86760"/>
            </a:xfrm>
            <a:custGeom>
              <a:avLst/>
              <a:gdLst/>
              <a:ahLst/>
              <a:rect l="l" t="t" r="r" b="b"/>
              <a:pathLst>
                <a:path w="21" h="34">
                  <a:moveTo>
                    <a:pt x="0" y="0"/>
                  </a:moveTo>
                  <a:lnTo>
                    <a:pt x="5" y="10"/>
                  </a:lnTo>
                  <a:lnTo>
                    <a:pt x="2" y="20"/>
                  </a:lnTo>
                  <a:lnTo>
                    <a:pt x="7" y="33"/>
                  </a:lnTo>
                  <a:lnTo>
                    <a:pt x="20" y="10"/>
                  </a:lnTo>
                  <a:lnTo>
                    <a:pt x="16"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5" name=""/>
            <p:cNvSpPr/>
            <p:nvPr/>
          </p:nvSpPr>
          <p:spPr>
            <a:xfrm>
              <a:off x="5659200" y="3008880"/>
              <a:ext cx="88920" cy="43560"/>
            </a:xfrm>
            <a:custGeom>
              <a:avLst/>
              <a:gdLst/>
              <a:ahLst/>
              <a:rect l="l" t="t" r="r" b="b"/>
              <a:pathLst>
                <a:path w="32" h="17">
                  <a:moveTo>
                    <a:pt x="0" y="8"/>
                  </a:moveTo>
                  <a:lnTo>
                    <a:pt x="3" y="16"/>
                  </a:lnTo>
                  <a:lnTo>
                    <a:pt x="17" y="9"/>
                  </a:lnTo>
                  <a:lnTo>
                    <a:pt x="23" y="13"/>
                  </a:lnTo>
                  <a:lnTo>
                    <a:pt x="31" y="6"/>
                  </a:lnTo>
                  <a:lnTo>
                    <a:pt x="18" y="0"/>
                  </a:lnTo>
                  <a:lnTo>
                    <a:pt x="0" y="8"/>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76" name=""/>
            <p:cNvSpPr/>
            <p:nvPr/>
          </p:nvSpPr>
          <p:spPr>
            <a:xfrm>
              <a:off x="5469120" y="2697840"/>
              <a:ext cx="261720" cy="320760"/>
            </a:xfrm>
            <a:custGeom>
              <a:avLst/>
              <a:gdLst/>
              <a:ahLst/>
              <a:rect l="l" t="t" r="r" b="b"/>
              <a:pathLst>
                <a:path w="94" h="125">
                  <a:moveTo>
                    <a:pt x="60" y="12"/>
                  </a:moveTo>
                  <a:lnTo>
                    <a:pt x="66" y="18"/>
                  </a:lnTo>
                  <a:lnTo>
                    <a:pt x="65" y="28"/>
                  </a:lnTo>
                  <a:lnTo>
                    <a:pt x="61" y="40"/>
                  </a:lnTo>
                  <a:lnTo>
                    <a:pt x="58" y="33"/>
                  </a:lnTo>
                  <a:lnTo>
                    <a:pt x="47" y="46"/>
                  </a:lnTo>
                  <a:lnTo>
                    <a:pt x="37" y="36"/>
                  </a:lnTo>
                  <a:lnTo>
                    <a:pt x="48" y="18"/>
                  </a:lnTo>
                  <a:lnTo>
                    <a:pt x="23" y="15"/>
                  </a:lnTo>
                  <a:lnTo>
                    <a:pt x="23" y="18"/>
                  </a:lnTo>
                  <a:lnTo>
                    <a:pt x="33" y="21"/>
                  </a:lnTo>
                  <a:lnTo>
                    <a:pt x="25" y="30"/>
                  </a:lnTo>
                  <a:lnTo>
                    <a:pt x="2" y="31"/>
                  </a:lnTo>
                  <a:lnTo>
                    <a:pt x="0" y="43"/>
                  </a:lnTo>
                  <a:lnTo>
                    <a:pt x="9" y="53"/>
                  </a:lnTo>
                  <a:lnTo>
                    <a:pt x="4" y="61"/>
                  </a:lnTo>
                  <a:lnTo>
                    <a:pt x="12" y="92"/>
                  </a:lnTo>
                  <a:lnTo>
                    <a:pt x="37" y="92"/>
                  </a:lnTo>
                  <a:lnTo>
                    <a:pt x="47" y="104"/>
                  </a:lnTo>
                  <a:lnTo>
                    <a:pt x="40" y="111"/>
                  </a:lnTo>
                  <a:lnTo>
                    <a:pt x="52" y="124"/>
                  </a:lnTo>
                  <a:lnTo>
                    <a:pt x="63" y="122"/>
                  </a:lnTo>
                  <a:lnTo>
                    <a:pt x="70" y="102"/>
                  </a:lnTo>
                  <a:lnTo>
                    <a:pt x="65" y="94"/>
                  </a:lnTo>
                  <a:lnTo>
                    <a:pt x="93" y="91"/>
                  </a:lnTo>
                  <a:lnTo>
                    <a:pt x="90" y="83"/>
                  </a:lnTo>
                  <a:lnTo>
                    <a:pt x="78" y="76"/>
                  </a:lnTo>
                  <a:lnTo>
                    <a:pt x="76" y="64"/>
                  </a:lnTo>
                  <a:lnTo>
                    <a:pt x="91" y="50"/>
                  </a:lnTo>
                  <a:lnTo>
                    <a:pt x="93" y="8"/>
                  </a:lnTo>
                  <a:lnTo>
                    <a:pt x="80" y="0"/>
                  </a:lnTo>
                  <a:lnTo>
                    <a:pt x="60" y="12"/>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410440" y="2731680"/>
              <a:ext cx="47160" cy="43560"/>
            </a:xfrm>
            <a:custGeom>
              <a:avLst/>
              <a:gdLst/>
              <a:ahLst/>
              <a:rect l="l" t="t" r="r" b="b"/>
              <a:pathLst>
                <a:path w="17" h="17">
                  <a:moveTo>
                    <a:pt x="6" y="0"/>
                  </a:moveTo>
                  <a:lnTo>
                    <a:pt x="0" y="10"/>
                  </a:lnTo>
                  <a:lnTo>
                    <a:pt x="6" y="16"/>
                  </a:lnTo>
                  <a:lnTo>
                    <a:pt x="16" y="7"/>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78" name=""/>
            <p:cNvSpPr/>
            <p:nvPr/>
          </p:nvSpPr>
          <p:spPr>
            <a:xfrm>
              <a:off x="5290920" y="2808720"/>
              <a:ext cx="144720" cy="151200"/>
            </a:xfrm>
            <a:custGeom>
              <a:avLst/>
              <a:gdLst/>
              <a:ahLst/>
              <a:rect l="l" t="t" r="r" b="b"/>
              <a:pathLst>
                <a:path w="52" h="59">
                  <a:moveTo>
                    <a:pt x="21" y="0"/>
                  </a:moveTo>
                  <a:lnTo>
                    <a:pt x="3" y="13"/>
                  </a:lnTo>
                  <a:lnTo>
                    <a:pt x="0" y="28"/>
                  </a:lnTo>
                  <a:lnTo>
                    <a:pt x="0" y="43"/>
                  </a:lnTo>
                  <a:lnTo>
                    <a:pt x="18" y="58"/>
                  </a:lnTo>
                  <a:lnTo>
                    <a:pt x="45" y="56"/>
                  </a:lnTo>
                  <a:lnTo>
                    <a:pt x="48" y="30"/>
                  </a:lnTo>
                  <a:lnTo>
                    <a:pt x="51" y="11"/>
                  </a:lnTo>
                  <a:lnTo>
                    <a:pt x="45" y="10"/>
                  </a:lnTo>
                  <a:lnTo>
                    <a:pt x="38" y="23"/>
                  </a:lnTo>
                  <a:lnTo>
                    <a:pt x="26" y="20"/>
                  </a:lnTo>
                  <a:lnTo>
                    <a:pt x="36" y="11"/>
                  </a:lnTo>
                  <a:lnTo>
                    <a:pt x="35" y="10"/>
                  </a:lnTo>
                  <a:lnTo>
                    <a:pt x="33" y="10"/>
                  </a:lnTo>
                  <a:lnTo>
                    <a:pt x="33" y="8"/>
                  </a:lnTo>
                  <a:lnTo>
                    <a:pt x="31" y="8"/>
                  </a:lnTo>
                  <a:lnTo>
                    <a:pt x="30" y="7"/>
                  </a:lnTo>
                  <a:lnTo>
                    <a:pt x="28" y="7"/>
                  </a:lnTo>
                  <a:lnTo>
                    <a:pt x="28" y="5"/>
                  </a:lnTo>
                  <a:lnTo>
                    <a:pt x="26" y="5"/>
                  </a:lnTo>
                  <a:lnTo>
                    <a:pt x="25" y="3"/>
                  </a:lnTo>
                  <a:lnTo>
                    <a:pt x="23" y="3"/>
                  </a:lnTo>
                  <a:lnTo>
                    <a:pt x="23" y="2"/>
                  </a:lnTo>
                  <a:lnTo>
                    <a:pt x="21" y="2"/>
                  </a:lnTo>
                  <a:lnTo>
                    <a:pt x="21"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5396400" y="2952360"/>
              <a:ext cx="61200" cy="92520"/>
            </a:xfrm>
            <a:custGeom>
              <a:avLst/>
              <a:gdLst/>
              <a:ahLst/>
              <a:rect l="l" t="t" r="r" b="b"/>
              <a:pathLst>
                <a:path w="22" h="36">
                  <a:moveTo>
                    <a:pt x="20" y="0"/>
                  </a:moveTo>
                  <a:lnTo>
                    <a:pt x="8" y="12"/>
                  </a:lnTo>
                  <a:lnTo>
                    <a:pt x="0" y="31"/>
                  </a:lnTo>
                  <a:lnTo>
                    <a:pt x="2" y="35"/>
                  </a:lnTo>
                  <a:lnTo>
                    <a:pt x="13" y="28"/>
                  </a:lnTo>
                  <a:lnTo>
                    <a:pt x="21" y="5"/>
                  </a:lnTo>
                  <a:lnTo>
                    <a:pt x="20" y="0"/>
                  </a:lnTo>
                </a:path>
              </a:pathLst>
            </a:custGeom>
            <a:solidFill>
              <a:srgbClr val="006790"/>
            </a:solidFill>
            <a:ln cap="rnd" w="3240">
              <a:solidFill>
                <a:srgbClr val="004463"/>
              </a:solidFill>
              <a:round/>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180" name=""/>
            <p:cNvSpPr/>
            <p:nvPr/>
          </p:nvSpPr>
          <p:spPr>
            <a:xfrm>
              <a:off x="5360400" y="2983320"/>
              <a:ext cx="47160" cy="43560"/>
            </a:xfrm>
            <a:custGeom>
              <a:avLst/>
              <a:gdLst/>
              <a:ahLst/>
              <a:rect l="l" t="t" r="r" b="b"/>
              <a:pathLst>
                <a:path w="17" h="17">
                  <a:moveTo>
                    <a:pt x="16" y="0"/>
                  </a:moveTo>
                  <a:lnTo>
                    <a:pt x="12" y="16"/>
                  </a:lnTo>
                  <a:lnTo>
                    <a:pt x="0" y="10"/>
                  </a:lnTo>
                  <a:lnTo>
                    <a:pt x="1" y="10"/>
                  </a:lnTo>
                  <a:lnTo>
                    <a:pt x="1" y="6"/>
                  </a:lnTo>
                  <a:lnTo>
                    <a:pt x="3" y="6"/>
                  </a:lnTo>
                  <a:lnTo>
                    <a:pt x="6" y="6"/>
                  </a:lnTo>
                  <a:lnTo>
                    <a:pt x="7" y="6"/>
                  </a:lnTo>
                  <a:lnTo>
                    <a:pt x="7" y="2"/>
                  </a:lnTo>
                  <a:lnTo>
                    <a:pt x="9" y="2"/>
                  </a:lnTo>
                  <a:lnTo>
                    <a:pt x="12" y="2"/>
                  </a:lnTo>
                  <a:lnTo>
                    <a:pt x="13" y="0"/>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81" name=""/>
            <p:cNvSpPr/>
            <p:nvPr/>
          </p:nvSpPr>
          <p:spPr>
            <a:xfrm>
              <a:off x="5249160" y="2934360"/>
              <a:ext cx="63720" cy="84240"/>
            </a:xfrm>
            <a:custGeom>
              <a:avLst/>
              <a:gdLst/>
              <a:ahLst/>
              <a:rect l="l" t="t" r="r" b="b"/>
              <a:pathLst>
                <a:path w="23" h="33">
                  <a:moveTo>
                    <a:pt x="5" y="0"/>
                  </a:moveTo>
                  <a:lnTo>
                    <a:pt x="0" y="5"/>
                  </a:lnTo>
                  <a:lnTo>
                    <a:pt x="7" y="20"/>
                  </a:lnTo>
                  <a:lnTo>
                    <a:pt x="15" y="32"/>
                  </a:lnTo>
                  <a:lnTo>
                    <a:pt x="22" y="27"/>
                  </a:lnTo>
                  <a:lnTo>
                    <a:pt x="18" y="14"/>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 name=""/>
            <p:cNvSpPr/>
            <p:nvPr/>
          </p:nvSpPr>
          <p:spPr>
            <a:xfrm>
              <a:off x="5014440" y="2892960"/>
              <a:ext cx="47160" cy="54000"/>
            </a:xfrm>
            <a:custGeom>
              <a:avLst/>
              <a:gdLst/>
              <a:ahLst/>
              <a:rect l="l" t="t" r="r" b="b"/>
              <a:pathLst>
                <a:path w="17" h="21">
                  <a:moveTo>
                    <a:pt x="6" y="0"/>
                  </a:moveTo>
                  <a:lnTo>
                    <a:pt x="0" y="15"/>
                  </a:lnTo>
                  <a:lnTo>
                    <a:pt x="10" y="20"/>
                  </a:lnTo>
                  <a:lnTo>
                    <a:pt x="16" y="5"/>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 name=""/>
            <p:cNvSpPr/>
            <p:nvPr/>
          </p:nvSpPr>
          <p:spPr>
            <a:xfrm>
              <a:off x="5508360" y="2353680"/>
              <a:ext cx="75240" cy="59400"/>
            </a:xfrm>
            <a:custGeom>
              <a:avLst/>
              <a:gdLst/>
              <a:ahLst/>
              <a:rect l="l" t="t" r="r" b="b"/>
              <a:pathLst>
                <a:path w="27" h="23">
                  <a:moveTo>
                    <a:pt x="23" y="0"/>
                  </a:moveTo>
                  <a:lnTo>
                    <a:pt x="9" y="0"/>
                  </a:lnTo>
                  <a:lnTo>
                    <a:pt x="0" y="12"/>
                  </a:lnTo>
                  <a:lnTo>
                    <a:pt x="9" y="22"/>
                  </a:lnTo>
                  <a:lnTo>
                    <a:pt x="18" y="8"/>
                  </a:lnTo>
                  <a:lnTo>
                    <a:pt x="26" y="5"/>
                  </a:lnTo>
                  <a:lnTo>
                    <a:pt x="23" y="0"/>
                  </a:lnTo>
                </a:path>
              </a:pathLst>
            </a:custGeom>
            <a:solidFill>
              <a:srgbClr val="006790"/>
            </a:solidFill>
            <a:ln cap="rnd" w="3240">
              <a:solidFill>
                <a:srgbClr val="004463"/>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84" name=""/>
            <p:cNvSpPr/>
            <p:nvPr/>
          </p:nvSpPr>
          <p:spPr>
            <a:xfrm>
              <a:off x="5083920" y="2230920"/>
              <a:ext cx="421200" cy="274680"/>
            </a:xfrm>
            <a:custGeom>
              <a:avLst/>
              <a:gdLst/>
              <a:ahLst/>
              <a:rect l="l" t="t" r="r" b="b"/>
              <a:pathLst>
                <a:path w="151" h="107">
                  <a:moveTo>
                    <a:pt x="150" y="2"/>
                  </a:moveTo>
                  <a:lnTo>
                    <a:pt x="133" y="0"/>
                  </a:lnTo>
                  <a:lnTo>
                    <a:pt x="122" y="9"/>
                  </a:lnTo>
                  <a:lnTo>
                    <a:pt x="109" y="7"/>
                  </a:lnTo>
                  <a:lnTo>
                    <a:pt x="79" y="50"/>
                  </a:lnTo>
                  <a:lnTo>
                    <a:pt x="52" y="60"/>
                  </a:lnTo>
                  <a:lnTo>
                    <a:pt x="33" y="58"/>
                  </a:lnTo>
                  <a:lnTo>
                    <a:pt x="11" y="68"/>
                  </a:lnTo>
                  <a:lnTo>
                    <a:pt x="0" y="91"/>
                  </a:lnTo>
                  <a:lnTo>
                    <a:pt x="1" y="99"/>
                  </a:lnTo>
                  <a:lnTo>
                    <a:pt x="11" y="106"/>
                  </a:lnTo>
                  <a:lnTo>
                    <a:pt x="18" y="83"/>
                  </a:lnTo>
                  <a:lnTo>
                    <a:pt x="31" y="78"/>
                  </a:lnTo>
                  <a:lnTo>
                    <a:pt x="59" y="75"/>
                  </a:lnTo>
                  <a:lnTo>
                    <a:pt x="84" y="68"/>
                  </a:lnTo>
                  <a:lnTo>
                    <a:pt x="102" y="68"/>
                  </a:lnTo>
                  <a:lnTo>
                    <a:pt x="117" y="75"/>
                  </a:lnTo>
                  <a:lnTo>
                    <a:pt x="125" y="76"/>
                  </a:lnTo>
                  <a:lnTo>
                    <a:pt x="140" y="61"/>
                  </a:lnTo>
                  <a:lnTo>
                    <a:pt x="137" y="43"/>
                  </a:lnTo>
                  <a:lnTo>
                    <a:pt x="143" y="37"/>
                  </a:lnTo>
                  <a:lnTo>
                    <a:pt x="142" y="28"/>
                  </a:lnTo>
                  <a:lnTo>
                    <a:pt x="132" y="22"/>
                  </a:lnTo>
                  <a:lnTo>
                    <a:pt x="150" y="2"/>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5142600" y="2444040"/>
              <a:ext cx="49680" cy="56160"/>
            </a:xfrm>
            <a:custGeom>
              <a:avLst/>
              <a:gdLst/>
              <a:ahLst/>
              <a:rect l="l" t="t" r="r" b="b"/>
              <a:pathLst>
                <a:path w="18" h="22">
                  <a:moveTo>
                    <a:pt x="15" y="0"/>
                  </a:moveTo>
                  <a:lnTo>
                    <a:pt x="3" y="5"/>
                  </a:lnTo>
                  <a:lnTo>
                    <a:pt x="0" y="16"/>
                  </a:lnTo>
                  <a:lnTo>
                    <a:pt x="5" y="21"/>
                  </a:lnTo>
                  <a:lnTo>
                    <a:pt x="8" y="10"/>
                  </a:lnTo>
                  <a:lnTo>
                    <a:pt x="17" y="5"/>
                  </a:lnTo>
                  <a:lnTo>
                    <a:pt x="15" y="0"/>
                  </a:lnTo>
                </a:path>
              </a:pathLst>
            </a:custGeom>
            <a:solidFill>
              <a:srgbClr val="006790"/>
            </a:solidFill>
            <a:ln cap="rnd" w="3240">
              <a:solidFill>
                <a:srgbClr val="004463"/>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grpSp>
      <p:sp>
        <p:nvSpPr>
          <p:cNvPr id="186" name=""/>
          <p:cNvSpPr/>
          <p:nvPr/>
        </p:nvSpPr>
        <p:spPr>
          <a:xfrm>
            <a:off x="4105440" y="4875120"/>
            <a:ext cx="950760" cy="530280"/>
          </a:xfrm>
          <a:custGeom>
            <a:avLst/>
            <a:gdLst/>
            <a:ahLst/>
            <a:rect l="l" t="t" r="r" b="b"/>
            <a:pathLst>
              <a:path w="340" h="206">
                <a:moveTo>
                  <a:pt x="297" y="38"/>
                </a:moveTo>
                <a:lnTo>
                  <a:pt x="296" y="49"/>
                </a:lnTo>
                <a:lnTo>
                  <a:pt x="287" y="59"/>
                </a:lnTo>
                <a:lnTo>
                  <a:pt x="279" y="68"/>
                </a:lnTo>
                <a:lnTo>
                  <a:pt x="279" y="81"/>
                </a:lnTo>
                <a:lnTo>
                  <a:pt x="283" y="92"/>
                </a:lnTo>
                <a:lnTo>
                  <a:pt x="294" y="94"/>
                </a:lnTo>
                <a:lnTo>
                  <a:pt x="306" y="99"/>
                </a:lnTo>
                <a:lnTo>
                  <a:pt x="316" y="112"/>
                </a:lnTo>
                <a:lnTo>
                  <a:pt x="329" y="109"/>
                </a:lnTo>
                <a:lnTo>
                  <a:pt x="339" y="116"/>
                </a:lnTo>
                <a:lnTo>
                  <a:pt x="334" y="129"/>
                </a:lnTo>
                <a:lnTo>
                  <a:pt x="334" y="147"/>
                </a:lnTo>
                <a:lnTo>
                  <a:pt x="317" y="139"/>
                </a:lnTo>
                <a:lnTo>
                  <a:pt x="312" y="168"/>
                </a:lnTo>
                <a:lnTo>
                  <a:pt x="273" y="158"/>
                </a:lnTo>
                <a:lnTo>
                  <a:pt x="263" y="140"/>
                </a:lnTo>
                <a:lnTo>
                  <a:pt x="256" y="144"/>
                </a:lnTo>
                <a:lnTo>
                  <a:pt x="256" y="163"/>
                </a:lnTo>
                <a:lnTo>
                  <a:pt x="235" y="188"/>
                </a:lnTo>
                <a:lnTo>
                  <a:pt x="223" y="205"/>
                </a:lnTo>
                <a:lnTo>
                  <a:pt x="216" y="182"/>
                </a:lnTo>
                <a:lnTo>
                  <a:pt x="190" y="158"/>
                </a:lnTo>
                <a:lnTo>
                  <a:pt x="200" y="140"/>
                </a:lnTo>
                <a:lnTo>
                  <a:pt x="182" y="137"/>
                </a:lnTo>
                <a:lnTo>
                  <a:pt x="164" y="154"/>
                </a:lnTo>
                <a:lnTo>
                  <a:pt x="165" y="178"/>
                </a:lnTo>
                <a:lnTo>
                  <a:pt x="147" y="177"/>
                </a:lnTo>
                <a:lnTo>
                  <a:pt x="140" y="187"/>
                </a:lnTo>
                <a:lnTo>
                  <a:pt x="126" y="178"/>
                </a:lnTo>
                <a:lnTo>
                  <a:pt x="99" y="180"/>
                </a:lnTo>
                <a:lnTo>
                  <a:pt x="84" y="177"/>
                </a:lnTo>
                <a:lnTo>
                  <a:pt x="81" y="163"/>
                </a:lnTo>
                <a:lnTo>
                  <a:pt x="74" y="147"/>
                </a:lnTo>
                <a:lnTo>
                  <a:pt x="71" y="134"/>
                </a:lnTo>
                <a:lnTo>
                  <a:pt x="60" y="127"/>
                </a:lnTo>
                <a:lnTo>
                  <a:pt x="33" y="129"/>
                </a:lnTo>
                <a:lnTo>
                  <a:pt x="10" y="144"/>
                </a:lnTo>
                <a:lnTo>
                  <a:pt x="0" y="135"/>
                </a:lnTo>
                <a:lnTo>
                  <a:pt x="7" y="122"/>
                </a:lnTo>
                <a:lnTo>
                  <a:pt x="25" y="112"/>
                </a:lnTo>
                <a:lnTo>
                  <a:pt x="33" y="94"/>
                </a:lnTo>
                <a:lnTo>
                  <a:pt x="50" y="71"/>
                </a:lnTo>
                <a:lnTo>
                  <a:pt x="69" y="56"/>
                </a:lnTo>
                <a:lnTo>
                  <a:pt x="91" y="45"/>
                </a:lnTo>
                <a:lnTo>
                  <a:pt x="104" y="38"/>
                </a:lnTo>
                <a:lnTo>
                  <a:pt x="98" y="25"/>
                </a:lnTo>
                <a:lnTo>
                  <a:pt x="111" y="8"/>
                </a:lnTo>
                <a:lnTo>
                  <a:pt x="119" y="21"/>
                </a:lnTo>
                <a:lnTo>
                  <a:pt x="144" y="20"/>
                </a:lnTo>
                <a:lnTo>
                  <a:pt x="162" y="15"/>
                </a:lnTo>
                <a:lnTo>
                  <a:pt x="162" y="7"/>
                </a:lnTo>
                <a:lnTo>
                  <a:pt x="183" y="11"/>
                </a:lnTo>
                <a:lnTo>
                  <a:pt x="193" y="5"/>
                </a:lnTo>
                <a:lnTo>
                  <a:pt x="202" y="13"/>
                </a:lnTo>
                <a:lnTo>
                  <a:pt x="218" y="11"/>
                </a:lnTo>
                <a:lnTo>
                  <a:pt x="218" y="0"/>
                </a:lnTo>
                <a:lnTo>
                  <a:pt x="240" y="3"/>
                </a:lnTo>
                <a:lnTo>
                  <a:pt x="258" y="13"/>
                </a:lnTo>
                <a:lnTo>
                  <a:pt x="281" y="33"/>
                </a:lnTo>
                <a:lnTo>
                  <a:pt x="291" y="38"/>
                </a:lnTo>
                <a:lnTo>
                  <a:pt x="297" y="38"/>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888080" y="5027760"/>
            <a:ext cx="50760" cy="91800"/>
          </a:xfrm>
          <a:custGeom>
            <a:avLst/>
            <a:gdLst/>
            <a:ahLst/>
            <a:rect l="l" t="t" r="r" b="b"/>
            <a:pathLst>
              <a:path w="19" h="37">
                <a:moveTo>
                  <a:pt x="10" y="0"/>
                </a:moveTo>
                <a:lnTo>
                  <a:pt x="17" y="8"/>
                </a:lnTo>
                <a:lnTo>
                  <a:pt x="18" y="24"/>
                </a:lnTo>
                <a:lnTo>
                  <a:pt x="13" y="36"/>
                </a:lnTo>
                <a:lnTo>
                  <a:pt x="4" y="34"/>
                </a:lnTo>
                <a:lnTo>
                  <a:pt x="0" y="23"/>
                </a:lnTo>
                <a:lnTo>
                  <a:pt x="0" y="10"/>
                </a:lnTo>
                <a:lnTo>
                  <a:pt x="8" y="1"/>
                </a:lnTo>
                <a:lnTo>
                  <a:pt x="10" y="0"/>
                </a:lnTo>
              </a:path>
            </a:pathLst>
          </a:custGeom>
          <a:solidFill>
            <a:srgbClr val="006790"/>
          </a:solidFill>
          <a:ln cap="rnd" w="3240">
            <a:solidFill>
              <a:srgbClr val="004463"/>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88" name=""/>
          <p:cNvGrpSpPr/>
          <p:nvPr/>
        </p:nvGrpSpPr>
        <p:grpSpPr>
          <a:xfrm>
            <a:off x="5621400" y="-738360"/>
            <a:ext cx="1787040" cy="3671640"/>
            <a:chOff x="5621400" y="-738360"/>
            <a:chExt cx="1787040" cy="3671640"/>
          </a:xfrm>
        </p:grpSpPr>
        <p:sp>
          <p:nvSpPr>
            <p:cNvPr id="189" name=""/>
            <p:cNvSpPr/>
            <p:nvPr/>
          </p:nvSpPr>
          <p:spPr>
            <a:xfrm>
              <a:off x="5621400" y="-738360"/>
              <a:ext cx="1787040" cy="3671640"/>
            </a:xfrm>
            <a:custGeom>
              <a:avLst/>
              <a:gdLst/>
              <a:ahLst/>
              <a:rect l="l" t="t" r="r" b="b"/>
              <a:pathLst>
                <a:path w="640" h="1431">
                  <a:moveTo>
                    <a:pt x="639" y="331"/>
                  </a:moveTo>
                  <a:lnTo>
                    <a:pt x="639" y="317"/>
                  </a:lnTo>
                  <a:lnTo>
                    <a:pt x="636" y="299"/>
                  </a:lnTo>
                  <a:lnTo>
                    <a:pt x="629" y="278"/>
                  </a:lnTo>
                  <a:lnTo>
                    <a:pt x="629" y="264"/>
                  </a:lnTo>
                  <a:lnTo>
                    <a:pt x="634" y="248"/>
                  </a:lnTo>
                  <a:lnTo>
                    <a:pt x="632" y="225"/>
                  </a:lnTo>
                  <a:lnTo>
                    <a:pt x="623" y="210"/>
                  </a:lnTo>
                  <a:lnTo>
                    <a:pt x="613" y="192"/>
                  </a:lnTo>
                  <a:lnTo>
                    <a:pt x="618" y="175"/>
                  </a:lnTo>
                  <a:lnTo>
                    <a:pt x="609" y="165"/>
                  </a:lnTo>
                  <a:lnTo>
                    <a:pt x="611" y="150"/>
                  </a:lnTo>
                  <a:lnTo>
                    <a:pt x="611" y="129"/>
                  </a:lnTo>
                  <a:lnTo>
                    <a:pt x="598" y="103"/>
                  </a:lnTo>
                  <a:lnTo>
                    <a:pt x="588" y="106"/>
                  </a:lnTo>
                  <a:lnTo>
                    <a:pt x="573" y="93"/>
                  </a:lnTo>
                  <a:lnTo>
                    <a:pt x="560" y="79"/>
                  </a:lnTo>
                  <a:lnTo>
                    <a:pt x="550" y="60"/>
                  </a:lnTo>
                  <a:lnTo>
                    <a:pt x="532" y="53"/>
                  </a:lnTo>
                  <a:lnTo>
                    <a:pt x="518" y="38"/>
                  </a:lnTo>
                  <a:lnTo>
                    <a:pt x="512" y="27"/>
                  </a:lnTo>
                  <a:lnTo>
                    <a:pt x="502" y="12"/>
                  </a:lnTo>
                  <a:lnTo>
                    <a:pt x="500" y="0"/>
                  </a:lnTo>
                  <a:lnTo>
                    <a:pt x="490" y="0"/>
                  </a:lnTo>
                  <a:lnTo>
                    <a:pt x="485" y="8"/>
                  </a:lnTo>
                  <a:lnTo>
                    <a:pt x="490" y="38"/>
                  </a:lnTo>
                  <a:lnTo>
                    <a:pt x="479" y="75"/>
                  </a:lnTo>
                  <a:lnTo>
                    <a:pt x="467" y="84"/>
                  </a:lnTo>
                  <a:lnTo>
                    <a:pt x="451" y="68"/>
                  </a:lnTo>
                  <a:lnTo>
                    <a:pt x="426" y="70"/>
                  </a:lnTo>
                  <a:lnTo>
                    <a:pt x="409" y="65"/>
                  </a:lnTo>
                  <a:lnTo>
                    <a:pt x="398" y="88"/>
                  </a:lnTo>
                  <a:lnTo>
                    <a:pt x="398" y="98"/>
                  </a:lnTo>
                  <a:lnTo>
                    <a:pt x="383" y="121"/>
                  </a:lnTo>
                  <a:lnTo>
                    <a:pt x="368" y="108"/>
                  </a:lnTo>
                  <a:lnTo>
                    <a:pt x="350" y="109"/>
                  </a:lnTo>
                  <a:lnTo>
                    <a:pt x="337" y="136"/>
                  </a:lnTo>
                  <a:lnTo>
                    <a:pt x="312" y="170"/>
                  </a:lnTo>
                  <a:lnTo>
                    <a:pt x="315" y="185"/>
                  </a:lnTo>
                  <a:lnTo>
                    <a:pt x="310" y="202"/>
                  </a:lnTo>
                  <a:lnTo>
                    <a:pt x="299" y="223"/>
                  </a:lnTo>
                  <a:lnTo>
                    <a:pt x="294" y="241"/>
                  </a:lnTo>
                  <a:lnTo>
                    <a:pt x="274" y="259"/>
                  </a:lnTo>
                  <a:lnTo>
                    <a:pt x="274" y="276"/>
                  </a:lnTo>
                  <a:lnTo>
                    <a:pt x="264" y="291"/>
                  </a:lnTo>
                  <a:lnTo>
                    <a:pt x="234" y="296"/>
                  </a:lnTo>
                  <a:lnTo>
                    <a:pt x="238" y="317"/>
                  </a:lnTo>
                  <a:lnTo>
                    <a:pt x="231" y="337"/>
                  </a:lnTo>
                  <a:lnTo>
                    <a:pt x="221" y="364"/>
                  </a:lnTo>
                  <a:lnTo>
                    <a:pt x="218" y="406"/>
                  </a:lnTo>
                  <a:lnTo>
                    <a:pt x="201" y="430"/>
                  </a:lnTo>
                  <a:lnTo>
                    <a:pt x="193" y="459"/>
                  </a:lnTo>
                  <a:lnTo>
                    <a:pt x="191" y="481"/>
                  </a:lnTo>
                  <a:lnTo>
                    <a:pt x="200" y="491"/>
                  </a:lnTo>
                  <a:lnTo>
                    <a:pt x="203" y="506"/>
                  </a:lnTo>
                  <a:lnTo>
                    <a:pt x="193" y="522"/>
                  </a:lnTo>
                  <a:lnTo>
                    <a:pt x="175" y="524"/>
                  </a:lnTo>
                  <a:lnTo>
                    <a:pt x="149" y="519"/>
                  </a:lnTo>
                  <a:lnTo>
                    <a:pt x="107" y="563"/>
                  </a:lnTo>
                  <a:lnTo>
                    <a:pt x="96" y="585"/>
                  </a:lnTo>
                  <a:lnTo>
                    <a:pt x="92" y="608"/>
                  </a:lnTo>
                  <a:lnTo>
                    <a:pt x="92" y="628"/>
                  </a:lnTo>
                  <a:lnTo>
                    <a:pt x="96" y="644"/>
                  </a:lnTo>
                  <a:lnTo>
                    <a:pt x="89" y="662"/>
                  </a:lnTo>
                  <a:lnTo>
                    <a:pt x="92" y="689"/>
                  </a:lnTo>
                  <a:lnTo>
                    <a:pt x="92" y="719"/>
                  </a:lnTo>
                  <a:lnTo>
                    <a:pt x="87" y="729"/>
                  </a:lnTo>
                  <a:lnTo>
                    <a:pt x="87" y="753"/>
                  </a:lnTo>
                  <a:lnTo>
                    <a:pt x="107" y="776"/>
                  </a:lnTo>
                  <a:lnTo>
                    <a:pt x="107" y="793"/>
                  </a:lnTo>
                  <a:lnTo>
                    <a:pt x="82" y="824"/>
                  </a:lnTo>
                  <a:lnTo>
                    <a:pt x="81" y="859"/>
                  </a:lnTo>
                  <a:lnTo>
                    <a:pt x="92" y="877"/>
                  </a:lnTo>
                  <a:lnTo>
                    <a:pt x="76" y="932"/>
                  </a:lnTo>
                  <a:lnTo>
                    <a:pt x="48" y="950"/>
                  </a:lnTo>
                  <a:lnTo>
                    <a:pt x="48" y="970"/>
                  </a:lnTo>
                  <a:lnTo>
                    <a:pt x="36" y="991"/>
                  </a:lnTo>
                  <a:lnTo>
                    <a:pt x="26" y="1034"/>
                  </a:lnTo>
                  <a:lnTo>
                    <a:pt x="11" y="1031"/>
                  </a:lnTo>
                  <a:lnTo>
                    <a:pt x="10" y="1031"/>
                  </a:lnTo>
                  <a:lnTo>
                    <a:pt x="10" y="1032"/>
                  </a:lnTo>
                  <a:lnTo>
                    <a:pt x="8" y="1032"/>
                  </a:lnTo>
                  <a:lnTo>
                    <a:pt x="8" y="1034"/>
                  </a:lnTo>
                  <a:lnTo>
                    <a:pt x="6" y="1034"/>
                  </a:lnTo>
                  <a:lnTo>
                    <a:pt x="5" y="1034"/>
                  </a:lnTo>
                  <a:lnTo>
                    <a:pt x="5" y="1036"/>
                  </a:lnTo>
                  <a:lnTo>
                    <a:pt x="3" y="1036"/>
                  </a:lnTo>
                  <a:lnTo>
                    <a:pt x="2" y="1061"/>
                  </a:lnTo>
                  <a:lnTo>
                    <a:pt x="0" y="1089"/>
                  </a:lnTo>
                  <a:lnTo>
                    <a:pt x="0" y="1103"/>
                  </a:lnTo>
                  <a:lnTo>
                    <a:pt x="10" y="1105"/>
                  </a:lnTo>
                  <a:lnTo>
                    <a:pt x="25" y="1099"/>
                  </a:lnTo>
                  <a:lnTo>
                    <a:pt x="40" y="1105"/>
                  </a:lnTo>
                  <a:lnTo>
                    <a:pt x="31" y="1128"/>
                  </a:lnTo>
                  <a:lnTo>
                    <a:pt x="25" y="1158"/>
                  </a:lnTo>
                  <a:lnTo>
                    <a:pt x="20" y="1188"/>
                  </a:lnTo>
                  <a:lnTo>
                    <a:pt x="16" y="1203"/>
                  </a:lnTo>
                  <a:lnTo>
                    <a:pt x="25" y="1216"/>
                  </a:lnTo>
                  <a:lnTo>
                    <a:pt x="35" y="1250"/>
                  </a:lnTo>
                  <a:lnTo>
                    <a:pt x="44" y="1262"/>
                  </a:lnTo>
                  <a:lnTo>
                    <a:pt x="54" y="1275"/>
                  </a:lnTo>
                  <a:lnTo>
                    <a:pt x="63" y="1287"/>
                  </a:lnTo>
                  <a:lnTo>
                    <a:pt x="63" y="1297"/>
                  </a:lnTo>
                  <a:lnTo>
                    <a:pt x="59" y="1305"/>
                  </a:lnTo>
                  <a:lnTo>
                    <a:pt x="51" y="1303"/>
                  </a:lnTo>
                  <a:lnTo>
                    <a:pt x="58" y="1317"/>
                  </a:lnTo>
                  <a:lnTo>
                    <a:pt x="58" y="1330"/>
                  </a:lnTo>
                  <a:lnTo>
                    <a:pt x="46" y="1321"/>
                  </a:lnTo>
                  <a:lnTo>
                    <a:pt x="26" y="1320"/>
                  </a:lnTo>
                  <a:lnTo>
                    <a:pt x="49" y="1336"/>
                  </a:lnTo>
                  <a:lnTo>
                    <a:pt x="54" y="1384"/>
                  </a:lnTo>
                  <a:lnTo>
                    <a:pt x="59" y="1402"/>
                  </a:lnTo>
                  <a:lnTo>
                    <a:pt x="51" y="1421"/>
                  </a:lnTo>
                  <a:lnTo>
                    <a:pt x="73" y="1430"/>
                  </a:lnTo>
                  <a:lnTo>
                    <a:pt x="91" y="1430"/>
                  </a:lnTo>
                  <a:lnTo>
                    <a:pt x="111" y="1416"/>
                  </a:lnTo>
                  <a:lnTo>
                    <a:pt x="122" y="1424"/>
                  </a:lnTo>
                  <a:lnTo>
                    <a:pt x="140" y="1430"/>
                  </a:lnTo>
                  <a:lnTo>
                    <a:pt x="150" y="1417"/>
                  </a:lnTo>
                  <a:lnTo>
                    <a:pt x="150" y="1406"/>
                  </a:lnTo>
                  <a:lnTo>
                    <a:pt x="140" y="1378"/>
                  </a:lnTo>
                  <a:lnTo>
                    <a:pt x="152" y="1368"/>
                  </a:lnTo>
                  <a:lnTo>
                    <a:pt x="160" y="1355"/>
                  </a:lnTo>
                  <a:lnTo>
                    <a:pt x="175" y="1358"/>
                  </a:lnTo>
                  <a:lnTo>
                    <a:pt x="175" y="1348"/>
                  </a:lnTo>
                  <a:lnTo>
                    <a:pt x="195" y="1346"/>
                  </a:lnTo>
                  <a:lnTo>
                    <a:pt x="208" y="1350"/>
                  </a:lnTo>
                  <a:lnTo>
                    <a:pt x="233" y="1359"/>
                  </a:lnTo>
                  <a:lnTo>
                    <a:pt x="243" y="1351"/>
                  </a:lnTo>
                  <a:lnTo>
                    <a:pt x="251" y="1338"/>
                  </a:lnTo>
                  <a:lnTo>
                    <a:pt x="253" y="1321"/>
                  </a:lnTo>
                  <a:lnTo>
                    <a:pt x="266" y="1300"/>
                  </a:lnTo>
                  <a:lnTo>
                    <a:pt x="276" y="1274"/>
                  </a:lnTo>
                  <a:lnTo>
                    <a:pt x="276" y="1241"/>
                  </a:lnTo>
                  <a:lnTo>
                    <a:pt x="286" y="1232"/>
                  </a:lnTo>
                  <a:lnTo>
                    <a:pt x="296" y="1208"/>
                  </a:lnTo>
                  <a:lnTo>
                    <a:pt x="291" y="1188"/>
                  </a:lnTo>
                  <a:lnTo>
                    <a:pt x="296" y="1174"/>
                  </a:lnTo>
                  <a:lnTo>
                    <a:pt x="286" y="1165"/>
                  </a:lnTo>
                  <a:lnTo>
                    <a:pt x="297" y="1163"/>
                  </a:lnTo>
                  <a:lnTo>
                    <a:pt x="307" y="1146"/>
                  </a:lnTo>
                  <a:lnTo>
                    <a:pt x="307" y="1140"/>
                  </a:lnTo>
                  <a:lnTo>
                    <a:pt x="305" y="1122"/>
                  </a:lnTo>
                  <a:lnTo>
                    <a:pt x="292" y="1115"/>
                  </a:lnTo>
                  <a:lnTo>
                    <a:pt x="307" y="1113"/>
                  </a:lnTo>
                  <a:lnTo>
                    <a:pt x="309" y="1099"/>
                  </a:lnTo>
                  <a:lnTo>
                    <a:pt x="282" y="1099"/>
                  </a:lnTo>
                  <a:lnTo>
                    <a:pt x="307" y="1090"/>
                  </a:lnTo>
                  <a:lnTo>
                    <a:pt x="315" y="1080"/>
                  </a:lnTo>
                  <a:lnTo>
                    <a:pt x="330" y="1082"/>
                  </a:lnTo>
                  <a:lnTo>
                    <a:pt x="335" y="1074"/>
                  </a:lnTo>
                  <a:lnTo>
                    <a:pt x="338" y="1061"/>
                  </a:lnTo>
                  <a:lnTo>
                    <a:pt x="343" y="1047"/>
                  </a:lnTo>
                  <a:lnTo>
                    <a:pt x="355" y="1047"/>
                  </a:lnTo>
                  <a:lnTo>
                    <a:pt x="353" y="1069"/>
                  </a:lnTo>
                  <a:lnTo>
                    <a:pt x="358" y="1075"/>
                  </a:lnTo>
                  <a:lnTo>
                    <a:pt x="370" y="1070"/>
                  </a:lnTo>
                  <a:lnTo>
                    <a:pt x="378" y="1056"/>
                  </a:lnTo>
                  <a:lnTo>
                    <a:pt x="386" y="1044"/>
                  </a:lnTo>
                  <a:lnTo>
                    <a:pt x="383" y="1032"/>
                  </a:lnTo>
                  <a:lnTo>
                    <a:pt x="391" y="1031"/>
                  </a:lnTo>
                  <a:lnTo>
                    <a:pt x="411" y="1027"/>
                  </a:lnTo>
                  <a:lnTo>
                    <a:pt x="405" y="1019"/>
                  </a:lnTo>
                  <a:lnTo>
                    <a:pt x="388" y="1018"/>
                  </a:lnTo>
                  <a:lnTo>
                    <a:pt x="368" y="1023"/>
                  </a:lnTo>
                  <a:lnTo>
                    <a:pt x="347" y="1027"/>
                  </a:lnTo>
                  <a:lnTo>
                    <a:pt x="319" y="1027"/>
                  </a:lnTo>
                  <a:lnTo>
                    <a:pt x="334" y="1018"/>
                  </a:lnTo>
                  <a:lnTo>
                    <a:pt x="310" y="1024"/>
                  </a:lnTo>
                  <a:lnTo>
                    <a:pt x="289" y="1008"/>
                  </a:lnTo>
                  <a:lnTo>
                    <a:pt x="267" y="1003"/>
                  </a:lnTo>
                  <a:lnTo>
                    <a:pt x="305" y="1001"/>
                  </a:lnTo>
                  <a:lnTo>
                    <a:pt x="330" y="1001"/>
                  </a:lnTo>
                  <a:lnTo>
                    <a:pt x="343" y="998"/>
                  </a:lnTo>
                  <a:lnTo>
                    <a:pt x="342" y="983"/>
                  </a:lnTo>
                  <a:lnTo>
                    <a:pt x="353" y="993"/>
                  </a:lnTo>
                  <a:lnTo>
                    <a:pt x="360" y="1006"/>
                  </a:lnTo>
                  <a:lnTo>
                    <a:pt x="376" y="1013"/>
                  </a:lnTo>
                  <a:lnTo>
                    <a:pt x="400" y="1008"/>
                  </a:lnTo>
                  <a:lnTo>
                    <a:pt x="414" y="994"/>
                  </a:lnTo>
                  <a:lnTo>
                    <a:pt x="418" y="983"/>
                  </a:lnTo>
                  <a:lnTo>
                    <a:pt x="401" y="980"/>
                  </a:lnTo>
                  <a:lnTo>
                    <a:pt x="421" y="970"/>
                  </a:lnTo>
                  <a:lnTo>
                    <a:pt x="421" y="955"/>
                  </a:lnTo>
                  <a:lnTo>
                    <a:pt x="403" y="952"/>
                  </a:lnTo>
                  <a:lnTo>
                    <a:pt x="396" y="940"/>
                  </a:lnTo>
                  <a:lnTo>
                    <a:pt x="418" y="940"/>
                  </a:lnTo>
                  <a:lnTo>
                    <a:pt x="413" y="933"/>
                  </a:lnTo>
                  <a:lnTo>
                    <a:pt x="398" y="927"/>
                  </a:lnTo>
                  <a:lnTo>
                    <a:pt x="388" y="909"/>
                  </a:lnTo>
                  <a:lnTo>
                    <a:pt x="376" y="907"/>
                  </a:lnTo>
                  <a:lnTo>
                    <a:pt x="373" y="917"/>
                  </a:lnTo>
                  <a:lnTo>
                    <a:pt x="363" y="895"/>
                  </a:lnTo>
                  <a:lnTo>
                    <a:pt x="353" y="892"/>
                  </a:lnTo>
                  <a:lnTo>
                    <a:pt x="343" y="905"/>
                  </a:lnTo>
                  <a:lnTo>
                    <a:pt x="343" y="915"/>
                  </a:lnTo>
                  <a:lnTo>
                    <a:pt x="332" y="925"/>
                  </a:lnTo>
                  <a:lnTo>
                    <a:pt x="317" y="933"/>
                  </a:lnTo>
                  <a:lnTo>
                    <a:pt x="312" y="943"/>
                  </a:lnTo>
                  <a:lnTo>
                    <a:pt x="299" y="940"/>
                  </a:lnTo>
                  <a:lnTo>
                    <a:pt x="309" y="928"/>
                  </a:lnTo>
                  <a:lnTo>
                    <a:pt x="325" y="915"/>
                  </a:lnTo>
                  <a:lnTo>
                    <a:pt x="340" y="902"/>
                  </a:lnTo>
                  <a:lnTo>
                    <a:pt x="343" y="892"/>
                  </a:lnTo>
                  <a:lnTo>
                    <a:pt x="334" y="857"/>
                  </a:lnTo>
                  <a:lnTo>
                    <a:pt x="329" y="838"/>
                  </a:lnTo>
                  <a:lnTo>
                    <a:pt x="330" y="824"/>
                  </a:lnTo>
                  <a:lnTo>
                    <a:pt x="330" y="806"/>
                  </a:lnTo>
                  <a:lnTo>
                    <a:pt x="337" y="790"/>
                  </a:lnTo>
                  <a:lnTo>
                    <a:pt x="329" y="773"/>
                  </a:lnTo>
                  <a:lnTo>
                    <a:pt x="345" y="775"/>
                  </a:lnTo>
                  <a:lnTo>
                    <a:pt x="348" y="760"/>
                  </a:lnTo>
                  <a:lnTo>
                    <a:pt x="348" y="745"/>
                  </a:lnTo>
                  <a:lnTo>
                    <a:pt x="355" y="733"/>
                  </a:lnTo>
                  <a:lnTo>
                    <a:pt x="360" y="724"/>
                  </a:lnTo>
                  <a:lnTo>
                    <a:pt x="340" y="714"/>
                  </a:lnTo>
                  <a:lnTo>
                    <a:pt x="337" y="700"/>
                  </a:lnTo>
                  <a:lnTo>
                    <a:pt x="343" y="696"/>
                  </a:lnTo>
                  <a:lnTo>
                    <a:pt x="358" y="704"/>
                  </a:lnTo>
                  <a:lnTo>
                    <a:pt x="368" y="694"/>
                  </a:lnTo>
                  <a:lnTo>
                    <a:pt x="368" y="681"/>
                  </a:lnTo>
                  <a:lnTo>
                    <a:pt x="378" y="672"/>
                  </a:lnTo>
                  <a:lnTo>
                    <a:pt x="368" y="649"/>
                  </a:lnTo>
                  <a:lnTo>
                    <a:pt x="376" y="644"/>
                  </a:lnTo>
                  <a:lnTo>
                    <a:pt x="390" y="656"/>
                  </a:lnTo>
                  <a:lnTo>
                    <a:pt x="411" y="649"/>
                  </a:lnTo>
                  <a:lnTo>
                    <a:pt x="401" y="629"/>
                  </a:lnTo>
                  <a:lnTo>
                    <a:pt x="416" y="638"/>
                  </a:lnTo>
                  <a:lnTo>
                    <a:pt x="428" y="620"/>
                  </a:lnTo>
                  <a:lnTo>
                    <a:pt x="436" y="601"/>
                  </a:lnTo>
                  <a:lnTo>
                    <a:pt x="439" y="582"/>
                  </a:lnTo>
                  <a:lnTo>
                    <a:pt x="456" y="593"/>
                  </a:lnTo>
                  <a:lnTo>
                    <a:pt x="477" y="578"/>
                  </a:lnTo>
                  <a:lnTo>
                    <a:pt x="489" y="565"/>
                  </a:lnTo>
                  <a:lnTo>
                    <a:pt x="489" y="552"/>
                  </a:lnTo>
                  <a:lnTo>
                    <a:pt x="504" y="565"/>
                  </a:lnTo>
                  <a:lnTo>
                    <a:pt x="510" y="542"/>
                  </a:lnTo>
                  <a:lnTo>
                    <a:pt x="514" y="520"/>
                  </a:lnTo>
                  <a:lnTo>
                    <a:pt x="548" y="494"/>
                  </a:lnTo>
                  <a:lnTo>
                    <a:pt x="533" y="487"/>
                  </a:lnTo>
                  <a:lnTo>
                    <a:pt x="514" y="469"/>
                  </a:lnTo>
                  <a:lnTo>
                    <a:pt x="523" y="466"/>
                  </a:lnTo>
                  <a:lnTo>
                    <a:pt x="523" y="449"/>
                  </a:lnTo>
                  <a:lnTo>
                    <a:pt x="533" y="425"/>
                  </a:lnTo>
                  <a:lnTo>
                    <a:pt x="543" y="413"/>
                  </a:lnTo>
                  <a:lnTo>
                    <a:pt x="540" y="395"/>
                  </a:lnTo>
                  <a:lnTo>
                    <a:pt x="528" y="390"/>
                  </a:lnTo>
                  <a:lnTo>
                    <a:pt x="535" y="380"/>
                  </a:lnTo>
                  <a:lnTo>
                    <a:pt x="548" y="375"/>
                  </a:lnTo>
                  <a:lnTo>
                    <a:pt x="560" y="377"/>
                  </a:lnTo>
                  <a:lnTo>
                    <a:pt x="553" y="362"/>
                  </a:lnTo>
                  <a:lnTo>
                    <a:pt x="533" y="337"/>
                  </a:lnTo>
                  <a:lnTo>
                    <a:pt x="558" y="347"/>
                  </a:lnTo>
                  <a:lnTo>
                    <a:pt x="571" y="344"/>
                  </a:lnTo>
                  <a:lnTo>
                    <a:pt x="560" y="332"/>
                  </a:lnTo>
                  <a:lnTo>
                    <a:pt x="563" y="322"/>
                  </a:lnTo>
                  <a:lnTo>
                    <a:pt x="580" y="332"/>
                  </a:lnTo>
                  <a:lnTo>
                    <a:pt x="586" y="319"/>
                  </a:lnTo>
                  <a:lnTo>
                    <a:pt x="599" y="337"/>
                  </a:lnTo>
                  <a:lnTo>
                    <a:pt x="624" y="329"/>
                  </a:lnTo>
                  <a:lnTo>
                    <a:pt x="639" y="331"/>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6512040" y="1842840"/>
              <a:ext cx="47160" cy="43560"/>
            </a:xfrm>
            <a:custGeom>
              <a:avLst/>
              <a:gdLst/>
              <a:ahLst/>
              <a:rect l="l" t="t" r="r" b="b"/>
              <a:pathLst>
                <a:path w="17" h="17">
                  <a:moveTo>
                    <a:pt x="6" y="0"/>
                  </a:moveTo>
                  <a:lnTo>
                    <a:pt x="0" y="8"/>
                  </a:lnTo>
                  <a:lnTo>
                    <a:pt x="6" y="12"/>
                  </a:lnTo>
                  <a:lnTo>
                    <a:pt x="16" y="16"/>
                  </a:lnTo>
                  <a:lnTo>
                    <a:pt x="16" y="8"/>
                  </a:lnTo>
                  <a:lnTo>
                    <a:pt x="15" y="8"/>
                  </a:lnTo>
                  <a:lnTo>
                    <a:pt x="15" y="4"/>
                  </a:lnTo>
                  <a:lnTo>
                    <a:pt x="13" y="4"/>
                  </a:lnTo>
                  <a:lnTo>
                    <a:pt x="11" y="4"/>
                  </a:lnTo>
                  <a:lnTo>
                    <a:pt x="11" y="3"/>
                  </a:lnTo>
                  <a:lnTo>
                    <a:pt x="10" y="3"/>
                  </a:lnTo>
                  <a:lnTo>
                    <a:pt x="8" y="3"/>
                  </a:lnTo>
                  <a:lnTo>
                    <a:pt x="8" y="0"/>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1" name=""/>
            <p:cNvSpPr/>
            <p:nvPr/>
          </p:nvSpPr>
          <p:spPr>
            <a:xfrm>
              <a:off x="6751800" y="1906920"/>
              <a:ext cx="47160" cy="43560"/>
            </a:xfrm>
            <a:custGeom>
              <a:avLst/>
              <a:gdLst/>
              <a:ahLst/>
              <a:rect l="l" t="t" r="r" b="b"/>
              <a:pathLst>
                <a:path w="17" h="17">
                  <a:moveTo>
                    <a:pt x="11" y="0"/>
                  </a:moveTo>
                  <a:lnTo>
                    <a:pt x="0" y="5"/>
                  </a:lnTo>
                  <a:lnTo>
                    <a:pt x="0" y="13"/>
                  </a:lnTo>
                  <a:lnTo>
                    <a:pt x="11" y="16"/>
                  </a:lnTo>
                  <a:lnTo>
                    <a:pt x="16" y="6"/>
                  </a:lnTo>
                  <a:lnTo>
                    <a:pt x="11"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2" name=""/>
            <p:cNvSpPr/>
            <p:nvPr/>
          </p:nvSpPr>
          <p:spPr>
            <a:xfrm>
              <a:off x="6710040" y="1965960"/>
              <a:ext cx="47160" cy="43560"/>
            </a:xfrm>
            <a:custGeom>
              <a:avLst/>
              <a:gdLst/>
              <a:ahLst/>
              <a:rect l="l" t="t" r="r" b="b"/>
              <a:pathLst>
                <a:path w="17" h="17">
                  <a:moveTo>
                    <a:pt x="12" y="0"/>
                  </a:moveTo>
                  <a:lnTo>
                    <a:pt x="0" y="2"/>
                  </a:lnTo>
                  <a:lnTo>
                    <a:pt x="0" y="13"/>
                  </a:lnTo>
                  <a:lnTo>
                    <a:pt x="16" y="16"/>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3" name=""/>
            <p:cNvSpPr/>
            <p:nvPr/>
          </p:nvSpPr>
          <p:spPr>
            <a:xfrm>
              <a:off x="6816600" y="2240640"/>
              <a:ext cx="47160" cy="43560"/>
            </a:xfrm>
            <a:custGeom>
              <a:avLst/>
              <a:gdLst/>
              <a:ahLst/>
              <a:rect l="l" t="t" r="r" b="b"/>
              <a:pathLst>
                <a:path w="17" h="17">
                  <a:moveTo>
                    <a:pt x="13" y="0"/>
                  </a:moveTo>
                  <a:lnTo>
                    <a:pt x="0" y="2"/>
                  </a:lnTo>
                  <a:lnTo>
                    <a:pt x="1" y="16"/>
                  </a:lnTo>
                  <a:lnTo>
                    <a:pt x="16" y="5"/>
                  </a:lnTo>
                  <a:lnTo>
                    <a:pt x="13"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4" name=""/>
            <p:cNvSpPr/>
            <p:nvPr/>
          </p:nvSpPr>
          <p:spPr>
            <a:xfrm>
              <a:off x="6646320" y="2263320"/>
              <a:ext cx="162000" cy="277560"/>
            </a:xfrm>
            <a:custGeom>
              <a:avLst/>
              <a:gdLst/>
              <a:ahLst/>
              <a:rect l="l" t="t" r="r" b="b"/>
              <a:pathLst>
                <a:path w="58" h="108">
                  <a:moveTo>
                    <a:pt x="54" y="0"/>
                  </a:moveTo>
                  <a:lnTo>
                    <a:pt x="57" y="6"/>
                  </a:lnTo>
                  <a:lnTo>
                    <a:pt x="52" y="21"/>
                  </a:lnTo>
                  <a:lnTo>
                    <a:pt x="47" y="24"/>
                  </a:lnTo>
                  <a:lnTo>
                    <a:pt x="46" y="49"/>
                  </a:lnTo>
                  <a:lnTo>
                    <a:pt x="52" y="52"/>
                  </a:lnTo>
                  <a:lnTo>
                    <a:pt x="52" y="64"/>
                  </a:lnTo>
                  <a:lnTo>
                    <a:pt x="38" y="66"/>
                  </a:lnTo>
                  <a:lnTo>
                    <a:pt x="33" y="79"/>
                  </a:lnTo>
                  <a:lnTo>
                    <a:pt x="23" y="80"/>
                  </a:lnTo>
                  <a:lnTo>
                    <a:pt x="16" y="102"/>
                  </a:lnTo>
                  <a:lnTo>
                    <a:pt x="3" y="107"/>
                  </a:lnTo>
                  <a:lnTo>
                    <a:pt x="9" y="84"/>
                  </a:lnTo>
                  <a:lnTo>
                    <a:pt x="0" y="66"/>
                  </a:lnTo>
                  <a:lnTo>
                    <a:pt x="6" y="61"/>
                  </a:lnTo>
                  <a:lnTo>
                    <a:pt x="6" y="51"/>
                  </a:lnTo>
                  <a:lnTo>
                    <a:pt x="0" y="47"/>
                  </a:lnTo>
                  <a:lnTo>
                    <a:pt x="1" y="34"/>
                  </a:lnTo>
                  <a:lnTo>
                    <a:pt x="18" y="14"/>
                  </a:lnTo>
                  <a:lnTo>
                    <a:pt x="36" y="4"/>
                  </a:lnTo>
                  <a:lnTo>
                    <a:pt x="41" y="8"/>
                  </a:lnTo>
                  <a:lnTo>
                    <a:pt x="54"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363720" y="2407320"/>
              <a:ext cx="151200" cy="310680"/>
            </a:xfrm>
            <a:custGeom>
              <a:avLst/>
              <a:gdLst/>
              <a:ahLst/>
              <a:rect l="l" t="t" r="r" b="b"/>
              <a:pathLst>
                <a:path w="54" h="121">
                  <a:moveTo>
                    <a:pt x="49" y="0"/>
                  </a:moveTo>
                  <a:lnTo>
                    <a:pt x="39" y="10"/>
                  </a:lnTo>
                  <a:lnTo>
                    <a:pt x="34" y="29"/>
                  </a:lnTo>
                  <a:lnTo>
                    <a:pt x="25" y="48"/>
                  </a:lnTo>
                  <a:lnTo>
                    <a:pt x="15" y="56"/>
                  </a:lnTo>
                  <a:lnTo>
                    <a:pt x="11" y="72"/>
                  </a:lnTo>
                  <a:lnTo>
                    <a:pt x="0" y="92"/>
                  </a:lnTo>
                  <a:lnTo>
                    <a:pt x="3" y="110"/>
                  </a:lnTo>
                  <a:lnTo>
                    <a:pt x="1" y="120"/>
                  </a:lnTo>
                  <a:lnTo>
                    <a:pt x="5" y="120"/>
                  </a:lnTo>
                  <a:lnTo>
                    <a:pt x="13" y="102"/>
                  </a:lnTo>
                  <a:lnTo>
                    <a:pt x="13" y="91"/>
                  </a:lnTo>
                  <a:lnTo>
                    <a:pt x="23" y="84"/>
                  </a:lnTo>
                  <a:lnTo>
                    <a:pt x="25" y="64"/>
                  </a:lnTo>
                  <a:lnTo>
                    <a:pt x="34" y="53"/>
                  </a:lnTo>
                  <a:lnTo>
                    <a:pt x="41" y="36"/>
                  </a:lnTo>
                  <a:lnTo>
                    <a:pt x="44" y="26"/>
                  </a:lnTo>
                  <a:lnTo>
                    <a:pt x="48" y="11"/>
                  </a:lnTo>
                  <a:lnTo>
                    <a:pt x="53" y="3"/>
                  </a:lnTo>
                  <a:lnTo>
                    <a:pt x="49"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7253280" y="1779480"/>
            <a:ext cx="947520" cy="556920"/>
            <a:chOff x="7253280" y="1779480"/>
            <a:chExt cx="947520" cy="556920"/>
          </a:xfrm>
        </p:grpSpPr>
        <p:sp>
          <p:nvSpPr>
            <p:cNvPr id="197" name=""/>
            <p:cNvSpPr/>
            <p:nvPr/>
          </p:nvSpPr>
          <p:spPr>
            <a:xfrm>
              <a:off x="7483320" y="1779480"/>
              <a:ext cx="717480" cy="556920"/>
            </a:xfrm>
            <a:custGeom>
              <a:avLst/>
              <a:gdLst/>
              <a:ahLst/>
              <a:rect l="l" t="t" r="r" b="b"/>
              <a:pathLst>
                <a:path w="256" h="216">
                  <a:moveTo>
                    <a:pt x="245" y="0"/>
                  </a:moveTo>
                  <a:lnTo>
                    <a:pt x="255" y="8"/>
                  </a:lnTo>
                  <a:lnTo>
                    <a:pt x="255" y="18"/>
                  </a:lnTo>
                  <a:lnTo>
                    <a:pt x="246" y="27"/>
                  </a:lnTo>
                  <a:lnTo>
                    <a:pt x="230" y="27"/>
                  </a:lnTo>
                  <a:lnTo>
                    <a:pt x="230" y="42"/>
                  </a:lnTo>
                  <a:lnTo>
                    <a:pt x="233" y="56"/>
                  </a:lnTo>
                  <a:lnTo>
                    <a:pt x="226" y="61"/>
                  </a:lnTo>
                  <a:lnTo>
                    <a:pt x="218" y="71"/>
                  </a:lnTo>
                  <a:lnTo>
                    <a:pt x="223" y="86"/>
                  </a:lnTo>
                  <a:lnTo>
                    <a:pt x="230" y="104"/>
                  </a:lnTo>
                  <a:lnTo>
                    <a:pt x="228" y="129"/>
                  </a:lnTo>
                  <a:lnTo>
                    <a:pt x="230" y="152"/>
                  </a:lnTo>
                  <a:lnTo>
                    <a:pt x="240" y="175"/>
                  </a:lnTo>
                  <a:lnTo>
                    <a:pt x="218" y="193"/>
                  </a:lnTo>
                  <a:lnTo>
                    <a:pt x="215" y="207"/>
                  </a:lnTo>
                  <a:lnTo>
                    <a:pt x="190" y="213"/>
                  </a:lnTo>
                  <a:lnTo>
                    <a:pt x="170" y="215"/>
                  </a:lnTo>
                  <a:lnTo>
                    <a:pt x="160" y="202"/>
                  </a:lnTo>
                  <a:lnTo>
                    <a:pt x="145" y="203"/>
                  </a:lnTo>
                  <a:lnTo>
                    <a:pt x="124" y="169"/>
                  </a:lnTo>
                  <a:lnTo>
                    <a:pt x="109" y="165"/>
                  </a:lnTo>
                  <a:lnTo>
                    <a:pt x="96" y="172"/>
                  </a:lnTo>
                  <a:lnTo>
                    <a:pt x="78" y="184"/>
                  </a:lnTo>
                  <a:lnTo>
                    <a:pt x="61" y="184"/>
                  </a:lnTo>
                  <a:lnTo>
                    <a:pt x="65" y="172"/>
                  </a:lnTo>
                  <a:lnTo>
                    <a:pt x="68" y="159"/>
                  </a:lnTo>
                  <a:lnTo>
                    <a:pt x="70" y="139"/>
                  </a:lnTo>
                  <a:lnTo>
                    <a:pt x="61" y="134"/>
                  </a:lnTo>
                  <a:lnTo>
                    <a:pt x="53" y="137"/>
                  </a:lnTo>
                  <a:lnTo>
                    <a:pt x="48" y="147"/>
                  </a:lnTo>
                  <a:lnTo>
                    <a:pt x="28" y="139"/>
                  </a:lnTo>
                  <a:lnTo>
                    <a:pt x="17" y="132"/>
                  </a:lnTo>
                  <a:lnTo>
                    <a:pt x="2" y="118"/>
                  </a:lnTo>
                  <a:lnTo>
                    <a:pt x="2" y="101"/>
                  </a:lnTo>
                  <a:lnTo>
                    <a:pt x="23" y="93"/>
                  </a:lnTo>
                  <a:lnTo>
                    <a:pt x="2" y="86"/>
                  </a:lnTo>
                  <a:lnTo>
                    <a:pt x="0" y="71"/>
                  </a:lnTo>
                  <a:lnTo>
                    <a:pt x="2" y="46"/>
                  </a:lnTo>
                  <a:lnTo>
                    <a:pt x="32" y="38"/>
                  </a:lnTo>
                  <a:lnTo>
                    <a:pt x="53" y="23"/>
                  </a:lnTo>
                  <a:lnTo>
                    <a:pt x="70" y="27"/>
                  </a:lnTo>
                  <a:lnTo>
                    <a:pt x="74" y="13"/>
                  </a:lnTo>
                  <a:lnTo>
                    <a:pt x="99" y="12"/>
                  </a:lnTo>
                  <a:lnTo>
                    <a:pt x="119" y="2"/>
                  </a:lnTo>
                  <a:lnTo>
                    <a:pt x="137" y="2"/>
                  </a:lnTo>
                  <a:lnTo>
                    <a:pt x="159" y="7"/>
                  </a:lnTo>
                  <a:lnTo>
                    <a:pt x="185" y="7"/>
                  </a:lnTo>
                  <a:lnTo>
                    <a:pt x="202" y="13"/>
                  </a:lnTo>
                  <a:lnTo>
                    <a:pt x="210" y="7"/>
                  </a:lnTo>
                  <a:lnTo>
                    <a:pt x="231" y="12"/>
                  </a:lnTo>
                  <a:lnTo>
                    <a:pt x="24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7292520" y="1941840"/>
              <a:ext cx="114840" cy="113400"/>
            </a:xfrm>
            <a:custGeom>
              <a:avLst/>
              <a:gdLst/>
              <a:ahLst/>
              <a:rect l="l" t="t" r="r" b="b"/>
              <a:pathLst>
                <a:path w="41" h="44">
                  <a:moveTo>
                    <a:pt x="19" y="0"/>
                  </a:moveTo>
                  <a:lnTo>
                    <a:pt x="7" y="15"/>
                  </a:lnTo>
                  <a:lnTo>
                    <a:pt x="9" y="21"/>
                  </a:lnTo>
                  <a:lnTo>
                    <a:pt x="0" y="23"/>
                  </a:lnTo>
                  <a:lnTo>
                    <a:pt x="2" y="31"/>
                  </a:lnTo>
                  <a:lnTo>
                    <a:pt x="15" y="33"/>
                  </a:lnTo>
                  <a:lnTo>
                    <a:pt x="17" y="43"/>
                  </a:lnTo>
                  <a:lnTo>
                    <a:pt x="40" y="26"/>
                  </a:lnTo>
                  <a:lnTo>
                    <a:pt x="37" y="12"/>
                  </a:lnTo>
                  <a:lnTo>
                    <a:pt x="1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410240" y="1967760"/>
              <a:ext cx="67320" cy="43560"/>
            </a:xfrm>
            <a:custGeom>
              <a:avLst/>
              <a:gdLst/>
              <a:ahLst/>
              <a:rect l="l" t="t" r="r" b="b"/>
              <a:pathLst>
                <a:path w="24" h="17">
                  <a:moveTo>
                    <a:pt x="8" y="0"/>
                  </a:moveTo>
                  <a:lnTo>
                    <a:pt x="0" y="3"/>
                  </a:lnTo>
                  <a:lnTo>
                    <a:pt x="8" y="16"/>
                  </a:lnTo>
                  <a:lnTo>
                    <a:pt x="23" y="7"/>
                  </a:lnTo>
                  <a:lnTo>
                    <a:pt x="21" y="3"/>
                  </a:lnTo>
                  <a:lnTo>
                    <a:pt x="11" y="3"/>
                  </a:lnTo>
                  <a:lnTo>
                    <a:pt x="8" y="0"/>
                  </a:lnTo>
                </a:path>
              </a:pathLst>
            </a:custGeom>
            <a:no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00" name=""/>
            <p:cNvSpPr/>
            <p:nvPr/>
          </p:nvSpPr>
          <p:spPr>
            <a:xfrm>
              <a:off x="7446240" y="2052720"/>
              <a:ext cx="47520" cy="43560"/>
            </a:xfrm>
            <a:custGeom>
              <a:avLst/>
              <a:gdLst/>
              <a:ahLst/>
              <a:rect l="l" t="t" r="r" b="b"/>
              <a:pathLst>
                <a:path w="17" h="17">
                  <a:moveTo>
                    <a:pt x="7" y="0"/>
                  </a:moveTo>
                  <a:lnTo>
                    <a:pt x="0" y="6"/>
                  </a:lnTo>
                  <a:lnTo>
                    <a:pt x="7" y="10"/>
                  </a:lnTo>
                  <a:lnTo>
                    <a:pt x="16" y="16"/>
                  </a:lnTo>
                  <a:lnTo>
                    <a:pt x="16" y="4"/>
                  </a:lnTo>
                  <a:lnTo>
                    <a:pt x="7" y="0"/>
                  </a:lnTo>
                </a:path>
              </a:pathLst>
            </a:custGeom>
            <a:no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01" name=""/>
            <p:cNvSpPr/>
            <p:nvPr/>
          </p:nvSpPr>
          <p:spPr>
            <a:xfrm>
              <a:off x="7253280" y="2070720"/>
              <a:ext cx="226800" cy="193680"/>
            </a:xfrm>
            <a:custGeom>
              <a:avLst/>
              <a:gdLst/>
              <a:ahLst/>
              <a:rect l="l" t="t" r="r" b="b"/>
              <a:pathLst>
                <a:path w="81" h="75">
                  <a:moveTo>
                    <a:pt x="52" y="0"/>
                  </a:moveTo>
                  <a:lnTo>
                    <a:pt x="67" y="6"/>
                  </a:lnTo>
                  <a:lnTo>
                    <a:pt x="79" y="11"/>
                  </a:lnTo>
                  <a:lnTo>
                    <a:pt x="80" y="16"/>
                  </a:lnTo>
                  <a:lnTo>
                    <a:pt x="67" y="16"/>
                  </a:lnTo>
                  <a:lnTo>
                    <a:pt x="62" y="26"/>
                  </a:lnTo>
                  <a:lnTo>
                    <a:pt x="54" y="31"/>
                  </a:lnTo>
                  <a:lnTo>
                    <a:pt x="46" y="42"/>
                  </a:lnTo>
                  <a:lnTo>
                    <a:pt x="31" y="49"/>
                  </a:lnTo>
                  <a:lnTo>
                    <a:pt x="23" y="62"/>
                  </a:lnTo>
                  <a:lnTo>
                    <a:pt x="14" y="74"/>
                  </a:lnTo>
                  <a:lnTo>
                    <a:pt x="5" y="72"/>
                  </a:lnTo>
                  <a:lnTo>
                    <a:pt x="14" y="56"/>
                  </a:lnTo>
                  <a:lnTo>
                    <a:pt x="18" y="47"/>
                  </a:lnTo>
                  <a:lnTo>
                    <a:pt x="5" y="47"/>
                  </a:lnTo>
                  <a:lnTo>
                    <a:pt x="1" y="39"/>
                  </a:lnTo>
                  <a:lnTo>
                    <a:pt x="5" y="34"/>
                  </a:lnTo>
                  <a:lnTo>
                    <a:pt x="0" y="23"/>
                  </a:lnTo>
                  <a:lnTo>
                    <a:pt x="5" y="14"/>
                  </a:lnTo>
                  <a:lnTo>
                    <a:pt x="13" y="21"/>
                  </a:lnTo>
                  <a:lnTo>
                    <a:pt x="24" y="1"/>
                  </a:lnTo>
                  <a:lnTo>
                    <a:pt x="36" y="0"/>
                  </a:lnTo>
                  <a:lnTo>
                    <a:pt x="43" y="3"/>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7561440" y="2189520"/>
              <a:ext cx="47520" cy="43560"/>
            </a:xfrm>
            <a:custGeom>
              <a:avLst/>
              <a:gdLst/>
              <a:ahLst/>
              <a:rect l="l" t="t" r="r" b="b"/>
              <a:pathLst>
                <a:path w="17" h="17">
                  <a:moveTo>
                    <a:pt x="0" y="0"/>
                  </a:moveTo>
                  <a:lnTo>
                    <a:pt x="0" y="16"/>
                  </a:lnTo>
                  <a:lnTo>
                    <a:pt x="11" y="16"/>
                  </a:lnTo>
                  <a:lnTo>
                    <a:pt x="16" y="2"/>
                  </a:lnTo>
                  <a:lnTo>
                    <a:pt x="0" y="0"/>
                  </a:lnTo>
                </a:path>
              </a:pathLst>
            </a:custGeom>
            <a:no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sp>
        <p:nvSpPr>
          <p:cNvPr id="203" name=""/>
          <p:cNvSpPr/>
          <p:nvPr/>
        </p:nvSpPr>
        <p:spPr>
          <a:xfrm>
            <a:off x="7122960" y="2201760"/>
            <a:ext cx="1177920" cy="611280"/>
          </a:xfrm>
          <a:custGeom>
            <a:avLst/>
            <a:gdLst/>
            <a:ahLst/>
            <a:rect l="l" t="t" r="r" b="b"/>
            <a:pathLst>
              <a:path w="422" h="238">
                <a:moveTo>
                  <a:pt x="346" y="38"/>
                </a:moveTo>
                <a:lnTo>
                  <a:pt x="364" y="52"/>
                </a:lnTo>
                <a:lnTo>
                  <a:pt x="382" y="66"/>
                </a:lnTo>
                <a:lnTo>
                  <a:pt x="384" y="116"/>
                </a:lnTo>
                <a:lnTo>
                  <a:pt x="410" y="136"/>
                </a:lnTo>
                <a:lnTo>
                  <a:pt x="421" y="167"/>
                </a:lnTo>
                <a:lnTo>
                  <a:pt x="421" y="189"/>
                </a:lnTo>
                <a:lnTo>
                  <a:pt x="405" y="199"/>
                </a:lnTo>
                <a:lnTo>
                  <a:pt x="395" y="222"/>
                </a:lnTo>
                <a:lnTo>
                  <a:pt x="367" y="215"/>
                </a:lnTo>
                <a:lnTo>
                  <a:pt x="352" y="228"/>
                </a:lnTo>
                <a:lnTo>
                  <a:pt x="326" y="237"/>
                </a:lnTo>
                <a:lnTo>
                  <a:pt x="270" y="202"/>
                </a:lnTo>
                <a:lnTo>
                  <a:pt x="227" y="172"/>
                </a:lnTo>
                <a:lnTo>
                  <a:pt x="195" y="185"/>
                </a:lnTo>
                <a:lnTo>
                  <a:pt x="129" y="180"/>
                </a:lnTo>
                <a:lnTo>
                  <a:pt x="83" y="185"/>
                </a:lnTo>
                <a:lnTo>
                  <a:pt x="53" y="184"/>
                </a:lnTo>
                <a:lnTo>
                  <a:pt x="37" y="202"/>
                </a:lnTo>
                <a:lnTo>
                  <a:pt x="20" y="215"/>
                </a:lnTo>
                <a:lnTo>
                  <a:pt x="9" y="215"/>
                </a:lnTo>
                <a:lnTo>
                  <a:pt x="9" y="212"/>
                </a:lnTo>
                <a:lnTo>
                  <a:pt x="0" y="179"/>
                </a:lnTo>
                <a:lnTo>
                  <a:pt x="5" y="141"/>
                </a:lnTo>
                <a:lnTo>
                  <a:pt x="20" y="119"/>
                </a:lnTo>
                <a:lnTo>
                  <a:pt x="23" y="85"/>
                </a:lnTo>
                <a:lnTo>
                  <a:pt x="43" y="53"/>
                </a:lnTo>
                <a:lnTo>
                  <a:pt x="50" y="42"/>
                </a:lnTo>
                <a:lnTo>
                  <a:pt x="75" y="33"/>
                </a:lnTo>
                <a:lnTo>
                  <a:pt x="90" y="32"/>
                </a:lnTo>
                <a:lnTo>
                  <a:pt x="88" y="50"/>
                </a:lnTo>
                <a:lnTo>
                  <a:pt x="111" y="70"/>
                </a:lnTo>
                <a:lnTo>
                  <a:pt x="123" y="86"/>
                </a:lnTo>
                <a:lnTo>
                  <a:pt x="132" y="98"/>
                </a:lnTo>
                <a:lnTo>
                  <a:pt x="142" y="109"/>
                </a:lnTo>
                <a:lnTo>
                  <a:pt x="159" y="114"/>
                </a:lnTo>
                <a:lnTo>
                  <a:pt x="167" y="103"/>
                </a:lnTo>
                <a:lnTo>
                  <a:pt x="184" y="96"/>
                </a:lnTo>
                <a:lnTo>
                  <a:pt x="197" y="91"/>
                </a:lnTo>
                <a:lnTo>
                  <a:pt x="194" y="78"/>
                </a:lnTo>
                <a:lnTo>
                  <a:pt x="195" y="58"/>
                </a:lnTo>
                <a:lnTo>
                  <a:pt x="192" y="42"/>
                </a:lnTo>
                <a:lnTo>
                  <a:pt x="189" y="24"/>
                </a:lnTo>
                <a:lnTo>
                  <a:pt x="190" y="19"/>
                </a:lnTo>
                <a:lnTo>
                  <a:pt x="207" y="19"/>
                </a:lnTo>
                <a:lnTo>
                  <a:pt x="225" y="7"/>
                </a:lnTo>
                <a:lnTo>
                  <a:pt x="238" y="0"/>
                </a:lnTo>
                <a:lnTo>
                  <a:pt x="253" y="4"/>
                </a:lnTo>
                <a:lnTo>
                  <a:pt x="274" y="38"/>
                </a:lnTo>
                <a:lnTo>
                  <a:pt x="289" y="37"/>
                </a:lnTo>
                <a:lnTo>
                  <a:pt x="299" y="50"/>
                </a:lnTo>
                <a:lnTo>
                  <a:pt x="319" y="48"/>
                </a:lnTo>
                <a:lnTo>
                  <a:pt x="344" y="42"/>
                </a:lnTo>
                <a:lnTo>
                  <a:pt x="346" y="3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153200" y="2646360"/>
            <a:ext cx="912960" cy="655560"/>
          </a:xfrm>
          <a:custGeom>
            <a:avLst/>
            <a:gdLst/>
            <a:ahLst/>
            <a:rect l="l" t="t" r="r" b="b"/>
            <a:pathLst>
              <a:path w="328" h="257">
                <a:moveTo>
                  <a:pt x="317" y="65"/>
                </a:moveTo>
                <a:lnTo>
                  <a:pt x="313" y="86"/>
                </a:lnTo>
                <a:lnTo>
                  <a:pt x="327" y="108"/>
                </a:lnTo>
                <a:lnTo>
                  <a:pt x="315" y="124"/>
                </a:lnTo>
                <a:lnTo>
                  <a:pt x="315" y="142"/>
                </a:lnTo>
                <a:lnTo>
                  <a:pt x="302" y="147"/>
                </a:lnTo>
                <a:lnTo>
                  <a:pt x="285" y="162"/>
                </a:lnTo>
                <a:lnTo>
                  <a:pt x="287" y="195"/>
                </a:lnTo>
                <a:lnTo>
                  <a:pt x="285" y="220"/>
                </a:lnTo>
                <a:lnTo>
                  <a:pt x="294" y="235"/>
                </a:lnTo>
                <a:lnTo>
                  <a:pt x="279" y="245"/>
                </a:lnTo>
                <a:lnTo>
                  <a:pt x="267" y="225"/>
                </a:lnTo>
                <a:lnTo>
                  <a:pt x="252" y="225"/>
                </a:lnTo>
                <a:lnTo>
                  <a:pt x="228" y="226"/>
                </a:lnTo>
                <a:lnTo>
                  <a:pt x="234" y="245"/>
                </a:lnTo>
                <a:lnTo>
                  <a:pt x="216" y="243"/>
                </a:lnTo>
                <a:lnTo>
                  <a:pt x="194" y="256"/>
                </a:lnTo>
                <a:lnTo>
                  <a:pt x="171" y="251"/>
                </a:lnTo>
                <a:lnTo>
                  <a:pt x="156" y="256"/>
                </a:lnTo>
                <a:lnTo>
                  <a:pt x="152" y="233"/>
                </a:lnTo>
                <a:lnTo>
                  <a:pt x="120" y="230"/>
                </a:lnTo>
                <a:lnTo>
                  <a:pt x="100" y="230"/>
                </a:lnTo>
                <a:lnTo>
                  <a:pt x="95" y="210"/>
                </a:lnTo>
                <a:lnTo>
                  <a:pt x="107" y="182"/>
                </a:lnTo>
                <a:lnTo>
                  <a:pt x="95" y="157"/>
                </a:lnTo>
                <a:lnTo>
                  <a:pt x="69" y="159"/>
                </a:lnTo>
                <a:lnTo>
                  <a:pt x="31" y="146"/>
                </a:lnTo>
                <a:lnTo>
                  <a:pt x="13" y="132"/>
                </a:lnTo>
                <a:lnTo>
                  <a:pt x="14" y="127"/>
                </a:lnTo>
                <a:lnTo>
                  <a:pt x="8" y="101"/>
                </a:lnTo>
                <a:lnTo>
                  <a:pt x="3" y="71"/>
                </a:lnTo>
                <a:lnTo>
                  <a:pt x="0" y="43"/>
                </a:lnTo>
                <a:lnTo>
                  <a:pt x="11" y="43"/>
                </a:lnTo>
                <a:lnTo>
                  <a:pt x="28" y="30"/>
                </a:lnTo>
                <a:lnTo>
                  <a:pt x="44" y="12"/>
                </a:lnTo>
                <a:lnTo>
                  <a:pt x="74" y="13"/>
                </a:lnTo>
                <a:lnTo>
                  <a:pt x="120" y="8"/>
                </a:lnTo>
                <a:lnTo>
                  <a:pt x="186" y="13"/>
                </a:lnTo>
                <a:lnTo>
                  <a:pt x="218" y="0"/>
                </a:lnTo>
                <a:lnTo>
                  <a:pt x="261" y="30"/>
                </a:lnTo>
                <a:lnTo>
                  <a:pt x="317" y="6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940360" y="3119400"/>
            <a:ext cx="1835280" cy="1531800"/>
          </a:xfrm>
          <a:custGeom>
            <a:avLst/>
            <a:gdLst/>
            <a:ahLst/>
            <a:rect l="l" t="t" r="r" b="b"/>
            <a:pathLst>
              <a:path w="657" h="597">
                <a:moveTo>
                  <a:pt x="594" y="71"/>
                </a:moveTo>
                <a:lnTo>
                  <a:pt x="589" y="86"/>
                </a:lnTo>
                <a:lnTo>
                  <a:pt x="601" y="129"/>
                </a:lnTo>
                <a:lnTo>
                  <a:pt x="626" y="167"/>
                </a:lnTo>
                <a:lnTo>
                  <a:pt x="626" y="205"/>
                </a:lnTo>
                <a:lnTo>
                  <a:pt x="611" y="220"/>
                </a:lnTo>
                <a:lnTo>
                  <a:pt x="588" y="261"/>
                </a:lnTo>
                <a:lnTo>
                  <a:pt x="609" y="276"/>
                </a:lnTo>
                <a:lnTo>
                  <a:pt x="611" y="307"/>
                </a:lnTo>
                <a:lnTo>
                  <a:pt x="613" y="335"/>
                </a:lnTo>
                <a:lnTo>
                  <a:pt x="627" y="349"/>
                </a:lnTo>
                <a:lnTo>
                  <a:pt x="627" y="375"/>
                </a:lnTo>
                <a:lnTo>
                  <a:pt x="636" y="375"/>
                </a:lnTo>
                <a:lnTo>
                  <a:pt x="642" y="398"/>
                </a:lnTo>
                <a:lnTo>
                  <a:pt x="649" y="416"/>
                </a:lnTo>
                <a:lnTo>
                  <a:pt x="656" y="426"/>
                </a:lnTo>
                <a:lnTo>
                  <a:pt x="647" y="449"/>
                </a:lnTo>
                <a:lnTo>
                  <a:pt x="626" y="461"/>
                </a:lnTo>
                <a:lnTo>
                  <a:pt x="608" y="482"/>
                </a:lnTo>
                <a:lnTo>
                  <a:pt x="589" y="509"/>
                </a:lnTo>
                <a:lnTo>
                  <a:pt x="563" y="537"/>
                </a:lnTo>
                <a:lnTo>
                  <a:pt x="573" y="568"/>
                </a:lnTo>
                <a:lnTo>
                  <a:pt x="576" y="596"/>
                </a:lnTo>
                <a:lnTo>
                  <a:pt x="545" y="593"/>
                </a:lnTo>
                <a:lnTo>
                  <a:pt x="495" y="567"/>
                </a:lnTo>
                <a:lnTo>
                  <a:pt x="477" y="567"/>
                </a:lnTo>
                <a:lnTo>
                  <a:pt x="447" y="572"/>
                </a:lnTo>
                <a:lnTo>
                  <a:pt x="431" y="575"/>
                </a:lnTo>
                <a:lnTo>
                  <a:pt x="426" y="567"/>
                </a:lnTo>
                <a:lnTo>
                  <a:pt x="411" y="565"/>
                </a:lnTo>
                <a:lnTo>
                  <a:pt x="396" y="578"/>
                </a:lnTo>
                <a:lnTo>
                  <a:pt x="368" y="580"/>
                </a:lnTo>
                <a:lnTo>
                  <a:pt x="358" y="568"/>
                </a:lnTo>
                <a:lnTo>
                  <a:pt x="348" y="544"/>
                </a:lnTo>
                <a:lnTo>
                  <a:pt x="332" y="540"/>
                </a:lnTo>
                <a:lnTo>
                  <a:pt x="319" y="555"/>
                </a:lnTo>
                <a:lnTo>
                  <a:pt x="309" y="550"/>
                </a:lnTo>
                <a:lnTo>
                  <a:pt x="294" y="537"/>
                </a:lnTo>
                <a:lnTo>
                  <a:pt x="279" y="502"/>
                </a:lnTo>
                <a:lnTo>
                  <a:pt x="266" y="502"/>
                </a:lnTo>
                <a:lnTo>
                  <a:pt x="251" y="492"/>
                </a:lnTo>
                <a:lnTo>
                  <a:pt x="234" y="496"/>
                </a:lnTo>
                <a:lnTo>
                  <a:pt x="221" y="486"/>
                </a:lnTo>
                <a:lnTo>
                  <a:pt x="226" y="469"/>
                </a:lnTo>
                <a:lnTo>
                  <a:pt x="213" y="469"/>
                </a:lnTo>
                <a:lnTo>
                  <a:pt x="195" y="458"/>
                </a:lnTo>
                <a:lnTo>
                  <a:pt x="173" y="459"/>
                </a:lnTo>
                <a:lnTo>
                  <a:pt x="165" y="479"/>
                </a:lnTo>
                <a:lnTo>
                  <a:pt x="153" y="487"/>
                </a:lnTo>
                <a:lnTo>
                  <a:pt x="145" y="474"/>
                </a:lnTo>
                <a:lnTo>
                  <a:pt x="122" y="463"/>
                </a:lnTo>
                <a:lnTo>
                  <a:pt x="140" y="444"/>
                </a:lnTo>
                <a:lnTo>
                  <a:pt x="124" y="435"/>
                </a:lnTo>
                <a:lnTo>
                  <a:pt x="96" y="430"/>
                </a:lnTo>
                <a:lnTo>
                  <a:pt x="76" y="415"/>
                </a:lnTo>
                <a:lnTo>
                  <a:pt x="68" y="400"/>
                </a:lnTo>
                <a:lnTo>
                  <a:pt x="51" y="400"/>
                </a:lnTo>
                <a:lnTo>
                  <a:pt x="30" y="403"/>
                </a:lnTo>
                <a:lnTo>
                  <a:pt x="28" y="393"/>
                </a:lnTo>
                <a:lnTo>
                  <a:pt x="30" y="393"/>
                </a:lnTo>
                <a:lnTo>
                  <a:pt x="43" y="377"/>
                </a:lnTo>
                <a:lnTo>
                  <a:pt x="49" y="362"/>
                </a:lnTo>
                <a:lnTo>
                  <a:pt x="44" y="340"/>
                </a:lnTo>
                <a:lnTo>
                  <a:pt x="38" y="316"/>
                </a:lnTo>
                <a:lnTo>
                  <a:pt x="31" y="294"/>
                </a:lnTo>
                <a:lnTo>
                  <a:pt x="38" y="271"/>
                </a:lnTo>
                <a:lnTo>
                  <a:pt x="28" y="235"/>
                </a:lnTo>
                <a:lnTo>
                  <a:pt x="31" y="212"/>
                </a:lnTo>
                <a:lnTo>
                  <a:pt x="16" y="195"/>
                </a:lnTo>
                <a:lnTo>
                  <a:pt x="0" y="188"/>
                </a:lnTo>
                <a:lnTo>
                  <a:pt x="18" y="170"/>
                </a:lnTo>
                <a:lnTo>
                  <a:pt x="15" y="152"/>
                </a:lnTo>
                <a:lnTo>
                  <a:pt x="20" y="137"/>
                </a:lnTo>
                <a:lnTo>
                  <a:pt x="13" y="119"/>
                </a:lnTo>
                <a:lnTo>
                  <a:pt x="11" y="104"/>
                </a:lnTo>
                <a:lnTo>
                  <a:pt x="15" y="104"/>
                </a:lnTo>
                <a:lnTo>
                  <a:pt x="30" y="112"/>
                </a:lnTo>
                <a:lnTo>
                  <a:pt x="33" y="147"/>
                </a:lnTo>
                <a:lnTo>
                  <a:pt x="46" y="145"/>
                </a:lnTo>
                <a:lnTo>
                  <a:pt x="38" y="117"/>
                </a:lnTo>
                <a:lnTo>
                  <a:pt x="38" y="103"/>
                </a:lnTo>
                <a:lnTo>
                  <a:pt x="51" y="89"/>
                </a:lnTo>
                <a:lnTo>
                  <a:pt x="49" y="81"/>
                </a:lnTo>
                <a:lnTo>
                  <a:pt x="30" y="89"/>
                </a:lnTo>
                <a:lnTo>
                  <a:pt x="25" y="76"/>
                </a:lnTo>
                <a:lnTo>
                  <a:pt x="41" y="74"/>
                </a:lnTo>
                <a:lnTo>
                  <a:pt x="54" y="70"/>
                </a:lnTo>
                <a:lnTo>
                  <a:pt x="74" y="65"/>
                </a:lnTo>
                <a:lnTo>
                  <a:pt x="106" y="60"/>
                </a:lnTo>
                <a:lnTo>
                  <a:pt x="127" y="56"/>
                </a:lnTo>
                <a:lnTo>
                  <a:pt x="150" y="36"/>
                </a:lnTo>
                <a:lnTo>
                  <a:pt x="162" y="23"/>
                </a:lnTo>
                <a:lnTo>
                  <a:pt x="182" y="18"/>
                </a:lnTo>
                <a:lnTo>
                  <a:pt x="193" y="10"/>
                </a:lnTo>
                <a:lnTo>
                  <a:pt x="203" y="5"/>
                </a:lnTo>
                <a:lnTo>
                  <a:pt x="223" y="5"/>
                </a:lnTo>
                <a:lnTo>
                  <a:pt x="239" y="2"/>
                </a:lnTo>
                <a:lnTo>
                  <a:pt x="259" y="0"/>
                </a:lnTo>
                <a:lnTo>
                  <a:pt x="274" y="0"/>
                </a:lnTo>
                <a:lnTo>
                  <a:pt x="287" y="7"/>
                </a:lnTo>
                <a:lnTo>
                  <a:pt x="294" y="12"/>
                </a:lnTo>
                <a:lnTo>
                  <a:pt x="292" y="13"/>
                </a:lnTo>
                <a:lnTo>
                  <a:pt x="274" y="2"/>
                </a:lnTo>
                <a:lnTo>
                  <a:pt x="267" y="3"/>
                </a:lnTo>
                <a:lnTo>
                  <a:pt x="274" y="20"/>
                </a:lnTo>
                <a:lnTo>
                  <a:pt x="284" y="36"/>
                </a:lnTo>
                <a:lnTo>
                  <a:pt x="300" y="45"/>
                </a:lnTo>
                <a:lnTo>
                  <a:pt x="317" y="45"/>
                </a:lnTo>
                <a:lnTo>
                  <a:pt x="333" y="36"/>
                </a:lnTo>
                <a:lnTo>
                  <a:pt x="350" y="23"/>
                </a:lnTo>
                <a:lnTo>
                  <a:pt x="371" y="38"/>
                </a:lnTo>
                <a:lnTo>
                  <a:pt x="480" y="50"/>
                </a:lnTo>
                <a:lnTo>
                  <a:pt x="520" y="48"/>
                </a:lnTo>
                <a:lnTo>
                  <a:pt x="533" y="41"/>
                </a:lnTo>
                <a:lnTo>
                  <a:pt x="533" y="45"/>
                </a:lnTo>
                <a:lnTo>
                  <a:pt x="553" y="45"/>
                </a:lnTo>
                <a:lnTo>
                  <a:pt x="585" y="48"/>
                </a:lnTo>
                <a:lnTo>
                  <a:pt x="589" y="71"/>
                </a:lnTo>
                <a:lnTo>
                  <a:pt x="594" y="71"/>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508720" y="4103640"/>
            <a:ext cx="1271520" cy="657360"/>
          </a:xfrm>
          <a:custGeom>
            <a:avLst/>
            <a:gdLst/>
            <a:ahLst/>
            <a:rect l="l" t="t" r="r" b="b"/>
            <a:pathLst>
              <a:path w="456" h="257">
                <a:moveTo>
                  <a:pt x="455" y="162"/>
                </a:moveTo>
                <a:lnTo>
                  <a:pt x="449" y="173"/>
                </a:lnTo>
                <a:lnTo>
                  <a:pt x="421" y="186"/>
                </a:lnTo>
                <a:lnTo>
                  <a:pt x="398" y="226"/>
                </a:lnTo>
                <a:lnTo>
                  <a:pt x="350" y="233"/>
                </a:lnTo>
                <a:lnTo>
                  <a:pt x="328" y="247"/>
                </a:lnTo>
                <a:lnTo>
                  <a:pt x="308" y="249"/>
                </a:lnTo>
                <a:lnTo>
                  <a:pt x="287" y="238"/>
                </a:lnTo>
                <a:lnTo>
                  <a:pt x="257" y="239"/>
                </a:lnTo>
                <a:lnTo>
                  <a:pt x="201" y="209"/>
                </a:lnTo>
                <a:lnTo>
                  <a:pt x="178" y="213"/>
                </a:lnTo>
                <a:lnTo>
                  <a:pt x="181" y="229"/>
                </a:lnTo>
                <a:lnTo>
                  <a:pt x="143" y="239"/>
                </a:lnTo>
                <a:lnTo>
                  <a:pt x="133" y="256"/>
                </a:lnTo>
                <a:lnTo>
                  <a:pt x="110" y="234"/>
                </a:lnTo>
                <a:lnTo>
                  <a:pt x="99" y="229"/>
                </a:lnTo>
                <a:lnTo>
                  <a:pt x="97" y="216"/>
                </a:lnTo>
                <a:lnTo>
                  <a:pt x="85" y="206"/>
                </a:lnTo>
                <a:lnTo>
                  <a:pt x="71" y="186"/>
                </a:lnTo>
                <a:lnTo>
                  <a:pt x="61" y="162"/>
                </a:lnTo>
                <a:lnTo>
                  <a:pt x="31" y="137"/>
                </a:lnTo>
                <a:lnTo>
                  <a:pt x="19" y="114"/>
                </a:lnTo>
                <a:lnTo>
                  <a:pt x="14" y="89"/>
                </a:lnTo>
                <a:lnTo>
                  <a:pt x="0" y="62"/>
                </a:lnTo>
                <a:lnTo>
                  <a:pt x="29" y="56"/>
                </a:lnTo>
                <a:lnTo>
                  <a:pt x="67" y="39"/>
                </a:lnTo>
                <a:lnTo>
                  <a:pt x="107" y="21"/>
                </a:lnTo>
                <a:lnTo>
                  <a:pt x="127" y="8"/>
                </a:lnTo>
                <a:lnTo>
                  <a:pt x="153" y="8"/>
                </a:lnTo>
                <a:lnTo>
                  <a:pt x="156" y="0"/>
                </a:lnTo>
                <a:lnTo>
                  <a:pt x="168" y="0"/>
                </a:lnTo>
                <a:lnTo>
                  <a:pt x="176" y="15"/>
                </a:lnTo>
                <a:lnTo>
                  <a:pt x="183" y="11"/>
                </a:lnTo>
                <a:lnTo>
                  <a:pt x="185" y="21"/>
                </a:lnTo>
                <a:lnTo>
                  <a:pt x="206" y="18"/>
                </a:lnTo>
                <a:lnTo>
                  <a:pt x="223" y="18"/>
                </a:lnTo>
                <a:lnTo>
                  <a:pt x="231" y="33"/>
                </a:lnTo>
                <a:lnTo>
                  <a:pt x="251" y="48"/>
                </a:lnTo>
                <a:lnTo>
                  <a:pt x="279" y="53"/>
                </a:lnTo>
                <a:lnTo>
                  <a:pt x="295" y="62"/>
                </a:lnTo>
                <a:lnTo>
                  <a:pt x="277" y="81"/>
                </a:lnTo>
                <a:lnTo>
                  <a:pt x="300" y="92"/>
                </a:lnTo>
                <a:lnTo>
                  <a:pt x="308" y="105"/>
                </a:lnTo>
                <a:lnTo>
                  <a:pt x="320" y="97"/>
                </a:lnTo>
                <a:lnTo>
                  <a:pt x="328" y="77"/>
                </a:lnTo>
                <a:lnTo>
                  <a:pt x="350" y="76"/>
                </a:lnTo>
                <a:lnTo>
                  <a:pt x="368" y="87"/>
                </a:lnTo>
                <a:lnTo>
                  <a:pt x="381" y="87"/>
                </a:lnTo>
                <a:lnTo>
                  <a:pt x="376" y="104"/>
                </a:lnTo>
                <a:lnTo>
                  <a:pt x="389" y="114"/>
                </a:lnTo>
                <a:lnTo>
                  <a:pt x="406" y="110"/>
                </a:lnTo>
                <a:lnTo>
                  <a:pt x="421" y="120"/>
                </a:lnTo>
                <a:lnTo>
                  <a:pt x="434" y="120"/>
                </a:lnTo>
                <a:lnTo>
                  <a:pt x="449" y="155"/>
                </a:lnTo>
                <a:lnTo>
                  <a:pt x="455" y="162"/>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917960" y="4637160"/>
            <a:ext cx="1514520" cy="725400"/>
          </a:xfrm>
          <a:custGeom>
            <a:avLst/>
            <a:gdLst/>
            <a:ahLst/>
            <a:rect l="l" t="t" r="r" b="b"/>
            <a:pathLst>
              <a:path w="543" h="282">
                <a:moveTo>
                  <a:pt x="289" y="278"/>
                </a:moveTo>
                <a:lnTo>
                  <a:pt x="324" y="276"/>
                </a:lnTo>
                <a:lnTo>
                  <a:pt x="349" y="281"/>
                </a:lnTo>
                <a:lnTo>
                  <a:pt x="388" y="255"/>
                </a:lnTo>
                <a:lnTo>
                  <a:pt x="430" y="253"/>
                </a:lnTo>
                <a:lnTo>
                  <a:pt x="446" y="251"/>
                </a:lnTo>
                <a:lnTo>
                  <a:pt x="477" y="238"/>
                </a:lnTo>
                <a:lnTo>
                  <a:pt x="492" y="205"/>
                </a:lnTo>
                <a:lnTo>
                  <a:pt x="496" y="180"/>
                </a:lnTo>
                <a:lnTo>
                  <a:pt x="504" y="175"/>
                </a:lnTo>
                <a:lnTo>
                  <a:pt x="504" y="152"/>
                </a:lnTo>
                <a:lnTo>
                  <a:pt x="515" y="147"/>
                </a:lnTo>
                <a:lnTo>
                  <a:pt x="539" y="144"/>
                </a:lnTo>
                <a:lnTo>
                  <a:pt x="542" y="119"/>
                </a:lnTo>
                <a:lnTo>
                  <a:pt x="530" y="100"/>
                </a:lnTo>
                <a:lnTo>
                  <a:pt x="517" y="76"/>
                </a:lnTo>
                <a:lnTo>
                  <a:pt x="529" y="60"/>
                </a:lnTo>
                <a:lnTo>
                  <a:pt x="527" y="38"/>
                </a:lnTo>
                <a:lnTo>
                  <a:pt x="520" y="40"/>
                </a:lnTo>
                <a:lnTo>
                  <a:pt x="499" y="29"/>
                </a:lnTo>
                <a:lnTo>
                  <a:pt x="469" y="30"/>
                </a:lnTo>
                <a:lnTo>
                  <a:pt x="413" y="0"/>
                </a:lnTo>
                <a:lnTo>
                  <a:pt x="390" y="4"/>
                </a:lnTo>
                <a:lnTo>
                  <a:pt x="393" y="20"/>
                </a:lnTo>
                <a:lnTo>
                  <a:pt x="355" y="30"/>
                </a:lnTo>
                <a:lnTo>
                  <a:pt x="345" y="47"/>
                </a:lnTo>
                <a:lnTo>
                  <a:pt x="322" y="25"/>
                </a:lnTo>
                <a:lnTo>
                  <a:pt x="311" y="20"/>
                </a:lnTo>
                <a:lnTo>
                  <a:pt x="311" y="32"/>
                </a:lnTo>
                <a:lnTo>
                  <a:pt x="309" y="50"/>
                </a:lnTo>
                <a:lnTo>
                  <a:pt x="296" y="57"/>
                </a:lnTo>
                <a:lnTo>
                  <a:pt x="286" y="60"/>
                </a:lnTo>
                <a:lnTo>
                  <a:pt x="274" y="76"/>
                </a:lnTo>
                <a:lnTo>
                  <a:pt x="248" y="78"/>
                </a:lnTo>
                <a:lnTo>
                  <a:pt x="230" y="78"/>
                </a:lnTo>
                <a:lnTo>
                  <a:pt x="231" y="93"/>
                </a:lnTo>
                <a:lnTo>
                  <a:pt x="243" y="126"/>
                </a:lnTo>
                <a:lnTo>
                  <a:pt x="250" y="144"/>
                </a:lnTo>
                <a:lnTo>
                  <a:pt x="236" y="156"/>
                </a:lnTo>
                <a:lnTo>
                  <a:pt x="220" y="138"/>
                </a:lnTo>
                <a:lnTo>
                  <a:pt x="197" y="129"/>
                </a:lnTo>
                <a:lnTo>
                  <a:pt x="187" y="129"/>
                </a:lnTo>
                <a:lnTo>
                  <a:pt x="179" y="141"/>
                </a:lnTo>
                <a:lnTo>
                  <a:pt x="147" y="144"/>
                </a:lnTo>
                <a:lnTo>
                  <a:pt x="129" y="142"/>
                </a:lnTo>
                <a:lnTo>
                  <a:pt x="117" y="147"/>
                </a:lnTo>
                <a:lnTo>
                  <a:pt x="89" y="146"/>
                </a:lnTo>
                <a:lnTo>
                  <a:pt x="83" y="133"/>
                </a:lnTo>
                <a:lnTo>
                  <a:pt x="58" y="133"/>
                </a:lnTo>
                <a:lnTo>
                  <a:pt x="66" y="147"/>
                </a:lnTo>
                <a:lnTo>
                  <a:pt x="53" y="154"/>
                </a:lnTo>
                <a:lnTo>
                  <a:pt x="43" y="146"/>
                </a:lnTo>
                <a:lnTo>
                  <a:pt x="30" y="139"/>
                </a:lnTo>
                <a:lnTo>
                  <a:pt x="27" y="131"/>
                </a:lnTo>
                <a:lnTo>
                  <a:pt x="8" y="131"/>
                </a:lnTo>
                <a:lnTo>
                  <a:pt x="7" y="142"/>
                </a:lnTo>
                <a:lnTo>
                  <a:pt x="0" y="151"/>
                </a:lnTo>
                <a:lnTo>
                  <a:pt x="7" y="159"/>
                </a:lnTo>
                <a:lnTo>
                  <a:pt x="8" y="175"/>
                </a:lnTo>
                <a:lnTo>
                  <a:pt x="3" y="187"/>
                </a:lnTo>
                <a:lnTo>
                  <a:pt x="5" y="187"/>
                </a:lnTo>
                <a:lnTo>
                  <a:pt x="17" y="192"/>
                </a:lnTo>
                <a:lnTo>
                  <a:pt x="27" y="205"/>
                </a:lnTo>
                <a:lnTo>
                  <a:pt x="40" y="202"/>
                </a:lnTo>
                <a:lnTo>
                  <a:pt x="50" y="209"/>
                </a:lnTo>
                <a:lnTo>
                  <a:pt x="51" y="204"/>
                </a:lnTo>
                <a:lnTo>
                  <a:pt x="63" y="199"/>
                </a:lnTo>
                <a:lnTo>
                  <a:pt x="76" y="194"/>
                </a:lnTo>
                <a:lnTo>
                  <a:pt x="86" y="200"/>
                </a:lnTo>
                <a:lnTo>
                  <a:pt x="106" y="194"/>
                </a:lnTo>
                <a:lnTo>
                  <a:pt x="132" y="182"/>
                </a:lnTo>
                <a:lnTo>
                  <a:pt x="160" y="192"/>
                </a:lnTo>
                <a:lnTo>
                  <a:pt x="188" y="195"/>
                </a:lnTo>
                <a:lnTo>
                  <a:pt x="188" y="225"/>
                </a:lnTo>
                <a:lnTo>
                  <a:pt x="210" y="240"/>
                </a:lnTo>
                <a:lnTo>
                  <a:pt x="241" y="242"/>
                </a:lnTo>
                <a:lnTo>
                  <a:pt x="255" y="260"/>
                </a:lnTo>
                <a:lnTo>
                  <a:pt x="289" y="273"/>
                </a:lnTo>
                <a:lnTo>
                  <a:pt x="289" y="278"/>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6237360" y="4765680"/>
            <a:ext cx="1330200" cy="789120"/>
          </a:xfrm>
          <a:custGeom>
            <a:avLst/>
            <a:gdLst/>
            <a:ahLst/>
            <a:rect l="l" t="t" r="r" b="b"/>
            <a:pathLst>
              <a:path w="476" h="307">
                <a:moveTo>
                  <a:pt x="67" y="74"/>
                </a:moveTo>
                <a:lnTo>
                  <a:pt x="77" y="74"/>
                </a:lnTo>
                <a:lnTo>
                  <a:pt x="92" y="99"/>
                </a:lnTo>
                <a:lnTo>
                  <a:pt x="150" y="104"/>
                </a:lnTo>
                <a:lnTo>
                  <a:pt x="189" y="91"/>
                </a:lnTo>
                <a:lnTo>
                  <a:pt x="191" y="50"/>
                </a:lnTo>
                <a:lnTo>
                  <a:pt x="232" y="45"/>
                </a:lnTo>
                <a:lnTo>
                  <a:pt x="237" y="36"/>
                </a:lnTo>
                <a:lnTo>
                  <a:pt x="262" y="28"/>
                </a:lnTo>
                <a:lnTo>
                  <a:pt x="275" y="43"/>
                </a:lnTo>
                <a:lnTo>
                  <a:pt x="312" y="10"/>
                </a:lnTo>
                <a:lnTo>
                  <a:pt x="348" y="0"/>
                </a:lnTo>
                <a:lnTo>
                  <a:pt x="376" y="8"/>
                </a:lnTo>
                <a:lnTo>
                  <a:pt x="398" y="23"/>
                </a:lnTo>
                <a:lnTo>
                  <a:pt x="419" y="21"/>
                </a:lnTo>
                <a:lnTo>
                  <a:pt x="437" y="26"/>
                </a:lnTo>
                <a:lnTo>
                  <a:pt x="449" y="43"/>
                </a:lnTo>
                <a:lnTo>
                  <a:pt x="475" y="48"/>
                </a:lnTo>
                <a:lnTo>
                  <a:pt x="475" y="69"/>
                </a:lnTo>
                <a:lnTo>
                  <a:pt x="470" y="84"/>
                </a:lnTo>
                <a:lnTo>
                  <a:pt x="445" y="83"/>
                </a:lnTo>
                <a:lnTo>
                  <a:pt x="427" y="97"/>
                </a:lnTo>
                <a:lnTo>
                  <a:pt x="426" y="114"/>
                </a:lnTo>
                <a:lnTo>
                  <a:pt x="411" y="122"/>
                </a:lnTo>
                <a:lnTo>
                  <a:pt x="409" y="150"/>
                </a:lnTo>
                <a:lnTo>
                  <a:pt x="391" y="167"/>
                </a:lnTo>
                <a:lnTo>
                  <a:pt x="378" y="190"/>
                </a:lnTo>
                <a:lnTo>
                  <a:pt x="360" y="220"/>
                </a:lnTo>
                <a:lnTo>
                  <a:pt x="335" y="251"/>
                </a:lnTo>
                <a:lnTo>
                  <a:pt x="312" y="251"/>
                </a:lnTo>
                <a:lnTo>
                  <a:pt x="303" y="261"/>
                </a:lnTo>
                <a:lnTo>
                  <a:pt x="284" y="256"/>
                </a:lnTo>
                <a:lnTo>
                  <a:pt x="252" y="256"/>
                </a:lnTo>
                <a:lnTo>
                  <a:pt x="231" y="259"/>
                </a:lnTo>
                <a:lnTo>
                  <a:pt x="209" y="282"/>
                </a:lnTo>
                <a:lnTo>
                  <a:pt x="189" y="279"/>
                </a:lnTo>
                <a:lnTo>
                  <a:pt x="147" y="306"/>
                </a:lnTo>
                <a:lnTo>
                  <a:pt x="105" y="304"/>
                </a:lnTo>
                <a:lnTo>
                  <a:pt x="80" y="286"/>
                </a:lnTo>
                <a:lnTo>
                  <a:pt x="69" y="269"/>
                </a:lnTo>
                <a:lnTo>
                  <a:pt x="42" y="253"/>
                </a:lnTo>
                <a:lnTo>
                  <a:pt x="26" y="231"/>
                </a:lnTo>
                <a:lnTo>
                  <a:pt x="9" y="210"/>
                </a:lnTo>
                <a:lnTo>
                  <a:pt x="0" y="190"/>
                </a:lnTo>
                <a:lnTo>
                  <a:pt x="4" y="188"/>
                </a:lnTo>
                <a:lnTo>
                  <a:pt x="19" y="155"/>
                </a:lnTo>
                <a:lnTo>
                  <a:pt x="23" y="130"/>
                </a:lnTo>
                <a:lnTo>
                  <a:pt x="31" y="125"/>
                </a:lnTo>
                <a:lnTo>
                  <a:pt x="31" y="102"/>
                </a:lnTo>
                <a:lnTo>
                  <a:pt x="42" y="97"/>
                </a:lnTo>
                <a:lnTo>
                  <a:pt x="66" y="94"/>
                </a:lnTo>
                <a:lnTo>
                  <a:pt x="67" y="74"/>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361200" y="4506840"/>
            <a:ext cx="1119240" cy="530280"/>
          </a:xfrm>
          <a:custGeom>
            <a:avLst/>
            <a:gdLst/>
            <a:ahLst/>
            <a:rect l="l" t="t" r="r" b="b"/>
            <a:pathLst>
              <a:path w="402" h="206">
                <a:moveTo>
                  <a:pt x="401" y="53"/>
                </a:moveTo>
                <a:lnTo>
                  <a:pt x="400" y="73"/>
                </a:lnTo>
                <a:lnTo>
                  <a:pt x="385" y="89"/>
                </a:lnTo>
                <a:lnTo>
                  <a:pt x="380" y="111"/>
                </a:lnTo>
                <a:lnTo>
                  <a:pt x="372" y="122"/>
                </a:lnTo>
                <a:lnTo>
                  <a:pt x="354" y="124"/>
                </a:lnTo>
                <a:lnTo>
                  <a:pt x="332" y="109"/>
                </a:lnTo>
                <a:lnTo>
                  <a:pt x="304" y="101"/>
                </a:lnTo>
                <a:lnTo>
                  <a:pt x="268" y="111"/>
                </a:lnTo>
                <a:lnTo>
                  <a:pt x="231" y="144"/>
                </a:lnTo>
                <a:lnTo>
                  <a:pt x="218" y="129"/>
                </a:lnTo>
                <a:lnTo>
                  <a:pt x="193" y="137"/>
                </a:lnTo>
                <a:lnTo>
                  <a:pt x="188" y="146"/>
                </a:lnTo>
                <a:lnTo>
                  <a:pt x="147" y="151"/>
                </a:lnTo>
                <a:lnTo>
                  <a:pt x="145" y="192"/>
                </a:lnTo>
                <a:lnTo>
                  <a:pt x="106" y="205"/>
                </a:lnTo>
                <a:lnTo>
                  <a:pt x="48" y="200"/>
                </a:lnTo>
                <a:lnTo>
                  <a:pt x="33" y="175"/>
                </a:lnTo>
                <a:lnTo>
                  <a:pt x="23" y="175"/>
                </a:lnTo>
                <a:lnTo>
                  <a:pt x="25" y="170"/>
                </a:lnTo>
                <a:lnTo>
                  <a:pt x="13" y="151"/>
                </a:lnTo>
                <a:lnTo>
                  <a:pt x="0" y="127"/>
                </a:lnTo>
                <a:lnTo>
                  <a:pt x="12" y="111"/>
                </a:lnTo>
                <a:lnTo>
                  <a:pt x="10" y="89"/>
                </a:lnTo>
                <a:lnTo>
                  <a:pt x="23" y="89"/>
                </a:lnTo>
                <a:lnTo>
                  <a:pt x="45" y="75"/>
                </a:lnTo>
                <a:lnTo>
                  <a:pt x="93" y="68"/>
                </a:lnTo>
                <a:lnTo>
                  <a:pt x="116" y="28"/>
                </a:lnTo>
                <a:lnTo>
                  <a:pt x="144" y="15"/>
                </a:lnTo>
                <a:lnTo>
                  <a:pt x="150" y="4"/>
                </a:lnTo>
                <a:lnTo>
                  <a:pt x="159" y="10"/>
                </a:lnTo>
                <a:lnTo>
                  <a:pt x="169" y="15"/>
                </a:lnTo>
                <a:lnTo>
                  <a:pt x="182" y="0"/>
                </a:lnTo>
                <a:lnTo>
                  <a:pt x="198" y="4"/>
                </a:lnTo>
                <a:lnTo>
                  <a:pt x="208" y="28"/>
                </a:lnTo>
                <a:lnTo>
                  <a:pt x="218" y="40"/>
                </a:lnTo>
                <a:lnTo>
                  <a:pt x="246" y="38"/>
                </a:lnTo>
                <a:lnTo>
                  <a:pt x="261" y="25"/>
                </a:lnTo>
                <a:lnTo>
                  <a:pt x="276" y="27"/>
                </a:lnTo>
                <a:lnTo>
                  <a:pt x="281" y="35"/>
                </a:lnTo>
                <a:lnTo>
                  <a:pt x="297" y="32"/>
                </a:lnTo>
                <a:lnTo>
                  <a:pt x="327" y="27"/>
                </a:lnTo>
                <a:lnTo>
                  <a:pt x="345" y="27"/>
                </a:lnTo>
                <a:lnTo>
                  <a:pt x="395" y="53"/>
                </a:lnTo>
                <a:lnTo>
                  <a:pt x="401" y="53"/>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665680" y="5253120"/>
            <a:ext cx="604800" cy="374400"/>
          </a:xfrm>
          <a:custGeom>
            <a:avLst/>
            <a:gdLst/>
            <a:ahLst/>
            <a:rect l="l" t="t" r="r" b="b"/>
            <a:pathLst>
              <a:path w="217" h="146">
                <a:moveTo>
                  <a:pt x="0" y="137"/>
                </a:moveTo>
                <a:lnTo>
                  <a:pt x="16" y="144"/>
                </a:lnTo>
                <a:lnTo>
                  <a:pt x="59" y="145"/>
                </a:lnTo>
                <a:lnTo>
                  <a:pt x="66" y="124"/>
                </a:lnTo>
                <a:lnTo>
                  <a:pt x="84" y="120"/>
                </a:lnTo>
                <a:lnTo>
                  <a:pt x="91" y="142"/>
                </a:lnTo>
                <a:lnTo>
                  <a:pt x="125" y="144"/>
                </a:lnTo>
                <a:lnTo>
                  <a:pt x="125" y="122"/>
                </a:lnTo>
                <a:lnTo>
                  <a:pt x="132" y="109"/>
                </a:lnTo>
                <a:lnTo>
                  <a:pt x="158" y="109"/>
                </a:lnTo>
                <a:lnTo>
                  <a:pt x="162" y="97"/>
                </a:lnTo>
                <a:lnTo>
                  <a:pt x="150" y="81"/>
                </a:lnTo>
                <a:lnTo>
                  <a:pt x="150" y="58"/>
                </a:lnTo>
                <a:lnTo>
                  <a:pt x="168" y="58"/>
                </a:lnTo>
                <a:lnTo>
                  <a:pt x="195" y="58"/>
                </a:lnTo>
                <a:lnTo>
                  <a:pt x="200" y="48"/>
                </a:lnTo>
                <a:lnTo>
                  <a:pt x="208" y="30"/>
                </a:lnTo>
                <a:lnTo>
                  <a:pt x="216" y="21"/>
                </a:lnTo>
                <a:lnTo>
                  <a:pt x="214" y="20"/>
                </a:lnTo>
                <a:lnTo>
                  <a:pt x="205" y="0"/>
                </a:lnTo>
                <a:lnTo>
                  <a:pt x="178" y="11"/>
                </a:lnTo>
                <a:lnTo>
                  <a:pt x="162" y="13"/>
                </a:lnTo>
                <a:lnTo>
                  <a:pt x="120" y="15"/>
                </a:lnTo>
                <a:lnTo>
                  <a:pt x="81" y="41"/>
                </a:lnTo>
                <a:lnTo>
                  <a:pt x="56" y="36"/>
                </a:lnTo>
                <a:lnTo>
                  <a:pt x="21" y="38"/>
                </a:lnTo>
                <a:lnTo>
                  <a:pt x="21" y="45"/>
                </a:lnTo>
                <a:lnTo>
                  <a:pt x="1" y="51"/>
                </a:lnTo>
                <a:lnTo>
                  <a:pt x="5" y="86"/>
                </a:lnTo>
                <a:lnTo>
                  <a:pt x="18" y="94"/>
                </a:lnTo>
                <a:lnTo>
                  <a:pt x="13" y="106"/>
                </a:lnTo>
                <a:lnTo>
                  <a:pt x="23" y="106"/>
                </a:lnTo>
                <a:lnTo>
                  <a:pt x="8" y="130"/>
                </a:lnTo>
                <a:lnTo>
                  <a:pt x="0" y="137"/>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1" name=""/>
          <p:cNvGrpSpPr/>
          <p:nvPr/>
        </p:nvGrpSpPr>
        <p:grpSpPr>
          <a:xfrm>
            <a:off x="5645160" y="5307120"/>
            <a:ext cx="1206000" cy="1098000"/>
            <a:chOff x="5645160" y="5307120"/>
            <a:chExt cx="1206000" cy="1098000"/>
          </a:xfrm>
        </p:grpSpPr>
        <p:sp>
          <p:nvSpPr>
            <p:cNvPr id="212" name=""/>
            <p:cNvSpPr/>
            <p:nvPr/>
          </p:nvSpPr>
          <p:spPr>
            <a:xfrm>
              <a:off x="5645160" y="5307120"/>
              <a:ext cx="1206000" cy="1098000"/>
            </a:xfrm>
            <a:custGeom>
              <a:avLst/>
              <a:gdLst/>
              <a:ahLst/>
              <a:rect l="l" t="t" r="r" b="b"/>
              <a:pathLst>
                <a:path w="432" h="427">
                  <a:moveTo>
                    <a:pt x="395" y="73"/>
                  </a:moveTo>
                  <a:lnTo>
                    <a:pt x="401" y="85"/>
                  </a:lnTo>
                  <a:lnTo>
                    <a:pt x="401" y="103"/>
                  </a:lnTo>
                  <a:lnTo>
                    <a:pt x="411" y="116"/>
                  </a:lnTo>
                  <a:lnTo>
                    <a:pt x="423" y="133"/>
                  </a:lnTo>
                  <a:lnTo>
                    <a:pt x="431" y="154"/>
                  </a:lnTo>
                  <a:lnTo>
                    <a:pt x="430" y="179"/>
                  </a:lnTo>
                  <a:lnTo>
                    <a:pt x="423" y="187"/>
                  </a:lnTo>
                  <a:lnTo>
                    <a:pt x="411" y="185"/>
                  </a:lnTo>
                  <a:lnTo>
                    <a:pt x="397" y="172"/>
                  </a:lnTo>
                  <a:lnTo>
                    <a:pt x="393" y="162"/>
                  </a:lnTo>
                  <a:lnTo>
                    <a:pt x="352" y="162"/>
                  </a:lnTo>
                  <a:lnTo>
                    <a:pt x="329" y="161"/>
                  </a:lnTo>
                  <a:lnTo>
                    <a:pt x="317" y="164"/>
                  </a:lnTo>
                  <a:lnTo>
                    <a:pt x="296" y="154"/>
                  </a:lnTo>
                  <a:lnTo>
                    <a:pt x="273" y="149"/>
                  </a:lnTo>
                  <a:lnTo>
                    <a:pt x="259" y="146"/>
                  </a:lnTo>
                  <a:lnTo>
                    <a:pt x="238" y="156"/>
                  </a:lnTo>
                  <a:lnTo>
                    <a:pt x="220" y="172"/>
                  </a:lnTo>
                  <a:lnTo>
                    <a:pt x="202" y="174"/>
                  </a:lnTo>
                  <a:lnTo>
                    <a:pt x="187" y="156"/>
                  </a:lnTo>
                  <a:lnTo>
                    <a:pt x="175" y="152"/>
                  </a:lnTo>
                  <a:lnTo>
                    <a:pt x="164" y="164"/>
                  </a:lnTo>
                  <a:lnTo>
                    <a:pt x="164" y="180"/>
                  </a:lnTo>
                  <a:lnTo>
                    <a:pt x="159" y="190"/>
                  </a:lnTo>
                  <a:lnTo>
                    <a:pt x="172" y="205"/>
                  </a:lnTo>
                  <a:lnTo>
                    <a:pt x="187" y="222"/>
                  </a:lnTo>
                  <a:lnTo>
                    <a:pt x="193" y="248"/>
                  </a:lnTo>
                  <a:lnTo>
                    <a:pt x="203" y="265"/>
                  </a:lnTo>
                  <a:lnTo>
                    <a:pt x="215" y="281"/>
                  </a:lnTo>
                  <a:lnTo>
                    <a:pt x="225" y="283"/>
                  </a:lnTo>
                  <a:lnTo>
                    <a:pt x="238" y="298"/>
                  </a:lnTo>
                  <a:lnTo>
                    <a:pt x="258" y="319"/>
                  </a:lnTo>
                  <a:lnTo>
                    <a:pt x="268" y="332"/>
                  </a:lnTo>
                  <a:lnTo>
                    <a:pt x="283" y="351"/>
                  </a:lnTo>
                  <a:lnTo>
                    <a:pt x="294" y="365"/>
                  </a:lnTo>
                  <a:lnTo>
                    <a:pt x="317" y="379"/>
                  </a:lnTo>
                  <a:lnTo>
                    <a:pt x="330" y="392"/>
                  </a:lnTo>
                  <a:lnTo>
                    <a:pt x="344" y="407"/>
                  </a:lnTo>
                  <a:lnTo>
                    <a:pt x="354" y="422"/>
                  </a:lnTo>
                  <a:lnTo>
                    <a:pt x="352" y="426"/>
                  </a:lnTo>
                  <a:lnTo>
                    <a:pt x="339" y="420"/>
                  </a:lnTo>
                  <a:lnTo>
                    <a:pt x="321" y="407"/>
                  </a:lnTo>
                  <a:lnTo>
                    <a:pt x="304" y="385"/>
                  </a:lnTo>
                  <a:lnTo>
                    <a:pt x="278" y="370"/>
                  </a:lnTo>
                  <a:lnTo>
                    <a:pt x="254" y="352"/>
                  </a:lnTo>
                  <a:lnTo>
                    <a:pt x="236" y="341"/>
                  </a:lnTo>
                  <a:lnTo>
                    <a:pt x="216" y="331"/>
                  </a:lnTo>
                  <a:lnTo>
                    <a:pt x="197" y="332"/>
                  </a:lnTo>
                  <a:lnTo>
                    <a:pt x="183" y="337"/>
                  </a:lnTo>
                  <a:lnTo>
                    <a:pt x="170" y="329"/>
                  </a:lnTo>
                  <a:lnTo>
                    <a:pt x="177" y="311"/>
                  </a:lnTo>
                  <a:lnTo>
                    <a:pt x="164" y="298"/>
                  </a:lnTo>
                  <a:lnTo>
                    <a:pt x="150" y="293"/>
                  </a:lnTo>
                  <a:lnTo>
                    <a:pt x="134" y="278"/>
                  </a:lnTo>
                  <a:lnTo>
                    <a:pt x="117" y="261"/>
                  </a:lnTo>
                  <a:lnTo>
                    <a:pt x="126" y="256"/>
                  </a:lnTo>
                  <a:lnTo>
                    <a:pt x="132" y="246"/>
                  </a:lnTo>
                  <a:lnTo>
                    <a:pt x="157" y="258"/>
                  </a:lnTo>
                  <a:lnTo>
                    <a:pt x="149" y="251"/>
                  </a:lnTo>
                  <a:lnTo>
                    <a:pt x="122" y="225"/>
                  </a:lnTo>
                  <a:lnTo>
                    <a:pt x="101" y="204"/>
                  </a:lnTo>
                  <a:lnTo>
                    <a:pt x="106" y="190"/>
                  </a:lnTo>
                  <a:lnTo>
                    <a:pt x="103" y="170"/>
                  </a:lnTo>
                  <a:lnTo>
                    <a:pt x="94" y="147"/>
                  </a:lnTo>
                  <a:lnTo>
                    <a:pt x="69" y="133"/>
                  </a:lnTo>
                  <a:lnTo>
                    <a:pt x="60" y="141"/>
                  </a:lnTo>
                  <a:lnTo>
                    <a:pt x="51" y="167"/>
                  </a:lnTo>
                  <a:lnTo>
                    <a:pt x="35" y="190"/>
                  </a:lnTo>
                  <a:lnTo>
                    <a:pt x="17" y="177"/>
                  </a:lnTo>
                  <a:lnTo>
                    <a:pt x="5" y="152"/>
                  </a:lnTo>
                  <a:lnTo>
                    <a:pt x="0" y="123"/>
                  </a:lnTo>
                  <a:lnTo>
                    <a:pt x="2" y="119"/>
                  </a:lnTo>
                  <a:lnTo>
                    <a:pt x="7" y="116"/>
                  </a:lnTo>
                  <a:lnTo>
                    <a:pt x="23" y="123"/>
                  </a:lnTo>
                  <a:lnTo>
                    <a:pt x="66" y="124"/>
                  </a:lnTo>
                  <a:lnTo>
                    <a:pt x="73" y="103"/>
                  </a:lnTo>
                  <a:lnTo>
                    <a:pt x="91" y="99"/>
                  </a:lnTo>
                  <a:lnTo>
                    <a:pt x="98" y="121"/>
                  </a:lnTo>
                  <a:lnTo>
                    <a:pt x="132" y="123"/>
                  </a:lnTo>
                  <a:lnTo>
                    <a:pt x="132" y="101"/>
                  </a:lnTo>
                  <a:lnTo>
                    <a:pt x="139" y="88"/>
                  </a:lnTo>
                  <a:lnTo>
                    <a:pt x="165" y="88"/>
                  </a:lnTo>
                  <a:lnTo>
                    <a:pt x="169" y="76"/>
                  </a:lnTo>
                  <a:lnTo>
                    <a:pt x="157" y="60"/>
                  </a:lnTo>
                  <a:lnTo>
                    <a:pt x="157" y="37"/>
                  </a:lnTo>
                  <a:lnTo>
                    <a:pt x="175" y="37"/>
                  </a:lnTo>
                  <a:lnTo>
                    <a:pt x="202" y="37"/>
                  </a:lnTo>
                  <a:lnTo>
                    <a:pt x="207" y="27"/>
                  </a:lnTo>
                  <a:lnTo>
                    <a:pt x="215" y="9"/>
                  </a:lnTo>
                  <a:lnTo>
                    <a:pt x="223" y="0"/>
                  </a:lnTo>
                  <a:lnTo>
                    <a:pt x="238" y="20"/>
                  </a:lnTo>
                  <a:lnTo>
                    <a:pt x="254" y="42"/>
                  </a:lnTo>
                  <a:lnTo>
                    <a:pt x="281" y="58"/>
                  </a:lnTo>
                  <a:lnTo>
                    <a:pt x="292" y="75"/>
                  </a:lnTo>
                  <a:lnTo>
                    <a:pt x="317" y="93"/>
                  </a:lnTo>
                  <a:lnTo>
                    <a:pt x="359" y="95"/>
                  </a:lnTo>
                  <a:lnTo>
                    <a:pt x="395" y="73"/>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6395760" y="6361200"/>
              <a:ext cx="128520" cy="43560"/>
            </a:xfrm>
            <a:custGeom>
              <a:avLst/>
              <a:gdLst/>
              <a:ahLst/>
              <a:rect l="l" t="t" r="r" b="b"/>
              <a:pathLst>
                <a:path w="46" h="17">
                  <a:moveTo>
                    <a:pt x="45" y="16"/>
                  </a:moveTo>
                  <a:lnTo>
                    <a:pt x="25" y="2"/>
                  </a:lnTo>
                  <a:lnTo>
                    <a:pt x="0" y="0"/>
                  </a:lnTo>
                  <a:lnTo>
                    <a:pt x="15" y="13"/>
                  </a:lnTo>
                  <a:lnTo>
                    <a:pt x="45" y="16"/>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4" name=""/>
            <p:cNvSpPr/>
            <p:nvPr/>
          </p:nvSpPr>
          <p:spPr>
            <a:xfrm>
              <a:off x="6368040" y="6284520"/>
              <a:ext cx="142200" cy="74520"/>
            </a:xfrm>
            <a:custGeom>
              <a:avLst/>
              <a:gdLst/>
              <a:ahLst/>
              <a:rect l="l" t="t" r="r" b="b"/>
              <a:pathLst>
                <a:path w="51" h="29">
                  <a:moveTo>
                    <a:pt x="2" y="0"/>
                  </a:moveTo>
                  <a:lnTo>
                    <a:pt x="0" y="12"/>
                  </a:lnTo>
                  <a:lnTo>
                    <a:pt x="22" y="17"/>
                  </a:lnTo>
                  <a:lnTo>
                    <a:pt x="50" y="28"/>
                  </a:lnTo>
                  <a:lnTo>
                    <a:pt x="32" y="9"/>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 name=""/>
            <p:cNvSpPr/>
            <p:nvPr/>
          </p:nvSpPr>
          <p:spPr>
            <a:xfrm>
              <a:off x="6281280" y="6310080"/>
              <a:ext cx="86400" cy="43560"/>
            </a:xfrm>
            <a:custGeom>
              <a:avLst/>
              <a:gdLst/>
              <a:ahLst/>
              <a:rect l="l" t="t" r="r" b="b"/>
              <a:pathLst>
                <a:path w="31" h="17">
                  <a:moveTo>
                    <a:pt x="2" y="0"/>
                  </a:moveTo>
                  <a:lnTo>
                    <a:pt x="0" y="9"/>
                  </a:lnTo>
                  <a:lnTo>
                    <a:pt x="17" y="16"/>
                  </a:lnTo>
                  <a:lnTo>
                    <a:pt x="30" y="6"/>
                  </a:lnTo>
                  <a:lnTo>
                    <a:pt x="28" y="6"/>
                  </a:lnTo>
                  <a:lnTo>
                    <a:pt x="26" y="6"/>
                  </a:lnTo>
                  <a:lnTo>
                    <a:pt x="25" y="3"/>
                  </a:lnTo>
                  <a:lnTo>
                    <a:pt x="23" y="3"/>
                  </a:lnTo>
                  <a:lnTo>
                    <a:pt x="22" y="3"/>
                  </a:lnTo>
                  <a:lnTo>
                    <a:pt x="20" y="3"/>
                  </a:lnTo>
                  <a:lnTo>
                    <a:pt x="18" y="3"/>
                  </a:lnTo>
                  <a:lnTo>
                    <a:pt x="17" y="3"/>
                  </a:lnTo>
                  <a:lnTo>
                    <a:pt x="15" y="3"/>
                  </a:lnTo>
                  <a:lnTo>
                    <a:pt x="13" y="3"/>
                  </a:lnTo>
                  <a:lnTo>
                    <a:pt x="12" y="3"/>
                  </a:lnTo>
                  <a:lnTo>
                    <a:pt x="10" y="2"/>
                  </a:lnTo>
                  <a:lnTo>
                    <a:pt x="8" y="2"/>
                  </a:lnTo>
                  <a:lnTo>
                    <a:pt x="7" y="2"/>
                  </a:lnTo>
                  <a:lnTo>
                    <a:pt x="5" y="2"/>
                  </a:lnTo>
                  <a:lnTo>
                    <a:pt x="3" y="2"/>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6" name=""/>
            <p:cNvSpPr/>
            <p:nvPr/>
          </p:nvSpPr>
          <p:spPr>
            <a:xfrm>
              <a:off x="6237000" y="6245280"/>
              <a:ext cx="131040" cy="43560"/>
            </a:xfrm>
            <a:custGeom>
              <a:avLst/>
              <a:gdLst/>
              <a:ahLst/>
              <a:rect l="l" t="t" r="r" b="b"/>
              <a:pathLst>
                <a:path w="47" h="17">
                  <a:moveTo>
                    <a:pt x="46" y="6"/>
                  </a:moveTo>
                  <a:lnTo>
                    <a:pt x="26" y="6"/>
                  </a:lnTo>
                  <a:lnTo>
                    <a:pt x="21" y="0"/>
                  </a:lnTo>
                  <a:lnTo>
                    <a:pt x="4" y="2"/>
                  </a:lnTo>
                  <a:lnTo>
                    <a:pt x="0" y="9"/>
                  </a:lnTo>
                  <a:lnTo>
                    <a:pt x="9" y="16"/>
                  </a:lnTo>
                  <a:lnTo>
                    <a:pt x="34" y="16"/>
                  </a:lnTo>
                  <a:lnTo>
                    <a:pt x="36" y="16"/>
                  </a:lnTo>
                  <a:lnTo>
                    <a:pt x="36" y="13"/>
                  </a:lnTo>
                  <a:lnTo>
                    <a:pt x="38" y="13"/>
                  </a:lnTo>
                  <a:lnTo>
                    <a:pt x="39" y="13"/>
                  </a:lnTo>
                  <a:lnTo>
                    <a:pt x="39" y="12"/>
                  </a:lnTo>
                  <a:lnTo>
                    <a:pt x="41" y="12"/>
                  </a:lnTo>
                  <a:lnTo>
                    <a:pt x="42" y="9"/>
                  </a:lnTo>
                  <a:lnTo>
                    <a:pt x="44" y="9"/>
                  </a:lnTo>
                  <a:lnTo>
                    <a:pt x="46" y="6"/>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7" name=""/>
            <p:cNvSpPr/>
            <p:nvPr/>
          </p:nvSpPr>
          <p:spPr>
            <a:xfrm>
              <a:off x="6239520" y="6199200"/>
              <a:ext cx="100440" cy="43560"/>
            </a:xfrm>
            <a:custGeom>
              <a:avLst/>
              <a:gdLst/>
              <a:ahLst/>
              <a:rect l="l" t="t" r="r" b="b"/>
              <a:pathLst>
                <a:path w="36" h="17">
                  <a:moveTo>
                    <a:pt x="23" y="2"/>
                  </a:moveTo>
                  <a:lnTo>
                    <a:pt x="12" y="0"/>
                  </a:lnTo>
                  <a:lnTo>
                    <a:pt x="0" y="2"/>
                  </a:lnTo>
                  <a:lnTo>
                    <a:pt x="3" y="12"/>
                  </a:lnTo>
                  <a:lnTo>
                    <a:pt x="18" y="12"/>
                  </a:lnTo>
                  <a:lnTo>
                    <a:pt x="23" y="16"/>
                  </a:lnTo>
                  <a:lnTo>
                    <a:pt x="35" y="13"/>
                  </a:lnTo>
                  <a:lnTo>
                    <a:pt x="23" y="2"/>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8" name=""/>
            <p:cNvSpPr/>
            <p:nvPr/>
          </p:nvSpPr>
          <p:spPr>
            <a:xfrm>
              <a:off x="6169680" y="6289200"/>
              <a:ext cx="49680" cy="43560"/>
            </a:xfrm>
            <a:custGeom>
              <a:avLst/>
              <a:gdLst/>
              <a:ahLst/>
              <a:rect l="l" t="t" r="r" b="b"/>
              <a:pathLst>
                <a:path w="18" h="17">
                  <a:moveTo>
                    <a:pt x="10" y="0"/>
                  </a:moveTo>
                  <a:lnTo>
                    <a:pt x="0" y="3"/>
                  </a:lnTo>
                  <a:lnTo>
                    <a:pt x="2" y="16"/>
                  </a:lnTo>
                  <a:lnTo>
                    <a:pt x="17" y="4"/>
                  </a:lnTo>
                  <a:lnTo>
                    <a:pt x="1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9" name=""/>
            <p:cNvSpPr/>
            <p:nvPr/>
          </p:nvSpPr>
          <p:spPr>
            <a:xfrm>
              <a:off x="6300720" y="6361200"/>
              <a:ext cx="52920" cy="43560"/>
            </a:xfrm>
            <a:custGeom>
              <a:avLst/>
              <a:gdLst/>
              <a:ahLst/>
              <a:rect l="l" t="t" r="r" b="b"/>
              <a:pathLst>
                <a:path w="19" h="17">
                  <a:moveTo>
                    <a:pt x="5" y="0"/>
                  </a:moveTo>
                  <a:lnTo>
                    <a:pt x="0" y="14"/>
                  </a:lnTo>
                  <a:lnTo>
                    <a:pt x="10" y="16"/>
                  </a:lnTo>
                  <a:lnTo>
                    <a:pt x="18" y="6"/>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0" name=""/>
            <p:cNvSpPr/>
            <p:nvPr/>
          </p:nvSpPr>
          <p:spPr>
            <a:xfrm>
              <a:off x="6197760" y="6209640"/>
              <a:ext cx="47160" cy="43560"/>
            </a:xfrm>
            <a:custGeom>
              <a:avLst/>
              <a:gdLst/>
              <a:ahLst/>
              <a:rect l="l" t="t" r="r" b="b"/>
              <a:pathLst>
                <a:path w="17" h="17">
                  <a:moveTo>
                    <a:pt x="0" y="2"/>
                  </a:moveTo>
                  <a:lnTo>
                    <a:pt x="12" y="16"/>
                  </a:lnTo>
                  <a:lnTo>
                    <a:pt x="16" y="6"/>
                  </a:lnTo>
                  <a:lnTo>
                    <a:pt x="12" y="6"/>
                  </a:lnTo>
                  <a:lnTo>
                    <a:pt x="12" y="2"/>
                  </a:lnTo>
                  <a:lnTo>
                    <a:pt x="8" y="2"/>
                  </a:lnTo>
                  <a:lnTo>
                    <a:pt x="7" y="2"/>
                  </a:lnTo>
                  <a:lnTo>
                    <a:pt x="3" y="2"/>
                  </a:lnTo>
                  <a:lnTo>
                    <a:pt x="0" y="2"/>
                  </a:lnTo>
                  <a:lnTo>
                    <a:pt x="0" y="0"/>
                  </a:lnTo>
                  <a:lnTo>
                    <a:pt x="0" y="2"/>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1" name=""/>
            <p:cNvSpPr/>
            <p:nvPr/>
          </p:nvSpPr>
          <p:spPr>
            <a:xfrm>
              <a:off x="5893200" y="5965200"/>
              <a:ext cx="81000" cy="100080"/>
            </a:xfrm>
            <a:custGeom>
              <a:avLst/>
              <a:gdLst/>
              <a:ahLst/>
              <a:rect l="l" t="t" r="r" b="b"/>
              <a:pathLst>
                <a:path w="29" h="39">
                  <a:moveTo>
                    <a:pt x="5" y="0"/>
                  </a:moveTo>
                  <a:lnTo>
                    <a:pt x="0" y="10"/>
                  </a:lnTo>
                  <a:lnTo>
                    <a:pt x="9" y="20"/>
                  </a:lnTo>
                  <a:lnTo>
                    <a:pt x="23" y="38"/>
                  </a:lnTo>
                  <a:lnTo>
                    <a:pt x="28" y="32"/>
                  </a:lnTo>
                  <a:lnTo>
                    <a:pt x="14" y="17"/>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985720" y="6073200"/>
              <a:ext cx="47160" cy="43560"/>
            </a:xfrm>
            <a:custGeom>
              <a:avLst/>
              <a:gdLst/>
              <a:ahLst/>
              <a:rect l="l" t="t" r="r" b="b"/>
              <a:pathLst>
                <a:path w="17" h="17">
                  <a:moveTo>
                    <a:pt x="5" y="0"/>
                  </a:moveTo>
                  <a:lnTo>
                    <a:pt x="0" y="1"/>
                  </a:lnTo>
                  <a:lnTo>
                    <a:pt x="4" y="11"/>
                  </a:lnTo>
                  <a:lnTo>
                    <a:pt x="16" y="16"/>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3" name=""/>
            <p:cNvSpPr/>
            <p:nvPr/>
          </p:nvSpPr>
          <p:spPr>
            <a:xfrm>
              <a:off x="6060960" y="6098760"/>
              <a:ext cx="47160" cy="43560"/>
            </a:xfrm>
            <a:custGeom>
              <a:avLst/>
              <a:gdLst/>
              <a:ahLst/>
              <a:rect l="l" t="t" r="r" b="b"/>
              <a:pathLst>
                <a:path w="17" h="17">
                  <a:moveTo>
                    <a:pt x="0" y="0"/>
                  </a:moveTo>
                  <a:lnTo>
                    <a:pt x="0" y="12"/>
                  </a:lnTo>
                  <a:lnTo>
                    <a:pt x="16" y="16"/>
                  </a:lnTo>
                  <a:lnTo>
                    <a:pt x="12" y="3"/>
                  </a:lnTo>
                  <a:lnTo>
                    <a:pt x="12" y="1"/>
                  </a:lnTo>
                  <a:lnTo>
                    <a:pt x="9" y="1"/>
                  </a:lnTo>
                  <a:lnTo>
                    <a:pt x="8" y="1"/>
                  </a:lnTo>
                  <a:lnTo>
                    <a:pt x="4" y="1"/>
                  </a:lnTo>
                  <a:lnTo>
                    <a:pt x="4" y="0"/>
                  </a:lnTo>
                  <a:lnTo>
                    <a:pt x="1"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4" name=""/>
            <p:cNvSpPr/>
            <p:nvPr/>
          </p:nvSpPr>
          <p:spPr>
            <a:xfrm>
              <a:off x="6055200" y="6073200"/>
              <a:ext cx="47160" cy="43560"/>
            </a:xfrm>
            <a:custGeom>
              <a:avLst/>
              <a:gdLst/>
              <a:ahLst/>
              <a:rect l="l" t="t" r="r" b="b"/>
              <a:pathLst>
                <a:path w="17" h="17">
                  <a:moveTo>
                    <a:pt x="0" y="0"/>
                  </a:moveTo>
                  <a:lnTo>
                    <a:pt x="4" y="16"/>
                  </a:lnTo>
                  <a:lnTo>
                    <a:pt x="16" y="16"/>
                  </a:lnTo>
                  <a:lnTo>
                    <a:pt x="10" y="2"/>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5" name=""/>
            <p:cNvSpPr/>
            <p:nvPr/>
          </p:nvSpPr>
          <p:spPr>
            <a:xfrm>
              <a:off x="5949000" y="5983560"/>
              <a:ext cx="78480" cy="79200"/>
            </a:xfrm>
            <a:custGeom>
              <a:avLst/>
              <a:gdLst/>
              <a:ahLst/>
              <a:rect l="l" t="t" r="r" b="b"/>
              <a:pathLst>
                <a:path w="28" h="31">
                  <a:moveTo>
                    <a:pt x="2" y="0"/>
                  </a:moveTo>
                  <a:lnTo>
                    <a:pt x="0" y="8"/>
                  </a:lnTo>
                  <a:lnTo>
                    <a:pt x="23" y="30"/>
                  </a:lnTo>
                  <a:lnTo>
                    <a:pt x="27" y="28"/>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6" name=""/>
            <p:cNvSpPr/>
            <p:nvPr/>
          </p:nvSpPr>
          <p:spPr>
            <a:xfrm>
              <a:off x="5904720" y="5847120"/>
              <a:ext cx="83520" cy="105480"/>
            </a:xfrm>
            <a:custGeom>
              <a:avLst/>
              <a:gdLst/>
              <a:ahLst/>
              <a:rect l="l" t="t" r="r" b="b"/>
              <a:pathLst>
                <a:path w="30" h="41">
                  <a:moveTo>
                    <a:pt x="0" y="0"/>
                  </a:moveTo>
                  <a:lnTo>
                    <a:pt x="0" y="13"/>
                  </a:lnTo>
                  <a:lnTo>
                    <a:pt x="14" y="25"/>
                  </a:lnTo>
                  <a:lnTo>
                    <a:pt x="18" y="38"/>
                  </a:lnTo>
                  <a:lnTo>
                    <a:pt x="28" y="40"/>
                  </a:lnTo>
                  <a:lnTo>
                    <a:pt x="29" y="32"/>
                  </a:lnTo>
                  <a:lnTo>
                    <a:pt x="16" y="15"/>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870880" y="5774760"/>
              <a:ext cx="47160" cy="43560"/>
            </a:xfrm>
            <a:custGeom>
              <a:avLst/>
              <a:gdLst/>
              <a:ahLst/>
              <a:rect l="l" t="t" r="r" b="b"/>
              <a:pathLst>
                <a:path w="17" h="17">
                  <a:moveTo>
                    <a:pt x="8" y="0"/>
                  </a:moveTo>
                  <a:lnTo>
                    <a:pt x="0" y="3"/>
                  </a:lnTo>
                  <a:lnTo>
                    <a:pt x="0" y="12"/>
                  </a:lnTo>
                  <a:lnTo>
                    <a:pt x="8" y="16"/>
                  </a:lnTo>
                  <a:lnTo>
                    <a:pt x="16" y="8"/>
                  </a:lnTo>
                  <a:lnTo>
                    <a:pt x="8"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8" name=""/>
            <p:cNvSpPr/>
            <p:nvPr/>
          </p:nvSpPr>
          <p:spPr>
            <a:xfrm>
              <a:off x="5801400" y="5697720"/>
              <a:ext cx="52200" cy="138600"/>
            </a:xfrm>
            <a:custGeom>
              <a:avLst/>
              <a:gdLst/>
              <a:ahLst/>
              <a:rect l="l" t="t" r="r" b="b"/>
              <a:pathLst>
                <a:path w="19" h="54">
                  <a:moveTo>
                    <a:pt x="7" y="0"/>
                  </a:moveTo>
                  <a:lnTo>
                    <a:pt x="4" y="5"/>
                  </a:lnTo>
                  <a:lnTo>
                    <a:pt x="7" y="14"/>
                  </a:lnTo>
                  <a:lnTo>
                    <a:pt x="7" y="23"/>
                  </a:lnTo>
                  <a:lnTo>
                    <a:pt x="0" y="23"/>
                  </a:lnTo>
                  <a:lnTo>
                    <a:pt x="2" y="42"/>
                  </a:lnTo>
                  <a:lnTo>
                    <a:pt x="9" y="47"/>
                  </a:lnTo>
                  <a:lnTo>
                    <a:pt x="18" y="53"/>
                  </a:lnTo>
                  <a:lnTo>
                    <a:pt x="17" y="22"/>
                  </a:lnTo>
                  <a:lnTo>
                    <a:pt x="7"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851440" y="5690160"/>
              <a:ext cx="55440" cy="74520"/>
            </a:xfrm>
            <a:custGeom>
              <a:avLst/>
              <a:gdLst/>
              <a:ahLst/>
              <a:rect l="l" t="t" r="r" b="b"/>
              <a:pathLst>
                <a:path w="20" h="29">
                  <a:moveTo>
                    <a:pt x="4" y="0"/>
                  </a:moveTo>
                  <a:lnTo>
                    <a:pt x="0" y="7"/>
                  </a:lnTo>
                  <a:lnTo>
                    <a:pt x="5" y="13"/>
                  </a:lnTo>
                  <a:lnTo>
                    <a:pt x="9" y="25"/>
                  </a:lnTo>
                  <a:lnTo>
                    <a:pt x="19" y="28"/>
                  </a:lnTo>
                  <a:lnTo>
                    <a:pt x="19" y="17"/>
                  </a:lnTo>
                  <a:lnTo>
                    <a:pt x="4" y="0"/>
                  </a:lnTo>
                </a:path>
              </a:pathLst>
            </a:custGeom>
            <a:solidFill>
              <a:srgbClr val="006790"/>
            </a:solidFill>
            <a:ln cap="rnd" w="3240">
              <a:solidFill>
                <a:srgbClr val="004463"/>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 name=""/>
            <p:cNvSpPr/>
            <p:nvPr/>
          </p:nvSpPr>
          <p:spPr>
            <a:xfrm>
              <a:off x="5784120" y="5821200"/>
              <a:ext cx="55440" cy="48960"/>
            </a:xfrm>
            <a:custGeom>
              <a:avLst/>
              <a:gdLst/>
              <a:ahLst/>
              <a:rect l="l" t="t" r="r" b="b"/>
              <a:pathLst>
                <a:path w="20" h="19">
                  <a:moveTo>
                    <a:pt x="0" y="0"/>
                  </a:moveTo>
                  <a:lnTo>
                    <a:pt x="5" y="13"/>
                  </a:lnTo>
                  <a:lnTo>
                    <a:pt x="19" y="18"/>
                  </a:lnTo>
                  <a:lnTo>
                    <a:pt x="15" y="4"/>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
        <p:nvSpPr>
          <p:cNvPr id="231" name=""/>
          <p:cNvSpPr/>
          <p:nvPr/>
        </p:nvSpPr>
        <p:spPr>
          <a:xfrm>
            <a:off x="6087960" y="5684760"/>
            <a:ext cx="820800" cy="746280"/>
          </a:xfrm>
          <a:custGeom>
            <a:avLst/>
            <a:gdLst/>
            <a:ahLst/>
            <a:rect l="l" t="t" r="r" b="b"/>
            <a:pathLst>
              <a:path w="293" h="291">
                <a:moveTo>
                  <a:pt x="204" y="290"/>
                </a:moveTo>
                <a:lnTo>
                  <a:pt x="213" y="282"/>
                </a:lnTo>
                <a:lnTo>
                  <a:pt x="209" y="243"/>
                </a:lnTo>
                <a:lnTo>
                  <a:pt x="221" y="228"/>
                </a:lnTo>
                <a:lnTo>
                  <a:pt x="226" y="216"/>
                </a:lnTo>
                <a:lnTo>
                  <a:pt x="241" y="213"/>
                </a:lnTo>
                <a:lnTo>
                  <a:pt x="246" y="185"/>
                </a:lnTo>
                <a:lnTo>
                  <a:pt x="264" y="180"/>
                </a:lnTo>
                <a:lnTo>
                  <a:pt x="287" y="180"/>
                </a:lnTo>
                <a:lnTo>
                  <a:pt x="285" y="162"/>
                </a:lnTo>
                <a:lnTo>
                  <a:pt x="271" y="147"/>
                </a:lnTo>
                <a:lnTo>
                  <a:pt x="274" y="140"/>
                </a:lnTo>
                <a:lnTo>
                  <a:pt x="292" y="140"/>
                </a:lnTo>
                <a:lnTo>
                  <a:pt x="289" y="122"/>
                </a:lnTo>
                <a:lnTo>
                  <a:pt x="264" y="107"/>
                </a:lnTo>
                <a:lnTo>
                  <a:pt x="264" y="77"/>
                </a:lnTo>
                <a:lnTo>
                  <a:pt x="280" y="59"/>
                </a:lnTo>
                <a:lnTo>
                  <a:pt x="280" y="34"/>
                </a:lnTo>
                <a:lnTo>
                  <a:pt x="272" y="26"/>
                </a:lnTo>
                <a:lnTo>
                  <a:pt x="271" y="33"/>
                </a:lnTo>
                <a:lnTo>
                  <a:pt x="264" y="41"/>
                </a:lnTo>
                <a:lnTo>
                  <a:pt x="252" y="39"/>
                </a:lnTo>
                <a:lnTo>
                  <a:pt x="238" y="26"/>
                </a:lnTo>
                <a:lnTo>
                  <a:pt x="234" y="16"/>
                </a:lnTo>
                <a:lnTo>
                  <a:pt x="193" y="16"/>
                </a:lnTo>
                <a:lnTo>
                  <a:pt x="170" y="15"/>
                </a:lnTo>
                <a:lnTo>
                  <a:pt x="158" y="18"/>
                </a:lnTo>
                <a:lnTo>
                  <a:pt x="137" y="8"/>
                </a:lnTo>
                <a:lnTo>
                  <a:pt x="114" y="3"/>
                </a:lnTo>
                <a:lnTo>
                  <a:pt x="100" y="0"/>
                </a:lnTo>
                <a:lnTo>
                  <a:pt x="79" y="10"/>
                </a:lnTo>
                <a:lnTo>
                  <a:pt x="61" y="26"/>
                </a:lnTo>
                <a:lnTo>
                  <a:pt x="43" y="28"/>
                </a:lnTo>
                <a:lnTo>
                  <a:pt x="28" y="10"/>
                </a:lnTo>
                <a:lnTo>
                  <a:pt x="16" y="6"/>
                </a:lnTo>
                <a:lnTo>
                  <a:pt x="5" y="18"/>
                </a:lnTo>
                <a:lnTo>
                  <a:pt x="5" y="34"/>
                </a:lnTo>
                <a:lnTo>
                  <a:pt x="0" y="44"/>
                </a:lnTo>
                <a:lnTo>
                  <a:pt x="13" y="59"/>
                </a:lnTo>
                <a:lnTo>
                  <a:pt x="28" y="76"/>
                </a:lnTo>
                <a:lnTo>
                  <a:pt x="34" y="102"/>
                </a:lnTo>
                <a:lnTo>
                  <a:pt x="44" y="119"/>
                </a:lnTo>
                <a:lnTo>
                  <a:pt x="56" y="135"/>
                </a:lnTo>
                <a:lnTo>
                  <a:pt x="66" y="137"/>
                </a:lnTo>
                <a:lnTo>
                  <a:pt x="79" y="152"/>
                </a:lnTo>
                <a:lnTo>
                  <a:pt x="99" y="173"/>
                </a:lnTo>
                <a:lnTo>
                  <a:pt x="109" y="186"/>
                </a:lnTo>
                <a:lnTo>
                  <a:pt x="124" y="205"/>
                </a:lnTo>
                <a:lnTo>
                  <a:pt x="135" y="219"/>
                </a:lnTo>
                <a:lnTo>
                  <a:pt x="158" y="233"/>
                </a:lnTo>
                <a:lnTo>
                  <a:pt x="171" y="246"/>
                </a:lnTo>
                <a:lnTo>
                  <a:pt x="185" y="261"/>
                </a:lnTo>
                <a:lnTo>
                  <a:pt x="195" y="276"/>
                </a:lnTo>
                <a:lnTo>
                  <a:pt x="193" y="280"/>
                </a:lnTo>
                <a:lnTo>
                  <a:pt x="201" y="284"/>
                </a:lnTo>
                <a:lnTo>
                  <a:pt x="204" y="29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57840" y="5423040"/>
            <a:ext cx="1006560" cy="1176120"/>
          </a:xfrm>
          <a:custGeom>
            <a:avLst/>
            <a:gdLst/>
            <a:ahLst/>
            <a:rect l="l" t="t" r="r" b="b"/>
            <a:pathLst>
              <a:path w="360" h="458">
                <a:moveTo>
                  <a:pt x="154" y="3"/>
                </a:moveTo>
                <a:lnTo>
                  <a:pt x="157" y="20"/>
                </a:lnTo>
                <a:lnTo>
                  <a:pt x="172" y="43"/>
                </a:lnTo>
                <a:lnTo>
                  <a:pt x="179" y="64"/>
                </a:lnTo>
                <a:lnTo>
                  <a:pt x="182" y="91"/>
                </a:lnTo>
                <a:lnTo>
                  <a:pt x="204" y="101"/>
                </a:lnTo>
                <a:lnTo>
                  <a:pt x="215" y="119"/>
                </a:lnTo>
                <a:lnTo>
                  <a:pt x="225" y="127"/>
                </a:lnTo>
                <a:lnTo>
                  <a:pt x="223" y="147"/>
                </a:lnTo>
                <a:lnTo>
                  <a:pt x="243" y="159"/>
                </a:lnTo>
                <a:lnTo>
                  <a:pt x="263" y="163"/>
                </a:lnTo>
                <a:lnTo>
                  <a:pt x="281" y="178"/>
                </a:lnTo>
                <a:lnTo>
                  <a:pt x="301" y="173"/>
                </a:lnTo>
                <a:lnTo>
                  <a:pt x="301" y="159"/>
                </a:lnTo>
                <a:lnTo>
                  <a:pt x="329" y="162"/>
                </a:lnTo>
                <a:lnTo>
                  <a:pt x="328" y="170"/>
                </a:lnTo>
                <a:lnTo>
                  <a:pt x="316" y="183"/>
                </a:lnTo>
                <a:lnTo>
                  <a:pt x="314" y="205"/>
                </a:lnTo>
                <a:lnTo>
                  <a:pt x="332" y="206"/>
                </a:lnTo>
                <a:lnTo>
                  <a:pt x="328" y="225"/>
                </a:lnTo>
                <a:lnTo>
                  <a:pt x="309" y="243"/>
                </a:lnTo>
                <a:lnTo>
                  <a:pt x="313" y="276"/>
                </a:lnTo>
                <a:lnTo>
                  <a:pt x="329" y="297"/>
                </a:lnTo>
                <a:lnTo>
                  <a:pt x="347" y="310"/>
                </a:lnTo>
                <a:lnTo>
                  <a:pt x="357" y="309"/>
                </a:lnTo>
                <a:lnTo>
                  <a:pt x="359" y="324"/>
                </a:lnTo>
                <a:lnTo>
                  <a:pt x="339" y="332"/>
                </a:lnTo>
                <a:lnTo>
                  <a:pt x="316" y="350"/>
                </a:lnTo>
                <a:lnTo>
                  <a:pt x="309" y="383"/>
                </a:lnTo>
                <a:lnTo>
                  <a:pt x="309" y="408"/>
                </a:lnTo>
                <a:lnTo>
                  <a:pt x="301" y="410"/>
                </a:lnTo>
                <a:lnTo>
                  <a:pt x="257" y="408"/>
                </a:lnTo>
                <a:lnTo>
                  <a:pt x="238" y="421"/>
                </a:lnTo>
                <a:lnTo>
                  <a:pt x="209" y="424"/>
                </a:lnTo>
                <a:lnTo>
                  <a:pt x="189" y="436"/>
                </a:lnTo>
                <a:lnTo>
                  <a:pt x="176" y="444"/>
                </a:lnTo>
                <a:lnTo>
                  <a:pt x="166" y="411"/>
                </a:lnTo>
                <a:lnTo>
                  <a:pt x="139" y="393"/>
                </a:lnTo>
                <a:lnTo>
                  <a:pt x="119" y="372"/>
                </a:lnTo>
                <a:lnTo>
                  <a:pt x="111" y="383"/>
                </a:lnTo>
                <a:lnTo>
                  <a:pt x="95" y="378"/>
                </a:lnTo>
                <a:lnTo>
                  <a:pt x="80" y="393"/>
                </a:lnTo>
                <a:lnTo>
                  <a:pt x="85" y="411"/>
                </a:lnTo>
                <a:lnTo>
                  <a:pt x="80" y="431"/>
                </a:lnTo>
                <a:lnTo>
                  <a:pt x="75" y="457"/>
                </a:lnTo>
                <a:lnTo>
                  <a:pt x="63" y="453"/>
                </a:lnTo>
                <a:lnTo>
                  <a:pt x="55" y="439"/>
                </a:lnTo>
                <a:lnTo>
                  <a:pt x="34" y="424"/>
                </a:lnTo>
                <a:lnTo>
                  <a:pt x="27" y="413"/>
                </a:lnTo>
                <a:lnTo>
                  <a:pt x="32" y="400"/>
                </a:lnTo>
                <a:lnTo>
                  <a:pt x="15" y="406"/>
                </a:lnTo>
                <a:lnTo>
                  <a:pt x="5" y="400"/>
                </a:lnTo>
                <a:lnTo>
                  <a:pt x="0" y="391"/>
                </a:lnTo>
                <a:lnTo>
                  <a:pt x="9" y="383"/>
                </a:lnTo>
                <a:lnTo>
                  <a:pt x="5" y="344"/>
                </a:lnTo>
                <a:lnTo>
                  <a:pt x="17" y="329"/>
                </a:lnTo>
                <a:lnTo>
                  <a:pt x="22" y="317"/>
                </a:lnTo>
                <a:lnTo>
                  <a:pt x="37" y="314"/>
                </a:lnTo>
                <a:lnTo>
                  <a:pt x="42" y="286"/>
                </a:lnTo>
                <a:lnTo>
                  <a:pt x="60" y="281"/>
                </a:lnTo>
                <a:lnTo>
                  <a:pt x="83" y="281"/>
                </a:lnTo>
                <a:lnTo>
                  <a:pt x="81" y="263"/>
                </a:lnTo>
                <a:lnTo>
                  <a:pt x="67" y="248"/>
                </a:lnTo>
                <a:lnTo>
                  <a:pt x="70" y="241"/>
                </a:lnTo>
                <a:lnTo>
                  <a:pt x="88" y="241"/>
                </a:lnTo>
                <a:lnTo>
                  <a:pt x="85" y="223"/>
                </a:lnTo>
                <a:lnTo>
                  <a:pt x="60" y="208"/>
                </a:lnTo>
                <a:lnTo>
                  <a:pt x="60" y="178"/>
                </a:lnTo>
                <a:lnTo>
                  <a:pt x="76" y="160"/>
                </a:lnTo>
                <a:lnTo>
                  <a:pt x="76" y="135"/>
                </a:lnTo>
                <a:lnTo>
                  <a:pt x="68" y="127"/>
                </a:lnTo>
                <a:lnTo>
                  <a:pt x="68" y="109"/>
                </a:lnTo>
                <a:lnTo>
                  <a:pt x="60" y="88"/>
                </a:lnTo>
                <a:lnTo>
                  <a:pt x="48" y="71"/>
                </a:lnTo>
                <a:lnTo>
                  <a:pt x="38" y="58"/>
                </a:lnTo>
                <a:lnTo>
                  <a:pt x="38" y="40"/>
                </a:lnTo>
                <a:lnTo>
                  <a:pt x="32" y="28"/>
                </a:lnTo>
                <a:lnTo>
                  <a:pt x="38" y="23"/>
                </a:lnTo>
                <a:lnTo>
                  <a:pt x="58" y="26"/>
                </a:lnTo>
                <a:lnTo>
                  <a:pt x="80" y="3"/>
                </a:lnTo>
                <a:lnTo>
                  <a:pt x="101" y="0"/>
                </a:lnTo>
                <a:lnTo>
                  <a:pt x="133" y="0"/>
                </a:lnTo>
                <a:lnTo>
                  <a:pt x="152" y="5"/>
                </a:lnTo>
                <a:lnTo>
                  <a:pt x="154" y="3"/>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108920" y="6470640"/>
            <a:ext cx="555480" cy="439920"/>
          </a:xfrm>
          <a:custGeom>
            <a:avLst/>
            <a:gdLst/>
            <a:ahLst/>
            <a:rect l="l" t="t" r="r" b="b"/>
            <a:pathLst>
              <a:path w="199" h="171">
                <a:moveTo>
                  <a:pt x="198" y="94"/>
                </a:moveTo>
                <a:lnTo>
                  <a:pt x="198" y="78"/>
                </a:lnTo>
                <a:lnTo>
                  <a:pt x="196" y="45"/>
                </a:lnTo>
                <a:lnTo>
                  <a:pt x="185" y="35"/>
                </a:lnTo>
                <a:lnTo>
                  <a:pt x="181" y="25"/>
                </a:lnTo>
                <a:lnTo>
                  <a:pt x="162" y="21"/>
                </a:lnTo>
                <a:lnTo>
                  <a:pt x="148" y="10"/>
                </a:lnTo>
                <a:lnTo>
                  <a:pt x="145" y="0"/>
                </a:lnTo>
                <a:lnTo>
                  <a:pt x="140" y="2"/>
                </a:lnTo>
                <a:lnTo>
                  <a:pt x="96" y="0"/>
                </a:lnTo>
                <a:lnTo>
                  <a:pt x="77" y="13"/>
                </a:lnTo>
                <a:lnTo>
                  <a:pt x="48" y="16"/>
                </a:lnTo>
                <a:lnTo>
                  <a:pt x="28" y="28"/>
                </a:lnTo>
                <a:lnTo>
                  <a:pt x="15" y="36"/>
                </a:lnTo>
                <a:lnTo>
                  <a:pt x="6" y="71"/>
                </a:lnTo>
                <a:lnTo>
                  <a:pt x="0" y="99"/>
                </a:lnTo>
                <a:lnTo>
                  <a:pt x="8" y="116"/>
                </a:lnTo>
                <a:lnTo>
                  <a:pt x="16" y="150"/>
                </a:lnTo>
                <a:lnTo>
                  <a:pt x="26" y="163"/>
                </a:lnTo>
                <a:lnTo>
                  <a:pt x="49" y="170"/>
                </a:lnTo>
                <a:lnTo>
                  <a:pt x="67" y="155"/>
                </a:lnTo>
                <a:lnTo>
                  <a:pt x="100" y="149"/>
                </a:lnTo>
                <a:lnTo>
                  <a:pt x="120" y="130"/>
                </a:lnTo>
                <a:lnTo>
                  <a:pt x="150" y="130"/>
                </a:lnTo>
                <a:lnTo>
                  <a:pt x="168" y="130"/>
                </a:lnTo>
                <a:lnTo>
                  <a:pt x="181" y="112"/>
                </a:lnTo>
                <a:lnTo>
                  <a:pt x="193" y="94"/>
                </a:lnTo>
                <a:lnTo>
                  <a:pt x="198" y="94"/>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512120" y="5918040"/>
            <a:ext cx="1360440" cy="797040"/>
          </a:xfrm>
          <a:custGeom>
            <a:avLst/>
            <a:gdLst/>
            <a:ahLst/>
            <a:rect l="l" t="t" r="r" b="b"/>
            <a:pathLst>
              <a:path w="488" h="311">
                <a:moveTo>
                  <a:pt x="25" y="21"/>
                </a:moveTo>
                <a:lnTo>
                  <a:pt x="38" y="18"/>
                </a:lnTo>
                <a:lnTo>
                  <a:pt x="45" y="28"/>
                </a:lnTo>
                <a:lnTo>
                  <a:pt x="36" y="46"/>
                </a:lnTo>
                <a:lnTo>
                  <a:pt x="46" y="61"/>
                </a:lnTo>
                <a:lnTo>
                  <a:pt x="64" y="51"/>
                </a:lnTo>
                <a:lnTo>
                  <a:pt x="89" y="51"/>
                </a:lnTo>
                <a:lnTo>
                  <a:pt x="101" y="57"/>
                </a:lnTo>
                <a:lnTo>
                  <a:pt x="124" y="57"/>
                </a:lnTo>
                <a:lnTo>
                  <a:pt x="137" y="59"/>
                </a:lnTo>
                <a:lnTo>
                  <a:pt x="160" y="56"/>
                </a:lnTo>
                <a:lnTo>
                  <a:pt x="190" y="54"/>
                </a:lnTo>
                <a:lnTo>
                  <a:pt x="220" y="56"/>
                </a:lnTo>
                <a:lnTo>
                  <a:pt x="233" y="64"/>
                </a:lnTo>
                <a:lnTo>
                  <a:pt x="254" y="56"/>
                </a:lnTo>
                <a:lnTo>
                  <a:pt x="282" y="29"/>
                </a:lnTo>
                <a:lnTo>
                  <a:pt x="294" y="16"/>
                </a:lnTo>
                <a:lnTo>
                  <a:pt x="320" y="11"/>
                </a:lnTo>
                <a:lnTo>
                  <a:pt x="337" y="0"/>
                </a:lnTo>
                <a:lnTo>
                  <a:pt x="372" y="0"/>
                </a:lnTo>
                <a:lnTo>
                  <a:pt x="387" y="1"/>
                </a:lnTo>
                <a:lnTo>
                  <a:pt x="415" y="5"/>
                </a:lnTo>
                <a:lnTo>
                  <a:pt x="433" y="18"/>
                </a:lnTo>
                <a:lnTo>
                  <a:pt x="466" y="14"/>
                </a:lnTo>
                <a:lnTo>
                  <a:pt x="481" y="14"/>
                </a:lnTo>
                <a:lnTo>
                  <a:pt x="479" y="34"/>
                </a:lnTo>
                <a:lnTo>
                  <a:pt x="487" y="46"/>
                </a:lnTo>
                <a:lnTo>
                  <a:pt x="476" y="69"/>
                </a:lnTo>
                <a:lnTo>
                  <a:pt x="466" y="66"/>
                </a:lnTo>
                <a:lnTo>
                  <a:pt x="443" y="67"/>
                </a:lnTo>
                <a:lnTo>
                  <a:pt x="420" y="92"/>
                </a:lnTo>
                <a:lnTo>
                  <a:pt x="416" y="137"/>
                </a:lnTo>
                <a:lnTo>
                  <a:pt x="408" y="163"/>
                </a:lnTo>
                <a:lnTo>
                  <a:pt x="421" y="171"/>
                </a:lnTo>
                <a:lnTo>
                  <a:pt x="438" y="191"/>
                </a:lnTo>
                <a:lnTo>
                  <a:pt x="454" y="209"/>
                </a:lnTo>
                <a:lnTo>
                  <a:pt x="439" y="218"/>
                </a:lnTo>
                <a:lnTo>
                  <a:pt x="425" y="234"/>
                </a:lnTo>
                <a:lnTo>
                  <a:pt x="405" y="227"/>
                </a:lnTo>
                <a:lnTo>
                  <a:pt x="380" y="198"/>
                </a:lnTo>
                <a:lnTo>
                  <a:pt x="358" y="208"/>
                </a:lnTo>
                <a:lnTo>
                  <a:pt x="362" y="223"/>
                </a:lnTo>
                <a:lnTo>
                  <a:pt x="329" y="232"/>
                </a:lnTo>
                <a:lnTo>
                  <a:pt x="319" y="244"/>
                </a:lnTo>
                <a:lnTo>
                  <a:pt x="302" y="244"/>
                </a:lnTo>
                <a:lnTo>
                  <a:pt x="287" y="244"/>
                </a:lnTo>
                <a:lnTo>
                  <a:pt x="282" y="252"/>
                </a:lnTo>
                <a:lnTo>
                  <a:pt x="287" y="269"/>
                </a:lnTo>
                <a:lnTo>
                  <a:pt x="286" y="285"/>
                </a:lnTo>
                <a:lnTo>
                  <a:pt x="248" y="287"/>
                </a:lnTo>
                <a:lnTo>
                  <a:pt x="243" y="295"/>
                </a:lnTo>
                <a:lnTo>
                  <a:pt x="231" y="295"/>
                </a:lnTo>
                <a:lnTo>
                  <a:pt x="220" y="292"/>
                </a:lnTo>
                <a:lnTo>
                  <a:pt x="211" y="284"/>
                </a:lnTo>
                <a:lnTo>
                  <a:pt x="188" y="285"/>
                </a:lnTo>
                <a:lnTo>
                  <a:pt x="173" y="292"/>
                </a:lnTo>
                <a:lnTo>
                  <a:pt x="165" y="275"/>
                </a:lnTo>
                <a:lnTo>
                  <a:pt x="147" y="274"/>
                </a:lnTo>
                <a:lnTo>
                  <a:pt x="131" y="279"/>
                </a:lnTo>
                <a:lnTo>
                  <a:pt x="114" y="302"/>
                </a:lnTo>
                <a:lnTo>
                  <a:pt x="86" y="310"/>
                </a:lnTo>
                <a:lnTo>
                  <a:pt x="53" y="310"/>
                </a:lnTo>
                <a:lnTo>
                  <a:pt x="53" y="294"/>
                </a:lnTo>
                <a:lnTo>
                  <a:pt x="51" y="261"/>
                </a:lnTo>
                <a:lnTo>
                  <a:pt x="40" y="251"/>
                </a:lnTo>
                <a:lnTo>
                  <a:pt x="36" y="241"/>
                </a:lnTo>
                <a:lnTo>
                  <a:pt x="17" y="237"/>
                </a:lnTo>
                <a:lnTo>
                  <a:pt x="3" y="226"/>
                </a:lnTo>
                <a:lnTo>
                  <a:pt x="0" y="216"/>
                </a:lnTo>
                <a:lnTo>
                  <a:pt x="3" y="216"/>
                </a:lnTo>
                <a:lnTo>
                  <a:pt x="3" y="191"/>
                </a:lnTo>
                <a:lnTo>
                  <a:pt x="10" y="158"/>
                </a:lnTo>
                <a:lnTo>
                  <a:pt x="33" y="140"/>
                </a:lnTo>
                <a:lnTo>
                  <a:pt x="53" y="132"/>
                </a:lnTo>
                <a:lnTo>
                  <a:pt x="51" y="117"/>
                </a:lnTo>
                <a:lnTo>
                  <a:pt x="41" y="118"/>
                </a:lnTo>
                <a:lnTo>
                  <a:pt x="23" y="105"/>
                </a:lnTo>
                <a:lnTo>
                  <a:pt x="7" y="84"/>
                </a:lnTo>
                <a:lnTo>
                  <a:pt x="3" y="51"/>
                </a:lnTo>
                <a:lnTo>
                  <a:pt x="22" y="33"/>
                </a:lnTo>
                <a:lnTo>
                  <a:pt x="25" y="21"/>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086600" y="4816440"/>
            <a:ext cx="1936800" cy="1266840"/>
          </a:xfrm>
          <a:custGeom>
            <a:avLst/>
            <a:gdLst/>
            <a:ahLst/>
            <a:rect l="l" t="t" r="r" b="b"/>
            <a:pathLst>
              <a:path w="693" h="493">
                <a:moveTo>
                  <a:pt x="170" y="39"/>
                </a:moveTo>
                <a:lnTo>
                  <a:pt x="183" y="43"/>
                </a:lnTo>
                <a:lnTo>
                  <a:pt x="208" y="34"/>
                </a:lnTo>
                <a:lnTo>
                  <a:pt x="225" y="46"/>
                </a:lnTo>
                <a:lnTo>
                  <a:pt x="287" y="39"/>
                </a:lnTo>
                <a:lnTo>
                  <a:pt x="314" y="59"/>
                </a:lnTo>
                <a:lnTo>
                  <a:pt x="385" y="28"/>
                </a:lnTo>
                <a:lnTo>
                  <a:pt x="400" y="8"/>
                </a:lnTo>
                <a:lnTo>
                  <a:pt x="430" y="15"/>
                </a:lnTo>
                <a:lnTo>
                  <a:pt x="441" y="0"/>
                </a:lnTo>
                <a:lnTo>
                  <a:pt x="464" y="5"/>
                </a:lnTo>
                <a:lnTo>
                  <a:pt x="481" y="26"/>
                </a:lnTo>
                <a:lnTo>
                  <a:pt x="496" y="63"/>
                </a:lnTo>
                <a:lnTo>
                  <a:pt x="529" y="89"/>
                </a:lnTo>
                <a:lnTo>
                  <a:pt x="548" y="127"/>
                </a:lnTo>
                <a:lnTo>
                  <a:pt x="565" y="155"/>
                </a:lnTo>
                <a:lnTo>
                  <a:pt x="560" y="188"/>
                </a:lnTo>
                <a:lnTo>
                  <a:pt x="567" y="234"/>
                </a:lnTo>
                <a:lnTo>
                  <a:pt x="572" y="282"/>
                </a:lnTo>
                <a:lnTo>
                  <a:pt x="586" y="295"/>
                </a:lnTo>
                <a:lnTo>
                  <a:pt x="616" y="289"/>
                </a:lnTo>
                <a:lnTo>
                  <a:pt x="644" y="269"/>
                </a:lnTo>
                <a:lnTo>
                  <a:pt x="662" y="264"/>
                </a:lnTo>
                <a:lnTo>
                  <a:pt x="677" y="271"/>
                </a:lnTo>
                <a:lnTo>
                  <a:pt x="692" y="272"/>
                </a:lnTo>
                <a:lnTo>
                  <a:pt x="691" y="276"/>
                </a:lnTo>
                <a:lnTo>
                  <a:pt x="689" y="324"/>
                </a:lnTo>
                <a:lnTo>
                  <a:pt x="648" y="340"/>
                </a:lnTo>
                <a:lnTo>
                  <a:pt x="646" y="320"/>
                </a:lnTo>
                <a:lnTo>
                  <a:pt x="636" y="314"/>
                </a:lnTo>
                <a:lnTo>
                  <a:pt x="631" y="328"/>
                </a:lnTo>
                <a:lnTo>
                  <a:pt x="629" y="342"/>
                </a:lnTo>
                <a:lnTo>
                  <a:pt x="636" y="355"/>
                </a:lnTo>
                <a:lnTo>
                  <a:pt x="624" y="357"/>
                </a:lnTo>
                <a:lnTo>
                  <a:pt x="629" y="368"/>
                </a:lnTo>
                <a:lnTo>
                  <a:pt x="644" y="358"/>
                </a:lnTo>
                <a:lnTo>
                  <a:pt x="634" y="376"/>
                </a:lnTo>
                <a:lnTo>
                  <a:pt x="615" y="378"/>
                </a:lnTo>
                <a:lnTo>
                  <a:pt x="629" y="393"/>
                </a:lnTo>
                <a:lnTo>
                  <a:pt x="633" y="418"/>
                </a:lnTo>
                <a:lnTo>
                  <a:pt x="633" y="441"/>
                </a:lnTo>
                <a:lnTo>
                  <a:pt x="633" y="442"/>
                </a:lnTo>
                <a:lnTo>
                  <a:pt x="618" y="442"/>
                </a:lnTo>
                <a:lnTo>
                  <a:pt x="585" y="446"/>
                </a:lnTo>
                <a:lnTo>
                  <a:pt x="567" y="433"/>
                </a:lnTo>
                <a:lnTo>
                  <a:pt x="539" y="429"/>
                </a:lnTo>
                <a:lnTo>
                  <a:pt x="524" y="428"/>
                </a:lnTo>
                <a:lnTo>
                  <a:pt x="489" y="428"/>
                </a:lnTo>
                <a:lnTo>
                  <a:pt x="472" y="439"/>
                </a:lnTo>
                <a:lnTo>
                  <a:pt x="446" y="444"/>
                </a:lnTo>
                <a:lnTo>
                  <a:pt x="434" y="457"/>
                </a:lnTo>
                <a:lnTo>
                  <a:pt x="406" y="484"/>
                </a:lnTo>
                <a:lnTo>
                  <a:pt x="385" y="492"/>
                </a:lnTo>
                <a:lnTo>
                  <a:pt x="372" y="484"/>
                </a:lnTo>
                <a:lnTo>
                  <a:pt x="342" y="482"/>
                </a:lnTo>
                <a:lnTo>
                  <a:pt x="312" y="484"/>
                </a:lnTo>
                <a:lnTo>
                  <a:pt x="289" y="487"/>
                </a:lnTo>
                <a:lnTo>
                  <a:pt x="276" y="485"/>
                </a:lnTo>
                <a:lnTo>
                  <a:pt x="253" y="485"/>
                </a:lnTo>
                <a:lnTo>
                  <a:pt x="241" y="479"/>
                </a:lnTo>
                <a:lnTo>
                  <a:pt x="216" y="479"/>
                </a:lnTo>
                <a:lnTo>
                  <a:pt x="198" y="489"/>
                </a:lnTo>
                <a:lnTo>
                  <a:pt x="188" y="474"/>
                </a:lnTo>
                <a:lnTo>
                  <a:pt x="197" y="456"/>
                </a:lnTo>
                <a:lnTo>
                  <a:pt x="190" y="446"/>
                </a:lnTo>
                <a:lnTo>
                  <a:pt x="177" y="449"/>
                </a:lnTo>
                <a:lnTo>
                  <a:pt x="178" y="442"/>
                </a:lnTo>
                <a:lnTo>
                  <a:pt x="160" y="441"/>
                </a:lnTo>
                <a:lnTo>
                  <a:pt x="162" y="419"/>
                </a:lnTo>
                <a:lnTo>
                  <a:pt x="174" y="406"/>
                </a:lnTo>
                <a:lnTo>
                  <a:pt x="175" y="398"/>
                </a:lnTo>
                <a:lnTo>
                  <a:pt x="147" y="395"/>
                </a:lnTo>
                <a:lnTo>
                  <a:pt x="147" y="409"/>
                </a:lnTo>
                <a:lnTo>
                  <a:pt x="127" y="414"/>
                </a:lnTo>
                <a:lnTo>
                  <a:pt x="109" y="399"/>
                </a:lnTo>
                <a:lnTo>
                  <a:pt x="89" y="395"/>
                </a:lnTo>
                <a:lnTo>
                  <a:pt x="69" y="383"/>
                </a:lnTo>
                <a:lnTo>
                  <a:pt x="71" y="363"/>
                </a:lnTo>
                <a:lnTo>
                  <a:pt x="61" y="355"/>
                </a:lnTo>
                <a:lnTo>
                  <a:pt x="50" y="337"/>
                </a:lnTo>
                <a:lnTo>
                  <a:pt x="28" y="327"/>
                </a:lnTo>
                <a:lnTo>
                  <a:pt x="25" y="300"/>
                </a:lnTo>
                <a:lnTo>
                  <a:pt x="18" y="279"/>
                </a:lnTo>
                <a:lnTo>
                  <a:pt x="3" y="256"/>
                </a:lnTo>
                <a:lnTo>
                  <a:pt x="0" y="239"/>
                </a:lnTo>
                <a:lnTo>
                  <a:pt x="7" y="231"/>
                </a:lnTo>
                <a:lnTo>
                  <a:pt x="30" y="231"/>
                </a:lnTo>
                <a:lnTo>
                  <a:pt x="55" y="200"/>
                </a:lnTo>
                <a:lnTo>
                  <a:pt x="73" y="170"/>
                </a:lnTo>
                <a:lnTo>
                  <a:pt x="86" y="147"/>
                </a:lnTo>
                <a:lnTo>
                  <a:pt x="104" y="130"/>
                </a:lnTo>
                <a:lnTo>
                  <a:pt x="106" y="102"/>
                </a:lnTo>
                <a:lnTo>
                  <a:pt x="121" y="94"/>
                </a:lnTo>
                <a:lnTo>
                  <a:pt x="122" y="77"/>
                </a:lnTo>
                <a:lnTo>
                  <a:pt x="140" y="63"/>
                </a:lnTo>
                <a:lnTo>
                  <a:pt x="165" y="64"/>
                </a:lnTo>
                <a:lnTo>
                  <a:pt x="170" y="49"/>
                </a:lnTo>
                <a:lnTo>
                  <a:pt x="170" y="39"/>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7581960" y="2670120"/>
            <a:ext cx="1595520" cy="1290600"/>
          </a:xfrm>
          <a:custGeom>
            <a:avLst/>
            <a:gdLst/>
            <a:ahLst/>
            <a:rect l="l" t="t" r="r" b="b"/>
            <a:pathLst>
              <a:path w="571" h="503">
                <a:moveTo>
                  <a:pt x="257" y="0"/>
                </a:moveTo>
                <a:lnTo>
                  <a:pt x="276" y="2"/>
                </a:lnTo>
                <a:lnTo>
                  <a:pt x="297" y="15"/>
                </a:lnTo>
                <a:lnTo>
                  <a:pt x="310" y="13"/>
                </a:lnTo>
                <a:lnTo>
                  <a:pt x="333" y="18"/>
                </a:lnTo>
                <a:lnTo>
                  <a:pt x="335" y="43"/>
                </a:lnTo>
                <a:lnTo>
                  <a:pt x="353" y="27"/>
                </a:lnTo>
                <a:lnTo>
                  <a:pt x="373" y="22"/>
                </a:lnTo>
                <a:lnTo>
                  <a:pt x="393" y="13"/>
                </a:lnTo>
                <a:lnTo>
                  <a:pt x="408" y="25"/>
                </a:lnTo>
                <a:lnTo>
                  <a:pt x="416" y="23"/>
                </a:lnTo>
                <a:lnTo>
                  <a:pt x="441" y="40"/>
                </a:lnTo>
                <a:lnTo>
                  <a:pt x="433" y="63"/>
                </a:lnTo>
                <a:lnTo>
                  <a:pt x="438" y="79"/>
                </a:lnTo>
                <a:lnTo>
                  <a:pt x="434" y="101"/>
                </a:lnTo>
                <a:lnTo>
                  <a:pt x="426" y="116"/>
                </a:lnTo>
                <a:lnTo>
                  <a:pt x="434" y="126"/>
                </a:lnTo>
                <a:lnTo>
                  <a:pt x="444" y="134"/>
                </a:lnTo>
                <a:lnTo>
                  <a:pt x="467" y="140"/>
                </a:lnTo>
                <a:lnTo>
                  <a:pt x="472" y="169"/>
                </a:lnTo>
                <a:lnTo>
                  <a:pt x="492" y="185"/>
                </a:lnTo>
                <a:lnTo>
                  <a:pt x="509" y="185"/>
                </a:lnTo>
                <a:lnTo>
                  <a:pt x="514" y="198"/>
                </a:lnTo>
                <a:lnTo>
                  <a:pt x="512" y="208"/>
                </a:lnTo>
                <a:lnTo>
                  <a:pt x="523" y="221"/>
                </a:lnTo>
                <a:lnTo>
                  <a:pt x="528" y="210"/>
                </a:lnTo>
                <a:lnTo>
                  <a:pt x="547" y="223"/>
                </a:lnTo>
                <a:lnTo>
                  <a:pt x="550" y="240"/>
                </a:lnTo>
                <a:lnTo>
                  <a:pt x="560" y="240"/>
                </a:lnTo>
                <a:lnTo>
                  <a:pt x="570" y="258"/>
                </a:lnTo>
                <a:lnTo>
                  <a:pt x="561" y="278"/>
                </a:lnTo>
                <a:lnTo>
                  <a:pt x="540" y="289"/>
                </a:lnTo>
                <a:lnTo>
                  <a:pt x="504" y="274"/>
                </a:lnTo>
                <a:lnTo>
                  <a:pt x="494" y="296"/>
                </a:lnTo>
                <a:lnTo>
                  <a:pt x="505" y="314"/>
                </a:lnTo>
                <a:lnTo>
                  <a:pt x="522" y="335"/>
                </a:lnTo>
                <a:lnTo>
                  <a:pt x="528" y="363"/>
                </a:lnTo>
                <a:lnTo>
                  <a:pt x="535" y="388"/>
                </a:lnTo>
                <a:lnTo>
                  <a:pt x="532" y="401"/>
                </a:lnTo>
                <a:lnTo>
                  <a:pt x="510" y="393"/>
                </a:lnTo>
                <a:lnTo>
                  <a:pt x="492" y="411"/>
                </a:lnTo>
                <a:lnTo>
                  <a:pt x="477" y="438"/>
                </a:lnTo>
                <a:lnTo>
                  <a:pt x="479" y="461"/>
                </a:lnTo>
                <a:lnTo>
                  <a:pt x="477" y="477"/>
                </a:lnTo>
                <a:lnTo>
                  <a:pt x="464" y="479"/>
                </a:lnTo>
                <a:lnTo>
                  <a:pt x="449" y="467"/>
                </a:lnTo>
                <a:lnTo>
                  <a:pt x="418" y="466"/>
                </a:lnTo>
                <a:lnTo>
                  <a:pt x="398" y="477"/>
                </a:lnTo>
                <a:lnTo>
                  <a:pt x="386" y="472"/>
                </a:lnTo>
                <a:lnTo>
                  <a:pt x="378" y="469"/>
                </a:lnTo>
                <a:lnTo>
                  <a:pt x="357" y="479"/>
                </a:lnTo>
                <a:lnTo>
                  <a:pt x="350" y="469"/>
                </a:lnTo>
                <a:lnTo>
                  <a:pt x="340" y="467"/>
                </a:lnTo>
                <a:lnTo>
                  <a:pt x="332" y="471"/>
                </a:lnTo>
                <a:lnTo>
                  <a:pt x="310" y="474"/>
                </a:lnTo>
                <a:lnTo>
                  <a:pt x="297" y="472"/>
                </a:lnTo>
                <a:lnTo>
                  <a:pt x="276" y="486"/>
                </a:lnTo>
                <a:lnTo>
                  <a:pt x="266" y="482"/>
                </a:lnTo>
                <a:lnTo>
                  <a:pt x="244" y="479"/>
                </a:lnTo>
                <a:lnTo>
                  <a:pt x="203" y="474"/>
                </a:lnTo>
                <a:lnTo>
                  <a:pt x="167" y="466"/>
                </a:lnTo>
                <a:lnTo>
                  <a:pt x="124" y="469"/>
                </a:lnTo>
                <a:lnTo>
                  <a:pt x="109" y="467"/>
                </a:lnTo>
                <a:lnTo>
                  <a:pt x="73" y="476"/>
                </a:lnTo>
                <a:lnTo>
                  <a:pt x="61" y="494"/>
                </a:lnTo>
                <a:lnTo>
                  <a:pt x="51" y="502"/>
                </a:lnTo>
                <a:lnTo>
                  <a:pt x="43" y="486"/>
                </a:lnTo>
                <a:lnTo>
                  <a:pt x="25" y="489"/>
                </a:lnTo>
                <a:lnTo>
                  <a:pt x="23" y="482"/>
                </a:lnTo>
                <a:lnTo>
                  <a:pt x="21" y="451"/>
                </a:lnTo>
                <a:lnTo>
                  <a:pt x="0" y="436"/>
                </a:lnTo>
                <a:lnTo>
                  <a:pt x="23" y="395"/>
                </a:lnTo>
                <a:lnTo>
                  <a:pt x="38" y="380"/>
                </a:lnTo>
                <a:lnTo>
                  <a:pt x="38" y="342"/>
                </a:lnTo>
                <a:lnTo>
                  <a:pt x="13" y="304"/>
                </a:lnTo>
                <a:lnTo>
                  <a:pt x="1" y="261"/>
                </a:lnTo>
                <a:lnTo>
                  <a:pt x="6" y="246"/>
                </a:lnTo>
                <a:lnTo>
                  <a:pt x="16" y="241"/>
                </a:lnTo>
                <a:lnTo>
                  <a:pt x="39" y="246"/>
                </a:lnTo>
                <a:lnTo>
                  <a:pt x="61" y="233"/>
                </a:lnTo>
                <a:lnTo>
                  <a:pt x="79" y="235"/>
                </a:lnTo>
                <a:lnTo>
                  <a:pt x="73" y="216"/>
                </a:lnTo>
                <a:lnTo>
                  <a:pt x="97" y="215"/>
                </a:lnTo>
                <a:lnTo>
                  <a:pt x="112" y="215"/>
                </a:lnTo>
                <a:lnTo>
                  <a:pt x="124" y="235"/>
                </a:lnTo>
                <a:lnTo>
                  <a:pt x="139" y="225"/>
                </a:lnTo>
                <a:lnTo>
                  <a:pt x="130" y="210"/>
                </a:lnTo>
                <a:lnTo>
                  <a:pt x="132" y="185"/>
                </a:lnTo>
                <a:lnTo>
                  <a:pt x="130" y="152"/>
                </a:lnTo>
                <a:lnTo>
                  <a:pt x="147" y="137"/>
                </a:lnTo>
                <a:lnTo>
                  <a:pt x="160" y="132"/>
                </a:lnTo>
                <a:lnTo>
                  <a:pt x="160" y="114"/>
                </a:lnTo>
                <a:lnTo>
                  <a:pt x="172" y="98"/>
                </a:lnTo>
                <a:lnTo>
                  <a:pt x="158" y="76"/>
                </a:lnTo>
                <a:lnTo>
                  <a:pt x="162" y="55"/>
                </a:lnTo>
                <a:lnTo>
                  <a:pt x="188" y="46"/>
                </a:lnTo>
                <a:lnTo>
                  <a:pt x="203" y="33"/>
                </a:lnTo>
                <a:lnTo>
                  <a:pt x="231" y="40"/>
                </a:lnTo>
                <a:lnTo>
                  <a:pt x="241" y="17"/>
                </a:lnTo>
                <a:lnTo>
                  <a:pt x="257" y="7"/>
                </a:lnTo>
                <a:lnTo>
                  <a:pt x="25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8366040" y="4738680"/>
            <a:ext cx="660600" cy="792000"/>
          </a:xfrm>
          <a:custGeom>
            <a:avLst/>
            <a:gdLst/>
            <a:ahLst/>
            <a:rect l="l" t="t" r="r" b="b"/>
            <a:pathLst>
              <a:path w="236" h="308">
                <a:moveTo>
                  <a:pt x="0" y="33"/>
                </a:moveTo>
                <a:lnTo>
                  <a:pt x="4" y="15"/>
                </a:lnTo>
                <a:lnTo>
                  <a:pt x="17" y="7"/>
                </a:lnTo>
                <a:lnTo>
                  <a:pt x="28" y="7"/>
                </a:lnTo>
                <a:lnTo>
                  <a:pt x="35" y="0"/>
                </a:lnTo>
                <a:lnTo>
                  <a:pt x="47" y="8"/>
                </a:lnTo>
                <a:lnTo>
                  <a:pt x="70" y="23"/>
                </a:lnTo>
                <a:lnTo>
                  <a:pt x="85" y="22"/>
                </a:lnTo>
                <a:lnTo>
                  <a:pt x="106" y="20"/>
                </a:lnTo>
                <a:lnTo>
                  <a:pt x="118" y="23"/>
                </a:lnTo>
                <a:lnTo>
                  <a:pt x="124" y="35"/>
                </a:lnTo>
                <a:lnTo>
                  <a:pt x="132" y="43"/>
                </a:lnTo>
                <a:lnTo>
                  <a:pt x="152" y="38"/>
                </a:lnTo>
                <a:lnTo>
                  <a:pt x="160" y="46"/>
                </a:lnTo>
                <a:lnTo>
                  <a:pt x="159" y="71"/>
                </a:lnTo>
                <a:lnTo>
                  <a:pt x="170" y="91"/>
                </a:lnTo>
                <a:lnTo>
                  <a:pt x="185" y="93"/>
                </a:lnTo>
                <a:lnTo>
                  <a:pt x="195" y="119"/>
                </a:lnTo>
                <a:lnTo>
                  <a:pt x="218" y="139"/>
                </a:lnTo>
                <a:lnTo>
                  <a:pt x="228" y="160"/>
                </a:lnTo>
                <a:lnTo>
                  <a:pt x="228" y="173"/>
                </a:lnTo>
                <a:lnTo>
                  <a:pt x="235" y="182"/>
                </a:lnTo>
                <a:lnTo>
                  <a:pt x="228" y="197"/>
                </a:lnTo>
                <a:lnTo>
                  <a:pt x="212" y="187"/>
                </a:lnTo>
                <a:lnTo>
                  <a:pt x="198" y="195"/>
                </a:lnTo>
                <a:lnTo>
                  <a:pt x="195" y="190"/>
                </a:lnTo>
                <a:lnTo>
                  <a:pt x="177" y="198"/>
                </a:lnTo>
                <a:lnTo>
                  <a:pt x="165" y="192"/>
                </a:lnTo>
                <a:lnTo>
                  <a:pt x="156" y="205"/>
                </a:lnTo>
                <a:lnTo>
                  <a:pt x="172" y="210"/>
                </a:lnTo>
                <a:lnTo>
                  <a:pt x="174" y="230"/>
                </a:lnTo>
                <a:lnTo>
                  <a:pt x="154" y="241"/>
                </a:lnTo>
                <a:lnTo>
                  <a:pt x="149" y="259"/>
                </a:lnTo>
                <a:lnTo>
                  <a:pt x="136" y="268"/>
                </a:lnTo>
                <a:lnTo>
                  <a:pt x="136" y="287"/>
                </a:lnTo>
                <a:lnTo>
                  <a:pt x="119" y="306"/>
                </a:lnTo>
                <a:lnTo>
                  <a:pt x="113" y="307"/>
                </a:lnTo>
                <a:lnTo>
                  <a:pt x="108" y="264"/>
                </a:lnTo>
                <a:lnTo>
                  <a:pt x="101" y="218"/>
                </a:lnTo>
                <a:lnTo>
                  <a:pt x="106" y="185"/>
                </a:lnTo>
                <a:lnTo>
                  <a:pt x="89" y="157"/>
                </a:lnTo>
                <a:lnTo>
                  <a:pt x="70" y="119"/>
                </a:lnTo>
                <a:lnTo>
                  <a:pt x="37" y="93"/>
                </a:lnTo>
                <a:lnTo>
                  <a:pt x="22" y="56"/>
                </a:lnTo>
                <a:lnTo>
                  <a:pt x="5" y="35"/>
                </a:lnTo>
                <a:lnTo>
                  <a:pt x="0" y="3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275000" y="5886360"/>
            <a:ext cx="54000" cy="47880"/>
          </a:xfrm>
          <a:custGeom>
            <a:avLst/>
            <a:gdLst/>
            <a:ahLst/>
            <a:rect l="l" t="t" r="r" b="b"/>
            <a:pathLst>
              <a:path w="19" h="19">
                <a:moveTo>
                  <a:pt x="3" y="18"/>
                </a:moveTo>
                <a:lnTo>
                  <a:pt x="0" y="8"/>
                </a:lnTo>
                <a:lnTo>
                  <a:pt x="9" y="0"/>
                </a:lnTo>
                <a:lnTo>
                  <a:pt x="16" y="3"/>
                </a:lnTo>
                <a:lnTo>
                  <a:pt x="18" y="10"/>
                </a:lnTo>
                <a:lnTo>
                  <a:pt x="8" y="10"/>
                </a:lnTo>
                <a:lnTo>
                  <a:pt x="3" y="18"/>
                </a:lnTo>
              </a:path>
            </a:pathLst>
          </a:custGeom>
          <a:solidFill>
            <a:srgbClr val="006790"/>
          </a:solidFill>
          <a:ln cap="rnd" w="3240">
            <a:solidFill>
              <a:srgbClr val="004463"/>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5362560" y="5977080"/>
            <a:ext cx="47520" cy="41040"/>
          </a:xfrm>
          <a:custGeom>
            <a:avLst/>
            <a:gdLst/>
            <a:ahLst/>
            <a:rect l="l" t="t" r="r" b="b"/>
            <a:pathLst>
              <a:path w="17" h="17">
                <a:moveTo>
                  <a:pt x="9" y="0"/>
                </a:moveTo>
                <a:lnTo>
                  <a:pt x="2" y="2"/>
                </a:lnTo>
                <a:lnTo>
                  <a:pt x="0" y="9"/>
                </a:lnTo>
                <a:lnTo>
                  <a:pt x="5" y="14"/>
                </a:lnTo>
                <a:lnTo>
                  <a:pt x="10" y="16"/>
                </a:lnTo>
                <a:lnTo>
                  <a:pt x="16" y="9"/>
                </a:lnTo>
                <a:lnTo>
                  <a:pt x="12" y="4"/>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0" name=""/>
          <p:cNvSpPr/>
          <p:nvPr/>
        </p:nvSpPr>
        <p:spPr>
          <a:xfrm flipH="1">
            <a:off x="3784680" y="3998880"/>
            <a:ext cx="355680" cy="330120"/>
          </a:xfrm>
          <a:prstGeom prst="line">
            <a:avLst/>
          </a:prstGeom>
          <a:ln w="3240">
            <a:solidFill>
              <a:srgbClr val="00446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4560" y="2287440"/>
            <a:ext cx="404640" cy="346320"/>
          </a:xfrm>
          <a:custGeom>
            <a:avLst/>
            <a:gdLst/>
            <a:ahLst/>
            <a:rect l="l" t="t" r="r" b="b"/>
            <a:pathLst>
              <a:path w="145" h="135">
                <a:moveTo>
                  <a:pt x="58" y="5"/>
                </a:moveTo>
                <a:lnTo>
                  <a:pt x="50" y="4"/>
                </a:lnTo>
                <a:lnTo>
                  <a:pt x="43" y="14"/>
                </a:lnTo>
                <a:lnTo>
                  <a:pt x="43" y="25"/>
                </a:lnTo>
                <a:lnTo>
                  <a:pt x="23" y="27"/>
                </a:lnTo>
                <a:lnTo>
                  <a:pt x="15" y="30"/>
                </a:lnTo>
                <a:lnTo>
                  <a:pt x="17" y="38"/>
                </a:lnTo>
                <a:lnTo>
                  <a:pt x="23" y="42"/>
                </a:lnTo>
                <a:lnTo>
                  <a:pt x="22" y="48"/>
                </a:lnTo>
                <a:lnTo>
                  <a:pt x="7" y="48"/>
                </a:lnTo>
                <a:lnTo>
                  <a:pt x="0" y="62"/>
                </a:lnTo>
                <a:lnTo>
                  <a:pt x="2" y="80"/>
                </a:lnTo>
                <a:lnTo>
                  <a:pt x="26" y="96"/>
                </a:lnTo>
                <a:lnTo>
                  <a:pt x="36" y="95"/>
                </a:lnTo>
                <a:lnTo>
                  <a:pt x="53" y="86"/>
                </a:lnTo>
                <a:lnTo>
                  <a:pt x="63" y="88"/>
                </a:lnTo>
                <a:lnTo>
                  <a:pt x="68" y="100"/>
                </a:lnTo>
                <a:lnTo>
                  <a:pt x="69" y="111"/>
                </a:lnTo>
                <a:lnTo>
                  <a:pt x="81" y="111"/>
                </a:lnTo>
                <a:lnTo>
                  <a:pt x="86" y="116"/>
                </a:lnTo>
                <a:lnTo>
                  <a:pt x="89" y="131"/>
                </a:lnTo>
                <a:lnTo>
                  <a:pt x="89" y="134"/>
                </a:lnTo>
                <a:lnTo>
                  <a:pt x="93" y="134"/>
                </a:lnTo>
                <a:lnTo>
                  <a:pt x="104" y="134"/>
                </a:lnTo>
                <a:lnTo>
                  <a:pt x="111" y="123"/>
                </a:lnTo>
                <a:lnTo>
                  <a:pt x="119" y="121"/>
                </a:lnTo>
                <a:lnTo>
                  <a:pt x="121" y="126"/>
                </a:lnTo>
                <a:lnTo>
                  <a:pt x="131" y="123"/>
                </a:lnTo>
                <a:lnTo>
                  <a:pt x="127" y="111"/>
                </a:lnTo>
                <a:lnTo>
                  <a:pt x="132" y="104"/>
                </a:lnTo>
                <a:lnTo>
                  <a:pt x="132" y="91"/>
                </a:lnTo>
                <a:lnTo>
                  <a:pt x="135" y="90"/>
                </a:lnTo>
                <a:lnTo>
                  <a:pt x="137" y="101"/>
                </a:lnTo>
                <a:lnTo>
                  <a:pt x="134" y="111"/>
                </a:lnTo>
                <a:lnTo>
                  <a:pt x="137" y="114"/>
                </a:lnTo>
                <a:lnTo>
                  <a:pt x="144" y="101"/>
                </a:lnTo>
                <a:lnTo>
                  <a:pt x="140" y="78"/>
                </a:lnTo>
                <a:lnTo>
                  <a:pt x="134" y="71"/>
                </a:lnTo>
                <a:lnTo>
                  <a:pt x="126" y="71"/>
                </a:lnTo>
                <a:lnTo>
                  <a:pt x="140" y="65"/>
                </a:lnTo>
                <a:lnTo>
                  <a:pt x="139" y="58"/>
                </a:lnTo>
                <a:lnTo>
                  <a:pt x="129" y="50"/>
                </a:lnTo>
                <a:lnTo>
                  <a:pt x="127" y="35"/>
                </a:lnTo>
                <a:lnTo>
                  <a:pt x="124" y="33"/>
                </a:lnTo>
                <a:lnTo>
                  <a:pt x="135" y="20"/>
                </a:lnTo>
                <a:lnTo>
                  <a:pt x="126" y="12"/>
                </a:lnTo>
                <a:lnTo>
                  <a:pt x="111" y="9"/>
                </a:lnTo>
                <a:lnTo>
                  <a:pt x="88" y="12"/>
                </a:lnTo>
                <a:lnTo>
                  <a:pt x="76" y="0"/>
                </a:lnTo>
                <a:lnTo>
                  <a:pt x="61" y="17"/>
                </a:lnTo>
                <a:lnTo>
                  <a:pt x="56" y="9"/>
                </a:lnTo>
                <a:lnTo>
                  <a:pt x="58" y="5"/>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990960" y="1127160"/>
            <a:ext cx="47520" cy="42840"/>
          </a:xfrm>
          <a:custGeom>
            <a:avLst/>
            <a:gdLst/>
            <a:ahLst/>
            <a:rect l="l" t="t" r="r" b="b"/>
            <a:pathLst>
              <a:path w="17" h="17">
                <a:moveTo>
                  <a:pt x="3" y="0"/>
                </a:moveTo>
                <a:lnTo>
                  <a:pt x="0" y="5"/>
                </a:lnTo>
                <a:lnTo>
                  <a:pt x="0" y="13"/>
                </a:lnTo>
                <a:lnTo>
                  <a:pt x="6" y="16"/>
                </a:lnTo>
                <a:lnTo>
                  <a:pt x="16" y="10"/>
                </a:lnTo>
                <a:lnTo>
                  <a:pt x="14" y="2"/>
                </a:lnTo>
                <a:lnTo>
                  <a:pt x="3"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3" name=""/>
          <p:cNvSpPr/>
          <p:nvPr/>
        </p:nvSpPr>
        <p:spPr>
          <a:xfrm>
            <a:off x="3932280" y="1168560"/>
            <a:ext cx="47520" cy="58680"/>
          </a:xfrm>
          <a:custGeom>
            <a:avLst/>
            <a:gdLst/>
            <a:ahLst/>
            <a:rect l="l" t="t" r="r" b="b"/>
            <a:pathLst>
              <a:path w="17" h="23">
                <a:moveTo>
                  <a:pt x="16" y="0"/>
                </a:moveTo>
                <a:lnTo>
                  <a:pt x="6" y="0"/>
                </a:lnTo>
                <a:lnTo>
                  <a:pt x="0" y="7"/>
                </a:lnTo>
                <a:lnTo>
                  <a:pt x="0" y="14"/>
                </a:lnTo>
                <a:lnTo>
                  <a:pt x="0" y="20"/>
                </a:lnTo>
                <a:lnTo>
                  <a:pt x="7" y="22"/>
                </a:lnTo>
                <a:lnTo>
                  <a:pt x="12" y="14"/>
                </a:lnTo>
                <a:lnTo>
                  <a:pt x="12" y="5"/>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4" name=""/>
          <p:cNvSpPr/>
          <p:nvPr/>
        </p:nvSpPr>
        <p:spPr>
          <a:xfrm>
            <a:off x="3814920" y="1177920"/>
            <a:ext cx="109440" cy="214200"/>
          </a:xfrm>
          <a:custGeom>
            <a:avLst/>
            <a:gdLst/>
            <a:ahLst/>
            <a:rect l="l" t="t" r="r" b="b"/>
            <a:pathLst>
              <a:path w="39" h="83">
                <a:moveTo>
                  <a:pt x="32" y="0"/>
                </a:moveTo>
                <a:lnTo>
                  <a:pt x="24" y="1"/>
                </a:lnTo>
                <a:lnTo>
                  <a:pt x="14" y="5"/>
                </a:lnTo>
                <a:lnTo>
                  <a:pt x="10" y="13"/>
                </a:lnTo>
                <a:lnTo>
                  <a:pt x="17" y="20"/>
                </a:lnTo>
                <a:lnTo>
                  <a:pt x="22" y="21"/>
                </a:lnTo>
                <a:lnTo>
                  <a:pt x="24" y="28"/>
                </a:lnTo>
                <a:lnTo>
                  <a:pt x="20" y="34"/>
                </a:lnTo>
                <a:lnTo>
                  <a:pt x="15" y="34"/>
                </a:lnTo>
                <a:lnTo>
                  <a:pt x="4" y="34"/>
                </a:lnTo>
                <a:lnTo>
                  <a:pt x="0" y="36"/>
                </a:lnTo>
                <a:lnTo>
                  <a:pt x="0" y="46"/>
                </a:lnTo>
                <a:lnTo>
                  <a:pt x="9" y="48"/>
                </a:lnTo>
                <a:lnTo>
                  <a:pt x="17" y="46"/>
                </a:lnTo>
                <a:lnTo>
                  <a:pt x="15" y="54"/>
                </a:lnTo>
                <a:lnTo>
                  <a:pt x="14" y="59"/>
                </a:lnTo>
                <a:lnTo>
                  <a:pt x="5" y="66"/>
                </a:lnTo>
                <a:lnTo>
                  <a:pt x="5" y="74"/>
                </a:lnTo>
                <a:lnTo>
                  <a:pt x="7" y="82"/>
                </a:lnTo>
                <a:lnTo>
                  <a:pt x="17" y="82"/>
                </a:lnTo>
                <a:lnTo>
                  <a:pt x="20" y="74"/>
                </a:lnTo>
                <a:lnTo>
                  <a:pt x="19" y="66"/>
                </a:lnTo>
                <a:lnTo>
                  <a:pt x="27" y="48"/>
                </a:lnTo>
                <a:lnTo>
                  <a:pt x="30" y="48"/>
                </a:lnTo>
                <a:lnTo>
                  <a:pt x="32" y="33"/>
                </a:lnTo>
                <a:lnTo>
                  <a:pt x="37" y="28"/>
                </a:lnTo>
                <a:lnTo>
                  <a:pt x="38" y="20"/>
                </a:lnTo>
                <a:lnTo>
                  <a:pt x="32" y="15"/>
                </a:lnTo>
                <a:lnTo>
                  <a:pt x="35" y="3"/>
                </a:lnTo>
                <a:lnTo>
                  <a:pt x="32"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3465360" y="1496880"/>
            <a:ext cx="87480" cy="82800"/>
          </a:xfrm>
          <a:custGeom>
            <a:avLst/>
            <a:gdLst/>
            <a:ahLst/>
            <a:rect l="l" t="t" r="r" b="b"/>
            <a:pathLst>
              <a:path w="31" h="32">
                <a:moveTo>
                  <a:pt x="16" y="0"/>
                </a:moveTo>
                <a:lnTo>
                  <a:pt x="10" y="1"/>
                </a:lnTo>
                <a:lnTo>
                  <a:pt x="5" y="0"/>
                </a:lnTo>
                <a:lnTo>
                  <a:pt x="0" y="5"/>
                </a:lnTo>
                <a:lnTo>
                  <a:pt x="0" y="11"/>
                </a:lnTo>
                <a:lnTo>
                  <a:pt x="3" y="14"/>
                </a:lnTo>
                <a:lnTo>
                  <a:pt x="10" y="16"/>
                </a:lnTo>
                <a:lnTo>
                  <a:pt x="8" y="21"/>
                </a:lnTo>
                <a:lnTo>
                  <a:pt x="20" y="19"/>
                </a:lnTo>
                <a:lnTo>
                  <a:pt x="21" y="26"/>
                </a:lnTo>
                <a:lnTo>
                  <a:pt x="26" y="31"/>
                </a:lnTo>
                <a:lnTo>
                  <a:pt x="30" y="23"/>
                </a:lnTo>
                <a:lnTo>
                  <a:pt x="30" y="16"/>
                </a:lnTo>
                <a:lnTo>
                  <a:pt x="23" y="14"/>
                </a:lnTo>
                <a:lnTo>
                  <a:pt x="16" y="16"/>
                </a:lnTo>
                <a:lnTo>
                  <a:pt x="15" y="9"/>
                </a:lnTo>
                <a:lnTo>
                  <a:pt x="18" y="6"/>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6" name=""/>
          <p:cNvSpPr/>
          <p:nvPr/>
        </p:nvSpPr>
        <p:spPr>
          <a:xfrm>
            <a:off x="3438360" y="1546200"/>
            <a:ext cx="47880" cy="42840"/>
          </a:xfrm>
          <a:custGeom>
            <a:avLst/>
            <a:gdLst/>
            <a:ahLst/>
            <a:rect l="l" t="t" r="r" b="b"/>
            <a:pathLst>
              <a:path w="17" h="17">
                <a:moveTo>
                  <a:pt x="9" y="0"/>
                </a:moveTo>
                <a:lnTo>
                  <a:pt x="0" y="2"/>
                </a:lnTo>
                <a:lnTo>
                  <a:pt x="3" y="11"/>
                </a:lnTo>
                <a:lnTo>
                  <a:pt x="8" y="16"/>
                </a:lnTo>
                <a:lnTo>
                  <a:pt x="14" y="11"/>
                </a:lnTo>
                <a:lnTo>
                  <a:pt x="16" y="5"/>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7" name=""/>
          <p:cNvSpPr/>
          <p:nvPr/>
        </p:nvSpPr>
        <p:spPr>
          <a:xfrm>
            <a:off x="3524400" y="1479600"/>
            <a:ext cx="47520" cy="42840"/>
          </a:xfrm>
          <a:custGeom>
            <a:avLst/>
            <a:gdLst/>
            <a:ahLst/>
            <a:rect l="l" t="t" r="r" b="b"/>
            <a:pathLst>
              <a:path w="17" h="17">
                <a:moveTo>
                  <a:pt x="7" y="0"/>
                </a:moveTo>
                <a:lnTo>
                  <a:pt x="0" y="4"/>
                </a:lnTo>
                <a:lnTo>
                  <a:pt x="0" y="12"/>
                </a:lnTo>
                <a:lnTo>
                  <a:pt x="7" y="16"/>
                </a:lnTo>
                <a:lnTo>
                  <a:pt x="16" y="11"/>
                </a:lnTo>
                <a:lnTo>
                  <a:pt x="16" y="3"/>
                </a:lnTo>
                <a:lnTo>
                  <a:pt x="7"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8" name=""/>
          <p:cNvSpPr/>
          <p:nvPr/>
        </p:nvSpPr>
        <p:spPr>
          <a:xfrm>
            <a:off x="3594240" y="1459080"/>
            <a:ext cx="50760" cy="42840"/>
          </a:xfrm>
          <a:custGeom>
            <a:avLst/>
            <a:gdLst/>
            <a:ahLst/>
            <a:rect l="l" t="t" r="r" b="b"/>
            <a:pathLst>
              <a:path w="18" h="17">
                <a:moveTo>
                  <a:pt x="0" y="10"/>
                </a:moveTo>
                <a:lnTo>
                  <a:pt x="2" y="16"/>
                </a:lnTo>
                <a:lnTo>
                  <a:pt x="8" y="16"/>
                </a:lnTo>
                <a:lnTo>
                  <a:pt x="15" y="12"/>
                </a:lnTo>
                <a:lnTo>
                  <a:pt x="17" y="0"/>
                </a:lnTo>
                <a:lnTo>
                  <a:pt x="8" y="0"/>
                </a:lnTo>
                <a:lnTo>
                  <a:pt x="2" y="6"/>
                </a:lnTo>
                <a:lnTo>
                  <a:pt x="0" y="1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9" name=""/>
          <p:cNvSpPr/>
          <p:nvPr/>
        </p:nvSpPr>
        <p:spPr>
          <a:xfrm>
            <a:off x="3483000" y="1576440"/>
            <a:ext cx="47520" cy="44280"/>
          </a:xfrm>
          <a:custGeom>
            <a:avLst/>
            <a:gdLst/>
            <a:ahLst/>
            <a:rect l="l" t="t" r="r" b="b"/>
            <a:pathLst>
              <a:path w="17" h="17">
                <a:moveTo>
                  <a:pt x="11" y="0"/>
                </a:moveTo>
                <a:lnTo>
                  <a:pt x="3" y="3"/>
                </a:lnTo>
                <a:lnTo>
                  <a:pt x="0" y="11"/>
                </a:lnTo>
                <a:lnTo>
                  <a:pt x="3" y="16"/>
                </a:lnTo>
                <a:lnTo>
                  <a:pt x="16" y="12"/>
                </a:lnTo>
                <a:lnTo>
                  <a:pt x="11" y="0"/>
                </a:lnTo>
              </a:path>
            </a:pathLst>
          </a:custGeom>
          <a:solidFill>
            <a:srgbClr val="006790"/>
          </a:solidFill>
          <a:ln cap="rnd" w="3240">
            <a:solidFill>
              <a:srgbClr val="004463"/>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0" name=""/>
          <p:cNvSpPr/>
          <p:nvPr/>
        </p:nvSpPr>
        <p:spPr>
          <a:xfrm>
            <a:off x="2766960" y="1496880"/>
            <a:ext cx="243000" cy="192240"/>
          </a:xfrm>
          <a:custGeom>
            <a:avLst/>
            <a:gdLst/>
            <a:ahLst/>
            <a:rect l="l" t="t" r="r" b="b"/>
            <a:pathLst>
              <a:path w="87" h="75">
                <a:moveTo>
                  <a:pt x="80" y="0"/>
                </a:moveTo>
                <a:lnTo>
                  <a:pt x="70" y="0"/>
                </a:lnTo>
                <a:lnTo>
                  <a:pt x="55" y="5"/>
                </a:lnTo>
                <a:lnTo>
                  <a:pt x="43" y="11"/>
                </a:lnTo>
                <a:lnTo>
                  <a:pt x="38" y="24"/>
                </a:lnTo>
                <a:lnTo>
                  <a:pt x="33" y="29"/>
                </a:lnTo>
                <a:lnTo>
                  <a:pt x="27" y="23"/>
                </a:lnTo>
                <a:lnTo>
                  <a:pt x="29" y="16"/>
                </a:lnTo>
                <a:lnTo>
                  <a:pt x="12" y="18"/>
                </a:lnTo>
                <a:lnTo>
                  <a:pt x="7" y="26"/>
                </a:lnTo>
                <a:lnTo>
                  <a:pt x="15" y="31"/>
                </a:lnTo>
                <a:lnTo>
                  <a:pt x="20" y="34"/>
                </a:lnTo>
                <a:lnTo>
                  <a:pt x="7" y="38"/>
                </a:lnTo>
                <a:lnTo>
                  <a:pt x="9" y="47"/>
                </a:lnTo>
                <a:lnTo>
                  <a:pt x="25" y="44"/>
                </a:lnTo>
                <a:lnTo>
                  <a:pt x="15" y="51"/>
                </a:lnTo>
                <a:lnTo>
                  <a:pt x="2" y="52"/>
                </a:lnTo>
                <a:lnTo>
                  <a:pt x="0" y="66"/>
                </a:lnTo>
                <a:lnTo>
                  <a:pt x="7" y="74"/>
                </a:lnTo>
                <a:lnTo>
                  <a:pt x="19" y="67"/>
                </a:lnTo>
                <a:lnTo>
                  <a:pt x="25" y="61"/>
                </a:lnTo>
                <a:lnTo>
                  <a:pt x="29" y="56"/>
                </a:lnTo>
                <a:lnTo>
                  <a:pt x="35" y="59"/>
                </a:lnTo>
                <a:lnTo>
                  <a:pt x="43" y="59"/>
                </a:lnTo>
                <a:lnTo>
                  <a:pt x="53" y="47"/>
                </a:lnTo>
                <a:lnTo>
                  <a:pt x="47" y="39"/>
                </a:lnTo>
                <a:lnTo>
                  <a:pt x="55" y="38"/>
                </a:lnTo>
                <a:lnTo>
                  <a:pt x="78" y="39"/>
                </a:lnTo>
                <a:lnTo>
                  <a:pt x="78" y="31"/>
                </a:lnTo>
                <a:lnTo>
                  <a:pt x="68" y="29"/>
                </a:lnTo>
                <a:lnTo>
                  <a:pt x="86" y="16"/>
                </a:lnTo>
                <a:lnTo>
                  <a:pt x="80"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693880" y="1655640"/>
            <a:ext cx="82800" cy="44640"/>
          </a:xfrm>
          <a:custGeom>
            <a:avLst/>
            <a:gdLst/>
            <a:ahLst/>
            <a:rect l="l" t="t" r="r" b="b"/>
            <a:pathLst>
              <a:path w="29" h="17">
                <a:moveTo>
                  <a:pt x="18" y="2"/>
                </a:moveTo>
                <a:lnTo>
                  <a:pt x="13" y="0"/>
                </a:lnTo>
                <a:lnTo>
                  <a:pt x="7" y="0"/>
                </a:lnTo>
                <a:lnTo>
                  <a:pt x="0" y="5"/>
                </a:lnTo>
                <a:lnTo>
                  <a:pt x="7" y="14"/>
                </a:lnTo>
                <a:lnTo>
                  <a:pt x="15" y="14"/>
                </a:lnTo>
                <a:lnTo>
                  <a:pt x="25" y="16"/>
                </a:lnTo>
                <a:lnTo>
                  <a:pt x="28" y="12"/>
                </a:lnTo>
                <a:lnTo>
                  <a:pt x="18" y="2"/>
                </a:lnTo>
              </a:path>
            </a:pathLst>
          </a:custGeom>
          <a:solidFill>
            <a:srgbClr val="006790"/>
          </a:solidFill>
          <a:ln cap="rnd" w="3240">
            <a:solidFill>
              <a:srgbClr val="004463"/>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2" name=""/>
          <p:cNvSpPr/>
          <p:nvPr/>
        </p:nvSpPr>
        <p:spPr>
          <a:xfrm>
            <a:off x="2689200" y="1708200"/>
            <a:ext cx="50760" cy="42840"/>
          </a:xfrm>
          <a:custGeom>
            <a:avLst/>
            <a:gdLst/>
            <a:ahLst/>
            <a:rect l="l" t="t" r="r" b="b"/>
            <a:pathLst>
              <a:path w="18" h="17">
                <a:moveTo>
                  <a:pt x="12" y="0"/>
                </a:moveTo>
                <a:lnTo>
                  <a:pt x="7" y="0"/>
                </a:lnTo>
                <a:lnTo>
                  <a:pt x="0" y="2"/>
                </a:lnTo>
                <a:lnTo>
                  <a:pt x="4" y="16"/>
                </a:lnTo>
                <a:lnTo>
                  <a:pt x="12" y="16"/>
                </a:lnTo>
                <a:lnTo>
                  <a:pt x="17" y="6"/>
                </a:lnTo>
                <a:lnTo>
                  <a:pt x="15" y="4"/>
                </a:lnTo>
                <a:lnTo>
                  <a:pt x="15" y="2"/>
                </a:lnTo>
                <a:lnTo>
                  <a:pt x="14" y="2"/>
                </a:lnTo>
                <a:lnTo>
                  <a:pt x="14" y="0"/>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3" name=""/>
          <p:cNvSpPr/>
          <p:nvPr/>
        </p:nvSpPr>
        <p:spPr>
          <a:xfrm>
            <a:off x="2666880" y="1746360"/>
            <a:ext cx="47880" cy="61920"/>
          </a:xfrm>
          <a:custGeom>
            <a:avLst/>
            <a:gdLst/>
            <a:ahLst/>
            <a:rect l="l" t="t" r="r" b="b"/>
            <a:pathLst>
              <a:path w="17" h="24">
                <a:moveTo>
                  <a:pt x="9" y="0"/>
                </a:moveTo>
                <a:lnTo>
                  <a:pt x="2" y="5"/>
                </a:lnTo>
                <a:lnTo>
                  <a:pt x="0" y="15"/>
                </a:lnTo>
                <a:lnTo>
                  <a:pt x="2" y="23"/>
                </a:lnTo>
                <a:lnTo>
                  <a:pt x="9" y="20"/>
                </a:lnTo>
                <a:lnTo>
                  <a:pt x="13" y="12"/>
                </a:lnTo>
                <a:lnTo>
                  <a:pt x="16" y="5"/>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4" name=""/>
          <p:cNvSpPr/>
          <p:nvPr/>
        </p:nvSpPr>
        <p:spPr>
          <a:xfrm>
            <a:off x="2611440" y="1809720"/>
            <a:ext cx="47520" cy="44640"/>
          </a:xfrm>
          <a:custGeom>
            <a:avLst/>
            <a:gdLst/>
            <a:ahLst/>
            <a:rect l="l" t="t" r="r" b="b"/>
            <a:pathLst>
              <a:path w="17" h="17">
                <a:moveTo>
                  <a:pt x="16" y="0"/>
                </a:moveTo>
                <a:lnTo>
                  <a:pt x="6" y="1"/>
                </a:lnTo>
                <a:lnTo>
                  <a:pt x="0" y="7"/>
                </a:lnTo>
                <a:lnTo>
                  <a:pt x="5" y="16"/>
                </a:lnTo>
                <a:lnTo>
                  <a:pt x="16" y="9"/>
                </a:lnTo>
                <a:lnTo>
                  <a:pt x="16" y="7"/>
                </a:lnTo>
                <a:lnTo>
                  <a:pt x="16" y="6"/>
                </a:lnTo>
                <a:lnTo>
                  <a:pt x="16" y="3"/>
                </a:lnTo>
                <a:lnTo>
                  <a:pt x="13" y="3"/>
                </a:lnTo>
                <a:lnTo>
                  <a:pt x="13" y="1"/>
                </a:lnTo>
                <a:lnTo>
                  <a:pt x="13" y="0"/>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5" name=""/>
          <p:cNvSpPr/>
          <p:nvPr/>
        </p:nvSpPr>
        <p:spPr>
          <a:xfrm>
            <a:off x="2787480" y="1704960"/>
            <a:ext cx="150840" cy="200160"/>
          </a:xfrm>
          <a:custGeom>
            <a:avLst/>
            <a:gdLst/>
            <a:ahLst/>
            <a:rect l="l" t="t" r="r" b="b"/>
            <a:pathLst>
              <a:path w="54" h="78">
                <a:moveTo>
                  <a:pt x="35" y="0"/>
                </a:moveTo>
                <a:lnTo>
                  <a:pt x="26" y="3"/>
                </a:lnTo>
                <a:lnTo>
                  <a:pt x="26" y="18"/>
                </a:lnTo>
                <a:lnTo>
                  <a:pt x="22" y="3"/>
                </a:lnTo>
                <a:lnTo>
                  <a:pt x="15" y="3"/>
                </a:lnTo>
                <a:lnTo>
                  <a:pt x="17" y="16"/>
                </a:lnTo>
                <a:lnTo>
                  <a:pt x="10" y="19"/>
                </a:lnTo>
                <a:lnTo>
                  <a:pt x="8" y="11"/>
                </a:lnTo>
                <a:lnTo>
                  <a:pt x="0" y="14"/>
                </a:lnTo>
                <a:lnTo>
                  <a:pt x="5" y="29"/>
                </a:lnTo>
                <a:lnTo>
                  <a:pt x="18" y="33"/>
                </a:lnTo>
                <a:lnTo>
                  <a:pt x="20" y="41"/>
                </a:lnTo>
                <a:lnTo>
                  <a:pt x="13" y="44"/>
                </a:lnTo>
                <a:lnTo>
                  <a:pt x="18" y="52"/>
                </a:lnTo>
                <a:lnTo>
                  <a:pt x="25" y="56"/>
                </a:lnTo>
                <a:lnTo>
                  <a:pt x="31" y="59"/>
                </a:lnTo>
                <a:lnTo>
                  <a:pt x="31" y="71"/>
                </a:lnTo>
                <a:lnTo>
                  <a:pt x="33" y="77"/>
                </a:lnTo>
                <a:lnTo>
                  <a:pt x="40" y="72"/>
                </a:lnTo>
                <a:lnTo>
                  <a:pt x="48" y="64"/>
                </a:lnTo>
                <a:lnTo>
                  <a:pt x="53" y="64"/>
                </a:lnTo>
                <a:lnTo>
                  <a:pt x="51" y="56"/>
                </a:lnTo>
                <a:lnTo>
                  <a:pt x="40" y="57"/>
                </a:lnTo>
                <a:lnTo>
                  <a:pt x="33" y="51"/>
                </a:lnTo>
                <a:lnTo>
                  <a:pt x="31" y="34"/>
                </a:lnTo>
                <a:lnTo>
                  <a:pt x="35" y="31"/>
                </a:lnTo>
                <a:lnTo>
                  <a:pt x="40" y="14"/>
                </a:lnTo>
                <a:lnTo>
                  <a:pt x="38" y="1"/>
                </a:lnTo>
                <a:lnTo>
                  <a:pt x="35"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787480" y="1863720"/>
            <a:ext cx="46080" cy="44280"/>
          </a:xfrm>
          <a:custGeom>
            <a:avLst/>
            <a:gdLst/>
            <a:ahLst/>
            <a:rect l="l" t="t" r="r" b="b"/>
            <a:pathLst>
              <a:path w="17" h="17">
                <a:moveTo>
                  <a:pt x="9" y="0"/>
                </a:moveTo>
                <a:lnTo>
                  <a:pt x="0" y="4"/>
                </a:lnTo>
                <a:lnTo>
                  <a:pt x="4" y="12"/>
                </a:lnTo>
                <a:lnTo>
                  <a:pt x="9" y="16"/>
                </a:lnTo>
                <a:lnTo>
                  <a:pt x="16" y="7"/>
                </a:lnTo>
                <a:lnTo>
                  <a:pt x="9" y="0"/>
                </a:lnTo>
              </a:path>
            </a:pathLst>
          </a:custGeom>
          <a:solidFill>
            <a:srgbClr val="006790"/>
          </a:solidFill>
          <a:ln cap="rnd" w="3240">
            <a:solidFill>
              <a:srgbClr val="004463"/>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7" name=""/>
          <p:cNvSpPr/>
          <p:nvPr/>
        </p:nvSpPr>
        <p:spPr>
          <a:xfrm>
            <a:off x="2714760" y="1935000"/>
            <a:ext cx="47520" cy="44640"/>
          </a:xfrm>
          <a:custGeom>
            <a:avLst/>
            <a:gdLst/>
            <a:ahLst/>
            <a:rect l="l" t="t" r="r" b="b"/>
            <a:pathLst>
              <a:path w="17" h="17">
                <a:moveTo>
                  <a:pt x="13" y="0"/>
                </a:moveTo>
                <a:lnTo>
                  <a:pt x="6" y="4"/>
                </a:lnTo>
                <a:lnTo>
                  <a:pt x="0" y="10"/>
                </a:lnTo>
                <a:lnTo>
                  <a:pt x="0" y="16"/>
                </a:lnTo>
                <a:lnTo>
                  <a:pt x="8" y="16"/>
                </a:lnTo>
                <a:lnTo>
                  <a:pt x="16" y="4"/>
                </a:lnTo>
                <a:lnTo>
                  <a:pt x="13" y="0"/>
                </a:lnTo>
              </a:path>
            </a:pathLst>
          </a:custGeom>
          <a:solidFill>
            <a:srgbClr val="006790"/>
          </a:solidFill>
          <a:ln cap="rnd" w="3240">
            <a:solidFill>
              <a:srgbClr val="004463"/>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8" name=""/>
          <p:cNvSpPr/>
          <p:nvPr/>
        </p:nvSpPr>
        <p:spPr>
          <a:xfrm>
            <a:off x="2658960" y="1962000"/>
            <a:ext cx="47880" cy="42840"/>
          </a:xfrm>
          <a:custGeom>
            <a:avLst/>
            <a:gdLst/>
            <a:ahLst/>
            <a:rect l="l" t="t" r="r" b="b"/>
            <a:pathLst>
              <a:path w="17" h="17">
                <a:moveTo>
                  <a:pt x="16" y="4"/>
                </a:moveTo>
                <a:lnTo>
                  <a:pt x="8" y="0"/>
                </a:lnTo>
                <a:lnTo>
                  <a:pt x="2" y="8"/>
                </a:lnTo>
                <a:lnTo>
                  <a:pt x="0" y="14"/>
                </a:lnTo>
                <a:lnTo>
                  <a:pt x="16" y="16"/>
                </a:lnTo>
                <a:lnTo>
                  <a:pt x="16" y="4"/>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9" name=""/>
          <p:cNvSpPr/>
          <p:nvPr/>
        </p:nvSpPr>
        <p:spPr>
          <a:xfrm>
            <a:off x="2741760" y="1962000"/>
            <a:ext cx="120600" cy="125640"/>
          </a:xfrm>
          <a:custGeom>
            <a:avLst/>
            <a:gdLst/>
            <a:ahLst/>
            <a:rect l="l" t="t" r="r" b="b"/>
            <a:pathLst>
              <a:path w="43" h="49">
                <a:moveTo>
                  <a:pt x="18" y="0"/>
                </a:moveTo>
                <a:lnTo>
                  <a:pt x="8" y="5"/>
                </a:lnTo>
                <a:lnTo>
                  <a:pt x="3" y="17"/>
                </a:lnTo>
                <a:lnTo>
                  <a:pt x="19" y="23"/>
                </a:lnTo>
                <a:lnTo>
                  <a:pt x="14" y="32"/>
                </a:lnTo>
                <a:lnTo>
                  <a:pt x="0" y="38"/>
                </a:lnTo>
                <a:lnTo>
                  <a:pt x="6" y="48"/>
                </a:lnTo>
                <a:lnTo>
                  <a:pt x="18" y="43"/>
                </a:lnTo>
                <a:lnTo>
                  <a:pt x="33" y="47"/>
                </a:lnTo>
                <a:lnTo>
                  <a:pt x="42" y="35"/>
                </a:lnTo>
                <a:lnTo>
                  <a:pt x="36" y="32"/>
                </a:lnTo>
                <a:lnTo>
                  <a:pt x="29" y="22"/>
                </a:lnTo>
                <a:lnTo>
                  <a:pt x="29" y="12"/>
                </a:lnTo>
                <a:lnTo>
                  <a:pt x="29" y="10"/>
                </a:lnTo>
                <a:lnTo>
                  <a:pt x="28" y="10"/>
                </a:lnTo>
                <a:lnTo>
                  <a:pt x="26" y="9"/>
                </a:lnTo>
                <a:lnTo>
                  <a:pt x="24" y="7"/>
                </a:lnTo>
                <a:lnTo>
                  <a:pt x="23" y="7"/>
                </a:lnTo>
                <a:lnTo>
                  <a:pt x="23" y="5"/>
                </a:lnTo>
                <a:lnTo>
                  <a:pt x="21" y="4"/>
                </a:lnTo>
                <a:lnTo>
                  <a:pt x="19" y="4"/>
                </a:lnTo>
                <a:lnTo>
                  <a:pt x="19" y="2"/>
                </a:lnTo>
                <a:lnTo>
                  <a:pt x="18" y="2"/>
                </a:lnTo>
                <a:lnTo>
                  <a:pt x="18"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736720" y="2124000"/>
            <a:ext cx="73080" cy="87480"/>
          </a:xfrm>
          <a:custGeom>
            <a:avLst/>
            <a:gdLst/>
            <a:ahLst/>
            <a:rect l="l" t="t" r="r" b="b"/>
            <a:pathLst>
              <a:path w="26" h="34">
                <a:moveTo>
                  <a:pt x="23" y="0"/>
                </a:moveTo>
                <a:lnTo>
                  <a:pt x="13" y="10"/>
                </a:lnTo>
                <a:lnTo>
                  <a:pt x="3" y="18"/>
                </a:lnTo>
                <a:lnTo>
                  <a:pt x="0" y="26"/>
                </a:lnTo>
                <a:lnTo>
                  <a:pt x="5" y="33"/>
                </a:lnTo>
                <a:lnTo>
                  <a:pt x="13" y="28"/>
                </a:lnTo>
                <a:lnTo>
                  <a:pt x="16" y="20"/>
                </a:lnTo>
                <a:lnTo>
                  <a:pt x="25" y="8"/>
                </a:lnTo>
                <a:lnTo>
                  <a:pt x="23" y="0"/>
                </a:lnTo>
              </a:path>
            </a:pathLst>
          </a:custGeom>
          <a:solidFill>
            <a:srgbClr val="006790"/>
          </a:solidFill>
          <a:ln cap="rnd" w="3240">
            <a:solidFill>
              <a:srgbClr val="004463"/>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1" name=""/>
          <p:cNvSpPr/>
          <p:nvPr/>
        </p:nvSpPr>
        <p:spPr>
          <a:xfrm>
            <a:off x="2644920" y="2144880"/>
            <a:ext cx="74520" cy="99720"/>
          </a:xfrm>
          <a:custGeom>
            <a:avLst/>
            <a:gdLst/>
            <a:ahLst/>
            <a:rect l="l" t="t" r="r" b="b"/>
            <a:pathLst>
              <a:path w="27" h="39">
                <a:moveTo>
                  <a:pt x="25" y="7"/>
                </a:moveTo>
                <a:lnTo>
                  <a:pt x="16" y="7"/>
                </a:lnTo>
                <a:lnTo>
                  <a:pt x="15" y="0"/>
                </a:lnTo>
                <a:lnTo>
                  <a:pt x="3" y="7"/>
                </a:lnTo>
                <a:lnTo>
                  <a:pt x="0" y="18"/>
                </a:lnTo>
                <a:lnTo>
                  <a:pt x="8" y="22"/>
                </a:lnTo>
                <a:lnTo>
                  <a:pt x="6" y="32"/>
                </a:lnTo>
                <a:lnTo>
                  <a:pt x="5" y="38"/>
                </a:lnTo>
                <a:lnTo>
                  <a:pt x="15" y="37"/>
                </a:lnTo>
                <a:lnTo>
                  <a:pt x="21" y="30"/>
                </a:lnTo>
                <a:lnTo>
                  <a:pt x="26" y="25"/>
                </a:lnTo>
                <a:lnTo>
                  <a:pt x="20" y="17"/>
                </a:lnTo>
                <a:lnTo>
                  <a:pt x="25" y="7"/>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2814480" y="2265480"/>
            <a:ext cx="47880" cy="73080"/>
          </a:xfrm>
          <a:custGeom>
            <a:avLst/>
            <a:gdLst/>
            <a:ahLst/>
            <a:rect l="l" t="t" r="r" b="b"/>
            <a:pathLst>
              <a:path w="17" h="29">
                <a:moveTo>
                  <a:pt x="14" y="0"/>
                </a:moveTo>
                <a:lnTo>
                  <a:pt x="3" y="3"/>
                </a:lnTo>
                <a:lnTo>
                  <a:pt x="0" y="16"/>
                </a:lnTo>
                <a:lnTo>
                  <a:pt x="6" y="28"/>
                </a:lnTo>
                <a:lnTo>
                  <a:pt x="12" y="28"/>
                </a:lnTo>
                <a:lnTo>
                  <a:pt x="16" y="9"/>
                </a:lnTo>
                <a:lnTo>
                  <a:pt x="14" y="0"/>
                </a:lnTo>
              </a:path>
            </a:pathLst>
          </a:custGeom>
          <a:solidFill>
            <a:srgbClr val="006790"/>
          </a:solidFill>
          <a:ln cap="rnd" w="3240">
            <a:solidFill>
              <a:srgbClr val="00446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 name=""/>
          <p:cNvSpPr/>
          <p:nvPr/>
        </p:nvSpPr>
        <p:spPr>
          <a:xfrm>
            <a:off x="2766960" y="2641680"/>
            <a:ext cx="106560" cy="74520"/>
          </a:xfrm>
          <a:custGeom>
            <a:avLst/>
            <a:gdLst/>
            <a:ahLst/>
            <a:rect l="l" t="t" r="r" b="b"/>
            <a:pathLst>
              <a:path w="38" h="29">
                <a:moveTo>
                  <a:pt x="37" y="0"/>
                </a:moveTo>
                <a:lnTo>
                  <a:pt x="33" y="4"/>
                </a:lnTo>
                <a:lnTo>
                  <a:pt x="30" y="11"/>
                </a:lnTo>
                <a:lnTo>
                  <a:pt x="30" y="18"/>
                </a:lnTo>
                <a:lnTo>
                  <a:pt x="25" y="21"/>
                </a:lnTo>
                <a:lnTo>
                  <a:pt x="20" y="21"/>
                </a:lnTo>
                <a:lnTo>
                  <a:pt x="14" y="28"/>
                </a:lnTo>
                <a:lnTo>
                  <a:pt x="0" y="26"/>
                </a:lnTo>
                <a:lnTo>
                  <a:pt x="2" y="21"/>
                </a:lnTo>
                <a:lnTo>
                  <a:pt x="5" y="16"/>
                </a:lnTo>
                <a:lnTo>
                  <a:pt x="12" y="8"/>
                </a:lnTo>
                <a:lnTo>
                  <a:pt x="20" y="1"/>
                </a:lnTo>
                <a:lnTo>
                  <a:pt x="37" y="0"/>
                </a:lnTo>
              </a:path>
            </a:pathLst>
          </a:custGeom>
          <a:solidFill>
            <a:srgbClr val="006790"/>
          </a:solidFill>
          <a:ln cap="rnd" w="3240">
            <a:solidFill>
              <a:srgbClr val="004463"/>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4" name=""/>
          <p:cNvSpPr/>
          <p:nvPr/>
        </p:nvSpPr>
        <p:spPr>
          <a:xfrm>
            <a:off x="2689200" y="2886120"/>
            <a:ext cx="95400" cy="79200"/>
          </a:xfrm>
          <a:custGeom>
            <a:avLst/>
            <a:gdLst/>
            <a:ahLst/>
            <a:rect l="l" t="t" r="r" b="b"/>
            <a:pathLst>
              <a:path w="34" h="31">
                <a:moveTo>
                  <a:pt x="19" y="2"/>
                </a:moveTo>
                <a:lnTo>
                  <a:pt x="10" y="0"/>
                </a:lnTo>
                <a:lnTo>
                  <a:pt x="5" y="7"/>
                </a:lnTo>
                <a:lnTo>
                  <a:pt x="0" y="12"/>
                </a:lnTo>
                <a:lnTo>
                  <a:pt x="5" y="22"/>
                </a:lnTo>
                <a:lnTo>
                  <a:pt x="17" y="30"/>
                </a:lnTo>
                <a:lnTo>
                  <a:pt x="25" y="27"/>
                </a:lnTo>
                <a:lnTo>
                  <a:pt x="33" y="15"/>
                </a:lnTo>
                <a:lnTo>
                  <a:pt x="25" y="7"/>
                </a:lnTo>
                <a:lnTo>
                  <a:pt x="19" y="2"/>
                </a:lnTo>
              </a:path>
            </a:pathLst>
          </a:custGeom>
          <a:solidFill>
            <a:srgbClr val="006790"/>
          </a:solidFill>
          <a:ln cap="rnd" w="3240">
            <a:solidFill>
              <a:srgbClr val="00446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5" name=""/>
          <p:cNvSpPr/>
          <p:nvPr/>
        </p:nvSpPr>
        <p:spPr>
          <a:xfrm>
            <a:off x="2994120" y="3710160"/>
            <a:ext cx="85680" cy="53640"/>
          </a:xfrm>
          <a:custGeom>
            <a:avLst/>
            <a:gdLst/>
            <a:ahLst/>
            <a:rect l="l" t="t" r="r" b="b"/>
            <a:pathLst>
              <a:path w="31" h="21">
                <a:moveTo>
                  <a:pt x="19" y="0"/>
                </a:moveTo>
                <a:lnTo>
                  <a:pt x="10" y="1"/>
                </a:lnTo>
                <a:lnTo>
                  <a:pt x="5" y="3"/>
                </a:lnTo>
                <a:lnTo>
                  <a:pt x="0" y="5"/>
                </a:lnTo>
                <a:lnTo>
                  <a:pt x="7" y="10"/>
                </a:lnTo>
                <a:lnTo>
                  <a:pt x="12" y="20"/>
                </a:lnTo>
                <a:lnTo>
                  <a:pt x="22" y="18"/>
                </a:lnTo>
                <a:lnTo>
                  <a:pt x="30" y="13"/>
                </a:lnTo>
                <a:lnTo>
                  <a:pt x="19" y="0"/>
                </a:lnTo>
              </a:path>
            </a:pathLst>
          </a:custGeom>
          <a:solidFill>
            <a:srgbClr val="006790"/>
          </a:solidFill>
          <a:ln cap="rnd" w="3240">
            <a:solidFill>
              <a:srgbClr val="004463"/>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66" name=""/>
          <p:cNvSpPr/>
          <p:nvPr/>
        </p:nvSpPr>
        <p:spPr>
          <a:xfrm>
            <a:off x="2755800" y="4057560"/>
            <a:ext cx="47880" cy="42840"/>
          </a:xfrm>
          <a:custGeom>
            <a:avLst/>
            <a:gdLst/>
            <a:ahLst/>
            <a:rect l="l" t="t" r="r" b="b"/>
            <a:pathLst>
              <a:path w="17" h="17">
                <a:moveTo>
                  <a:pt x="3" y="0"/>
                </a:moveTo>
                <a:lnTo>
                  <a:pt x="0" y="4"/>
                </a:lnTo>
                <a:lnTo>
                  <a:pt x="0" y="12"/>
                </a:lnTo>
                <a:lnTo>
                  <a:pt x="9" y="16"/>
                </a:lnTo>
                <a:lnTo>
                  <a:pt x="16" y="11"/>
                </a:lnTo>
                <a:lnTo>
                  <a:pt x="13" y="3"/>
                </a:lnTo>
                <a:lnTo>
                  <a:pt x="7" y="3"/>
                </a:lnTo>
                <a:lnTo>
                  <a:pt x="3"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7" name=""/>
          <p:cNvSpPr/>
          <p:nvPr/>
        </p:nvSpPr>
        <p:spPr>
          <a:xfrm>
            <a:off x="2693880" y="3979800"/>
            <a:ext cx="47880" cy="42840"/>
          </a:xfrm>
          <a:custGeom>
            <a:avLst/>
            <a:gdLst/>
            <a:ahLst/>
            <a:rect l="l" t="t" r="r" b="b"/>
            <a:pathLst>
              <a:path w="17" h="17">
                <a:moveTo>
                  <a:pt x="16" y="0"/>
                </a:moveTo>
                <a:lnTo>
                  <a:pt x="6" y="0"/>
                </a:lnTo>
                <a:lnTo>
                  <a:pt x="2" y="8"/>
                </a:lnTo>
                <a:lnTo>
                  <a:pt x="0" y="16"/>
                </a:lnTo>
                <a:lnTo>
                  <a:pt x="4" y="16"/>
                </a:lnTo>
                <a:lnTo>
                  <a:pt x="9" y="11"/>
                </a:lnTo>
                <a:lnTo>
                  <a:pt x="16"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2736720" y="3992400"/>
            <a:ext cx="47880" cy="44640"/>
          </a:xfrm>
          <a:custGeom>
            <a:avLst/>
            <a:gdLst/>
            <a:ahLst/>
            <a:rect l="l" t="t" r="r" b="b"/>
            <a:pathLst>
              <a:path w="17" h="17">
                <a:moveTo>
                  <a:pt x="6" y="0"/>
                </a:moveTo>
                <a:lnTo>
                  <a:pt x="0" y="11"/>
                </a:lnTo>
                <a:lnTo>
                  <a:pt x="6" y="16"/>
                </a:lnTo>
                <a:lnTo>
                  <a:pt x="16" y="4"/>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9" name=""/>
          <p:cNvSpPr/>
          <p:nvPr/>
        </p:nvSpPr>
        <p:spPr>
          <a:xfrm>
            <a:off x="2211480" y="1530360"/>
            <a:ext cx="1514520" cy="2254320"/>
          </a:xfrm>
          <a:custGeom>
            <a:avLst/>
            <a:gdLst/>
            <a:ahLst/>
            <a:rect l="l" t="t" r="r" b="b"/>
            <a:pathLst>
              <a:path w="542" h="878">
                <a:moveTo>
                  <a:pt x="452" y="33"/>
                </a:moveTo>
                <a:lnTo>
                  <a:pt x="447" y="31"/>
                </a:lnTo>
                <a:lnTo>
                  <a:pt x="439" y="33"/>
                </a:lnTo>
                <a:lnTo>
                  <a:pt x="429" y="36"/>
                </a:lnTo>
                <a:lnTo>
                  <a:pt x="419" y="31"/>
                </a:lnTo>
                <a:lnTo>
                  <a:pt x="411" y="33"/>
                </a:lnTo>
                <a:lnTo>
                  <a:pt x="406" y="30"/>
                </a:lnTo>
                <a:lnTo>
                  <a:pt x="396" y="25"/>
                </a:lnTo>
                <a:lnTo>
                  <a:pt x="389" y="30"/>
                </a:lnTo>
                <a:lnTo>
                  <a:pt x="384" y="26"/>
                </a:lnTo>
                <a:lnTo>
                  <a:pt x="379" y="30"/>
                </a:lnTo>
                <a:lnTo>
                  <a:pt x="381" y="21"/>
                </a:lnTo>
                <a:lnTo>
                  <a:pt x="376" y="15"/>
                </a:lnTo>
                <a:lnTo>
                  <a:pt x="358" y="15"/>
                </a:lnTo>
                <a:lnTo>
                  <a:pt x="358" y="21"/>
                </a:lnTo>
                <a:lnTo>
                  <a:pt x="353" y="11"/>
                </a:lnTo>
                <a:lnTo>
                  <a:pt x="351" y="0"/>
                </a:lnTo>
                <a:lnTo>
                  <a:pt x="345" y="0"/>
                </a:lnTo>
                <a:lnTo>
                  <a:pt x="338" y="11"/>
                </a:lnTo>
                <a:lnTo>
                  <a:pt x="333" y="21"/>
                </a:lnTo>
                <a:lnTo>
                  <a:pt x="343" y="25"/>
                </a:lnTo>
                <a:lnTo>
                  <a:pt x="332" y="26"/>
                </a:lnTo>
                <a:lnTo>
                  <a:pt x="330" y="31"/>
                </a:lnTo>
                <a:lnTo>
                  <a:pt x="327" y="36"/>
                </a:lnTo>
                <a:lnTo>
                  <a:pt x="320" y="36"/>
                </a:lnTo>
                <a:lnTo>
                  <a:pt x="313" y="31"/>
                </a:lnTo>
                <a:lnTo>
                  <a:pt x="310" y="43"/>
                </a:lnTo>
                <a:lnTo>
                  <a:pt x="315" y="46"/>
                </a:lnTo>
                <a:lnTo>
                  <a:pt x="312" y="49"/>
                </a:lnTo>
                <a:lnTo>
                  <a:pt x="304" y="46"/>
                </a:lnTo>
                <a:lnTo>
                  <a:pt x="302" y="59"/>
                </a:lnTo>
                <a:lnTo>
                  <a:pt x="308" y="63"/>
                </a:lnTo>
                <a:lnTo>
                  <a:pt x="313" y="71"/>
                </a:lnTo>
                <a:lnTo>
                  <a:pt x="313" y="77"/>
                </a:lnTo>
                <a:lnTo>
                  <a:pt x="305" y="72"/>
                </a:lnTo>
                <a:lnTo>
                  <a:pt x="297" y="68"/>
                </a:lnTo>
                <a:lnTo>
                  <a:pt x="292" y="66"/>
                </a:lnTo>
                <a:lnTo>
                  <a:pt x="282" y="68"/>
                </a:lnTo>
                <a:lnTo>
                  <a:pt x="285" y="74"/>
                </a:lnTo>
                <a:lnTo>
                  <a:pt x="289" y="84"/>
                </a:lnTo>
                <a:lnTo>
                  <a:pt x="284" y="89"/>
                </a:lnTo>
                <a:lnTo>
                  <a:pt x="282" y="79"/>
                </a:lnTo>
                <a:lnTo>
                  <a:pt x="280" y="68"/>
                </a:lnTo>
                <a:lnTo>
                  <a:pt x="272" y="68"/>
                </a:lnTo>
                <a:lnTo>
                  <a:pt x="272" y="79"/>
                </a:lnTo>
                <a:lnTo>
                  <a:pt x="269" y="82"/>
                </a:lnTo>
                <a:lnTo>
                  <a:pt x="279" y="92"/>
                </a:lnTo>
                <a:lnTo>
                  <a:pt x="282" y="99"/>
                </a:lnTo>
                <a:lnTo>
                  <a:pt x="274" y="99"/>
                </a:lnTo>
                <a:lnTo>
                  <a:pt x="264" y="96"/>
                </a:lnTo>
                <a:lnTo>
                  <a:pt x="262" y="110"/>
                </a:lnTo>
                <a:lnTo>
                  <a:pt x="264" y="119"/>
                </a:lnTo>
                <a:lnTo>
                  <a:pt x="269" y="125"/>
                </a:lnTo>
                <a:lnTo>
                  <a:pt x="270" y="135"/>
                </a:lnTo>
                <a:lnTo>
                  <a:pt x="264" y="137"/>
                </a:lnTo>
                <a:lnTo>
                  <a:pt x="256" y="145"/>
                </a:lnTo>
                <a:lnTo>
                  <a:pt x="259" y="153"/>
                </a:lnTo>
                <a:lnTo>
                  <a:pt x="252" y="150"/>
                </a:lnTo>
                <a:lnTo>
                  <a:pt x="246" y="153"/>
                </a:lnTo>
                <a:lnTo>
                  <a:pt x="249" y="160"/>
                </a:lnTo>
                <a:lnTo>
                  <a:pt x="246" y="167"/>
                </a:lnTo>
                <a:lnTo>
                  <a:pt x="239" y="167"/>
                </a:lnTo>
                <a:lnTo>
                  <a:pt x="232" y="165"/>
                </a:lnTo>
                <a:lnTo>
                  <a:pt x="223" y="165"/>
                </a:lnTo>
                <a:lnTo>
                  <a:pt x="223" y="172"/>
                </a:lnTo>
                <a:lnTo>
                  <a:pt x="231" y="175"/>
                </a:lnTo>
                <a:lnTo>
                  <a:pt x="239" y="178"/>
                </a:lnTo>
                <a:lnTo>
                  <a:pt x="234" y="180"/>
                </a:lnTo>
                <a:lnTo>
                  <a:pt x="224" y="180"/>
                </a:lnTo>
                <a:lnTo>
                  <a:pt x="226" y="190"/>
                </a:lnTo>
                <a:lnTo>
                  <a:pt x="231" y="195"/>
                </a:lnTo>
                <a:lnTo>
                  <a:pt x="239" y="198"/>
                </a:lnTo>
                <a:lnTo>
                  <a:pt x="257" y="186"/>
                </a:lnTo>
                <a:lnTo>
                  <a:pt x="270" y="180"/>
                </a:lnTo>
                <a:lnTo>
                  <a:pt x="274" y="181"/>
                </a:lnTo>
                <a:lnTo>
                  <a:pt x="269" y="190"/>
                </a:lnTo>
                <a:lnTo>
                  <a:pt x="259" y="195"/>
                </a:lnTo>
                <a:lnTo>
                  <a:pt x="246" y="203"/>
                </a:lnTo>
                <a:lnTo>
                  <a:pt x="241" y="211"/>
                </a:lnTo>
                <a:lnTo>
                  <a:pt x="232" y="223"/>
                </a:lnTo>
                <a:lnTo>
                  <a:pt x="223" y="234"/>
                </a:lnTo>
                <a:lnTo>
                  <a:pt x="229" y="239"/>
                </a:lnTo>
                <a:lnTo>
                  <a:pt x="219" y="244"/>
                </a:lnTo>
                <a:lnTo>
                  <a:pt x="209" y="251"/>
                </a:lnTo>
                <a:lnTo>
                  <a:pt x="216" y="254"/>
                </a:lnTo>
                <a:lnTo>
                  <a:pt x="211" y="264"/>
                </a:lnTo>
                <a:lnTo>
                  <a:pt x="209" y="276"/>
                </a:lnTo>
                <a:lnTo>
                  <a:pt x="203" y="281"/>
                </a:lnTo>
                <a:lnTo>
                  <a:pt x="188" y="292"/>
                </a:lnTo>
                <a:lnTo>
                  <a:pt x="180" y="304"/>
                </a:lnTo>
                <a:lnTo>
                  <a:pt x="185" y="314"/>
                </a:lnTo>
                <a:lnTo>
                  <a:pt x="191" y="314"/>
                </a:lnTo>
                <a:lnTo>
                  <a:pt x="196" y="304"/>
                </a:lnTo>
                <a:lnTo>
                  <a:pt x="208" y="295"/>
                </a:lnTo>
                <a:lnTo>
                  <a:pt x="218" y="281"/>
                </a:lnTo>
                <a:lnTo>
                  <a:pt x="224" y="272"/>
                </a:lnTo>
                <a:lnTo>
                  <a:pt x="224" y="259"/>
                </a:lnTo>
                <a:lnTo>
                  <a:pt x="234" y="256"/>
                </a:lnTo>
                <a:lnTo>
                  <a:pt x="234" y="246"/>
                </a:lnTo>
                <a:lnTo>
                  <a:pt x="239" y="239"/>
                </a:lnTo>
                <a:lnTo>
                  <a:pt x="242" y="248"/>
                </a:lnTo>
                <a:lnTo>
                  <a:pt x="257" y="241"/>
                </a:lnTo>
                <a:lnTo>
                  <a:pt x="257" y="248"/>
                </a:lnTo>
                <a:lnTo>
                  <a:pt x="241" y="254"/>
                </a:lnTo>
                <a:lnTo>
                  <a:pt x="232" y="266"/>
                </a:lnTo>
                <a:lnTo>
                  <a:pt x="236" y="276"/>
                </a:lnTo>
                <a:lnTo>
                  <a:pt x="247" y="269"/>
                </a:lnTo>
                <a:lnTo>
                  <a:pt x="257" y="262"/>
                </a:lnTo>
                <a:lnTo>
                  <a:pt x="266" y="257"/>
                </a:lnTo>
                <a:lnTo>
                  <a:pt x="266" y="267"/>
                </a:lnTo>
                <a:lnTo>
                  <a:pt x="277" y="274"/>
                </a:lnTo>
                <a:lnTo>
                  <a:pt x="280" y="284"/>
                </a:lnTo>
                <a:lnTo>
                  <a:pt x="266" y="274"/>
                </a:lnTo>
                <a:lnTo>
                  <a:pt x="254" y="276"/>
                </a:lnTo>
                <a:lnTo>
                  <a:pt x="247" y="286"/>
                </a:lnTo>
                <a:lnTo>
                  <a:pt x="249" y="295"/>
                </a:lnTo>
                <a:lnTo>
                  <a:pt x="256" y="307"/>
                </a:lnTo>
                <a:lnTo>
                  <a:pt x="254" y="315"/>
                </a:lnTo>
                <a:lnTo>
                  <a:pt x="244" y="315"/>
                </a:lnTo>
                <a:lnTo>
                  <a:pt x="237" y="319"/>
                </a:lnTo>
                <a:lnTo>
                  <a:pt x="237" y="332"/>
                </a:lnTo>
                <a:lnTo>
                  <a:pt x="231" y="338"/>
                </a:lnTo>
                <a:lnTo>
                  <a:pt x="219" y="343"/>
                </a:lnTo>
                <a:lnTo>
                  <a:pt x="219" y="358"/>
                </a:lnTo>
                <a:lnTo>
                  <a:pt x="213" y="363"/>
                </a:lnTo>
                <a:lnTo>
                  <a:pt x="208" y="348"/>
                </a:lnTo>
                <a:lnTo>
                  <a:pt x="201" y="352"/>
                </a:lnTo>
                <a:lnTo>
                  <a:pt x="204" y="378"/>
                </a:lnTo>
                <a:lnTo>
                  <a:pt x="208" y="396"/>
                </a:lnTo>
                <a:lnTo>
                  <a:pt x="214" y="403"/>
                </a:lnTo>
                <a:lnTo>
                  <a:pt x="214" y="381"/>
                </a:lnTo>
                <a:lnTo>
                  <a:pt x="219" y="378"/>
                </a:lnTo>
                <a:lnTo>
                  <a:pt x="229" y="386"/>
                </a:lnTo>
                <a:lnTo>
                  <a:pt x="236" y="406"/>
                </a:lnTo>
                <a:lnTo>
                  <a:pt x="242" y="403"/>
                </a:lnTo>
                <a:lnTo>
                  <a:pt x="247" y="395"/>
                </a:lnTo>
                <a:lnTo>
                  <a:pt x="247" y="383"/>
                </a:lnTo>
                <a:lnTo>
                  <a:pt x="251" y="380"/>
                </a:lnTo>
                <a:lnTo>
                  <a:pt x="259" y="385"/>
                </a:lnTo>
                <a:lnTo>
                  <a:pt x="267" y="391"/>
                </a:lnTo>
                <a:lnTo>
                  <a:pt x="274" y="396"/>
                </a:lnTo>
                <a:lnTo>
                  <a:pt x="284" y="388"/>
                </a:lnTo>
                <a:lnTo>
                  <a:pt x="299" y="386"/>
                </a:lnTo>
                <a:lnTo>
                  <a:pt x="305" y="391"/>
                </a:lnTo>
                <a:lnTo>
                  <a:pt x="317" y="391"/>
                </a:lnTo>
                <a:lnTo>
                  <a:pt x="328" y="395"/>
                </a:lnTo>
                <a:lnTo>
                  <a:pt x="313" y="399"/>
                </a:lnTo>
                <a:lnTo>
                  <a:pt x="313" y="406"/>
                </a:lnTo>
                <a:lnTo>
                  <a:pt x="300" y="406"/>
                </a:lnTo>
                <a:lnTo>
                  <a:pt x="285" y="423"/>
                </a:lnTo>
                <a:lnTo>
                  <a:pt x="279" y="436"/>
                </a:lnTo>
                <a:lnTo>
                  <a:pt x="284" y="446"/>
                </a:lnTo>
                <a:lnTo>
                  <a:pt x="285" y="456"/>
                </a:lnTo>
                <a:lnTo>
                  <a:pt x="287" y="466"/>
                </a:lnTo>
                <a:lnTo>
                  <a:pt x="294" y="469"/>
                </a:lnTo>
                <a:lnTo>
                  <a:pt x="300" y="471"/>
                </a:lnTo>
                <a:lnTo>
                  <a:pt x="304" y="467"/>
                </a:lnTo>
                <a:lnTo>
                  <a:pt x="307" y="472"/>
                </a:lnTo>
                <a:lnTo>
                  <a:pt x="315" y="475"/>
                </a:lnTo>
                <a:lnTo>
                  <a:pt x="320" y="471"/>
                </a:lnTo>
                <a:lnTo>
                  <a:pt x="318" y="477"/>
                </a:lnTo>
                <a:lnTo>
                  <a:pt x="310" y="487"/>
                </a:lnTo>
                <a:lnTo>
                  <a:pt x="304" y="497"/>
                </a:lnTo>
                <a:lnTo>
                  <a:pt x="308" y="500"/>
                </a:lnTo>
                <a:lnTo>
                  <a:pt x="315" y="494"/>
                </a:lnTo>
                <a:lnTo>
                  <a:pt x="313" y="507"/>
                </a:lnTo>
                <a:lnTo>
                  <a:pt x="304" y="512"/>
                </a:lnTo>
                <a:lnTo>
                  <a:pt x="292" y="507"/>
                </a:lnTo>
                <a:lnTo>
                  <a:pt x="282" y="513"/>
                </a:lnTo>
                <a:lnTo>
                  <a:pt x="277" y="525"/>
                </a:lnTo>
                <a:lnTo>
                  <a:pt x="275" y="535"/>
                </a:lnTo>
                <a:lnTo>
                  <a:pt x="272" y="542"/>
                </a:lnTo>
                <a:lnTo>
                  <a:pt x="275" y="551"/>
                </a:lnTo>
                <a:lnTo>
                  <a:pt x="277" y="565"/>
                </a:lnTo>
                <a:lnTo>
                  <a:pt x="289" y="573"/>
                </a:lnTo>
                <a:lnTo>
                  <a:pt x="285" y="581"/>
                </a:lnTo>
                <a:lnTo>
                  <a:pt x="272" y="575"/>
                </a:lnTo>
                <a:lnTo>
                  <a:pt x="270" y="556"/>
                </a:lnTo>
                <a:lnTo>
                  <a:pt x="262" y="558"/>
                </a:lnTo>
                <a:lnTo>
                  <a:pt x="266" y="575"/>
                </a:lnTo>
                <a:lnTo>
                  <a:pt x="259" y="576"/>
                </a:lnTo>
                <a:lnTo>
                  <a:pt x="257" y="566"/>
                </a:lnTo>
                <a:lnTo>
                  <a:pt x="247" y="560"/>
                </a:lnTo>
                <a:lnTo>
                  <a:pt x="231" y="555"/>
                </a:lnTo>
                <a:lnTo>
                  <a:pt x="221" y="548"/>
                </a:lnTo>
                <a:lnTo>
                  <a:pt x="213" y="553"/>
                </a:lnTo>
                <a:lnTo>
                  <a:pt x="203" y="551"/>
                </a:lnTo>
                <a:lnTo>
                  <a:pt x="190" y="561"/>
                </a:lnTo>
                <a:lnTo>
                  <a:pt x="178" y="568"/>
                </a:lnTo>
                <a:lnTo>
                  <a:pt x="161" y="573"/>
                </a:lnTo>
                <a:lnTo>
                  <a:pt x="150" y="578"/>
                </a:lnTo>
                <a:lnTo>
                  <a:pt x="142" y="588"/>
                </a:lnTo>
                <a:lnTo>
                  <a:pt x="150" y="591"/>
                </a:lnTo>
                <a:lnTo>
                  <a:pt x="160" y="588"/>
                </a:lnTo>
                <a:lnTo>
                  <a:pt x="166" y="594"/>
                </a:lnTo>
                <a:lnTo>
                  <a:pt x="178" y="586"/>
                </a:lnTo>
                <a:lnTo>
                  <a:pt x="191" y="586"/>
                </a:lnTo>
                <a:lnTo>
                  <a:pt x="193" y="594"/>
                </a:lnTo>
                <a:lnTo>
                  <a:pt x="188" y="601"/>
                </a:lnTo>
                <a:lnTo>
                  <a:pt x="183" y="609"/>
                </a:lnTo>
                <a:lnTo>
                  <a:pt x="183" y="622"/>
                </a:lnTo>
                <a:lnTo>
                  <a:pt x="188" y="626"/>
                </a:lnTo>
                <a:lnTo>
                  <a:pt x="181" y="631"/>
                </a:lnTo>
                <a:lnTo>
                  <a:pt x="168" y="644"/>
                </a:lnTo>
                <a:lnTo>
                  <a:pt x="148" y="649"/>
                </a:lnTo>
                <a:lnTo>
                  <a:pt x="127" y="655"/>
                </a:lnTo>
                <a:lnTo>
                  <a:pt x="110" y="649"/>
                </a:lnTo>
                <a:lnTo>
                  <a:pt x="100" y="651"/>
                </a:lnTo>
                <a:lnTo>
                  <a:pt x="99" y="655"/>
                </a:lnTo>
                <a:lnTo>
                  <a:pt x="90" y="652"/>
                </a:lnTo>
                <a:lnTo>
                  <a:pt x="84" y="655"/>
                </a:lnTo>
                <a:lnTo>
                  <a:pt x="84" y="662"/>
                </a:lnTo>
                <a:lnTo>
                  <a:pt x="95" y="665"/>
                </a:lnTo>
                <a:lnTo>
                  <a:pt x="89" y="670"/>
                </a:lnTo>
                <a:lnTo>
                  <a:pt x="79" y="670"/>
                </a:lnTo>
                <a:lnTo>
                  <a:pt x="79" y="679"/>
                </a:lnTo>
                <a:lnTo>
                  <a:pt x="85" y="684"/>
                </a:lnTo>
                <a:lnTo>
                  <a:pt x="97" y="684"/>
                </a:lnTo>
                <a:lnTo>
                  <a:pt x="104" y="682"/>
                </a:lnTo>
                <a:lnTo>
                  <a:pt x="104" y="687"/>
                </a:lnTo>
                <a:lnTo>
                  <a:pt x="95" y="689"/>
                </a:lnTo>
                <a:lnTo>
                  <a:pt x="95" y="697"/>
                </a:lnTo>
                <a:lnTo>
                  <a:pt x="114" y="698"/>
                </a:lnTo>
                <a:lnTo>
                  <a:pt x="123" y="692"/>
                </a:lnTo>
                <a:lnTo>
                  <a:pt x="135" y="690"/>
                </a:lnTo>
                <a:lnTo>
                  <a:pt x="137" y="703"/>
                </a:lnTo>
                <a:lnTo>
                  <a:pt x="155" y="702"/>
                </a:lnTo>
                <a:lnTo>
                  <a:pt x="161" y="708"/>
                </a:lnTo>
                <a:lnTo>
                  <a:pt x="168" y="715"/>
                </a:lnTo>
                <a:lnTo>
                  <a:pt x="168" y="731"/>
                </a:lnTo>
                <a:lnTo>
                  <a:pt x="181" y="745"/>
                </a:lnTo>
                <a:lnTo>
                  <a:pt x="195" y="755"/>
                </a:lnTo>
                <a:lnTo>
                  <a:pt x="208" y="745"/>
                </a:lnTo>
                <a:lnTo>
                  <a:pt x="223" y="741"/>
                </a:lnTo>
                <a:lnTo>
                  <a:pt x="239" y="741"/>
                </a:lnTo>
                <a:lnTo>
                  <a:pt x="246" y="733"/>
                </a:lnTo>
                <a:lnTo>
                  <a:pt x="262" y="731"/>
                </a:lnTo>
                <a:lnTo>
                  <a:pt x="280" y="720"/>
                </a:lnTo>
                <a:lnTo>
                  <a:pt x="266" y="736"/>
                </a:lnTo>
                <a:lnTo>
                  <a:pt x="252" y="741"/>
                </a:lnTo>
                <a:lnTo>
                  <a:pt x="241" y="750"/>
                </a:lnTo>
                <a:lnTo>
                  <a:pt x="228" y="751"/>
                </a:lnTo>
                <a:lnTo>
                  <a:pt x="209" y="760"/>
                </a:lnTo>
                <a:lnTo>
                  <a:pt x="204" y="769"/>
                </a:lnTo>
                <a:lnTo>
                  <a:pt x="193" y="771"/>
                </a:lnTo>
                <a:lnTo>
                  <a:pt x="180" y="766"/>
                </a:lnTo>
                <a:lnTo>
                  <a:pt x="170" y="761"/>
                </a:lnTo>
                <a:lnTo>
                  <a:pt x="148" y="758"/>
                </a:lnTo>
                <a:lnTo>
                  <a:pt x="143" y="756"/>
                </a:lnTo>
                <a:lnTo>
                  <a:pt x="128" y="755"/>
                </a:lnTo>
                <a:lnTo>
                  <a:pt x="123" y="768"/>
                </a:lnTo>
                <a:lnTo>
                  <a:pt x="104" y="761"/>
                </a:lnTo>
                <a:lnTo>
                  <a:pt x="100" y="768"/>
                </a:lnTo>
                <a:lnTo>
                  <a:pt x="95" y="766"/>
                </a:lnTo>
                <a:lnTo>
                  <a:pt x="90" y="779"/>
                </a:lnTo>
                <a:lnTo>
                  <a:pt x="66" y="794"/>
                </a:lnTo>
                <a:lnTo>
                  <a:pt x="51" y="801"/>
                </a:lnTo>
                <a:lnTo>
                  <a:pt x="38" y="812"/>
                </a:lnTo>
                <a:lnTo>
                  <a:pt x="26" y="816"/>
                </a:lnTo>
                <a:lnTo>
                  <a:pt x="18" y="817"/>
                </a:lnTo>
                <a:lnTo>
                  <a:pt x="10" y="816"/>
                </a:lnTo>
                <a:lnTo>
                  <a:pt x="1" y="821"/>
                </a:lnTo>
                <a:lnTo>
                  <a:pt x="0" y="831"/>
                </a:lnTo>
                <a:lnTo>
                  <a:pt x="5" y="834"/>
                </a:lnTo>
                <a:lnTo>
                  <a:pt x="13" y="832"/>
                </a:lnTo>
                <a:lnTo>
                  <a:pt x="18" y="839"/>
                </a:lnTo>
                <a:lnTo>
                  <a:pt x="14" y="847"/>
                </a:lnTo>
                <a:lnTo>
                  <a:pt x="31" y="845"/>
                </a:lnTo>
                <a:lnTo>
                  <a:pt x="31" y="832"/>
                </a:lnTo>
                <a:lnTo>
                  <a:pt x="43" y="829"/>
                </a:lnTo>
                <a:lnTo>
                  <a:pt x="51" y="836"/>
                </a:lnTo>
                <a:lnTo>
                  <a:pt x="67" y="826"/>
                </a:lnTo>
                <a:lnTo>
                  <a:pt x="85" y="834"/>
                </a:lnTo>
                <a:lnTo>
                  <a:pt x="100" y="844"/>
                </a:lnTo>
                <a:lnTo>
                  <a:pt x="107" y="831"/>
                </a:lnTo>
                <a:lnTo>
                  <a:pt x="110" y="839"/>
                </a:lnTo>
                <a:lnTo>
                  <a:pt x="107" y="844"/>
                </a:lnTo>
                <a:lnTo>
                  <a:pt x="135" y="859"/>
                </a:lnTo>
                <a:lnTo>
                  <a:pt x="160" y="822"/>
                </a:lnTo>
                <a:lnTo>
                  <a:pt x="178" y="826"/>
                </a:lnTo>
                <a:lnTo>
                  <a:pt x="188" y="831"/>
                </a:lnTo>
                <a:lnTo>
                  <a:pt x="196" y="827"/>
                </a:lnTo>
                <a:lnTo>
                  <a:pt x="213" y="850"/>
                </a:lnTo>
                <a:lnTo>
                  <a:pt x="218" y="850"/>
                </a:lnTo>
                <a:lnTo>
                  <a:pt x="234" y="847"/>
                </a:lnTo>
                <a:lnTo>
                  <a:pt x="252" y="855"/>
                </a:lnTo>
                <a:lnTo>
                  <a:pt x="257" y="850"/>
                </a:lnTo>
                <a:lnTo>
                  <a:pt x="249" y="845"/>
                </a:lnTo>
                <a:lnTo>
                  <a:pt x="251" y="840"/>
                </a:lnTo>
                <a:lnTo>
                  <a:pt x="257" y="839"/>
                </a:lnTo>
                <a:lnTo>
                  <a:pt x="270" y="847"/>
                </a:lnTo>
                <a:lnTo>
                  <a:pt x="284" y="845"/>
                </a:lnTo>
                <a:lnTo>
                  <a:pt x="297" y="844"/>
                </a:lnTo>
                <a:lnTo>
                  <a:pt x="300" y="839"/>
                </a:lnTo>
                <a:lnTo>
                  <a:pt x="295" y="831"/>
                </a:lnTo>
                <a:lnTo>
                  <a:pt x="299" y="829"/>
                </a:lnTo>
                <a:lnTo>
                  <a:pt x="305" y="842"/>
                </a:lnTo>
                <a:lnTo>
                  <a:pt x="320" y="847"/>
                </a:lnTo>
                <a:lnTo>
                  <a:pt x="332" y="850"/>
                </a:lnTo>
                <a:lnTo>
                  <a:pt x="325" y="857"/>
                </a:lnTo>
                <a:lnTo>
                  <a:pt x="332" y="869"/>
                </a:lnTo>
                <a:lnTo>
                  <a:pt x="348" y="864"/>
                </a:lnTo>
                <a:lnTo>
                  <a:pt x="375" y="864"/>
                </a:lnTo>
                <a:lnTo>
                  <a:pt x="384" y="872"/>
                </a:lnTo>
                <a:lnTo>
                  <a:pt x="406" y="877"/>
                </a:lnTo>
                <a:lnTo>
                  <a:pt x="426" y="873"/>
                </a:lnTo>
                <a:lnTo>
                  <a:pt x="446" y="873"/>
                </a:lnTo>
                <a:lnTo>
                  <a:pt x="454" y="865"/>
                </a:lnTo>
                <a:lnTo>
                  <a:pt x="474" y="862"/>
                </a:lnTo>
                <a:lnTo>
                  <a:pt x="485" y="845"/>
                </a:lnTo>
                <a:lnTo>
                  <a:pt x="492" y="842"/>
                </a:lnTo>
                <a:lnTo>
                  <a:pt x="492" y="836"/>
                </a:lnTo>
                <a:lnTo>
                  <a:pt x="484" y="834"/>
                </a:lnTo>
                <a:lnTo>
                  <a:pt x="464" y="832"/>
                </a:lnTo>
                <a:lnTo>
                  <a:pt x="449" y="824"/>
                </a:lnTo>
                <a:lnTo>
                  <a:pt x="436" y="819"/>
                </a:lnTo>
                <a:lnTo>
                  <a:pt x="424" y="809"/>
                </a:lnTo>
                <a:lnTo>
                  <a:pt x="441" y="814"/>
                </a:lnTo>
                <a:lnTo>
                  <a:pt x="455" y="811"/>
                </a:lnTo>
                <a:lnTo>
                  <a:pt x="474" y="809"/>
                </a:lnTo>
                <a:lnTo>
                  <a:pt x="479" y="789"/>
                </a:lnTo>
                <a:lnTo>
                  <a:pt x="469" y="783"/>
                </a:lnTo>
                <a:lnTo>
                  <a:pt x="482" y="783"/>
                </a:lnTo>
                <a:lnTo>
                  <a:pt x="479" y="774"/>
                </a:lnTo>
                <a:lnTo>
                  <a:pt x="485" y="781"/>
                </a:lnTo>
                <a:lnTo>
                  <a:pt x="503" y="778"/>
                </a:lnTo>
                <a:lnTo>
                  <a:pt x="507" y="768"/>
                </a:lnTo>
                <a:lnTo>
                  <a:pt x="518" y="764"/>
                </a:lnTo>
                <a:lnTo>
                  <a:pt x="533" y="748"/>
                </a:lnTo>
                <a:lnTo>
                  <a:pt x="533" y="738"/>
                </a:lnTo>
                <a:lnTo>
                  <a:pt x="541" y="728"/>
                </a:lnTo>
                <a:lnTo>
                  <a:pt x="541" y="705"/>
                </a:lnTo>
                <a:lnTo>
                  <a:pt x="528" y="685"/>
                </a:lnTo>
                <a:lnTo>
                  <a:pt x="497" y="672"/>
                </a:lnTo>
                <a:lnTo>
                  <a:pt x="484" y="669"/>
                </a:lnTo>
                <a:lnTo>
                  <a:pt x="467" y="675"/>
                </a:lnTo>
                <a:lnTo>
                  <a:pt x="457" y="682"/>
                </a:lnTo>
                <a:lnTo>
                  <a:pt x="451" y="677"/>
                </a:lnTo>
                <a:lnTo>
                  <a:pt x="437" y="670"/>
                </a:lnTo>
                <a:lnTo>
                  <a:pt x="439" y="664"/>
                </a:lnTo>
                <a:lnTo>
                  <a:pt x="449" y="659"/>
                </a:lnTo>
                <a:lnTo>
                  <a:pt x="459" y="646"/>
                </a:lnTo>
                <a:lnTo>
                  <a:pt x="474" y="644"/>
                </a:lnTo>
                <a:lnTo>
                  <a:pt x="474" y="619"/>
                </a:lnTo>
                <a:lnTo>
                  <a:pt x="464" y="599"/>
                </a:lnTo>
                <a:lnTo>
                  <a:pt x="451" y="581"/>
                </a:lnTo>
                <a:lnTo>
                  <a:pt x="436" y="571"/>
                </a:lnTo>
                <a:lnTo>
                  <a:pt x="417" y="566"/>
                </a:lnTo>
                <a:lnTo>
                  <a:pt x="427" y="563"/>
                </a:lnTo>
                <a:lnTo>
                  <a:pt x="442" y="566"/>
                </a:lnTo>
                <a:lnTo>
                  <a:pt x="452" y="573"/>
                </a:lnTo>
                <a:lnTo>
                  <a:pt x="469" y="588"/>
                </a:lnTo>
                <a:lnTo>
                  <a:pt x="469" y="576"/>
                </a:lnTo>
                <a:lnTo>
                  <a:pt x="465" y="560"/>
                </a:lnTo>
                <a:lnTo>
                  <a:pt x="469" y="546"/>
                </a:lnTo>
                <a:lnTo>
                  <a:pt x="467" y="532"/>
                </a:lnTo>
                <a:lnTo>
                  <a:pt x="459" y="520"/>
                </a:lnTo>
                <a:lnTo>
                  <a:pt x="457" y="495"/>
                </a:lnTo>
                <a:lnTo>
                  <a:pt x="446" y="484"/>
                </a:lnTo>
                <a:lnTo>
                  <a:pt x="437" y="472"/>
                </a:lnTo>
                <a:lnTo>
                  <a:pt x="431" y="464"/>
                </a:lnTo>
                <a:lnTo>
                  <a:pt x="419" y="464"/>
                </a:lnTo>
                <a:lnTo>
                  <a:pt x="417" y="459"/>
                </a:lnTo>
                <a:lnTo>
                  <a:pt x="422" y="447"/>
                </a:lnTo>
                <a:lnTo>
                  <a:pt x="417" y="434"/>
                </a:lnTo>
                <a:lnTo>
                  <a:pt x="416" y="411"/>
                </a:lnTo>
                <a:lnTo>
                  <a:pt x="414" y="396"/>
                </a:lnTo>
                <a:lnTo>
                  <a:pt x="417" y="375"/>
                </a:lnTo>
                <a:lnTo>
                  <a:pt x="422" y="357"/>
                </a:lnTo>
                <a:lnTo>
                  <a:pt x="416" y="343"/>
                </a:lnTo>
                <a:lnTo>
                  <a:pt x="409" y="328"/>
                </a:lnTo>
                <a:lnTo>
                  <a:pt x="399" y="315"/>
                </a:lnTo>
                <a:lnTo>
                  <a:pt x="391" y="310"/>
                </a:lnTo>
                <a:lnTo>
                  <a:pt x="381" y="295"/>
                </a:lnTo>
                <a:lnTo>
                  <a:pt x="370" y="297"/>
                </a:lnTo>
                <a:lnTo>
                  <a:pt x="361" y="304"/>
                </a:lnTo>
                <a:lnTo>
                  <a:pt x="348" y="295"/>
                </a:lnTo>
                <a:lnTo>
                  <a:pt x="332" y="290"/>
                </a:lnTo>
                <a:lnTo>
                  <a:pt x="322" y="279"/>
                </a:lnTo>
                <a:lnTo>
                  <a:pt x="335" y="282"/>
                </a:lnTo>
                <a:lnTo>
                  <a:pt x="356" y="287"/>
                </a:lnTo>
                <a:lnTo>
                  <a:pt x="358" y="281"/>
                </a:lnTo>
                <a:lnTo>
                  <a:pt x="371" y="279"/>
                </a:lnTo>
                <a:lnTo>
                  <a:pt x="381" y="282"/>
                </a:lnTo>
                <a:lnTo>
                  <a:pt x="396" y="279"/>
                </a:lnTo>
                <a:lnTo>
                  <a:pt x="389" y="269"/>
                </a:lnTo>
                <a:lnTo>
                  <a:pt x="388" y="262"/>
                </a:lnTo>
                <a:lnTo>
                  <a:pt x="363" y="259"/>
                </a:lnTo>
                <a:lnTo>
                  <a:pt x="373" y="254"/>
                </a:lnTo>
                <a:lnTo>
                  <a:pt x="393" y="254"/>
                </a:lnTo>
                <a:lnTo>
                  <a:pt x="398" y="248"/>
                </a:lnTo>
                <a:lnTo>
                  <a:pt x="413" y="243"/>
                </a:lnTo>
                <a:lnTo>
                  <a:pt x="447" y="208"/>
                </a:lnTo>
                <a:lnTo>
                  <a:pt x="455" y="191"/>
                </a:lnTo>
                <a:lnTo>
                  <a:pt x="475" y="178"/>
                </a:lnTo>
                <a:lnTo>
                  <a:pt x="479" y="157"/>
                </a:lnTo>
                <a:lnTo>
                  <a:pt x="475" y="150"/>
                </a:lnTo>
                <a:lnTo>
                  <a:pt x="464" y="147"/>
                </a:lnTo>
                <a:lnTo>
                  <a:pt x="447" y="142"/>
                </a:lnTo>
                <a:lnTo>
                  <a:pt x="429" y="137"/>
                </a:lnTo>
                <a:lnTo>
                  <a:pt x="416" y="130"/>
                </a:lnTo>
                <a:lnTo>
                  <a:pt x="404" y="125"/>
                </a:lnTo>
                <a:lnTo>
                  <a:pt x="389" y="129"/>
                </a:lnTo>
                <a:lnTo>
                  <a:pt x="368" y="129"/>
                </a:lnTo>
                <a:lnTo>
                  <a:pt x="356" y="132"/>
                </a:lnTo>
                <a:lnTo>
                  <a:pt x="340" y="130"/>
                </a:lnTo>
                <a:lnTo>
                  <a:pt x="348" y="122"/>
                </a:lnTo>
                <a:lnTo>
                  <a:pt x="356" y="122"/>
                </a:lnTo>
                <a:lnTo>
                  <a:pt x="365" y="114"/>
                </a:lnTo>
                <a:lnTo>
                  <a:pt x="378" y="115"/>
                </a:lnTo>
                <a:lnTo>
                  <a:pt x="383" y="105"/>
                </a:lnTo>
                <a:lnTo>
                  <a:pt x="373" y="101"/>
                </a:lnTo>
                <a:lnTo>
                  <a:pt x="356" y="99"/>
                </a:lnTo>
                <a:lnTo>
                  <a:pt x="351" y="91"/>
                </a:lnTo>
                <a:lnTo>
                  <a:pt x="370" y="91"/>
                </a:lnTo>
                <a:lnTo>
                  <a:pt x="388" y="86"/>
                </a:lnTo>
                <a:lnTo>
                  <a:pt x="406" y="74"/>
                </a:lnTo>
                <a:lnTo>
                  <a:pt x="416" y="64"/>
                </a:lnTo>
                <a:lnTo>
                  <a:pt x="427" y="59"/>
                </a:lnTo>
                <a:lnTo>
                  <a:pt x="439" y="58"/>
                </a:lnTo>
                <a:lnTo>
                  <a:pt x="444" y="46"/>
                </a:lnTo>
                <a:lnTo>
                  <a:pt x="451" y="41"/>
                </a:lnTo>
                <a:lnTo>
                  <a:pt x="452" y="33"/>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0" name=""/>
          <p:cNvGrpSpPr/>
          <p:nvPr/>
        </p:nvGrpSpPr>
        <p:grpSpPr>
          <a:xfrm>
            <a:off x="2131920" y="3786120"/>
            <a:ext cx="2610360" cy="2810880"/>
            <a:chOff x="2131920" y="3786120"/>
            <a:chExt cx="2610360" cy="2810880"/>
          </a:xfrm>
        </p:grpSpPr>
        <p:sp>
          <p:nvSpPr>
            <p:cNvPr id="271" name=""/>
            <p:cNvSpPr/>
            <p:nvPr/>
          </p:nvSpPr>
          <p:spPr>
            <a:xfrm>
              <a:off x="4496040" y="6179040"/>
              <a:ext cx="246240" cy="417960"/>
            </a:xfrm>
            <a:custGeom>
              <a:avLst/>
              <a:gdLst/>
              <a:ahLst/>
              <a:rect l="l" t="t" r="r" b="b"/>
              <a:pathLst>
                <a:path w="87" h="163">
                  <a:moveTo>
                    <a:pt x="75" y="0"/>
                  </a:moveTo>
                  <a:lnTo>
                    <a:pt x="73" y="18"/>
                  </a:lnTo>
                  <a:lnTo>
                    <a:pt x="72" y="28"/>
                  </a:lnTo>
                  <a:lnTo>
                    <a:pt x="67" y="26"/>
                  </a:lnTo>
                  <a:lnTo>
                    <a:pt x="62" y="18"/>
                  </a:lnTo>
                  <a:lnTo>
                    <a:pt x="52" y="12"/>
                  </a:lnTo>
                  <a:lnTo>
                    <a:pt x="40" y="21"/>
                  </a:lnTo>
                  <a:lnTo>
                    <a:pt x="27" y="28"/>
                  </a:lnTo>
                  <a:lnTo>
                    <a:pt x="22" y="28"/>
                  </a:lnTo>
                  <a:lnTo>
                    <a:pt x="17" y="43"/>
                  </a:lnTo>
                  <a:lnTo>
                    <a:pt x="9" y="51"/>
                  </a:lnTo>
                  <a:lnTo>
                    <a:pt x="10" y="61"/>
                  </a:lnTo>
                  <a:lnTo>
                    <a:pt x="19" y="64"/>
                  </a:lnTo>
                  <a:lnTo>
                    <a:pt x="19" y="71"/>
                  </a:lnTo>
                  <a:lnTo>
                    <a:pt x="10" y="69"/>
                  </a:lnTo>
                  <a:lnTo>
                    <a:pt x="10" y="83"/>
                  </a:lnTo>
                  <a:lnTo>
                    <a:pt x="19" y="87"/>
                  </a:lnTo>
                  <a:lnTo>
                    <a:pt x="10" y="89"/>
                  </a:lnTo>
                  <a:lnTo>
                    <a:pt x="9" y="99"/>
                  </a:lnTo>
                  <a:lnTo>
                    <a:pt x="0" y="106"/>
                  </a:lnTo>
                  <a:lnTo>
                    <a:pt x="4" y="124"/>
                  </a:lnTo>
                  <a:lnTo>
                    <a:pt x="15" y="125"/>
                  </a:lnTo>
                  <a:lnTo>
                    <a:pt x="20" y="132"/>
                  </a:lnTo>
                  <a:lnTo>
                    <a:pt x="15" y="137"/>
                  </a:lnTo>
                  <a:lnTo>
                    <a:pt x="30" y="147"/>
                  </a:lnTo>
                  <a:lnTo>
                    <a:pt x="42" y="160"/>
                  </a:lnTo>
                  <a:lnTo>
                    <a:pt x="53" y="162"/>
                  </a:lnTo>
                  <a:lnTo>
                    <a:pt x="50" y="152"/>
                  </a:lnTo>
                  <a:lnTo>
                    <a:pt x="60" y="147"/>
                  </a:lnTo>
                  <a:lnTo>
                    <a:pt x="57" y="134"/>
                  </a:lnTo>
                  <a:lnTo>
                    <a:pt x="63" y="127"/>
                  </a:lnTo>
                  <a:lnTo>
                    <a:pt x="63" y="107"/>
                  </a:lnTo>
                  <a:lnTo>
                    <a:pt x="81" y="91"/>
                  </a:lnTo>
                  <a:lnTo>
                    <a:pt x="80" y="40"/>
                  </a:lnTo>
                  <a:lnTo>
                    <a:pt x="75" y="33"/>
                  </a:lnTo>
                  <a:lnTo>
                    <a:pt x="85" y="15"/>
                  </a:lnTo>
                  <a:lnTo>
                    <a:pt x="86" y="2"/>
                  </a:lnTo>
                  <a:lnTo>
                    <a:pt x="75"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191680" y="3786120"/>
              <a:ext cx="2535480" cy="2328120"/>
            </a:xfrm>
            <a:custGeom>
              <a:avLst/>
              <a:gdLst/>
              <a:ahLst/>
              <a:rect l="l" t="t" r="r" b="b"/>
              <a:pathLst>
                <a:path w="909" h="907">
                  <a:moveTo>
                    <a:pt x="750" y="836"/>
                  </a:moveTo>
                  <a:lnTo>
                    <a:pt x="747" y="826"/>
                  </a:lnTo>
                  <a:lnTo>
                    <a:pt x="756" y="818"/>
                  </a:lnTo>
                  <a:lnTo>
                    <a:pt x="763" y="821"/>
                  </a:lnTo>
                  <a:lnTo>
                    <a:pt x="765" y="828"/>
                  </a:lnTo>
                  <a:lnTo>
                    <a:pt x="773" y="826"/>
                  </a:lnTo>
                  <a:lnTo>
                    <a:pt x="771" y="816"/>
                  </a:lnTo>
                  <a:lnTo>
                    <a:pt x="786" y="803"/>
                  </a:lnTo>
                  <a:lnTo>
                    <a:pt x="761" y="785"/>
                  </a:lnTo>
                  <a:lnTo>
                    <a:pt x="748" y="782"/>
                  </a:lnTo>
                  <a:lnTo>
                    <a:pt x="733" y="762"/>
                  </a:lnTo>
                  <a:lnTo>
                    <a:pt x="733" y="737"/>
                  </a:lnTo>
                  <a:lnTo>
                    <a:pt x="750" y="716"/>
                  </a:lnTo>
                  <a:lnTo>
                    <a:pt x="748" y="704"/>
                  </a:lnTo>
                  <a:lnTo>
                    <a:pt x="733" y="694"/>
                  </a:lnTo>
                  <a:lnTo>
                    <a:pt x="735" y="673"/>
                  </a:lnTo>
                  <a:lnTo>
                    <a:pt x="756" y="669"/>
                  </a:lnTo>
                  <a:lnTo>
                    <a:pt x="768" y="664"/>
                  </a:lnTo>
                  <a:lnTo>
                    <a:pt x="771" y="651"/>
                  </a:lnTo>
                  <a:lnTo>
                    <a:pt x="761" y="641"/>
                  </a:lnTo>
                  <a:lnTo>
                    <a:pt x="765" y="625"/>
                  </a:lnTo>
                  <a:lnTo>
                    <a:pt x="756" y="621"/>
                  </a:lnTo>
                  <a:lnTo>
                    <a:pt x="750" y="608"/>
                  </a:lnTo>
                  <a:lnTo>
                    <a:pt x="770" y="602"/>
                  </a:lnTo>
                  <a:lnTo>
                    <a:pt x="771" y="602"/>
                  </a:lnTo>
                  <a:lnTo>
                    <a:pt x="768" y="588"/>
                  </a:lnTo>
                  <a:lnTo>
                    <a:pt x="761" y="572"/>
                  </a:lnTo>
                  <a:lnTo>
                    <a:pt x="758" y="559"/>
                  </a:lnTo>
                  <a:lnTo>
                    <a:pt x="747" y="552"/>
                  </a:lnTo>
                  <a:lnTo>
                    <a:pt x="720" y="554"/>
                  </a:lnTo>
                  <a:lnTo>
                    <a:pt x="697" y="569"/>
                  </a:lnTo>
                  <a:lnTo>
                    <a:pt x="687" y="560"/>
                  </a:lnTo>
                  <a:lnTo>
                    <a:pt x="694" y="547"/>
                  </a:lnTo>
                  <a:lnTo>
                    <a:pt x="712" y="537"/>
                  </a:lnTo>
                  <a:lnTo>
                    <a:pt x="720" y="519"/>
                  </a:lnTo>
                  <a:lnTo>
                    <a:pt x="737" y="496"/>
                  </a:lnTo>
                  <a:lnTo>
                    <a:pt x="756" y="481"/>
                  </a:lnTo>
                  <a:lnTo>
                    <a:pt x="778" y="470"/>
                  </a:lnTo>
                  <a:lnTo>
                    <a:pt x="791" y="463"/>
                  </a:lnTo>
                  <a:lnTo>
                    <a:pt x="785" y="450"/>
                  </a:lnTo>
                  <a:lnTo>
                    <a:pt x="798" y="433"/>
                  </a:lnTo>
                  <a:lnTo>
                    <a:pt x="806" y="446"/>
                  </a:lnTo>
                  <a:lnTo>
                    <a:pt x="831" y="445"/>
                  </a:lnTo>
                  <a:lnTo>
                    <a:pt x="849" y="440"/>
                  </a:lnTo>
                  <a:lnTo>
                    <a:pt x="847" y="420"/>
                  </a:lnTo>
                  <a:lnTo>
                    <a:pt x="847" y="402"/>
                  </a:lnTo>
                  <a:lnTo>
                    <a:pt x="859" y="384"/>
                  </a:lnTo>
                  <a:lnTo>
                    <a:pt x="867" y="357"/>
                  </a:lnTo>
                  <a:lnTo>
                    <a:pt x="875" y="332"/>
                  </a:lnTo>
                  <a:lnTo>
                    <a:pt x="902" y="313"/>
                  </a:lnTo>
                  <a:lnTo>
                    <a:pt x="908" y="294"/>
                  </a:lnTo>
                  <a:lnTo>
                    <a:pt x="897" y="280"/>
                  </a:lnTo>
                  <a:lnTo>
                    <a:pt x="870" y="275"/>
                  </a:lnTo>
                  <a:lnTo>
                    <a:pt x="846" y="260"/>
                  </a:lnTo>
                  <a:lnTo>
                    <a:pt x="829" y="248"/>
                  </a:lnTo>
                  <a:lnTo>
                    <a:pt x="806" y="247"/>
                  </a:lnTo>
                  <a:lnTo>
                    <a:pt x="798" y="227"/>
                  </a:lnTo>
                  <a:lnTo>
                    <a:pt x="788" y="217"/>
                  </a:lnTo>
                  <a:lnTo>
                    <a:pt x="761" y="222"/>
                  </a:lnTo>
                  <a:lnTo>
                    <a:pt x="747" y="212"/>
                  </a:lnTo>
                  <a:lnTo>
                    <a:pt x="747" y="197"/>
                  </a:lnTo>
                  <a:lnTo>
                    <a:pt x="722" y="197"/>
                  </a:lnTo>
                  <a:lnTo>
                    <a:pt x="687" y="159"/>
                  </a:lnTo>
                  <a:lnTo>
                    <a:pt x="685" y="134"/>
                  </a:lnTo>
                  <a:lnTo>
                    <a:pt x="677" y="134"/>
                  </a:lnTo>
                  <a:lnTo>
                    <a:pt x="672" y="147"/>
                  </a:lnTo>
                  <a:lnTo>
                    <a:pt x="651" y="146"/>
                  </a:lnTo>
                  <a:lnTo>
                    <a:pt x="649" y="128"/>
                  </a:lnTo>
                  <a:lnTo>
                    <a:pt x="651" y="113"/>
                  </a:lnTo>
                  <a:lnTo>
                    <a:pt x="643" y="101"/>
                  </a:lnTo>
                  <a:lnTo>
                    <a:pt x="624" y="103"/>
                  </a:lnTo>
                  <a:lnTo>
                    <a:pt x="609" y="83"/>
                  </a:lnTo>
                  <a:lnTo>
                    <a:pt x="596" y="70"/>
                  </a:lnTo>
                  <a:lnTo>
                    <a:pt x="605" y="45"/>
                  </a:lnTo>
                  <a:lnTo>
                    <a:pt x="593" y="38"/>
                  </a:lnTo>
                  <a:lnTo>
                    <a:pt x="573" y="50"/>
                  </a:lnTo>
                  <a:lnTo>
                    <a:pt x="568" y="32"/>
                  </a:lnTo>
                  <a:lnTo>
                    <a:pt x="570" y="15"/>
                  </a:lnTo>
                  <a:lnTo>
                    <a:pt x="571" y="0"/>
                  </a:lnTo>
                  <a:lnTo>
                    <a:pt x="570" y="2"/>
                  </a:lnTo>
                  <a:lnTo>
                    <a:pt x="552" y="14"/>
                  </a:lnTo>
                  <a:lnTo>
                    <a:pt x="514" y="10"/>
                  </a:lnTo>
                  <a:lnTo>
                    <a:pt x="497" y="22"/>
                  </a:lnTo>
                  <a:lnTo>
                    <a:pt x="484" y="73"/>
                  </a:lnTo>
                  <a:lnTo>
                    <a:pt x="484" y="83"/>
                  </a:lnTo>
                  <a:lnTo>
                    <a:pt x="454" y="93"/>
                  </a:lnTo>
                  <a:lnTo>
                    <a:pt x="421" y="100"/>
                  </a:lnTo>
                  <a:lnTo>
                    <a:pt x="396" y="101"/>
                  </a:lnTo>
                  <a:lnTo>
                    <a:pt x="373" y="105"/>
                  </a:lnTo>
                  <a:lnTo>
                    <a:pt x="365" y="121"/>
                  </a:lnTo>
                  <a:lnTo>
                    <a:pt x="410" y="142"/>
                  </a:lnTo>
                  <a:lnTo>
                    <a:pt x="352" y="141"/>
                  </a:lnTo>
                  <a:lnTo>
                    <a:pt x="335" y="142"/>
                  </a:lnTo>
                  <a:lnTo>
                    <a:pt x="319" y="134"/>
                  </a:lnTo>
                  <a:lnTo>
                    <a:pt x="302" y="121"/>
                  </a:lnTo>
                  <a:lnTo>
                    <a:pt x="281" y="121"/>
                  </a:lnTo>
                  <a:lnTo>
                    <a:pt x="264" y="121"/>
                  </a:lnTo>
                  <a:lnTo>
                    <a:pt x="277" y="109"/>
                  </a:lnTo>
                  <a:lnTo>
                    <a:pt x="271" y="96"/>
                  </a:lnTo>
                  <a:lnTo>
                    <a:pt x="277" y="83"/>
                  </a:lnTo>
                  <a:lnTo>
                    <a:pt x="277" y="75"/>
                  </a:lnTo>
                  <a:lnTo>
                    <a:pt x="254" y="73"/>
                  </a:lnTo>
                  <a:lnTo>
                    <a:pt x="241" y="67"/>
                  </a:lnTo>
                  <a:lnTo>
                    <a:pt x="235" y="67"/>
                  </a:lnTo>
                  <a:lnTo>
                    <a:pt x="231" y="83"/>
                  </a:lnTo>
                  <a:lnTo>
                    <a:pt x="235" y="108"/>
                  </a:lnTo>
                  <a:lnTo>
                    <a:pt x="243" y="129"/>
                  </a:lnTo>
                  <a:lnTo>
                    <a:pt x="238" y="147"/>
                  </a:lnTo>
                  <a:lnTo>
                    <a:pt x="235" y="171"/>
                  </a:lnTo>
                  <a:lnTo>
                    <a:pt x="244" y="194"/>
                  </a:lnTo>
                  <a:lnTo>
                    <a:pt x="228" y="194"/>
                  </a:lnTo>
                  <a:lnTo>
                    <a:pt x="218" y="184"/>
                  </a:lnTo>
                  <a:lnTo>
                    <a:pt x="215" y="172"/>
                  </a:lnTo>
                  <a:lnTo>
                    <a:pt x="206" y="171"/>
                  </a:lnTo>
                  <a:lnTo>
                    <a:pt x="200" y="195"/>
                  </a:lnTo>
                  <a:lnTo>
                    <a:pt x="185" y="194"/>
                  </a:lnTo>
                  <a:lnTo>
                    <a:pt x="198" y="180"/>
                  </a:lnTo>
                  <a:lnTo>
                    <a:pt x="192" y="172"/>
                  </a:lnTo>
                  <a:lnTo>
                    <a:pt x="182" y="166"/>
                  </a:lnTo>
                  <a:lnTo>
                    <a:pt x="154" y="174"/>
                  </a:lnTo>
                  <a:lnTo>
                    <a:pt x="149" y="159"/>
                  </a:lnTo>
                  <a:lnTo>
                    <a:pt x="140" y="142"/>
                  </a:lnTo>
                  <a:lnTo>
                    <a:pt x="137" y="129"/>
                  </a:lnTo>
                  <a:lnTo>
                    <a:pt x="104" y="124"/>
                  </a:lnTo>
                  <a:lnTo>
                    <a:pt x="97" y="133"/>
                  </a:lnTo>
                  <a:lnTo>
                    <a:pt x="78" y="129"/>
                  </a:lnTo>
                  <a:lnTo>
                    <a:pt x="73" y="119"/>
                  </a:lnTo>
                  <a:lnTo>
                    <a:pt x="43" y="128"/>
                  </a:lnTo>
                  <a:lnTo>
                    <a:pt x="30" y="121"/>
                  </a:lnTo>
                  <a:lnTo>
                    <a:pt x="10" y="129"/>
                  </a:lnTo>
                  <a:lnTo>
                    <a:pt x="3" y="141"/>
                  </a:lnTo>
                  <a:lnTo>
                    <a:pt x="15" y="151"/>
                  </a:lnTo>
                  <a:lnTo>
                    <a:pt x="30" y="147"/>
                  </a:lnTo>
                  <a:lnTo>
                    <a:pt x="36" y="151"/>
                  </a:lnTo>
                  <a:lnTo>
                    <a:pt x="33" y="159"/>
                  </a:lnTo>
                  <a:lnTo>
                    <a:pt x="56" y="162"/>
                  </a:lnTo>
                  <a:lnTo>
                    <a:pt x="58" y="179"/>
                  </a:lnTo>
                  <a:lnTo>
                    <a:pt x="45" y="169"/>
                  </a:lnTo>
                  <a:lnTo>
                    <a:pt x="31" y="152"/>
                  </a:lnTo>
                  <a:lnTo>
                    <a:pt x="18" y="157"/>
                  </a:lnTo>
                  <a:lnTo>
                    <a:pt x="23" y="171"/>
                  </a:lnTo>
                  <a:lnTo>
                    <a:pt x="0" y="172"/>
                  </a:lnTo>
                  <a:lnTo>
                    <a:pt x="15" y="184"/>
                  </a:lnTo>
                  <a:lnTo>
                    <a:pt x="15" y="207"/>
                  </a:lnTo>
                  <a:lnTo>
                    <a:pt x="38" y="205"/>
                  </a:lnTo>
                  <a:lnTo>
                    <a:pt x="41" y="195"/>
                  </a:lnTo>
                  <a:lnTo>
                    <a:pt x="56" y="214"/>
                  </a:lnTo>
                  <a:lnTo>
                    <a:pt x="68" y="214"/>
                  </a:lnTo>
                  <a:lnTo>
                    <a:pt x="74" y="232"/>
                  </a:lnTo>
                  <a:lnTo>
                    <a:pt x="94" y="232"/>
                  </a:lnTo>
                  <a:lnTo>
                    <a:pt x="97" y="250"/>
                  </a:lnTo>
                  <a:lnTo>
                    <a:pt x="109" y="256"/>
                  </a:lnTo>
                  <a:lnTo>
                    <a:pt x="126" y="265"/>
                  </a:lnTo>
                  <a:lnTo>
                    <a:pt x="119" y="273"/>
                  </a:lnTo>
                  <a:lnTo>
                    <a:pt x="132" y="280"/>
                  </a:lnTo>
                  <a:lnTo>
                    <a:pt x="140" y="291"/>
                  </a:lnTo>
                  <a:lnTo>
                    <a:pt x="121" y="298"/>
                  </a:lnTo>
                  <a:lnTo>
                    <a:pt x="132" y="311"/>
                  </a:lnTo>
                  <a:lnTo>
                    <a:pt x="144" y="313"/>
                  </a:lnTo>
                  <a:lnTo>
                    <a:pt x="164" y="308"/>
                  </a:lnTo>
                  <a:lnTo>
                    <a:pt x="157" y="321"/>
                  </a:lnTo>
                  <a:lnTo>
                    <a:pt x="159" y="344"/>
                  </a:lnTo>
                  <a:lnTo>
                    <a:pt x="147" y="349"/>
                  </a:lnTo>
                  <a:lnTo>
                    <a:pt x="150" y="367"/>
                  </a:lnTo>
                  <a:lnTo>
                    <a:pt x="159" y="394"/>
                  </a:lnTo>
                  <a:lnTo>
                    <a:pt x="170" y="407"/>
                  </a:lnTo>
                  <a:lnTo>
                    <a:pt x="182" y="420"/>
                  </a:lnTo>
                  <a:lnTo>
                    <a:pt x="198" y="423"/>
                  </a:lnTo>
                  <a:lnTo>
                    <a:pt x="198" y="438"/>
                  </a:lnTo>
                  <a:lnTo>
                    <a:pt x="193" y="468"/>
                  </a:lnTo>
                  <a:lnTo>
                    <a:pt x="187" y="478"/>
                  </a:lnTo>
                  <a:lnTo>
                    <a:pt x="177" y="481"/>
                  </a:lnTo>
                  <a:lnTo>
                    <a:pt x="180" y="489"/>
                  </a:lnTo>
                  <a:lnTo>
                    <a:pt x="198" y="509"/>
                  </a:lnTo>
                  <a:lnTo>
                    <a:pt x="206" y="526"/>
                  </a:lnTo>
                  <a:lnTo>
                    <a:pt x="205" y="554"/>
                  </a:lnTo>
                  <a:lnTo>
                    <a:pt x="203" y="580"/>
                  </a:lnTo>
                  <a:lnTo>
                    <a:pt x="195" y="587"/>
                  </a:lnTo>
                  <a:lnTo>
                    <a:pt x="195" y="559"/>
                  </a:lnTo>
                  <a:lnTo>
                    <a:pt x="195" y="531"/>
                  </a:lnTo>
                  <a:lnTo>
                    <a:pt x="192" y="514"/>
                  </a:lnTo>
                  <a:lnTo>
                    <a:pt x="180" y="503"/>
                  </a:lnTo>
                  <a:lnTo>
                    <a:pt x="173" y="519"/>
                  </a:lnTo>
                  <a:lnTo>
                    <a:pt x="160" y="555"/>
                  </a:lnTo>
                  <a:lnTo>
                    <a:pt x="147" y="585"/>
                  </a:lnTo>
                  <a:lnTo>
                    <a:pt x="160" y="582"/>
                  </a:lnTo>
                  <a:lnTo>
                    <a:pt x="167" y="588"/>
                  </a:lnTo>
                  <a:lnTo>
                    <a:pt x="162" y="598"/>
                  </a:lnTo>
                  <a:lnTo>
                    <a:pt x="155" y="593"/>
                  </a:lnTo>
                  <a:lnTo>
                    <a:pt x="140" y="603"/>
                  </a:lnTo>
                  <a:lnTo>
                    <a:pt x="132" y="636"/>
                  </a:lnTo>
                  <a:lnTo>
                    <a:pt x="111" y="676"/>
                  </a:lnTo>
                  <a:lnTo>
                    <a:pt x="94" y="701"/>
                  </a:lnTo>
                  <a:lnTo>
                    <a:pt x="76" y="709"/>
                  </a:lnTo>
                  <a:lnTo>
                    <a:pt x="74" y="707"/>
                  </a:lnTo>
                  <a:lnTo>
                    <a:pt x="73" y="714"/>
                  </a:lnTo>
                  <a:lnTo>
                    <a:pt x="83" y="719"/>
                  </a:lnTo>
                  <a:lnTo>
                    <a:pt x="97" y="724"/>
                  </a:lnTo>
                  <a:lnTo>
                    <a:pt x="91" y="734"/>
                  </a:lnTo>
                  <a:lnTo>
                    <a:pt x="94" y="744"/>
                  </a:lnTo>
                  <a:lnTo>
                    <a:pt x="104" y="744"/>
                  </a:lnTo>
                  <a:lnTo>
                    <a:pt x="116" y="750"/>
                  </a:lnTo>
                  <a:lnTo>
                    <a:pt x="124" y="768"/>
                  </a:lnTo>
                  <a:lnTo>
                    <a:pt x="130" y="773"/>
                  </a:lnTo>
                  <a:lnTo>
                    <a:pt x="135" y="773"/>
                  </a:lnTo>
                  <a:lnTo>
                    <a:pt x="140" y="787"/>
                  </a:lnTo>
                  <a:lnTo>
                    <a:pt x="154" y="797"/>
                  </a:lnTo>
                  <a:lnTo>
                    <a:pt x="168" y="795"/>
                  </a:lnTo>
                  <a:lnTo>
                    <a:pt x="183" y="820"/>
                  </a:lnTo>
                  <a:lnTo>
                    <a:pt x="206" y="818"/>
                  </a:lnTo>
                  <a:lnTo>
                    <a:pt x="235" y="826"/>
                  </a:lnTo>
                  <a:lnTo>
                    <a:pt x="244" y="815"/>
                  </a:lnTo>
                  <a:lnTo>
                    <a:pt x="254" y="815"/>
                  </a:lnTo>
                  <a:lnTo>
                    <a:pt x="276" y="833"/>
                  </a:lnTo>
                  <a:lnTo>
                    <a:pt x="289" y="838"/>
                  </a:lnTo>
                  <a:lnTo>
                    <a:pt x="292" y="849"/>
                  </a:lnTo>
                  <a:lnTo>
                    <a:pt x="291" y="849"/>
                  </a:lnTo>
                  <a:lnTo>
                    <a:pt x="301" y="848"/>
                  </a:lnTo>
                  <a:lnTo>
                    <a:pt x="311" y="856"/>
                  </a:lnTo>
                  <a:lnTo>
                    <a:pt x="311" y="869"/>
                  </a:lnTo>
                  <a:lnTo>
                    <a:pt x="314" y="868"/>
                  </a:lnTo>
                  <a:lnTo>
                    <a:pt x="327" y="881"/>
                  </a:lnTo>
                  <a:lnTo>
                    <a:pt x="355" y="882"/>
                  </a:lnTo>
                  <a:lnTo>
                    <a:pt x="375" y="894"/>
                  </a:lnTo>
                  <a:lnTo>
                    <a:pt x="408" y="894"/>
                  </a:lnTo>
                  <a:lnTo>
                    <a:pt x="421" y="906"/>
                  </a:lnTo>
                  <a:lnTo>
                    <a:pt x="426" y="904"/>
                  </a:lnTo>
                  <a:lnTo>
                    <a:pt x="424" y="901"/>
                  </a:lnTo>
                  <a:lnTo>
                    <a:pt x="420" y="891"/>
                  </a:lnTo>
                  <a:lnTo>
                    <a:pt x="424" y="869"/>
                  </a:lnTo>
                  <a:lnTo>
                    <a:pt x="423" y="853"/>
                  </a:lnTo>
                  <a:lnTo>
                    <a:pt x="446" y="823"/>
                  </a:lnTo>
                  <a:lnTo>
                    <a:pt x="476" y="811"/>
                  </a:lnTo>
                  <a:lnTo>
                    <a:pt x="507" y="798"/>
                  </a:lnTo>
                  <a:lnTo>
                    <a:pt x="520" y="810"/>
                  </a:lnTo>
                  <a:lnTo>
                    <a:pt x="532" y="818"/>
                  </a:lnTo>
                  <a:lnTo>
                    <a:pt x="545" y="811"/>
                  </a:lnTo>
                  <a:lnTo>
                    <a:pt x="553" y="835"/>
                  </a:lnTo>
                  <a:lnTo>
                    <a:pt x="567" y="838"/>
                  </a:lnTo>
                  <a:lnTo>
                    <a:pt x="586" y="841"/>
                  </a:lnTo>
                  <a:lnTo>
                    <a:pt x="601" y="848"/>
                  </a:lnTo>
                  <a:lnTo>
                    <a:pt x="606" y="859"/>
                  </a:lnTo>
                  <a:lnTo>
                    <a:pt x="623" y="869"/>
                  </a:lnTo>
                  <a:lnTo>
                    <a:pt x="638" y="879"/>
                  </a:lnTo>
                  <a:lnTo>
                    <a:pt x="657" y="877"/>
                  </a:lnTo>
                  <a:lnTo>
                    <a:pt x="692" y="879"/>
                  </a:lnTo>
                  <a:lnTo>
                    <a:pt x="700" y="871"/>
                  </a:lnTo>
                  <a:lnTo>
                    <a:pt x="709" y="851"/>
                  </a:lnTo>
                  <a:lnTo>
                    <a:pt x="743" y="844"/>
                  </a:lnTo>
                  <a:lnTo>
                    <a:pt x="750" y="836"/>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131920" y="4104720"/>
              <a:ext cx="52200" cy="45000"/>
            </a:xfrm>
            <a:custGeom>
              <a:avLst/>
              <a:gdLst/>
              <a:ahLst/>
              <a:rect l="l" t="t" r="r" b="b"/>
              <a:pathLst>
                <a:path w="19" h="17">
                  <a:moveTo>
                    <a:pt x="18" y="0"/>
                  </a:moveTo>
                  <a:lnTo>
                    <a:pt x="3" y="0"/>
                  </a:lnTo>
                  <a:lnTo>
                    <a:pt x="0" y="16"/>
                  </a:lnTo>
                  <a:lnTo>
                    <a:pt x="14" y="12"/>
                  </a:lnTo>
                  <a:lnTo>
                    <a:pt x="18" y="0"/>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74" name=""/>
            <p:cNvSpPr/>
            <p:nvPr/>
          </p:nvSpPr>
          <p:spPr>
            <a:xfrm>
              <a:off x="2396160" y="4485600"/>
              <a:ext cx="52200" cy="44280"/>
            </a:xfrm>
            <a:custGeom>
              <a:avLst/>
              <a:gdLst/>
              <a:ahLst/>
              <a:rect l="l" t="t" r="r" b="b"/>
              <a:pathLst>
                <a:path w="18" h="17">
                  <a:moveTo>
                    <a:pt x="2" y="0"/>
                  </a:moveTo>
                  <a:lnTo>
                    <a:pt x="0" y="16"/>
                  </a:lnTo>
                  <a:lnTo>
                    <a:pt x="17" y="16"/>
                  </a:lnTo>
                  <a:lnTo>
                    <a:pt x="2" y="0"/>
                  </a:lnTo>
                </a:path>
              </a:pathLst>
            </a:custGeom>
            <a:solidFill>
              <a:srgbClr val="006790"/>
            </a:solidFill>
            <a:ln cap="rnd" w="3240">
              <a:solidFill>
                <a:srgbClr val="004463"/>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5" name=""/>
            <p:cNvSpPr/>
            <p:nvPr/>
          </p:nvSpPr>
          <p:spPr>
            <a:xfrm>
              <a:off x="2526840" y="4708800"/>
              <a:ext cx="47880" cy="40320"/>
            </a:xfrm>
            <a:custGeom>
              <a:avLst/>
              <a:gdLst/>
              <a:ahLst/>
              <a:rect l="l" t="t" r="r" b="b"/>
              <a:pathLst>
                <a:path w="17" h="17">
                  <a:moveTo>
                    <a:pt x="0" y="0"/>
                  </a:moveTo>
                  <a:lnTo>
                    <a:pt x="0" y="16"/>
                  </a:lnTo>
                  <a:lnTo>
                    <a:pt x="16" y="9"/>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76" name=""/>
            <p:cNvSpPr/>
            <p:nvPr/>
          </p:nvSpPr>
          <p:spPr>
            <a:xfrm>
              <a:off x="2553120" y="4615560"/>
              <a:ext cx="47880" cy="47880"/>
            </a:xfrm>
            <a:custGeom>
              <a:avLst/>
              <a:gdLst/>
              <a:ahLst/>
              <a:rect l="l" t="t" r="r" b="b"/>
              <a:pathLst>
                <a:path w="17" h="19">
                  <a:moveTo>
                    <a:pt x="0" y="0"/>
                  </a:moveTo>
                  <a:lnTo>
                    <a:pt x="3" y="14"/>
                  </a:lnTo>
                  <a:lnTo>
                    <a:pt x="16" y="18"/>
                  </a:lnTo>
                  <a:lnTo>
                    <a:pt x="16" y="1"/>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7" name=""/>
            <p:cNvSpPr/>
            <p:nvPr/>
          </p:nvSpPr>
          <p:spPr>
            <a:xfrm>
              <a:off x="2638440" y="4855680"/>
              <a:ext cx="55440" cy="44280"/>
            </a:xfrm>
            <a:custGeom>
              <a:avLst/>
              <a:gdLst/>
              <a:ahLst/>
              <a:rect l="l" t="t" r="r" b="b"/>
              <a:pathLst>
                <a:path w="21" h="17">
                  <a:moveTo>
                    <a:pt x="0" y="1"/>
                  </a:moveTo>
                  <a:lnTo>
                    <a:pt x="8" y="0"/>
                  </a:lnTo>
                  <a:lnTo>
                    <a:pt x="20" y="11"/>
                  </a:lnTo>
                  <a:lnTo>
                    <a:pt x="18" y="16"/>
                  </a:lnTo>
                  <a:lnTo>
                    <a:pt x="4" y="8"/>
                  </a:lnTo>
                  <a:lnTo>
                    <a:pt x="4" y="6"/>
                  </a:lnTo>
                  <a:lnTo>
                    <a:pt x="2" y="6"/>
                  </a:lnTo>
                  <a:lnTo>
                    <a:pt x="2" y="5"/>
                  </a:lnTo>
                  <a:lnTo>
                    <a:pt x="2" y="3"/>
                  </a:lnTo>
                  <a:lnTo>
                    <a:pt x="0" y="3"/>
                  </a:lnTo>
                  <a:lnTo>
                    <a:pt x="0" y="1"/>
                  </a:lnTo>
                </a:path>
              </a:pathLst>
            </a:custGeom>
            <a:solidFill>
              <a:srgbClr val="006790"/>
            </a:solidFill>
            <a:ln cap="rnd" w="3240">
              <a:solidFill>
                <a:srgbClr val="004463"/>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8" name=""/>
            <p:cNvSpPr/>
            <p:nvPr/>
          </p:nvSpPr>
          <p:spPr>
            <a:xfrm>
              <a:off x="2656800" y="4910760"/>
              <a:ext cx="47880" cy="78480"/>
            </a:xfrm>
            <a:custGeom>
              <a:avLst/>
              <a:gdLst/>
              <a:ahLst/>
              <a:rect l="l" t="t" r="r" b="b"/>
              <a:pathLst>
                <a:path w="17" h="31">
                  <a:moveTo>
                    <a:pt x="1" y="0"/>
                  </a:moveTo>
                  <a:lnTo>
                    <a:pt x="0" y="17"/>
                  </a:lnTo>
                  <a:lnTo>
                    <a:pt x="7" y="30"/>
                  </a:lnTo>
                  <a:lnTo>
                    <a:pt x="14" y="28"/>
                  </a:lnTo>
                  <a:lnTo>
                    <a:pt x="16" y="12"/>
                  </a:lnTo>
                  <a:lnTo>
                    <a:pt x="1" y="0"/>
                  </a:lnTo>
                </a:path>
              </a:pathLst>
            </a:custGeom>
            <a:solidFill>
              <a:srgbClr val="006790"/>
            </a:solidFill>
            <a:ln cap="rnd" w="3240">
              <a:solidFill>
                <a:srgbClr val="004463"/>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grpSp>
      <p:sp>
        <p:nvSpPr>
          <p:cNvPr id="279" name=""/>
          <p:cNvSpPr/>
          <p:nvPr/>
        </p:nvSpPr>
        <p:spPr>
          <a:xfrm>
            <a:off x="1587600" y="2227320"/>
            <a:ext cx="946080" cy="880920"/>
          </a:xfrm>
          <a:custGeom>
            <a:avLst/>
            <a:gdLst/>
            <a:ahLst/>
            <a:rect l="l" t="t" r="r" b="b"/>
            <a:pathLst>
              <a:path w="338" h="343">
                <a:moveTo>
                  <a:pt x="306" y="29"/>
                </a:moveTo>
                <a:lnTo>
                  <a:pt x="298" y="28"/>
                </a:lnTo>
                <a:lnTo>
                  <a:pt x="291" y="38"/>
                </a:lnTo>
                <a:lnTo>
                  <a:pt x="291" y="49"/>
                </a:lnTo>
                <a:lnTo>
                  <a:pt x="271" y="51"/>
                </a:lnTo>
                <a:lnTo>
                  <a:pt x="263" y="54"/>
                </a:lnTo>
                <a:lnTo>
                  <a:pt x="265" y="62"/>
                </a:lnTo>
                <a:lnTo>
                  <a:pt x="271" y="66"/>
                </a:lnTo>
                <a:lnTo>
                  <a:pt x="270" y="72"/>
                </a:lnTo>
                <a:lnTo>
                  <a:pt x="255" y="72"/>
                </a:lnTo>
                <a:lnTo>
                  <a:pt x="248" y="86"/>
                </a:lnTo>
                <a:lnTo>
                  <a:pt x="250" y="104"/>
                </a:lnTo>
                <a:lnTo>
                  <a:pt x="274" y="120"/>
                </a:lnTo>
                <a:lnTo>
                  <a:pt x="284" y="119"/>
                </a:lnTo>
                <a:lnTo>
                  <a:pt x="301" y="110"/>
                </a:lnTo>
                <a:lnTo>
                  <a:pt x="311" y="112"/>
                </a:lnTo>
                <a:lnTo>
                  <a:pt x="316" y="124"/>
                </a:lnTo>
                <a:lnTo>
                  <a:pt x="317" y="135"/>
                </a:lnTo>
                <a:lnTo>
                  <a:pt x="329" y="135"/>
                </a:lnTo>
                <a:lnTo>
                  <a:pt x="334" y="140"/>
                </a:lnTo>
                <a:lnTo>
                  <a:pt x="337" y="155"/>
                </a:lnTo>
                <a:lnTo>
                  <a:pt x="337" y="158"/>
                </a:lnTo>
                <a:lnTo>
                  <a:pt x="327" y="158"/>
                </a:lnTo>
                <a:lnTo>
                  <a:pt x="319" y="157"/>
                </a:lnTo>
                <a:lnTo>
                  <a:pt x="317" y="163"/>
                </a:lnTo>
                <a:lnTo>
                  <a:pt x="319" y="175"/>
                </a:lnTo>
                <a:lnTo>
                  <a:pt x="327" y="178"/>
                </a:lnTo>
                <a:lnTo>
                  <a:pt x="327" y="183"/>
                </a:lnTo>
                <a:lnTo>
                  <a:pt x="322" y="186"/>
                </a:lnTo>
                <a:lnTo>
                  <a:pt x="324" y="195"/>
                </a:lnTo>
                <a:lnTo>
                  <a:pt x="324" y="204"/>
                </a:lnTo>
                <a:lnTo>
                  <a:pt x="314" y="206"/>
                </a:lnTo>
                <a:lnTo>
                  <a:pt x="316" y="231"/>
                </a:lnTo>
                <a:lnTo>
                  <a:pt x="301" y="233"/>
                </a:lnTo>
                <a:lnTo>
                  <a:pt x="304" y="239"/>
                </a:lnTo>
                <a:lnTo>
                  <a:pt x="309" y="252"/>
                </a:lnTo>
                <a:lnTo>
                  <a:pt x="288" y="284"/>
                </a:lnTo>
                <a:lnTo>
                  <a:pt x="266" y="320"/>
                </a:lnTo>
                <a:lnTo>
                  <a:pt x="256" y="325"/>
                </a:lnTo>
                <a:lnTo>
                  <a:pt x="260" y="333"/>
                </a:lnTo>
                <a:lnTo>
                  <a:pt x="256" y="338"/>
                </a:lnTo>
                <a:lnTo>
                  <a:pt x="238" y="330"/>
                </a:lnTo>
                <a:lnTo>
                  <a:pt x="222" y="328"/>
                </a:lnTo>
                <a:lnTo>
                  <a:pt x="227" y="318"/>
                </a:lnTo>
                <a:lnTo>
                  <a:pt x="215" y="318"/>
                </a:lnTo>
                <a:lnTo>
                  <a:pt x="207" y="330"/>
                </a:lnTo>
                <a:lnTo>
                  <a:pt x="190" y="322"/>
                </a:lnTo>
                <a:lnTo>
                  <a:pt x="174" y="317"/>
                </a:lnTo>
                <a:lnTo>
                  <a:pt x="172" y="327"/>
                </a:lnTo>
                <a:lnTo>
                  <a:pt x="157" y="327"/>
                </a:lnTo>
                <a:lnTo>
                  <a:pt x="149" y="325"/>
                </a:lnTo>
                <a:lnTo>
                  <a:pt x="142" y="333"/>
                </a:lnTo>
                <a:lnTo>
                  <a:pt x="127" y="333"/>
                </a:lnTo>
                <a:lnTo>
                  <a:pt x="123" y="323"/>
                </a:lnTo>
                <a:lnTo>
                  <a:pt x="121" y="335"/>
                </a:lnTo>
                <a:lnTo>
                  <a:pt x="104" y="342"/>
                </a:lnTo>
                <a:lnTo>
                  <a:pt x="94" y="337"/>
                </a:lnTo>
                <a:lnTo>
                  <a:pt x="88" y="340"/>
                </a:lnTo>
                <a:lnTo>
                  <a:pt x="66" y="338"/>
                </a:lnTo>
                <a:lnTo>
                  <a:pt x="53" y="335"/>
                </a:lnTo>
                <a:lnTo>
                  <a:pt x="48" y="328"/>
                </a:lnTo>
                <a:lnTo>
                  <a:pt x="33" y="328"/>
                </a:lnTo>
                <a:lnTo>
                  <a:pt x="20" y="330"/>
                </a:lnTo>
                <a:lnTo>
                  <a:pt x="12" y="327"/>
                </a:lnTo>
                <a:lnTo>
                  <a:pt x="22" y="317"/>
                </a:lnTo>
                <a:lnTo>
                  <a:pt x="38" y="313"/>
                </a:lnTo>
                <a:lnTo>
                  <a:pt x="37" y="309"/>
                </a:lnTo>
                <a:lnTo>
                  <a:pt x="25" y="310"/>
                </a:lnTo>
                <a:lnTo>
                  <a:pt x="9" y="312"/>
                </a:lnTo>
                <a:lnTo>
                  <a:pt x="4" y="305"/>
                </a:lnTo>
                <a:lnTo>
                  <a:pt x="12" y="299"/>
                </a:lnTo>
                <a:lnTo>
                  <a:pt x="37" y="290"/>
                </a:lnTo>
                <a:lnTo>
                  <a:pt x="25" y="287"/>
                </a:lnTo>
                <a:lnTo>
                  <a:pt x="7" y="294"/>
                </a:lnTo>
                <a:lnTo>
                  <a:pt x="0" y="289"/>
                </a:lnTo>
                <a:lnTo>
                  <a:pt x="7" y="280"/>
                </a:lnTo>
                <a:lnTo>
                  <a:pt x="0" y="274"/>
                </a:lnTo>
                <a:lnTo>
                  <a:pt x="4" y="264"/>
                </a:lnTo>
                <a:lnTo>
                  <a:pt x="18" y="259"/>
                </a:lnTo>
                <a:lnTo>
                  <a:pt x="40" y="257"/>
                </a:lnTo>
                <a:lnTo>
                  <a:pt x="30" y="252"/>
                </a:lnTo>
                <a:lnTo>
                  <a:pt x="22" y="247"/>
                </a:lnTo>
                <a:lnTo>
                  <a:pt x="2" y="244"/>
                </a:lnTo>
                <a:lnTo>
                  <a:pt x="2" y="237"/>
                </a:lnTo>
                <a:lnTo>
                  <a:pt x="25" y="237"/>
                </a:lnTo>
                <a:lnTo>
                  <a:pt x="32" y="236"/>
                </a:lnTo>
                <a:lnTo>
                  <a:pt x="37" y="242"/>
                </a:lnTo>
                <a:lnTo>
                  <a:pt x="48" y="246"/>
                </a:lnTo>
                <a:lnTo>
                  <a:pt x="51" y="233"/>
                </a:lnTo>
                <a:lnTo>
                  <a:pt x="65" y="231"/>
                </a:lnTo>
                <a:lnTo>
                  <a:pt x="81" y="229"/>
                </a:lnTo>
                <a:lnTo>
                  <a:pt x="99" y="233"/>
                </a:lnTo>
                <a:lnTo>
                  <a:pt x="114" y="229"/>
                </a:lnTo>
                <a:lnTo>
                  <a:pt x="127" y="229"/>
                </a:lnTo>
                <a:lnTo>
                  <a:pt x="121" y="224"/>
                </a:lnTo>
                <a:lnTo>
                  <a:pt x="114" y="221"/>
                </a:lnTo>
                <a:lnTo>
                  <a:pt x="111" y="224"/>
                </a:lnTo>
                <a:lnTo>
                  <a:pt x="94" y="223"/>
                </a:lnTo>
                <a:lnTo>
                  <a:pt x="81" y="221"/>
                </a:lnTo>
                <a:lnTo>
                  <a:pt x="63" y="219"/>
                </a:lnTo>
                <a:lnTo>
                  <a:pt x="56" y="214"/>
                </a:lnTo>
                <a:lnTo>
                  <a:pt x="65" y="211"/>
                </a:lnTo>
                <a:lnTo>
                  <a:pt x="70" y="206"/>
                </a:lnTo>
                <a:lnTo>
                  <a:pt x="81" y="206"/>
                </a:lnTo>
                <a:lnTo>
                  <a:pt x="104" y="191"/>
                </a:lnTo>
                <a:lnTo>
                  <a:pt x="114" y="178"/>
                </a:lnTo>
                <a:lnTo>
                  <a:pt x="126" y="178"/>
                </a:lnTo>
                <a:lnTo>
                  <a:pt x="136" y="181"/>
                </a:lnTo>
                <a:lnTo>
                  <a:pt x="139" y="173"/>
                </a:lnTo>
                <a:lnTo>
                  <a:pt x="126" y="170"/>
                </a:lnTo>
                <a:lnTo>
                  <a:pt x="111" y="168"/>
                </a:lnTo>
                <a:lnTo>
                  <a:pt x="104" y="157"/>
                </a:lnTo>
                <a:lnTo>
                  <a:pt x="103" y="143"/>
                </a:lnTo>
                <a:lnTo>
                  <a:pt x="93" y="155"/>
                </a:lnTo>
                <a:lnTo>
                  <a:pt x="86" y="148"/>
                </a:lnTo>
                <a:lnTo>
                  <a:pt x="89" y="140"/>
                </a:lnTo>
                <a:lnTo>
                  <a:pt x="80" y="138"/>
                </a:lnTo>
                <a:lnTo>
                  <a:pt x="81" y="130"/>
                </a:lnTo>
                <a:lnTo>
                  <a:pt x="75" y="122"/>
                </a:lnTo>
                <a:lnTo>
                  <a:pt x="83" y="110"/>
                </a:lnTo>
                <a:lnTo>
                  <a:pt x="91" y="110"/>
                </a:lnTo>
                <a:lnTo>
                  <a:pt x="106" y="112"/>
                </a:lnTo>
                <a:lnTo>
                  <a:pt x="106" y="105"/>
                </a:lnTo>
                <a:lnTo>
                  <a:pt x="114" y="102"/>
                </a:lnTo>
                <a:lnTo>
                  <a:pt x="126" y="100"/>
                </a:lnTo>
                <a:lnTo>
                  <a:pt x="126" y="92"/>
                </a:lnTo>
                <a:lnTo>
                  <a:pt x="106" y="92"/>
                </a:lnTo>
                <a:lnTo>
                  <a:pt x="103" y="84"/>
                </a:lnTo>
                <a:lnTo>
                  <a:pt x="114" y="82"/>
                </a:lnTo>
                <a:lnTo>
                  <a:pt x="114" y="79"/>
                </a:lnTo>
                <a:lnTo>
                  <a:pt x="106" y="77"/>
                </a:lnTo>
                <a:lnTo>
                  <a:pt x="99" y="72"/>
                </a:lnTo>
                <a:lnTo>
                  <a:pt x="99" y="64"/>
                </a:lnTo>
                <a:lnTo>
                  <a:pt x="106" y="59"/>
                </a:lnTo>
                <a:lnTo>
                  <a:pt x="113" y="61"/>
                </a:lnTo>
                <a:lnTo>
                  <a:pt x="118" y="59"/>
                </a:lnTo>
                <a:lnTo>
                  <a:pt x="113" y="53"/>
                </a:lnTo>
                <a:lnTo>
                  <a:pt x="121" y="46"/>
                </a:lnTo>
                <a:lnTo>
                  <a:pt x="124" y="57"/>
                </a:lnTo>
                <a:lnTo>
                  <a:pt x="134" y="54"/>
                </a:lnTo>
                <a:lnTo>
                  <a:pt x="139" y="49"/>
                </a:lnTo>
                <a:lnTo>
                  <a:pt x="144" y="51"/>
                </a:lnTo>
                <a:lnTo>
                  <a:pt x="156" y="53"/>
                </a:lnTo>
                <a:lnTo>
                  <a:pt x="165" y="61"/>
                </a:lnTo>
                <a:lnTo>
                  <a:pt x="169" y="79"/>
                </a:lnTo>
                <a:lnTo>
                  <a:pt x="177" y="67"/>
                </a:lnTo>
                <a:lnTo>
                  <a:pt x="182" y="72"/>
                </a:lnTo>
                <a:lnTo>
                  <a:pt x="194" y="79"/>
                </a:lnTo>
                <a:lnTo>
                  <a:pt x="198" y="86"/>
                </a:lnTo>
                <a:lnTo>
                  <a:pt x="210" y="90"/>
                </a:lnTo>
                <a:lnTo>
                  <a:pt x="207" y="84"/>
                </a:lnTo>
                <a:lnTo>
                  <a:pt x="200" y="72"/>
                </a:lnTo>
                <a:lnTo>
                  <a:pt x="205" y="67"/>
                </a:lnTo>
                <a:lnTo>
                  <a:pt x="217" y="66"/>
                </a:lnTo>
                <a:lnTo>
                  <a:pt x="227" y="71"/>
                </a:lnTo>
                <a:lnTo>
                  <a:pt x="232" y="66"/>
                </a:lnTo>
                <a:lnTo>
                  <a:pt x="245" y="64"/>
                </a:lnTo>
                <a:lnTo>
                  <a:pt x="241" y="57"/>
                </a:lnTo>
                <a:lnTo>
                  <a:pt x="232" y="56"/>
                </a:lnTo>
                <a:lnTo>
                  <a:pt x="215" y="51"/>
                </a:lnTo>
                <a:lnTo>
                  <a:pt x="205" y="43"/>
                </a:lnTo>
                <a:lnTo>
                  <a:pt x="207" y="34"/>
                </a:lnTo>
                <a:lnTo>
                  <a:pt x="225" y="31"/>
                </a:lnTo>
                <a:lnTo>
                  <a:pt x="238" y="31"/>
                </a:lnTo>
                <a:lnTo>
                  <a:pt x="238" y="21"/>
                </a:lnTo>
                <a:lnTo>
                  <a:pt x="241" y="11"/>
                </a:lnTo>
                <a:lnTo>
                  <a:pt x="250" y="3"/>
                </a:lnTo>
                <a:lnTo>
                  <a:pt x="261" y="6"/>
                </a:lnTo>
                <a:lnTo>
                  <a:pt x="274" y="0"/>
                </a:lnTo>
                <a:lnTo>
                  <a:pt x="279" y="11"/>
                </a:lnTo>
                <a:lnTo>
                  <a:pt x="288" y="3"/>
                </a:lnTo>
                <a:lnTo>
                  <a:pt x="298" y="6"/>
                </a:lnTo>
                <a:lnTo>
                  <a:pt x="286" y="28"/>
                </a:lnTo>
                <a:lnTo>
                  <a:pt x="288" y="29"/>
                </a:lnTo>
                <a:lnTo>
                  <a:pt x="301" y="19"/>
                </a:lnTo>
                <a:lnTo>
                  <a:pt x="304" y="10"/>
                </a:lnTo>
                <a:lnTo>
                  <a:pt x="311" y="10"/>
                </a:lnTo>
                <a:lnTo>
                  <a:pt x="317" y="15"/>
                </a:lnTo>
                <a:lnTo>
                  <a:pt x="312" y="0"/>
                </a:lnTo>
                <a:lnTo>
                  <a:pt x="319" y="0"/>
                </a:lnTo>
                <a:lnTo>
                  <a:pt x="326" y="3"/>
                </a:lnTo>
                <a:lnTo>
                  <a:pt x="329" y="21"/>
                </a:lnTo>
                <a:lnTo>
                  <a:pt x="321" y="21"/>
                </a:lnTo>
                <a:lnTo>
                  <a:pt x="311" y="26"/>
                </a:lnTo>
                <a:lnTo>
                  <a:pt x="306" y="29"/>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49200" y="5521320"/>
            <a:ext cx="971640" cy="1333440"/>
          </a:xfrm>
          <a:custGeom>
            <a:avLst/>
            <a:gdLst/>
            <a:ahLst/>
            <a:rect l="l" t="t" r="r" b="b"/>
            <a:pathLst>
              <a:path w="348" h="520">
                <a:moveTo>
                  <a:pt x="167" y="8"/>
                </a:moveTo>
                <a:lnTo>
                  <a:pt x="178" y="7"/>
                </a:lnTo>
                <a:lnTo>
                  <a:pt x="193" y="0"/>
                </a:lnTo>
                <a:lnTo>
                  <a:pt x="221" y="2"/>
                </a:lnTo>
                <a:lnTo>
                  <a:pt x="218" y="15"/>
                </a:lnTo>
                <a:lnTo>
                  <a:pt x="226" y="30"/>
                </a:lnTo>
                <a:lnTo>
                  <a:pt x="238" y="25"/>
                </a:lnTo>
                <a:lnTo>
                  <a:pt x="254" y="35"/>
                </a:lnTo>
                <a:lnTo>
                  <a:pt x="277" y="48"/>
                </a:lnTo>
                <a:lnTo>
                  <a:pt x="287" y="41"/>
                </a:lnTo>
                <a:lnTo>
                  <a:pt x="302" y="46"/>
                </a:lnTo>
                <a:lnTo>
                  <a:pt x="335" y="54"/>
                </a:lnTo>
                <a:lnTo>
                  <a:pt x="334" y="79"/>
                </a:lnTo>
                <a:lnTo>
                  <a:pt x="325" y="97"/>
                </a:lnTo>
                <a:lnTo>
                  <a:pt x="340" y="99"/>
                </a:lnTo>
                <a:lnTo>
                  <a:pt x="347" y="121"/>
                </a:lnTo>
                <a:lnTo>
                  <a:pt x="334" y="134"/>
                </a:lnTo>
                <a:lnTo>
                  <a:pt x="307" y="137"/>
                </a:lnTo>
                <a:lnTo>
                  <a:pt x="281" y="147"/>
                </a:lnTo>
                <a:lnTo>
                  <a:pt x="281" y="163"/>
                </a:lnTo>
                <a:lnTo>
                  <a:pt x="274" y="178"/>
                </a:lnTo>
                <a:lnTo>
                  <a:pt x="274" y="197"/>
                </a:lnTo>
                <a:lnTo>
                  <a:pt x="264" y="208"/>
                </a:lnTo>
                <a:lnTo>
                  <a:pt x="241" y="208"/>
                </a:lnTo>
                <a:lnTo>
                  <a:pt x="251" y="228"/>
                </a:lnTo>
                <a:lnTo>
                  <a:pt x="243" y="243"/>
                </a:lnTo>
                <a:lnTo>
                  <a:pt x="233" y="263"/>
                </a:lnTo>
                <a:lnTo>
                  <a:pt x="220" y="269"/>
                </a:lnTo>
                <a:lnTo>
                  <a:pt x="203" y="261"/>
                </a:lnTo>
                <a:lnTo>
                  <a:pt x="205" y="286"/>
                </a:lnTo>
                <a:lnTo>
                  <a:pt x="210" y="322"/>
                </a:lnTo>
                <a:lnTo>
                  <a:pt x="221" y="332"/>
                </a:lnTo>
                <a:lnTo>
                  <a:pt x="213" y="345"/>
                </a:lnTo>
                <a:lnTo>
                  <a:pt x="187" y="367"/>
                </a:lnTo>
                <a:lnTo>
                  <a:pt x="177" y="396"/>
                </a:lnTo>
                <a:lnTo>
                  <a:pt x="177" y="415"/>
                </a:lnTo>
                <a:lnTo>
                  <a:pt x="195" y="416"/>
                </a:lnTo>
                <a:lnTo>
                  <a:pt x="190" y="438"/>
                </a:lnTo>
                <a:lnTo>
                  <a:pt x="162" y="443"/>
                </a:lnTo>
                <a:lnTo>
                  <a:pt x="142" y="464"/>
                </a:lnTo>
                <a:lnTo>
                  <a:pt x="129" y="484"/>
                </a:lnTo>
                <a:lnTo>
                  <a:pt x="125" y="507"/>
                </a:lnTo>
                <a:lnTo>
                  <a:pt x="89" y="519"/>
                </a:lnTo>
                <a:lnTo>
                  <a:pt x="63" y="502"/>
                </a:lnTo>
                <a:lnTo>
                  <a:pt x="31" y="486"/>
                </a:lnTo>
                <a:lnTo>
                  <a:pt x="3" y="489"/>
                </a:lnTo>
                <a:lnTo>
                  <a:pt x="0" y="476"/>
                </a:lnTo>
                <a:lnTo>
                  <a:pt x="15" y="456"/>
                </a:lnTo>
                <a:lnTo>
                  <a:pt x="26" y="438"/>
                </a:lnTo>
                <a:lnTo>
                  <a:pt x="31" y="413"/>
                </a:lnTo>
                <a:lnTo>
                  <a:pt x="38" y="406"/>
                </a:lnTo>
                <a:lnTo>
                  <a:pt x="35" y="390"/>
                </a:lnTo>
                <a:lnTo>
                  <a:pt x="50" y="373"/>
                </a:lnTo>
                <a:lnTo>
                  <a:pt x="61" y="348"/>
                </a:lnTo>
                <a:lnTo>
                  <a:pt x="84" y="355"/>
                </a:lnTo>
                <a:lnTo>
                  <a:pt x="74" y="345"/>
                </a:lnTo>
                <a:lnTo>
                  <a:pt x="74" y="335"/>
                </a:lnTo>
                <a:lnTo>
                  <a:pt x="58" y="339"/>
                </a:lnTo>
                <a:lnTo>
                  <a:pt x="25" y="339"/>
                </a:lnTo>
                <a:lnTo>
                  <a:pt x="15" y="329"/>
                </a:lnTo>
                <a:lnTo>
                  <a:pt x="25" y="315"/>
                </a:lnTo>
                <a:lnTo>
                  <a:pt x="36" y="314"/>
                </a:lnTo>
                <a:lnTo>
                  <a:pt x="48" y="320"/>
                </a:lnTo>
                <a:lnTo>
                  <a:pt x="56" y="307"/>
                </a:lnTo>
                <a:lnTo>
                  <a:pt x="53" y="297"/>
                </a:lnTo>
                <a:lnTo>
                  <a:pt x="30" y="309"/>
                </a:lnTo>
                <a:lnTo>
                  <a:pt x="20" y="299"/>
                </a:lnTo>
                <a:lnTo>
                  <a:pt x="31" y="266"/>
                </a:lnTo>
                <a:lnTo>
                  <a:pt x="45" y="258"/>
                </a:lnTo>
                <a:lnTo>
                  <a:pt x="45" y="243"/>
                </a:lnTo>
                <a:lnTo>
                  <a:pt x="56" y="226"/>
                </a:lnTo>
                <a:lnTo>
                  <a:pt x="68" y="221"/>
                </a:lnTo>
                <a:lnTo>
                  <a:pt x="71" y="210"/>
                </a:lnTo>
                <a:lnTo>
                  <a:pt x="97" y="183"/>
                </a:lnTo>
                <a:lnTo>
                  <a:pt x="117" y="154"/>
                </a:lnTo>
                <a:lnTo>
                  <a:pt x="135" y="129"/>
                </a:lnTo>
                <a:lnTo>
                  <a:pt x="145" y="116"/>
                </a:lnTo>
                <a:lnTo>
                  <a:pt x="134" y="116"/>
                </a:lnTo>
                <a:lnTo>
                  <a:pt x="142" y="96"/>
                </a:lnTo>
                <a:lnTo>
                  <a:pt x="150" y="78"/>
                </a:lnTo>
                <a:lnTo>
                  <a:pt x="154" y="56"/>
                </a:lnTo>
                <a:lnTo>
                  <a:pt x="167" y="30"/>
                </a:lnTo>
                <a:lnTo>
                  <a:pt x="168" y="10"/>
                </a:lnTo>
                <a:lnTo>
                  <a:pt x="167" y="8"/>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776760" y="3768840"/>
            <a:ext cx="630000" cy="533160"/>
          </a:xfrm>
          <a:custGeom>
            <a:avLst/>
            <a:gdLst/>
            <a:ahLst/>
            <a:rect l="l" t="t" r="r" b="b"/>
            <a:pathLst>
              <a:path w="227" h="207">
                <a:moveTo>
                  <a:pt x="41" y="0"/>
                </a:moveTo>
                <a:lnTo>
                  <a:pt x="45" y="6"/>
                </a:lnTo>
                <a:lnTo>
                  <a:pt x="65" y="11"/>
                </a:lnTo>
                <a:lnTo>
                  <a:pt x="79" y="26"/>
                </a:lnTo>
                <a:lnTo>
                  <a:pt x="126" y="16"/>
                </a:lnTo>
                <a:lnTo>
                  <a:pt x="136" y="6"/>
                </a:lnTo>
                <a:lnTo>
                  <a:pt x="160" y="8"/>
                </a:lnTo>
                <a:lnTo>
                  <a:pt x="192" y="36"/>
                </a:lnTo>
                <a:lnTo>
                  <a:pt x="205" y="46"/>
                </a:lnTo>
                <a:lnTo>
                  <a:pt x="200" y="71"/>
                </a:lnTo>
                <a:lnTo>
                  <a:pt x="215" y="77"/>
                </a:lnTo>
                <a:lnTo>
                  <a:pt x="217" y="94"/>
                </a:lnTo>
                <a:lnTo>
                  <a:pt x="226" y="120"/>
                </a:lnTo>
                <a:lnTo>
                  <a:pt x="213" y="150"/>
                </a:lnTo>
                <a:lnTo>
                  <a:pt x="192" y="152"/>
                </a:lnTo>
                <a:lnTo>
                  <a:pt x="179" y="168"/>
                </a:lnTo>
                <a:lnTo>
                  <a:pt x="179" y="186"/>
                </a:lnTo>
                <a:lnTo>
                  <a:pt x="184" y="198"/>
                </a:lnTo>
                <a:lnTo>
                  <a:pt x="179" y="206"/>
                </a:lnTo>
                <a:lnTo>
                  <a:pt x="179" y="203"/>
                </a:lnTo>
                <a:lnTo>
                  <a:pt x="154" y="203"/>
                </a:lnTo>
                <a:lnTo>
                  <a:pt x="119" y="165"/>
                </a:lnTo>
                <a:lnTo>
                  <a:pt x="117" y="140"/>
                </a:lnTo>
                <a:lnTo>
                  <a:pt x="109" y="140"/>
                </a:lnTo>
                <a:lnTo>
                  <a:pt x="104" y="153"/>
                </a:lnTo>
                <a:lnTo>
                  <a:pt x="83" y="152"/>
                </a:lnTo>
                <a:lnTo>
                  <a:pt x="81" y="134"/>
                </a:lnTo>
                <a:lnTo>
                  <a:pt x="83" y="119"/>
                </a:lnTo>
                <a:lnTo>
                  <a:pt x="75" y="107"/>
                </a:lnTo>
                <a:lnTo>
                  <a:pt x="56" y="109"/>
                </a:lnTo>
                <a:lnTo>
                  <a:pt x="41" y="89"/>
                </a:lnTo>
                <a:lnTo>
                  <a:pt x="28" y="76"/>
                </a:lnTo>
                <a:lnTo>
                  <a:pt x="37" y="51"/>
                </a:lnTo>
                <a:lnTo>
                  <a:pt x="25" y="44"/>
                </a:lnTo>
                <a:lnTo>
                  <a:pt x="5" y="56"/>
                </a:lnTo>
                <a:lnTo>
                  <a:pt x="0" y="38"/>
                </a:lnTo>
                <a:lnTo>
                  <a:pt x="2" y="21"/>
                </a:lnTo>
                <a:lnTo>
                  <a:pt x="3" y="6"/>
                </a:lnTo>
                <a:lnTo>
                  <a:pt x="28" y="0"/>
                </a:lnTo>
                <a:lnTo>
                  <a:pt x="41"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3890880" y="3274920"/>
            <a:ext cx="828360" cy="698400"/>
            <a:chOff x="3890880" y="3274920"/>
            <a:chExt cx="828360" cy="698400"/>
          </a:xfrm>
        </p:grpSpPr>
        <p:sp>
          <p:nvSpPr>
            <p:cNvPr id="283" name=""/>
            <p:cNvSpPr/>
            <p:nvPr/>
          </p:nvSpPr>
          <p:spPr>
            <a:xfrm>
              <a:off x="3890880" y="3318480"/>
              <a:ext cx="828360" cy="654840"/>
            </a:xfrm>
            <a:custGeom>
              <a:avLst/>
              <a:gdLst/>
              <a:ahLst/>
              <a:rect l="l" t="t" r="r" b="b"/>
              <a:pathLst>
                <a:path w="297" h="255">
                  <a:moveTo>
                    <a:pt x="174" y="254"/>
                  </a:moveTo>
                  <a:lnTo>
                    <a:pt x="179" y="251"/>
                  </a:lnTo>
                  <a:lnTo>
                    <a:pt x="176" y="224"/>
                  </a:lnTo>
                  <a:lnTo>
                    <a:pt x="199" y="201"/>
                  </a:lnTo>
                  <a:lnTo>
                    <a:pt x="185" y="173"/>
                  </a:lnTo>
                  <a:lnTo>
                    <a:pt x="194" y="158"/>
                  </a:lnTo>
                  <a:lnTo>
                    <a:pt x="228" y="163"/>
                  </a:lnTo>
                  <a:lnTo>
                    <a:pt x="233" y="155"/>
                  </a:lnTo>
                  <a:lnTo>
                    <a:pt x="250" y="152"/>
                  </a:lnTo>
                  <a:lnTo>
                    <a:pt x="253" y="143"/>
                  </a:lnTo>
                  <a:lnTo>
                    <a:pt x="247" y="137"/>
                  </a:lnTo>
                  <a:lnTo>
                    <a:pt x="258" y="129"/>
                  </a:lnTo>
                  <a:lnTo>
                    <a:pt x="273" y="117"/>
                  </a:lnTo>
                  <a:lnTo>
                    <a:pt x="273" y="102"/>
                  </a:lnTo>
                  <a:lnTo>
                    <a:pt x="260" y="102"/>
                  </a:lnTo>
                  <a:lnTo>
                    <a:pt x="261" y="82"/>
                  </a:lnTo>
                  <a:lnTo>
                    <a:pt x="275" y="82"/>
                  </a:lnTo>
                  <a:lnTo>
                    <a:pt x="293" y="49"/>
                  </a:lnTo>
                  <a:lnTo>
                    <a:pt x="296" y="31"/>
                  </a:lnTo>
                  <a:lnTo>
                    <a:pt x="291" y="33"/>
                  </a:lnTo>
                  <a:lnTo>
                    <a:pt x="275" y="3"/>
                  </a:lnTo>
                  <a:lnTo>
                    <a:pt x="252" y="8"/>
                  </a:lnTo>
                  <a:lnTo>
                    <a:pt x="233" y="15"/>
                  </a:lnTo>
                  <a:lnTo>
                    <a:pt x="230" y="3"/>
                  </a:lnTo>
                  <a:lnTo>
                    <a:pt x="204" y="0"/>
                  </a:lnTo>
                  <a:lnTo>
                    <a:pt x="187" y="6"/>
                  </a:lnTo>
                  <a:lnTo>
                    <a:pt x="184" y="20"/>
                  </a:lnTo>
                  <a:lnTo>
                    <a:pt x="184" y="31"/>
                  </a:lnTo>
                  <a:lnTo>
                    <a:pt x="187" y="39"/>
                  </a:lnTo>
                  <a:lnTo>
                    <a:pt x="197" y="44"/>
                  </a:lnTo>
                  <a:lnTo>
                    <a:pt x="195" y="56"/>
                  </a:lnTo>
                  <a:lnTo>
                    <a:pt x="185" y="66"/>
                  </a:lnTo>
                  <a:lnTo>
                    <a:pt x="185" y="86"/>
                  </a:lnTo>
                  <a:lnTo>
                    <a:pt x="181" y="94"/>
                  </a:lnTo>
                  <a:lnTo>
                    <a:pt x="169" y="89"/>
                  </a:lnTo>
                  <a:lnTo>
                    <a:pt x="159" y="81"/>
                  </a:lnTo>
                  <a:lnTo>
                    <a:pt x="159" y="71"/>
                  </a:lnTo>
                  <a:lnTo>
                    <a:pt x="164" y="53"/>
                  </a:lnTo>
                  <a:lnTo>
                    <a:pt x="169" y="46"/>
                  </a:lnTo>
                  <a:lnTo>
                    <a:pt x="167" y="33"/>
                  </a:lnTo>
                  <a:lnTo>
                    <a:pt x="164" y="26"/>
                  </a:lnTo>
                  <a:lnTo>
                    <a:pt x="152" y="30"/>
                  </a:lnTo>
                  <a:lnTo>
                    <a:pt x="138" y="31"/>
                  </a:lnTo>
                  <a:lnTo>
                    <a:pt x="126" y="39"/>
                  </a:lnTo>
                  <a:lnTo>
                    <a:pt x="128" y="58"/>
                  </a:lnTo>
                  <a:lnTo>
                    <a:pt x="124" y="76"/>
                  </a:lnTo>
                  <a:lnTo>
                    <a:pt x="106" y="94"/>
                  </a:lnTo>
                  <a:lnTo>
                    <a:pt x="93" y="104"/>
                  </a:lnTo>
                  <a:lnTo>
                    <a:pt x="80" y="110"/>
                  </a:lnTo>
                  <a:lnTo>
                    <a:pt x="75" y="120"/>
                  </a:lnTo>
                  <a:lnTo>
                    <a:pt x="90" y="130"/>
                  </a:lnTo>
                  <a:lnTo>
                    <a:pt x="106" y="135"/>
                  </a:lnTo>
                  <a:lnTo>
                    <a:pt x="90" y="150"/>
                  </a:lnTo>
                  <a:lnTo>
                    <a:pt x="75" y="148"/>
                  </a:lnTo>
                  <a:lnTo>
                    <a:pt x="63" y="148"/>
                  </a:lnTo>
                  <a:lnTo>
                    <a:pt x="67" y="157"/>
                  </a:lnTo>
                  <a:lnTo>
                    <a:pt x="78" y="165"/>
                  </a:lnTo>
                  <a:lnTo>
                    <a:pt x="60" y="162"/>
                  </a:lnTo>
                  <a:lnTo>
                    <a:pt x="34" y="147"/>
                  </a:lnTo>
                  <a:lnTo>
                    <a:pt x="12" y="150"/>
                  </a:lnTo>
                  <a:lnTo>
                    <a:pt x="34" y="167"/>
                  </a:lnTo>
                  <a:lnTo>
                    <a:pt x="48" y="170"/>
                  </a:lnTo>
                  <a:lnTo>
                    <a:pt x="67" y="175"/>
                  </a:lnTo>
                  <a:lnTo>
                    <a:pt x="70" y="186"/>
                  </a:lnTo>
                  <a:lnTo>
                    <a:pt x="47" y="183"/>
                  </a:lnTo>
                  <a:lnTo>
                    <a:pt x="32" y="173"/>
                  </a:lnTo>
                  <a:lnTo>
                    <a:pt x="12" y="175"/>
                  </a:lnTo>
                  <a:lnTo>
                    <a:pt x="0" y="175"/>
                  </a:lnTo>
                  <a:lnTo>
                    <a:pt x="4" y="181"/>
                  </a:lnTo>
                  <a:lnTo>
                    <a:pt x="24" y="186"/>
                  </a:lnTo>
                  <a:lnTo>
                    <a:pt x="38" y="201"/>
                  </a:lnTo>
                  <a:lnTo>
                    <a:pt x="85" y="191"/>
                  </a:lnTo>
                  <a:lnTo>
                    <a:pt x="95" y="181"/>
                  </a:lnTo>
                  <a:lnTo>
                    <a:pt x="119" y="183"/>
                  </a:lnTo>
                  <a:lnTo>
                    <a:pt x="151" y="211"/>
                  </a:lnTo>
                  <a:lnTo>
                    <a:pt x="164" y="221"/>
                  </a:lnTo>
                  <a:lnTo>
                    <a:pt x="159" y="246"/>
                  </a:lnTo>
                  <a:lnTo>
                    <a:pt x="174" y="252"/>
                  </a:lnTo>
                  <a:lnTo>
                    <a:pt x="174" y="254"/>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298040" y="3326040"/>
              <a:ext cx="47160" cy="48600"/>
            </a:xfrm>
            <a:custGeom>
              <a:avLst/>
              <a:gdLst/>
              <a:ahLst/>
              <a:rect l="l" t="t" r="r" b="b"/>
              <a:pathLst>
                <a:path w="17" h="19">
                  <a:moveTo>
                    <a:pt x="12" y="0"/>
                  </a:moveTo>
                  <a:lnTo>
                    <a:pt x="1" y="8"/>
                  </a:lnTo>
                  <a:lnTo>
                    <a:pt x="0" y="17"/>
                  </a:lnTo>
                  <a:lnTo>
                    <a:pt x="12" y="18"/>
                  </a:lnTo>
                  <a:lnTo>
                    <a:pt x="16" y="10"/>
                  </a:lnTo>
                  <a:lnTo>
                    <a:pt x="12" y="0"/>
                  </a:lnTo>
                </a:path>
              </a:pathLst>
            </a:custGeom>
            <a:solidFill>
              <a:srgbClr val="006790"/>
            </a:solidFill>
            <a:ln cap="rnd" w="3240">
              <a:solidFill>
                <a:srgbClr val="004463"/>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85" name=""/>
            <p:cNvSpPr/>
            <p:nvPr/>
          </p:nvSpPr>
          <p:spPr>
            <a:xfrm>
              <a:off x="4329000" y="3297960"/>
              <a:ext cx="47160" cy="42840"/>
            </a:xfrm>
            <a:custGeom>
              <a:avLst/>
              <a:gdLst/>
              <a:ahLst/>
              <a:rect l="l" t="t" r="r" b="b"/>
              <a:pathLst>
                <a:path w="17" h="17">
                  <a:moveTo>
                    <a:pt x="14" y="0"/>
                  </a:moveTo>
                  <a:lnTo>
                    <a:pt x="0" y="9"/>
                  </a:lnTo>
                  <a:lnTo>
                    <a:pt x="7" y="16"/>
                  </a:lnTo>
                  <a:lnTo>
                    <a:pt x="16" y="4"/>
                  </a:lnTo>
                  <a:lnTo>
                    <a:pt x="16" y="3"/>
                  </a:lnTo>
                  <a:lnTo>
                    <a:pt x="16" y="1"/>
                  </a:lnTo>
                  <a:lnTo>
                    <a:pt x="14" y="1"/>
                  </a:lnTo>
                  <a:lnTo>
                    <a:pt x="14" y="0"/>
                  </a:lnTo>
                </a:path>
              </a:pathLst>
            </a:custGeom>
            <a:solidFill>
              <a:srgbClr val="006790"/>
            </a:solidFill>
            <a:ln cap="rnd" w="3240">
              <a:solidFill>
                <a:srgbClr val="004463"/>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4384440" y="3279960"/>
              <a:ext cx="63720" cy="43560"/>
            </a:xfrm>
            <a:custGeom>
              <a:avLst/>
              <a:gdLst/>
              <a:ahLst/>
              <a:rect l="l" t="t" r="r" b="b"/>
              <a:pathLst>
                <a:path w="23" h="17">
                  <a:moveTo>
                    <a:pt x="0" y="4"/>
                  </a:moveTo>
                  <a:lnTo>
                    <a:pt x="18" y="0"/>
                  </a:lnTo>
                  <a:lnTo>
                    <a:pt x="22" y="6"/>
                  </a:lnTo>
                  <a:lnTo>
                    <a:pt x="2" y="16"/>
                  </a:lnTo>
                  <a:lnTo>
                    <a:pt x="2" y="11"/>
                  </a:lnTo>
                  <a:lnTo>
                    <a:pt x="0" y="11"/>
                  </a:lnTo>
                  <a:lnTo>
                    <a:pt x="0" y="6"/>
                  </a:lnTo>
                  <a:lnTo>
                    <a:pt x="0" y="4"/>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87" name=""/>
            <p:cNvSpPr/>
            <p:nvPr/>
          </p:nvSpPr>
          <p:spPr>
            <a:xfrm>
              <a:off x="4460040" y="3274920"/>
              <a:ext cx="52920" cy="43560"/>
            </a:xfrm>
            <a:custGeom>
              <a:avLst/>
              <a:gdLst/>
              <a:ahLst/>
              <a:rect l="l" t="t" r="r" b="b"/>
              <a:pathLst>
                <a:path w="19" h="17">
                  <a:moveTo>
                    <a:pt x="0" y="0"/>
                  </a:moveTo>
                  <a:lnTo>
                    <a:pt x="3" y="16"/>
                  </a:lnTo>
                  <a:lnTo>
                    <a:pt x="18" y="16"/>
                  </a:lnTo>
                  <a:lnTo>
                    <a:pt x="10"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88" name=""/>
            <p:cNvSpPr/>
            <p:nvPr/>
          </p:nvSpPr>
          <p:spPr>
            <a:xfrm>
              <a:off x="4552200" y="3284640"/>
              <a:ext cx="47160" cy="43560"/>
            </a:xfrm>
            <a:custGeom>
              <a:avLst/>
              <a:gdLst/>
              <a:ahLst/>
              <a:rect l="l" t="t" r="r" b="b"/>
              <a:pathLst>
                <a:path w="17" h="17">
                  <a:moveTo>
                    <a:pt x="0" y="0"/>
                  </a:moveTo>
                  <a:lnTo>
                    <a:pt x="4" y="16"/>
                  </a:lnTo>
                  <a:lnTo>
                    <a:pt x="16" y="16"/>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89" name=""/>
            <p:cNvSpPr/>
            <p:nvPr/>
          </p:nvSpPr>
          <p:spPr>
            <a:xfrm>
              <a:off x="4080600" y="3639600"/>
              <a:ext cx="72720" cy="43560"/>
            </a:xfrm>
            <a:custGeom>
              <a:avLst/>
              <a:gdLst/>
              <a:ahLst/>
              <a:rect l="l" t="t" r="r" b="b"/>
              <a:pathLst>
                <a:path w="26" h="17">
                  <a:moveTo>
                    <a:pt x="23" y="16"/>
                  </a:moveTo>
                  <a:lnTo>
                    <a:pt x="25" y="12"/>
                  </a:lnTo>
                  <a:lnTo>
                    <a:pt x="8" y="0"/>
                  </a:lnTo>
                  <a:lnTo>
                    <a:pt x="0" y="5"/>
                  </a:lnTo>
                  <a:lnTo>
                    <a:pt x="0" y="7"/>
                  </a:lnTo>
                  <a:lnTo>
                    <a:pt x="2" y="7"/>
                  </a:lnTo>
                  <a:lnTo>
                    <a:pt x="3" y="7"/>
                  </a:lnTo>
                  <a:lnTo>
                    <a:pt x="3" y="9"/>
                  </a:lnTo>
                  <a:lnTo>
                    <a:pt x="5" y="9"/>
                  </a:lnTo>
                  <a:lnTo>
                    <a:pt x="7" y="9"/>
                  </a:lnTo>
                  <a:lnTo>
                    <a:pt x="8" y="10"/>
                  </a:lnTo>
                  <a:lnTo>
                    <a:pt x="10" y="10"/>
                  </a:lnTo>
                  <a:lnTo>
                    <a:pt x="12" y="12"/>
                  </a:lnTo>
                  <a:lnTo>
                    <a:pt x="13" y="12"/>
                  </a:lnTo>
                  <a:lnTo>
                    <a:pt x="15" y="12"/>
                  </a:lnTo>
                  <a:lnTo>
                    <a:pt x="17" y="14"/>
                  </a:lnTo>
                  <a:lnTo>
                    <a:pt x="18" y="14"/>
                  </a:lnTo>
                  <a:lnTo>
                    <a:pt x="20" y="16"/>
                  </a:lnTo>
                  <a:lnTo>
                    <a:pt x="22" y="16"/>
                  </a:lnTo>
                  <a:lnTo>
                    <a:pt x="23" y="16"/>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0" name=""/>
            <p:cNvSpPr/>
            <p:nvPr/>
          </p:nvSpPr>
          <p:spPr>
            <a:xfrm>
              <a:off x="4052520" y="3662640"/>
              <a:ext cx="66960" cy="43560"/>
            </a:xfrm>
            <a:custGeom>
              <a:avLst/>
              <a:gdLst/>
              <a:ahLst/>
              <a:rect l="l" t="t" r="r" b="b"/>
              <a:pathLst>
                <a:path w="24" h="17">
                  <a:moveTo>
                    <a:pt x="23" y="16"/>
                  </a:moveTo>
                  <a:lnTo>
                    <a:pt x="5" y="0"/>
                  </a:lnTo>
                  <a:lnTo>
                    <a:pt x="0" y="8"/>
                  </a:lnTo>
                  <a:lnTo>
                    <a:pt x="15" y="16"/>
                  </a:lnTo>
                  <a:lnTo>
                    <a:pt x="17" y="16"/>
                  </a:lnTo>
                  <a:lnTo>
                    <a:pt x="18" y="16"/>
                  </a:lnTo>
                  <a:lnTo>
                    <a:pt x="20" y="16"/>
                  </a:lnTo>
                  <a:lnTo>
                    <a:pt x="22" y="16"/>
                  </a:lnTo>
                  <a:lnTo>
                    <a:pt x="23" y="16"/>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1" name=""/>
            <p:cNvSpPr/>
            <p:nvPr/>
          </p:nvSpPr>
          <p:spPr>
            <a:xfrm>
              <a:off x="4022280" y="3670200"/>
              <a:ext cx="47160" cy="43560"/>
            </a:xfrm>
            <a:custGeom>
              <a:avLst/>
              <a:gdLst/>
              <a:ahLst/>
              <a:rect l="l" t="t" r="r" b="b"/>
              <a:pathLst>
                <a:path w="17" h="17">
                  <a:moveTo>
                    <a:pt x="6" y="0"/>
                  </a:moveTo>
                  <a:lnTo>
                    <a:pt x="16" y="9"/>
                  </a:lnTo>
                  <a:lnTo>
                    <a:pt x="11" y="16"/>
                  </a:lnTo>
                  <a:lnTo>
                    <a:pt x="0" y="8"/>
                  </a:lnTo>
                  <a:lnTo>
                    <a:pt x="6"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grpSp>
        <p:nvGrpSpPr>
          <p:cNvPr id="292" name=""/>
          <p:cNvGrpSpPr/>
          <p:nvPr/>
        </p:nvGrpSpPr>
        <p:grpSpPr>
          <a:xfrm>
            <a:off x="4348080" y="2965320"/>
            <a:ext cx="1731600" cy="2074680"/>
            <a:chOff x="4348080" y="2965320"/>
            <a:chExt cx="1731600" cy="2074680"/>
          </a:xfrm>
        </p:grpSpPr>
        <p:sp>
          <p:nvSpPr>
            <p:cNvPr id="293" name=""/>
            <p:cNvSpPr/>
            <p:nvPr/>
          </p:nvSpPr>
          <p:spPr>
            <a:xfrm>
              <a:off x="4716360" y="3236760"/>
              <a:ext cx="47160" cy="43560"/>
            </a:xfrm>
            <a:custGeom>
              <a:avLst/>
              <a:gdLst/>
              <a:ahLst/>
              <a:rect l="l" t="t" r="r" b="b"/>
              <a:pathLst>
                <a:path w="17" h="17">
                  <a:moveTo>
                    <a:pt x="0" y="2"/>
                  </a:moveTo>
                  <a:lnTo>
                    <a:pt x="0" y="16"/>
                  </a:lnTo>
                  <a:lnTo>
                    <a:pt x="16" y="16"/>
                  </a:lnTo>
                  <a:lnTo>
                    <a:pt x="16" y="2"/>
                  </a:lnTo>
                  <a:lnTo>
                    <a:pt x="4" y="0"/>
                  </a:lnTo>
                  <a:lnTo>
                    <a:pt x="0" y="2"/>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4" name=""/>
            <p:cNvSpPr/>
            <p:nvPr/>
          </p:nvSpPr>
          <p:spPr>
            <a:xfrm>
              <a:off x="4772160" y="3236760"/>
              <a:ext cx="47160" cy="43560"/>
            </a:xfrm>
            <a:custGeom>
              <a:avLst/>
              <a:gdLst/>
              <a:ahLst/>
              <a:rect l="l" t="t" r="r" b="b"/>
              <a:pathLst>
                <a:path w="17" h="17">
                  <a:moveTo>
                    <a:pt x="0" y="0"/>
                  </a:moveTo>
                  <a:lnTo>
                    <a:pt x="0" y="16"/>
                  </a:lnTo>
                  <a:lnTo>
                    <a:pt x="16" y="16"/>
                  </a:lnTo>
                  <a:lnTo>
                    <a:pt x="16"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5" name=""/>
            <p:cNvSpPr/>
            <p:nvPr/>
          </p:nvSpPr>
          <p:spPr>
            <a:xfrm>
              <a:off x="4348080" y="2965320"/>
              <a:ext cx="1731600" cy="2074680"/>
            </a:xfrm>
            <a:custGeom>
              <a:avLst/>
              <a:gdLst/>
              <a:ahLst/>
              <a:rect l="l" t="t" r="r" b="b"/>
              <a:pathLst>
                <a:path w="620" h="809">
                  <a:moveTo>
                    <a:pt x="581" y="165"/>
                  </a:moveTo>
                  <a:lnTo>
                    <a:pt x="583" y="180"/>
                  </a:lnTo>
                  <a:lnTo>
                    <a:pt x="590" y="198"/>
                  </a:lnTo>
                  <a:lnTo>
                    <a:pt x="585" y="213"/>
                  </a:lnTo>
                  <a:lnTo>
                    <a:pt x="588" y="231"/>
                  </a:lnTo>
                  <a:lnTo>
                    <a:pt x="570" y="249"/>
                  </a:lnTo>
                  <a:lnTo>
                    <a:pt x="586" y="256"/>
                  </a:lnTo>
                  <a:lnTo>
                    <a:pt x="601" y="273"/>
                  </a:lnTo>
                  <a:lnTo>
                    <a:pt x="598" y="296"/>
                  </a:lnTo>
                  <a:lnTo>
                    <a:pt x="608" y="332"/>
                  </a:lnTo>
                  <a:lnTo>
                    <a:pt x="601" y="355"/>
                  </a:lnTo>
                  <a:lnTo>
                    <a:pt x="608" y="377"/>
                  </a:lnTo>
                  <a:lnTo>
                    <a:pt x="614" y="401"/>
                  </a:lnTo>
                  <a:lnTo>
                    <a:pt x="619" y="423"/>
                  </a:lnTo>
                  <a:lnTo>
                    <a:pt x="613" y="438"/>
                  </a:lnTo>
                  <a:lnTo>
                    <a:pt x="600" y="454"/>
                  </a:lnTo>
                  <a:lnTo>
                    <a:pt x="591" y="458"/>
                  </a:lnTo>
                  <a:lnTo>
                    <a:pt x="583" y="443"/>
                  </a:lnTo>
                  <a:lnTo>
                    <a:pt x="571" y="443"/>
                  </a:lnTo>
                  <a:lnTo>
                    <a:pt x="568" y="451"/>
                  </a:lnTo>
                  <a:lnTo>
                    <a:pt x="542" y="451"/>
                  </a:lnTo>
                  <a:lnTo>
                    <a:pt x="522" y="464"/>
                  </a:lnTo>
                  <a:lnTo>
                    <a:pt x="482" y="482"/>
                  </a:lnTo>
                  <a:lnTo>
                    <a:pt x="444" y="499"/>
                  </a:lnTo>
                  <a:lnTo>
                    <a:pt x="415" y="505"/>
                  </a:lnTo>
                  <a:lnTo>
                    <a:pt x="429" y="532"/>
                  </a:lnTo>
                  <a:lnTo>
                    <a:pt x="434" y="557"/>
                  </a:lnTo>
                  <a:lnTo>
                    <a:pt x="446" y="580"/>
                  </a:lnTo>
                  <a:lnTo>
                    <a:pt x="476" y="605"/>
                  </a:lnTo>
                  <a:lnTo>
                    <a:pt x="486" y="629"/>
                  </a:lnTo>
                  <a:lnTo>
                    <a:pt x="500" y="649"/>
                  </a:lnTo>
                  <a:lnTo>
                    <a:pt x="512" y="659"/>
                  </a:lnTo>
                  <a:lnTo>
                    <a:pt x="514" y="684"/>
                  </a:lnTo>
                  <a:lnTo>
                    <a:pt x="512" y="702"/>
                  </a:lnTo>
                  <a:lnTo>
                    <a:pt x="499" y="709"/>
                  </a:lnTo>
                  <a:lnTo>
                    <a:pt x="489" y="712"/>
                  </a:lnTo>
                  <a:lnTo>
                    <a:pt x="477" y="728"/>
                  </a:lnTo>
                  <a:lnTo>
                    <a:pt x="451" y="730"/>
                  </a:lnTo>
                  <a:lnTo>
                    <a:pt x="433" y="730"/>
                  </a:lnTo>
                  <a:lnTo>
                    <a:pt x="434" y="745"/>
                  </a:lnTo>
                  <a:lnTo>
                    <a:pt x="446" y="778"/>
                  </a:lnTo>
                  <a:lnTo>
                    <a:pt x="453" y="796"/>
                  </a:lnTo>
                  <a:lnTo>
                    <a:pt x="439" y="808"/>
                  </a:lnTo>
                  <a:lnTo>
                    <a:pt x="423" y="790"/>
                  </a:lnTo>
                  <a:lnTo>
                    <a:pt x="400" y="781"/>
                  </a:lnTo>
                  <a:lnTo>
                    <a:pt x="390" y="781"/>
                  </a:lnTo>
                  <a:lnTo>
                    <a:pt x="382" y="793"/>
                  </a:lnTo>
                  <a:lnTo>
                    <a:pt x="350" y="796"/>
                  </a:lnTo>
                  <a:lnTo>
                    <a:pt x="332" y="794"/>
                  </a:lnTo>
                  <a:lnTo>
                    <a:pt x="320" y="799"/>
                  </a:lnTo>
                  <a:lnTo>
                    <a:pt x="292" y="798"/>
                  </a:lnTo>
                  <a:lnTo>
                    <a:pt x="286" y="785"/>
                  </a:lnTo>
                  <a:lnTo>
                    <a:pt x="261" y="785"/>
                  </a:lnTo>
                  <a:lnTo>
                    <a:pt x="269" y="799"/>
                  </a:lnTo>
                  <a:lnTo>
                    <a:pt x="256" y="806"/>
                  </a:lnTo>
                  <a:lnTo>
                    <a:pt x="246" y="798"/>
                  </a:lnTo>
                  <a:lnTo>
                    <a:pt x="233" y="791"/>
                  </a:lnTo>
                  <a:lnTo>
                    <a:pt x="230" y="783"/>
                  </a:lnTo>
                  <a:lnTo>
                    <a:pt x="205" y="783"/>
                  </a:lnTo>
                  <a:lnTo>
                    <a:pt x="195" y="778"/>
                  </a:lnTo>
                  <a:lnTo>
                    <a:pt x="172" y="758"/>
                  </a:lnTo>
                  <a:lnTo>
                    <a:pt x="154" y="748"/>
                  </a:lnTo>
                  <a:lnTo>
                    <a:pt x="132" y="745"/>
                  </a:lnTo>
                  <a:lnTo>
                    <a:pt x="132" y="756"/>
                  </a:lnTo>
                  <a:lnTo>
                    <a:pt x="116" y="758"/>
                  </a:lnTo>
                  <a:lnTo>
                    <a:pt x="107" y="750"/>
                  </a:lnTo>
                  <a:lnTo>
                    <a:pt x="97" y="756"/>
                  </a:lnTo>
                  <a:lnTo>
                    <a:pt x="76" y="752"/>
                  </a:lnTo>
                  <a:lnTo>
                    <a:pt x="74" y="740"/>
                  </a:lnTo>
                  <a:lnTo>
                    <a:pt x="74" y="722"/>
                  </a:lnTo>
                  <a:lnTo>
                    <a:pt x="86" y="704"/>
                  </a:lnTo>
                  <a:lnTo>
                    <a:pt x="94" y="677"/>
                  </a:lnTo>
                  <a:lnTo>
                    <a:pt x="102" y="652"/>
                  </a:lnTo>
                  <a:lnTo>
                    <a:pt x="129" y="633"/>
                  </a:lnTo>
                  <a:lnTo>
                    <a:pt x="135" y="614"/>
                  </a:lnTo>
                  <a:lnTo>
                    <a:pt x="124" y="600"/>
                  </a:lnTo>
                  <a:lnTo>
                    <a:pt x="97" y="595"/>
                  </a:lnTo>
                  <a:lnTo>
                    <a:pt x="73" y="580"/>
                  </a:lnTo>
                  <a:lnTo>
                    <a:pt x="56" y="568"/>
                  </a:lnTo>
                  <a:lnTo>
                    <a:pt x="33" y="567"/>
                  </a:lnTo>
                  <a:lnTo>
                    <a:pt x="25" y="547"/>
                  </a:lnTo>
                  <a:lnTo>
                    <a:pt x="15" y="537"/>
                  </a:lnTo>
                  <a:lnTo>
                    <a:pt x="13" y="537"/>
                  </a:lnTo>
                  <a:lnTo>
                    <a:pt x="17" y="529"/>
                  </a:lnTo>
                  <a:lnTo>
                    <a:pt x="25" y="515"/>
                  </a:lnTo>
                  <a:lnTo>
                    <a:pt x="20" y="504"/>
                  </a:lnTo>
                  <a:lnTo>
                    <a:pt x="10" y="494"/>
                  </a:lnTo>
                  <a:lnTo>
                    <a:pt x="12" y="482"/>
                  </a:lnTo>
                  <a:lnTo>
                    <a:pt x="3" y="474"/>
                  </a:lnTo>
                  <a:lnTo>
                    <a:pt x="0" y="466"/>
                  </a:lnTo>
                  <a:lnTo>
                    <a:pt x="8" y="464"/>
                  </a:lnTo>
                  <a:lnTo>
                    <a:pt x="21" y="434"/>
                  </a:lnTo>
                  <a:lnTo>
                    <a:pt x="12" y="408"/>
                  </a:lnTo>
                  <a:lnTo>
                    <a:pt x="10" y="393"/>
                  </a:lnTo>
                  <a:lnTo>
                    <a:pt x="15" y="390"/>
                  </a:lnTo>
                  <a:lnTo>
                    <a:pt x="12" y="363"/>
                  </a:lnTo>
                  <a:lnTo>
                    <a:pt x="35" y="340"/>
                  </a:lnTo>
                  <a:lnTo>
                    <a:pt x="21" y="312"/>
                  </a:lnTo>
                  <a:lnTo>
                    <a:pt x="30" y="297"/>
                  </a:lnTo>
                  <a:lnTo>
                    <a:pt x="64" y="302"/>
                  </a:lnTo>
                  <a:lnTo>
                    <a:pt x="69" y="294"/>
                  </a:lnTo>
                  <a:lnTo>
                    <a:pt x="86" y="291"/>
                  </a:lnTo>
                  <a:lnTo>
                    <a:pt x="89" y="282"/>
                  </a:lnTo>
                  <a:lnTo>
                    <a:pt x="83" y="276"/>
                  </a:lnTo>
                  <a:lnTo>
                    <a:pt x="94" y="268"/>
                  </a:lnTo>
                  <a:lnTo>
                    <a:pt x="109" y="256"/>
                  </a:lnTo>
                  <a:lnTo>
                    <a:pt x="109" y="241"/>
                  </a:lnTo>
                  <a:lnTo>
                    <a:pt x="96" y="241"/>
                  </a:lnTo>
                  <a:lnTo>
                    <a:pt x="97" y="221"/>
                  </a:lnTo>
                  <a:lnTo>
                    <a:pt x="111" y="221"/>
                  </a:lnTo>
                  <a:lnTo>
                    <a:pt x="129" y="188"/>
                  </a:lnTo>
                  <a:lnTo>
                    <a:pt x="132" y="170"/>
                  </a:lnTo>
                  <a:lnTo>
                    <a:pt x="140" y="167"/>
                  </a:lnTo>
                  <a:lnTo>
                    <a:pt x="130" y="145"/>
                  </a:lnTo>
                  <a:lnTo>
                    <a:pt x="135" y="139"/>
                  </a:lnTo>
                  <a:lnTo>
                    <a:pt x="137" y="126"/>
                  </a:lnTo>
                  <a:lnTo>
                    <a:pt x="159" y="122"/>
                  </a:lnTo>
                  <a:lnTo>
                    <a:pt x="187" y="122"/>
                  </a:lnTo>
                  <a:lnTo>
                    <a:pt x="200" y="129"/>
                  </a:lnTo>
                  <a:lnTo>
                    <a:pt x="195" y="150"/>
                  </a:lnTo>
                  <a:lnTo>
                    <a:pt x="211" y="165"/>
                  </a:lnTo>
                  <a:lnTo>
                    <a:pt x="208" y="147"/>
                  </a:lnTo>
                  <a:lnTo>
                    <a:pt x="216" y="137"/>
                  </a:lnTo>
                  <a:lnTo>
                    <a:pt x="226" y="149"/>
                  </a:lnTo>
                  <a:lnTo>
                    <a:pt x="226" y="129"/>
                  </a:lnTo>
                  <a:lnTo>
                    <a:pt x="226" y="117"/>
                  </a:lnTo>
                  <a:lnTo>
                    <a:pt x="241" y="111"/>
                  </a:lnTo>
                  <a:lnTo>
                    <a:pt x="258" y="117"/>
                  </a:lnTo>
                  <a:lnTo>
                    <a:pt x="276" y="129"/>
                  </a:lnTo>
                  <a:lnTo>
                    <a:pt x="291" y="142"/>
                  </a:lnTo>
                  <a:lnTo>
                    <a:pt x="294" y="134"/>
                  </a:lnTo>
                  <a:lnTo>
                    <a:pt x="259" y="107"/>
                  </a:lnTo>
                  <a:lnTo>
                    <a:pt x="258" y="89"/>
                  </a:lnTo>
                  <a:lnTo>
                    <a:pt x="263" y="73"/>
                  </a:lnTo>
                  <a:lnTo>
                    <a:pt x="241" y="71"/>
                  </a:lnTo>
                  <a:lnTo>
                    <a:pt x="243" y="61"/>
                  </a:lnTo>
                  <a:lnTo>
                    <a:pt x="259" y="58"/>
                  </a:lnTo>
                  <a:lnTo>
                    <a:pt x="266" y="43"/>
                  </a:lnTo>
                  <a:lnTo>
                    <a:pt x="253" y="22"/>
                  </a:lnTo>
                  <a:lnTo>
                    <a:pt x="256" y="0"/>
                  </a:lnTo>
                  <a:lnTo>
                    <a:pt x="269" y="0"/>
                  </a:lnTo>
                  <a:lnTo>
                    <a:pt x="286" y="13"/>
                  </a:lnTo>
                  <a:lnTo>
                    <a:pt x="302" y="20"/>
                  </a:lnTo>
                  <a:lnTo>
                    <a:pt x="319" y="17"/>
                  </a:lnTo>
                  <a:lnTo>
                    <a:pt x="324" y="18"/>
                  </a:lnTo>
                  <a:lnTo>
                    <a:pt x="329" y="30"/>
                  </a:lnTo>
                  <a:lnTo>
                    <a:pt x="332" y="46"/>
                  </a:lnTo>
                  <a:lnTo>
                    <a:pt x="320" y="58"/>
                  </a:lnTo>
                  <a:lnTo>
                    <a:pt x="334" y="59"/>
                  </a:lnTo>
                  <a:lnTo>
                    <a:pt x="337" y="68"/>
                  </a:lnTo>
                  <a:lnTo>
                    <a:pt x="332" y="83"/>
                  </a:lnTo>
                  <a:lnTo>
                    <a:pt x="342" y="74"/>
                  </a:lnTo>
                  <a:lnTo>
                    <a:pt x="362" y="73"/>
                  </a:lnTo>
                  <a:lnTo>
                    <a:pt x="370" y="89"/>
                  </a:lnTo>
                  <a:lnTo>
                    <a:pt x="383" y="69"/>
                  </a:lnTo>
                  <a:lnTo>
                    <a:pt x="401" y="79"/>
                  </a:lnTo>
                  <a:lnTo>
                    <a:pt x="396" y="94"/>
                  </a:lnTo>
                  <a:lnTo>
                    <a:pt x="378" y="97"/>
                  </a:lnTo>
                  <a:lnTo>
                    <a:pt x="368" y="107"/>
                  </a:lnTo>
                  <a:lnTo>
                    <a:pt x="372" y="122"/>
                  </a:lnTo>
                  <a:lnTo>
                    <a:pt x="391" y="116"/>
                  </a:lnTo>
                  <a:lnTo>
                    <a:pt x="401" y="116"/>
                  </a:lnTo>
                  <a:lnTo>
                    <a:pt x="413" y="117"/>
                  </a:lnTo>
                  <a:lnTo>
                    <a:pt x="423" y="116"/>
                  </a:lnTo>
                  <a:lnTo>
                    <a:pt x="428" y="106"/>
                  </a:lnTo>
                  <a:lnTo>
                    <a:pt x="439" y="111"/>
                  </a:lnTo>
                  <a:lnTo>
                    <a:pt x="461" y="104"/>
                  </a:lnTo>
                  <a:lnTo>
                    <a:pt x="477" y="78"/>
                  </a:lnTo>
                  <a:lnTo>
                    <a:pt x="502" y="79"/>
                  </a:lnTo>
                  <a:lnTo>
                    <a:pt x="499" y="84"/>
                  </a:lnTo>
                  <a:lnTo>
                    <a:pt x="484" y="86"/>
                  </a:lnTo>
                  <a:lnTo>
                    <a:pt x="471" y="96"/>
                  </a:lnTo>
                  <a:lnTo>
                    <a:pt x="477" y="99"/>
                  </a:lnTo>
                  <a:lnTo>
                    <a:pt x="486" y="101"/>
                  </a:lnTo>
                  <a:lnTo>
                    <a:pt x="500" y="97"/>
                  </a:lnTo>
                  <a:lnTo>
                    <a:pt x="514" y="96"/>
                  </a:lnTo>
                  <a:lnTo>
                    <a:pt x="527" y="106"/>
                  </a:lnTo>
                  <a:lnTo>
                    <a:pt x="542" y="116"/>
                  </a:lnTo>
                  <a:lnTo>
                    <a:pt x="553" y="117"/>
                  </a:lnTo>
                  <a:lnTo>
                    <a:pt x="557" y="135"/>
                  </a:lnTo>
                  <a:lnTo>
                    <a:pt x="555" y="152"/>
                  </a:lnTo>
                  <a:lnTo>
                    <a:pt x="570" y="160"/>
                  </a:lnTo>
                  <a:lnTo>
                    <a:pt x="581" y="165"/>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5811120" y="3108960"/>
              <a:ext cx="122760" cy="133200"/>
            </a:xfrm>
            <a:custGeom>
              <a:avLst/>
              <a:gdLst/>
              <a:ahLst/>
              <a:rect l="l" t="t" r="r" b="b"/>
              <a:pathLst>
                <a:path w="44" h="52">
                  <a:moveTo>
                    <a:pt x="9" y="18"/>
                  </a:moveTo>
                  <a:lnTo>
                    <a:pt x="0" y="22"/>
                  </a:lnTo>
                  <a:lnTo>
                    <a:pt x="8" y="35"/>
                  </a:lnTo>
                  <a:lnTo>
                    <a:pt x="0" y="41"/>
                  </a:lnTo>
                  <a:lnTo>
                    <a:pt x="13" y="51"/>
                  </a:lnTo>
                  <a:lnTo>
                    <a:pt x="28" y="43"/>
                  </a:lnTo>
                  <a:lnTo>
                    <a:pt x="34" y="48"/>
                  </a:lnTo>
                  <a:lnTo>
                    <a:pt x="43" y="43"/>
                  </a:lnTo>
                  <a:lnTo>
                    <a:pt x="36" y="33"/>
                  </a:lnTo>
                  <a:lnTo>
                    <a:pt x="39" y="28"/>
                  </a:lnTo>
                  <a:lnTo>
                    <a:pt x="43" y="18"/>
                  </a:lnTo>
                  <a:lnTo>
                    <a:pt x="34" y="17"/>
                  </a:lnTo>
                  <a:lnTo>
                    <a:pt x="26" y="18"/>
                  </a:lnTo>
                  <a:lnTo>
                    <a:pt x="21" y="13"/>
                  </a:lnTo>
                  <a:lnTo>
                    <a:pt x="24" y="0"/>
                  </a:lnTo>
                  <a:lnTo>
                    <a:pt x="9" y="0"/>
                  </a:lnTo>
                  <a:lnTo>
                    <a:pt x="3" y="8"/>
                  </a:lnTo>
                  <a:lnTo>
                    <a:pt x="13" y="13"/>
                  </a:lnTo>
                  <a:lnTo>
                    <a:pt x="21" y="18"/>
                  </a:lnTo>
                  <a:lnTo>
                    <a:pt x="28" y="30"/>
                  </a:lnTo>
                  <a:lnTo>
                    <a:pt x="24" y="35"/>
                  </a:lnTo>
                  <a:lnTo>
                    <a:pt x="9" y="18"/>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906160" y="3252600"/>
              <a:ext cx="106200" cy="122400"/>
            </a:xfrm>
            <a:custGeom>
              <a:avLst/>
              <a:gdLst/>
              <a:ahLst/>
              <a:rect l="l" t="t" r="r" b="b"/>
              <a:pathLst>
                <a:path w="38" h="48">
                  <a:moveTo>
                    <a:pt x="7" y="0"/>
                  </a:moveTo>
                  <a:lnTo>
                    <a:pt x="0" y="4"/>
                  </a:lnTo>
                  <a:lnTo>
                    <a:pt x="5" y="12"/>
                  </a:lnTo>
                  <a:lnTo>
                    <a:pt x="18" y="20"/>
                  </a:lnTo>
                  <a:lnTo>
                    <a:pt x="4" y="20"/>
                  </a:lnTo>
                  <a:lnTo>
                    <a:pt x="4" y="35"/>
                  </a:lnTo>
                  <a:lnTo>
                    <a:pt x="22" y="38"/>
                  </a:lnTo>
                  <a:lnTo>
                    <a:pt x="28" y="47"/>
                  </a:lnTo>
                  <a:lnTo>
                    <a:pt x="37" y="42"/>
                  </a:lnTo>
                  <a:lnTo>
                    <a:pt x="33" y="30"/>
                  </a:lnTo>
                  <a:lnTo>
                    <a:pt x="27" y="23"/>
                  </a:lnTo>
                  <a:lnTo>
                    <a:pt x="27" y="17"/>
                  </a:lnTo>
                  <a:lnTo>
                    <a:pt x="7" y="0"/>
                  </a:lnTo>
                </a:path>
              </a:pathLst>
            </a:custGeom>
            <a:solidFill>
              <a:srgbClr val="006790"/>
            </a:solidFill>
            <a:ln cap="rnd" w="3240">
              <a:solidFill>
                <a:srgbClr val="00446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651920" y="3262320"/>
              <a:ext cx="47160" cy="43560"/>
            </a:xfrm>
            <a:custGeom>
              <a:avLst/>
              <a:gdLst/>
              <a:ahLst/>
              <a:rect l="l" t="t" r="r" b="b"/>
              <a:pathLst>
                <a:path w="17" h="17">
                  <a:moveTo>
                    <a:pt x="4" y="0"/>
                  </a:moveTo>
                  <a:lnTo>
                    <a:pt x="0" y="16"/>
                  </a:lnTo>
                  <a:lnTo>
                    <a:pt x="16" y="3"/>
                  </a:lnTo>
                  <a:lnTo>
                    <a:pt x="4"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9" name=""/>
            <p:cNvSpPr/>
            <p:nvPr/>
          </p:nvSpPr>
          <p:spPr>
            <a:xfrm>
              <a:off x="4716360" y="3236760"/>
              <a:ext cx="47160" cy="43560"/>
            </a:xfrm>
            <a:custGeom>
              <a:avLst/>
              <a:gdLst/>
              <a:ahLst/>
              <a:rect l="l" t="t" r="r" b="b"/>
              <a:pathLst>
                <a:path w="17" h="17">
                  <a:moveTo>
                    <a:pt x="0" y="2"/>
                  </a:moveTo>
                  <a:lnTo>
                    <a:pt x="0" y="16"/>
                  </a:lnTo>
                  <a:lnTo>
                    <a:pt x="16" y="16"/>
                  </a:lnTo>
                  <a:lnTo>
                    <a:pt x="16" y="2"/>
                  </a:lnTo>
                  <a:lnTo>
                    <a:pt x="4" y="0"/>
                  </a:lnTo>
                  <a:lnTo>
                    <a:pt x="0" y="2"/>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00" name=""/>
            <p:cNvSpPr/>
            <p:nvPr/>
          </p:nvSpPr>
          <p:spPr>
            <a:xfrm>
              <a:off x="4772160" y="3236760"/>
              <a:ext cx="47160" cy="43560"/>
            </a:xfrm>
            <a:custGeom>
              <a:avLst/>
              <a:gdLst/>
              <a:ahLst/>
              <a:rect l="l" t="t" r="r" b="b"/>
              <a:pathLst>
                <a:path w="17" h="17">
                  <a:moveTo>
                    <a:pt x="0" y="0"/>
                  </a:moveTo>
                  <a:lnTo>
                    <a:pt x="0" y="16"/>
                  </a:lnTo>
                  <a:lnTo>
                    <a:pt x="16" y="16"/>
                  </a:lnTo>
                  <a:lnTo>
                    <a:pt x="16"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01" name=""/>
            <p:cNvSpPr/>
            <p:nvPr/>
          </p:nvSpPr>
          <p:spPr>
            <a:xfrm>
              <a:off x="4813920" y="3239640"/>
              <a:ext cx="47160" cy="43560"/>
            </a:xfrm>
            <a:custGeom>
              <a:avLst/>
              <a:gdLst/>
              <a:ahLst/>
              <a:rect l="l" t="t" r="r" b="b"/>
              <a:pathLst>
                <a:path w="17" h="17">
                  <a:moveTo>
                    <a:pt x="4" y="0"/>
                  </a:moveTo>
                  <a:lnTo>
                    <a:pt x="0" y="16"/>
                  </a:lnTo>
                  <a:lnTo>
                    <a:pt x="12" y="16"/>
                  </a:lnTo>
                  <a:lnTo>
                    <a:pt x="16" y="0"/>
                  </a:lnTo>
                  <a:lnTo>
                    <a:pt x="4"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02" name=""/>
            <p:cNvSpPr/>
            <p:nvPr/>
          </p:nvSpPr>
          <p:spPr>
            <a:xfrm>
              <a:off x="4858920" y="3239640"/>
              <a:ext cx="47160" cy="43560"/>
            </a:xfrm>
            <a:custGeom>
              <a:avLst/>
              <a:gdLst/>
              <a:ahLst/>
              <a:rect l="l" t="t" r="r" b="b"/>
              <a:pathLst>
                <a:path w="17" h="17">
                  <a:moveTo>
                    <a:pt x="0" y="0"/>
                  </a:moveTo>
                  <a:lnTo>
                    <a:pt x="0" y="16"/>
                  </a:lnTo>
                  <a:lnTo>
                    <a:pt x="16" y="12"/>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03" name=""/>
            <p:cNvSpPr/>
            <p:nvPr/>
          </p:nvSpPr>
          <p:spPr>
            <a:xfrm>
              <a:off x="4892760" y="3252600"/>
              <a:ext cx="46800" cy="43560"/>
            </a:xfrm>
            <a:custGeom>
              <a:avLst/>
              <a:gdLst/>
              <a:ahLst/>
              <a:rect l="l" t="t" r="r" b="b"/>
              <a:pathLst>
                <a:path w="17" h="17">
                  <a:moveTo>
                    <a:pt x="0" y="0"/>
                  </a:moveTo>
                  <a:lnTo>
                    <a:pt x="4" y="6"/>
                  </a:lnTo>
                  <a:lnTo>
                    <a:pt x="16" y="16"/>
                  </a:lnTo>
                  <a:lnTo>
                    <a:pt x="10" y="0"/>
                  </a:lnTo>
                  <a:lnTo>
                    <a:pt x="6" y="0"/>
                  </a:lnTo>
                  <a:lnTo>
                    <a:pt x="4" y="0"/>
                  </a:lnTo>
                  <a:lnTo>
                    <a:pt x="0" y="0"/>
                  </a:lnTo>
                </a:path>
              </a:pathLst>
            </a:custGeom>
            <a:solidFill>
              <a:srgbClr val="006790"/>
            </a:solidFill>
            <a:ln cap="rnd" w="3240">
              <a:solidFill>
                <a:srgbClr val="004463"/>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04" name=""/>
            <p:cNvSpPr/>
            <p:nvPr/>
          </p:nvSpPr>
          <p:spPr>
            <a:xfrm>
              <a:off x="5431680" y="3101400"/>
              <a:ext cx="72000" cy="53280"/>
            </a:xfrm>
            <a:custGeom>
              <a:avLst/>
              <a:gdLst/>
              <a:ahLst/>
              <a:rect l="l" t="t" r="r" b="b"/>
              <a:pathLst>
                <a:path w="26" h="21">
                  <a:moveTo>
                    <a:pt x="5" y="0"/>
                  </a:moveTo>
                  <a:lnTo>
                    <a:pt x="0" y="10"/>
                  </a:lnTo>
                  <a:lnTo>
                    <a:pt x="17" y="20"/>
                  </a:lnTo>
                  <a:lnTo>
                    <a:pt x="25" y="10"/>
                  </a:lnTo>
                  <a:lnTo>
                    <a:pt x="5" y="0"/>
                  </a:lnTo>
                </a:path>
              </a:pathLst>
            </a:custGeom>
            <a:solidFill>
              <a:srgbClr val="006790"/>
            </a:solidFill>
            <a:ln cap="rnd" w="3240">
              <a:solidFill>
                <a:srgbClr val="004463"/>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aphicFrame>
        <p:nvGraphicFramePr>
          <p:cNvPr id="305" name=""/>
          <p:cNvGraphicFramePr/>
          <p:nvPr/>
        </p:nvGraphicFramePr>
        <p:xfrm>
          <a:off x="209520" y="5524560"/>
          <a:ext cx="9010800" cy="1412640"/>
        </p:xfrm>
        <a:graphic>
          <a:graphicData uri="http://schemas.openxmlformats.org/presentationml/2006/ole">
            <p:oleObj r:id="rId1" spid="">
              <p:embed/>
              <p:pic>
                <p:nvPicPr>
                  <p:cNvPr id="306" name="" descr=""/>
                  <p:cNvPicPr/>
                  <p:nvPr/>
                </p:nvPicPr>
                <p:blipFill>
                  <a:blip r:embed="rId2"/>
                  <a:stretch/>
                </p:blipFill>
                <p:spPr>
                  <a:xfrm>
                    <a:off x="209520" y="5524560"/>
                    <a:ext cx="9010800" cy="1412640"/>
                  </a:xfrm>
                  <a:prstGeom prst="rect">
                    <a:avLst/>
                  </a:prstGeom>
                  <a:ln w="0">
                    <a:noFill/>
                  </a:ln>
                </p:spPr>
              </p:pic>
            </p:oleObj>
          </a:graphicData>
        </a:graphic>
      </p:graphicFrame>
      <p:graphicFrame>
        <p:nvGraphicFramePr>
          <p:cNvPr id="307" name=""/>
          <p:cNvGraphicFramePr/>
          <p:nvPr/>
        </p:nvGraphicFramePr>
        <p:xfrm>
          <a:off x="6718320" y="1484280"/>
          <a:ext cx="2511360" cy="4052880"/>
        </p:xfrm>
        <a:graphic>
          <a:graphicData uri="http://schemas.openxmlformats.org/presentationml/2006/ole">
            <p:oleObj r:id="rId3" spid="">
              <p:embed/>
              <p:pic>
                <p:nvPicPr>
                  <p:cNvPr id="308" name="" descr=""/>
                  <p:cNvPicPr/>
                  <p:nvPr/>
                </p:nvPicPr>
                <p:blipFill>
                  <a:blip r:embed="rId4"/>
                  <a:stretch/>
                </p:blipFill>
                <p:spPr>
                  <a:xfrm>
                    <a:off x="6718320" y="1484280"/>
                    <a:ext cx="2511360" cy="4052880"/>
                  </a:xfrm>
                  <a:prstGeom prst="rect">
                    <a:avLst/>
                  </a:prstGeom>
                  <a:ln w="0">
                    <a:noFill/>
                  </a:ln>
                </p:spPr>
              </p:pic>
            </p:oleObj>
          </a:graphicData>
        </a:graphic>
      </p:graphicFrame>
      <p:graphicFrame>
        <p:nvGraphicFramePr>
          <p:cNvPr id="309" name=""/>
          <p:cNvGraphicFramePr/>
          <p:nvPr/>
        </p:nvGraphicFramePr>
        <p:xfrm>
          <a:off x="57240" y="0"/>
          <a:ext cx="9144000" cy="1371600"/>
        </p:xfrm>
        <a:graphic>
          <a:graphicData uri="http://schemas.openxmlformats.org/presentationml/2006/ole">
            <p:oleObj r:id="rId5" spid="">
              <p:embed/>
              <p:pic>
                <p:nvPicPr>
                  <p:cNvPr id="310" name="" descr=""/>
                  <p:cNvPicPr/>
                  <p:nvPr/>
                </p:nvPicPr>
                <p:blipFill>
                  <a:blip r:embed="rId6"/>
                  <a:stretch/>
                </p:blipFill>
                <p:spPr>
                  <a:xfrm>
                    <a:off x="57240" y="0"/>
                    <a:ext cx="9144000" cy="1371600"/>
                  </a:xfrm>
                  <a:prstGeom prst="rect">
                    <a:avLst/>
                  </a:prstGeom>
                  <a:ln w="0">
                    <a:noFill/>
                  </a:ln>
                </p:spPr>
              </p:pic>
            </p:oleObj>
          </a:graphicData>
        </a:graphic>
      </p:graphicFrame>
      <p:graphicFrame>
        <p:nvGraphicFramePr>
          <p:cNvPr id="311" name=""/>
          <p:cNvGraphicFramePr/>
          <p:nvPr/>
        </p:nvGraphicFramePr>
        <p:xfrm>
          <a:off x="0" y="1111320"/>
          <a:ext cx="1984320" cy="5003640"/>
        </p:xfrm>
        <a:graphic>
          <a:graphicData uri="http://schemas.openxmlformats.org/presentationml/2006/ole">
            <p:oleObj r:id="rId7" spid="">
              <p:embed/>
              <p:pic>
                <p:nvPicPr>
                  <p:cNvPr id="312" name="" descr=""/>
                  <p:cNvPicPr/>
                  <p:nvPr/>
                </p:nvPicPr>
                <p:blipFill>
                  <a:blip r:embed="rId8"/>
                  <a:stretch/>
                </p:blipFill>
                <p:spPr>
                  <a:xfrm>
                    <a:off x="0" y="1111320"/>
                    <a:ext cx="1984320" cy="5003640"/>
                  </a:xfrm>
                  <a:prstGeom prst="rect">
                    <a:avLst/>
                  </a:prstGeom>
                  <a:ln w="0">
                    <a:noFill/>
                  </a:ln>
                </p:spPr>
              </p:pic>
            </p:oleObj>
          </a:graphicData>
        </a:graphic>
      </p:graphicFrame>
      <p:sp>
        <p:nvSpPr>
          <p:cNvPr id="313" name=""/>
          <p:cNvSpPr/>
          <p:nvPr/>
        </p:nvSpPr>
        <p:spPr>
          <a:xfrm>
            <a:off x="1989000" y="1371600"/>
            <a:ext cx="4730760" cy="4173480"/>
          </a:xfrm>
          <a:prstGeom prst="rect">
            <a:avLst/>
          </a:prstGeom>
          <a:noFill/>
          <a:ln w="57240">
            <a:solidFill>
              <a:srgbClr val="9fa3a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309840" y="437040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57560" y="339084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86000" y="2604960"/>
            <a:ext cx="277920" cy="27648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267080" y="336708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041720" y="382428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803840" y="420840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491000" y="382428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06880" y="4030560"/>
            <a:ext cx="1198800" cy="3175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rankfurt</a:t>
            </a:r>
            <a:endParaRPr b="0" lang="en-US" sz="2000" spc="-1" strike="noStrike">
              <a:solidFill>
                <a:srgbClr val="ffffff"/>
              </a:solidFill>
              <a:latin typeface="Times New Roman"/>
            </a:endParaRPr>
          </a:p>
        </p:txBody>
      </p:sp>
      <p:sp>
        <p:nvSpPr>
          <p:cNvPr id="322" name=""/>
          <p:cNvSpPr/>
          <p:nvPr/>
        </p:nvSpPr>
        <p:spPr>
          <a:xfrm>
            <a:off x="4629240" y="3548160"/>
            <a:ext cx="1226880" cy="33156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Dusseldorf</a:t>
            </a:r>
            <a:endParaRPr b="0" lang="en-US" sz="2000" spc="-1" strike="noStrike">
              <a:solidFill>
                <a:srgbClr val="ffffff"/>
              </a:solidFill>
              <a:latin typeface="Times New Roman"/>
            </a:endParaRPr>
          </a:p>
        </p:txBody>
      </p:sp>
      <p:sp>
        <p:nvSpPr>
          <p:cNvPr id="323" name=""/>
          <p:cNvSpPr/>
          <p:nvPr/>
        </p:nvSpPr>
        <p:spPr>
          <a:xfrm>
            <a:off x="2924280" y="3922560"/>
            <a:ext cx="1198440" cy="3319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russels</a:t>
            </a:r>
            <a:endParaRPr b="0" lang="en-US" sz="2000" spc="-1" strike="noStrike">
              <a:solidFill>
                <a:srgbClr val="ffffff"/>
              </a:solidFill>
              <a:latin typeface="Times New Roman"/>
            </a:endParaRPr>
          </a:p>
        </p:txBody>
      </p:sp>
      <p:sp>
        <p:nvSpPr>
          <p:cNvPr id="324" name=""/>
          <p:cNvSpPr/>
          <p:nvPr/>
        </p:nvSpPr>
        <p:spPr>
          <a:xfrm>
            <a:off x="3468600" y="4567320"/>
            <a:ext cx="863640" cy="3175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ris</a:t>
            </a:r>
            <a:endParaRPr b="0" lang="en-US" sz="2000" spc="-1" strike="noStrike">
              <a:solidFill>
                <a:srgbClr val="ffffff"/>
              </a:solidFill>
              <a:latin typeface="Times New Roman"/>
            </a:endParaRPr>
          </a:p>
        </p:txBody>
      </p:sp>
      <p:sp>
        <p:nvSpPr>
          <p:cNvPr id="325" name=""/>
          <p:cNvSpPr/>
          <p:nvPr/>
        </p:nvSpPr>
        <p:spPr>
          <a:xfrm>
            <a:off x="4405320" y="3111480"/>
            <a:ext cx="1198440" cy="3301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Randstad</a:t>
            </a:r>
            <a:endParaRPr b="0" lang="en-US" sz="2000" spc="-1" strike="noStrike">
              <a:solidFill>
                <a:srgbClr val="ffffff"/>
              </a:solidFill>
              <a:latin typeface="Times New Roman"/>
            </a:endParaRPr>
          </a:p>
        </p:txBody>
      </p:sp>
      <p:sp>
        <p:nvSpPr>
          <p:cNvPr id="326" name=""/>
          <p:cNvSpPr/>
          <p:nvPr/>
        </p:nvSpPr>
        <p:spPr>
          <a:xfrm>
            <a:off x="2238480" y="3218040"/>
            <a:ext cx="1022400" cy="33156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ndon</a:t>
            </a:r>
            <a:endParaRPr b="0" lang="en-US" sz="2000" spc="-1" strike="noStrike">
              <a:solidFill>
                <a:srgbClr val="ffffff"/>
              </a:solidFill>
              <a:latin typeface="Times New Roman"/>
            </a:endParaRPr>
          </a:p>
        </p:txBody>
      </p:sp>
      <p:sp>
        <p:nvSpPr>
          <p:cNvPr id="327" name=""/>
          <p:cNvSpPr/>
          <p:nvPr/>
        </p:nvSpPr>
        <p:spPr>
          <a:xfrm>
            <a:off x="2492280" y="2747880"/>
            <a:ext cx="908280" cy="3319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ublin</a:t>
            </a:r>
            <a:endParaRPr b="0" lang="en-US" sz="2000" spc="-1" strike="noStrike">
              <a:solidFill>
                <a:srgbClr val="ffffff"/>
              </a:solidFill>
              <a:latin typeface="Times New Roman"/>
            </a:endParaRPr>
          </a:p>
        </p:txBody>
      </p:sp>
      <p:sp>
        <p:nvSpPr>
          <p:cNvPr id="328" name=""/>
          <p:cNvSpPr/>
          <p:nvPr/>
        </p:nvSpPr>
        <p:spPr>
          <a:xfrm>
            <a:off x="2944800" y="2090880"/>
            <a:ext cx="277920" cy="276120"/>
          </a:xfrm>
          <a:prstGeom prst="ellipse">
            <a:avLst/>
          </a:prstGeom>
          <a:noFill/>
          <a:ln w="57240">
            <a:solidFill>
              <a:srgbClr val="a8262f"/>
            </a:solidFill>
            <a:miter/>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35240" y="1914480"/>
            <a:ext cx="1198800" cy="330120"/>
          </a:xfrm>
          <a:prstGeom prst="rect">
            <a:avLst/>
          </a:prstGeom>
          <a:solidFill>
            <a:srgbClr val="a8262f"/>
          </a:solidFill>
          <a:ln w="0">
            <a:noFill/>
          </a:ln>
          <a:effectLst>
            <a:outerShdw dist="17819" dir="2700000" blurRad="0" rotWithShape="0">
              <a:srgbClr val="00446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dinburgh</a:t>
            </a:r>
            <a:endParaRPr b="0" lang="en-US" sz="2000" spc="-1" strike="noStrike">
              <a:solidFill>
                <a:srgbClr val="ffffff"/>
              </a:solidFill>
              <a:latin typeface="Times New Roman"/>
            </a:endParaRPr>
          </a:p>
        </p:txBody>
      </p:sp>
      <p:sp>
        <p:nvSpPr>
          <p:cNvPr id="330" name="PlaceHolder 1"/>
          <p:cNvSpPr>
            <a:spLocks noGrp="1"/>
          </p:cNvSpPr>
          <p:nvPr>
            <p:ph type="title"/>
          </p:nvPr>
        </p:nvSpPr>
        <p:spPr>
          <a:xfrm>
            <a:off x="981000" y="247320"/>
            <a:ext cx="7926480" cy="685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Coverage: North West Europe</a:t>
            </a:r>
            <a:br>
              <a:rPr sz="3600"/>
            </a:br>
            <a:r>
              <a:rPr b="0" lang="en-US" sz="3600" spc="-1" strike="noStrike">
                <a:solidFill>
                  <a:srgbClr val="e8b500"/>
                </a:solidFill>
                <a:latin typeface="Arial Narrow"/>
              </a:rPr>
              <a:t>8 Metro Areas</a:t>
            </a:r>
            <a:endParaRPr b="0" lang="en-US" sz="3600" spc="-1" strike="noStrike">
              <a:solidFill>
                <a:srgbClr val="e8b500"/>
              </a:solidFill>
              <a:latin typeface="Arial Narrow"/>
            </a:endParaRPr>
          </a:p>
        </p:txBody>
      </p:sp>
      <p:sp>
        <p:nvSpPr>
          <p:cNvPr id="331" name=""/>
          <p:cNvSpPr/>
          <p:nvPr/>
        </p:nvSpPr>
        <p:spPr>
          <a:xfrm flipV="1">
            <a:off x="2028960" y="1409760"/>
            <a:ext cx="0" cy="411480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V="1">
            <a:off x="6762600" y="1380960"/>
            <a:ext cx="0" cy="419112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981080" y="5572080"/>
            <a:ext cx="479124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028960" y="1409760"/>
            <a:ext cx="466704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6937200" y="1828800"/>
            <a:ext cx="2016360" cy="363852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Paris </a:t>
            </a:r>
            <a:r>
              <a:rPr b="0" lang="en-GB" sz="2400" spc="-1" strike="noStrike">
                <a:solidFill>
                  <a:srgbClr val="ffffff"/>
                </a:solidFill>
                <a:latin typeface="Arial Narrow"/>
              </a:rPr>
              <a:t>	</a:t>
            </a:r>
            <a:r>
              <a:rPr b="0" lang="en-GB" sz="2400" spc="-1" strike="noStrike">
                <a:solidFill>
                  <a:srgbClr val="ffffff"/>
                </a:solidFill>
                <a:latin typeface="Arial Narrow"/>
              </a:rPr>
              <a:t>44.3</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London </a:t>
            </a:r>
            <a:r>
              <a:rPr b="0" lang="en-GB" sz="2400" spc="-1" strike="noStrike">
                <a:solidFill>
                  <a:srgbClr val="ffffff"/>
                </a:solidFill>
                <a:latin typeface="Arial Narrow"/>
              </a:rPr>
              <a:t>	</a:t>
            </a:r>
            <a:r>
              <a:rPr b="0" lang="en-GB" sz="2400" spc="-1" strike="noStrike">
                <a:solidFill>
                  <a:srgbClr val="ffffff"/>
                </a:solidFill>
                <a:latin typeface="Arial Narrow"/>
              </a:rPr>
              <a:t>27.1</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andstad </a:t>
            </a:r>
            <a:r>
              <a:rPr b="0" lang="en-GB" sz="2400" spc="-1" strike="noStrike">
                <a:solidFill>
                  <a:srgbClr val="ffffff"/>
                </a:solidFill>
                <a:latin typeface="Arial Narrow"/>
              </a:rPr>
              <a:t>	</a:t>
            </a:r>
            <a:r>
              <a:rPr b="0" lang="en-GB" sz="2400" spc="-1" strike="noStrike">
                <a:solidFill>
                  <a:srgbClr val="ffffff"/>
                </a:solidFill>
                <a:latin typeface="Arial Narrow"/>
              </a:rPr>
              <a:t>16.0</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Brussels </a:t>
            </a:r>
            <a:r>
              <a:rPr b="0" lang="en-GB" sz="2400" spc="-1" strike="noStrike">
                <a:solidFill>
                  <a:srgbClr val="ffffff"/>
                </a:solidFill>
                <a:latin typeface="Arial Narrow"/>
              </a:rPr>
              <a:t>	</a:t>
            </a:r>
            <a:r>
              <a:rPr b="0" lang="en-GB" sz="2400" spc="-1" strike="noStrike">
                <a:solidFill>
                  <a:srgbClr val="ffffff"/>
                </a:solidFill>
                <a:latin typeface="Arial Narrow"/>
              </a:rPr>
              <a:t>10.6</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Frankfurt </a:t>
            </a:r>
            <a:r>
              <a:rPr b="0" lang="en-GB" sz="2400" spc="-1" strike="noStrike">
                <a:solidFill>
                  <a:srgbClr val="ffffff"/>
                </a:solidFill>
                <a:latin typeface="Arial Narrow"/>
              </a:rPr>
              <a:t>	</a:t>
            </a:r>
            <a:r>
              <a:rPr b="0" lang="en-GB" sz="2400" spc="-1" strike="noStrike">
                <a:solidFill>
                  <a:srgbClr val="ffffff"/>
                </a:solidFill>
                <a:latin typeface="Arial Narrow"/>
              </a:rPr>
              <a:t>10.1</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Dusseldorf </a:t>
            </a:r>
            <a:r>
              <a:rPr b="0" lang="en-GB" sz="2400" spc="-1" strike="noStrike">
                <a:solidFill>
                  <a:srgbClr val="ffffff"/>
                </a:solidFill>
                <a:latin typeface="Arial Narrow"/>
              </a:rPr>
              <a:t>	</a:t>
            </a:r>
            <a:r>
              <a:rPr b="0" lang="en-GB" sz="2400" spc="-1" strike="noStrike">
                <a:solidFill>
                  <a:srgbClr val="ffffff"/>
                </a:solidFill>
                <a:latin typeface="Arial Narrow"/>
              </a:rPr>
              <a:t>5.2</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Dublin </a:t>
            </a:r>
            <a:r>
              <a:rPr b="0" lang="en-GB" sz="2400" spc="-1" strike="noStrike">
                <a:solidFill>
                  <a:srgbClr val="ffffff"/>
                </a:solidFill>
                <a:latin typeface="Arial Narrow"/>
              </a:rPr>
              <a:t>	</a:t>
            </a:r>
            <a:r>
              <a:rPr b="0" lang="en-GB" sz="2400" spc="-1" strike="noStrike">
                <a:solidFill>
                  <a:srgbClr val="ffffff"/>
                </a:solidFill>
                <a:latin typeface="Arial Narrow"/>
              </a:rPr>
              <a:t>2.0</a:t>
            </a:r>
            <a:endParaRPr b="0" lang="en-US" sz="2400" spc="-1" strike="noStrike">
              <a:solidFill>
                <a:srgbClr val="ffffff"/>
              </a:solidFill>
              <a:latin typeface="Times New Roman"/>
            </a:endParaRPr>
          </a:p>
          <a:p>
            <a:pPr>
              <a:lnSpc>
                <a:spcPct val="11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dinburgh </a:t>
            </a:r>
            <a:r>
              <a:rPr b="0" lang="en-GB" sz="2400" spc="-1" strike="noStrike">
                <a:solidFill>
                  <a:srgbClr val="ffffff"/>
                </a:solidFill>
                <a:latin typeface="Arial Narrow"/>
              </a:rPr>
              <a:t>	</a:t>
            </a:r>
            <a:r>
              <a:rPr b="0" lang="en-GB"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336" name=""/>
          <p:cNvSpPr/>
          <p:nvPr/>
        </p:nvSpPr>
        <p:spPr>
          <a:xfrm>
            <a:off x="6915240" y="1295280"/>
            <a:ext cx="1235160" cy="70488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8b500"/>
                </a:solidFill>
                <a:latin typeface="Arial Narrow"/>
              </a:rPr>
              <a:t>Office Stock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8b500"/>
                </a:solidFill>
                <a:latin typeface="Arial Narrow"/>
              </a:rPr>
              <a:t>(mill sq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31920" y="2619360"/>
            <a:ext cx="6678720" cy="16286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1. Office Development Analysis</a:t>
            </a:r>
            <a:endParaRPr b="0" lang="en-US" sz="3600" spc="-1" strike="noStrike">
              <a:solidFill>
                <a:srgbClr val="e8b5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graphicFrame>
        <p:nvGraphicFramePr>
          <p:cNvPr id="338" name=""/>
          <p:cNvGraphicFramePr/>
          <p:nvPr/>
        </p:nvGraphicFramePr>
        <p:xfrm>
          <a:off x="762120" y="1382760"/>
          <a:ext cx="7124760" cy="4324320"/>
        </p:xfrm>
        <a:graphic>
          <a:graphicData uri="http://schemas.openxmlformats.org/presentationml/2006/ole">
            <p:oleObj r:id="rId1" spid="">
              <p:embed/>
              <p:pic>
                <p:nvPicPr>
                  <p:cNvPr id="339" name="" descr=""/>
                  <p:cNvPicPr/>
                  <p:nvPr/>
                </p:nvPicPr>
                <p:blipFill>
                  <a:blip r:embed="rId2"/>
                  <a:stretch/>
                </p:blipFill>
                <p:spPr>
                  <a:xfrm>
                    <a:off x="762120" y="1382760"/>
                    <a:ext cx="7124760" cy="4324320"/>
                  </a:xfrm>
                  <a:prstGeom prst="rect">
                    <a:avLst/>
                  </a:prstGeom>
                  <a:ln w="0">
                    <a:noFill/>
                  </a:ln>
                </p:spPr>
              </p:pic>
            </p:oleObj>
          </a:graphicData>
        </a:graphic>
      </p:graphicFrame>
      <p:sp>
        <p:nvSpPr>
          <p:cNvPr id="340" name=""/>
          <p:cNvSpPr/>
          <p:nvPr/>
        </p:nvSpPr>
        <p:spPr>
          <a:xfrm>
            <a:off x="866880" y="1236600"/>
            <a:ext cx="9428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000 sqm</a:t>
            </a:r>
            <a:endParaRPr b="0" lang="en-US" sz="1800" spc="-1" strike="noStrike">
              <a:solidFill>
                <a:srgbClr val="ffffff"/>
              </a:solidFill>
              <a:latin typeface="Times New Roman"/>
            </a:endParaRPr>
          </a:p>
        </p:txBody>
      </p:sp>
      <p:sp>
        <p:nvSpPr>
          <p:cNvPr id="341" name=""/>
          <p:cNvSpPr/>
          <p:nvPr/>
        </p:nvSpPr>
        <p:spPr>
          <a:xfrm>
            <a:off x="7192800" y="1219320"/>
            <a:ext cx="94320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t>
            </a:r>
            <a:endParaRPr b="0" lang="en-US" sz="1800" spc="-1" strike="noStrike">
              <a:solidFill>
                <a:srgbClr val="ffffff"/>
              </a:solidFill>
              <a:latin typeface="Times New Roman"/>
            </a:endParaRPr>
          </a:p>
        </p:txBody>
      </p:sp>
      <p:sp>
        <p:nvSpPr>
          <p:cNvPr id="342"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a:t>
            </a:r>
            <a:endParaRPr b="0" lang="en-US" sz="1200" spc="-1" strike="noStrike">
              <a:solidFill>
                <a:srgbClr val="ffffff"/>
              </a:solidFill>
              <a:latin typeface="Times New Roman"/>
            </a:endParaRPr>
          </a:p>
        </p:txBody>
      </p:sp>
      <p:sp>
        <p:nvSpPr>
          <p:cNvPr id="343" name=""/>
          <p:cNvSpPr/>
          <p:nvPr/>
        </p:nvSpPr>
        <p:spPr>
          <a:xfrm>
            <a:off x="1733400" y="2030400"/>
            <a:ext cx="419400" cy="171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752480" y="2373480"/>
            <a:ext cx="362160" cy="0"/>
          </a:xfrm>
          <a:prstGeom prst="line">
            <a:avLst/>
          </a:prstGeom>
          <a:ln w="38160">
            <a:solidFill>
              <a:srgbClr val="e8b5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127240" y="1922400"/>
            <a:ext cx="133344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mple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of Stock</a:t>
            </a:r>
            <a:endParaRPr b="0" lang="en-US" sz="1600" spc="-1" strike="noStrike">
              <a:solidFill>
                <a:srgbClr val="ffffff"/>
              </a:solidFill>
              <a:latin typeface="Times New Roman"/>
            </a:endParaRPr>
          </a:p>
        </p:txBody>
      </p:sp>
      <p:sp>
        <p:nvSpPr>
          <p:cNvPr id="346" name="PlaceHolder 1"/>
          <p:cNvSpPr>
            <a:spLocks noGrp="1"/>
          </p:cNvSpPr>
          <p:nvPr>
            <p:ph type="title"/>
          </p:nvPr>
        </p:nvSpPr>
        <p:spPr>
          <a:xfrm>
            <a:off x="981000" y="275760"/>
            <a:ext cx="7926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Office Completions in the 8 Metro Areas</a:t>
            </a:r>
            <a:endParaRPr b="0" lang="en-US" sz="3600" spc="-1" strike="noStrike">
              <a:solidFill>
                <a:srgbClr val="e8b5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61920" y="26640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Triggers: </a:t>
            </a:r>
            <a:br>
              <a:rPr sz="3600"/>
            </a:br>
            <a:r>
              <a:rPr b="0" lang="en-US" sz="3600" spc="-1" strike="noStrike">
                <a:solidFill>
                  <a:srgbClr val="e8b500"/>
                </a:solidFill>
                <a:latin typeface="Arial Narrow"/>
              </a:rPr>
              <a:t>Office Completions and Economic Growth</a:t>
            </a:r>
            <a:endParaRPr b="0" lang="en-US" sz="3600" spc="-1" strike="noStrike">
              <a:solidFill>
                <a:srgbClr val="e8b500"/>
              </a:solidFill>
              <a:latin typeface="Arial Narrow"/>
            </a:endParaRPr>
          </a:p>
        </p:txBody>
      </p:sp>
      <p:graphicFrame>
        <p:nvGraphicFramePr>
          <p:cNvPr id="348" name=""/>
          <p:cNvGraphicFramePr/>
          <p:nvPr/>
        </p:nvGraphicFramePr>
        <p:xfrm>
          <a:off x="898560" y="1695600"/>
          <a:ext cx="7124760" cy="4324320"/>
        </p:xfrm>
        <a:graphic>
          <a:graphicData uri="http://schemas.openxmlformats.org/presentationml/2006/ole">
            <p:oleObj r:id="rId1" spid="">
              <p:embed/>
              <p:pic>
                <p:nvPicPr>
                  <p:cNvPr id="349" name="" descr=""/>
                  <p:cNvPicPr/>
                  <p:nvPr/>
                </p:nvPicPr>
                <p:blipFill>
                  <a:blip r:embed="rId2"/>
                  <a:stretch/>
                </p:blipFill>
                <p:spPr>
                  <a:xfrm>
                    <a:off x="898560" y="1695600"/>
                    <a:ext cx="7124760" cy="4324320"/>
                  </a:xfrm>
                  <a:prstGeom prst="rect">
                    <a:avLst/>
                  </a:prstGeom>
                  <a:ln w="0">
                    <a:noFill/>
                  </a:ln>
                </p:spPr>
              </p:pic>
            </p:oleObj>
          </a:graphicData>
        </a:graphic>
      </p:graphicFrame>
      <p:sp>
        <p:nvSpPr>
          <p:cNvPr id="350"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 ERECO, July 2001</a:t>
            </a:r>
            <a:endParaRPr b="0" lang="en-US" sz="1200" spc="-1" strike="noStrike">
              <a:solidFill>
                <a:srgbClr val="ffffff"/>
              </a:solidFill>
              <a:latin typeface="Times New Roman"/>
            </a:endParaRPr>
          </a:p>
        </p:txBody>
      </p:sp>
      <p:sp>
        <p:nvSpPr>
          <p:cNvPr id="351" name=""/>
          <p:cNvSpPr/>
          <p:nvPr/>
        </p:nvSpPr>
        <p:spPr>
          <a:xfrm>
            <a:off x="1771560" y="2343240"/>
            <a:ext cx="419040" cy="171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790640" y="2673360"/>
            <a:ext cx="362160" cy="0"/>
          </a:xfrm>
          <a:prstGeom prst="line">
            <a:avLst/>
          </a:prstGeom>
          <a:ln w="38160">
            <a:solidFill>
              <a:srgbClr val="e8b5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2165400" y="2235240"/>
            <a:ext cx="133344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mpletions % of stock</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GVA Growth</a:t>
            </a:r>
            <a:endParaRPr b="0" lang="en-US" sz="1600" spc="-1" strike="noStrike">
              <a:solidFill>
                <a:srgbClr val="ffffff"/>
              </a:solidFill>
              <a:latin typeface="Times New Roman"/>
            </a:endParaRPr>
          </a:p>
        </p:txBody>
      </p:sp>
      <p:sp>
        <p:nvSpPr>
          <p:cNvPr id="354" name=""/>
          <p:cNvSpPr/>
          <p:nvPr/>
        </p:nvSpPr>
        <p:spPr>
          <a:xfrm>
            <a:off x="993600" y="1606680"/>
            <a:ext cx="381240" cy="260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t>
            </a:r>
            <a:endParaRPr b="0" lang="en-US" sz="1800" spc="-1" strike="noStrike">
              <a:solidFill>
                <a:srgbClr val="ffffff"/>
              </a:solidFill>
              <a:latin typeface="Times New Roman"/>
            </a:endParaRPr>
          </a:p>
        </p:txBody>
      </p:sp>
      <p:sp>
        <p:nvSpPr>
          <p:cNvPr id="355" name=""/>
          <p:cNvSpPr/>
          <p:nvPr/>
        </p:nvSpPr>
        <p:spPr>
          <a:xfrm>
            <a:off x="3726720" y="1496880"/>
            <a:ext cx="175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 Metro Ar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42840" y="24732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Triggers:  </a:t>
            </a:r>
            <a:br>
              <a:rPr sz="3600"/>
            </a:br>
            <a:r>
              <a:rPr b="0" lang="en-US" sz="3600" spc="-1" strike="noStrike">
                <a:solidFill>
                  <a:srgbClr val="e8b500"/>
                </a:solidFill>
                <a:latin typeface="Arial Narrow"/>
              </a:rPr>
              <a:t>Office Completions and Vacancy Rates</a:t>
            </a:r>
            <a:endParaRPr b="0" lang="en-US" sz="3600" spc="-1" strike="noStrike">
              <a:solidFill>
                <a:srgbClr val="e8b500"/>
              </a:solidFill>
              <a:latin typeface="Arial Narrow"/>
            </a:endParaRPr>
          </a:p>
        </p:txBody>
      </p:sp>
      <p:graphicFrame>
        <p:nvGraphicFramePr>
          <p:cNvPr id="357" name=""/>
          <p:cNvGraphicFramePr/>
          <p:nvPr/>
        </p:nvGraphicFramePr>
        <p:xfrm>
          <a:off x="838080" y="1619280"/>
          <a:ext cx="7124760" cy="4324320"/>
        </p:xfrm>
        <a:graphic>
          <a:graphicData uri="http://schemas.openxmlformats.org/presentationml/2006/ole">
            <p:oleObj r:id="rId1" spid="">
              <p:embed/>
              <p:pic>
                <p:nvPicPr>
                  <p:cNvPr id="358" name="" descr=""/>
                  <p:cNvPicPr/>
                  <p:nvPr/>
                </p:nvPicPr>
                <p:blipFill>
                  <a:blip r:embed="rId2"/>
                  <a:stretch/>
                </p:blipFill>
                <p:spPr>
                  <a:xfrm>
                    <a:off x="838080" y="1619280"/>
                    <a:ext cx="7124760" cy="4324320"/>
                  </a:xfrm>
                  <a:prstGeom prst="rect">
                    <a:avLst/>
                  </a:prstGeom>
                  <a:ln w="0">
                    <a:noFill/>
                  </a:ln>
                </p:spPr>
              </p:pic>
            </p:oleObj>
          </a:graphicData>
        </a:graphic>
      </p:graphicFrame>
      <p:sp>
        <p:nvSpPr>
          <p:cNvPr id="359" name=""/>
          <p:cNvSpPr/>
          <p:nvPr/>
        </p:nvSpPr>
        <p:spPr>
          <a:xfrm>
            <a:off x="1038240" y="1434960"/>
            <a:ext cx="9428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pletion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of Stock)</a:t>
            </a:r>
            <a:endParaRPr b="0" lang="en-US" sz="1800" spc="-1" strike="noStrike">
              <a:solidFill>
                <a:srgbClr val="ffffff"/>
              </a:solidFill>
              <a:latin typeface="Times New Roman"/>
            </a:endParaRPr>
          </a:p>
        </p:txBody>
      </p:sp>
      <p:sp>
        <p:nvSpPr>
          <p:cNvPr id="360" name=""/>
          <p:cNvSpPr/>
          <p:nvPr/>
        </p:nvSpPr>
        <p:spPr>
          <a:xfrm>
            <a:off x="6600960" y="1523880"/>
            <a:ext cx="9428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cancy Rate (%)</a:t>
            </a:r>
            <a:endParaRPr b="0" lang="en-US" sz="1800" spc="-1" strike="noStrike">
              <a:solidFill>
                <a:srgbClr val="ffffff"/>
              </a:solidFill>
              <a:latin typeface="Times New Roman"/>
            </a:endParaRPr>
          </a:p>
        </p:txBody>
      </p:sp>
      <p:sp>
        <p:nvSpPr>
          <p:cNvPr id="361" name=""/>
          <p:cNvSpPr/>
          <p:nvPr/>
        </p:nvSpPr>
        <p:spPr>
          <a:xfrm>
            <a:off x="1527120" y="2266920"/>
            <a:ext cx="419040" cy="171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546200" y="2597040"/>
            <a:ext cx="361800" cy="0"/>
          </a:xfrm>
          <a:prstGeom prst="line">
            <a:avLst/>
          </a:prstGeom>
          <a:ln w="38160">
            <a:solidFill>
              <a:srgbClr val="e8b5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920960" y="2158920"/>
            <a:ext cx="133344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mple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Vacancy Rates</a:t>
            </a:r>
            <a:endParaRPr b="0" lang="en-US" sz="1600" spc="-1" strike="noStrike">
              <a:solidFill>
                <a:srgbClr val="ffffff"/>
              </a:solidFill>
              <a:latin typeface="Times New Roman"/>
            </a:endParaRPr>
          </a:p>
        </p:txBody>
      </p:sp>
      <p:sp>
        <p:nvSpPr>
          <p:cNvPr id="364"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a:t>
            </a:r>
            <a:endParaRPr b="0" lang="en-US" sz="1200" spc="-1" strike="noStrike">
              <a:solidFill>
                <a:srgbClr val="ffffff"/>
              </a:solidFill>
              <a:latin typeface="Times New Roman"/>
            </a:endParaRPr>
          </a:p>
        </p:txBody>
      </p:sp>
      <p:sp>
        <p:nvSpPr>
          <p:cNvPr id="365" name=""/>
          <p:cNvSpPr/>
          <p:nvPr/>
        </p:nvSpPr>
        <p:spPr>
          <a:xfrm>
            <a:off x="3431520" y="1461960"/>
            <a:ext cx="175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 Metro Ar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81000" y="26640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Triggers: </a:t>
            </a:r>
            <a:br>
              <a:rPr sz="3600"/>
            </a:br>
            <a:r>
              <a:rPr b="0" lang="en-US" sz="3600" spc="-1" strike="noStrike">
                <a:solidFill>
                  <a:srgbClr val="e8b500"/>
                </a:solidFill>
                <a:latin typeface="Arial Narrow"/>
              </a:rPr>
              <a:t>Office Completions and Prime Rental Growth</a:t>
            </a:r>
            <a:endParaRPr b="0" lang="en-US" sz="3600" spc="-1" strike="noStrike">
              <a:solidFill>
                <a:srgbClr val="e8b500"/>
              </a:solidFill>
              <a:latin typeface="Arial Narrow"/>
            </a:endParaRPr>
          </a:p>
        </p:txBody>
      </p:sp>
      <p:graphicFrame>
        <p:nvGraphicFramePr>
          <p:cNvPr id="367" name=""/>
          <p:cNvGraphicFramePr/>
          <p:nvPr/>
        </p:nvGraphicFramePr>
        <p:xfrm>
          <a:off x="830160" y="1601640"/>
          <a:ext cx="7475760" cy="4329360"/>
        </p:xfrm>
        <a:graphic>
          <a:graphicData uri="http://schemas.openxmlformats.org/presentationml/2006/ole">
            <p:oleObj r:id="rId1" spid="">
              <p:embed/>
              <p:pic>
                <p:nvPicPr>
                  <p:cNvPr id="368" name="" descr=""/>
                  <p:cNvPicPr/>
                  <p:nvPr/>
                </p:nvPicPr>
                <p:blipFill>
                  <a:blip r:embed="rId2"/>
                  <a:stretch/>
                </p:blipFill>
                <p:spPr>
                  <a:xfrm>
                    <a:off x="830160" y="1601640"/>
                    <a:ext cx="7475760" cy="4329360"/>
                  </a:xfrm>
                  <a:prstGeom prst="rect">
                    <a:avLst/>
                  </a:prstGeom>
                  <a:ln w="0">
                    <a:noFill/>
                  </a:ln>
                </p:spPr>
              </p:pic>
            </p:oleObj>
          </a:graphicData>
        </a:graphic>
      </p:graphicFrame>
      <p:sp>
        <p:nvSpPr>
          <p:cNvPr id="369" name=""/>
          <p:cNvSpPr/>
          <p:nvPr/>
        </p:nvSpPr>
        <p:spPr>
          <a:xfrm>
            <a:off x="6829560" y="1447920"/>
            <a:ext cx="9428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ntal Change (%)</a:t>
            </a:r>
            <a:endParaRPr b="0" lang="en-US" sz="1800" spc="-1" strike="noStrike">
              <a:solidFill>
                <a:srgbClr val="ffffff"/>
              </a:solidFill>
              <a:latin typeface="Times New Roman"/>
            </a:endParaRPr>
          </a:p>
        </p:txBody>
      </p:sp>
      <p:sp>
        <p:nvSpPr>
          <p:cNvPr id="370" name=""/>
          <p:cNvSpPr/>
          <p:nvPr/>
        </p:nvSpPr>
        <p:spPr>
          <a:xfrm>
            <a:off x="1749600" y="2266920"/>
            <a:ext cx="419040" cy="171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768320" y="2597040"/>
            <a:ext cx="362160" cy="0"/>
          </a:xfrm>
          <a:prstGeom prst="line">
            <a:avLst/>
          </a:prstGeom>
          <a:ln w="38160">
            <a:solidFill>
              <a:srgbClr val="e8b5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2143080" y="2158920"/>
            <a:ext cx="133344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mple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ntal Growth</a:t>
            </a:r>
            <a:endParaRPr b="0" lang="en-US" sz="1600" spc="-1" strike="noStrike">
              <a:solidFill>
                <a:srgbClr val="ffffff"/>
              </a:solidFill>
              <a:latin typeface="Times New Roman"/>
            </a:endParaRPr>
          </a:p>
        </p:txBody>
      </p:sp>
      <p:sp>
        <p:nvSpPr>
          <p:cNvPr id="373"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a:t>
            </a:r>
            <a:endParaRPr b="0" lang="en-US" sz="1200" spc="-1" strike="noStrike">
              <a:solidFill>
                <a:srgbClr val="ffffff"/>
              </a:solidFill>
              <a:latin typeface="Times New Roman"/>
            </a:endParaRPr>
          </a:p>
        </p:txBody>
      </p:sp>
      <p:sp>
        <p:nvSpPr>
          <p:cNvPr id="374" name=""/>
          <p:cNvSpPr/>
          <p:nvPr/>
        </p:nvSpPr>
        <p:spPr>
          <a:xfrm>
            <a:off x="3593520" y="1461960"/>
            <a:ext cx="175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 Metro Areas</a:t>
            </a:r>
            <a:endParaRPr b="0" lang="en-US" sz="2400" spc="-1" strike="noStrike">
              <a:solidFill>
                <a:srgbClr val="ffffff"/>
              </a:solidFill>
              <a:latin typeface="Times New Roman"/>
            </a:endParaRPr>
          </a:p>
        </p:txBody>
      </p:sp>
      <p:sp>
        <p:nvSpPr>
          <p:cNvPr id="375" name=""/>
          <p:cNvSpPr/>
          <p:nvPr/>
        </p:nvSpPr>
        <p:spPr>
          <a:xfrm>
            <a:off x="961920" y="1371600"/>
            <a:ext cx="94320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pletion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of Stock)</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463"/>
            </a:gs>
            <a:gs pos="100000">
              <a:srgbClr val="00141d"/>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69840" y="247320"/>
            <a:ext cx="7926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b500"/>
                </a:solidFill>
                <a:latin typeface="Arial Narrow"/>
              </a:rPr>
              <a:t>Development Triggers: </a:t>
            </a:r>
            <a:br>
              <a:rPr sz="3600"/>
            </a:br>
            <a:r>
              <a:rPr b="0" lang="en-US" sz="3600" spc="-1" strike="noStrike">
                <a:solidFill>
                  <a:srgbClr val="e8b500"/>
                </a:solidFill>
                <a:latin typeface="Arial Narrow"/>
              </a:rPr>
              <a:t>Office Completions and Gross Returns</a:t>
            </a:r>
            <a:endParaRPr b="0" lang="en-US" sz="3600" spc="-1" strike="noStrike">
              <a:solidFill>
                <a:srgbClr val="e8b500"/>
              </a:solidFill>
              <a:latin typeface="Arial Narrow"/>
            </a:endParaRPr>
          </a:p>
        </p:txBody>
      </p:sp>
      <p:graphicFrame>
        <p:nvGraphicFramePr>
          <p:cNvPr id="377" name=""/>
          <p:cNvGraphicFramePr/>
          <p:nvPr/>
        </p:nvGraphicFramePr>
        <p:xfrm>
          <a:off x="838080" y="1530360"/>
          <a:ext cx="7404120" cy="4329000"/>
        </p:xfrm>
        <a:graphic>
          <a:graphicData uri="http://schemas.openxmlformats.org/presentationml/2006/ole">
            <p:oleObj r:id="rId1" spid="">
              <p:embed/>
              <p:pic>
                <p:nvPicPr>
                  <p:cNvPr id="378" name="" descr=""/>
                  <p:cNvPicPr/>
                  <p:nvPr/>
                </p:nvPicPr>
                <p:blipFill>
                  <a:blip r:embed="rId2"/>
                  <a:stretch/>
                </p:blipFill>
                <p:spPr>
                  <a:xfrm>
                    <a:off x="838080" y="1530360"/>
                    <a:ext cx="7404120" cy="4329000"/>
                  </a:xfrm>
                  <a:prstGeom prst="rect">
                    <a:avLst/>
                  </a:prstGeom>
                  <a:ln w="0">
                    <a:noFill/>
                  </a:ln>
                </p:spPr>
              </p:pic>
            </p:oleObj>
          </a:graphicData>
        </a:graphic>
      </p:graphicFrame>
      <p:sp>
        <p:nvSpPr>
          <p:cNvPr id="379" name=""/>
          <p:cNvSpPr/>
          <p:nvPr/>
        </p:nvSpPr>
        <p:spPr>
          <a:xfrm>
            <a:off x="898560" y="1295280"/>
            <a:ext cx="94284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ple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of Stock)</a:t>
            </a:r>
            <a:endParaRPr b="0" lang="en-US" sz="1800" spc="-1" strike="noStrike">
              <a:solidFill>
                <a:srgbClr val="ffffff"/>
              </a:solidFill>
              <a:latin typeface="Times New Roman"/>
            </a:endParaRPr>
          </a:p>
        </p:txBody>
      </p:sp>
      <p:sp>
        <p:nvSpPr>
          <p:cNvPr id="380" name=""/>
          <p:cNvSpPr/>
          <p:nvPr/>
        </p:nvSpPr>
        <p:spPr>
          <a:xfrm>
            <a:off x="6400800" y="1434960"/>
            <a:ext cx="167796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ross Returns (%)</a:t>
            </a:r>
            <a:endParaRPr b="0" lang="en-US" sz="1800" spc="-1" strike="noStrike">
              <a:solidFill>
                <a:srgbClr val="ffffff"/>
              </a:solidFill>
              <a:latin typeface="Times New Roman"/>
            </a:endParaRPr>
          </a:p>
        </p:txBody>
      </p:sp>
      <p:sp>
        <p:nvSpPr>
          <p:cNvPr id="381" name=""/>
          <p:cNvSpPr/>
          <p:nvPr/>
        </p:nvSpPr>
        <p:spPr>
          <a:xfrm>
            <a:off x="4629240" y="2013120"/>
            <a:ext cx="419040" cy="171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648320" y="2343240"/>
            <a:ext cx="361800" cy="0"/>
          </a:xfrm>
          <a:prstGeom prst="line">
            <a:avLst/>
          </a:prstGeom>
          <a:ln w="38160">
            <a:solidFill>
              <a:srgbClr val="e8b5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5022720" y="1905120"/>
            <a:ext cx="13338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mple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Gross Returns</a:t>
            </a:r>
            <a:endParaRPr b="0" lang="en-US" sz="1600" spc="-1" strike="noStrike">
              <a:solidFill>
                <a:srgbClr val="ffffff"/>
              </a:solidFill>
              <a:latin typeface="Times New Roman"/>
            </a:endParaRPr>
          </a:p>
        </p:txBody>
      </p:sp>
      <p:sp>
        <p:nvSpPr>
          <p:cNvPr id="384" name=""/>
          <p:cNvSpPr/>
          <p:nvPr/>
        </p:nvSpPr>
        <p:spPr>
          <a:xfrm>
            <a:off x="1009800" y="6134040"/>
            <a:ext cx="5181480" cy="3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Jones Lang LaSalle, August 2001</a:t>
            </a:r>
            <a:endParaRPr b="0" lang="en-US" sz="1200" spc="-1" strike="noStrike">
              <a:solidFill>
                <a:srgbClr val="ffffff"/>
              </a:solidFill>
              <a:latin typeface="Times New Roman"/>
            </a:endParaRPr>
          </a:p>
        </p:txBody>
      </p:sp>
      <p:sp>
        <p:nvSpPr>
          <p:cNvPr id="385" name=""/>
          <p:cNvSpPr/>
          <p:nvPr/>
        </p:nvSpPr>
        <p:spPr>
          <a:xfrm>
            <a:off x="3583800" y="1295280"/>
            <a:ext cx="175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 Metro Ar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6:24:41Z</dcterms:created>
  <dc:creator>steveg</dc:creator>
  <dc:description/>
  <dc:language>en-US</dc:language>
  <cp:lastModifiedBy>Jeremy Kelly</cp:lastModifiedBy>
  <cp:lastPrinted>2000-03-29T14:19:42Z</cp:lastPrinted>
  <dcterms:modified xsi:type="dcterms:W3CDTF">2002-02-01T09:34:59Z</dcterms:modified>
  <cp:revision>265</cp:revision>
  <dc:subject/>
  <dc:title>No Slide Title</dc:title>
</cp:coreProperties>
</file>