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D41-B276-4D68-898A-1D7D9BF2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332-BC00-4C3C-BEF8-B27368F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FFD-9DF0-42FA-8BC7-67119376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FCF-0482-43C4-98D2-720CBF57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D83-8AF4-4DCC-8C51-211E6DE7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1DA-4859-411C-A2F0-92F2FE16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F32-08BD-4C60-A090-E2DF88D3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ADE-3BBF-45C6-BAC1-0CE9E8B0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519-F96D-4A9F-AC2A-203F5E51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D72-CA07-421B-A1CF-B91D429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5AC-1FFC-4068-81D1-7FD71CF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4C7-2968-4CD3-B445-99F0852B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8DB5-43B8-4A59-9E0F-888EF58A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Narrow"/>
              </a:rPr>
              <a:t>GEMACA II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What Is Regional Competitivenes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n places compete? And what’s new abou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mpeting in which games for what priz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ow do we tell who’s winning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ho gets to play? Bringing all stake-holders into th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91520" y="228600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2209680"/>
            <a:ext cx="7318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2286000"/>
            <a:ext cx="618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Haettenschweiler"/>
              </a:rPr>
              <a:t>L S E</a:t>
            </a:r>
            <a:endParaRPr b="0" lang="en-US" sz="54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an places compete?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a debate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(in para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Cities don’t compete … only firms do’ (</a:t>
            </a:r>
            <a:r>
              <a:rPr b="0" i="1" lang="en-GB" sz="2200" spc="-1" strike="noStrike">
                <a:solidFill>
                  <a:srgbClr val="ffffff"/>
                </a:solidFill>
                <a:latin typeface="Arial Narrow"/>
              </a:rPr>
              <a:t>Paul Krugman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 ‘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Internationally successful firms derive key elements of competitive advantage from the regional environments in which they are based’ (</a:t>
            </a:r>
            <a:r>
              <a:rPr b="0" i="1" lang="en-GB" sz="2200" spc="-1" strike="noStrike">
                <a:solidFill>
                  <a:srgbClr val="ffffff"/>
                </a:solidFill>
                <a:latin typeface="Arial Narrow"/>
              </a:rPr>
              <a:t>Michael Porter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There is an intellectually respectable case to be made for places to intervene to boost competitiveness – but most actual cases fail this test, and are disguised efforts to promote special interests – at the cost of others’ (</a:t>
            </a:r>
            <a:r>
              <a:rPr b="0" i="1" lang="en-GB" sz="2200" spc="-1" strike="noStrike">
                <a:solidFill>
                  <a:srgbClr val="ffffff"/>
                </a:solidFill>
                <a:latin typeface="Arial Narrow"/>
              </a:rPr>
              <a:t>Krugman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 Narrow"/>
              </a:rPr>
              <a:t>i.e.  Collective action could make a real difference to local productivity and prosperity – but it’s only likely to be positive if strategies are thought through on an economy-wide ba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What’s new about this?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Haven’t city-regions always compe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Yes – but in the modern industrial era what mattered was location, technology and corporat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w (from 1980s/90s) – location matters less – and place-based (face-to-face) external economies matte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specially qualitative assets (to support qualities-based competition), market intelligence – and rivalry (Por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out these, competition means ‘a race to the bottom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d territorial agencies can influence the ‘new’ assets more than old ‘location facto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Markets that Cities Compete in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6782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PRODUCT MARKETS – for firms based and/or operating from there (nb Porter’s focus on home ba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NWARD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ESIRABLE RESIDENTS – notably mobile highly skilled lab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RECOGNITION / FAVOURS from central / EU 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All operate at multiple spatial scales – with local, regional, national, European, global ri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And the most important of these is 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Typically - product market compet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major source of overall performance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game whose prizes are most widely shared within an area (cf. inward inves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least likely to be zero-sum (or purely wastef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ame location factors don’t apply to all – so need to make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ut in all cases, net gains depend on developing distinctive strengths / U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Narrow"/>
              </a:rPr>
              <a:t>How do we tell who’s winning?..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 product terms  COMPETITIVE ADVANTAG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apacity to sell your products in contested mark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vealed for geographical areas in higher levels o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x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l have biases as measures – and reflect patterns of specialisation etc. – so need to consider together (and allow for assets deploy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001000" y="2514600"/>
          <a:ext cx="99072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514600"/>
                    <a:ext cx="9907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Narrow"/>
              </a:rPr>
              <a:t>Issues in assessing London’s Performance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14400" y="228564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Exemplifies key issues in evaluating competitive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xtensive use of human capital etc.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developed elsewhere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– output per head overstates total factor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xport performance reflects pattern of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specialisation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(lower because of limited manufacturing, higher because of City ro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rapid ‘productivity’ growth reflects (to unknown degree)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institutional influences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on pay disparities in the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ffects of constrained / inelastic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supply of space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– lowering measured growth and raising measured productivity – especially for core urban areas –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less so for F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Places, Interests and Competition</a:t>
            </a:r>
            <a:br>
              <a:rPr sz="4800"/>
            </a:b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6782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Going back to Krugm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basically competition involves INTERESTS which happen to be located in places – with positive / negative spillovers around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for ‘good’ spatial strategies, ne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internalise (and recognise) these spillovers (hence </a:t>
            </a:r>
            <a:r>
              <a:rPr b="0" i="1" lang="en-GB" sz="1800" spc="-1" strike="noStrike">
                <a:solidFill>
                  <a:srgbClr val="ffffff"/>
                </a:solidFill>
                <a:latin typeface="Arial Narrow"/>
              </a:rPr>
              <a:t>city-regions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develop a political / institutional capacity reflecting the whole range of place-dependent economic interests – not ju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Property /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CBD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Traditional s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epends on recognising and creating vested interests in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interdependence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and regional assets of long term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8:29:31Z</dcterms:created>
  <dc:creator>CHESHIRE</dc:creator>
  <dc:description/>
  <dc:language>en-US</dc:language>
  <cp:lastModifiedBy>IT Services</cp:lastModifiedBy>
  <dcterms:modified xsi:type="dcterms:W3CDTF">2001-11-07T17:20:06Z</dcterms:modified>
  <cp:revision>29</cp:revision>
  <dc:subject/>
  <dc:title>PowerPoint Presentation</dc:title>
</cp:coreProperties>
</file>