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A2DA-5848-48C3-80D7-5AA8877B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uld we begin now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ood morning Ladies and gentl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y name is Vincent Gollain and I ’m in charge of economics studies at Iaurif. Iaurif is a french non profit association links to the Ile-de-France regional counci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aim of my presentation this morning is to describe the scientifical and technological parformance of the FURs reg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ase apologise my french accent. I hope that it will be an exotism touch in this so prestigious english school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240" y="4708080"/>
            <a:ext cx="6248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ris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Stuttgart-Karlsruhe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Rhin-Ruhr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Electrique-électro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Machines - méca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Chimie-Pharmac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Ménages 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Chimie-pharmac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Ménages-BTP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. Procédés ind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Les 3 autr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Procédés industriel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. Machines- méca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unich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hin-Main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Electron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Chimie pharmac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 Instrument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Machines méca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Procédés industriel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emier point : cluster et compétitivité ré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 ’ve divised my presentation in four main parts. First, I ’ll introduce the subject. Then, I  ’m going to give you the main results for science .  Thirdly, I ’ll show you the geographic distribution of the technological regions. Finally, I ’ll concl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 ’m going to speach about the findings of this study but you will find all the methodological information in the paper at your dispo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t  me begin by introducing the international contex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560" y="4708440"/>
            <a:ext cx="60958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e premier graphique vous illustre la répartition des dépenses mondiales consacrées à la recherche-développement publique et priv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e vous le constatez, les pays de la Triade - Etats-Unis ; Europe ; Japon - représentent à eux seuls près de 80 % des dépenses mondiales de recherche alors qu ’ils ne pèsent que 60% du PIB et 25% de la population mondia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lus précisément, les Etats-Unis concentrent 36 % des dépenses mondiales de recherche, l ’Europe 27% et le Japon 16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retrouve cette hétérogénéité à l ’échelle des pays européens comme l ’illustre ce nouveau graph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ant de vous présenter les principaux résultats obtenus pour décrire l ’Europe de la science, il me semble intéressant de vous décrire brièvement la méthode employ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ut d ’abord, parmi les indicateurs disponibles, nous avons retenu celui qui nous semble le plus approprié à savoir les publications scientif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 indicateur, qui évalue l ’efficacité de la recherche publique, nous a permis d ’avoir une analyse comparative la plus fine et la plus homogène possible entre les métropoles européen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 indicateur a cependant une limite, il ne porte que sur les sciences dures et les sciences du vivant. Dit autrement, les sciences humaines n ’en font pas partie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s remarques méthodologiques étant posées, passons aux résult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52280" y="4708080"/>
            <a:ext cx="659448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240" y="4708080"/>
            <a:ext cx="6248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ondres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ris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Rands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Biolo fondamenta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Biolo fonda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Recherche médica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Recherche médi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Biolo appliqué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Sc univer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Biolo appl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Sc. Pour l ’ingénieur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Mathémat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3. Sc. Pour l ’ingéni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Les 4 autr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. Sc. De l ’un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hin-Ruhr :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tuttgart-Karlsruh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Physiqu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Mathémat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Chimi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5. Bio. Fonda et sc de l ’ingénieu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t de vous présenter les principaux résultats obtenus pour décrire l ’Europe de la technologie, il me faut aussi vous décrire brièvement la méthode employ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t d ’abord, parmi les indicateurs disponibles, nous avons retenu celui qui nous semble le plus approprié à savoir les dépôts de brevets europé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 indicateur nous a permis d ’avoir une analyse comparative la plus fine et la plus homogène possible entre les métropoles européen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 indicateur a cependant une limite, il est dépendant des stratégies de dépôts des entrep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s remarques méthodologiques étant posées, passons aux résul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1A0-66BF-4BC8-9367-E97FBF66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B78-DF31-4234-B44A-9198389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47C-E5F9-4CAA-8713-6762CC7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BC9-EE20-4D5A-8D23-21674752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A5F-1FDF-48EA-8A37-9D456F5F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CEF4-04A7-458C-A765-8BB21D6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D22-E99C-48FA-8D81-41A09FA5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E9D-1229-4348-89AE-A012A23D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55A-BE90-4B62-87A2-962C37C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187-434E-4D34-9692-EC65064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886-A6FD-4CCD-8FD3-C2738D4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CD9-13AF-4DCA-888C-B309D68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ABBC-1459-4B74-96D6-AE6501E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7284-16FC-450E-A511-3CD8B89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FEAA-61F5-4612-A3EE-890998C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6FF-FCF8-47EE-A199-131C8B7B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CFB-F69D-44DA-9100-7DB6C0B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3CA-46CE-4DFB-A18E-19B6F288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E2B-4B16-4B69-B401-893820B2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021-2280-4B88-AF26-7CE31FFD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C69-3151-42C1-8D9F-8129609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F8C-C5C6-443B-BBEA-2F18D36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5AA-E3B9-41BE-A883-7AADD04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DFC-0598-4AA2-9F5F-5F189AB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811-41F2-4583-B5F5-7942C8BAA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51DA-B35A-4A52-8CCD-C048D05DC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269800"/>
            <a:ext cx="857232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CIENCE AND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5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ECHNOLOG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5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IN EUROP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3800" y="5032440"/>
            <a:ext cx="3905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ent GOLLAI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AURIF, Pari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iauri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228600"/>
            <a:ext cx="56199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15%20brevets%201998%20anglais" descr=""/>
          <p:cNvPicPr/>
          <p:nvPr/>
        </p:nvPicPr>
        <p:blipFill>
          <a:blip r:embed="rId1"/>
          <a:srcRect l="27820" t="11636" r="16182" b="0"/>
          <a:stretch/>
        </p:blipFill>
        <p:spPr>
          <a:xfrm>
            <a:off x="800280" y="214200"/>
            <a:ext cx="73674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The leading Technological Reg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8051" t="10488" r="13565" b="14845"/>
          <a:stretch/>
        </p:blipFill>
        <p:spPr>
          <a:xfrm>
            <a:off x="6238800" y="1111320"/>
            <a:ext cx="2622600" cy="165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3152880" y="1071720"/>
            <a:ext cx="2801880" cy="1714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1880" y="27169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Paris 6,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269964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Rhin-Ruhr 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76520" y="270900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Stuttgart 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>
            <a:lum bright="-4000"/>
          </a:blip>
          <a:srcRect l="2657" t="5764" r="6200" b="2217"/>
          <a:stretch/>
        </p:blipFill>
        <p:spPr>
          <a:xfrm>
            <a:off x="241200" y="1057320"/>
            <a:ext cx="2557440" cy="172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461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% = percentage of european patents (1998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520" y="3924000"/>
            <a:ext cx="2657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lectronics -electr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Chemistery - Pharmaceutic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9840" y="3984120"/>
            <a:ext cx="265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achines - mechan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Household ; civil eng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Industrial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200" y="3987720"/>
            <a:ext cx="2657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Chemistery - Pharmaceutic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Household ; civil eng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Industrial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912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ondon = 2,9 %  (rank : number 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2960" y="2598480"/>
            <a:ext cx="829008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cc66"/>
                </a:solidFill>
                <a:latin typeface="Arial"/>
              </a:rPr>
              <a:t>CONCLUSION 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520" y="95040"/>
            <a:ext cx="867888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Lond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0040" y="968400"/>
            <a:ext cx="74898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52600" y="3904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457200" y="514440"/>
            <a:ext cx="7866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6760" y="1642680"/>
            <a:ext cx="8602560" cy="445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Science in Euro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Technology in Europe</a:t>
            </a: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92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560" y="2007720"/>
            <a:ext cx="7353360" cy="33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7560" y="2286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04080" y="55468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urce : OE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3680" y="809640"/>
            <a:ext cx="8076960" cy="473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6120" y="6181560"/>
            <a:ext cx="82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GERD : Gross domestic expenditure on research and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760" y="1508040"/>
            <a:ext cx="863604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9400" y="1189080"/>
            <a:ext cx="630540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SCIENCE IN EUROP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salle3-lulli" descr=""/>
          <p:cNvPicPr/>
          <p:nvPr/>
        </p:nvPicPr>
        <p:blipFill>
          <a:blip r:embed="rId1"/>
          <a:stretch/>
        </p:blipFill>
        <p:spPr>
          <a:xfrm>
            <a:off x="2147760" y="3357720"/>
            <a:ext cx="493416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5%20publications%201998%20anglais" descr=""/>
          <p:cNvPicPr/>
          <p:nvPr/>
        </p:nvPicPr>
        <p:blipFill>
          <a:blip r:embed="rId1"/>
          <a:srcRect l="17354" t="11675" r="19130" b="0"/>
          <a:stretch/>
        </p:blipFill>
        <p:spPr>
          <a:xfrm>
            <a:off x="1023840" y="290520"/>
            <a:ext cx="71820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160" y="48960"/>
            <a:ext cx="883764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The </a:t>
            </a:r>
            <a:r>
              <a:rPr b="1" lang="en-GB" sz="4400" spc="-1" strike="noStrike">
                <a:solidFill>
                  <a:srgbClr val="ff9933"/>
                </a:solidFill>
                <a:latin typeface="Times New Roman"/>
              </a:rPr>
              <a:t>leading</a:t>
            </a:r>
            <a:r>
              <a:rPr b="1" lang="fr-FR" sz="4400" spc="-1" strike="noStrike">
                <a:solidFill>
                  <a:srgbClr val="ff9933"/>
                </a:solidFill>
                <a:latin typeface="Times New Roman"/>
              </a:rPr>
              <a:t> « Science Regions 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towerbridge" descr=""/>
          <p:cNvPicPr/>
          <p:nvPr/>
        </p:nvPicPr>
        <p:blipFill>
          <a:blip r:embed="rId1"/>
          <a:srcRect l="19046" t="7897" r="15502" b="23774"/>
          <a:stretch/>
        </p:blipFill>
        <p:spPr>
          <a:xfrm>
            <a:off x="271440" y="1023840"/>
            <a:ext cx="2449440" cy="170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2672" t="5764" r="6215" b="2195"/>
          <a:stretch/>
        </p:blipFill>
        <p:spPr>
          <a:xfrm>
            <a:off x="3251160" y="1057320"/>
            <a:ext cx="2557440" cy="1720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bright="10000"/>
          </a:blip>
          <a:srcRect l="3248" t="6651" r="9743" b="7095"/>
          <a:stretch/>
        </p:blipFill>
        <p:spPr>
          <a:xfrm>
            <a:off x="6232680" y="1085760"/>
            <a:ext cx="2584440" cy="1706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8800" y="2660040"/>
            <a:ext cx="21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Londres 6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" y="3810600"/>
            <a:ext cx="26575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Fundamental bi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edical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Applied biology &amp; ec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0080" y="2728080"/>
            <a:ext cx="186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Paris 5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200" y="2753640"/>
            <a:ext cx="213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 Randstad 3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61280"/>
            <a:ext cx="914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% = percentage of european scientific publications (year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0160" y="3832920"/>
            <a:ext cx="26575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Chemist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Phys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Earth / Space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. Mathema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6440" y="3881520"/>
            <a:ext cx="26575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. Earth / Space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Fundamental bi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Medical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Applied biology &amp; ec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3.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57560" y="1332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3720" y="1189080"/>
            <a:ext cx="718488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TECHNOLOGY </a:t>
            </a:r>
            <a:br>
              <a:rPr sz="6000"/>
            </a:b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IN EUROP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60520" y="3311640"/>
            <a:ext cx="443556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0:39:59Z</dcterms:created>
  <dc:creator>iaurif</dc:creator>
  <dc:description/>
  <dc:language>en-US</dc:language>
  <cp:lastModifiedBy>iaurif - gollain</cp:lastModifiedBy>
  <cp:lastPrinted>2002-01-29T13:35:30Z</cp:lastPrinted>
  <dcterms:modified xsi:type="dcterms:W3CDTF">2002-02-01T15:30:34Z</dcterms:modified>
  <cp:revision>176</cp:revision>
  <dc:subject/>
  <dc:title>PDU DE CERGY-PONTOISE</dc:title>
</cp:coreProperties>
</file>