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792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C2F3-393D-4596-B72F-54B8E65DE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uld we begin now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ood morning Ladies and gentle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y name is Vincent Gollain and I ’m in charge of economics studies at Iaurif. Iaurif is a french non profit association links to the Ile-de-France regional counci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aim of my presentation this morning is to describe the scientifical and technological parformance of the FURs reg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lease apologise my french accent. I hope that it will be an exotism touch in this so prestigious english school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240" y="4708080"/>
            <a:ext cx="624852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aris :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Stuttgart-Karlsruhe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Rhin-Ruhr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Electrique-électroniqu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Machines - mécaniqu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1. Chimie-Pharmac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Instrumentati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. Instrumentati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1. Ménages B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. Chimie-pharmaci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. Ménages-BTP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1. Procédés ind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. Les 3 autre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. Procédés industriel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2. Machines- méca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unich :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Rhin-Main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 Electroniqu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. Chimie pharmaci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 Instrumentati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. Machines méca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. Procédés industriel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emier point : cluster et compétitivité rég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 ’ve divised my presentation in four main parts. First, I ’ll introduce the subject. Then, I  ’m going to give you the main results for science .  Thirdly, I ’ll show you the geographic distribution of the technological regions. Finally, I ’ll conclu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 ’m going to speach about the findings of this study but you will find all the methodological information in the paper at your dispos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t  me begin by introducing the international context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304560" y="4708440"/>
            <a:ext cx="609588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e premier graphique vous illustre la répartition des dépenses mondiales consacrées à la recherche-développement publique et privé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mme vous le constatez, les pays de la Triade - Etats-Unis ; Europe ; Japon - représentent à eux seuls près de 80 % des dépenses mondiales de recherche alors qu ’ils ne pèsent que 60% du PIB et 25% de la population mondia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lus précisément, les Etats-Unis concentrent 36 % des dépenses mondiales de recherche, l ’Europe 27% et le Japon 16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 retrouve cette hétérogénéité à l ’échelle des pays européens comme l ’illustre ce nouveau graph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vant de vous présenter les principaux résultats obtenus pour décrire l ’Europe de la science, il me semble intéressant de vous décrire brièvement la méthode employé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ut d ’abord, parmi les indicateurs disponibles, nous avons retenu celui qui nous semble le plus approprié à savoir les publications scientifiq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t indicateur, qui évalue l ’efficacité de la recherche publique, nous a permis d ’avoir une analyse comparative la plus fine et la plus homogène possible entre les métropoles européen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t indicateur a cependant une limite, il ne porte que sur les sciences dures et les sciences du vivant. Dit autrement, les sciences humaines n ’en font pas partie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s remarques méthodologiques étant posées, passons aux résult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52280" y="4708080"/>
            <a:ext cx="659448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228240" y="4708080"/>
            <a:ext cx="624852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ondres :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aris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Randst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 Biolo fondamenta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Chimi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3. Biolo fondamen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Recherche médica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Physiqu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3. Recherche médi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Biolo appliqué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Sc univer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3. Biolo appliqu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Sc. Pour l ’ingénieur.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Mathématique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3. Sc. Pour l ’ingéni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. Chimi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. Les 4 autre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2. Sc. De l ’un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Rhin-Ruhr :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tuttgart-Karlsruh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 Physiqu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. Physiqu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 Mathématique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. Chimi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. Chimi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5. Bio. Fonda et sc de l ’ingénieur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vant de vous présenter les principaux résultats obtenus pour décrire l ’Europe de la technologie, il me faut aussi vous décrire brièvement la méthode employé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out d ’abord, parmi les indicateurs disponibles, nous avons retenu celui qui nous semble le plus approprié à savoir les dépôts de brevets europée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t indicateur nous a permis d ’avoir une analyse comparative la plus fine et la plus homogène possible entre les métropoles européen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t indicateur a cependant une limite, il est dépendant des stratégies de dépôts des entrepr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s remarques méthodologiques étant posées, passons aux résul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E72F-9E62-42BC-A524-D862D5E2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06D5-CA20-40DF-8485-290076E8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AAB-92C4-4B78-BF28-6721D18C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79B-1FF3-4883-87B4-4E99E85D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22E8-AC25-427D-B411-67A4A180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95E1-0198-4B35-BAE1-DDDA07EB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1553-FCD3-4F63-ABB7-9AFD161D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FD4B-014D-435D-A543-FD1A74F3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D6A7-D92B-4E78-B58E-78BC6162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B185-E2B1-4399-91C6-7EF83816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EDA7-30F1-4DA3-AD25-A2F864E4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0364-959B-4CB3-B5A4-98F617BC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CC7A-854D-4006-9643-D74E4C88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F7FF-CD6A-44EB-9053-51E717BF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ED5A-E5FA-474A-9747-BDABB19E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07A2-AAD5-48CB-AB36-9F7498DA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CBDB-E2FF-4FB0-BABC-941F5F33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E4D-F7ED-426A-8B90-79FF847B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3F4-32C6-41C4-A7B8-26C7C5B6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CB3B-4915-438E-8C50-759EF5F7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036-3C03-44AF-B818-644E8B8F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F63F-1276-4EB0-9F30-31D4D693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55D-03A6-4B83-ABAC-0496FE10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045-1C2D-4FF9-B194-789D0FE5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05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31DC-47B1-4371-B385-09868E9B4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42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54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C47D-865F-4F93-9D47-F9BAA5A57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2269800"/>
            <a:ext cx="857232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SCIENCE AND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5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TECHNOLOGY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5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IN EUROP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3800" y="5032440"/>
            <a:ext cx="3905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ncent GOLLAIN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AURIF, Pari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ww.iaurif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logo-gemaca" descr=""/>
          <p:cNvPicPr/>
          <p:nvPr/>
        </p:nvPicPr>
        <p:blipFill>
          <a:blip r:embed="rId1"/>
          <a:srcRect l="0" t="0" r="24298" b="0"/>
          <a:stretch/>
        </p:blipFill>
        <p:spPr>
          <a:xfrm>
            <a:off x="1752480" y="228600"/>
            <a:ext cx="5619960" cy="162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15%20brevets%201998%20anglais" descr=""/>
          <p:cNvPicPr/>
          <p:nvPr/>
        </p:nvPicPr>
        <p:blipFill>
          <a:blip r:embed="rId1"/>
          <a:srcRect l="27820" t="11636" r="16182" b="0"/>
          <a:stretch/>
        </p:blipFill>
        <p:spPr>
          <a:xfrm>
            <a:off x="800280" y="214200"/>
            <a:ext cx="7367400" cy="64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8960"/>
            <a:ext cx="914400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9933"/>
                </a:solidFill>
                <a:latin typeface="Times New Roman"/>
              </a:rPr>
              <a:t>The leading Technological Reg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8051" t="10488" r="13565" b="14845"/>
          <a:stretch/>
        </p:blipFill>
        <p:spPr>
          <a:xfrm>
            <a:off x="6238800" y="1111320"/>
            <a:ext cx="2622600" cy="1658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3152880" y="1071720"/>
            <a:ext cx="2801880" cy="1714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31880" y="271692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 Paris 6,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10240" y="2699640"/>
            <a:ext cx="213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 Rhin-Ruhr 6,1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76520" y="2709000"/>
            <a:ext cx="213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 Stuttgart 6,1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>
            <a:lum bright="-4000"/>
          </a:blip>
          <a:srcRect l="2657" t="5764" r="6200" b="2217"/>
          <a:stretch/>
        </p:blipFill>
        <p:spPr>
          <a:xfrm>
            <a:off x="241200" y="1057320"/>
            <a:ext cx="2557440" cy="1720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6461280"/>
            <a:ext cx="9144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% = percentage of european patents (1998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520" y="3924000"/>
            <a:ext cx="265752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Electronics -electric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Instru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2. Chemistery - Pharmaceutic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09840" y="3984120"/>
            <a:ext cx="2657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Machines - mechan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2. Household ; civil eng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2. Industrial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07200" y="3987720"/>
            <a:ext cx="265752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Chemistery - Pharmaceutic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Household ; civil eng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Industrial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912280"/>
            <a:ext cx="9144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London = 2,9 %  (rank : number 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2120" y="1905120"/>
            <a:ext cx="7619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57560" y="133200"/>
            <a:ext cx="990720" cy="9907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3000" y="285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72960" y="2598480"/>
            <a:ext cx="8290080" cy="30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cc66"/>
                </a:solidFill>
                <a:latin typeface="Arial"/>
              </a:rPr>
              <a:t>CONCLUSION 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520" y="95040"/>
            <a:ext cx="867888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London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70040" y="968400"/>
            <a:ext cx="7489800" cy="5661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52600" y="3904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Thank you for your atten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Merci de votre atten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logo-gemaca" descr=""/>
          <p:cNvPicPr/>
          <p:nvPr/>
        </p:nvPicPr>
        <p:blipFill>
          <a:blip r:embed="rId1"/>
          <a:srcRect l="0" t="0" r="24298" b="0"/>
          <a:stretch/>
        </p:blipFill>
        <p:spPr>
          <a:xfrm>
            <a:off x="457200" y="514440"/>
            <a:ext cx="78660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66760" y="1642680"/>
            <a:ext cx="8602560" cy="445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Times New Roman"/>
              </a:rPr>
              <a:t>Science in Europ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Times New Roman"/>
              </a:rPr>
              <a:t>Technology in Europe</a:t>
            </a:r>
            <a:r>
              <a:rPr b="1" lang="fr-FR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26920" y="255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SUMMARY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1905120"/>
            <a:ext cx="7619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560" y="2007720"/>
            <a:ext cx="7353360" cy="33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INTRODUCTION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57560" y="228600"/>
            <a:ext cx="990720" cy="9907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3000" y="285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04080" y="554688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ource : OE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3680" y="809640"/>
            <a:ext cx="8076960" cy="4737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76120" y="6181560"/>
            <a:ext cx="82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GERD : Gross domestic expenditure on research and develo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6760" y="1508040"/>
            <a:ext cx="863604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057560" y="133200"/>
            <a:ext cx="990720" cy="9907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3000" y="285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09400" y="1189080"/>
            <a:ext cx="6305400" cy="20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SCIENCE IN EUROPE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0" name="salle3-lulli" descr=""/>
          <p:cNvPicPr/>
          <p:nvPr/>
        </p:nvPicPr>
        <p:blipFill>
          <a:blip r:embed="rId1"/>
          <a:stretch/>
        </p:blipFill>
        <p:spPr>
          <a:xfrm>
            <a:off x="2147760" y="3357720"/>
            <a:ext cx="4934160" cy="3371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15%20publications%201998%20anglais" descr=""/>
          <p:cNvPicPr/>
          <p:nvPr/>
        </p:nvPicPr>
        <p:blipFill>
          <a:blip r:embed="rId1"/>
          <a:srcRect l="17354" t="11675" r="19130" b="0"/>
          <a:stretch/>
        </p:blipFill>
        <p:spPr>
          <a:xfrm>
            <a:off x="1023840" y="290520"/>
            <a:ext cx="718200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8160" y="48960"/>
            <a:ext cx="883764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9933"/>
                </a:solidFill>
                <a:latin typeface="Times New Roman"/>
              </a:rPr>
              <a:t>The </a:t>
            </a:r>
            <a:r>
              <a:rPr b="1" lang="en-GB" sz="4400" spc="-1" strike="noStrike">
                <a:solidFill>
                  <a:srgbClr val="ff9933"/>
                </a:solidFill>
                <a:latin typeface="Times New Roman"/>
              </a:rPr>
              <a:t>leading</a:t>
            </a:r>
            <a:r>
              <a:rPr b="1" lang="fr-FR" sz="4400" spc="-1" strike="noStrike">
                <a:solidFill>
                  <a:srgbClr val="ff9933"/>
                </a:solidFill>
                <a:latin typeface="Times New Roman"/>
              </a:rPr>
              <a:t> « Science Regions »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3" name="towerbridge" descr=""/>
          <p:cNvPicPr/>
          <p:nvPr/>
        </p:nvPicPr>
        <p:blipFill>
          <a:blip r:embed="rId1"/>
          <a:srcRect l="19046" t="7897" r="15502" b="23774"/>
          <a:stretch/>
        </p:blipFill>
        <p:spPr>
          <a:xfrm>
            <a:off x="271440" y="1023840"/>
            <a:ext cx="2449440" cy="1701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2672" t="5764" r="6215" b="2195"/>
          <a:stretch/>
        </p:blipFill>
        <p:spPr>
          <a:xfrm>
            <a:off x="3251160" y="1057320"/>
            <a:ext cx="2557440" cy="1720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>
            <a:lum bright="10000"/>
          </a:blip>
          <a:srcRect l="3248" t="6651" r="9743" b="7095"/>
          <a:stretch/>
        </p:blipFill>
        <p:spPr>
          <a:xfrm>
            <a:off x="6232680" y="1085760"/>
            <a:ext cx="2584440" cy="1706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88800" y="2660040"/>
            <a:ext cx="213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 Londres 6,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520" y="3810600"/>
            <a:ext cx="2657520" cy="23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Fundamental bi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Medical rese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Applied biology &amp; ec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Engine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10080" y="2728080"/>
            <a:ext cx="186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. Paris 5,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6200" y="2753640"/>
            <a:ext cx="213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. Randstad 3,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61280"/>
            <a:ext cx="9144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% = percentage of european scientific publications (year 199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70160" y="3832920"/>
            <a:ext cx="265752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Chemist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Phys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Earth / Space Sci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Mathema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56440" y="3881520"/>
            <a:ext cx="265752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2. Earth / Space Sci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3. Fundamental bi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3. Medical rese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3. Applied biology &amp; ec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3. Engine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057560" y="133200"/>
            <a:ext cx="990720" cy="9907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63720" y="1189080"/>
            <a:ext cx="7184880" cy="20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TECHNOLOGY </a:t>
            </a:r>
            <a:br>
              <a:rPr sz="6000"/>
            </a:b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IN EUROPE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360520" y="3311640"/>
            <a:ext cx="4435560" cy="337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0:39:59Z</dcterms:created>
  <dc:creator>iaurif</dc:creator>
  <dc:description/>
  <dc:language>en-US</dc:language>
  <cp:lastModifiedBy>iaurif - gollain</cp:lastModifiedBy>
  <cp:lastPrinted>2002-01-29T13:35:30Z</cp:lastPrinted>
  <dcterms:modified xsi:type="dcterms:W3CDTF">2002-02-01T15:30:34Z</dcterms:modified>
  <cp:revision>176</cp:revision>
  <dc:subject/>
  <dc:title>PDU DE CERGY-PONTOISE</dc:title>
</cp:coreProperties>
</file>