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188-B0C3-4F4F-A3FB-038E3F30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CBA-2B95-4051-99BF-EECF7E46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62E-B4BB-42FD-A372-687C0576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794-63FC-49F1-8C00-38219E63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961-7CF1-4659-A1F1-62D1F394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BEB-A820-48BC-9181-D650FF51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ECB-2395-4328-953F-1F72BE39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D7E-23B9-496D-8A08-6E1A360B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97C-6BA7-404D-B243-BD97E9FF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1BB-5F6F-4389-82C6-3A66D44B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8D8-3EDB-432F-926D-7294DD5C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6A2-8E4B-4386-A5E9-48F4CA85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8738-E81F-485D-9A8E-430926616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00"/>
                </a:solidFill>
                <a:latin typeface="Arial Narrow"/>
              </a:rPr>
              <a:t>GEMACA II</a:t>
            </a:r>
            <a:r>
              <a:rPr b="0" lang="en-GB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0" lang="en-GB" sz="3600" spc="-1" strike="noStrike">
                <a:solidFill>
                  <a:srgbClr val="ffff00"/>
                </a:solidFill>
                <a:latin typeface="Arial Narrow"/>
              </a:rPr>
              <a:t>The Functional Urban Regions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Arial Narrow"/>
              </a:rPr>
              <a:t>What and 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Why defin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What we can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001000" y="2514600"/>
          <a:ext cx="990720" cy="6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2514600"/>
                    <a:ext cx="9907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difference boundaries make: Some FURS which are also NU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1676520"/>
            <a:ext cx="9143640" cy="4800600"/>
            <a:chOff x="0" y="1676520"/>
            <a:chExt cx="9143640" cy="4800600"/>
          </a:xfrm>
        </p:grpSpPr>
        <p:grpSp>
          <p:nvGrpSpPr>
            <p:cNvPr id="201" name=""/>
            <p:cNvGrpSpPr/>
            <p:nvPr/>
          </p:nvGrpSpPr>
          <p:grpSpPr>
            <a:xfrm>
              <a:off x="7200" y="1680480"/>
              <a:ext cx="9127800" cy="4791600"/>
              <a:chOff x="7200" y="1680480"/>
              <a:chExt cx="9127800" cy="47916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200" y="1680480"/>
                <a:ext cx="2742840" cy="892800"/>
                <a:chOff x="7200" y="1680480"/>
                <a:chExt cx="2742840" cy="8928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200" y="1680480"/>
                  <a:ext cx="2742840" cy="89280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7200" y="1680480"/>
                  <a:ext cx="2742480" cy="892800"/>
                  <a:chOff x="7200" y="1680480"/>
                  <a:chExt cx="2742480" cy="89280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113760" y="1680480"/>
                    <a:ext cx="2529000" cy="89280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200" y="1680480"/>
                    <a:ext cx="2742480" cy="89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" name=""/>
              <p:cNvGrpSpPr/>
              <p:nvPr/>
            </p:nvGrpSpPr>
            <p:grpSpPr>
              <a:xfrm>
                <a:off x="2750400" y="1680480"/>
                <a:ext cx="2296080" cy="892800"/>
                <a:chOff x="2750400" y="1680480"/>
                <a:chExt cx="2296080" cy="8928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2750400" y="1680480"/>
                  <a:ext cx="2296080" cy="89280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2750400" y="1680480"/>
                  <a:ext cx="2295720" cy="892800"/>
                  <a:chOff x="2750400" y="1680480"/>
                  <a:chExt cx="2295720" cy="8928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2856240" y="1680480"/>
                    <a:ext cx="2083320" cy="89280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1991 Populatio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750400" y="1680480"/>
                    <a:ext cx="2295720" cy="89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2" name=""/>
              <p:cNvGrpSpPr/>
              <p:nvPr/>
            </p:nvGrpSpPr>
            <p:grpSpPr>
              <a:xfrm>
                <a:off x="5046840" y="1680480"/>
                <a:ext cx="4087800" cy="892800"/>
                <a:chOff x="5046840" y="1680480"/>
                <a:chExt cx="4087800" cy="8928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046840" y="1680480"/>
                  <a:ext cx="4087800" cy="89280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5046840" y="1680480"/>
                  <a:ext cx="4087440" cy="892800"/>
                  <a:chOff x="5046840" y="1680480"/>
                  <a:chExt cx="4087440" cy="8928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5153400" y="1680480"/>
                    <a:ext cx="3874320" cy="89280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GDP pc @ PPS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%Change 1981-9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5046840" y="1680480"/>
                    <a:ext cx="4087440" cy="89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7" name=""/>
              <p:cNvGrpSpPr/>
              <p:nvPr/>
            </p:nvGrpSpPr>
            <p:grpSpPr>
              <a:xfrm>
                <a:off x="7200" y="2573280"/>
                <a:ext cx="2742840" cy="731160"/>
                <a:chOff x="7200" y="2573280"/>
                <a:chExt cx="2742840" cy="7311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200" y="2573280"/>
                  <a:ext cx="2742840" cy="73116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" name=""/>
                <p:cNvGrpSpPr/>
                <p:nvPr/>
              </p:nvGrpSpPr>
              <p:grpSpPr>
                <a:xfrm>
                  <a:off x="7200" y="2573280"/>
                  <a:ext cx="2742480" cy="731160"/>
                  <a:chOff x="7200" y="2573280"/>
                  <a:chExt cx="2742480" cy="7311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113760" y="2573280"/>
                    <a:ext cx="2529000" cy="73116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200" y="2573280"/>
                    <a:ext cx="274248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2750400" y="2573280"/>
                <a:ext cx="1054800" cy="731160"/>
                <a:chOff x="2750400" y="2573280"/>
                <a:chExt cx="1054800" cy="7311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750400" y="2573280"/>
                  <a:ext cx="1054800" cy="73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2750400" y="2573280"/>
                  <a:ext cx="1054440" cy="731160"/>
                  <a:chOff x="2750400" y="2573280"/>
                  <a:chExt cx="1054440" cy="73116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2856240" y="2573280"/>
                    <a:ext cx="841680" cy="731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FU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750400" y="2573280"/>
                    <a:ext cx="10544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7" name=""/>
              <p:cNvGrpSpPr/>
              <p:nvPr/>
            </p:nvGrpSpPr>
            <p:grpSpPr>
              <a:xfrm>
                <a:off x="3805560" y="2573280"/>
                <a:ext cx="1240560" cy="731160"/>
                <a:chOff x="3805560" y="2573280"/>
                <a:chExt cx="1240560" cy="7311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3805560" y="2573280"/>
                  <a:ext cx="1240560" cy="73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3805560" y="2573280"/>
                  <a:ext cx="1240200" cy="731160"/>
                  <a:chOff x="3805560" y="2573280"/>
                  <a:chExt cx="1240200" cy="7311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3912120" y="2573280"/>
                    <a:ext cx="1027440" cy="731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UT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3805560" y="2573280"/>
                    <a:ext cx="12402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" name=""/>
              <p:cNvGrpSpPr/>
              <p:nvPr/>
            </p:nvGrpSpPr>
            <p:grpSpPr>
              <a:xfrm>
                <a:off x="5046840" y="2573280"/>
                <a:ext cx="1010880" cy="731160"/>
                <a:chOff x="5046840" y="2573280"/>
                <a:chExt cx="1010880" cy="73116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046840" y="2573280"/>
                  <a:ext cx="1010880" cy="73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5046840" y="2573280"/>
                  <a:ext cx="1010520" cy="731160"/>
                  <a:chOff x="5046840" y="2573280"/>
                  <a:chExt cx="1010520" cy="73116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5153400" y="2573280"/>
                    <a:ext cx="797040" cy="731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FU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046840" y="2573280"/>
                    <a:ext cx="1010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7" name=""/>
              <p:cNvGrpSpPr/>
              <p:nvPr/>
            </p:nvGrpSpPr>
            <p:grpSpPr>
              <a:xfrm>
                <a:off x="6058440" y="2573280"/>
                <a:ext cx="1079640" cy="731160"/>
                <a:chOff x="6058440" y="2573280"/>
                <a:chExt cx="1079640" cy="7311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058440" y="2573280"/>
                  <a:ext cx="1079640" cy="73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"/>
                <p:cNvGrpSpPr/>
                <p:nvPr/>
              </p:nvGrpSpPr>
              <p:grpSpPr>
                <a:xfrm>
                  <a:off x="6058440" y="2573280"/>
                  <a:ext cx="1079280" cy="731160"/>
                  <a:chOff x="6058440" y="2573280"/>
                  <a:chExt cx="1079280" cy="7311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6164280" y="2573280"/>
                    <a:ext cx="866880" cy="731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U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6058440" y="2573280"/>
                    <a:ext cx="107928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7138440" y="2573280"/>
                <a:ext cx="1996560" cy="731160"/>
                <a:chOff x="7138440" y="2573280"/>
                <a:chExt cx="1996560" cy="7311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7138440" y="2573280"/>
                  <a:ext cx="1996560" cy="731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7138440" y="2573280"/>
                  <a:ext cx="1996200" cy="731160"/>
                  <a:chOff x="7138440" y="2573280"/>
                  <a:chExt cx="1996200" cy="73116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7245000" y="2573280"/>
                    <a:ext cx="1783440" cy="7311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FUR-NUT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138440" y="2573280"/>
                    <a:ext cx="19962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7" name=""/>
              <p:cNvGrpSpPr/>
              <p:nvPr/>
            </p:nvGrpSpPr>
            <p:grpSpPr>
              <a:xfrm>
                <a:off x="7200" y="3304800"/>
                <a:ext cx="2742840" cy="568440"/>
                <a:chOff x="7200" y="3304800"/>
                <a:chExt cx="2742840" cy="5684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200" y="3304800"/>
                  <a:ext cx="2742840" cy="5684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7200" y="3304800"/>
                  <a:ext cx="2742480" cy="568440"/>
                  <a:chOff x="7200" y="3304800"/>
                  <a:chExt cx="2742480" cy="56844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113760" y="3304800"/>
                    <a:ext cx="2529000" cy="56844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Breme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200" y="3304800"/>
                    <a:ext cx="274248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2" name=""/>
              <p:cNvGrpSpPr/>
              <p:nvPr/>
            </p:nvGrpSpPr>
            <p:grpSpPr>
              <a:xfrm>
                <a:off x="2750400" y="3304800"/>
                <a:ext cx="1054800" cy="568440"/>
                <a:chOff x="2750400" y="3304800"/>
                <a:chExt cx="1054800" cy="5684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750400" y="3304800"/>
                  <a:ext cx="105480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"/>
                <p:cNvGrpSpPr/>
                <p:nvPr/>
              </p:nvGrpSpPr>
              <p:grpSpPr>
                <a:xfrm>
                  <a:off x="2750400" y="3304800"/>
                  <a:ext cx="1054440" cy="568440"/>
                  <a:chOff x="2750400" y="3304800"/>
                  <a:chExt cx="1054440" cy="568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2856240" y="3304800"/>
                    <a:ext cx="84168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27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750400" y="3304800"/>
                    <a:ext cx="105444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" name=""/>
              <p:cNvGrpSpPr/>
              <p:nvPr/>
            </p:nvGrpSpPr>
            <p:grpSpPr>
              <a:xfrm>
                <a:off x="3805560" y="3304800"/>
                <a:ext cx="1240560" cy="568440"/>
                <a:chOff x="3805560" y="3304800"/>
                <a:chExt cx="1240560" cy="5684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805560" y="3304800"/>
                  <a:ext cx="124056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3805560" y="3304800"/>
                  <a:ext cx="1240200" cy="568440"/>
                  <a:chOff x="3805560" y="3304800"/>
                  <a:chExt cx="1240200" cy="5684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912120" y="3304800"/>
                    <a:ext cx="102744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8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805560" y="3304800"/>
                    <a:ext cx="124020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2" name=""/>
              <p:cNvGrpSpPr/>
              <p:nvPr/>
            </p:nvGrpSpPr>
            <p:grpSpPr>
              <a:xfrm>
                <a:off x="5046840" y="3304800"/>
                <a:ext cx="1010880" cy="568440"/>
                <a:chOff x="5046840" y="3304800"/>
                <a:chExt cx="1010880" cy="5684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046840" y="3304800"/>
                  <a:ext cx="101088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5046840" y="3304800"/>
                  <a:ext cx="1010520" cy="568440"/>
                  <a:chOff x="5046840" y="3304800"/>
                  <a:chExt cx="1010520" cy="56844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5153400" y="3304800"/>
                    <a:ext cx="79704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8.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046840" y="3304800"/>
                    <a:ext cx="101052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6058440" y="3304800"/>
                <a:ext cx="1079640" cy="568440"/>
                <a:chOff x="6058440" y="3304800"/>
                <a:chExt cx="1079640" cy="5684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058440" y="3304800"/>
                  <a:ext cx="107964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6058440" y="3304800"/>
                  <a:ext cx="1079280" cy="568440"/>
                  <a:chOff x="6058440" y="3304800"/>
                  <a:chExt cx="1079280" cy="56844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6164280" y="3304800"/>
                    <a:ext cx="86688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0.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058440" y="3304800"/>
                    <a:ext cx="107928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7138440" y="3304800"/>
                <a:ext cx="1996560" cy="568440"/>
                <a:chOff x="7138440" y="3304800"/>
                <a:chExt cx="1996560" cy="5684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138440" y="3304800"/>
                  <a:ext cx="1996560" cy="5684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7138440" y="3304800"/>
                  <a:ext cx="1996200" cy="568440"/>
                  <a:chOff x="7138440" y="3304800"/>
                  <a:chExt cx="1996200" cy="56844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7245000" y="3304800"/>
                    <a:ext cx="1783440" cy="56844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-22.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138440" y="3304800"/>
                    <a:ext cx="199620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7200" y="3873240"/>
                <a:ext cx="2742840" cy="568440"/>
                <a:chOff x="7200" y="3873240"/>
                <a:chExt cx="2742840" cy="5684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7200" y="3873240"/>
                  <a:ext cx="2742840" cy="5684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7200" y="3873240"/>
                  <a:ext cx="2742480" cy="568440"/>
                  <a:chOff x="7200" y="3873240"/>
                  <a:chExt cx="2742480" cy="56844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113760" y="3873240"/>
                    <a:ext cx="2529000" cy="56844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Hambur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200" y="3873240"/>
                    <a:ext cx="274248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2" name=""/>
              <p:cNvGrpSpPr/>
              <p:nvPr/>
            </p:nvGrpSpPr>
            <p:grpSpPr>
              <a:xfrm>
                <a:off x="2750400" y="3873240"/>
                <a:ext cx="1054800" cy="568440"/>
                <a:chOff x="2750400" y="3873240"/>
                <a:chExt cx="1054800" cy="5684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750400" y="3873240"/>
                  <a:ext cx="105480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2750400" y="3873240"/>
                  <a:ext cx="1054440" cy="568440"/>
                  <a:chOff x="2750400" y="3873240"/>
                  <a:chExt cx="1054440" cy="56844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2856240" y="3873240"/>
                    <a:ext cx="84168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0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750400" y="3873240"/>
                    <a:ext cx="105444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" name=""/>
              <p:cNvGrpSpPr/>
              <p:nvPr/>
            </p:nvGrpSpPr>
            <p:grpSpPr>
              <a:xfrm>
                <a:off x="3805560" y="3873240"/>
                <a:ext cx="1240560" cy="568440"/>
                <a:chOff x="3805560" y="3873240"/>
                <a:chExt cx="1240560" cy="5684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805560" y="3873240"/>
                  <a:ext cx="124056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3805560" y="3873240"/>
                  <a:ext cx="1240200" cy="568440"/>
                  <a:chOff x="3805560" y="3873240"/>
                  <a:chExt cx="1240200" cy="56844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3912120" y="3873240"/>
                    <a:ext cx="102744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64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805560" y="3873240"/>
                    <a:ext cx="124020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" name=""/>
              <p:cNvGrpSpPr/>
              <p:nvPr/>
            </p:nvGrpSpPr>
            <p:grpSpPr>
              <a:xfrm>
                <a:off x="5046840" y="3873240"/>
                <a:ext cx="1010880" cy="568440"/>
                <a:chOff x="5046840" y="3873240"/>
                <a:chExt cx="1010880" cy="5684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046840" y="3873240"/>
                  <a:ext cx="101088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" name=""/>
                <p:cNvGrpSpPr/>
                <p:nvPr/>
              </p:nvGrpSpPr>
              <p:grpSpPr>
                <a:xfrm>
                  <a:off x="5046840" y="3873240"/>
                  <a:ext cx="1010520" cy="568440"/>
                  <a:chOff x="5046840" y="3873240"/>
                  <a:chExt cx="1010520" cy="56844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5153400" y="3873240"/>
                    <a:ext cx="79704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4.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046840" y="3873240"/>
                    <a:ext cx="101052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7" name=""/>
              <p:cNvGrpSpPr/>
              <p:nvPr/>
            </p:nvGrpSpPr>
            <p:grpSpPr>
              <a:xfrm>
                <a:off x="6058440" y="3873240"/>
                <a:ext cx="1079640" cy="568440"/>
                <a:chOff x="6058440" y="3873240"/>
                <a:chExt cx="1079640" cy="5684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058440" y="3873240"/>
                  <a:ext cx="107964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"/>
                <p:cNvGrpSpPr/>
                <p:nvPr/>
              </p:nvGrpSpPr>
              <p:grpSpPr>
                <a:xfrm>
                  <a:off x="6058440" y="3873240"/>
                  <a:ext cx="1079280" cy="568440"/>
                  <a:chOff x="6058440" y="3873240"/>
                  <a:chExt cx="1079280" cy="56844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6164280" y="3873240"/>
                    <a:ext cx="86688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4.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6058440" y="3873240"/>
                    <a:ext cx="107928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2" name=""/>
              <p:cNvGrpSpPr/>
              <p:nvPr/>
            </p:nvGrpSpPr>
            <p:grpSpPr>
              <a:xfrm>
                <a:off x="7138440" y="3873240"/>
                <a:ext cx="1996560" cy="568440"/>
                <a:chOff x="7138440" y="3873240"/>
                <a:chExt cx="1996560" cy="5684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7138440" y="3873240"/>
                  <a:ext cx="1996560" cy="5684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7138440" y="3873240"/>
                  <a:ext cx="1996200" cy="568440"/>
                  <a:chOff x="7138440" y="3873240"/>
                  <a:chExt cx="1996200" cy="56844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7245000" y="3873240"/>
                    <a:ext cx="1783440" cy="56844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-20.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138440" y="3873240"/>
                    <a:ext cx="199620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" name=""/>
              <p:cNvGrpSpPr/>
              <p:nvPr/>
            </p:nvGrpSpPr>
            <p:grpSpPr>
              <a:xfrm>
                <a:off x="7200" y="4442040"/>
                <a:ext cx="2742840" cy="730800"/>
                <a:chOff x="7200" y="4442040"/>
                <a:chExt cx="2742840" cy="7308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200" y="4442040"/>
                  <a:ext cx="2742840" cy="73080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7200" y="4442040"/>
                  <a:ext cx="2742480" cy="730800"/>
                  <a:chOff x="7200" y="4442040"/>
                  <a:chExt cx="2742480" cy="73080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113760" y="4442040"/>
                    <a:ext cx="2529000" cy="73080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Ile de France /Pari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200" y="4442040"/>
                    <a:ext cx="274248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2" name=""/>
              <p:cNvGrpSpPr/>
              <p:nvPr/>
            </p:nvGrpSpPr>
            <p:grpSpPr>
              <a:xfrm>
                <a:off x="2750400" y="4442040"/>
                <a:ext cx="1054800" cy="730800"/>
                <a:chOff x="2750400" y="4442040"/>
                <a:chExt cx="1054800" cy="7308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750400" y="4442040"/>
                  <a:ext cx="1054800" cy="73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2750400" y="4442040"/>
                  <a:ext cx="1054440" cy="730800"/>
                  <a:chOff x="2750400" y="4442040"/>
                  <a:chExt cx="1054440" cy="7308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856240" y="4442040"/>
                    <a:ext cx="841680" cy="73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062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750400" y="4442040"/>
                    <a:ext cx="105444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7" name=""/>
              <p:cNvGrpSpPr/>
              <p:nvPr/>
            </p:nvGrpSpPr>
            <p:grpSpPr>
              <a:xfrm>
                <a:off x="3805560" y="4442040"/>
                <a:ext cx="1240560" cy="730800"/>
                <a:chOff x="3805560" y="4442040"/>
                <a:chExt cx="1240560" cy="7308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3805560" y="4442040"/>
                  <a:ext cx="1240560" cy="73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" name=""/>
                <p:cNvGrpSpPr/>
                <p:nvPr/>
              </p:nvGrpSpPr>
              <p:grpSpPr>
                <a:xfrm>
                  <a:off x="3805560" y="4442040"/>
                  <a:ext cx="1240200" cy="730800"/>
                  <a:chOff x="3805560" y="4442040"/>
                  <a:chExt cx="1240200" cy="73080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3912120" y="4442040"/>
                    <a:ext cx="1027440" cy="73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074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805560" y="4442040"/>
                    <a:ext cx="124020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2" name=""/>
              <p:cNvGrpSpPr/>
              <p:nvPr/>
            </p:nvGrpSpPr>
            <p:grpSpPr>
              <a:xfrm>
                <a:off x="5046840" y="4442040"/>
                <a:ext cx="1010880" cy="730800"/>
                <a:chOff x="5046840" y="4442040"/>
                <a:chExt cx="1010880" cy="7308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046840" y="4442040"/>
                  <a:ext cx="1010880" cy="73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" name=""/>
                <p:cNvGrpSpPr/>
                <p:nvPr/>
              </p:nvGrpSpPr>
              <p:grpSpPr>
                <a:xfrm>
                  <a:off x="5046840" y="4442040"/>
                  <a:ext cx="1010520" cy="730800"/>
                  <a:chOff x="5046840" y="4442040"/>
                  <a:chExt cx="1010520" cy="73080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5153400" y="4442040"/>
                    <a:ext cx="797040" cy="73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02.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5046840" y="4442040"/>
                    <a:ext cx="101052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7" name=""/>
              <p:cNvGrpSpPr/>
              <p:nvPr/>
            </p:nvGrpSpPr>
            <p:grpSpPr>
              <a:xfrm>
                <a:off x="6058440" y="4442040"/>
                <a:ext cx="1079640" cy="730800"/>
                <a:chOff x="6058440" y="4442040"/>
                <a:chExt cx="1079640" cy="7308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058440" y="4442040"/>
                  <a:ext cx="1079640" cy="73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" name=""/>
                <p:cNvGrpSpPr/>
                <p:nvPr/>
              </p:nvGrpSpPr>
              <p:grpSpPr>
                <a:xfrm>
                  <a:off x="6058440" y="4442040"/>
                  <a:ext cx="1079280" cy="730800"/>
                  <a:chOff x="6058440" y="4442040"/>
                  <a:chExt cx="1079280" cy="73080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164280" y="4442040"/>
                    <a:ext cx="866880" cy="73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7.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6058440" y="4442040"/>
                    <a:ext cx="107928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2" name=""/>
              <p:cNvGrpSpPr/>
              <p:nvPr/>
            </p:nvGrpSpPr>
            <p:grpSpPr>
              <a:xfrm>
                <a:off x="7138440" y="4442040"/>
                <a:ext cx="1996560" cy="730800"/>
                <a:chOff x="7138440" y="4442040"/>
                <a:chExt cx="1996560" cy="7308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7138440" y="4442040"/>
                  <a:ext cx="1996560" cy="730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7138440" y="4442040"/>
                  <a:ext cx="1996200" cy="730800"/>
                  <a:chOff x="7138440" y="4442040"/>
                  <a:chExt cx="1996200" cy="73080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7245000" y="4442040"/>
                    <a:ext cx="1783440" cy="73080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15.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7138440" y="4442040"/>
                    <a:ext cx="199620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7" name=""/>
              <p:cNvGrpSpPr/>
              <p:nvPr/>
            </p:nvGrpSpPr>
            <p:grpSpPr>
              <a:xfrm>
                <a:off x="7200" y="5172840"/>
                <a:ext cx="2742840" cy="568440"/>
                <a:chOff x="7200" y="5172840"/>
                <a:chExt cx="2742840" cy="56844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7200" y="5172840"/>
                  <a:ext cx="2742840" cy="5684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9" name=""/>
                <p:cNvGrpSpPr/>
                <p:nvPr/>
              </p:nvGrpSpPr>
              <p:grpSpPr>
                <a:xfrm>
                  <a:off x="7200" y="5172840"/>
                  <a:ext cx="2742480" cy="568440"/>
                  <a:chOff x="7200" y="5172840"/>
                  <a:chExt cx="2742480" cy="56844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113760" y="5172840"/>
                    <a:ext cx="2529000" cy="56844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Brussel /Bruxell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200" y="5172840"/>
                    <a:ext cx="274248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2" name=""/>
              <p:cNvGrpSpPr/>
              <p:nvPr/>
            </p:nvGrpSpPr>
            <p:grpSpPr>
              <a:xfrm>
                <a:off x="2750400" y="5172840"/>
                <a:ext cx="1054800" cy="568440"/>
                <a:chOff x="2750400" y="5172840"/>
                <a:chExt cx="1054800" cy="5684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750400" y="5172840"/>
                  <a:ext cx="105480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4" name=""/>
                <p:cNvGrpSpPr/>
                <p:nvPr/>
              </p:nvGrpSpPr>
              <p:grpSpPr>
                <a:xfrm>
                  <a:off x="2750400" y="5172840"/>
                  <a:ext cx="1054440" cy="568440"/>
                  <a:chOff x="2750400" y="5172840"/>
                  <a:chExt cx="1054440" cy="56844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6240" y="5172840"/>
                    <a:ext cx="84168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39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750400" y="5172840"/>
                    <a:ext cx="105444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7" name=""/>
              <p:cNvGrpSpPr/>
              <p:nvPr/>
            </p:nvGrpSpPr>
            <p:grpSpPr>
              <a:xfrm>
                <a:off x="3805560" y="5172840"/>
                <a:ext cx="1240560" cy="568440"/>
                <a:chOff x="3805560" y="5172840"/>
                <a:chExt cx="1240560" cy="5684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805560" y="5172840"/>
                  <a:ext cx="124056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" name=""/>
                <p:cNvGrpSpPr/>
                <p:nvPr/>
              </p:nvGrpSpPr>
              <p:grpSpPr>
                <a:xfrm>
                  <a:off x="3805560" y="5172840"/>
                  <a:ext cx="1240200" cy="568440"/>
                  <a:chOff x="3805560" y="5172840"/>
                  <a:chExt cx="1240200" cy="5684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3912120" y="5172840"/>
                    <a:ext cx="102744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9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805560" y="5172840"/>
                    <a:ext cx="124020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2" name=""/>
              <p:cNvGrpSpPr/>
              <p:nvPr/>
            </p:nvGrpSpPr>
            <p:grpSpPr>
              <a:xfrm>
                <a:off x="5046840" y="5172840"/>
                <a:ext cx="1010880" cy="568440"/>
                <a:chOff x="5046840" y="5172840"/>
                <a:chExt cx="1010880" cy="56844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046840" y="5172840"/>
                  <a:ext cx="101088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5046840" y="5172840"/>
                  <a:ext cx="1010520" cy="568440"/>
                  <a:chOff x="5046840" y="5172840"/>
                  <a:chExt cx="1010520" cy="56844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5153400" y="5172840"/>
                    <a:ext cx="79704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3.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5046840" y="5172840"/>
                    <a:ext cx="101052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7" name=""/>
              <p:cNvGrpSpPr/>
              <p:nvPr/>
            </p:nvGrpSpPr>
            <p:grpSpPr>
              <a:xfrm>
                <a:off x="6058440" y="5172840"/>
                <a:ext cx="1079640" cy="568440"/>
                <a:chOff x="6058440" y="5172840"/>
                <a:chExt cx="1079640" cy="5684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058440" y="5172840"/>
                  <a:ext cx="1079640" cy="56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9" name=""/>
                <p:cNvGrpSpPr/>
                <p:nvPr/>
              </p:nvGrpSpPr>
              <p:grpSpPr>
                <a:xfrm>
                  <a:off x="6058440" y="5172840"/>
                  <a:ext cx="1079280" cy="568440"/>
                  <a:chOff x="6058440" y="5172840"/>
                  <a:chExt cx="1079280" cy="56844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6164280" y="5172840"/>
                    <a:ext cx="866880" cy="568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92.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058440" y="5172840"/>
                    <a:ext cx="107928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2" name=""/>
              <p:cNvGrpSpPr/>
              <p:nvPr/>
            </p:nvGrpSpPr>
            <p:grpSpPr>
              <a:xfrm>
                <a:off x="7138440" y="5172840"/>
                <a:ext cx="1996560" cy="568440"/>
                <a:chOff x="7138440" y="5172840"/>
                <a:chExt cx="1996560" cy="5684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7138440" y="5172840"/>
                  <a:ext cx="1996560" cy="5684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" name=""/>
                <p:cNvGrpSpPr/>
                <p:nvPr/>
              </p:nvGrpSpPr>
              <p:grpSpPr>
                <a:xfrm>
                  <a:off x="7138440" y="5172840"/>
                  <a:ext cx="1996200" cy="568440"/>
                  <a:chOff x="7138440" y="5172840"/>
                  <a:chExt cx="1996200" cy="56844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7245000" y="5172840"/>
                    <a:ext cx="1783440" cy="56844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-19.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138440" y="5172840"/>
                    <a:ext cx="1996200" cy="568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7" name=""/>
              <p:cNvGrpSpPr/>
              <p:nvPr/>
            </p:nvGrpSpPr>
            <p:grpSpPr>
              <a:xfrm>
                <a:off x="7200" y="5741280"/>
                <a:ext cx="2742840" cy="730800"/>
                <a:chOff x="7200" y="5741280"/>
                <a:chExt cx="2742840" cy="7308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200" y="5741280"/>
                  <a:ext cx="2742840" cy="73080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7200" y="5741280"/>
                  <a:ext cx="2742480" cy="730800"/>
                  <a:chOff x="7200" y="5741280"/>
                  <a:chExt cx="2742480" cy="73080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113760" y="5741280"/>
                    <a:ext cx="2529000" cy="73080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Greater Londo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200" y="5741280"/>
                    <a:ext cx="274248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2" name=""/>
              <p:cNvGrpSpPr/>
              <p:nvPr/>
            </p:nvGrpSpPr>
            <p:grpSpPr>
              <a:xfrm>
                <a:off x="2750400" y="5741280"/>
                <a:ext cx="1054800" cy="730800"/>
                <a:chOff x="2750400" y="5741280"/>
                <a:chExt cx="1054800" cy="7308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750400" y="5741280"/>
                  <a:ext cx="1054800" cy="73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"/>
                <p:cNvGrpSpPr/>
                <p:nvPr/>
              </p:nvGrpSpPr>
              <p:grpSpPr>
                <a:xfrm>
                  <a:off x="2750400" y="5741280"/>
                  <a:ext cx="1054440" cy="730800"/>
                  <a:chOff x="2750400" y="5741280"/>
                  <a:chExt cx="1054440" cy="7308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2856240" y="5741280"/>
                    <a:ext cx="841680" cy="73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75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2750400" y="5741280"/>
                    <a:ext cx="105444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7" name=""/>
              <p:cNvGrpSpPr/>
              <p:nvPr/>
            </p:nvGrpSpPr>
            <p:grpSpPr>
              <a:xfrm>
                <a:off x="3805560" y="5741280"/>
                <a:ext cx="1240560" cy="730800"/>
                <a:chOff x="3805560" y="5741280"/>
                <a:chExt cx="1240560" cy="7308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805560" y="5741280"/>
                  <a:ext cx="1240560" cy="73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9" name=""/>
                <p:cNvGrpSpPr/>
                <p:nvPr/>
              </p:nvGrpSpPr>
              <p:grpSpPr>
                <a:xfrm>
                  <a:off x="3805560" y="5741280"/>
                  <a:ext cx="1240200" cy="730800"/>
                  <a:chOff x="3805560" y="5741280"/>
                  <a:chExt cx="1240200" cy="73080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3912120" y="5741280"/>
                    <a:ext cx="1027440" cy="73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87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805560" y="5741280"/>
                    <a:ext cx="124020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2" name=""/>
              <p:cNvGrpSpPr/>
              <p:nvPr/>
            </p:nvGrpSpPr>
            <p:grpSpPr>
              <a:xfrm>
                <a:off x="5046840" y="5741280"/>
                <a:ext cx="1010880" cy="730800"/>
                <a:chOff x="5046840" y="5741280"/>
                <a:chExt cx="1010880" cy="7308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046840" y="5741280"/>
                  <a:ext cx="1010880" cy="73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"/>
                <p:cNvGrpSpPr/>
                <p:nvPr/>
              </p:nvGrpSpPr>
              <p:grpSpPr>
                <a:xfrm>
                  <a:off x="5046840" y="5741280"/>
                  <a:ext cx="1010520" cy="730800"/>
                  <a:chOff x="5046840" y="5741280"/>
                  <a:chExt cx="1010520" cy="7308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5153400" y="5741280"/>
                    <a:ext cx="797040" cy="73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14.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046840" y="5741280"/>
                    <a:ext cx="101052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" name=""/>
              <p:cNvGrpSpPr/>
              <p:nvPr/>
            </p:nvGrpSpPr>
            <p:grpSpPr>
              <a:xfrm>
                <a:off x="6058440" y="5741280"/>
                <a:ext cx="1079640" cy="730800"/>
                <a:chOff x="6058440" y="5741280"/>
                <a:chExt cx="1079640" cy="7308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058440" y="5741280"/>
                  <a:ext cx="1079640" cy="73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6058440" y="5741280"/>
                  <a:ext cx="1079280" cy="730800"/>
                  <a:chOff x="6058440" y="5741280"/>
                  <a:chExt cx="1079280" cy="7308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6164280" y="5741280"/>
                    <a:ext cx="866880" cy="73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95.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058440" y="5741280"/>
                    <a:ext cx="107928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" name=""/>
              <p:cNvGrpSpPr/>
              <p:nvPr/>
            </p:nvGrpSpPr>
            <p:grpSpPr>
              <a:xfrm>
                <a:off x="7138440" y="5741280"/>
                <a:ext cx="1996560" cy="730800"/>
                <a:chOff x="7138440" y="5741280"/>
                <a:chExt cx="1996560" cy="7308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7138440" y="5741280"/>
                  <a:ext cx="1996560" cy="730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7138440" y="5741280"/>
                  <a:ext cx="1996200" cy="730800"/>
                  <a:chOff x="7138440" y="5741280"/>
                  <a:chExt cx="1996200" cy="7308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7245000" y="5741280"/>
                    <a:ext cx="1783440" cy="73080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18.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138440" y="5741280"/>
                    <a:ext cx="1996200" cy="73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97" name=""/>
            <p:cNvSpPr/>
            <p:nvPr/>
          </p:nvSpPr>
          <p:spPr>
            <a:xfrm>
              <a:off x="0" y="1676520"/>
              <a:ext cx="9143640" cy="4800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ndon &amp; Paris: constant 1971 bound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0" y="1828800"/>
            <a:ext cx="9143640" cy="4724280"/>
            <a:chOff x="0" y="1828800"/>
            <a:chExt cx="9143640" cy="4724280"/>
          </a:xfrm>
        </p:grpSpPr>
        <p:grpSp>
          <p:nvGrpSpPr>
            <p:cNvPr id="402" name=""/>
            <p:cNvGrpSpPr/>
            <p:nvPr/>
          </p:nvGrpSpPr>
          <p:grpSpPr>
            <a:xfrm>
              <a:off x="6120" y="1830960"/>
              <a:ext cx="9130680" cy="4718880"/>
              <a:chOff x="6120" y="1830960"/>
              <a:chExt cx="9130680" cy="471888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6120" y="1830960"/>
                <a:ext cx="2609640" cy="513720"/>
                <a:chOff x="6120" y="1830960"/>
                <a:chExt cx="2609640" cy="513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9160" y="1830960"/>
                  <a:ext cx="256320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120" y="1830960"/>
                  <a:ext cx="260964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2616120" y="1830960"/>
                <a:ext cx="1052280" cy="513720"/>
                <a:chOff x="2616120" y="1830960"/>
                <a:chExt cx="1052280" cy="513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2638800" y="1830960"/>
                  <a:ext cx="100656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951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616120" y="1830960"/>
                  <a:ext cx="105228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669120" y="1830960"/>
                <a:ext cx="952200" cy="513720"/>
                <a:chOff x="3669120" y="1830960"/>
                <a:chExt cx="952200" cy="513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692160" y="1830960"/>
                  <a:ext cx="90612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961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669120" y="1830960"/>
                  <a:ext cx="95220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621680" y="1830960"/>
                <a:ext cx="1053000" cy="513720"/>
                <a:chOff x="4621680" y="1830960"/>
                <a:chExt cx="1053000" cy="5137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644720" y="1830960"/>
                  <a:ext cx="100692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971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621680" y="1830960"/>
                  <a:ext cx="105300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5675400" y="1830960"/>
                <a:ext cx="1153440" cy="513720"/>
                <a:chOff x="5675400" y="1830960"/>
                <a:chExt cx="1153440" cy="5137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5698440" y="1830960"/>
                  <a:ext cx="110736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981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675400" y="1830960"/>
                  <a:ext cx="115344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6829200" y="1830960"/>
                <a:ext cx="1153800" cy="513720"/>
                <a:chOff x="6829200" y="1830960"/>
                <a:chExt cx="1153800" cy="5137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6852240" y="1830960"/>
                  <a:ext cx="110736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991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829200" y="1830960"/>
                  <a:ext cx="115380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7983360" y="1830960"/>
                <a:ext cx="1153440" cy="513720"/>
                <a:chOff x="7983360" y="1830960"/>
                <a:chExt cx="1153440" cy="5137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8006040" y="1830960"/>
                  <a:ext cx="110772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997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983360" y="1830960"/>
                  <a:ext cx="1153440" cy="51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6120" y="2344680"/>
                <a:ext cx="1153440" cy="653760"/>
                <a:chOff x="6120" y="2344680"/>
                <a:chExt cx="1153440" cy="6537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9160" y="234468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London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120" y="234468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1159920" y="2344680"/>
                <a:ext cx="1455840" cy="653760"/>
                <a:chOff x="1159920" y="2344680"/>
                <a:chExt cx="1455840" cy="653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182960" y="2344680"/>
                  <a:ext cx="140940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Cor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% grow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159920" y="2344680"/>
                  <a:ext cx="14558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2616120" y="2344680"/>
                <a:ext cx="1052280" cy="653760"/>
                <a:chOff x="2616120" y="2344680"/>
                <a:chExt cx="1052280" cy="65376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638800" y="2344680"/>
                  <a:ext cx="10065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6417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616120" y="2344680"/>
                  <a:ext cx="105228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669120" y="2344680"/>
                <a:ext cx="952200" cy="653760"/>
                <a:chOff x="3669120" y="2344680"/>
                <a:chExt cx="952200" cy="653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692160" y="2344680"/>
                  <a:ext cx="9061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6134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4.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669120" y="2344680"/>
                  <a:ext cx="9522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4621680" y="2344680"/>
                <a:ext cx="1053000" cy="653760"/>
                <a:chOff x="4621680" y="2344680"/>
                <a:chExt cx="1053000" cy="6537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644720" y="2344680"/>
                  <a:ext cx="10069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5593.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8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621680" y="2344680"/>
                  <a:ext cx="10530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5675400" y="2344680"/>
                <a:ext cx="1153440" cy="653760"/>
                <a:chOff x="5675400" y="2344680"/>
                <a:chExt cx="1153440" cy="653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5698440" y="234468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4902.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12.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675400" y="234468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6829200" y="2344680"/>
                <a:ext cx="1153800" cy="653760"/>
                <a:chOff x="6829200" y="2344680"/>
                <a:chExt cx="1153800" cy="65376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6852240" y="234468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4639.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5.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829200" y="2344680"/>
                  <a:ext cx="11538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7983360" y="2344680"/>
                <a:ext cx="1153440" cy="653760"/>
                <a:chOff x="7983360" y="2344680"/>
                <a:chExt cx="1153440" cy="65376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8006040" y="2344680"/>
                  <a:ext cx="11077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983360" y="234468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6120" y="2998800"/>
                <a:ext cx="1153440" cy="794160"/>
                <a:chOff x="6120" y="2998800"/>
                <a:chExt cx="1153440" cy="7941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29160" y="2998800"/>
                  <a:ext cx="110736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120" y="2998800"/>
                  <a:ext cx="115344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1159920" y="2998800"/>
                <a:ext cx="1455840" cy="794160"/>
                <a:chOff x="1159920" y="2998800"/>
                <a:chExt cx="1455840" cy="79416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182960" y="2998800"/>
                  <a:ext cx="140940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Hinterlan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% grow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159920" y="2998800"/>
                  <a:ext cx="145584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2616120" y="2998800"/>
                <a:ext cx="1052280" cy="794160"/>
                <a:chOff x="2616120" y="2998800"/>
                <a:chExt cx="1052280" cy="79416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2638800" y="2998800"/>
                  <a:ext cx="100656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3384.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616120" y="2998800"/>
                  <a:ext cx="105228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3669120" y="2998800"/>
                <a:ext cx="952200" cy="794160"/>
                <a:chOff x="3669120" y="2998800"/>
                <a:chExt cx="952200" cy="7941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3692160" y="2998800"/>
                  <a:ext cx="90612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3840.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3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669120" y="2998800"/>
                  <a:ext cx="95220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4621680" y="2998800"/>
                <a:ext cx="1053000" cy="794160"/>
                <a:chOff x="4621680" y="2998800"/>
                <a:chExt cx="1053000" cy="79416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644720" y="2998800"/>
                  <a:ext cx="100692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4186.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9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621680" y="2998800"/>
                  <a:ext cx="105300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675400" y="2998800"/>
                <a:ext cx="1153440" cy="794160"/>
                <a:chOff x="5675400" y="2998800"/>
                <a:chExt cx="1153440" cy="7941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698440" y="2998800"/>
                  <a:ext cx="110736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4146.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0.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675400" y="2998800"/>
                  <a:ext cx="115344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6829200" y="2998800"/>
                <a:ext cx="1153800" cy="794160"/>
                <a:chOff x="6829200" y="2998800"/>
                <a:chExt cx="1153800" cy="79416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6852240" y="2998800"/>
                  <a:ext cx="110736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4117.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0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829200" y="2998800"/>
                  <a:ext cx="115380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7983360" y="2998800"/>
                <a:ext cx="1153440" cy="794160"/>
                <a:chOff x="7983360" y="2998800"/>
                <a:chExt cx="1153440" cy="79416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8006040" y="2998800"/>
                  <a:ext cx="110772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983360" y="2998800"/>
                  <a:ext cx="115344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120" y="3793320"/>
                <a:ext cx="1153440" cy="654120"/>
                <a:chOff x="6120" y="3793320"/>
                <a:chExt cx="1153440" cy="6541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29160" y="3793320"/>
                  <a:ext cx="110736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120" y="3793320"/>
                  <a:ext cx="115344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1159920" y="3793320"/>
                <a:ext cx="1455840" cy="654120"/>
                <a:chOff x="1159920" y="3793320"/>
                <a:chExt cx="1455840" cy="6541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1182960" y="3793320"/>
                  <a:ext cx="140940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FU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% grow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159920" y="3793320"/>
                  <a:ext cx="145584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616120" y="3793320"/>
                <a:ext cx="1052280" cy="654120"/>
                <a:chOff x="2616120" y="3793320"/>
                <a:chExt cx="1052280" cy="6541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638800" y="3793320"/>
                  <a:ext cx="100656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9801.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616120" y="3793320"/>
                  <a:ext cx="105228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669120" y="3793320"/>
                <a:ext cx="952200" cy="654120"/>
                <a:chOff x="3669120" y="3793320"/>
                <a:chExt cx="952200" cy="6541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692160" y="3793320"/>
                  <a:ext cx="90612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9974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669120" y="3793320"/>
                  <a:ext cx="95220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4621680" y="3793320"/>
                <a:ext cx="1053000" cy="654120"/>
                <a:chOff x="4621680" y="3793320"/>
                <a:chExt cx="1053000" cy="6541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644720" y="3793320"/>
                  <a:ext cx="100692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9780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2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621680" y="3793320"/>
                  <a:ext cx="105300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5675400" y="3793320"/>
                <a:ext cx="1153440" cy="654120"/>
                <a:chOff x="5675400" y="3793320"/>
                <a:chExt cx="1153440" cy="654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5698440" y="3793320"/>
                  <a:ext cx="110736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9049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7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675400" y="3793320"/>
                  <a:ext cx="115344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6829200" y="3793320"/>
                <a:ext cx="1153800" cy="654120"/>
                <a:chOff x="6829200" y="3793320"/>
                <a:chExt cx="1153800" cy="654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6852240" y="3793320"/>
                  <a:ext cx="110736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8756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3.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829200" y="3793320"/>
                  <a:ext cx="115380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7983360" y="3793320"/>
                <a:ext cx="1153440" cy="654120"/>
                <a:chOff x="7983360" y="3793320"/>
                <a:chExt cx="1153440" cy="6541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8006040" y="3793320"/>
                  <a:ext cx="110772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9038.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3.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983360" y="3793320"/>
                  <a:ext cx="115344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6120" y="4447440"/>
                <a:ext cx="1153440" cy="653760"/>
                <a:chOff x="6120" y="4447440"/>
                <a:chExt cx="1153440" cy="6537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9160" y="444744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ri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120" y="444744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1159920" y="4447440"/>
                <a:ext cx="1455840" cy="653760"/>
                <a:chOff x="1159920" y="4447440"/>
                <a:chExt cx="1455840" cy="65376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1182960" y="4447440"/>
                  <a:ext cx="140940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Cor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% grow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159920" y="4447440"/>
                  <a:ext cx="14558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2616120" y="4447440"/>
                <a:ext cx="1052280" cy="653760"/>
                <a:chOff x="2616120" y="4447440"/>
                <a:chExt cx="1052280" cy="65376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2638800" y="4447440"/>
                  <a:ext cx="10065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6076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616120" y="4447440"/>
                  <a:ext cx="105228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3669120" y="4447440"/>
                <a:ext cx="952200" cy="653760"/>
                <a:chOff x="3669120" y="4447440"/>
                <a:chExt cx="952200" cy="65376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3692160" y="4447440"/>
                  <a:ext cx="9061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7358.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21.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669120" y="4447440"/>
                  <a:ext cx="9522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4621680" y="4447440"/>
                <a:ext cx="1053000" cy="653760"/>
                <a:chOff x="4621680" y="4447440"/>
                <a:chExt cx="1053000" cy="6537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4644720" y="4447440"/>
                  <a:ext cx="10069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8380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3.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621680" y="4447440"/>
                  <a:ext cx="10530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5675400" y="4447440"/>
                <a:ext cx="1153440" cy="653760"/>
                <a:chOff x="5675400" y="4447440"/>
                <a:chExt cx="1153440" cy="6537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5698440" y="444744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8332.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0.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75400" y="444744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6829200" y="4447440"/>
                <a:ext cx="1153800" cy="653760"/>
                <a:chOff x="6829200" y="4447440"/>
                <a:chExt cx="1153800" cy="6537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852240" y="444744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8574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2.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829200" y="4447440"/>
                  <a:ext cx="11538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7983360" y="4447440"/>
                <a:ext cx="1153440" cy="653760"/>
                <a:chOff x="7983360" y="4447440"/>
                <a:chExt cx="1153440" cy="6537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8006040" y="4447440"/>
                  <a:ext cx="11077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983360" y="444744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6120" y="5101560"/>
                <a:ext cx="1153440" cy="794160"/>
                <a:chOff x="6120" y="5101560"/>
                <a:chExt cx="1153440" cy="79416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29160" y="5101560"/>
                  <a:ext cx="110736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120" y="5101560"/>
                  <a:ext cx="115344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1159920" y="5101560"/>
                <a:ext cx="1455840" cy="794160"/>
                <a:chOff x="1159920" y="5101560"/>
                <a:chExt cx="1455840" cy="7941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1182960" y="5101560"/>
                  <a:ext cx="140940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Hinterlan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% grow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159920" y="5101560"/>
                  <a:ext cx="145584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2616120" y="5101560"/>
                <a:ext cx="1052280" cy="794160"/>
                <a:chOff x="2616120" y="5101560"/>
                <a:chExt cx="1052280" cy="794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38800" y="5101560"/>
                  <a:ext cx="100656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728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616120" y="5101560"/>
                  <a:ext cx="105228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3669120" y="5101560"/>
                <a:ext cx="952200" cy="794160"/>
                <a:chOff x="3669120" y="5101560"/>
                <a:chExt cx="952200" cy="79416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3692160" y="5101560"/>
                  <a:ext cx="90612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843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5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669120" y="5101560"/>
                  <a:ext cx="95220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621680" y="5101560"/>
                <a:ext cx="1053000" cy="794160"/>
                <a:chOff x="4621680" y="5101560"/>
                <a:chExt cx="1053000" cy="7941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644720" y="5101560"/>
                  <a:ext cx="100692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122.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33.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21680" y="5101560"/>
                  <a:ext cx="105300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5675400" y="5101560"/>
                <a:ext cx="1153440" cy="794160"/>
                <a:chOff x="5675400" y="5101560"/>
                <a:chExt cx="1153440" cy="794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698440" y="5101560"/>
                  <a:ext cx="110736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740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55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675400" y="5101560"/>
                  <a:ext cx="115344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6829200" y="5101560"/>
                <a:ext cx="1153800" cy="794160"/>
                <a:chOff x="6829200" y="5101560"/>
                <a:chExt cx="1153800" cy="79416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6852240" y="5101560"/>
                  <a:ext cx="110736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2049.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7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829200" y="5101560"/>
                  <a:ext cx="115380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7983360" y="5101560"/>
                <a:ext cx="1153440" cy="794160"/>
                <a:chOff x="7983360" y="5101560"/>
                <a:chExt cx="1153440" cy="794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8006040" y="5101560"/>
                  <a:ext cx="1107720" cy="7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7983360" y="5101560"/>
                  <a:ext cx="1153440" cy="79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6120" y="5896080"/>
                <a:ext cx="1153440" cy="653760"/>
                <a:chOff x="6120" y="5896080"/>
                <a:chExt cx="1153440" cy="65376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29160" y="589608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120" y="589608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1159920" y="5896080"/>
                <a:ext cx="1455840" cy="653760"/>
                <a:chOff x="1159920" y="5896080"/>
                <a:chExt cx="1455840" cy="65376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1182960" y="5896080"/>
                  <a:ext cx="140940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FU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% grow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159920" y="5896080"/>
                  <a:ext cx="14558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2616120" y="5896080"/>
                <a:ext cx="1052280" cy="653760"/>
                <a:chOff x="2616120" y="5896080"/>
                <a:chExt cx="1052280" cy="653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2638800" y="5896080"/>
                  <a:ext cx="10065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6805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616120" y="5896080"/>
                  <a:ext cx="105228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3669120" y="5896080"/>
                <a:ext cx="952200" cy="653760"/>
                <a:chOff x="3669120" y="5896080"/>
                <a:chExt cx="952200" cy="65376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3692160" y="5896080"/>
                  <a:ext cx="9061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8202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20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669120" y="5896080"/>
                  <a:ext cx="9522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4621680" y="5896080"/>
                <a:ext cx="1053000" cy="653760"/>
                <a:chOff x="4621680" y="5896080"/>
                <a:chExt cx="1053000" cy="65376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4644720" y="5896080"/>
                  <a:ext cx="10069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9503.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5.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621680" y="5896080"/>
                  <a:ext cx="10530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5675400" y="5896080"/>
                <a:ext cx="1153440" cy="653760"/>
                <a:chOff x="5675400" y="5896080"/>
                <a:chExt cx="1153440" cy="65376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5698440" y="589608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0073.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6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675400" y="589608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829200" y="5896080"/>
                <a:ext cx="1153800" cy="653760"/>
                <a:chOff x="6829200" y="5896080"/>
                <a:chExt cx="1153800" cy="65376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852240" y="5896080"/>
                  <a:ext cx="110736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0623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5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829200" y="5896080"/>
                  <a:ext cx="115380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983360" y="5896080"/>
                <a:ext cx="1153440" cy="653760"/>
                <a:chOff x="7983360" y="5896080"/>
                <a:chExt cx="1153440" cy="6537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8006040" y="5896080"/>
                  <a:ext cx="1107720" cy="6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0907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2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983360" y="5896080"/>
                  <a:ext cx="1153440" cy="6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8" name=""/>
            <p:cNvSpPr/>
            <p:nvPr/>
          </p:nvSpPr>
          <p:spPr>
            <a:xfrm>
              <a:off x="0" y="1828800"/>
              <a:ext cx="91436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971 to 1991 Paris grows &amp; London exp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4920" y="1447920"/>
            <a:ext cx="8152920" cy="5257800"/>
            <a:chOff x="304920" y="1447920"/>
            <a:chExt cx="8152920" cy="5257800"/>
          </a:xfrm>
        </p:grpSpPr>
        <p:grpSp>
          <p:nvGrpSpPr>
            <p:cNvPr id="573" name=""/>
            <p:cNvGrpSpPr/>
            <p:nvPr/>
          </p:nvGrpSpPr>
          <p:grpSpPr>
            <a:xfrm>
              <a:off x="309960" y="1450440"/>
              <a:ext cx="8141040" cy="5252040"/>
              <a:chOff x="309960" y="1450440"/>
              <a:chExt cx="8141040" cy="525204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309960" y="1450440"/>
                <a:ext cx="2865240" cy="436320"/>
                <a:chOff x="309960" y="1450440"/>
                <a:chExt cx="2865240" cy="4363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388080" y="1450440"/>
                  <a:ext cx="27086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09960" y="1450440"/>
                  <a:ext cx="286524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3175560" y="1450440"/>
                <a:ext cx="5275440" cy="436320"/>
                <a:chOff x="3175560" y="1450440"/>
                <a:chExt cx="5275440" cy="4363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3253680" y="1450440"/>
                  <a:ext cx="511920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opulation in 1991 '000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175560" y="1450440"/>
                  <a:ext cx="527544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309960" y="1886760"/>
                <a:ext cx="2865240" cy="610560"/>
                <a:chOff x="309960" y="1886760"/>
                <a:chExt cx="2865240" cy="61056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388080" y="1886760"/>
                  <a:ext cx="27086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09960" y="1886760"/>
                  <a:ext cx="286524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3175560" y="1886760"/>
                <a:ext cx="1729080" cy="610560"/>
                <a:chOff x="3175560" y="1886760"/>
                <a:chExt cx="1729080" cy="6105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3253680" y="1886760"/>
                  <a:ext cx="15728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UR7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175560" y="1886760"/>
                  <a:ext cx="172908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4905000" y="1886760"/>
                <a:ext cx="1729080" cy="610560"/>
                <a:chOff x="4905000" y="1886760"/>
                <a:chExt cx="1729080" cy="61056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4983120" y="1886760"/>
                  <a:ext cx="15728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EMACA FUR9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905000" y="1886760"/>
                  <a:ext cx="172908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6634440" y="1886760"/>
                <a:ext cx="1816560" cy="610560"/>
                <a:chOff x="6634440" y="1886760"/>
                <a:chExt cx="1816560" cy="61056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6712560" y="1886760"/>
                  <a:ext cx="166032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uilt-up Are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6634440" y="1886760"/>
                  <a:ext cx="181656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309960" y="2497320"/>
                <a:ext cx="2865240" cy="436320"/>
                <a:chOff x="309960" y="2497320"/>
                <a:chExt cx="2865240" cy="4363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88080" y="2497320"/>
                  <a:ext cx="27086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ond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09960" y="2497320"/>
                  <a:ext cx="286524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3175560" y="2497320"/>
                <a:ext cx="1729080" cy="436320"/>
                <a:chOff x="3175560" y="2497320"/>
                <a:chExt cx="1729080" cy="4363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253680" y="2497320"/>
                  <a:ext cx="15728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175560" y="2497320"/>
                  <a:ext cx="1729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4905000" y="2497320"/>
                <a:ext cx="1729080" cy="436320"/>
                <a:chOff x="4905000" y="2497320"/>
                <a:chExt cx="1729080" cy="43632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4983120" y="2497320"/>
                  <a:ext cx="15728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4905000" y="2497320"/>
                  <a:ext cx="1729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6634440" y="2497320"/>
                <a:ext cx="1816560" cy="436320"/>
                <a:chOff x="6634440" y="2497320"/>
                <a:chExt cx="1816560" cy="4363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6712560" y="2497320"/>
                  <a:ext cx="166032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843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634440" y="2497320"/>
                  <a:ext cx="181656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09960" y="2933640"/>
                <a:ext cx="2865240" cy="435960"/>
                <a:chOff x="309960" y="2933640"/>
                <a:chExt cx="2865240" cy="43596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88080" y="2933640"/>
                  <a:ext cx="27086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re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09960" y="2933640"/>
                  <a:ext cx="286524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3175560" y="2933640"/>
                <a:ext cx="1729080" cy="435960"/>
                <a:chOff x="3175560" y="2933640"/>
                <a:chExt cx="1729080" cy="43596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3253680" y="2933640"/>
                  <a:ext cx="15728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4639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175560" y="2933640"/>
                  <a:ext cx="172908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905000" y="2933640"/>
                <a:ext cx="1729080" cy="435960"/>
                <a:chOff x="4905000" y="2933640"/>
                <a:chExt cx="1729080" cy="43596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983120" y="2933640"/>
                  <a:ext cx="15728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6125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905000" y="2933640"/>
                  <a:ext cx="172908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6634440" y="2933640"/>
                <a:ext cx="1816560" cy="435960"/>
                <a:chOff x="6634440" y="2933640"/>
                <a:chExt cx="1816560" cy="43596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6712560" y="2933640"/>
                  <a:ext cx="166032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634440" y="2933640"/>
                  <a:ext cx="181656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309960" y="3369600"/>
                <a:ext cx="2865240" cy="436320"/>
                <a:chOff x="309960" y="3369600"/>
                <a:chExt cx="2865240" cy="4363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88080" y="3369600"/>
                  <a:ext cx="27086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hinterlan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09960" y="3369600"/>
                  <a:ext cx="286524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3175560" y="3369600"/>
                <a:ext cx="1729080" cy="436320"/>
                <a:chOff x="3175560" y="3369600"/>
                <a:chExt cx="1729080" cy="4363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3253680" y="3369600"/>
                  <a:ext cx="15728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4117.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40"/>
                      <a:tab algn="l" pos="458640"/>
                      <a:tab algn="l" pos="915840"/>
                      <a:tab algn="l" pos="1373040"/>
                      <a:tab algn="l" pos="1830240"/>
                      <a:tab algn="l" pos="2287440"/>
                      <a:tab algn="l" pos="2744640"/>
                      <a:tab algn="l" pos="3201840"/>
                      <a:tab algn="l" pos="3659040"/>
                      <a:tab algn="l" pos="4116240"/>
                      <a:tab algn="l" pos="4573440"/>
                      <a:tab algn="l" pos="5030640"/>
                      <a:tab algn="l" pos="548784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5828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175560" y="3369600"/>
                  <a:ext cx="1729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4905000" y="3369600"/>
                <a:ext cx="1729080" cy="436320"/>
                <a:chOff x="4905000" y="3369600"/>
                <a:chExt cx="1729080" cy="43632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4983120" y="3369600"/>
                  <a:ext cx="15728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6393.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905000" y="3369600"/>
                  <a:ext cx="1729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6634440" y="3369600"/>
                <a:ext cx="1816560" cy="436320"/>
                <a:chOff x="6634440" y="3369600"/>
                <a:chExt cx="1816560" cy="4363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712560" y="3369600"/>
                  <a:ext cx="166032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634440" y="3369600"/>
                  <a:ext cx="181656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09960" y="3806280"/>
                <a:ext cx="2865240" cy="610560"/>
                <a:chOff x="309960" y="3806280"/>
                <a:chExt cx="2865240" cy="6105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388080" y="3806280"/>
                  <a:ext cx="27086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U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rowth 1981-91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09960" y="3806280"/>
                  <a:ext cx="286524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3175560" y="3806280"/>
                <a:ext cx="1729080" cy="610560"/>
                <a:chOff x="3175560" y="3806280"/>
                <a:chExt cx="1729080" cy="61056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3253680" y="3806280"/>
                  <a:ext cx="15728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8756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-3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175560" y="3806280"/>
                  <a:ext cx="172908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4905000" y="3806280"/>
                <a:ext cx="1729080" cy="610560"/>
                <a:chOff x="4905000" y="3806280"/>
                <a:chExt cx="1729080" cy="6105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4983120" y="3806280"/>
                  <a:ext cx="15728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2519.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905000" y="3806280"/>
                  <a:ext cx="172908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6634440" y="3806280"/>
                <a:ext cx="1816560" cy="610560"/>
                <a:chOff x="6634440" y="3806280"/>
                <a:chExt cx="1816560" cy="61056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6712560" y="3806280"/>
                  <a:ext cx="166032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6634440" y="3806280"/>
                  <a:ext cx="181656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09960" y="4416840"/>
                <a:ext cx="2865240" cy="366120"/>
                <a:chOff x="309960" y="4416840"/>
                <a:chExt cx="2865240" cy="3661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88080" y="4416840"/>
                  <a:ext cx="2708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09960" y="4416840"/>
                  <a:ext cx="28652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175560" y="4416840"/>
                <a:ext cx="1729080" cy="366120"/>
                <a:chOff x="3175560" y="4416840"/>
                <a:chExt cx="1729080" cy="3661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253680" y="4416840"/>
                  <a:ext cx="157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175560" y="4416840"/>
                  <a:ext cx="1729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905000" y="4416840"/>
                <a:ext cx="1729080" cy="366120"/>
                <a:chOff x="4905000" y="4416840"/>
                <a:chExt cx="1729080" cy="3661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983120" y="4416840"/>
                  <a:ext cx="157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905000" y="4416840"/>
                  <a:ext cx="1729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6634440" y="4416840"/>
                <a:ext cx="1816560" cy="366120"/>
                <a:chOff x="6634440" y="4416840"/>
                <a:chExt cx="1816560" cy="3661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6712560" y="4416840"/>
                  <a:ext cx="16603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634440" y="4416840"/>
                  <a:ext cx="18165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309960" y="4782960"/>
                <a:ext cx="2865240" cy="436320"/>
                <a:chOff x="309960" y="4782960"/>
                <a:chExt cx="2865240" cy="4363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88080" y="4782960"/>
                  <a:ext cx="27086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ri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9960" y="4782960"/>
                  <a:ext cx="286524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3175560" y="4782960"/>
                <a:ext cx="1729080" cy="436320"/>
                <a:chOff x="3175560" y="4782960"/>
                <a:chExt cx="1729080" cy="4363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253680" y="4782960"/>
                  <a:ext cx="15728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175560" y="4782960"/>
                  <a:ext cx="1729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4905000" y="4782960"/>
                <a:ext cx="1729080" cy="436320"/>
                <a:chOff x="4905000" y="4782960"/>
                <a:chExt cx="1729080" cy="43632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4983120" y="4782960"/>
                  <a:ext cx="15728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905000" y="4782960"/>
                  <a:ext cx="1729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6634440" y="4782960"/>
                <a:ext cx="1816560" cy="436320"/>
                <a:chOff x="6634440" y="4782960"/>
                <a:chExt cx="1816560" cy="4363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6712560" y="4782960"/>
                  <a:ext cx="166032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516.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634440" y="4782960"/>
                  <a:ext cx="181656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309960" y="5219280"/>
                <a:ext cx="2865240" cy="436320"/>
                <a:chOff x="309960" y="5219280"/>
                <a:chExt cx="2865240" cy="43632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88080" y="5219280"/>
                  <a:ext cx="27086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09960" y="5219280"/>
                  <a:ext cx="286524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3175560" y="5219280"/>
                <a:ext cx="1729080" cy="436320"/>
                <a:chOff x="3175560" y="5219280"/>
                <a:chExt cx="1729080" cy="4363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3253680" y="5219280"/>
                  <a:ext cx="15728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8574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175560" y="5219280"/>
                  <a:ext cx="1729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05000" y="5219280"/>
                <a:ext cx="1729080" cy="436320"/>
                <a:chOff x="4905000" y="5219280"/>
                <a:chExt cx="1729080" cy="4363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4983120" y="5219280"/>
                  <a:ext cx="15728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7898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05000" y="5219280"/>
                  <a:ext cx="1729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6634440" y="5219280"/>
                <a:ext cx="1816560" cy="436320"/>
                <a:chOff x="6634440" y="5219280"/>
                <a:chExt cx="1816560" cy="43632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6712560" y="5219280"/>
                  <a:ext cx="166032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634440" y="5219280"/>
                  <a:ext cx="181656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309960" y="5655600"/>
                <a:ext cx="2865240" cy="435960"/>
                <a:chOff x="309960" y="5655600"/>
                <a:chExt cx="2865240" cy="4359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88080" y="5655600"/>
                  <a:ext cx="27086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hinterlan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09960" y="5655600"/>
                  <a:ext cx="286524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3175560" y="5655600"/>
                <a:ext cx="1729080" cy="435960"/>
                <a:chOff x="3175560" y="5655600"/>
                <a:chExt cx="1729080" cy="4359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3253680" y="5655600"/>
                  <a:ext cx="15728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2049.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175560" y="5655600"/>
                  <a:ext cx="172908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4905000" y="5655600"/>
                <a:ext cx="1729080" cy="435960"/>
                <a:chOff x="4905000" y="5655600"/>
                <a:chExt cx="1729080" cy="4359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4983120" y="5655600"/>
                  <a:ext cx="15728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3520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905000" y="5655600"/>
                  <a:ext cx="172908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6634440" y="5655600"/>
                <a:ext cx="1816560" cy="435960"/>
                <a:chOff x="6634440" y="5655600"/>
                <a:chExt cx="1816560" cy="435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712560" y="5655600"/>
                  <a:ext cx="166032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634440" y="5655600"/>
                  <a:ext cx="181656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309960" y="6091920"/>
                <a:ext cx="2865240" cy="610560"/>
                <a:chOff x="309960" y="6091920"/>
                <a:chExt cx="2865240" cy="61056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388080" y="6091920"/>
                  <a:ext cx="27086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U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rowth 1982-90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09960" y="6091920"/>
                  <a:ext cx="286524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175560" y="6091920"/>
                <a:ext cx="1729080" cy="610560"/>
                <a:chOff x="3175560" y="6091920"/>
                <a:chExt cx="1729080" cy="61056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3253680" y="6091920"/>
                  <a:ext cx="15728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0623.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5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175560" y="6091920"/>
                  <a:ext cx="172908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4905000" y="6091920"/>
                <a:ext cx="1729080" cy="610560"/>
                <a:chOff x="4905000" y="6091920"/>
                <a:chExt cx="1729080" cy="61056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4983120" y="6091920"/>
                  <a:ext cx="157284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11418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"/>
                      <a:ea typeface="Times New Roman"/>
                    </a:rPr>
                    <a:t>6.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905000" y="6091920"/>
                  <a:ext cx="172908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634440" y="6091920"/>
                <a:ext cx="1816560" cy="610560"/>
                <a:chOff x="6634440" y="6091920"/>
                <a:chExt cx="1816560" cy="61056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712560" y="6091920"/>
                  <a:ext cx="1660320" cy="61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634440" y="6091920"/>
                  <a:ext cx="1816560" cy="61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0" name=""/>
            <p:cNvSpPr/>
            <p:nvPr/>
          </p:nvSpPr>
          <p:spPr>
            <a:xfrm>
              <a:off x="304920" y="1447920"/>
              <a:ext cx="8152920" cy="5257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GEMACA FURS of NW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28600" y="1371600"/>
            <a:ext cx="8229240" cy="5257800"/>
            <a:chOff x="228600" y="1371600"/>
            <a:chExt cx="8229240" cy="5257800"/>
          </a:xfrm>
        </p:grpSpPr>
        <p:grpSp>
          <p:nvGrpSpPr>
            <p:cNvPr id="705" name=""/>
            <p:cNvGrpSpPr/>
            <p:nvPr/>
          </p:nvGrpSpPr>
          <p:grpSpPr>
            <a:xfrm>
              <a:off x="235080" y="1373400"/>
              <a:ext cx="8214840" cy="5253480"/>
              <a:chOff x="235080" y="1373400"/>
              <a:chExt cx="8214840" cy="525348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235080" y="1373400"/>
                <a:ext cx="2599560" cy="570240"/>
                <a:chOff x="235080" y="1373400"/>
                <a:chExt cx="2599560" cy="57024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298080" y="1373400"/>
                  <a:ext cx="247320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U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35080" y="1373400"/>
                  <a:ext cx="259956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2835000" y="1373400"/>
                <a:ext cx="1893240" cy="570240"/>
                <a:chOff x="2835000" y="1373400"/>
                <a:chExt cx="1893240" cy="57024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2898360" y="1373400"/>
                  <a:ext cx="176580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Year of observ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835000" y="1373400"/>
                  <a:ext cx="189324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4728960" y="1373400"/>
                <a:ext cx="1795680" cy="570240"/>
                <a:chOff x="4728960" y="1373400"/>
                <a:chExt cx="1795680" cy="57024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4791960" y="1373400"/>
                  <a:ext cx="166896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opul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million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728960" y="1373400"/>
                  <a:ext cx="179568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25360" y="1373400"/>
                <a:ext cx="1924560" cy="570240"/>
                <a:chOff x="6525360" y="1373400"/>
                <a:chExt cx="1924560" cy="5702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588360" y="1373400"/>
                  <a:ext cx="179820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% of country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25360" y="1373400"/>
                  <a:ext cx="192456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235080" y="1943640"/>
                <a:ext cx="2599560" cy="325800"/>
                <a:chOff x="235080" y="1943640"/>
                <a:chExt cx="2599560" cy="32580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298080" y="194364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ond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35080" y="194364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835000" y="1943640"/>
                <a:ext cx="1893240" cy="325800"/>
                <a:chOff x="2835000" y="1943640"/>
                <a:chExt cx="1893240" cy="32580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2898360" y="194364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835000" y="194364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4728960" y="1943640"/>
                <a:ext cx="1795680" cy="325800"/>
                <a:chOff x="4728960" y="1943640"/>
                <a:chExt cx="1795680" cy="32580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4791960" y="194364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.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728960" y="194364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6525360" y="1943640"/>
                <a:ext cx="1924560" cy="325800"/>
                <a:chOff x="6525360" y="1943640"/>
                <a:chExt cx="1924560" cy="32580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6588360" y="194364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525360" y="194364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235080" y="2269440"/>
                <a:ext cx="2599560" cy="325440"/>
                <a:chOff x="235080" y="2269440"/>
                <a:chExt cx="2599560" cy="32544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298080" y="2269440"/>
                  <a:ext cx="247320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RheinRhu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35080" y="2269440"/>
                  <a:ext cx="2599560" cy="32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2835000" y="2269440"/>
                <a:ext cx="1893240" cy="325440"/>
                <a:chOff x="2835000" y="2269440"/>
                <a:chExt cx="1893240" cy="32544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2898360" y="2269440"/>
                  <a:ext cx="176580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835000" y="2269440"/>
                  <a:ext cx="1893240" cy="32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4728960" y="2269440"/>
                <a:ext cx="1795680" cy="325440"/>
                <a:chOff x="4728960" y="2269440"/>
                <a:chExt cx="1795680" cy="32544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4791960" y="2269440"/>
                  <a:ext cx="166896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1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728960" y="2269440"/>
                  <a:ext cx="1795680" cy="32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6525360" y="2269440"/>
                <a:ext cx="1924560" cy="325440"/>
                <a:chOff x="6525360" y="2269440"/>
                <a:chExt cx="1924560" cy="32544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6588360" y="2269440"/>
                  <a:ext cx="179820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525360" y="2269440"/>
                  <a:ext cx="1924560" cy="32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235080" y="2594880"/>
                <a:ext cx="2599560" cy="325800"/>
                <a:chOff x="235080" y="2594880"/>
                <a:chExt cx="2599560" cy="32580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298080" y="259488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ri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35080" y="259488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2835000" y="2594880"/>
                <a:ext cx="1893240" cy="325800"/>
                <a:chOff x="2835000" y="2594880"/>
                <a:chExt cx="1893240" cy="3258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2898360" y="259488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2835000" y="259488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4728960" y="2594880"/>
                <a:ext cx="1795680" cy="325800"/>
                <a:chOff x="4728960" y="2594880"/>
                <a:chExt cx="1795680" cy="32580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4791960" y="259488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1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4728960" y="259488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25360" y="2594880"/>
                <a:ext cx="1924560" cy="325800"/>
                <a:chOff x="6525360" y="2594880"/>
                <a:chExt cx="1924560" cy="32580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588360" y="259488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25360" y="259488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235080" y="2921040"/>
                <a:ext cx="2599560" cy="325800"/>
                <a:chOff x="235080" y="2921040"/>
                <a:chExt cx="2599560" cy="32580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298080" y="292104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Randst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35080" y="292104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835000" y="2921040"/>
                <a:ext cx="1893240" cy="325800"/>
                <a:chOff x="2835000" y="2921040"/>
                <a:chExt cx="1893240" cy="32580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2898360" y="292104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835000" y="292104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4728960" y="2921040"/>
                <a:ext cx="1795680" cy="325800"/>
                <a:chOff x="4728960" y="2921040"/>
                <a:chExt cx="1795680" cy="32580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4791960" y="292104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728960" y="292104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6525360" y="2921040"/>
                <a:ext cx="1924560" cy="325800"/>
                <a:chOff x="6525360" y="2921040"/>
                <a:chExt cx="1924560" cy="32580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6588360" y="292104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525360" y="292104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235080" y="3246840"/>
                <a:ext cx="2599560" cy="325800"/>
                <a:chOff x="235080" y="3246840"/>
                <a:chExt cx="2599560" cy="32580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298080" y="324684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RheinMai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235080" y="324684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2835000" y="3246840"/>
                <a:ext cx="1893240" cy="325800"/>
                <a:chOff x="2835000" y="3246840"/>
                <a:chExt cx="1893240" cy="32580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2898360" y="324684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2835000" y="324684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4728960" y="3246840"/>
                <a:ext cx="1795680" cy="325800"/>
                <a:chOff x="4728960" y="3246840"/>
                <a:chExt cx="1795680" cy="32580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4791960" y="324684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728960" y="324684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6525360" y="3246840"/>
                <a:ext cx="1924560" cy="325800"/>
                <a:chOff x="6525360" y="3246840"/>
                <a:chExt cx="1924560" cy="32580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6588360" y="324684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525360" y="324684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235080" y="3572640"/>
                <a:ext cx="2599560" cy="447840"/>
                <a:chOff x="235080" y="3572640"/>
                <a:chExt cx="2599560" cy="44784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298080" y="3572640"/>
                  <a:ext cx="247320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russel/Bruxel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235080" y="3572640"/>
                  <a:ext cx="2599560" cy="44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2835000" y="3572640"/>
                <a:ext cx="1893240" cy="447840"/>
                <a:chOff x="2835000" y="3572640"/>
                <a:chExt cx="1893240" cy="44784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2898360" y="3572640"/>
                  <a:ext cx="176580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835000" y="3572640"/>
                  <a:ext cx="1893240" cy="44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4728960" y="3572640"/>
                <a:ext cx="1795680" cy="447840"/>
                <a:chOff x="4728960" y="3572640"/>
                <a:chExt cx="1795680" cy="44784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4791960" y="3572640"/>
                  <a:ext cx="166896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728960" y="3572640"/>
                  <a:ext cx="1795680" cy="44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25360" y="3572640"/>
                <a:ext cx="1924560" cy="447840"/>
                <a:chOff x="6525360" y="3572640"/>
                <a:chExt cx="1924560" cy="44784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588360" y="3572640"/>
                  <a:ext cx="1798200" cy="44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25360" y="3572640"/>
                  <a:ext cx="1924560" cy="44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235080" y="4020480"/>
                <a:ext cx="2599560" cy="325800"/>
                <a:chOff x="235080" y="4020480"/>
                <a:chExt cx="2599560" cy="32580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298080" y="402048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irmingha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235080" y="402048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835000" y="4020480"/>
                <a:ext cx="1893240" cy="325800"/>
                <a:chOff x="2835000" y="4020480"/>
                <a:chExt cx="1893240" cy="32580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2898360" y="402048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835000" y="402048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4728960" y="4020480"/>
                <a:ext cx="1795680" cy="325800"/>
                <a:chOff x="4728960" y="4020480"/>
                <a:chExt cx="1795680" cy="32580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4791960" y="402048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728960" y="402048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6525360" y="4020480"/>
                <a:ext cx="1924560" cy="325800"/>
                <a:chOff x="6525360" y="4020480"/>
                <a:chExt cx="1924560" cy="32580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6588360" y="402048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525360" y="402048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235080" y="4346280"/>
                <a:ext cx="2599560" cy="325800"/>
                <a:chOff x="235080" y="4346280"/>
                <a:chExt cx="2599560" cy="32580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298080" y="434628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anchest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235080" y="434628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2835000" y="4346280"/>
                <a:ext cx="1893240" cy="325800"/>
                <a:chOff x="2835000" y="4346280"/>
                <a:chExt cx="1893240" cy="32580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2898360" y="434628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2835000" y="434628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4728960" y="4346280"/>
                <a:ext cx="1795680" cy="325800"/>
                <a:chOff x="4728960" y="4346280"/>
                <a:chExt cx="1795680" cy="32580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4791960" y="434628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728960" y="434628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6525360" y="4346280"/>
                <a:ext cx="1924560" cy="325800"/>
                <a:chOff x="6525360" y="4346280"/>
                <a:chExt cx="1924560" cy="32580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6588360" y="434628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525360" y="434628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235080" y="4672080"/>
                <a:ext cx="2599560" cy="325440"/>
                <a:chOff x="235080" y="4672080"/>
                <a:chExt cx="2599560" cy="32544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298080" y="4672080"/>
                  <a:ext cx="247320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ubli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35080" y="4672080"/>
                  <a:ext cx="2599560" cy="32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2835000" y="4672080"/>
                <a:ext cx="1893240" cy="325440"/>
                <a:chOff x="2835000" y="4672080"/>
                <a:chExt cx="1893240" cy="32544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2898360" y="4672080"/>
                  <a:ext cx="176580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2835000" y="4672080"/>
                  <a:ext cx="1893240" cy="32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4728960" y="4672080"/>
                <a:ext cx="1795680" cy="325440"/>
                <a:chOff x="4728960" y="4672080"/>
                <a:chExt cx="1795680" cy="32544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4791960" y="4672080"/>
                  <a:ext cx="166896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728960" y="4672080"/>
                  <a:ext cx="1795680" cy="32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25360" y="4672080"/>
                <a:ext cx="1924560" cy="325440"/>
                <a:chOff x="6525360" y="4672080"/>
                <a:chExt cx="1924560" cy="32544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588360" y="4672080"/>
                  <a:ext cx="179820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25360" y="4672080"/>
                  <a:ext cx="1924560" cy="32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235080" y="4997880"/>
                <a:ext cx="2599560" cy="325800"/>
                <a:chOff x="235080" y="4997880"/>
                <a:chExt cx="2599560" cy="32580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298080" y="499788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il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235080" y="499788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835000" y="4997880"/>
                <a:ext cx="1893240" cy="325800"/>
                <a:chOff x="2835000" y="4997880"/>
                <a:chExt cx="1893240" cy="32580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2898360" y="499788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835000" y="499788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4728960" y="4997880"/>
                <a:ext cx="1795680" cy="325800"/>
                <a:chOff x="4728960" y="4997880"/>
                <a:chExt cx="1795680" cy="32580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4791960" y="499788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4728960" y="499788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6525360" y="4997880"/>
                <a:ext cx="1924560" cy="325800"/>
                <a:chOff x="6525360" y="4997880"/>
                <a:chExt cx="1924560" cy="3258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6588360" y="499788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/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525360" y="499788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235080" y="5323680"/>
                <a:ext cx="2599560" cy="325800"/>
                <a:chOff x="235080" y="5323680"/>
                <a:chExt cx="2599560" cy="32580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298080" y="532368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lasgo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235080" y="532368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2835000" y="5323680"/>
                <a:ext cx="1893240" cy="325800"/>
                <a:chOff x="2835000" y="5323680"/>
                <a:chExt cx="1893240" cy="3258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2898360" y="532368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2835000" y="532368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4728960" y="5323680"/>
                <a:ext cx="1795680" cy="325800"/>
                <a:chOff x="4728960" y="5323680"/>
                <a:chExt cx="1795680" cy="32580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4791960" y="532368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4728960" y="532368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6525360" y="5323680"/>
                <a:ext cx="1924560" cy="325800"/>
                <a:chOff x="6525360" y="5323680"/>
                <a:chExt cx="1924560" cy="3258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6588360" y="532368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525360" y="532368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235080" y="5649480"/>
                <a:ext cx="2599560" cy="325800"/>
                <a:chOff x="235080" y="5649480"/>
                <a:chExt cx="2599560" cy="32580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298080" y="564948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ntwerp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235080" y="564948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2835000" y="5649480"/>
                <a:ext cx="1893240" cy="325800"/>
                <a:chOff x="2835000" y="5649480"/>
                <a:chExt cx="1893240" cy="3258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2898360" y="564948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2835000" y="564948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4728960" y="5649480"/>
                <a:ext cx="1795680" cy="325800"/>
                <a:chOff x="4728960" y="5649480"/>
                <a:chExt cx="1795680" cy="32580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4791960" y="564948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728960" y="564948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25360" y="5649480"/>
                <a:ext cx="1924560" cy="325800"/>
                <a:chOff x="6525360" y="5649480"/>
                <a:chExt cx="1924560" cy="3258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588360" y="564948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25360" y="564948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235080" y="5975280"/>
                <a:ext cx="2599560" cy="325800"/>
                <a:chOff x="235080" y="5975280"/>
                <a:chExt cx="2599560" cy="32580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298080" y="597528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iverpo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35080" y="597528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835000" y="5975280"/>
                <a:ext cx="1893240" cy="325800"/>
                <a:chOff x="2835000" y="5975280"/>
                <a:chExt cx="1893240" cy="32580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2898360" y="597528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835000" y="597528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4728960" y="5975280"/>
                <a:ext cx="1795680" cy="325800"/>
                <a:chOff x="4728960" y="5975280"/>
                <a:chExt cx="1795680" cy="32580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4791960" y="597528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728960" y="597528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6525360" y="5975280"/>
                <a:ext cx="1924560" cy="325800"/>
                <a:chOff x="6525360" y="5975280"/>
                <a:chExt cx="1924560" cy="32580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6588360" y="597528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525360" y="597528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235080" y="6301080"/>
                <a:ext cx="2599560" cy="325800"/>
                <a:chOff x="235080" y="6301080"/>
                <a:chExt cx="2599560" cy="32580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298080" y="6301080"/>
                  <a:ext cx="2473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dinburg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35080" y="6301080"/>
                  <a:ext cx="2599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2835000" y="6301080"/>
                <a:ext cx="1893240" cy="325800"/>
                <a:chOff x="2835000" y="6301080"/>
                <a:chExt cx="1893240" cy="32580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2898360" y="6301080"/>
                  <a:ext cx="17658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835000" y="6301080"/>
                  <a:ext cx="189324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4728960" y="6301080"/>
                <a:ext cx="1795680" cy="325800"/>
                <a:chOff x="4728960" y="6301080"/>
                <a:chExt cx="1795680" cy="32580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4791960" y="6301080"/>
                  <a:ext cx="166896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728960" y="6301080"/>
                  <a:ext cx="179568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525360" y="6301080"/>
                <a:ext cx="1924560" cy="325800"/>
                <a:chOff x="6525360" y="6301080"/>
                <a:chExt cx="1924560" cy="32580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6588360" y="6301080"/>
                  <a:ext cx="179820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525360" y="6301080"/>
                  <a:ext cx="1924560" cy="3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6" name=""/>
            <p:cNvSpPr/>
            <p:nvPr/>
          </p:nvSpPr>
          <p:spPr>
            <a:xfrm>
              <a:off x="228600" y="1371600"/>
              <a:ext cx="8229240" cy="5257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y we  need functionally defined cities – II: urban developmen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France –contiguous but compac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o functional approximat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l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herlands – protecting the ‘Green Hear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tain – ‘urban containment’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eapfrogging to exur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gium – low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nomies &amp; societies built out of F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TS are hugely va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er London, Bruxelles, Hamburg (but not Frankfurt!), Ile de France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politicians represent them: &amp; lik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FURs - even to compare size or prospe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rtain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ed FURs if we are to compare competitiveness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conomic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o likes NU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conomy organises itself 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conomic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tional companies want access to communications; labour;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erty develope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pert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developmen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conomic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icy makers need valid comparative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…………………………………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3809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nationals in S E England? most important factor – access to Heath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t.com clusters in Paris &amp; London? most important factors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access to 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high capacity internet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5331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s from property? Future expected rents: determined by economic conditions with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conomic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ional prosperity? GDP per cap.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DP measured at work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ople counted where the l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-con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P p.c. for different Londons 1998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15 =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219320" y="1090440"/>
            <a:ext cx="5866920" cy="5767560"/>
            <a:chOff x="1219320" y="1090440"/>
            <a:chExt cx="5866920" cy="5767560"/>
          </a:xfrm>
        </p:grpSpPr>
        <p:grpSp>
          <p:nvGrpSpPr>
            <p:cNvPr id="60" name=""/>
            <p:cNvGrpSpPr/>
            <p:nvPr/>
          </p:nvGrpSpPr>
          <p:grpSpPr>
            <a:xfrm>
              <a:off x="1226880" y="1095120"/>
              <a:ext cx="5850720" cy="5757840"/>
              <a:chOff x="1226880" y="1095120"/>
              <a:chExt cx="5850720" cy="575784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1226880" y="1095120"/>
                <a:ext cx="4502520" cy="639720"/>
                <a:chOff x="1226880" y="1095120"/>
                <a:chExt cx="4502520" cy="6397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1339560" y="1095120"/>
                  <a:ext cx="42771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reater Lond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226880" y="1095120"/>
                  <a:ext cx="450252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729760" y="1095120"/>
                <a:ext cx="1347840" cy="639720"/>
                <a:chOff x="5729760" y="1095120"/>
                <a:chExt cx="134784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842440" y="1095120"/>
                  <a:ext cx="11217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7.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729760" y="1095120"/>
                  <a:ext cx="134784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1226880" y="1734840"/>
                <a:ext cx="4502520" cy="639720"/>
                <a:chOff x="1226880" y="1734840"/>
                <a:chExt cx="450252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339560" y="1734840"/>
                  <a:ext cx="42771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ner Lond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226880" y="1734840"/>
                  <a:ext cx="450252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729760" y="1734840"/>
                <a:ext cx="1347840" cy="639720"/>
                <a:chOff x="5729760" y="1734840"/>
                <a:chExt cx="134784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842440" y="1734840"/>
                  <a:ext cx="11217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50.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729760" y="1734840"/>
                  <a:ext cx="134784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226880" y="2374560"/>
                <a:ext cx="4502520" cy="640080"/>
                <a:chOff x="1226880" y="2374560"/>
                <a:chExt cx="4502520" cy="6400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339560" y="2374560"/>
                  <a:ext cx="4277160" cy="6400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ner London -We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226880" y="2374560"/>
                  <a:ext cx="4502520" cy="6400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729760" y="2374560"/>
                <a:ext cx="1347840" cy="640080"/>
                <a:chOff x="5729760" y="2374560"/>
                <a:chExt cx="1347840" cy="6400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842440" y="2374560"/>
                  <a:ext cx="1121760" cy="6400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61.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729760" y="2374560"/>
                  <a:ext cx="1347840" cy="6400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1226880" y="3014640"/>
                <a:ext cx="4502520" cy="639720"/>
                <a:chOff x="1226880" y="3014640"/>
                <a:chExt cx="4502520" cy="63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1339560" y="3014640"/>
                  <a:ext cx="42771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ner London - Ea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226880" y="3014640"/>
                  <a:ext cx="450252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729760" y="3014640"/>
                <a:ext cx="1347840" cy="639720"/>
                <a:chOff x="5729760" y="3014640"/>
                <a:chExt cx="134784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842440" y="3014640"/>
                  <a:ext cx="11217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9.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729760" y="3014640"/>
                  <a:ext cx="134784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226880" y="3654360"/>
                <a:ext cx="4502520" cy="639720"/>
                <a:chOff x="1226880" y="3654360"/>
                <a:chExt cx="450252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339560" y="3654360"/>
                  <a:ext cx="42771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uter Lond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226880" y="3654360"/>
                  <a:ext cx="450252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5729760" y="3654360"/>
                <a:ext cx="1347840" cy="639720"/>
                <a:chOff x="5729760" y="3654360"/>
                <a:chExt cx="1347840" cy="639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5842440" y="3654360"/>
                  <a:ext cx="11217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9.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729760" y="3654360"/>
                  <a:ext cx="134784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226880" y="4294080"/>
                <a:ext cx="4502520" cy="639720"/>
                <a:chOff x="1226880" y="4294080"/>
                <a:chExt cx="4502520" cy="639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339560" y="4294080"/>
                  <a:ext cx="42771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uter London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– 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ast &amp; North Ea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226880" y="4294080"/>
                  <a:ext cx="450252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729760" y="4294080"/>
                <a:ext cx="1347840" cy="639720"/>
                <a:chOff x="5729760" y="4294080"/>
                <a:chExt cx="1347840" cy="6397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842440" y="4294080"/>
                  <a:ext cx="11217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7.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729760" y="4294080"/>
                  <a:ext cx="134784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1226880" y="4933800"/>
                <a:ext cx="4502520" cy="639720"/>
                <a:chOff x="1226880" y="4933800"/>
                <a:chExt cx="4502520" cy="6397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339560" y="4933800"/>
                  <a:ext cx="42771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uter London – Sout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226880" y="4933800"/>
                  <a:ext cx="450252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729760" y="4933800"/>
                <a:ext cx="1347840" cy="639720"/>
                <a:chOff x="5729760" y="4933800"/>
                <a:chExt cx="1347840" cy="6397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842440" y="4933800"/>
                  <a:ext cx="11217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5.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729760" y="4933800"/>
                  <a:ext cx="134784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1226880" y="5573520"/>
                <a:ext cx="4502520" cy="639720"/>
                <a:chOff x="1226880" y="5573520"/>
                <a:chExt cx="4502520" cy="6397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339560" y="5573520"/>
                  <a:ext cx="42771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uter London – West &amp; North We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226880" y="5573520"/>
                  <a:ext cx="450252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5729760" y="5573520"/>
                <a:ext cx="1347840" cy="639720"/>
                <a:chOff x="5729760" y="5573520"/>
                <a:chExt cx="1347840" cy="639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5842440" y="5573520"/>
                  <a:ext cx="11217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0.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729760" y="5573520"/>
                  <a:ext cx="134784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226880" y="6213240"/>
                <a:ext cx="4502520" cy="639720"/>
                <a:chOff x="1226880" y="6213240"/>
                <a:chExt cx="4502520" cy="6397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339560" y="6213240"/>
                  <a:ext cx="42771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outh Ea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226880" y="6213240"/>
                  <a:ext cx="450252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729760" y="6213240"/>
                <a:ext cx="1347840" cy="639720"/>
                <a:chOff x="5729760" y="6213240"/>
                <a:chExt cx="1347840" cy="6397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842440" y="6213240"/>
                  <a:ext cx="1121760" cy="63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729760" y="6213240"/>
                  <a:ext cx="1347840" cy="639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" name=""/>
            <p:cNvSpPr/>
            <p:nvPr/>
          </p:nvSpPr>
          <p:spPr>
            <a:xfrm>
              <a:off x="1219320" y="1090440"/>
              <a:ext cx="5866920" cy="5767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240" y="6402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RE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" y="152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219320" y="1090440"/>
            <a:ext cx="5866920" cy="5767560"/>
            <a:chOff x="1219320" y="1090440"/>
            <a:chExt cx="5866920" cy="5767560"/>
          </a:xfrm>
        </p:grpSpPr>
        <p:grpSp>
          <p:nvGrpSpPr>
            <p:cNvPr id="119" name=""/>
            <p:cNvGrpSpPr/>
            <p:nvPr/>
          </p:nvGrpSpPr>
          <p:grpSpPr>
            <a:xfrm>
              <a:off x="1226880" y="1095120"/>
              <a:ext cx="5850720" cy="5757840"/>
              <a:chOff x="1226880" y="1095120"/>
              <a:chExt cx="5850720" cy="575784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1226880" y="1095120"/>
                <a:ext cx="4502520" cy="639720"/>
                <a:chOff x="1226880" y="1095120"/>
                <a:chExt cx="4502520" cy="6397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339560" y="1095120"/>
                  <a:ext cx="4277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eater Lond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226880" y="1095120"/>
                  <a:ext cx="4502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729760" y="1095120"/>
                <a:ext cx="1347840" cy="639720"/>
                <a:chOff x="5729760" y="1095120"/>
                <a:chExt cx="1347840" cy="6397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42440" y="1095120"/>
                  <a:ext cx="11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7.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729760" y="1095120"/>
                  <a:ext cx="1347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226880" y="1734840"/>
                <a:ext cx="4502520" cy="639720"/>
                <a:chOff x="1226880" y="1734840"/>
                <a:chExt cx="4502520" cy="6397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39560" y="1734840"/>
                  <a:ext cx="4277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ner Lond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6880" y="1734840"/>
                  <a:ext cx="4502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729760" y="1734840"/>
                <a:ext cx="1347840" cy="639720"/>
                <a:chOff x="5729760" y="1734840"/>
                <a:chExt cx="1347840" cy="6397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842440" y="1734840"/>
                  <a:ext cx="11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0.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729760" y="1734840"/>
                  <a:ext cx="1347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6880" y="2374560"/>
                <a:ext cx="4502520" cy="640080"/>
                <a:chOff x="1226880" y="2374560"/>
                <a:chExt cx="4502520" cy="6400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39560" y="2374560"/>
                  <a:ext cx="42771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ner London -We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6880" y="2374560"/>
                  <a:ext cx="45025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729760" y="2374560"/>
                <a:ext cx="1347840" cy="640080"/>
                <a:chOff x="5729760" y="2374560"/>
                <a:chExt cx="1347840" cy="6400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842440" y="2374560"/>
                  <a:ext cx="11217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61.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729760" y="2374560"/>
                  <a:ext cx="13478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6880" y="3014640"/>
                <a:ext cx="4502520" cy="639720"/>
                <a:chOff x="1226880" y="3014640"/>
                <a:chExt cx="4502520" cy="6397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39560" y="3014640"/>
                  <a:ext cx="4277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ner London - Ea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6880" y="3014640"/>
                  <a:ext cx="4502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5729760" y="3014640"/>
                <a:ext cx="1347840" cy="639720"/>
                <a:chOff x="5729760" y="3014640"/>
                <a:chExt cx="1347840" cy="6397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842440" y="3014640"/>
                  <a:ext cx="11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.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729760" y="3014640"/>
                  <a:ext cx="1347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6880" y="3654360"/>
                <a:ext cx="4502520" cy="639720"/>
                <a:chOff x="1226880" y="3654360"/>
                <a:chExt cx="4502520" cy="639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39560" y="3654360"/>
                  <a:ext cx="4277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uter Lond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6880" y="3654360"/>
                  <a:ext cx="4502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729760" y="3654360"/>
                <a:ext cx="1347840" cy="639720"/>
                <a:chOff x="5729760" y="3654360"/>
                <a:chExt cx="1347840" cy="639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842440" y="3654360"/>
                  <a:ext cx="11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9.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729760" y="3654360"/>
                  <a:ext cx="1347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226880" y="4294080"/>
                <a:ext cx="4502520" cy="639720"/>
                <a:chOff x="1226880" y="4294080"/>
                <a:chExt cx="450252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339560" y="4294080"/>
                  <a:ext cx="4277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uter London – East &amp; N. Ea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226880" y="4294080"/>
                  <a:ext cx="4502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729760" y="4294080"/>
                <a:ext cx="1347840" cy="639720"/>
                <a:chOff x="5729760" y="4294080"/>
                <a:chExt cx="1347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842440" y="4294080"/>
                  <a:ext cx="11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7.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729760" y="4294080"/>
                  <a:ext cx="1347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226880" y="4933800"/>
                <a:ext cx="4502520" cy="639720"/>
                <a:chOff x="1226880" y="4933800"/>
                <a:chExt cx="450252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339560" y="4933800"/>
                  <a:ext cx="4277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uter London – Sou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226880" y="4933800"/>
                  <a:ext cx="4502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729760" y="4933800"/>
                <a:ext cx="1347840" cy="639720"/>
                <a:chOff x="5729760" y="4933800"/>
                <a:chExt cx="1347840" cy="6397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842440" y="4933800"/>
                  <a:ext cx="11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5.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729760" y="4933800"/>
                  <a:ext cx="1347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226880" y="5573520"/>
                <a:ext cx="4502520" cy="639720"/>
                <a:chOff x="1226880" y="5573520"/>
                <a:chExt cx="4502520" cy="639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339560" y="5573520"/>
                  <a:ext cx="4277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uter London – W. &amp; N. We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226880" y="5573520"/>
                  <a:ext cx="4502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729760" y="5573520"/>
                <a:ext cx="1347840" cy="639720"/>
                <a:chOff x="5729760" y="5573520"/>
                <a:chExt cx="1347840" cy="6397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842440" y="5573520"/>
                  <a:ext cx="11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.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729760" y="5573520"/>
                  <a:ext cx="1347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226880" y="6213240"/>
                <a:ext cx="4502520" cy="639720"/>
                <a:chOff x="1226880" y="6213240"/>
                <a:chExt cx="4502520" cy="6397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339560" y="6213240"/>
                  <a:ext cx="4277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uth Ea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226880" y="6213240"/>
                  <a:ext cx="4502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729760" y="6213240"/>
                <a:ext cx="1347840" cy="639720"/>
                <a:chOff x="5729760" y="6213240"/>
                <a:chExt cx="1347840" cy="6397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42440" y="6213240"/>
                  <a:ext cx="11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29760" y="6213240"/>
                  <a:ext cx="1347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>
              <a:off x="1219320" y="1090440"/>
              <a:ext cx="5866920" cy="576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240" y="6402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RE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 NUTS are Cities…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TS are an uneasy amalgam of national traditions: so are our national traditions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TS 1 = 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nder, ZEAT, Groups of Comunidades Autónomas, Standard Region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have national conceptions of ‘City’: Stadt, Municipality, Aggl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ration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ppl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aggl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ration’ to Belgium &amp; jus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nsistency: no compar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USA (Standard) Metropolitan Statistical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since 19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 what are Functional Urban Reg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ntrations of employment + spheres of economic influence defined by comm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uniquely right ‘rules’: GEMACA tried several: looked for consistency &amp; compa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s of contiguous units with 7+ jobs per  ha  &amp;    20 000+ jobs =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s of units with 10% commuting to core = hinter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laves’ &amp; ‘Bridging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 population 1 million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centric &amp; Polycentric F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 Narrow"/>
              </a:rPr>
              <a:t>The Functional Urban Regions in N-W Europ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44760" y="1600200"/>
          <a:ext cx="6379920" cy="48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4760" y="1600200"/>
                    <a:ext cx="637992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London FUR &amp; N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furs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96091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Paris FUR &amp; N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FUR2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477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8:29:31Z</dcterms:created>
  <dc:creator>CHESHIRE</dc:creator>
  <dc:description/>
  <dc:language>en-US</dc:language>
  <cp:lastModifiedBy>CHESHIRE</cp:lastModifiedBy>
  <dcterms:modified xsi:type="dcterms:W3CDTF">2001-11-07T15:59:41Z</dcterms:modified>
  <cp:revision>27</cp:revision>
  <dc:subject/>
  <dc:title>PowerPoint Presentation</dc:title>
</cp:coreProperties>
</file>