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BCC-0A85-4D78-9AE3-DEF2E276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E61-AE64-40DF-878B-A98ADE86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D08-5D47-4A48-870A-CB4C40FC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98C-3339-4C91-A76B-53788B71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E00-8378-4384-A747-F44D61AD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37D-97DE-45DF-BFC7-D4B53449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5E8-E014-465B-BA2C-5CFDC763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373-7990-4076-BB22-C5716FEB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29C-6160-49B0-8B37-8BA74CA7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1E1-634C-4AB2-9F70-4684AA83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56C-D91A-4D7A-B696-90A25E55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F65-D677-4AE4-95C7-A7B6D9AF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460E-D15D-4A9E-B64F-B2AD2F5DC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00"/>
                </a:solidFill>
                <a:latin typeface="Arial Narrow"/>
              </a:rPr>
              <a:t>GEMACA II</a:t>
            </a:r>
            <a:r>
              <a:rPr b="0" lang="en-GB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0" lang="en-GB" sz="3600" spc="-1" strike="noStrike">
                <a:solidFill>
                  <a:srgbClr val="ffff00"/>
                </a:solidFill>
                <a:latin typeface="Arial Narrow"/>
              </a:rPr>
              <a:t>The Functional Urban Regions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Arial Narrow"/>
              </a:rPr>
              <a:t>What and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hy defin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What we can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001000" y="2514600"/>
          <a:ext cx="99072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2514600"/>
                    <a:ext cx="9907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difference boundaries make: Some FURS which are also N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1676520"/>
            <a:ext cx="9143640" cy="4800600"/>
            <a:chOff x="0" y="1676520"/>
            <a:chExt cx="9143640" cy="4800600"/>
          </a:xfrm>
        </p:grpSpPr>
        <p:grpSp>
          <p:nvGrpSpPr>
            <p:cNvPr id="201" name=""/>
            <p:cNvGrpSpPr/>
            <p:nvPr/>
          </p:nvGrpSpPr>
          <p:grpSpPr>
            <a:xfrm>
              <a:off x="7200" y="1680480"/>
              <a:ext cx="9127800" cy="4791600"/>
              <a:chOff x="7200" y="1680480"/>
              <a:chExt cx="9127800" cy="47916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200" y="1680480"/>
                <a:ext cx="2742840" cy="892800"/>
                <a:chOff x="7200" y="1680480"/>
                <a:chExt cx="2742840" cy="8928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200" y="1680480"/>
                  <a:ext cx="2742840" cy="89280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7200" y="1680480"/>
                  <a:ext cx="2742480" cy="892800"/>
                  <a:chOff x="7200" y="1680480"/>
                  <a:chExt cx="2742480" cy="8928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113760" y="1680480"/>
                    <a:ext cx="2529000" cy="8928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200" y="1680480"/>
                    <a:ext cx="274248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" name=""/>
              <p:cNvGrpSpPr/>
              <p:nvPr/>
            </p:nvGrpSpPr>
            <p:grpSpPr>
              <a:xfrm>
                <a:off x="2750400" y="1680480"/>
                <a:ext cx="2296080" cy="892800"/>
                <a:chOff x="2750400" y="1680480"/>
                <a:chExt cx="2296080" cy="8928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750400" y="1680480"/>
                  <a:ext cx="2296080" cy="89280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2750400" y="1680480"/>
                  <a:ext cx="2295720" cy="892800"/>
                  <a:chOff x="2750400" y="1680480"/>
                  <a:chExt cx="2295720" cy="8928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2856240" y="1680480"/>
                    <a:ext cx="2083320" cy="8928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1991 Populatio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750400" y="1680480"/>
                    <a:ext cx="229572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5046840" y="1680480"/>
                <a:ext cx="4087800" cy="892800"/>
                <a:chOff x="5046840" y="1680480"/>
                <a:chExt cx="4087800" cy="8928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046840" y="1680480"/>
                  <a:ext cx="4087800" cy="89280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5046840" y="1680480"/>
                  <a:ext cx="4087440" cy="892800"/>
                  <a:chOff x="5046840" y="1680480"/>
                  <a:chExt cx="4087440" cy="8928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5153400" y="1680480"/>
                    <a:ext cx="3874320" cy="8928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GDP pc @ PPS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%Change 1981-9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5046840" y="1680480"/>
                    <a:ext cx="408744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7200" y="2573280"/>
                <a:ext cx="2742840" cy="731160"/>
                <a:chOff x="7200" y="2573280"/>
                <a:chExt cx="2742840" cy="7311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200" y="2573280"/>
                  <a:ext cx="2742840" cy="73116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" name=""/>
                <p:cNvGrpSpPr/>
                <p:nvPr/>
              </p:nvGrpSpPr>
              <p:grpSpPr>
                <a:xfrm>
                  <a:off x="7200" y="2573280"/>
                  <a:ext cx="2742480" cy="731160"/>
                  <a:chOff x="7200" y="2573280"/>
                  <a:chExt cx="2742480" cy="7311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113760" y="2573280"/>
                    <a:ext cx="2529000" cy="73116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200" y="2573280"/>
                    <a:ext cx="274248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2750400" y="2573280"/>
                <a:ext cx="1054800" cy="731160"/>
                <a:chOff x="2750400" y="2573280"/>
                <a:chExt cx="1054800" cy="731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750400" y="2573280"/>
                  <a:ext cx="1054800" cy="73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2750400" y="2573280"/>
                  <a:ext cx="1054440" cy="731160"/>
                  <a:chOff x="2750400" y="2573280"/>
                  <a:chExt cx="1054440" cy="73116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2856240" y="2573280"/>
                    <a:ext cx="841680" cy="731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U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750400" y="2573280"/>
                    <a:ext cx="10544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3805560" y="2573280"/>
                <a:ext cx="1240560" cy="731160"/>
                <a:chOff x="3805560" y="2573280"/>
                <a:chExt cx="1240560" cy="7311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805560" y="2573280"/>
                  <a:ext cx="1240560" cy="73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3805560" y="2573280"/>
                  <a:ext cx="1240200" cy="731160"/>
                  <a:chOff x="3805560" y="2573280"/>
                  <a:chExt cx="1240200" cy="7311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3912120" y="2573280"/>
                    <a:ext cx="1027440" cy="731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UT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805560" y="2573280"/>
                    <a:ext cx="12402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5046840" y="2573280"/>
                <a:ext cx="1010880" cy="731160"/>
                <a:chOff x="5046840" y="2573280"/>
                <a:chExt cx="1010880" cy="7311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046840" y="2573280"/>
                  <a:ext cx="1010880" cy="73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5046840" y="2573280"/>
                  <a:ext cx="1010520" cy="731160"/>
                  <a:chOff x="5046840" y="2573280"/>
                  <a:chExt cx="1010520" cy="73116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5153400" y="2573280"/>
                    <a:ext cx="797040" cy="731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U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46840" y="2573280"/>
                    <a:ext cx="1010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" name=""/>
              <p:cNvGrpSpPr/>
              <p:nvPr/>
            </p:nvGrpSpPr>
            <p:grpSpPr>
              <a:xfrm>
                <a:off x="6058440" y="2573280"/>
                <a:ext cx="1079640" cy="731160"/>
                <a:chOff x="6058440" y="2573280"/>
                <a:chExt cx="1079640" cy="7311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058440" y="2573280"/>
                  <a:ext cx="1079640" cy="73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6058440" y="2573280"/>
                  <a:ext cx="1079280" cy="731160"/>
                  <a:chOff x="6058440" y="2573280"/>
                  <a:chExt cx="1079280" cy="7311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6164280" y="2573280"/>
                    <a:ext cx="866880" cy="731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U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6058440" y="2573280"/>
                    <a:ext cx="107928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7138440" y="2573280"/>
                <a:ext cx="1996560" cy="731160"/>
                <a:chOff x="7138440" y="2573280"/>
                <a:chExt cx="1996560" cy="731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138440" y="2573280"/>
                  <a:ext cx="1996560" cy="731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7138440" y="2573280"/>
                  <a:ext cx="1996200" cy="731160"/>
                  <a:chOff x="7138440" y="2573280"/>
                  <a:chExt cx="1996200" cy="7311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7245000" y="2573280"/>
                    <a:ext cx="1783440" cy="731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FUR-NUT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138440" y="2573280"/>
                    <a:ext cx="19962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7200" y="3304800"/>
                <a:ext cx="2742840" cy="568440"/>
                <a:chOff x="7200" y="3304800"/>
                <a:chExt cx="2742840" cy="5684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200" y="3304800"/>
                  <a:ext cx="2742840" cy="5684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7200" y="3304800"/>
                  <a:ext cx="2742480" cy="568440"/>
                  <a:chOff x="7200" y="3304800"/>
                  <a:chExt cx="2742480" cy="56844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113760" y="3304800"/>
                    <a:ext cx="2529000" cy="56844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Breme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200" y="3304800"/>
                    <a:ext cx="27424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" name=""/>
              <p:cNvGrpSpPr/>
              <p:nvPr/>
            </p:nvGrpSpPr>
            <p:grpSpPr>
              <a:xfrm>
                <a:off x="2750400" y="3304800"/>
                <a:ext cx="1054800" cy="568440"/>
                <a:chOff x="2750400" y="3304800"/>
                <a:chExt cx="1054800" cy="5684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750400" y="3304800"/>
                  <a:ext cx="105480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"/>
                <p:cNvGrpSpPr/>
                <p:nvPr/>
              </p:nvGrpSpPr>
              <p:grpSpPr>
                <a:xfrm>
                  <a:off x="2750400" y="3304800"/>
                  <a:ext cx="1054440" cy="568440"/>
                  <a:chOff x="2750400" y="3304800"/>
                  <a:chExt cx="1054440" cy="568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2856240" y="3304800"/>
                    <a:ext cx="8416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27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750400" y="3304800"/>
                    <a:ext cx="105444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" name=""/>
              <p:cNvGrpSpPr/>
              <p:nvPr/>
            </p:nvGrpSpPr>
            <p:grpSpPr>
              <a:xfrm>
                <a:off x="3805560" y="3304800"/>
                <a:ext cx="1240560" cy="568440"/>
                <a:chOff x="3805560" y="3304800"/>
                <a:chExt cx="1240560" cy="5684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805560" y="3304800"/>
                  <a:ext cx="124056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3805560" y="3304800"/>
                  <a:ext cx="1240200" cy="568440"/>
                  <a:chOff x="3805560" y="3304800"/>
                  <a:chExt cx="1240200" cy="568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912120" y="3304800"/>
                    <a:ext cx="10274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8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805560" y="3304800"/>
                    <a:ext cx="1240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" name=""/>
              <p:cNvGrpSpPr/>
              <p:nvPr/>
            </p:nvGrpSpPr>
            <p:grpSpPr>
              <a:xfrm>
                <a:off x="5046840" y="3304800"/>
                <a:ext cx="1010880" cy="568440"/>
                <a:chOff x="5046840" y="3304800"/>
                <a:chExt cx="1010880" cy="5684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046840" y="3304800"/>
                  <a:ext cx="101088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5046840" y="3304800"/>
                  <a:ext cx="1010520" cy="568440"/>
                  <a:chOff x="5046840" y="3304800"/>
                  <a:chExt cx="1010520" cy="56844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5153400" y="3304800"/>
                    <a:ext cx="7970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8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046840" y="3304800"/>
                    <a:ext cx="101052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6058440" y="3304800"/>
                <a:ext cx="1079640" cy="568440"/>
                <a:chOff x="6058440" y="3304800"/>
                <a:chExt cx="1079640" cy="5684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058440" y="3304800"/>
                  <a:ext cx="107964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6058440" y="3304800"/>
                  <a:ext cx="1079280" cy="568440"/>
                  <a:chOff x="6058440" y="3304800"/>
                  <a:chExt cx="1079280" cy="56844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6164280" y="3304800"/>
                    <a:ext cx="8668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0.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058440" y="3304800"/>
                    <a:ext cx="10792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7138440" y="3304800"/>
                <a:ext cx="1996560" cy="568440"/>
                <a:chOff x="7138440" y="3304800"/>
                <a:chExt cx="1996560" cy="5684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138440" y="3304800"/>
                  <a:ext cx="1996560" cy="5684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7138440" y="3304800"/>
                  <a:ext cx="1996200" cy="568440"/>
                  <a:chOff x="7138440" y="3304800"/>
                  <a:chExt cx="1996200" cy="5684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7245000" y="3304800"/>
                    <a:ext cx="1783440" cy="5684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-22.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138440" y="3304800"/>
                    <a:ext cx="1996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7200" y="3873240"/>
                <a:ext cx="2742840" cy="568440"/>
                <a:chOff x="7200" y="3873240"/>
                <a:chExt cx="2742840" cy="5684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7200" y="3873240"/>
                  <a:ext cx="2742840" cy="5684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7200" y="3873240"/>
                  <a:ext cx="2742480" cy="568440"/>
                  <a:chOff x="7200" y="3873240"/>
                  <a:chExt cx="2742480" cy="5684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113760" y="3873240"/>
                    <a:ext cx="2529000" cy="56844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Hambur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200" y="3873240"/>
                    <a:ext cx="27424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2750400" y="3873240"/>
                <a:ext cx="1054800" cy="568440"/>
                <a:chOff x="2750400" y="3873240"/>
                <a:chExt cx="1054800" cy="5684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50400" y="3873240"/>
                  <a:ext cx="105480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2750400" y="3873240"/>
                  <a:ext cx="1054440" cy="568440"/>
                  <a:chOff x="2750400" y="3873240"/>
                  <a:chExt cx="1054440" cy="56844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2856240" y="3873240"/>
                    <a:ext cx="8416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0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750400" y="3873240"/>
                    <a:ext cx="105444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" name=""/>
              <p:cNvGrpSpPr/>
              <p:nvPr/>
            </p:nvGrpSpPr>
            <p:grpSpPr>
              <a:xfrm>
                <a:off x="3805560" y="3873240"/>
                <a:ext cx="1240560" cy="568440"/>
                <a:chOff x="3805560" y="3873240"/>
                <a:chExt cx="1240560" cy="5684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805560" y="3873240"/>
                  <a:ext cx="124056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3805560" y="3873240"/>
                  <a:ext cx="1240200" cy="568440"/>
                  <a:chOff x="3805560" y="3873240"/>
                  <a:chExt cx="1240200" cy="56844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3912120" y="3873240"/>
                    <a:ext cx="10274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64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805560" y="3873240"/>
                    <a:ext cx="1240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" name=""/>
              <p:cNvGrpSpPr/>
              <p:nvPr/>
            </p:nvGrpSpPr>
            <p:grpSpPr>
              <a:xfrm>
                <a:off x="5046840" y="3873240"/>
                <a:ext cx="1010880" cy="568440"/>
                <a:chOff x="5046840" y="3873240"/>
                <a:chExt cx="1010880" cy="5684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046840" y="3873240"/>
                  <a:ext cx="101088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5046840" y="3873240"/>
                  <a:ext cx="1010520" cy="568440"/>
                  <a:chOff x="5046840" y="3873240"/>
                  <a:chExt cx="1010520" cy="56844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5153400" y="3873240"/>
                    <a:ext cx="7970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4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046840" y="3873240"/>
                    <a:ext cx="101052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" name=""/>
              <p:cNvGrpSpPr/>
              <p:nvPr/>
            </p:nvGrpSpPr>
            <p:grpSpPr>
              <a:xfrm>
                <a:off x="6058440" y="3873240"/>
                <a:ext cx="1079640" cy="568440"/>
                <a:chOff x="6058440" y="3873240"/>
                <a:chExt cx="1079640" cy="5684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058440" y="3873240"/>
                  <a:ext cx="107964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6058440" y="3873240"/>
                  <a:ext cx="1079280" cy="568440"/>
                  <a:chOff x="6058440" y="3873240"/>
                  <a:chExt cx="1079280" cy="56844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6164280" y="3873240"/>
                    <a:ext cx="8668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4.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6058440" y="3873240"/>
                    <a:ext cx="10792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" name=""/>
              <p:cNvGrpSpPr/>
              <p:nvPr/>
            </p:nvGrpSpPr>
            <p:grpSpPr>
              <a:xfrm>
                <a:off x="7138440" y="3873240"/>
                <a:ext cx="1996560" cy="568440"/>
                <a:chOff x="7138440" y="3873240"/>
                <a:chExt cx="1996560" cy="5684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7138440" y="3873240"/>
                  <a:ext cx="1996560" cy="5684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7138440" y="3873240"/>
                  <a:ext cx="1996200" cy="568440"/>
                  <a:chOff x="7138440" y="3873240"/>
                  <a:chExt cx="1996200" cy="5684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7245000" y="3873240"/>
                    <a:ext cx="1783440" cy="5684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-20.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138440" y="3873240"/>
                    <a:ext cx="1996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"/>
              <p:cNvGrpSpPr/>
              <p:nvPr/>
            </p:nvGrpSpPr>
            <p:grpSpPr>
              <a:xfrm>
                <a:off x="7200" y="4442040"/>
                <a:ext cx="2742840" cy="730800"/>
                <a:chOff x="7200" y="4442040"/>
                <a:chExt cx="2742840" cy="7308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200" y="4442040"/>
                  <a:ext cx="2742840" cy="73080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7200" y="4442040"/>
                  <a:ext cx="2742480" cy="730800"/>
                  <a:chOff x="7200" y="4442040"/>
                  <a:chExt cx="2742480" cy="7308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113760" y="4442040"/>
                    <a:ext cx="2529000" cy="7308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Ile de France /Pari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200" y="4442040"/>
                    <a:ext cx="274248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2750400" y="4442040"/>
                <a:ext cx="1054800" cy="730800"/>
                <a:chOff x="2750400" y="4442040"/>
                <a:chExt cx="1054800" cy="730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750400" y="4442040"/>
                  <a:ext cx="105480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2750400" y="4442040"/>
                  <a:ext cx="1054440" cy="730800"/>
                  <a:chOff x="2750400" y="4442040"/>
                  <a:chExt cx="1054440" cy="7308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56240" y="4442040"/>
                    <a:ext cx="84168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62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750400" y="4442040"/>
                    <a:ext cx="105444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" name=""/>
              <p:cNvGrpSpPr/>
              <p:nvPr/>
            </p:nvGrpSpPr>
            <p:grpSpPr>
              <a:xfrm>
                <a:off x="3805560" y="4442040"/>
                <a:ext cx="1240560" cy="730800"/>
                <a:chOff x="3805560" y="4442040"/>
                <a:chExt cx="1240560" cy="7308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3805560" y="4442040"/>
                  <a:ext cx="124056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"/>
                <p:cNvGrpSpPr/>
                <p:nvPr/>
              </p:nvGrpSpPr>
              <p:grpSpPr>
                <a:xfrm>
                  <a:off x="3805560" y="4442040"/>
                  <a:ext cx="1240200" cy="730800"/>
                  <a:chOff x="3805560" y="4442040"/>
                  <a:chExt cx="1240200" cy="7308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3912120" y="4442040"/>
                    <a:ext cx="102744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74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805560" y="4442040"/>
                    <a:ext cx="124020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" name=""/>
              <p:cNvGrpSpPr/>
              <p:nvPr/>
            </p:nvGrpSpPr>
            <p:grpSpPr>
              <a:xfrm>
                <a:off x="5046840" y="4442040"/>
                <a:ext cx="1010880" cy="730800"/>
                <a:chOff x="5046840" y="4442040"/>
                <a:chExt cx="1010880" cy="7308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046840" y="4442040"/>
                  <a:ext cx="101088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5046840" y="4442040"/>
                  <a:ext cx="1010520" cy="730800"/>
                  <a:chOff x="5046840" y="4442040"/>
                  <a:chExt cx="1010520" cy="73080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5153400" y="4442040"/>
                    <a:ext cx="79704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2.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5046840" y="4442040"/>
                    <a:ext cx="101052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" name=""/>
              <p:cNvGrpSpPr/>
              <p:nvPr/>
            </p:nvGrpSpPr>
            <p:grpSpPr>
              <a:xfrm>
                <a:off x="6058440" y="4442040"/>
                <a:ext cx="1079640" cy="730800"/>
                <a:chOff x="6058440" y="4442040"/>
                <a:chExt cx="1079640" cy="7308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058440" y="4442040"/>
                  <a:ext cx="107964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6058440" y="4442040"/>
                  <a:ext cx="1079280" cy="730800"/>
                  <a:chOff x="6058440" y="4442040"/>
                  <a:chExt cx="1079280" cy="73080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164280" y="4442040"/>
                    <a:ext cx="86688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7.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058440" y="4442040"/>
                    <a:ext cx="107928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2" name=""/>
              <p:cNvGrpSpPr/>
              <p:nvPr/>
            </p:nvGrpSpPr>
            <p:grpSpPr>
              <a:xfrm>
                <a:off x="7138440" y="4442040"/>
                <a:ext cx="1996560" cy="730800"/>
                <a:chOff x="7138440" y="4442040"/>
                <a:chExt cx="1996560" cy="7308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138440" y="4442040"/>
                  <a:ext cx="1996560" cy="730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7138440" y="4442040"/>
                  <a:ext cx="1996200" cy="730800"/>
                  <a:chOff x="7138440" y="4442040"/>
                  <a:chExt cx="1996200" cy="7308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7245000" y="4442040"/>
                    <a:ext cx="1783440" cy="7308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15.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7138440" y="4442040"/>
                    <a:ext cx="199620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7" name=""/>
              <p:cNvGrpSpPr/>
              <p:nvPr/>
            </p:nvGrpSpPr>
            <p:grpSpPr>
              <a:xfrm>
                <a:off x="7200" y="5172840"/>
                <a:ext cx="2742840" cy="568440"/>
                <a:chOff x="7200" y="5172840"/>
                <a:chExt cx="2742840" cy="5684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7200" y="5172840"/>
                  <a:ext cx="2742840" cy="5684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7200" y="5172840"/>
                  <a:ext cx="2742480" cy="568440"/>
                  <a:chOff x="7200" y="5172840"/>
                  <a:chExt cx="2742480" cy="5684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113760" y="5172840"/>
                    <a:ext cx="2529000" cy="56844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Brussel /Bruxell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200" y="5172840"/>
                    <a:ext cx="27424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2" name=""/>
              <p:cNvGrpSpPr/>
              <p:nvPr/>
            </p:nvGrpSpPr>
            <p:grpSpPr>
              <a:xfrm>
                <a:off x="2750400" y="5172840"/>
                <a:ext cx="1054800" cy="568440"/>
                <a:chOff x="2750400" y="5172840"/>
                <a:chExt cx="1054800" cy="568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750400" y="5172840"/>
                  <a:ext cx="105480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" name=""/>
                <p:cNvGrpSpPr/>
                <p:nvPr/>
              </p:nvGrpSpPr>
              <p:grpSpPr>
                <a:xfrm>
                  <a:off x="2750400" y="5172840"/>
                  <a:ext cx="1054440" cy="568440"/>
                  <a:chOff x="2750400" y="5172840"/>
                  <a:chExt cx="1054440" cy="56844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6240" y="5172840"/>
                    <a:ext cx="8416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39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750400" y="5172840"/>
                    <a:ext cx="105444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" name=""/>
              <p:cNvGrpSpPr/>
              <p:nvPr/>
            </p:nvGrpSpPr>
            <p:grpSpPr>
              <a:xfrm>
                <a:off x="3805560" y="5172840"/>
                <a:ext cx="1240560" cy="568440"/>
                <a:chOff x="3805560" y="5172840"/>
                <a:chExt cx="1240560" cy="5684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805560" y="5172840"/>
                  <a:ext cx="124056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3805560" y="5172840"/>
                  <a:ext cx="1240200" cy="568440"/>
                  <a:chOff x="3805560" y="5172840"/>
                  <a:chExt cx="1240200" cy="5684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3912120" y="5172840"/>
                    <a:ext cx="10274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9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805560" y="5172840"/>
                    <a:ext cx="1240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2" name=""/>
              <p:cNvGrpSpPr/>
              <p:nvPr/>
            </p:nvGrpSpPr>
            <p:grpSpPr>
              <a:xfrm>
                <a:off x="5046840" y="5172840"/>
                <a:ext cx="1010880" cy="568440"/>
                <a:chOff x="5046840" y="5172840"/>
                <a:chExt cx="1010880" cy="5684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046840" y="5172840"/>
                  <a:ext cx="101088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5046840" y="5172840"/>
                  <a:ext cx="1010520" cy="568440"/>
                  <a:chOff x="5046840" y="5172840"/>
                  <a:chExt cx="1010520" cy="56844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5153400" y="5172840"/>
                    <a:ext cx="7970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3.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5046840" y="5172840"/>
                    <a:ext cx="101052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7" name=""/>
              <p:cNvGrpSpPr/>
              <p:nvPr/>
            </p:nvGrpSpPr>
            <p:grpSpPr>
              <a:xfrm>
                <a:off x="6058440" y="5172840"/>
                <a:ext cx="1079640" cy="568440"/>
                <a:chOff x="6058440" y="5172840"/>
                <a:chExt cx="1079640" cy="5684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058440" y="5172840"/>
                  <a:ext cx="107964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" name=""/>
                <p:cNvGrpSpPr/>
                <p:nvPr/>
              </p:nvGrpSpPr>
              <p:grpSpPr>
                <a:xfrm>
                  <a:off x="6058440" y="5172840"/>
                  <a:ext cx="1079280" cy="568440"/>
                  <a:chOff x="6058440" y="5172840"/>
                  <a:chExt cx="1079280" cy="56844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6164280" y="5172840"/>
                    <a:ext cx="8668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92.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058440" y="5172840"/>
                    <a:ext cx="10792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2" name=""/>
              <p:cNvGrpSpPr/>
              <p:nvPr/>
            </p:nvGrpSpPr>
            <p:grpSpPr>
              <a:xfrm>
                <a:off x="7138440" y="5172840"/>
                <a:ext cx="1996560" cy="568440"/>
                <a:chOff x="7138440" y="5172840"/>
                <a:chExt cx="1996560" cy="5684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7138440" y="5172840"/>
                  <a:ext cx="1996560" cy="5684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7138440" y="5172840"/>
                  <a:ext cx="1996200" cy="568440"/>
                  <a:chOff x="7138440" y="5172840"/>
                  <a:chExt cx="1996200" cy="56844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7245000" y="5172840"/>
                    <a:ext cx="1783440" cy="5684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-19.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138440" y="5172840"/>
                    <a:ext cx="1996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7200" y="5741280"/>
                <a:ext cx="2742840" cy="730800"/>
                <a:chOff x="7200" y="5741280"/>
                <a:chExt cx="2742840" cy="7308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200" y="5741280"/>
                  <a:ext cx="2742840" cy="73080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7200" y="5741280"/>
                  <a:ext cx="2742480" cy="730800"/>
                  <a:chOff x="7200" y="5741280"/>
                  <a:chExt cx="2742480" cy="73080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113760" y="5741280"/>
                    <a:ext cx="2529000" cy="7308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Greater Londo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200" y="5741280"/>
                    <a:ext cx="274248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2" name=""/>
              <p:cNvGrpSpPr/>
              <p:nvPr/>
            </p:nvGrpSpPr>
            <p:grpSpPr>
              <a:xfrm>
                <a:off x="2750400" y="5741280"/>
                <a:ext cx="1054800" cy="730800"/>
                <a:chOff x="2750400" y="5741280"/>
                <a:chExt cx="1054800" cy="7308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750400" y="5741280"/>
                  <a:ext cx="105480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2750400" y="5741280"/>
                  <a:ext cx="1054440" cy="730800"/>
                  <a:chOff x="2750400" y="5741280"/>
                  <a:chExt cx="1054440" cy="7308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2856240" y="5741280"/>
                    <a:ext cx="84168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75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750400" y="5741280"/>
                    <a:ext cx="105444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7" name=""/>
              <p:cNvGrpSpPr/>
              <p:nvPr/>
            </p:nvGrpSpPr>
            <p:grpSpPr>
              <a:xfrm>
                <a:off x="3805560" y="5741280"/>
                <a:ext cx="1240560" cy="730800"/>
                <a:chOff x="3805560" y="5741280"/>
                <a:chExt cx="1240560" cy="7308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805560" y="5741280"/>
                  <a:ext cx="124056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3805560" y="5741280"/>
                  <a:ext cx="1240200" cy="730800"/>
                  <a:chOff x="3805560" y="5741280"/>
                  <a:chExt cx="1240200" cy="73080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3912120" y="5741280"/>
                    <a:ext cx="102744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87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805560" y="5741280"/>
                    <a:ext cx="124020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2" name=""/>
              <p:cNvGrpSpPr/>
              <p:nvPr/>
            </p:nvGrpSpPr>
            <p:grpSpPr>
              <a:xfrm>
                <a:off x="5046840" y="5741280"/>
                <a:ext cx="1010880" cy="730800"/>
                <a:chOff x="5046840" y="5741280"/>
                <a:chExt cx="1010880" cy="7308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046840" y="5741280"/>
                  <a:ext cx="101088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5046840" y="5741280"/>
                  <a:ext cx="1010520" cy="730800"/>
                  <a:chOff x="5046840" y="5741280"/>
                  <a:chExt cx="1010520" cy="730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5153400" y="5741280"/>
                    <a:ext cx="79704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14.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046840" y="5741280"/>
                    <a:ext cx="101052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6058440" y="5741280"/>
                <a:ext cx="1079640" cy="730800"/>
                <a:chOff x="6058440" y="5741280"/>
                <a:chExt cx="1079640" cy="7308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058440" y="5741280"/>
                  <a:ext cx="107964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6058440" y="5741280"/>
                  <a:ext cx="1079280" cy="730800"/>
                  <a:chOff x="6058440" y="5741280"/>
                  <a:chExt cx="1079280" cy="7308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164280" y="5741280"/>
                    <a:ext cx="86688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95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058440" y="5741280"/>
                    <a:ext cx="107928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7138440" y="5741280"/>
                <a:ext cx="1996560" cy="730800"/>
                <a:chOff x="7138440" y="5741280"/>
                <a:chExt cx="1996560" cy="7308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7138440" y="5741280"/>
                  <a:ext cx="1996560" cy="730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7138440" y="5741280"/>
                  <a:ext cx="1996200" cy="730800"/>
                  <a:chOff x="7138440" y="5741280"/>
                  <a:chExt cx="1996200" cy="7308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7245000" y="5741280"/>
                    <a:ext cx="1783440" cy="7308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18.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138440" y="5741280"/>
                    <a:ext cx="199620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97" name=""/>
            <p:cNvSpPr/>
            <p:nvPr/>
          </p:nvSpPr>
          <p:spPr>
            <a:xfrm>
              <a:off x="0" y="1676520"/>
              <a:ext cx="9143640" cy="4800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ndon &amp; Paris: constant 1971 bound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0" y="1828800"/>
            <a:ext cx="9143640" cy="4724280"/>
            <a:chOff x="0" y="1828800"/>
            <a:chExt cx="9143640" cy="4724280"/>
          </a:xfrm>
        </p:grpSpPr>
        <p:grpSp>
          <p:nvGrpSpPr>
            <p:cNvPr id="402" name=""/>
            <p:cNvGrpSpPr/>
            <p:nvPr/>
          </p:nvGrpSpPr>
          <p:grpSpPr>
            <a:xfrm>
              <a:off x="6120" y="1830960"/>
              <a:ext cx="9130680" cy="4718880"/>
              <a:chOff x="6120" y="1830960"/>
              <a:chExt cx="9130680" cy="471888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6120" y="1830960"/>
                <a:ext cx="2609640" cy="513720"/>
                <a:chOff x="6120" y="1830960"/>
                <a:chExt cx="2609640" cy="513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9160" y="1830960"/>
                  <a:ext cx="256320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120" y="1830960"/>
                  <a:ext cx="260964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616120" y="1830960"/>
                <a:ext cx="1052280" cy="513720"/>
                <a:chOff x="2616120" y="1830960"/>
                <a:chExt cx="1052280" cy="513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638800" y="1830960"/>
                  <a:ext cx="100656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51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616120" y="1830960"/>
                  <a:ext cx="105228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669120" y="1830960"/>
                <a:ext cx="952200" cy="513720"/>
                <a:chOff x="3669120" y="1830960"/>
                <a:chExt cx="952200" cy="513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692160" y="1830960"/>
                  <a:ext cx="90612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61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669120" y="1830960"/>
                  <a:ext cx="95220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621680" y="1830960"/>
                <a:ext cx="1053000" cy="513720"/>
                <a:chOff x="4621680" y="1830960"/>
                <a:chExt cx="1053000" cy="513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644720" y="1830960"/>
                  <a:ext cx="100692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71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21680" y="1830960"/>
                  <a:ext cx="105300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5675400" y="1830960"/>
                <a:ext cx="1153440" cy="513720"/>
                <a:chOff x="5675400" y="1830960"/>
                <a:chExt cx="1153440" cy="513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5698440" y="1830960"/>
                  <a:ext cx="110736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81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675400" y="1830960"/>
                  <a:ext cx="115344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829200" y="1830960"/>
                <a:ext cx="1153800" cy="513720"/>
                <a:chOff x="6829200" y="1830960"/>
                <a:chExt cx="1153800" cy="513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852240" y="1830960"/>
                  <a:ext cx="110736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91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829200" y="1830960"/>
                  <a:ext cx="115380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983360" y="1830960"/>
                <a:ext cx="1153440" cy="513720"/>
                <a:chOff x="7983360" y="1830960"/>
                <a:chExt cx="1153440" cy="513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8006040" y="1830960"/>
                  <a:ext cx="110772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97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983360" y="1830960"/>
                  <a:ext cx="115344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120" y="2344680"/>
                <a:ext cx="1153440" cy="653760"/>
                <a:chOff x="6120" y="2344680"/>
                <a:chExt cx="1153440" cy="653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9160" y="23446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London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120" y="23446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159920" y="2344680"/>
                <a:ext cx="1455840" cy="653760"/>
                <a:chOff x="1159920" y="2344680"/>
                <a:chExt cx="1455840" cy="653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182960" y="2344680"/>
                  <a:ext cx="140940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Cor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159920" y="2344680"/>
                  <a:ext cx="14558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616120" y="2344680"/>
                <a:ext cx="1052280" cy="653760"/>
                <a:chOff x="2616120" y="2344680"/>
                <a:chExt cx="1052280" cy="6537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638800" y="2344680"/>
                  <a:ext cx="10065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417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616120" y="2344680"/>
                  <a:ext cx="105228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669120" y="2344680"/>
                <a:ext cx="952200" cy="653760"/>
                <a:chOff x="3669120" y="2344680"/>
                <a:chExt cx="952200" cy="653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692160" y="2344680"/>
                  <a:ext cx="9061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134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4.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669120" y="2344680"/>
                  <a:ext cx="9522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4621680" y="2344680"/>
                <a:ext cx="1053000" cy="653760"/>
                <a:chOff x="4621680" y="2344680"/>
                <a:chExt cx="1053000" cy="6537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644720" y="2344680"/>
                  <a:ext cx="10069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5593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8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21680" y="2344680"/>
                  <a:ext cx="10530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5675400" y="2344680"/>
                <a:ext cx="1153440" cy="653760"/>
                <a:chOff x="5675400" y="2344680"/>
                <a:chExt cx="1153440" cy="653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5698440" y="23446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902.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12.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675400" y="23446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6829200" y="2344680"/>
                <a:ext cx="1153800" cy="653760"/>
                <a:chOff x="6829200" y="2344680"/>
                <a:chExt cx="1153800" cy="65376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852240" y="23446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639.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5.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829200" y="2344680"/>
                  <a:ext cx="11538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7983360" y="2344680"/>
                <a:ext cx="1153440" cy="653760"/>
                <a:chOff x="7983360" y="2344680"/>
                <a:chExt cx="1153440" cy="65376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8006040" y="2344680"/>
                  <a:ext cx="11077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983360" y="23446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120" y="2998800"/>
                <a:ext cx="1153440" cy="794160"/>
                <a:chOff x="6120" y="2998800"/>
                <a:chExt cx="1153440" cy="7941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9160" y="299880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120" y="299880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159920" y="2998800"/>
                <a:ext cx="1455840" cy="794160"/>
                <a:chOff x="1159920" y="2998800"/>
                <a:chExt cx="1455840" cy="79416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182960" y="2998800"/>
                  <a:ext cx="140940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Hinterlan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159920" y="2998800"/>
                  <a:ext cx="14558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2616120" y="2998800"/>
                <a:ext cx="1052280" cy="794160"/>
                <a:chOff x="2616120" y="2998800"/>
                <a:chExt cx="1052280" cy="7941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2638800" y="2998800"/>
                  <a:ext cx="10065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3384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616120" y="2998800"/>
                  <a:ext cx="105228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669120" y="2998800"/>
                <a:ext cx="952200" cy="794160"/>
                <a:chOff x="3669120" y="2998800"/>
                <a:chExt cx="952200" cy="7941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3692160" y="2998800"/>
                  <a:ext cx="9061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3840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3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669120" y="2998800"/>
                  <a:ext cx="9522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621680" y="2998800"/>
                <a:ext cx="1053000" cy="794160"/>
                <a:chOff x="4621680" y="2998800"/>
                <a:chExt cx="1053000" cy="7941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644720" y="2998800"/>
                  <a:ext cx="10069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186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621680" y="2998800"/>
                  <a:ext cx="10530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675400" y="2998800"/>
                <a:ext cx="1153440" cy="794160"/>
                <a:chOff x="5675400" y="2998800"/>
                <a:chExt cx="1153440" cy="7941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698440" y="299880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146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0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675400" y="299880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6829200" y="2998800"/>
                <a:ext cx="1153800" cy="794160"/>
                <a:chOff x="6829200" y="2998800"/>
                <a:chExt cx="1153800" cy="79416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6852240" y="299880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117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0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829200" y="2998800"/>
                  <a:ext cx="11538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7983360" y="2998800"/>
                <a:ext cx="1153440" cy="794160"/>
                <a:chOff x="7983360" y="2998800"/>
                <a:chExt cx="1153440" cy="79416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8006040" y="2998800"/>
                  <a:ext cx="11077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983360" y="299880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120" y="3793320"/>
                <a:ext cx="1153440" cy="654120"/>
                <a:chOff x="6120" y="3793320"/>
                <a:chExt cx="1153440" cy="6541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29160" y="3793320"/>
                  <a:ext cx="11073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120" y="3793320"/>
                  <a:ext cx="11534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1159920" y="3793320"/>
                <a:ext cx="1455840" cy="654120"/>
                <a:chOff x="1159920" y="3793320"/>
                <a:chExt cx="1455840" cy="6541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182960" y="3793320"/>
                  <a:ext cx="14094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FU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159920" y="3793320"/>
                  <a:ext cx="14558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616120" y="3793320"/>
                <a:ext cx="1052280" cy="654120"/>
                <a:chOff x="2616120" y="3793320"/>
                <a:chExt cx="1052280" cy="6541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638800" y="3793320"/>
                  <a:ext cx="10065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801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616120" y="3793320"/>
                  <a:ext cx="105228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669120" y="3793320"/>
                <a:ext cx="952200" cy="654120"/>
                <a:chOff x="3669120" y="3793320"/>
                <a:chExt cx="952200" cy="6541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692160" y="3793320"/>
                  <a:ext cx="90612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974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669120" y="3793320"/>
                  <a:ext cx="95220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4621680" y="3793320"/>
                <a:ext cx="1053000" cy="654120"/>
                <a:chOff x="4621680" y="3793320"/>
                <a:chExt cx="1053000" cy="6541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644720" y="3793320"/>
                  <a:ext cx="100692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780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2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621680" y="3793320"/>
                  <a:ext cx="105300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675400" y="3793320"/>
                <a:ext cx="1153440" cy="654120"/>
                <a:chOff x="5675400" y="3793320"/>
                <a:chExt cx="1153440" cy="654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5698440" y="3793320"/>
                  <a:ext cx="11073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049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7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675400" y="3793320"/>
                  <a:ext cx="11534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6829200" y="3793320"/>
                <a:ext cx="1153800" cy="654120"/>
                <a:chOff x="6829200" y="3793320"/>
                <a:chExt cx="1153800" cy="654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852240" y="3793320"/>
                  <a:ext cx="11073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756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3.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829200" y="3793320"/>
                  <a:ext cx="115380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7983360" y="3793320"/>
                <a:ext cx="1153440" cy="654120"/>
                <a:chOff x="7983360" y="3793320"/>
                <a:chExt cx="1153440" cy="6541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8006040" y="3793320"/>
                  <a:ext cx="110772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038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3.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983360" y="3793320"/>
                  <a:ext cx="11534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6120" y="4447440"/>
                <a:ext cx="1153440" cy="653760"/>
                <a:chOff x="6120" y="4447440"/>
                <a:chExt cx="1153440" cy="6537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160" y="444744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r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120" y="444744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1159920" y="4447440"/>
                <a:ext cx="1455840" cy="653760"/>
                <a:chOff x="1159920" y="4447440"/>
                <a:chExt cx="1455840" cy="6537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1182960" y="4447440"/>
                  <a:ext cx="140940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Cor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159920" y="4447440"/>
                  <a:ext cx="14558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2616120" y="4447440"/>
                <a:ext cx="1052280" cy="653760"/>
                <a:chOff x="2616120" y="4447440"/>
                <a:chExt cx="1052280" cy="65376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2638800" y="4447440"/>
                  <a:ext cx="10065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076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616120" y="4447440"/>
                  <a:ext cx="105228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669120" y="4447440"/>
                <a:ext cx="952200" cy="653760"/>
                <a:chOff x="3669120" y="4447440"/>
                <a:chExt cx="952200" cy="6537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692160" y="4447440"/>
                  <a:ext cx="9061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7358.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1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69120" y="4447440"/>
                  <a:ext cx="9522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4621680" y="4447440"/>
                <a:ext cx="1053000" cy="653760"/>
                <a:chOff x="4621680" y="4447440"/>
                <a:chExt cx="1053000" cy="6537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644720" y="4447440"/>
                  <a:ext cx="10069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380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3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621680" y="4447440"/>
                  <a:ext cx="10530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5675400" y="4447440"/>
                <a:ext cx="1153440" cy="653760"/>
                <a:chOff x="5675400" y="4447440"/>
                <a:chExt cx="1153440" cy="6537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5698440" y="444744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332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0.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75400" y="444744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829200" y="4447440"/>
                <a:ext cx="1153800" cy="653760"/>
                <a:chOff x="6829200" y="4447440"/>
                <a:chExt cx="1153800" cy="6537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852240" y="444744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574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829200" y="4447440"/>
                  <a:ext cx="11538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7983360" y="4447440"/>
                <a:ext cx="1153440" cy="653760"/>
                <a:chOff x="7983360" y="4447440"/>
                <a:chExt cx="1153440" cy="6537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8006040" y="4447440"/>
                  <a:ext cx="11077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983360" y="444744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120" y="5101560"/>
                <a:ext cx="1153440" cy="794160"/>
                <a:chOff x="6120" y="5101560"/>
                <a:chExt cx="1153440" cy="79416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29160" y="510156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120" y="510156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1159920" y="5101560"/>
                <a:ext cx="1455840" cy="794160"/>
                <a:chOff x="1159920" y="5101560"/>
                <a:chExt cx="1455840" cy="7941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182960" y="5101560"/>
                  <a:ext cx="140940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Hinterlan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159920" y="5101560"/>
                  <a:ext cx="14558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2616120" y="5101560"/>
                <a:ext cx="1052280" cy="794160"/>
                <a:chOff x="2616120" y="5101560"/>
                <a:chExt cx="1052280" cy="794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38800" y="5101560"/>
                  <a:ext cx="10065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728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616120" y="5101560"/>
                  <a:ext cx="105228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3669120" y="5101560"/>
                <a:ext cx="952200" cy="794160"/>
                <a:chOff x="3669120" y="5101560"/>
                <a:chExt cx="952200" cy="79416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3692160" y="5101560"/>
                  <a:ext cx="9061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43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5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69120" y="5101560"/>
                  <a:ext cx="9522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621680" y="5101560"/>
                <a:ext cx="1053000" cy="794160"/>
                <a:chOff x="4621680" y="5101560"/>
                <a:chExt cx="1053000" cy="7941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644720" y="5101560"/>
                  <a:ext cx="10069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122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33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21680" y="5101560"/>
                  <a:ext cx="10530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5675400" y="5101560"/>
                <a:ext cx="1153440" cy="794160"/>
                <a:chOff x="5675400" y="5101560"/>
                <a:chExt cx="1153440" cy="794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698440" y="510156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740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55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675400" y="510156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829200" y="5101560"/>
                <a:ext cx="1153800" cy="794160"/>
                <a:chOff x="6829200" y="5101560"/>
                <a:chExt cx="1153800" cy="79416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852240" y="510156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049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7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829200" y="5101560"/>
                  <a:ext cx="11538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7983360" y="5101560"/>
                <a:ext cx="1153440" cy="794160"/>
                <a:chOff x="7983360" y="5101560"/>
                <a:chExt cx="1153440" cy="794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8006040" y="5101560"/>
                  <a:ext cx="11077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983360" y="510156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6120" y="5896080"/>
                <a:ext cx="1153440" cy="653760"/>
                <a:chOff x="6120" y="5896080"/>
                <a:chExt cx="1153440" cy="65376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29160" y="58960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120" y="58960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1159920" y="5896080"/>
                <a:ext cx="1455840" cy="653760"/>
                <a:chOff x="1159920" y="5896080"/>
                <a:chExt cx="1455840" cy="65376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1182960" y="5896080"/>
                  <a:ext cx="140940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FU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59920" y="5896080"/>
                  <a:ext cx="14558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2616120" y="5896080"/>
                <a:ext cx="1052280" cy="653760"/>
                <a:chOff x="2616120" y="5896080"/>
                <a:chExt cx="1052280" cy="653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2638800" y="5896080"/>
                  <a:ext cx="10065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805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616120" y="5896080"/>
                  <a:ext cx="105228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3669120" y="5896080"/>
                <a:ext cx="952200" cy="653760"/>
                <a:chOff x="3669120" y="5896080"/>
                <a:chExt cx="952200" cy="65376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692160" y="5896080"/>
                  <a:ext cx="9061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202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0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669120" y="5896080"/>
                  <a:ext cx="9522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4621680" y="5896080"/>
                <a:ext cx="1053000" cy="653760"/>
                <a:chOff x="4621680" y="5896080"/>
                <a:chExt cx="1053000" cy="6537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4644720" y="5896080"/>
                  <a:ext cx="10069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503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5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621680" y="5896080"/>
                  <a:ext cx="10530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5675400" y="5896080"/>
                <a:ext cx="1153440" cy="653760"/>
                <a:chOff x="5675400" y="5896080"/>
                <a:chExt cx="1153440" cy="6537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5698440" y="58960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0073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675400" y="58960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829200" y="5896080"/>
                <a:ext cx="1153800" cy="653760"/>
                <a:chOff x="6829200" y="5896080"/>
                <a:chExt cx="1153800" cy="65376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852240" y="58960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0623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5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829200" y="5896080"/>
                  <a:ext cx="11538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983360" y="5896080"/>
                <a:ext cx="1153440" cy="653760"/>
                <a:chOff x="7983360" y="5896080"/>
                <a:chExt cx="1153440" cy="6537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8006040" y="5896080"/>
                  <a:ext cx="11077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0907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983360" y="58960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8" name=""/>
            <p:cNvSpPr/>
            <p:nvPr/>
          </p:nvSpPr>
          <p:spPr>
            <a:xfrm>
              <a:off x="0" y="1828800"/>
              <a:ext cx="91436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971 to 1991 Paris grows &amp; London exp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4920" y="1447920"/>
            <a:ext cx="8152920" cy="5257800"/>
            <a:chOff x="304920" y="1447920"/>
            <a:chExt cx="8152920" cy="5257800"/>
          </a:xfrm>
        </p:grpSpPr>
        <p:grpSp>
          <p:nvGrpSpPr>
            <p:cNvPr id="573" name=""/>
            <p:cNvGrpSpPr/>
            <p:nvPr/>
          </p:nvGrpSpPr>
          <p:grpSpPr>
            <a:xfrm>
              <a:off x="309960" y="1450440"/>
              <a:ext cx="8141040" cy="5252040"/>
              <a:chOff x="309960" y="1450440"/>
              <a:chExt cx="8141040" cy="525204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309960" y="1450440"/>
                <a:ext cx="2865240" cy="436320"/>
                <a:chOff x="309960" y="1450440"/>
                <a:chExt cx="2865240" cy="4363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388080" y="1450440"/>
                  <a:ext cx="2708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09960" y="1450440"/>
                  <a:ext cx="2865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3175560" y="1450440"/>
                <a:ext cx="5275440" cy="436320"/>
                <a:chOff x="3175560" y="1450440"/>
                <a:chExt cx="5275440" cy="4363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3253680" y="1450440"/>
                  <a:ext cx="511920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pulation in 1991 '000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175560" y="1450440"/>
                  <a:ext cx="52754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309960" y="1886760"/>
                <a:ext cx="2865240" cy="610560"/>
                <a:chOff x="309960" y="1886760"/>
                <a:chExt cx="2865240" cy="6105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88080" y="1886760"/>
                  <a:ext cx="27086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09960" y="1886760"/>
                  <a:ext cx="286524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3175560" y="1886760"/>
                <a:ext cx="1729080" cy="610560"/>
                <a:chOff x="3175560" y="1886760"/>
                <a:chExt cx="1729080" cy="610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253680" y="188676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UR7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175560" y="188676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905000" y="1886760"/>
                <a:ext cx="1729080" cy="610560"/>
                <a:chOff x="4905000" y="1886760"/>
                <a:chExt cx="1729080" cy="6105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983120" y="188676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EMACA FUR9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905000" y="188676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6634440" y="1886760"/>
                <a:ext cx="1816560" cy="610560"/>
                <a:chOff x="6634440" y="1886760"/>
                <a:chExt cx="1816560" cy="6105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6712560" y="1886760"/>
                  <a:ext cx="166032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uilt-up Are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634440" y="1886760"/>
                  <a:ext cx="181656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09960" y="2497320"/>
                <a:ext cx="2865240" cy="436320"/>
                <a:chOff x="309960" y="2497320"/>
                <a:chExt cx="2865240" cy="4363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88080" y="2497320"/>
                  <a:ext cx="2708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ond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09960" y="2497320"/>
                  <a:ext cx="2865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3175560" y="2497320"/>
                <a:ext cx="1729080" cy="436320"/>
                <a:chOff x="3175560" y="2497320"/>
                <a:chExt cx="1729080" cy="4363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253680" y="249732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175560" y="249732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4905000" y="2497320"/>
                <a:ext cx="1729080" cy="436320"/>
                <a:chOff x="4905000" y="2497320"/>
                <a:chExt cx="1729080" cy="4363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4983120" y="249732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905000" y="249732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6634440" y="2497320"/>
                <a:ext cx="1816560" cy="436320"/>
                <a:chOff x="6634440" y="2497320"/>
                <a:chExt cx="1816560" cy="4363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6712560" y="2497320"/>
                  <a:ext cx="166032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843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634440" y="2497320"/>
                  <a:ext cx="181656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09960" y="2933640"/>
                <a:ext cx="2865240" cy="435960"/>
                <a:chOff x="309960" y="2933640"/>
                <a:chExt cx="2865240" cy="43596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88080" y="2933640"/>
                  <a:ext cx="27086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re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09960" y="2933640"/>
                  <a:ext cx="286524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3175560" y="2933640"/>
                <a:ext cx="1729080" cy="435960"/>
                <a:chOff x="3175560" y="2933640"/>
                <a:chExt cx="1729080" cy="4359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3253680" y="2933640"/>
                  <a:ext cx="15728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639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175560" y="2933640"/>
                  <a:ext cx="17290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905000" y="2933640"/>
                <a:ext cx="1729080" cy="435960"/>
                <a:chOff x="4905000" y="2933640"/>
                <a:chExt cx="1729080" cy="43596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983120" y="2933640"/>
                  <a:ext cx="15728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125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905000" y="2933640"/>
                  <a:ext cx="17290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6634440" y="2933640"/>
                <a:ext cx="1816560" cy="435960"/>
                <a:chOff x="6634440" y="2933640"/>
                <a:chExt cx="1816560" cy="43596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6712560" y="2933640"/>
                  <a:ext cx="166032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634440" y="2933640"/>
                  <a:ext cx="181656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309960" y="3369600"/>
                <a:ext cx="2865240" cy="436320"/>
                <a:chOff x="309960" y="3369600"/>
                <a:chExt cx="2865240" cy="436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88080" y="3369600"/>
                  <a:ext cx="2708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interl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09960" y="3369600"/>
                  <a:ext cx="2865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3175560" y="3369600"/>
                <a:ext cx="1729080" cy="436320"/>
                <a:chOff x="3175560" y="3369600"/>
                <a:chExt cx="1729080" cy="4363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3253680" y="336960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117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175560" y="336960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4905000" y="3369600"/>
                <a:ext cx="1729080" cy="436320"/>
                <a:chOff x="4905000" y="3369600"/>
                <a:chExt cx="1729080" cy="4363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4983120" y="336960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393.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905000" y="336960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6634440" y="3369600"/>
                <a:ext cx="1816560" cy="436320"/>
                <a:chOff x="6634440" y="3369600"/>
                <a:chExt cx="1816560" cy="4363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712560" y="3369600"/>
                  <a:ext cx="166032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634440" y="3369600"/>
                  <a:ext cx="181656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09960" y="3806280"/>
                <a:ext cx="2865240" cy="610560"/>
                <a:chOff x="309960" y="3806280"/>
                <a:chExt cx="2865240" cy="6105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388080" y="3806280"/>
                  <a:ext cx="27086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U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rowth 1981-91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09960" y="3806280"/>
                  <a:ext cx="286524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3175560" y="3806280"/>
                <a:ext cx="1729080" cy="610560"/>
                <a:chOff x="3175560" y="3806280"/>
                <a:chExt cx="1729080" cy="61056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3253680" y="380628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756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3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175560" y="380628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905000" y="3806280"/>
                <a:ext cx="1729080" cy="610560"/>
                <a:chOff x="4905000" y="3806280"/>
                <a:chExt cx="1729080" cy="6105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983120" y="380628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2519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905000" y="380628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6634440" y="3806280"/>
                <a:ext cx="1816560" cy="610560"/>
                <a:chOff x="6634440" y="3806280"/>
                <a:chExt cx="1816560" cy="61056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6712560" y="3806280"/>
                  <a:ext cx="166032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634440" y="3806280"/>
                  <a:ext cx="181656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09960" y="4416840"/>
                <a:ext cx="2865240" cy="366120"/>
                <a:chOff x="309960" y="4416840"/>
                <a:chExt cx="2865240" cy="3661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88080" y="4416840"/>
                  <a:ext cx="2708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9960" y="4416840"/>
                  <a:ext cx="28652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175560" y="4416840"/>
                <a:ext cx="1729080" cy="366120"/>
                <a:chOff x="3175560" y="4416840"/>
                <a:chExt cx="1729080" cy="3661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253680" y="4416840"/>
                  <a:ext cx="157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175560" y="4416840"/>
                  <a:ext cx="1729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905000" y="4416840"/>
                <a:ext cx="1729080" cy="366120"/>
                <a:chOff x="4905000" y="4416840"/>
                <a:chExt cx="1729080" cy="3661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983120" y="4416840"/>
                  <a:ext cx="157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905000" y="4416840"/>
                  <a:ext cx="1729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6634440" y="4416840"/>
                <a:ext cx="1816560" cy="366120"/>
                <a:chOff x="6634440" y="4416840"/>
                <a:chExt cx="1816560" cy="3661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6712560" y="4416840"/>
                  <a:ext cx="16603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634440" y="4416840"/>
                  <a:ext cx="18165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309960" y="4782960"/>
                <a:ext cx="2865240" cy="436320"/>
                <a:chOff x="309960" y="4782960"/>
                <a:chExt cx="2865240" cy="4363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88080" y="4782960"/>
                  <a:ext cx="2708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ri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9960" y="4782960"/>
                  <a:ext cx="2865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3175560" y="4782960"/>
                <a:ext cx="1729080" cy="436320"/>
                <a:chOff x="3175560" y="4782960"/>
                <a:chExt cx="1729080" cy="4363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253680" y="478296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75560" y="478296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4905000" y="4782960"/>
                <a:ext cx="1729080" cy="436320"/>
                <a:chOff x="4905000" y="4782960"/>
                <a:chExt cx="1729080" cy="4363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4983120" y="478296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905000" y="478296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6634440" y="4782960"/>
                <a:ext cx="1816560" cy="436320"/>
                <a:chOff x="6634440" y="4782960"/>
                <a:chExt cx="1816560" cy="4363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6712560" y="4782960"/>
                  <a:ext cx="166032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516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634440" y="4782960"/>
                  <a:ext cx="181656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309960" y="5219280"/>
                <a:ext cx="2865240" cy="436320"/>
                <a:chOff x="309960" y="5219280"/>
                <a:chExt cx="2865240" cy="4363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88080" y="5219280"/>
                  <a:ext cx="2708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09960" y="5219280"/>
                  <a:ext cx="2865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3175560" y="5219280"/>
                <a:ext cx="1729080" cy="436320"/>
                <a:chOff x="3175560" y="5219280"/>
                <a:chExt cx="1729080" cy="4363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3253680" y="521928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574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175560" y="521928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05000" y="5219280"/>
                <a:ext cx="1729080" cy="436320"/>
                <a:chOff x="4905000" y="5219280"/>
                <a:chExt cx="1729080" cy="4363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4983120" y="521928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7898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05000" y="521928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6634440" y="5219280"/>
                <a:ext cx="1816560" cy="436320"/>
                <a:chOff x="6634440" y="5219280"/>
                <a:chExt cx="1816560" cy="43632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6712560" y="5219280"/>
                  <a:ext cx="166032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634440" y="5219280"/>
                  <a:ext cx="181656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309960" y="5655600"/>
                <a:ext cx="2865240" cy="435960"/>
                <a:chOff x="309960" y="5655600"/>
                <a:chExt cx="2865240" cy="4359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88080" y="5655600"/>
                  <a:ext cx="27086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interl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09960" y="5655600"/>
                  <a:ext cx="286524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175560" y="5655600"/>
                <a:ext cx="1729080" cy="435960"/>
                <a:chOff x="3175560" y="5655600"/>
                <a:chExt cx="1729080" cy="4359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3253680" y="5655600"/>
                  <a:ext cx="15728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049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175560" y="5655600"/>
                  <a:ext cx="17290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4905000" y="5655600"/>
                <a:ext cx="1729080" cy="435960"/>
                <a:chOff x="4905000" y="5655600"/>
                <a:chExt cx="1729080" cy="4359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4983120" y="5655600"/>
                  <a:ext cx="15728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352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905000" y="5655600"/>
                  <a:ext cx="17290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6634440" y="5655600"/>
                <a:ext cx="1816560" cy="435960"/>
                <a:chOff x="6634440" y="5655600"/>
                <a:chExt cx="1816560" cy="435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712560" y="5655600"/>
                  <a:ext cx="166032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634440" y="5655600"/>
                  <a:ext cx="181656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309960" y="6091920"/>
                <a:ext cx="2865240" cy="610560"/>
                <a:chOff x="309960" y="6091920"/>
                <a:chExt cx="2865240" cy="6105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388080" y="6091920"/>
                  <a:ext cx="27086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U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rowth 1982-90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09960" y="6091920"/>
                  <a:ext cx="286524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175560" y="6091920"/>
                <a:ext cx="1729080" cy="610560"/>
                <a:chOff x="3175560" y="6091920"/>
                <a:chExt cx="1729080" cy="6105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253680" y="609192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0623.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5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175560" y="609192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4905000" y="6091920"/>
                <a:ext cx="1729080" cy="610560"/>
                <a:chOff x="4905000" y="6091920"/>
                <a:chExt cx="1729080" cy="61056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4983120" y="609192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1418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905000" y="609192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634440" y="6091920"/>
                <a:ext cx="1816560" cy="610560"/>
                <a:chOff x="6634440" y="6091920"/>
                <a:chExt cx="1816560" cy="61056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712560" y="6091920"/>
                  <a:ext cx="166032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634440" y="6091920"/>
                  <a:ext cx="181656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0" name=""/>
            <p:cNvSpPr/>
            <p:nvPr/>
          </p:nvSpPr>
          <p:spPr>
            <a:xfrm>
              <a:off x="304920" y="1447920"/>
              <a:ext cx="8152920" cy="5257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GEMACA FURS of NW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28600" y="1371600"/>
            <a:ext cx="8229240" cy="5257800"/>
            <a:chOff x="228600" y="1371600"/>
            <a:chExt cx="8229240" cy="5257800"/>
          </a:xfrm>
        </p:grpSpPr>
        <p:grpSp>
          <p:nvGrpSpPr>
            <p:cNvPr id="705" name=""/>
            <p:cNvGrpSpPr/>
            <p:nvPr/>
          </p:nvGrpSpPr>
          <p:grpSpPr>
            <a:xfrm>
              <a:off x="235080" y="1373400"/>
              <a:ext cx="8214840" cy="5253480"/>
              <a:chOff x="235080" y="1373400"/>
              <a:chExt cx="8214840" cy="525348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235080" y="1373400"/>
                <a:ext cx="2599560" cy="570240"/>
                <a:chOff x="235080" y="1373400"/>
                <a:chExt cx="2599560" cy="5702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298080" y="1373400"/>
                  <a:ext cx="247320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U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35080" y="1373400"/>
                  <a:ext cx="259956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2835000" y="1373400"/>
                <a:ext cx="1893240" cy="570240"/>
                <a:chOff x="2835000" y="1373400"/>
                <a:chExt cx="1893240" cy="57024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2898360" y="1373400"/>
                  <a:ext cx="176580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Year of observ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835000" y="1373400"/>
                  <a:ext cx="189324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4728960" y="1373400"/>
                <a:ext cx="1795680" cy="570240"/>
                <a:chOff x="4728960" y="1373400"/>
                <a:chExt cx="1795680" cy="5702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4791960" y="1373400"/>
                  <a:ext cx="166896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pul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million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728960" y="1373400"/>
                  <a:ext cx="179568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25360" y="1373400"/>
                <a:ext cx="1924560" cy="570240"/>
                <a:chOff x="6525360" y="1373400"/>
                <a:chExt cx="1924560" cy="5702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588360" y="1373400"/>
                  <a:ext cx="179820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% of country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25360" y="1373400"/>
                  <a:ext cx="192456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235080" y="1943640"/>
                <a:ext cx="2599560" cy="325800"/>
                <a:chOff x="235080" y="1943640"/>
                <a:chExt cx="2599560" cy="32580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298080" y="194364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ond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35080" y="194364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835000" y="1943640"/>
                <a:ext cx="1893240" cy="325800"/>
                <a:chOff x="2835000" y="1943640"/>
                <a:chExt cx="1893240" cy="32580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2898360" y="194364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835000" y="194364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4728960" y="1943640"/>
                <a:ext cx="1795680" cy="325800"/>
                <a:chOff x="4728960" y="1943640"/>
                <a:chExt cx="1795680" cy="3258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4791960" y="194364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728960" y="194364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6525360" y="1943640"/>
                <a:ext cx="1924560" cy="325800"/>
                <a:chOff x="6525360" y="1943640"/>
                <a:chExt cx="1924560" cy="32580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6588360" y="194364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525360" y="194364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235080" y="2269440"/>
                <a:ext cx="2599560" cy="325440"/>
                <a:chOff x="235080" y="2269440"/>
                <a:chExt cx="2599560" cy="3254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298080" y="2269440"/>
                  <a:ext cx="24732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heinRhu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35080" y="2269440"/>
                  <a:ext cx="259956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2835000" y="2269440"/>
                <a:ext cx="1893240" cy="325440"/>
                <a:chOff x="2835000" y="2269440"/>
                <a:chExt cx="1893240" cy="32544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2898360" y="2269440"/>
                  <a:ext cx="17658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835000" y="2269440"/>
                  <a:ext cx="189324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4728960" y="2269440"/>
                <a:ext cx="1795680" cy="325440"/>
                <a:chOff x="4728960" y="2269440"/>
                <a:chExt cx="1795680" cy="32544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791960" y="2269440"/>
                  <a:ext cx="166896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728960" y="2269440"/>
                  <a:ext cx="179568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525360" y="2269440"/>
                <a:ext cx="1924560" cy="325440"/>
                <a:chOff x="6525360" y="2269440"/>
                <a:chExt cx="1924560" cy="32544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6588360" y="2269440"/>
                  <a:ext cx="17982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525360" y="2269440"/>
                  <a:ext cx="192456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235080" y="2594880"/>
                <a:ext cx="2599560" cy="325800"/>
                <a:chOff x="235080" y="2594880"/>
                <a:chExt cx="2599560" cy="32580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298080" y="25948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r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35080" y="25948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2835000" y="2594880"/>
                <a:ext cx="1893240" cy="325800"/>
                <a:chOff x="2835000" y="2594880"/>
                <a:chExt cx="1893240" cy="3258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2898360" y="25948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835000" y="25948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4728960" y="2594880"/>
                <a:ext cx="1795680" cy="325800"/>
                <a:chOff x="4728960" y="2594880"/>
                <a:chExt cx="1795680" cy="32580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4791960" y="25948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728960" y="25948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25360" y="2594880"/>
                <a:ext cx="1924560" cy="325800"/>
                <a:chOff x="6525360" y="2594880"/>
                <a:chExt cx="1924560" cy="32580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588360" y="25948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25360" y="25948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235080" y="2921040"/>
                <a:ext cx="2599560" cy="325800"/>
                <a:chOff x="235080" y="2921040"/>
                <a:chExt cx="2599560" cy="3258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298080" y="292104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andst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35080" y="292104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835000" y="2921040"/>
                <a:ext cx="1893240" cy="325800"/>
                <a:chOff x="2835000" y="2921040"/>
                <a:chExt cx="1893240" cy="32580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2898360" y="292104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835000" y="292104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4728960" y="2921040"/>
                <a:ext cx="1795680" cy="325800"/>
                <a:chOff x="4728960" y="2921040"/>
                <a:chExt cx="1795680" cy="3258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4791960" y="292104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728960" y="292104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6525360" y="2921040"/>
                <a:ext cx="1924560" cy="325800"/>
                <a:chOff x="6525360" y="2921040"/>
                <a:chExt cx="1924560" cy="3258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6588360" y="292104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525360" y="292104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235080" y="3246840"/>
                <a:ext cx="2599560" cy="325800"/>
                <a:chOff x="235080" y="3246840"/>
                <a:chExt cx="2599560" cy="32580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298080" y="324684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heinMa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35080" y="324684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2835000" y="3246840"/>
                <a:ext cx="1893240" cy="325800"/>
                <a:chOff x="2835000" y="3246840"/>
                <a:chExt cx="1893240" cy="32580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2898360" y="324684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835000" y="324684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4728960" y="3246840"/>
                <a:ext cx="1795680" cy="325800"/>
                <a:chOff x="4728960" y="3246840"/>
                <a:chExt cx="1795680" cy="32580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4791960" y="324684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728960" y="324684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6525360" y="3246840"/>
                <a:ext cx="1924560" cy="325800"/>
                <a:chOff x="6525360" y="3246840"/>
                <a:chExt cx="1924560" cy="3258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6588360" y="324684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525360" y="324684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235080" y="3572640"/>
                <a:ext cx="2599560" cy="447840"/>
                <a:chOff x="235080" y="3572640"/>
                <a:chExt cx="2599560" cy="44784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298080" y="3572640"/>
                  <a:ext cx="247320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russel/Bruxel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35080" y="3572640"/>
                  <a:ext cx="2599560" cy="44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2835000" y="3572640"/>
                <a:ext cx="1893240" cy="447840"/>
                <a:chOff x="2835000" y="3572640"/>
                <a:chExt cx="1893240" cy="4478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2898360" y="3572640"/>
                  <a:ext cx="176580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835000" y="3572640"/>
                  <a:ext cx="1893240" cy="44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4728960" y="3572640"/>
                <a:ext cx="1795680" cy="447840"/>
                <a:chOff x="4728960" y="3572640"/>
                <a:chExt cx="1795680" cy="44784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4791960" y="3572640"/>
                  <a:ext cx="166896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728960" y="3572640"/>
                  <a:ext cx="1795680" cy="44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25360" y="3572640"/>
                <a:ext cx="1924560" cy="447840"/>
                <a:chOff x="6525360" y="3572640"/>
                <a:chExt cx="1924560" cy="44784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588360" y="3572640"/>
                  <a:ext cx="179820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25360" y="3572640"/>
                  <a:ext cx="1924560" cy="44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235080" y="4020480"/>
                <a:ext cx="2599560" cy="325800"/>
                <a:chOff x="235080" y="4020480"/>
                <a:chExt cx="2599560" cy="3258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298080" y="40204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irmingha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35080" y="40204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835000" y="4020480"/>
                <a:ext cx="1893240" cy="325800"/>
                <a:chOff x="2835000" y="4020480"/>
                <a:chExt cx="1893240" cy="32580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2898360" y="40204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835000" y="40204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728960" y="4020480"/>
                <a:ext cx="1795680" cy="325800"/>
                <a:chOff x="4728960" y="4020480"/>
                <a:chExt cx="1795680" cy="3258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4791960" y="40204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728960" y="40204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6525360" y="4020480"/>
                <a:ext cx="1924560" cy="325800"/>
                <a:chOff x="6525360" y="4020480"/>
                <a:chExt cx="1924560" cy="32580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6588360" y="40204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525360" y="40204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235080" y="4346280"/>
                <a:ext cx="2599560" cy="325800"/>
                <a:chOff x="235080" y="4346280"/>
                <a:chExt cx="2599560" cy="32580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298080" y="43462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anches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235080" y="43462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2835000" y="4346280"/>
                <a:ext cx="1893240" cy="325800"/>
                <a:chOff x="2835000" y="4346280"/>
                <a:chExt cx="1893240" cy="32580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2898360" y="43462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835000" y="43462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4728960" y="4346280"/>
                <a:ext cx="1795680" cy="325800"/>
                <a:chOff x="4728960" y="4346280"/>
                <a:chExt cx="1795680" cy="32580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4791960" y="43462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728960" y="43462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6525360" y="4346280"/>
                <a:ext cx="1924560" cy="325800"/>
                <a:chOff x="6525360" y="4346280"/>
                <a:chExt cx="1924560" cy="32580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6588360" y="43462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525360" y="43462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235080" y="4672080"/>
                <a:ext cx="2599560" cy="325440"/>
                <a:chOff x="235080" y="4672080"/>
                <a:chExt cx="2599560" cy="32544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298080" y="4672080"/>
                  <a:ext cx="24732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ubl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35080" y="4672080"/>
                  <a:ext cx="259956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2835000" y="4672080"/>
                <a:ext cx="1893240" cy="325440"/>
                <a:chOff x="2835000" y="4672080"/>
                <a:chExt cx="1893240" cy="32544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2898360" y="4672080"/>
                  <a:ext cx="17658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835000" y="4672080"/>
                  <a:ext cx="189324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4728960" y="4672080"/>
                <a:ext cx="1795680" cy="325440"/>
                <a:chOff x="4728960" y="4672080"/>
                <a:chExt cx="1795680" cy="32544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4791960" y="4672080"/>
                  <a:ext cx="166896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728960" y="4672080"/>
                  <a:ext cx="179568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25360" y="4672080"/>
                <a:ext cx="1924560" cy="325440"/>
                <a:chOff x="6525360" y="4672080"/>
                <a:chExt cx="1924560" cy="32544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588360" y="4672080"/>
                  <a:ext cx="17982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25360" y="4672080"/>
                  <a:ext cx="192456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235080" y="4997880"/>
                <a:ext cx="2599560" cy="325800"/>
                <a:chOff x="235080" y="4997880"/>
                <a:chExt cx="2599560" cy="32580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298080" y="49978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il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235080" y="49978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835000" y="4997880"/>
                <a:ext cx="1893240" cy="325800"/>
                <a:chOff x="2835000" y="4997880"/>
                <a:chExt cx="1893240" cy="32580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2898360" y="49978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835000" y="49978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4728960" y="4997880"/>
                <a:ext cx="1795680" cy="325800"/>
                <a:chOff x="4728960" y="4997880"/>
                <a:chExt cx="1795680" cy="32580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4791960" y="49978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728960" y="49978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6525360" y="4997880"/>
                <a:ext cx="1924560" cy="325800"/>
                <a:chOff x="6525360" y="4997880"/>
                <a:chExt cx="1924560" cy="3258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6588360" y="49978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/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525360" y="49978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235080" y="5323680"/>
                <a:ext cx="2599560" cy="325800"/>
                <a:chOff x="235080" y="5323680"/>
                <a:chExt cx="2599560" cy="32580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298080" y="53236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lasgo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235080" y="53236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2835000" y="5323680"/>
                <a:ext cx="1893240" cy="325800"/>
                <a:chOff x="2835000" y="5323680"/>
                <a:chExt cx="1893240" cy="3258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2898360" y="53236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835000" y="53236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4728960" y="5323680"/>
                <a:ext cx="1795680" cy="325800"/>
                <a:chOff x="4728960" y="5323680"/>
                <a:chExt cx="1795680" cy="32580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4791960" y="53236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728960" y="53236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6525360" y="5323680"/>
                <a:ext cx="1924560" cy="325800"/>
                <a:chOff x="6525360" y="5323680"/>
                <a:chExt cx="1924560" cy="3258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6588360" y="53236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525360" y="53236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235080" y="5649480"/>
                <a:ext cx="2599560" cy="325800"/>
                <a:chOff x="235080" y="5649480"/>
                <a:chExt cx="2599560" cy="32580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298080" y="56494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ntwerp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35080" y="56494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2835000" y="5649480"/>
                <a:ext cx="1893240" cy="325800"/>
                <a:chOff x="2835000" y="5649480"/>
                <a:chExt cx="1893240" cy="3258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2898360" y="56494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2835000" y="56494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4728960" y="5649480"/>
                <a:ext cx="1795680" cy="325800"/>
                <a:chOff x="4728960" y="5649480"/>
                <a:chExt cx="1795680" cy="32580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4791960" y="56494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28960" y="56494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25360" y="5649480"/>
                <a:ext cx="1924560" cy="325800"/>
                <a:chOff x="6525360" y="5649480"/>
                <a:chExt cx="1924560" cy="3258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588360" y="56494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25360" y="56494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235080" y="5975280"/>
                <a:ext cx="2599560" cy="325800"/>
                <a:chOff x="235080" y="5975280"/>
                <a:chExt cx="2599560" cy="32580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298080" y="59752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iverpo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35080" y="59752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835000" y="5975280"/>
                <a:ext cx="1893240" cy="325800"/>
                <a:chOff x="2835000" y="5975280"/>
                <a:chExt cx="1893240" cy="32580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2898360" y="59752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35000" y="59752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4728960" y="5975280"/>
                <a:ext cx="1795680" cy="325800"/>
                <a:chOff x="4728960" y="5975280"/>
                <a:chExt cx="1795680" cy="32580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4791960" y="59752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728960" y="59752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6525360" y="5975280"/>
                <a:ext cx="1924560" cy="325800"/>
                <a:chOff x="6525360" y="5975280"/>
                <a:chExt cx="1924560" cy="32580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6588360" y="59752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525360" y="59752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235080" y="6301080"/>
                <a:ext cx="2599560" cy="325800"/>
                <a:chOff x="235080" y="6301080"/>
                <a:chExt cx="2599560" cy="3258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298080" y="63010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dinburg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35080" y="63010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2835000" y="6301080"/>
                <a:ext cx="1893240" cy="325800"/>
                <a:chOff x="2835000" y="6301080"/>
                <a:chExt cx="1893240" cy="32580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2898360" y="63010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835000" y="63010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4728960" y="6301080"/>
                <a:ext cx="1795680" cy="325800"/>
                <a:chOff x="4728960" y="6301080"/>
                <a:chExt cx="1795680" cy="32580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4791960" y="63010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728960" y="63010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525360" y="6301080"/>
                <a:ext cx="1924560" cy="325800"/>
                <a:chOff x="6525360" y="6301080"/>
                <a:chExt cx="1924560" cy="32580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6588360" y="63010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525360" y="63010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6" name=""/>
            <p:cNvSpPr/>
            <p:nvPr/>
          </p:nvSpPr>
          <p:spPr>
            <a:xfrm>
              <a:off x="228600" y="1371600"/>
              <a:ext cx="8229240" cy="5257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y we  need functionally defined cities – II: urban developmen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rance –contiguous but compac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 functional approximat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l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herlands – protecting the ‘Green Hear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tain – ‘urban containment’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apfrogging to exu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gium – low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nomies &amp; societies built out of F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TS are hugely va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London, Bruxelles, Hamburg (but not Frankfurt!), Ile de France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politicians represent them: &amp; lik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URs - even to compare size or prospe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rtain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ed FURs if we are to compare competitiveness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conomic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o likes NU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conomy organises itself 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conomic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 companies want access to communications; labour;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y develope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pert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developmen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conomic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cy makers need valid comparative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…………………………………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nationals in S E England? most important factor – access to Hea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t.com clusters in Paris &amp; London? most important factors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access to 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high capacity internet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s from property? Future expected rents: determined by economic conditions with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conom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onal prosperity? GDP per cap.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DP measured at work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ople counted where the l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-con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P p.c. for different Londons 1998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15 =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219320" y="1090440"/>
            <a:ext cx="5866920" cy="5767560"/>
            <a:chOff x="1219320" y="1090440"/>
            <a:chExt cx="5866920" cy="5767560"/>
          </a:xfrm>
        </p:grpSpPr>
        <p:grpSp>
          <p:nvGrpSpPr>
            <p:cNvPr id="60" name=""/>
            <p:cNvGrpSpPr/>
            <p:nvPr/>
          </p:nvGrpSpPr>
          <p:grpSpPr>
            <a:xfrm>
              <a:off x="1226880" y="1095120"/>
              <a:ext cx="5850720" cy="5757840"/>
              <a:chOff x="1226880" y="1095120"/>
              <a:chExt cx="5850720" cy="575784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1226880" y="1095120"/>
                <a:ext cx="4502520" cy="639720"/>
                <a:chOff x="1226880" y="1095120"/>
                <a:chExt cx="4502520" cy="639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1339560" y="109512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reat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226880" y="109512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729760" y="1095120"/>
                <a:ext cx="1347840" cy="639720"/>
                <a:chOff x="5729760" y="1095120"/>
                <a:chExt cx="134784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842440" y="109512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7.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729760" y="109512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1226880" y="1734840"/>
                <a:ext cx="4502520" cy="639720"/>
                <a:chOff x="1226880" y="1734840"/>
                <a:chExt cx="450252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339560" y="173484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n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226880" y="173484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729760" y="1734840"/>
                <a:ext cx="1347840" cy="639720"/>
                <a:chOff x="5729760" y="1734840"/>
                <a:chExt cx="134784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842440" y="173484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0.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729760" y="173484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226880" y="2374560"/>
                <a:ext cx="4502520" cy="640080"/>
                <a:chOff x="1226880" y="2374560"/>
                <a:chExt cx="4502520" cy="6400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339560" y="2374560"/>
                  <a:ext cx="4277160" cy="6400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ner London -We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226880" y="2374560"/>
                  <a:ext cx="4502520" cy="6400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729760" y="2374560"/>
                <a:ext cx="1347840" cy="640080"/>
                <a:chOff x="5729760" y="2374560"/>
                <a:chExt cx="1347840" cy="640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842440" y="2374560"/>
                  <a:ext cx="1121760" cy="6400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61.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729760" y="2374560"/>
                  <a:ext cx="1347840" cy="6400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1226880" y="3014640"/>
                <a:ext cx="4502520" cy="639720"/>
                <a:chOff x="1226880" y="3014640"/>
                <a:chExt cx="450252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1339560" y="301464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ner London - Ea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226880" y="301464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729760" y="3014640"/>
                <a:ext cx="1347840" cy="639720"/>
                <a:chOff x="5729760" y="3014640"/>
                <a:chExt cx="134784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842440" y="301464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9.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729760" y="301464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226880" y="3654360"/>
                <a:ext cx="4502520" cy="639720"/>
                <a:chOff x="1226880" y="3654360"/>
                <a:chExt cx="450252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339560" y="365436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ut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226880" y="365436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5729760" y="3654360"/>
                <a:ext cx="1347840" cy="639720"/>
                <a:chOff x="5729760" y="3654360"/>
                <a:chExt cx="134784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842440" y="365436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9.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729760" y="365436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226880" y="4294080"/>
                <a:ext cx="4502520" cy="639720"/>
                <a:chOff x="1226880" y="4294080"/>
                <a:chExt cx="450252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339560" y="429408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uter London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–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ast &amp; North Ea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226880" y="429408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729760" y="4294080"/>
                <a:ext cx="1347840" cy="639720"/>
                <a:chOff x="5729760" y="4294080"/>
                <a:chExt cx="134784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842440" y="429408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7.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729760" y="429408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226880" y="4933800"/>
                <a:ext cx="4502520" cy="639720"/>
                <a:chOff x="1226880" y="4933800"/>
                <a:chExt cx="4502520" cy="6397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339560" y="493380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uter London – Sout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226880" y="493380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729760" y="4933800"/>
                <a:ext cx="1347840" cy="639720"/>
                <a:chOff x="5729760" y="4933800"/>
                <a:chExt cx="1347840" cy="639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842440" y="493380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5.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729760" y="493380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226880" y="5573520"/>
                <a:ext cx="4502520" cy="639720"/>
                <a:chOff x="1226880" y="5573520"/>
                <a:chExt cx="450252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339560" y="557352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uter London – West &amp; North We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226880" y="557352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729760" y="5573520"/>
                <a:ext cx="1347840" cy="639720"/>
                <a:chOff x="5729760" y="5573520"/>
                <a:chExt cx="134784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842440" y="557352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0.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729760" y="557352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226880" y="6213240"/>
                <a:ext cx="4502520" cy="639720"/>
                <a:chOff x="1226880" y="6213240"/>
                <a:chExt cx="450252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339560" y="621324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outh Ea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226880" y="621324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729760" y="6213240"/>
                <a:ext cx="1347840" cy="639720"/>
                <a:chOff x="5729760" y="6213240"/>
                <a:chExt cx="134784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842440" y="621324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729760" y="621324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" name=""/>
            <p:cNvSpPr/>
            <p:nvPr/>
          </p:nvSpPr>
          <p:spPr>
            <a:xfrm>
              <a:off x="1219320" y="1090440"/>
              <a:ext cx="5866920" cy="576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240" y="6402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RE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" y="152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19320" y="1090440"/>
            <a:ext cx="5866920" cy="5767560"/>
            <a:chOff x="1219320" y="1090440"/>
            <a:chExt cx="5866920" cy="5767560"/>
          </a:xfrm>
        </p:grpSpPr>
        <p:grpSp>
          <p:nvGrpSpPr>
            <p:cNvPr id="119" name=""/>
            <p:cNvGrpSpPr/>
            <p:nvPr/>
          </p:nvGrpSpPr>
          <p:grpSpPr>
            <a:xfrm>
              <a:off x="1226880" y="1095120"/>
              <a:ext cx="5850720" cy="5757840"/>
              <a:chOff x="1226880" y="1095120"/>
              <a:chExt cx="5850720" cy="57578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1226880" y="1095120"/>
                <a:ext cx="4502520" cy="639720"/>
                <a:chOff x="1226880" y="1095120"/>
                <a:chExt cx="4502520" cy="6397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339560" y="109512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eat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226880" y="109512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729760" y="1095120"/>
                <a:ext cx="1347840" cy="639720"/>
                <a:chOff x="5729760" y="1095120"/>
                <a:chExt cx="1347840" cy="6397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42440" y="109512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7.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729760" y="109512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226880" y="1734840"/>
                <a:ext cx="4502520" cy="639720"/>
                <a:chOff x="1226880" y="1734840"/>
                <a:chExt cx="4502520" cy="6397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39560" y="173484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n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6880" y="173484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729760" y="1734840"/>
                <a:ext cx="1347840" cy="639720"/>
                <a:chOff x="5729760" y="1734840"/>
                <a:chExt cx="1347840" cy="6397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842440" y="173484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.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729760" y="173484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6880" y="2374560"/>
                <a:ext cx="4502520" cy="640080"/>
                <a:chOff x="1226880" y="2374560"/>
                <a:chExt cx="4502520" cy="6400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39560" y="2374560"/>
                  <a:ext cx="42771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ner London -We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6880" y="2374560"/>
                  <a:ext cx="45025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729760" y="2374560"/>
                <a:ext cx="1347840" cy="640080"/>
                <a:chOff x="5729760" y="2374560"/>
                <a:chExt cx="1347840" cy="6400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842440" y="2374560"/>
                  <a:ext cx="11217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61.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729760" y="2374560"/>
                  <a:ext cx="13478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6880" y="3014640"/>
                <a:ext cx="4502520" cy="639720"/>
                <a:chOff x="1226880" y="3014640"/>
                <a:chExt cx="4502520" cy="639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39560" y="301464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ner London - Ea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6880" y="301464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729760" y="3014640"/>
                <a:ext cx="1347840" cy="639720"/>
                <a:chOff x="5729760" y="3014640"/>
                <a:chExt cx="1347840" cy="639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842440" y="301464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.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729760" y="301464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6880" y="3654360"/>
                <a:ext cx="4502520" cy="639720"/>
                <a:chOff x="1226880" y="3654360"/>
                <a:chExt cx="450252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39560" y="365436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6880" y="365436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729760" y="3654360"/>
                <a:ext cx="1347840" cy="639720"/>
                <a:chOff x="5729760" y="3654360"/>
                <a:chExt cx="1347840" cy="639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842440" y="365436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.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29760" y="365436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226880" y="4294080"/>
                <a:ext cx="4502520" cy="639720"/>
                <a:chOff x="1226880" y="4294080"/>
                <a:chExt cx="450252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339560" y="429408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er London – East &amp; N. Ea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226880" y="429408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729760" y="4294080"/>
                <a:ext cx="1347840" cy="639720"/>
                <a:chOff x="5729760" y="4294080"/>
                <a:chExt cx="1347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842440" y="429408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7.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729760" y="429408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226880" y="4933800"/>
                <a:ext cx="4502520" cy="639720"/>
                <a:chOff x="1226880" y="4933800"/>
                <a:chExt cx="450252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339560" y="493380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er London – Sou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26880" y="493380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729760" y="4933800"/>
                <a:ext cx="1347840" cy="639720"/>
                <a:chOff x="5729760" y="4933800"/>
                <a:chExt cx="1347840" cy="6397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842440" y="493380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5.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729760" y="493380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226880" y="5573520"/>
                <a:ext cx="4502520" cy="639720"/>
                <a:chOff x="1226880" y="5573520"/>
                <a:chExt cx="4502520" cy="639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339560" y="557352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er London – W. &amp; N. We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226880" y="557352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729760" y="5573520"/>
                <a:ext cx="1347840" cy="639720"/>
                <a:chOff x="5729760" y="5573520"/>
                <a:chExt cx="1347840" cy="6397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842440" y="557352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.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29760" y="557352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226880" y="6213240"/>
                <a:ext cx="4502520" cy="639720"/>
                <a:chOff x="1226880" y="6213240"/>
                <a:chExt cx="4502520" cy="639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339560" y="621324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uth Ea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26880" y="621324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729760" y="6213240"/>
                <a:ext cx="1347840" cy="639720"/>
                <a:chOff x="5729760" y="6213240"/>
                <a:chExt cx="1347840" cy="639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42440" y="621324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29760" y="621324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>
              <a:off x="1219320" y="1090440"/>
              <a:ext cx="5866920" cy="576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240" y="6402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RE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NUTS are Cities…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TS are an uneasy amalgam of national traditions: so are our national traditions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TS 1 = 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nder, ZEAT, Groups of Comunidades Autónomas, Standard Region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have national conceptions of ‘City’: Stadt, Municipality, Aggl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ration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ppl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aggl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ration’ to Belgium &amp; jus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sistency: no compar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USA (Standard) Metropolitan Statistical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ince 19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 what are Functional Urban Reg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ntrations of employment + spheres of economic influence defined by comm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niquely right ‘rules’: GEMACA tried several: looked for consistency &amp; compa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s of contiguous units with 7+ jobs per  ha  &amp;    20 000+ jobs =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s of units with 10% commuting to core = hinter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laves’ &amp; ‘Bridging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 population 1 million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centric &amp; Polycentric F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 Narrow"/>
              </a:rPr>
              <a:t>The Functional Urban Regions in N-W Europ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44760" y="1600200"/>
          <a:ext cx="6379920" cy="48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4760" y="1600200"/>
                    <a:ext cx="637992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London FUR &amp; N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furs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9609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Paris FUR &amp; N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FUR2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8:29:31Z</dcterms:created>
  <dc:creator>CHESHIRE</dc:creator>
  <dc:description/>
  <dc:language>en-US</dc:language>
  <cp:lastModifiedBy>CHESHIRE</cp:lastModifiedBy>
  <dcterms:modified xsi:type="dcterms:W3CDTF">2001-11-07T15:59:41Z</dcterms:modified>
  <cp:revision>27</cp:revision>
  <dc:subject/>
  <dc:title>PowerPoint Presentation</dc:title>
</cp:coreProperties>
</file>