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14C-0542-4104-A5D6-787A0BFB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6BE-4E35-47D0-B14E-BC88EB15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C5A-B96E-4BAF-A729-5347331B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314-7DA6-4604-AE4F-100D556F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E2A-E16A-4F2A-9808-40CEDFB1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254-E73B-454D-97F6-E893E756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E79-CA64-41A7-8500-68222FC4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8F2-13F2-47E9-8ADA-9432B1E5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7E8-10F3-45C4-8102-50907CDC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FD9-D596-4161-B142-B4DF1F64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5E9-F0AB-4906-9A4A-A8BC6974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6F9-C23F-4653-831D-E4A455A3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4543-04CD-4F18-B28B-E2540267D7DB}" type="datetime">
              <a:rPr b="0" lang="pt-PT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7209-F3CD-4415-B01E-02B3CA200C97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http://www.tenlaw.uni-bremen.de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Iberian Rental Housing Systems – Legal changes in Portugal and Spain after the crisis</a:t>
            </a:r>
            <a:br>
              <a:rPr sz="2500"/>
            </a:br>
            <a:br>
              <a:rPr sz="2500"/>
            </a:b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 Maria-Olinda Garcia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aculty of Law – Coimbra University, Portugal</a:t>
            </a:r>
            <a:br>
              <a:rPr sz="22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ogarcia@fd.uc.pt</a:t>
            </a:r>
            <a:br>
              <a:rPr sz="2200"/>
            </a:b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5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m 3" descr="http://www.uc.pt/identidadevisual/jpg/FDUC.jpg?hires"/>
          <p:cNvPicPr/>
          <p:nvPr/>
        </p:nvPicPr>
        <p:blipFill>
          <a:blip r:embed="rId1"/>
          <a:stretch/>
        </p:blipFill>
        <p:spPr>
          <a:xfrm>
            <a:off x="1619280" y="4508640"/>
            <a:ext cx="5400720" cy="877680"/>
          </a:xfrm>
          <a:prstGeom prst="rect">
            <a:avLst/>
          </a:prstGeom>
          <a:ln w="0">
            <a:noFill/>
          </a:ln>
        </p:spPr>
      </p:pic>
      <p:sp>
        <p:nvSpPr>
          <p:cNvPr id="44" name="Marcador de Posição do Número do Diapositivo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036B-BE7D-4A1E-9BA3-D2F0F804D3A5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Unilogo"/>
          <p:cNvPicPr/>
          <p:nvPr/>
        </p:nvPicPr>
        <p:blipFill>
          <a:blip r:embed="rId1"/>
          <a:stretch/>
        </p:blipFill>
        <p:spPr>
          <a:xfrm>
            <a:off x="826920" y="4724280"/>
            <a:ext cx="2467080" cy="428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ZERP"/>
          <p:cNvPicPr/>
          <p:nvPr/>
        </p:nvPicPr>
        <p:blipFill>
          <a:blip r:embed="rId2"/>
          <a:stretch/>
        </p:blipFill>
        <p:spPr>
          <a:xfrm>
            <a:off x="3708360" y="4724280"/>
            <a:ext cx="1908360" cy="190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euflag"/>
          <p:cNvPicPr/>
          <p:nvPr/>
        </p:nvPicPr>
        <p:blipFill>
          <a:blip r:embed="rId3"/>
          <a:stretch/>
        </p:blipFill>
        <p:spPr>
          <a:xfrm>
            <a:off x="6084720" y="4653000"/>
            <a:ext cx="1764000" cy="1228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-46440"/>
            <a:ext cx="8001000" cy="38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ENLAW: Tenancy Law and Housing Policy in Multi-level Europe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012-2015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project has received funding from the European Union's Seventh Framework Programm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research, technological development and demonstration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 grant agreement no 290694</a:t>
            </a:r>
            <a:br>
              <a:rPr sz="1600"/>
            </a:br>
            <a:br>
              <a:rPr sz="1400"/>
            </a:b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http://www.tenlaw.uni-bremen.de/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Marcador de Posição do Número do Diapositivo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6B74-5DC2-4BB6-A240-C5B1551BBFE6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uguese and Spanish private rental housing Law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using is not under the EU Tre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ce of national la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or foreign inves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or foreign wor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F0C0-ADDE-4074-9549-DBE0249BED55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15796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ortugal and Spa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using characteristics in common:</a:t>
            </a:r>
            <a:br>
              <a:rPr sz="2400"/>
            </a:b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Censos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2011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93AC-024A-4E51-8079-17141731B43E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2205000"/>
          <a:ext cx="8218440" cy="3103560"/>
        </p:xfrm>
        <a:graphic>
          <a:graphicData uri="http://schemas.openxmlformats.org/drawingml/2006/table">
            <a:tbl>
              <a:tblPr/>
              <a:tblGrid>
                <a:gridCol w="273204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-occupi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ell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c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rief Historical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Background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3C0B-6B0E-4E26-AA4B-6E66487E097B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936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ants very protect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ts fro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lords did not have the right to terminate the contr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til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til 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-term rental agreements allo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1990, minimal duration  5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ween 1985 and 1994, minimal duration: 3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After 1994, minimal duration: 5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d and new legal frameworks co-ex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rban Lease Acts after the crisi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943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 n.3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 n.4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ration of the 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 is no minimal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 duration : 3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lord’s rights to terminate the 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he tenant does not pay the rent for 2 month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o need to go to court to terminate the 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1 month dela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ourt order (but not a judicial deci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iction process fa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 judicial proc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ter judicial d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tion of the 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--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he contract is not registered, when the dwelling is sold the rental agreement en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ant pays a penalty to terminate the contract before the agre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. cannot terminate the contract before 1/3 of the agreed time has elaps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cannot terminate the contract before 6 months have elap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61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2B26-99C8-4367-819D-09286A60417B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equences of the new legis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ising supply of dwellings for 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Uncertainty about current and future effects of the new rule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lack of offici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 inconsistent inform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increasing number of people interested in buying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a dwe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value of rents not going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50DC-E1AD-4696-B547-2472F181CCCC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(Eurostat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cincodias.com/cincodias/imagenes/2014/12/15/economia/1418667062_528161_1418678419_noticia_grande.jpg"/>
          <p:cNvPicPr/>
          <p:nvPr/>
        </p:nvPicPr>
        <p:blipFill>
          <a:blip r:embed="rId1"/>
          <a:stretch/>
        </p:blipFill>
        <p:spPr>
          <a:xfrm>
            <a:off x="1258920" y="1557360"/>
            <a:ext cx="7021440" cy="5010120"/>
          </a:xfrm>
          <a:prstGeom prst="rect">
            <a:avLst/>
          </a:prstGeom>
          <a:ln w="0">
            <a:noFill/>
          </a:ln>
        </p:spPr>
      </p:pic>
      <p:sp>
        <p:nvSpPr>
          <p:cNvPr id="67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3984-1AD4-452D-88D0-F3F50E930640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the new legislations be decisive in increasing the percentage of rented dwelling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a tenant’s perspec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both systems do not combine correctly stability and flex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4E0F-5BAC-48D5-A307-352D4FBA9717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3:13:26Z</dcterms:created>
  <dc:creator>Maria Garcia</dc:creator>
  <dc:description/>
  <dc:language>en-US</dc:language>
  <cp:lastModifiedBy>Maria Garcia</cp:lastModifiedBy>
  <dcterms:modified xsi:type="dcterms:W3CDTF">2015-03-17T22:59:56Z</dcterms:modified>
  <cp:revision>44</cp:revision>
  <dc:subject/>
  <dc:title>Iberian rental Housing systems – Legal changes in Portugal and Spain after the crisis   Maria-Olinda Garcia Faculty of Law – Coimbra University, Portugal  ogarcia@fd.uc.pt    </dc:title>
</cp:coreProperties>
</file>