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6C6-692B-4731-BBE0-90B55E98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067-B9B0-45CC-B7DD-ED8ACD08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E4E-331E-45C7-AC3B-48D16E83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955-799E-459D-93BC-93AF5DFF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D96-522E-47B5-ADE0-908F0B16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0B6-4778-4120-880B-D299B5E4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5D4-317F-4C0A-A0B2-D6D36BFA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2E1-535B-4BCF-BF3A-CFA5E88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3D4-D4D9-41A2-BD85-4F58BBE5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079-C9D7-4BAD-9D70-C69789C6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355-F692-4B9F-8634-56222D4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F55-7C61-47D9-AC00-00BC9AC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DEE9-33E1-47F5-B772-5EAA58D46E3E}" type="datetime">
              <a:rPr b="0" lang="pt-PT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79A-CFAB-45A9-8673-7A9F3CD41027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tenlaw.uni-bremen.de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Iberian Rental Housing Systems – Legal changes in Portugal and Spain after the crisis</a:t>
            </a:r>
            <a:br>
              <a:rPr sz="2500"/>
            </a:br>
            <a:br>
              <a:rPr sz="2500"/>
            </a:b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Maria-Olinda Garcia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aculty of Law – Coimbra University, Portugal</a:t>
            </a:r>
            <a:br>
              <a:rPr sz="22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ogarcia@fd.uc.pt</a:t>
            </a:r>
            <a:br>
              <a:rPr sz="2200"/>
            </a:b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5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m 3" descr="http://www.uc.pt/identidadevisual/jpg/FDUC.jpg?hires"/>
          <p:cNvPicPr/>
          <p:nvPr/>
        </p:nvPicPr>
        <p:blipFill>
          <a:blip r:embed="rId1"/>
          <a:stretch/>
        </p:blipFill>
        <p:spPr>
          <a:xfrm>
            <a:off x="1619280" y="4508640"/>
            <a:ext cx="5400720" cy="877680"/>
          </a:xfrm>
          <a:prstGeom prst="rect">
            <a:avLst/>
          </a:prstGeom>
          <a:ln w="0">
            <a:noFill/>
          </a:ln>
        </p:spPr>
      </p:pic>
      <p:sp>
        <p:nvSpPr>
          <p:cNvPr id="44" name="Marcador de Posição do Número do Diapositivo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C50D-7FA2-4A07-8AB9-8AA13C626D93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Unilogo"/>
          <p:cNvPicPr/>
          <p:nvPr/>
        </p:nvPicPr>
        <p:blipFill>
          <a:blip r:embed="rId1"/>
          <a:stretch/>
        </p:blipFill>
        <p:spPr>
          <a:xfrm>
            <a:off x="826920" y="4724280"/>
            <a:ext cx="2467080" cy="42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ZERP"/>
          <p:cNvPicPr/>
          <p:nvPr/>
        </p:nvPicPr>
        <p:blipFill>
          <a:blip r:embed="rId2"/>
          <a:stretch/>
        </p:blipFill>
        <p:spPr>
          <a:xfrm>
            <a:off x="3708360" y="472428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euflag"/>
          <p:cNvPicPr/>
          <p:nvPr/>
        </p:nvPicPr>
        <p:blipFill>
          <a:blip r:embed="rId3"/>
          <a:stretch/>
        </p:blipFill>
        <p:spPr>
          <a:xfrm>
            <a:off x="6084720" y="4653000"/>
            <a:ext cx="1764000" cy="1228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-46440"/>
            <a:ext cx="8001000" cy="38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ENLAW: Tenancy Law and Housing Policy in Multi-level Europe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012-2015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project has received funding from the European Union's Seventh Framework Programm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research, technological development and demonstration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 grant agreement no 290694</a:t>
            </a:r>
            <a:br>
              <a:rPr sz="1600"/>
            </a:br>
            <a:br>
              <a:rPr sz="1400"/>
            </a:b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http://www.tenlaw.uni-bremen.de/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Marcador de Posição do Número do Diapositivo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6158-87DC-4154-AD4F-0FF88E43520F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uguese and Spanish private rental housing Law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using is not under the EU Tre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ce of national la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or foreign inves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or foreign wor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824A-E16C-4EA6-A620-EFDB5CE6ACEA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5796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ortugal and Spa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using characteristics in common:</a:t>
            </a:r>
            <a:br>
              <a:rPr sz="2400"/>
            </a:b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Censos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2011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AF30-992F-42E3-98E3-D8D3BC01247E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2205000"/>
          <a:ext cx="8218440" cy="3103560"/>
        </p:xfrm>
        <a:graphic>
          <a:graphicData uri="http://schemas.openxmlformats.org/drawingml/2006/table">
            <a:tbl>
              <a:tblPr/>
              <a:tblGrid>
                <a:gridCol w="273204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-occup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ell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ief Historical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Background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A2D8-85D7-4C34-880C-0C531BDDF597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936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ants very protect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s fro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lords did not have the right to terminate the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til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til 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-term rental agreements 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990, minimal duration  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ween 1985 and 1994, minimal duration: 3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After 1994, minimal duration: 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 and new legal frameworks co-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rban Lease Acts after the crisi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943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 n.3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 n.4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ration of the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 is no minimal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 duration : 3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lord’s rights to terminate the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 tenant does not pay the rent for 2 month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o need to go to court to terminate the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 month dela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ourt order (but not a judicial deci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iction process fa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 judicial proc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ter judicial d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of the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-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 contract is not registered, when the dwelling is sold the rental agreement en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ant pays a penalty to terminate the contract before the agre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. cannot terminate the contract before 1/3 of the agreed time has elaps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cannot terminate the contract before 6 months have elap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61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F43E-2D8F-4152-B256-A8568A9DF6AD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equences of the new legis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ising supply of dwellings for 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Uncertainty about current and future effects of the new rul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lack of offici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 inconsistent inform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increasing number of people interested in buying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a dw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value of rents not going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7822-749D-4B65-8957-DBAC0DB0D60D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(Eurostat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cincodias.com/cincodias/imagenes/2014/12/15/economia/1418667062_528161_1418678419_noticia_grande.jpg"/>
          <p:cNvPicPr/>
          <p:nvPr/>
        </p:nvPicPr>
        <p:blipFill>
          <a:blip r:embed="rId1"/>
          <a:stretch/>
        </p:blipFill>
        <p:spPr>
          <a:xfrm>
            <a:off x="1258920" y="1557360"/>
            <a:ext cx="7021440" cy="5010120"/>
          </a:xfrm>
          <a:prstGeom prst="rect">
            <a:avLst/>
          </a:prstGeom>
          <a:ln w="0">
            <a:noFill/>
          </a:ln>
        </p:spPr>
      </p:pic>
      <p:sp>
        <p:nvSpPr>
          <p:cNvPr id="67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EBA0-23BB-49E6-AE72-9A4821160EDA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the new legislations be decisive in increasing the percentage of rented dwelling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a tenant’s persp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both systems do not combine correctly stability and flex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2308-5FD3-4008-A882-E6A50CE36A51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13:26Z</dcterms:created>
  <dc:creator>Maria Garcia</dc:creator>
  <dc:description/>
  <dc:language>en-US</dc:language>
  <cp:lastModifiedBy>Maria Garcia</cp:lastModifiedBy>
  <dcterms:modified xsi:type="dcterms:W3CDTF">2015-03-17T22:59:56Z</dcterms:modified>
  <cp:revision>44</cp:revision>
  <dc:subject/>
  <dc:title>Iberian rental Housing systems – Legal changes in Portugal and Spain after the crisis   Maria-Olinda Garcia Faculty of Law – Coimbra University, Portugal  ogarcia@fd.uc.pt    </dc:title>
</cp:coreProperties>
</file>