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Line 7"/>
          <p:cNvSpPr/>
          <p:nvPr/>
        </p:nvSpPr>
        <p:spPr>
          <a:xfrm>
            <a:off x="304920" y="3808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Line 8"/>
          <p:cNvSpPr/>
          <p:nvPr/>
        </p:nvSpPr>
        <p:spPr>
          <a:xfrm>
            <a:off x="1371600" y="66294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676520" y="6477120"/>
            <a:ext cx="72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Line 14"/>
          <p:cNvSpPr/>
          <p:nvPr/>
        </p:nvSpPr>
        <p:spPr>
          <a:xfrm>
            <a:off x="457200" y="304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" name="Picture 15" descr="lselogosm"/>
          <p:cNvPicPr/>
          <p:nvPr/>
        </p:nvPicPr>
        <p:blipFill>
          <a:blip r:embed="rId2"/>
          <a:stretch/>
        </p:blipFill>
        <p:spPr>
          <a:xfrm>
            <a:off x="30492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59920"/>
            <a:ext cx="841032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Lucida Sans"/>
              </a:rPr>
              <a:t>Emerging themes: </a:t>
            </a:r>
            <a:br>
              <a:rPr sz="4000"/>
            </a:br>
            <a:r>
              <a:rPr b="0" lang="en-GB" sz="4000" spc="-1" strike="noStrike">
                <a:solidFill>
                  <a:srgbClr val="000066"/>
                </a:solidFill>
                <a:latin typeface="Lucida Sans"/>
              </a:rPr>
              <a:t>Learning from international experience</a:t>
            </a:r>
            <a:br>
              <a:rPr sz="4000"/>
            </a:b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57160" y="2349000"/>
            <a:ext cx="80359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11 July 2011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Lucida Sans"/>
              </a:rPr>
              <a:t>The Private Rented Sector in the U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Kathleen Scanlon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Lucida Sans"/>
              </a:rPr>
              <a:t>LSE Lond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68360" y="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Lucida Sans"/>
              </a:rPr>
              <a:t>Tax treat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Object 5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701532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Lucida Sans"/>
              </a:rPr>
              <a:t>Financing for landlord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6000" y="19810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% of UK mortgages in 1Q11 were buy-to let (12% in 2008)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 current gov’t programmes to encourage investment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76720" y="19810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Elsewhe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pecial mortgages for residential landlords not common.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ny countries offer grants or tax incentives, almost always linked to affordable rents or energy saving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Lucida Sans"/>
              </a:rPr>
              <a:t>Physical/legal form </a:t>
            </a:r>
            <a:br>
              <a:rPr sz="3600"/>
            </a:br>
            <a:r>
              <a:rPr b="0" lang="en-GB" sz="3600" spc="-1" strike="noStrike">
                <a:solidFill>
                  <a:srgbClr val="000066"/>
                </a:solidFill>
                <a:latin typeface="Lucida Sans"/>
              </a:rPr>
              <a:t>of rented stock</a:t>
            </a:r>
            <a:r>
              <a:rPr b="0" lang="en-US" sz="3600" spc="-1" strike="noStrike">
                <a:solidFill>
                  <a:srgbClr val="000066"/>
                </a:solidFill>
                <a:latin typeface="Lucida Sans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38102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"/>
              </a:rPr>
              <a:t>U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dlords own individual units which are not tenure-specific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8920" y="1557360"/>
            <a:ext cx="385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"/>
              </a:rPr>
              <a:t>Elsewher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enmark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dlords own entire blocks which can only be sold as a whole to co-operativ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USA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strictions on change of tenure (‘condo conversions’) in some urban market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68580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Lucida Sans"/>
              </a:rPr>
              <a:t>Rent regul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Object 6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726156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685800" y="11592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Lucida Sans"/>
              </a:rPr>
              <a:t>Le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Object 5" descr=""/>
          <p:cNvPicPr/>
          <p:nvPr/>
        </p:nvPicPr>
        <p:blipFill>
          <a:blip r:embed="rId1"/>
          <a:stretch/>
        </p:blipFill>
        <p:spPr>
          <a:xfrm>
            <a:off x="1387440" y="1055520"/>
            <a:ext cx="7756560" cy="756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Lucida Sans"/>
              </a:rPr>
              <a:t>What is a ‘sustainable’ PRS?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214280"/>
            <a:ext cx="7448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large sector? 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growing sector?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profitable sector?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ne that accommodates a broad range of households?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ne that mainly houses those who benefit from the characteristics of private renting?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Lucida Sans"/>
              </a:rPr>
              <a:t>The English PRS in brief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16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7.4% of dwellings in 2010, up from under 10% in 2000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bout 75% of landlords are private individuals and couples, mostly owning 1-4 units, often funded by buy-to-let mortgag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PRS more common in urban areas than elsewhere, and flats more likely to be in private rental than hous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Lucida Sans"/>
              </a:rPr>
              <a:t>Who lives in the PRS?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1214280"/>
            <a:ext cx="7448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e mobil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Young professional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igh-income corporate transfe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ose who can’t afford owner-occupat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ousing benefit recipien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igran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ose who can’t afford mortgage deposi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Lucida Sans"/>
              </a:rPr>
              <a:t>Who doesn’t live in the PRS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16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iddle- and upper-income families almost always own their hom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ery few of the elderly rent privately in the UK (not the case in some other countries)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Lucida Sans"/>
              </a:rPr>
              <a:t>Some similarities: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Lucida Sans"/>
              </a:rPr>
              <a:t>Size of P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Object 6" descr=""/>
          <p:cNvPicPr/>
          <p:nvPr/>
        </p:nvPicPr>
        <p:blipFill>
          <a:blip r:embed="rId1"/>
          <a:stretch/>
        </p:blipFill>
        <p:spPr>
          <a:xfrm>
            <a:off x="2435400" y="1770120"/>
            <a:ext cx="608472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Lucida Sans"/>
              </a:rPr>
              <a:t>Landlords</a:t>
            </a:r>
            <a:br>
              <a:rPr sz="4400"/>
            </a:br>
            <a:r>
              <a:rPr b="0" lang="en-US" sz="2000" spc="-1" strike="noStrike">
                <a:solidFill>
                  <a:srgbClr val="000066"/>
                </a:solidFill>
                <a:latin typeface="Arial Unicode MS"/>
              </a:rPr>
              <a:t>(for-profit and non-profit, including pension fund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Object 6" descr=""/>
          <p:cNvPicPr/>
          <p:nvPr/>
        </p:nvPicPr>
        <p:blipFill>
          <a:blip r:embed="rId1"/>
          <a:stretch/>
        </p:blipFill>
        <p:spPr>
          <a:xfrm>
            <a:off x="1978200" y="1197000"/>
            <a:ext cx="55116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Lucida Sans"/>
              </a:rPr>
              <a:t>Tenant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In most countries they ar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Young or ol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ow-incom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ngles or single paren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ain exception: Switzerland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Lucida Sans"/>
              </a:rPr>
              <a:t>Managemen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 the UK as abroad, most small landlords manage their properties themselves. 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Exception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Hong Kong, where landlords collectively hire property management companies to maintain high-rise fla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intenance seen as problematic at lower end of UK market.  In other countries little relationship between quality of maintenance and use of professionals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7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Lucida Sans"/>
              </a:rPr>
              <a:t>Some difference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71600" y="157140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"/>
              </a:rPr>
              <a:t>Tax treatmen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"/>
              </a:rPr>
              <a:t>Financing for landlord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"/>
              </a:rPr>
              <a:t>Physical form of rented stock—and whether blocks can be broken up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"/>
              </a:rPr>
              <a:t>Security of tenure/rent regulat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9:16:29Z</dcterms:created>
  <dc:creator>LSE User</dc:creator>
  <dc:description/>
  <dc:language>en-US</dc:language>
  <cp:lastModifiedBy>Suntory</cp:lastModifiedBy>
  <dcterms:modified xsi:type="dcterms:W3CDTF">2011-07-11T14:03:09Z</dcterms:modified>
  <cp:revision>154</cp:revision>
  <dc:subject/>
  <dc:title>Impacts of Recent International Migration on a Destination City  some observations from London</dc:title>
</cp:coreProperties>
</file>