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99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27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99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27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Line 7"/>
          <p:cNvSpPr/>
          <p:nvPr/>
        </p:nvSpPr>
        <p:spPr>
          <a:xfrm>
            <a:off x="304920" y="380880"/>
            <a:ext cx="0" cy="601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Line 8"/>
          <p:cNvSpPr/>
          <p:nvPr/>
        </p:nvSpPr>
        <p:spPr>
          <a:xfrm>
            <a:off x="1371600" y="6629400"/>
            <a:ext cx="7391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Line 11"/>
          <p:cNvSpPr/>
          <p:nvPr/>
        </p:nvSpPr>
        <p:spPr>
          <a:xfrm>
            <a:off x="1676520" y="6477120"/>
            <a:ext cx="7238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Line 14"/>
          <p:cNvSpPr/>
          <p:nvPr/>
        </p:nvSpPr>
        <p:spPr>
          <a:xfrm>
            <a:off x="457200" y="30492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" name="Picture 15" descr="lselogosm"/>
          <p:cNvPicPr/>
          <p:nvPr/>
        </p:nvPicPr>
        <p:blipFill>
          <a:blip r:embed="rId2"/>
          <a:stretch/>
        </p:blipFill>
        <p:spPr>
          <a:xfrm>
            <a:off x="304920" y="55627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28760" y="259920"/>
            <a:ext cx="8410320" cy="25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Lucida Sans"/>
              </a:rPr>
              <a:t>The revival of the </a:t>
            </a: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Lucida Sans"/>
              </a:rPr>
              <a:t>private rented sector: </a:t>
            </a: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Lucida Sans"/>
              </a:rPr>
              <a:t>Experience from </a:t>
            </a: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Lucida Sans"/>
              </a:rPr>
              <a:t>developed countries</a:t>
            </a:r>
            <a:endParaRPr b="0" lang="en-US" sz="40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57160" y="2349000"/>
            <a:ext cx="803592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IF workshop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2 June 2011</a:t>
            </a: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ath Scanlon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Tahoma"/>
              </a:rPr>
              <a:t>LSE Londo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-675000"/>
            <a:ext cx="777240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Lucida Sans"/>
              </a:rPr>
              <a:t>Subsidies</a:t>
            </a:r>
            <a:endParaRPr b="0" lang="en-US" sz="4000" spc="-1" strike="noStrike">
              <a:solidFill>
                <a:srgbClr val="000066"/>
              </a:solidFill>
              <a:latin typeface="Arial Unicode MS"/>
            </a:endParaRPr>
          </a:p>
        </p:txBody>
      </p:sp>
      <p:graphicFrame>
        <p:nvGraphicFramePr>
          <p:cNvPr id="67" name="Rectangle 3"/>
          <p:cNvGraphicFramePr/>
          <p:nvPr/>
        </p:nvGraphicFramePr>
        <p:xfrm>
          <a:off x="1692360" y="620640"/>
          <a:ext cx="7157880" cy="598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620640"/>
                    <a:ext cx="7157880" cy="598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Lucida Sans"/>
              </a:rPr>
              <a:t>Rent regulation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graphicFrame>
        <p:nvGraphicFramePr>
          <p:cNvPr id="70" name="Rectangle 3"/>
          <p:cNvGraphicFramePr/>
          <p:nvPr/>
        </p:nvGraphicFramePr>
        <p:xfrm>
          <a:off x="1908000" y="1413000"/>
          <a:ext cx="6901200" cy="5697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413000"/>
                    <a:ext cx="6901200" cy="56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Lucida Sans"/>
              </a:rPr>
              <a:t>Leases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graphicFrame>
        <p:nvGraphicFramePr>
          <p:cNvPr id="73" name="Rectangle 3"/>
          <p:cNvGraphicFramePr/>
          <p:nvPr/>
        </p:nvGraphicFramePr>
        <p:xfrm>
          <a:off x="1387440" y="1055520"/>
          <a:ext cx="7756560" cy="756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7440" y="1055520"/>
                    <a:ext cx="7756560" cy="756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Lucida Sans"/>
              </a:rPr>
              <a:t>Issues in other countries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graphicFrame>
        <p:nvGraphicFramePr>
          <p:cNvPr id="76" name="Rectangle 3"/>
          <p:cNvGraphicFramePr/>
          <p:nvPr/>
        </p:nvGraphicFramePr>
        <p:xfrm>
          <a:off x="1379520" y="549360"/>
          <a:ext cx="7764480" cy="671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9520" y="549360"/>
                    <a:ext cx="7764480" cy="67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Lucida Sans"/>
              </a:rPr>
              <a:t>Size of PRS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graphicFrame>
        <p:nvGraphicFramePr>
          <p:cNvPr id="46" name="Object 6"/>
          <p:cNvGraphicFramePr/>
          <p:nvPr/>
        </p:nvGraphicFramePr>
        <p:xfrm>
          <a:off x="2435400" y="1770120"/>
          <a:ext cx="6084720" cy="414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5400" y="1770120"/>
                    <a:ext cx="6084720" cy="41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Lucida Sans"/>
              </a:rPr>
              <a:t>Change since early 80s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graphicFrame>
        <p:nvGraphicFramePr>
          <p:cNvPr id="49" name="Object 6"/>
          <p:cNvGraphicFramePr/>
          <p:nvPr/>
        </p:nvGraphicFramePr>
        <p:xfrm>
          <a:off x="2486160" y="1770120"/>
          <a:ext cx="5868720" cy="468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6160" y="1770120"/>
                    <a:ext cx="5868720" cy="46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Lucida Sans"/>
              </a:rPr>
              <a:t>Who are the landlords?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graphicFrame>
        <p:nvGraphicFramePr>
          <p:cNvPr id="52" name="Object 6"/>
          <p:cNvGraphicFramePr/>
          <p:nvPr/>
        </p:nvGraphicFramePr>
        <p:xfrm>
          <a:off x="2193840" y="1708200"/>
          <a:ext cx="5719680" cy="426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3840" y="1708200"/>
                    <a:ext cx="5719680" cy="42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Lucida Sans"/>
              </a:rPr>
              <a:t>Who are the tenants?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In most countries they are more likely to be: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Young or old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Low-income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ingles or single parent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Main exception: Switzerland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Lucida Sans"/>
              </a:rPr>
              <a:t>Management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A mix of landlord self-management and professional management in all countrie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In some countries (Belgium, Spain) PRS properties in poor repair partly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</a:rPr>
              <a:t>because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landlords manage them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In other countries (USA, Switzerland) state of repair is generally good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Lucida Sans"/>
              </a:rPr>
              <a:t>Programmes to encourage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Lucida Sans"/>
              </a:rPr>
              <a:t>investment in PRS</a:t>
            </a: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graphicFrame>
        <p:nvGraphicFramePr>
          <p:cNvPr id="59" name="Object 6"/>
          <p:cNvGraphicFramePr/>
          <p:nvPr/>
        </p:nvGraphicFramePr>
        <p:xfrm>
          <a:off x="1619280" y="1628640"/>
          <a:ext cx="5715000" cy="418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628640"/>
                    <a:ext cx="5715000" cy="418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Lucida Sans"/>
              </a:rPr>
              <a:t>Tax treatment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graphicFrame>
        <p:nvGraphicFramePr>
          <p:cNvPr id="62" name="Rectangle 3"/>
          <p:cNvGraphicFramePr/>
          <p:nvPr/>
        </p:nvGraphicFramePr>
        <p:xfrm>
          <a:off x="1619280" y="549360"/>
          <a:ext cx="7014960" cy="605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549360"/>
                    <a:ext cx="7014960" cy="605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Lucida Sans"/>
              </a:rPr>
              <a:t>Financing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e UK is unusual in having special loans for landlords—in most countries acquisitions are funded with normal mortgages or (for companies) commercial loan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9:16:29Z</dcterms:created>
  <dc:creator>LSE User</dc:creator>
  <dc:description/>
  <dc:language>en-US</dc:language>
  <cp:lastModifiedBy>LSE</cp:lastModifiedBy>
  <dcterms:modified xsi:type="dcterms:W3CDTF">2011-06-02T12:38:41Z</dcterms:modified>
  <cp:revision>139</cp:revision>
  <dc:subject/>
  <dc:title>Impacts of Recent International Migration on a Destination City  some observations from London</dc:title>
</cp:coreProperties>
</file>