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6FCBEF-1FE2-4010-8E00-E738028217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2D9F71-D285-49CA-9977-D0894886D7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32D657-4626-45BE-8DCE-8AEAD7F2B1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3F841B-4ABA-48E1-A1BC-F753661A80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918F12-6EE4-41C3-AFD0-C481727F49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86718F-D763-43A3-B763-1109105A7C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C24B1E-A067-4551-95B5-4C820E9439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E78EB3-2A6F-4F3A-87B0-056D798B10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D23D4B-C3C0-49DE-A819-0541FB9315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2D0770-C976-4C2A-B1DD-6D023B3EEF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9DDEB7-2B00-4561-BF21-11A4E625AC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C5B6A3-3C38-4299-B5E6-1549E58476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23783B-F81D-4E44-A979-0961E98B42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D81-B4E7-40B6-8275-5F888CF9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993-9E90-4067-9545-DE328EF0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405-32E3-4EFF-8353-9107FDF2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A50-CB34-482C-8DF4-BC084834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635-4FC0-44AF-85FD-3FFBE74A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450-E150-4B87-98A6-0F8A6DBC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4BF-5B4A-49DE-AB14-455E2A9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B49-B27F-47C9-8AEC-783448A5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05A-0000-4537-8207-5C267D56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555-92B4-4D84-A197-F39BF56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CAD-7ECF-43F9-9BD4-ED858877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7ED-4602-4E52-8FDC-B917E36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4020-3869-4EF0-A7AB-F1B271F7C0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olienkopf okt07 dt"/>
          <p:cNvPicPr/>
          <p:nvPr/>
        </p:nvPicPr>
        <p:blipFill>
          <a:blip r:embed="rId2"/>
          <a:stretch/>
        </p:blipFill>
        <p:spPr>
          <a:xfrm>
            <a:off x="0" y="0"/>
            <a:ext cx="9144000" cy="460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Folienfuss okt07"/>
          <p:cNvPicPr/>
          <p:nvPr/>
        </p:nvPicPr>
        <p:blipFill>
          <a:blip r:embed="rId3"/>
          <a:stretch/>
        </p:blipFill>
        <p:spPr>
          <a:xfrm>
            <a:off x="0" y="6732720"/>
            <a:ext cx="9144000" cy="12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tructure, Funding and Regulation of the Rental Market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olienkopf okt07 dt"/>
          <p:cNvPicPr/>
          <p:nvPr/>
        </p:nvPicPr>
        <p:blipFill>
          <a:blip r:embed="rId1"/>
          <a:stretch/>
        </p:blipFill>
        <p:spPr>
          <a:xfrm>
            <a:off x="0" y="0"/>
            <a:ext cx="9144000" cy="460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olienfuss okt07"/>
          <p:cNvPicPr/>
          <p:nvPr/>
        </p:nvPicPr>
        <p:blipFill>
          <a:blip r:embed="rId2"/>
          <a:stretch/>
        </p:blipFill>
        <p:spPr>
          <a:xfrm>
            <a:off x="0" y="6732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87280" y="4221000"/>
            <a:ext cx="85694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2073600" y="3860640"/>
            <a:ext cx="544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ter Wes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une 2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ndon School of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afik 3" descr=""/>
          <p:cNvPicPr/>
          <p:nvPr/>
        </p:nvPicPr>
        <p:blipFill>
          <a:blip r:embed="rId3"/>
          <a:stretch/>
        </p:blipFill>
        <p:spPr>
          <a:xfrm>
            <a:off x="4156200" y="2924280"/>
            <a:ext cx="12762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64FC-E3A1-464A-BF5A-4B8AFBAB71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Regulation: Why does it work there and not 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68360" y="2133720"/>
            <a:ext cx="8139240" cy="89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ntality of te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ulture of renting instead/as an alternative of owning: Hard to understand how this developed, but renting is not stigmati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gacy of subsidised (social) housing after WW2: parents/grandparents living in rented flats is considered as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Germany is not monocentric but has at least 5 big business centres  (Berlin, Frankfurt, Munich, Duesseldorf, Hamburg) and a lot of smaller ones: Young professionals with partners tend to commute weekly from their workplace to their partners’ home (“remote distance partnerships”): supported by excellent infrastructure (in international compar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257C-AAA1-4868-812E-81E34A0A19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Regulation: Why does it work here and not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68360" y="2133720"/>
            <a:ext cx="8139240" cy="37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ntality of landl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ong term investment motives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sidential investment as inflation h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tirement pro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ecurity of tenure matches long term investment motives of landlord: Keep a good tenant as long as you c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05AC-11BC-420A-B4E2-296E3141CF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99036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Probably a relict of good old </a:t>
            </a:r>
            <a:br>
              <a:rPr sz="3600"/>
            </a:b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„social market economy“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68360" y="2133720"/>
            <a:ext cx="813924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288000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9D0-A9C8-4558-BA87-E12E694712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68360" y="2060640"/>
            <a:ext cx="813924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tructure of the Rental S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u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Why does work there and not 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5D32-58A3-403C-B7D0-0A9D503284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4240" y="76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Structure of the Rental Sector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04800" y="1825560"/>
            <a:ext cx="813924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1 per cent of the total rental sector (no. of flats) are owned by small private landl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Diagramm 5" descr=""/>
          <p:cNvPicPr/>
          <p:nvPr/>
        </p:nvPicPr>
        <p:blipFill>
          <a:blip r:embed="rId1"/>
          <a:stretch/>
        </p:blipFill>
        <p:spPr>
          <a:xfrm>
            <a:off x="2144880" y="2781360"/>
            <a:ext cx="5019480" cy="3081240"/>
          </a:xfrm>
          <a:prstGeom prst="rect">
            <a:avLst/>
          </a:prstGeom>
          <a:ln w="0">
            <a:noFill/>
          </a:ln>
        </p:spPr>
      </p:pic>
      <p:sp>
        <p:nvSpPr>
          <p:cNvPr id="63" name="Textfeld 1"/>
          <p:cNvSpPr/>
          <p:nvPr/>
        </p:nvSpPr>
        <p:spPr>
          <a:xfrm>
            <a:off x="971640" y="609300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ce: GdW 2008, University of Mannheim, Data refer to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C2F8-A6DA-41BF-B3F0-907B77AAE7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4240" y="76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Structure of the Rental Sector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04800" y="1825560"/>
            <a:ext cx="81392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cial Structure of Landlords Differs Strongly from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feld 1"/>
          <p:cNvSpPr/>
          <p:nvPr/>
        </p:nvSpPr>
        <p:spPr>
          <a:xfrm>
            <a:off x="1222200" y="588960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ce: GSOEP, Wave 2009, own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m 9" descr=""/>
          <p:cNvPicPr/>
          <p:nvPr/>
        </p:nvPicPr>
        <p:blipFill>
          <a:blip r:embed="rId1"/>
          <a:stretch/>
        </p:blipFill>
        <p:spPr>
          <a:xfrm>
            <a:off x="554040" y="2222640"/>
            <a:ext cx="5357880" cy="34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6012000" y="2292480"/>
          <a:ext cx="2903400" cy="3176280"/>
        </p:xfrm>
        <a:graphic>
          <a:graphicData uri="http://schemas.openxmlformats.org/drawingml/2006/table">
            <a:tbl>
              <a:tblPr/>
              <a:tblGrid>
                <a:gridCol w="1177920"/>
                <a:gridCol w="757080"/>
                <a:gridCol w="968400"/>
              </a:tblGrid>
              <a:tr h="78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ntal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./o. rental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government income HH (Mean, Eur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government income  H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an, Eur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(Median, Yea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EE06-2E3F-4D87-9AA3-838BE7542D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826920" y="2397240"/>
            <a:ext cx="813924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96720" y="476280"/>
            <a:ext cx="856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vestment Motives of Private Landl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26920" y="1341360"/>
            <a:ext cx="820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Diagramm 1" descr=""/>
          <p:cNvPicPr/>
          <p:nvPr/>
        </p:nvPicPr>
        <p:blipFill>
          <a:blip r:embed="rId1"/>
          <a:stretch/>
        </p:blipFill>
        <p:spPr>
          <a:xfrm>
            <a:off x="1473120" y="1290600"/>
            <a:ext cx="6197760" cy="4349880"/>
          </a:xfrm>
          <a:prstGeom prst="rect">
            <a:avLst/>
          </a:prstGeom>
          <a:ln w="0">
            <a:noFill/>
          </a:ln>
        </p:spPr>
      </p:pic>
      <p:sp>
        <p:nvSpPr>
          <p:cNvPr id="75" name="Rechteck 2"/>
          <p:cNvSpPr/>
          <p:nvPr/>
        </p:nvSpPr>
        <p:spPr>
          <a:xfrm>
            <a:off x="793800" y="5589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urce: BBR 2007, Data refer to West German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ale from 5 (very important) to 0 (totally un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342F-070E-417A-8FC7-5DD61F58C6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Funding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79520" y="1773360"/>
            <a:ext cx="8138880" cy="69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detailed figures on funding of purchases/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ylized facts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igh equity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clusion of debt predominantly because interest is tax deductible against other sources of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Use of subsidies for energy saving measures and other subsidized investment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A1A1-FE21-428D-84DD-49BD257FA9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Funding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88880" y="1612800"/>
            <a:ext cx="813924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ncing Structure for Investments in the Building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gramm 1" descr=""/>
          <p:cNvPicPr/>
          <p:nvPr/>
        </p:nvPicPr>
        <p:blipFill>
          <a:blip r:embed="rId1"/>
          <a:stretch/>
        </p:blipFill>
        <p:spPr>
          <a:xfrm>
            <a:off x="438120" y="2082960"/>
            <a:ext cx="8001000" cy="4165560"/>
          </a:xfrm>
          <a:prstGeom prst="rect">
            <a:avLst/>
          </a:prstGeom>
          <a:ln w="0">
            <a:noFill/>
          </a:ln>
        </p:spPr>
      </p:pic>
      <p:sp>
        <p:nvSpPr>
          <p:cNvPr id="83" name="Rechteck 5"/>
          <p:cNvSpPr/>
          <p:nvPr/>
        </p:nvSpPr>
        <p:spPr>
          <a:xfrm>
            <a:off x="419040" y="62802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urce: BBR 2007, Data refer to West Germany (Caution: small sample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A56D-1940-44ED-9448-0AA6B6272E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Regulatio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68360" y="2133720"/>
            <a:ext cx="8139240" cy="71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rong regulation towards high security of ten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tracts are usually un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ndlord must prov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legitimate interes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evict t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reach of contractual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elay of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own use by landlord (particularly hard to prove if landlord is owner occup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B52C-932D-4D40-8256-1D0AAD96DA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Regulatio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68360" y="2133720"/>
            <a:ext cx="813924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rong regulation against prohibitive rent increases and ren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crease to a level not higher than average level (of rents in new contracts from the last 4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crease by not more than 20 percent in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t more than 11 percent of costs for energy saving measures may be passed to tenant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usury laws: rent (even for new contracts) may not exceed local level by more than 50 per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0:07:26Z</dcterms:created>
  <dc:creator>EDI</dc:creator>
  <dc:description/>
  <dc:language>en-US</dc:language>
  <cp:lastModifiedBy>LSE</cp:lastModifiedBy>
  <cp:lastPrinted>2011-06-01T16:09:13Z</cp:lastPrinted>
  <dcterms:modified xsi:type="dcterms:W3CDTF">2011-06-06T12:56:13Z</dcterms:modified>
  <cp:revision>242</cp:revision>
  <dc:subject/>
  <dc:title>Nacht der Wisssenschaft</dc:title>
</cp:coreProperties>
</file>