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EBB56D-A41E-4633-8B13-906B0F23032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115055-DA54-427B-8FD3-BFEB54CEF35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1AB50B-F644-454F-BD38-4942C3D25C6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061D77-20C7-47FA-B9F1-632D0EDCF4B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6DED20-3E42-4DCB-A44D-57849061F87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7F86A7-97DC-4582-80AB-5C1D798C4E8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CF6AF2-D5FD-4ADD-8A56-DE768DEB292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778F71-1717-44E4-B722-C71CD112CC6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AF1981-9971-4E09-B267-943BC1DB461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492156-2022-4875-8D26-7831FD07067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79F6D3-85B3-4453-8514-B762D73108A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8E45B2-9F11-4DD7-841E-F692FD9EE49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778200" y="9429840"/>
            <a:ext cx="2890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995998-4F36-417B-9418-73BF20AAF9A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271-350D-449E-90EE-25C77093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9C39-C8EE-4F7D-8CE6-A925681D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D63-4FCB-42D3-B8A7-3EEAC897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018-E886-42A6-ADAE-242BEA71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139-FE64-497B-B9C4-D9BE5E72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5321-09C3-4EB0-BE44-1FE1D75D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6817-25B5-4ABF-850F-EC72C1D2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994-2BE6-4E14-BA4C-2B367E09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8D61-1C78-4F11-B087-CDB371D2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966A-CCC7-4D16-8823-1CC86796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7EB-6A4E-4107-9CE8-186C1C33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B2EC-04F1-4607-B777-658EA84E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E3E0-39F7-4417-B9A4-F5B3356BAA7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olienkopf okt07 dt"/>
          <p:cNvPicPr/>
          <p:nvPr/>
        </p:nvPicPr>
        <p:blipFill>
          <a:blip r:embed="rId2"/>
          <a:stretch/>
        </p:blipFill>
        <p:spPr>
          <a:xfrm>
            <a:off x="0" y="0"/>
            <a:ext cx="9144000" cy="460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Folienfuss okt07"/>
          <p:cNvPicPr/>
          <p:nvPr/>
        </p:nvPicPr>
        <p:blipFill>
          <a:blip r:embed="rId3"/>
          <a:stretch/>
        </p:blipFill>
        <p:spPr>
          <a:xfrm>
            <a:off x="0" y="6732720"/>
            <a:ext cx="9144000" cy="12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tructure, Funding and Regulation of the Rental Market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olienkopf okt07 dt"/>
          <p:cNvPicPr/>
          <p:nvPr/>
        </p:nvPicPr>
        <p:blipFill>
          <a:blip r:embed="rId1"/>
          <a:stretch/>
        </p:blipFill>
        <p:spPr>
          <a:xfrm>
            <a:off x="0" y="0"/>
            <a:ext cx="9144000" cy="460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Folienfuss okt07"/>
          <p:cNvPicPr/>
          <p:nvPr/>
        </p:nvPicPr>
        <p:blipFill>
          <a:blip r:embed="rId2"/>
          <a:stretch/>
        </p:blipFill>
        <p:spPr>
          <a:xfrm>
            <a:off x="0" y="6732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287280" y="4221000"/>
            <a:ext cx="85694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"/>
          <p:cNvSpPr/>
          <p:nvPr/>
        </p:nvSpPr>
        <p:spPr>
          <a:xfrm>
            <a:off x="2073600" y="3860640"/>
            <a:ext cx="5441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eter Wester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June 2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ondon School of 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Grafik 3" descr=""/>
          <p:cNvPicPr/>
          <p:nvPr/>
        </p:nvPicPr>
        <p:blipFill>
          <a:blip r:embed="rId3"/>
          <a:stretch/>
        </p:blipFill>
        <p:spPr>
          <a:xfrm>
            <a:off x="4156200" y="2924280"/>
            <a:ext cx="127620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liennummernplatzhalt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AB43-CFB1-4F25-837A-20F91F86843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Arial"/>
              </a:rPr>
              <a:t>Regulation: Why does it work there and not 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68360" y="2133720"/>
            <a:ext cx="8139240" cy="89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ntality of te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ulture of renting instead/as an alternative of owning: Hard to understand how this developed, but renting is not stigmati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gacy of subsidised (social) housing after WW2: parents/grandparents living in rented flats is considered as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Germany is not monocentric but has at least 5 big business centres  (Berlin, Frankfurt, Munich, Duesseldorf, Hamburg) and a lot of smaller ones: Young professionals with partners tend to commute weekly from their workplace to their partners’ home (“remote distance partnerships”): supported by excellent infrastructure (in international compari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liennummernplatzhalt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D910-254B-4D88-B350-A507B199CFE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Arial"/>
              </a:rPr>
              <a:t>Regulation: Why does it work here and not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68360" y="2133720"/>
            <a:ext cx="8139240" cy="37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ntality of landl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ong term investment motives do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Residential investment as inflation h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Retirement pro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ecurity of tenure matches long term investment motives of landlord: Keep a good tenant as long as you ca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liennummernplatzhalt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0C3E-FB33-4097-B8CE-BFF999DE4DB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9600" y="99036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Arial"/>
              </a:rPr>
              <a:t>Probably a relict of good old </a:t>
            </a:r>
            <a:br>
              <a:rPr sz="3600"/>
            </a:br>
            <a:r>
              <a:rPr b="0" lang="de-DE" sz="3600" spc="-1" strike="noStrike">
                <a:solidFill>
                  <a:srgbClr val="333399"/>
                </a:solidFill>
                <a:latin typeface="Arial"/>
              </a:rPr>
              <a:t>„social market economy“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468360" y="2133720"/>
            <a:ext cx="813924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53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3132000" y="2637000"/>
            <a:ext cx="288000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liennummernplatzhalt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F5FE-A605-41B8-8F6D-4665E7039F7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68360" y="2060640"/>
            <a:ext cx="8139240" cy="30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2800" indent="-442800">
              <a:lnSpc>
                <a:spcPct val="100000"/>
              </a:lnSpc>
              <a:spcBef>
                <a:spcPts val="16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tructure of the Rental S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442800">
              <a:lnSpc>
                <a:spcPct val="100000"/>
              </a:lnSpc>
              <a:spcBef>
                <a:spcPts val="16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u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442800">
              <a:lnSpc>
                <a:spcPct val="100000"/>
              </a:lnSpc>
              <a:spcBef>
                <a:spcPts val="16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Reg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442800">
              <a:lnSpc>
                <a:spcPct val="100000"/>
              </a:lnSpc>
              <a:spcBef>
                <a:spcPts val="16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Why does work there and not he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442800">
              <a:lnSpc>
                <a:spcPct val="100000"/>
              </a:lnSpc>
              <a:spcBef>
                <a:spcPts val="1624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liennummernplatzhalt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BFCD-37A0-460D-B515-647E717CE9E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4240" y="764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e-DE" sz="3600" spc="-1" strike="noStrike">
                <a:solidFill>
                  <a:srgbClr val="333399"/>
                </a:solidFill>
                <a:latin typeface="Arial"/>
              </a:rPr>
              <a:t>Structure of the Rental Sector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04800" y="1825560"/>
            <a:ext cx="8139240" cy="11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61 per cent of the total rental sector (no. of flats) are owned by small private landl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Diagramm 5" descr=""/>
          <p:cNvPicPr/>
          <p:nvPr/>
        </p:nvPicPr>
        <p:blipFill>
          <a:blip r:embed="rId1"/>
          <a:stretch/>
        </p:blipFill>
        <p:spPr>
          <a:xfrm>
            <a:off x="2144880" y="2781360"/>
            <a:ext cx="5019480" cy="3081240"/>
          </a:xfrm>
          <a:prstGeom prst="rect">
            <a:avLst/>
          </a:prstGeom>
          <a:ln w="0">
            <a:noFill/>
          </a:ln>
        </p:spPr>
      </p:pic>
      <p:sp>
        <p:nvSpPr>
          <p:cNvPr id="63" name="Textfeld 1"/>
          <p:cNvSpPr/>
          <p:nvPr/>
        </p:nvSpPr>
        <p:spPr>
          <a:xfrm>
            <a:off x="971640" y="609300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ce: GdW 2008, University of Mannheim, Data refer to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liennummernplatzhalt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4D4B-D185-45B0-AC60-2221A4A941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4240" y="764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e-DE" sz="3600" spc="-1" strike="noStrike">
                <a:solidFill>
                  <a:srgbClr val="333399"/>
                </a:solidFill>
                <a:latin typeface="Arial"/>
              </a:rPr>
              <a:t>Structure of the Rental Sector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04800" y="1825560"/>
            <a:ext cx="813924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ocial Structure of Landlords Differs Strongly from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feld 1"/>
          <p:cNvSpPr/>
          <p:nvPr/>
        </p:nvSpPr>
        <p:spPr>
          <a:xfrm>
            <a:off x="1222200" y="5889600"/>
            <a:ext cx="66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ce: GSOEP, Wave 2009, own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Diagramm 9" descr=""/>
          <p:cNvPicPr/>
          <p:nvPr/>
        </p:nvPicPr>
        <p:blipFill>
          <a:blip r:embed="rId1"/>
          <a:stretch/>
        </p:blipFill>
        <p:spPr>
          <a:xfrm>
            <a:off x="554040" y="2222640"/>
            <a:ext cx="5357880" cy="348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6012000" y="2292480"/>
          <a:ext cx="2903400" cy="3176280"/>
        </p:xfrm>
        <a:graphic>
          <a:graphicData uri="http://schemas.openxmlformats.org/drawingml/2006/table">
            <a:tbl>
              <a:tblPr/>
              <a:tblGrid>
                <a:gridCol w="1177920"/>
                <a:gridCol w="757080"/>
                <a:gridCol w="968400"/>
              </a:tblGrid>
              <a:tr h="78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rental in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./o. rental in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government income HH (Mean, Eur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-government income  H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dian, Eur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(Median, Yea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liennummernplatzhalt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22E9-EB34-40A3-928F-7620BA3714A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826920" y="2397240"/>
            <a:ext cx="813924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53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96720" y="476280"/>
            <a:ext cx="856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vestment Motives of Private Landl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26920" y="1341360"/>
            <a:ext cx="820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Diagramm 1" descr=""/>
          <p:cNvPicPr/>
          <p:nvPr/>
        </p:nvPicPr>
        <p:blipFill>
          <a:blip r:embed="rId1"/>
          <a:stretch/>
        </p:blipFill>
        <p:spPr>
          <a:xfrm>
            <a:off x="1473120" y="1290600"/>
            <a:ext cx="6197760" cy="4349880"/>
          </a:xfrm>
          <a:prstGeom prst="rect">
            <a:avLst/>
          </a:prstGeom>
          <a:ln w="0">
            <a:noFill/>
          </a:ln>
        </p:spPr>
      </p:pic>
      <p:sp>
        <p:nvSpPr>
          <p:cNvPr id="75" name="Rechteck 2"/>
          <p:cNvSpPr/>
          <p:nvPr/>
        </p:nvSpPr>
        <p:spPr>
          <a:xfrm>
            <a:off x="793800" y="5589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urce: BBR 2007, Data refer to West Germany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cale from 5 (very important) to 0 (totally unimpor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liennummernplatzhalt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0C41-A5FD-4833-ADE1-2B82C615507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Arial"/>
              </a:rPr>
              <a:t>Funding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79520" y="1773360"/>
            <a:ext cx="8138880" cy="69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 detailed figures on funding of purchases/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ylized facts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High equity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clusion of debt predominantly because interest is tax deductible against other sources of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Use of subsidies for energy saving measures and other subsidized investment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liennummernplatzhalt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F7F7-38BF-4F84-979E-0D2C6F030BB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Arial"/>
              </a:rPr>
              <a:t>Funding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488880" y="1612800"/>
            <a:ext cx="8139240" cy="44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nancing Structure for Investments in the Building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53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53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53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Diagramm 1" descr=""/>
          <p:cNvPicPr/>
          <p:nvPr/>
        </p:nvPicPr>
        <p:blipFill>
          <a:blip r:embed="rId1"/>
          <a:stretch/>
        </p:blipFill>
        <p:spPr>
          <a:xfrm>
            <a:off x="438120" y="2082960"/>
            <a:ext cx="8001000" cy="4165560"/>
          </a:xfrm>
          <a:prstGeom prst="rect">
            <a:avLst/>
          </a:prstGeom>
          <a:ln w="0">
            <a:noFill/>
          </a:ln>
        </p:spPr>
      </p:pic>
      <p:sp>
        <p:nvSpPr>
          <p:cNvPr id="83" name="Rechteck 5"/>
          <p:cNvSpPr/>
          <p:nvPr/>
        </p:nvSpPr>
        <p:spPr>
          <a:xfrm>
            <a:off x="419040" y="62802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ource: BBR 2007, Data refer to West Germany (Caution: small sample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liennummernplatzhalt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167E-BB00-4A57-9CA4-055BA019554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Arial"/>
              </a:rPr>
              <a:t>Regulatio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68360" y="2133720"/>
            <a:ext cx="8139240" cy="71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rong regulation towards high security of ten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tracts are usually unlim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ndlord must prove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legitimate interes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o evict te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breach of contractual obli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delay of 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own use by landlord (particularly hard to prove if landlord is owner occupi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liennummernplatzhalt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14B5-6138-4093-AAC1-1A8C41B3BA6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Arial"/>
              </a:rPr>
              <a:t>Regulation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68360" y="2133720"/>
            <a:ext cx="813924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rong regulation against prohibitive rent increases and rent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crease to a level not higher than average level (of rents in new contracts from the last 4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crease by not more than 20 percent in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ot more than 11 percent of costs for energy saving measures may be passed to tenant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usury laws: rent (even for new contracts) may not exceed local level by more than 50 per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0:07:26Z</dcterms:created>
  <dc:creator>EDI</dc:creator>
  <dc:description/>
  <dc:language>en-US</dc:language>
  <cp:lastModifiedBy>LSE</cp:lastModifiedBy>
  <cp:lastPrinted>2011-06-01T16:09:13Z</cp:lastPrinted>
  <dcterms:modified xsi:type="dcterms:W3CDTF">2011-06-06T12:56:13Z</dcterms:modified>
  <cp:revision>242</cp:revision>
  <dc:subject/>
  <dc:title>Nacht der Wisssenschaft</dc:title>
</cp:coreProperties>
</file>