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6D3-4A7C-4089-BCFA-AA40A2992E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6DD3-E245-41E5-836A-6E74B7A98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928-D85C-46DE-967A-3BFD8B14E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A6F5-9D7C-41EE-9D5A-C2A29646FE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4A7-6E33-4962-9D52-315AC43E5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BF3-B277-473B-9282-9E4F52B8A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C1E-9F20-476E-9E0F-F75BC3636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B48-020A-4561-96AB-92F8DB9C8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93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5352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255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93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5352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7640" y="456840"/>
            <a:ext cx="7159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393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5352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255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393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75352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7640" y="456840"/>
            <a:ext cx="7159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ts val="2500"/>
              </a:lnSpc>
              <a:buClr>
                <a:srgbClr val="00a6d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724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Line 20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61340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124080" y="6248520"/>
            <a:ext cx="4419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_rgb4"/>
          <p:cNvPicPr/>
          <p:nvPr/>
        </p:nvPicPr>
        <p:blipFill>
          <a:blip r:embed="rId2"/>
          <a:stretch/>
        </p:blipFill>
        <p:spPr>
          <a:xfrm>
            <a:off x="571680" y="6181560"/>
            <a:ext cx="880920" cy="3463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7"/>
          <p:cNvSpPr/>
          <p:nvPr/>
        </p:nvSpPr>
        <p:spPr>
          <a:xfrm>
            <a:off x="7736040" y="6362640"/>
            <a:ext cx="45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455-26FE-41F1-8B41-5DDFB016B43B}" type="slidenum">
              <a:rPr b="0" lang="nl-NL" sz="1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TextBox 19"/>
          <p:cNvSpPr/>
          <p:nvPr/>
        </p:nvSpPr>
        <p:spPr>
          <a:xfrm>
            <a:off x="1517760" y="6324480"/>
            <a:ext cx="66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Challenge the future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            The Dutch Private Rental Sector. Some Observ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20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0" y="61340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124080" y="6248520"/>
            <a:ext cx="4419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logo_rgb4"/>
          <p:cNvPicPr/>
          <p:nvPr/>
        </p:nvPicPr>
        <p:blipFill>
          <a:blip r:embed="rId2"/>
          <a:stretch/>
        </p:blipFill>
        <p:spPr>
          <a:xfrm>
            <a:off x="571680" y="6181560"/>
            <a:ext cx="880920" cy="346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7"/>
          <p:cNvSpPr/>
          <p:nvPr/>
        </p:nvSpPr>
        <p:spPr>
          <a:xfrm>
            <a:off x="7736040" y="6362640"/>
            <a:ext cx="45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B8C-1382-43EA-A922-1EC097195234}" type="slidenum">
              <a:rPr b="0" lang="nl-NL" sz="1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517760" y="6324480"/>
            <a:ext cx="66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Challenge the future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            The Dutch Private Rental Sector. Some Observ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71600" y="2055960"/>
            <a:ext cx="7307280" cy="18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ts val="2500"/>
              </a:lnSpc>
              <a:buClr>
                <a:srgbClr val="00a6d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724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471600" y="2055960"/>
            <a:ext cx="7307280" cy="27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55320"/>
            <a:ext cx="679932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okman Old Style"/>
              </a:rPr>
              <a:t>The Dutch private rental sector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93720" y="2862360"/>
            <a:ext cx="67816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d6"/>
                </a:solidFill>
                <a:latin typeface="Bookman Old Style"/>
              </a:rPr>
              <a:t>Som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Marietta Haff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2 June 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LSE London Worksho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The Revival of PR in the UK: Lessons from Abro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406440"/>
            <a:ext cx="74660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Structure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1848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of P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na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ome tax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y of special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IMG_5928a_kl"/>
          <p:cNvPicPr/>
          <p:nvPr/>
        </p:nvPicPr>
        <p:blipFill>
          <a:blip r:embed="rId1"/>
          <a:stretch/>
        </p:blipFill>
        <p:spPr>
          <a:xfrm>
            <a:off x="5541840" y="0"/>
            <a:ext cx="360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5900a_kl"/>
          <p:cNvPicPr/>
          <p:nvPr/>
        </p:nvPicPr>
        <p:blipFill>
          <a:blip r:embed="rId2"/>
          <a:stretch/>
        </p:blipFill>
        <p:spPr>
          <a:xfrm>
            <a:off x="4572000" y="3716280"/>
            <a:ext cx="4572000" cy="239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5914a_kl"/>
          <p:cNvPicPr/>
          <p:nvPr/>
        </p:nvPicPr>
        <p:blipFill>
          <a:blip r:embed="rId3"/>
          <a:stretch/>
        </p:blipFill>
        <p:spPr>
          <a:xfrm>
            <a:off x="0" y="3297240"/>
            <a:ext cx="4356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Development of PRS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ource: Haffner et al (2008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154160"/>
          <a:ext cx="7413480" cy="4430520"/>
        </p:xfrm>
        <a:graphic>
          <a:graphicData uri="http://schemas.openxmlformats.org/drawingml/2006/table">
            <a:tbl>
              <a:tblPr/>
              <a:tblGrid>
                <a:gridCol w="1865160"/>
                <a:gridCol w="1852920"/>
                <a:gridCol w="1760400"/>
                <a:gridCol w="1935000"/>
              </a:tblGrid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hare in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hare early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his 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row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4 in 1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able since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60 in 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om 9% in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Tenure distribution, 1947-2009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914400" y="1278000"/>
            <a:ext cx="7683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Tenants of PRS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25200" y="1041480"/>
            <a:ext cx="78757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termediate sector between SR and OO incomewise, but closer to 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ts are higher on average than in social renting (share of housing allowance recipients is low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s and couples without children are overrepresented in comparison to 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institutional renting 65+ tenants are overrepres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private person renting &gt;30 years of age are overrepres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iods of occupation are relatively long on average (between 11 and 13 yea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5820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Rent control and tenant security are independent of ownership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gu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l rents up to 652 Euro per month (20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96% of SR (20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77% of private person landl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9% of institutional landl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Quality points determine maximum r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andlords determine level themsel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ny dwellings that could be deregulated have regulated r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efinite rent contract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contract of 1 year possible for 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eregulated or liber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% of rental sector (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Income taxation of PR dwelling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25560" y="1409400"/>
            <a:ext cx="713880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nsion funds never pay corporate t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ther institutions pay coporate tax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(insurance companies, investors, estate agents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just like housing associations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 landlord running 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 landlord as investo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taxed on imputed retu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ared to other income taxation (investments and weal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subsidization, excep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imited depreci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ight Arrow 1"/>
          <p:cNvSpPr/>
          <p:nvPr/>
        </p:nvSpPr>
        <p:spPr>
          <a:xfrm>
            <a:off x="1003320" y="5156280"/>
            <a:ext cx="977760" cy="3556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64bcf4"/>
          </a:solidFill>
          <a:ln w="9360">
            <a:solidFill>
              <a:srgbClr val="000000"/>
            </a:solidFill>
            <a:round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Special features summarized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5560" y="1726920"/>
            <a:ext cx="713880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untry where private rental sector has been squeezed enormously (from 60% to 10% or less); especially private person landl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nt contro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ot dependent on ownership, but on actual re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come taxatio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‘Same’ treatment as other wealth/investment (with exception of owner-occup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using allowanc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ailable for private and social ren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200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200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2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818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4bcf4"/>
                </a:solidFill>
                <a:latin typeface="Tahoma"/>
              </a:rPr>
              <a:t>Thank you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for your attention</a:t>
            </a:r>
            <a:r>
              <a:rPr b="0" lang="en-US" sz="2400" spc="-1" strike="noStrike">
                <a:solidFill>
                  <a:srgbClr val="64bcf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IMG_2703kl"/>
          <p:cNvPicPr/>
          <p:nvPr/>
        </p:nvPicPr>
        <p:blipFill>
          <a:blip r:embed="rId1"/>
          <a:stretch/>
        </p:blipFill>
        <p:spPr>
          <a:xfrm>
            <a:off x="4500720" y="3716280"/>
            <a:ext cx="464328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MG_2720"/>
          <p:cNvPicPr/>
          <p:nvPr/>
        </p:nvPicPr>
        <p:blipFill>
          <a:blip r:embed="rId2"/>
          <a:stretch/>
        </p:blipFill>
        <p:spPr>
          <a:xfrm>
            <a:off x="6161040" y="-243000"/>
            <a:ext cx="2982960" cy="388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IMG_2716 kl"/>
          <p:cNvPicPr/>
          <p:nvPr/>
        </p:nvPicPr>
        <p:blipFill>
          <a:blip r:embed="rId3"/>
          <a:stretch/>
        </p:blipFill>
        <p:spPr>
          <a:xfrm>
            <a:off x="0" y="3357720"/>
            <a:ext cx="44276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9:03:58Z</dcterms:created>
  <dc:creator>Bianca Wighman</dc:creator>
  <dc:description/>
  <dc:language>en-US</dc:language>
  <cp:lastModifiedBy>LSE</cp:lastModifiedBy>
  <cp:lastPrinted>2011-05-25T16:13:16Z</cp:lastPrinted>
  <dcterms:modified xsi:type="dcterms:W3CDTF">2011-06-07T09:25:08Z</dcterms:modified>
  <cp:revision>1162</cp:revision>
  <dc:subject/>
  <dc:title>Missie en Visie TU Delft</dc:title>
</cp:coreProperties>
</file>