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25C7-85BF-4A06-B085-D6F879BCB9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6587-BC04-43BC-B2A3-39FB01EFA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A0D-6F68-431D-8B1D-D49E8AFC3F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EFA1-3721-47D8-928D-C6636691DB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9053-7D92-4B29-A1A8-2AA923738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B9F1-73E5-43C1-A997-F19A448DF8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5A24-70A3-45B1-AE71-2E26BEE795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16A-BAC1-4414-B967-BF11A2C511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25560" y="366012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8388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3936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5352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2556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3936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5352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7640" y="456840"/>
            <a:ext cx="7159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8388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25560" y="366012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8388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3936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53520" y="182844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2556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3936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753520" y="3660120"/>
            <a:ext cx="22986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7640" y="456840"/>
            <a:ext cx="7159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83880" y="366012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556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3880" y="1828440"/>
            <a:ext cx="348372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25560" y="3660120"/>
            <a:ext cx="71388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lnSpc>
                <a:spcPts val="2500"/>
              </a:lnSpc>
              <a:buClr>
                <a:srgbClr val="00a6d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190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7240" indent="-190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190440">
              <a:lnSpc>
                <a:spcPts val="2500"/>
              </a:lnSpc>
              <a:buClr>
                <a:srgbClr val="108b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19360" indent="-190440">
              <a:lnSpc>
                <a:spcPts val="2500"/>
              </a:lnSpc>
              <a:buClr>
                <a:srgbClr val="108b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719360" indent="-190440">
              <a:lnSpc>
                <a:spcPts val="25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719360" indent="-190440">
              <a:lnSpc>
                <a:spcPts val="25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6132600"/>
            <a:ext cx="914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Line 20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61340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3124080" y="6248520"/>
            <a:ext cx="4419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" name="Picture 10" descr="logo_rgb4"/>
          <p:cNvPicPr/>
          <p:nvPr/>
        </p:nvPicPr>
        <p:blipFill>
          <a:blip r:embed="rId2"/>
          <a:stretch/>
        </p:blipFill>
        <p:spPr>
          <a:xfrm>
            <a:off x="571680" y="6181560"/>
            <a:ext cx="880920" cy="3463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7"/>
          <p:cNvSpPr/>
          <p:nvPr/>
        </p:nvSpPr>
        <p:spPr>
          <a:xfrm>
            <a:off x="7736040" y="6362640"/>
            <a:ext cx="452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A526-24BC-44D3-9ADC-F1B752D9616C}" type="slidenum">
              <a:rPr b="0" lang="nl-NL" sz="1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TextBox 19"/>
          <p:cNvSpPr/>
          <p:nvPr/>
        </p:nvSpPr>
        <p:spPr>
          <a:xfrm>
            <a:off x="1517760" y="6324480"/>
            <a:ext cx="660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Challenge the future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            The Dutch Private Rental Sector. Some Observ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3"/>
          <p:cNvSpPr/>
          <p:nvPr/>
        </p:nvSpPr>
        <p:spPr>
          <a:xfrm>
            <a:off x="0" y="6132600"/>
            <a:ext cx="914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Line 20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Line 22"/>
          <p:cNvSpPr/>
          <p:nvPr/>
        </p:nvSpPr>
        <p:spPr>
          <a:xfrm>
            <a:off x="0" y="61340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3124080" y="6248520"/>
            <a:ext cx="4419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logo_rgb4"/>
          <p:cNvPicPr/>
          <p:nvPr/>
        </p:nvPicPr>
        <p:blipFill>
          <a:blip r:embed="rId2"/>
          <a:stretch/>
        </p:blipFill>
        <p:spPr>
          <a:xfrm>
            <a:off x="571680" y="6181560"/>
            <a:ext cx="880920" cy="346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7"/>
          <p:cNvSpPr/>
          <p:nvPr/>
        </p:nvSpPr>
        <p:spPr>
          <a:xfrm>
            <a:off x="7736040" y="6362640"/>
            <a:ext cx="452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698F-9412-46B7-8AE9-A623FA0B6199}" type="slidenum">
              <a:rPr b="0" lang="nl-NL" sz="1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1517760" y="6324480"/>
            <a:ext cx="660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Challenge the future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a6d6"/>
                </a:solidFill>
                <a:latin typeface="Tahoma"/>
              </a:rPr>
              <a:t>            The Dutch Private Rental Sector. Some Observ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71600" y="2055960"/>
            <a:ext cx="7307280" cy="18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456840"/>
            <a:ext cx="7159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lnSpc>
                <a:spcPts val="2500"/>
              </a:lnSpc>
              <a:buClr>
                <a:srgbClr val="00a6d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190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7240" indent="-190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190440">
              <a:lnSpc>
                <a:spcPts val="2500"/>
              </a:lnSpc>
              <a:buClr>
                <a:srgbClr val="108b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19360" indent="-190440">
              <a:lnSpc>
                <a:spcPts val="2500"/>
              </a:lnSpc>
              <a:buClr>
                <a:srgbClr val="108b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719360" indent="-190440">
              <a:lnSpc>
                <a:spcPts val="25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719360" indent="-190440">
              <a:lnSpc>
                <a:spcPts val="25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471600" y="2055960"/>
            <a:ext cx="7307280" cy="27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155320"/>
            <a:ext cx="679932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okman Old Style"/>
              </a:rPr>
              <a:t>The Dutch private rental sector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93720" y="2862360"/>
            <a:ext cx="67816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d6"/>
                </a:solidFill>
                <a:latin typeface="Bookman Old Style"/>
              </a:rPr>
              <a:t>Som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e9fb"/>
                </a:solidFill>
                <a:latin typeface="Bookman Old Style"/>
              </a:rPr>
              <a:t>Marietta Haff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e9fb"/>
                </a:solidFill>
                <a:latin typeface="Bookman Old Style"/>
              </a:rPr>
              <a:t>2 June 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e9fb"/>
                </a:solidFill>
                <a:latin typeface="Bookman Old Style"/>
              </a:rPr>
              <a:t>LSE London Worksho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e9fb"/>
                </a:solidFill>
                <a:latin typeface="Bookman Old Style"/>
              </a:rPr>
              <a:t>The Revival of PR in the UK: Lessons from Abro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00a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406440"/>
            <a:ext cx="74660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</a:rPr>
              <a:t>Structure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1848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of P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na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n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ome tax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mary of special 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IMG_5928a_kl"/>
          <p:cNvPicPr/>
          <p:nvPr/>
        </p:nvPicPr>
        <p:blipFill>
          <a:blip r:embed="rId1"/>
          <a:stretch/>
        </p:blipFill>
        <p:spPr>
          <a:xfrm>
            <a:off x="5541840" y="0"/>
            <a:ext cx="3602160" cy="3500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IMG_5900a_kl"/>
          <p:cNvPicPr/>
          <p:nvPr/>
        </p:nvPicPr>
        <p:blipFill>
          <a:blip r:embed="rId2"/>
          <a:stretch/>
        </p:blipFill>
        <p:spPr>
          <a:xfrm>
            <a:off x="4572000" y="3716280"/>
            <a:ext cx="4572000" cy="2397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IMG_5914a_kl"/>
          <p:cNvPicPr/>
          <p:nvPr/>
        </p:nvPicPr>
        <p:blipFill>
          <a:blip r:embed="rId3"/>
          <a:stretch/>
        </p:blipFill>
        <p:spPr>
          <a:xfrm>
            <a:off x="0" y="3297240"/>
            <a:ext cx="43560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Development of PRS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2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Source: Haffner et al (2008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1154160"/>
          <a:ext cx="7413480" cy="4430520"/>
        </p:xfrm>
        <a:graphic>
          <a:graphicData uri="http://schemas.openxmlformats.org/drawingml/2006/table">
            <a:tbl>
              <a:tblPr/>
              <a:tblGrid>
                <a:gridCol w="1865160"/>
                <a:gridCol w="1852920"/>
                <a:gridCol w="1760400"/>
                <a:gridCol w="1935000"/>
              </a:tblGrid>
              <a:tr h="91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hare in 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hare early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his cent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rowth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4 in 1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able since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ether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60 in 1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ng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e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rom 9% in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Tenure distribution, 1947-2009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tretch/>
        </p:blipFill>
        <p:spPr>
          <a:xfrm>
            <a:off x="914400" y="1278000"/>
            <a:ext cx="7683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Tenants of PRS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25200" y="1041480"/>
            <a:ext cx="78757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Intermediate sector between SR and OO incomewise, but closer to S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nts are higher on average than in social renting (share of housing allowance recipients is low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gles and couples without children are overrepresented in comparison to S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institutional renting 65+ tenants are overrepres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private person renting &gt;30 years of age are overrepres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iods of occupation are relatively long on average (between 11 and 13 yea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45820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Rent control and tenant security are independent of ownership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25560" y="1828440"/>
            <a:ext cx="71388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egul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l rents up to 652 Euro per month (20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96% of SR (200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77% of private person landl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59% of institutional landl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Quality points determine maximum r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andlords determine level themsel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ny dwellings that could be deregulated have regulated r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definite rent contract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contract of 1 year possible for P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Deregulated or liber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% of rental sector (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5520" indent="-379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Income taxation of PR dwelling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25560" y="1409400"/>
            <a:ext cx="713880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nsion funds never pay corporate t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ther institutions pay coporate tax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(insurance companies, investors, estate agents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just like housing associations 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ivate per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ivate person landlord running a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ivate person landlord as investor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taxed on imputed retur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-1634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ared to other income taxation (investments and weal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-16344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 subsidization, excep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-16344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imited depreci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ight Arrow 1"/>
          <p:cNvSpPr/>
          <p:nvPr/>
        </p:nvSpPr>
        <p:spPr>
          <a:xfrm>
            <a:off x="1003320" y="5156280"/>
            <a:ext cx="977760" cy="3556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64bcf4"/>
          </a:solidFill>
          <a:ln w="9360">
            <a:solidFill>
              <a:srgbClr val="000000"/>
            </a:solidFill>
            <a:round/>
          </a:ln>
          <a:effectLst>
            <a:outerShdw dist="50760" dir="5400000" blurRad="0" rotWithShape="0">
              <a:srgbClr val="00b0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457200"/>
            <a:ext cx="71596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Bookman Old Style"/>
              </a:rPr>
              <a:t>Special features summarized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25560" y="1726920"/>
            <a:ext cx="713880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untry where private rental sector has been squeezed enormously (from 60% to 10% or less); especially private person landl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ent control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Not dependent on ownership, but on actual re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Income taxatio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‘Same’ treatment as other wealth/investment (with exception of owner-occup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using allowanc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vailable for private and social ren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ts val="2500"/>
              </a:lnSpc>
              <a:buClr>
                <a:srgbClr val="00a6d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2004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20040">
              <a:lnSpc>
                <a:spcPts val="2500"/>
              </a:lnSpc>
              <a:buClr>
                <a:srgbClr val="00a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ndertitel 2"/>
          <p:cNvSpPr/>
          <p:nvPr/>
        </p:nvSpPr>
        <p:spPr>
          <a:xfrm>
            <a:off x="914400" y="1041480"/>
            <a:ext cx="6781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32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052280"/>
            <a:ext cx="78184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4bcf4"/>
                </a:solidFill>
                <a:latin typeface="Tahoma"/>
              </a:rPr>
              <a:t>Thank you</a:t>
            </a:r>
            <a:r>
              <a:rPr b="0" lang="tr-TR" sz="2400" spc="-1" strike="noStrike">
                <a:solidFill>
                  <a:srgbClr val="64bcf4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tr-TR" sz="2400" spc="-1" strike="noStrike">
                <a:solidFill>
                  <a:srgbClr val="64bcf4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64bcf4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64bcf4"/>
                </a:solidFill>
                <a:latin typeface="Tahoma"/>
              </a:rPr>
              <a:t>for your attention</a:t>
            </a:r>
            <a:r>
              <a:rPr b="0" lang="en-US" sz="2400" spc="-1" strike="noStrike">
                <a:solidFill>
                  <a:srgbClr val="64bcf4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51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IMG_2703kl"/>
          <p:cNvPicPr/>
          <p:nvPr/>
        </p:nvPicPr>
        <p:blipFill>
          <a:blip r:embed="rId1"/>
          <a:stretch/>
        </p:blipFill>
        <p:spPr>
          <a:xfrm>
            <a:off x="4500720" y="3716280"/>
            <a:ext cx="4643280" cy="242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MG_2720"/>
          <p:cNvPicPr/>
          <p:nvPr/>
        </p:nvPicPr>
        <p:blipFill>
          <a:blip r:embed="rId2"/>
          <a:stretch/>
        </p:blipFill>
        <p:spPr>
          <a:xfrm>
            <a:off x="6161040" y="-243000"/>
            <a:ext cx="2982960" cy="388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IMG_2716 kl"/>
          <p:cNvPicPr/>
          <p:nvPr/>
        </p:nvPicPr>
        <p:blipFill>
          <a:blip r:embed="rId3"/>
          <a:stretch/>
        </p:blipFill>
        <p:spPr>
          <a:xfrm>
            <a:off x="0" y="3357720"/>
            <a:ext cx="44276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09:03:58Z</dcterms:created>
  <dc:creator>Bianca Wighman</dc:creator>
  <dc:description/>
  <dc:language>en-US</dc:language>
  <cp:lastModifiedBy>LSE</cp:lastModifiedBy>
  <cp:lastPrinted>2011-05-25T16:13:16Z</cp:lastPrinted>
  <dcterms:modified xsi:type="dcterms:W3CDTF">2011-06-07T09:25:08Z</dcterms:modified>
  <cp:revision>1162</cp:revision>
  <dc:subject/>
  <dc:title>Missie en Visie TU Delft</dc:title>
</cp:coreProperties>
</file>