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6F0-03B4-4AE3-8AC4-EECE1443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FFE5-FB3B-4B4F-A2D0-E798A86C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246A-46FA-4A2F-A3F1-19ED85FD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89E-A577-4109-840A-F372DD73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BEDA-9706-4997-883B-E6848751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AED-75E1-4F54-B165-5C6B16A1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C91-1855-4FAB-ACF9-4BE750AA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6BD-B9C2-457E-8ED7-2976F93E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9C51-601B-4AF7-8245-3AAB9AA1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726-1511-429E-8166-24C8DAF4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BC0-629C-4592-84A2-1A626351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FEC-CAF5-440D-B938-744FDE79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1BFC-0516-4CF8-ACF7-E5B60A3E0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private rented sector in Fr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84280"/>
            <a:ext cx="64008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IL –June 2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2% of the housing st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Graphique 3" descr=""/>
          <p:cNvPicPr/>
          <p:nvPr/>
        </p:nvPicPr>
        <p:blipFill>
          <a:blip r:embed="rId1"/>
          <a:stretch/>
        </p:blipFill>
        <p:spPr>
          <a:xfrm>
            <a:off x="1152360" y="1547640"/>
            <a:ext cx="680904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inly in highly urbanized 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Graphique 3" descr=""/>
          <p:cNvPicPr/>
          <p:nvPr/>
        </p:nvPicPr>
        <p:blipFill>
          <a:blip r:embed="rId1"/>
          <a:stretch/>
        </p:blipFill>
        <p:spPr>
          <a:xfrm>
            <a:off x="749160" y="1407960"/>
            <a:ext cx="76456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rates by ten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195640" y="1989000"/>
          <a:ext cx="5113080" cy="3024360"/>
        </p:xfrm>
        <a:graphic>
          <a:graphicData uri="http://schemas.openxmlformats.org/drawingml/2006/table">
            <a:tbl>
              <a:tblPr/>
              <a:tblGrid>
                <a:gridCol w="3614760"/>
                <a:gridCol w="1498320"/>
              </a:tblGrid>
              <a:tr h="505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2-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wner-occupi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cial 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vate 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n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nts in the social and private rented se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00000" y="2421000"/>
          <a:ext cx="7344000" cy="2292120"/>
        </p:xfrm>
        <a:graphic>
          <a:graphicData uri="http://schemas.openxmlformats.org/drawingml/2006/table">
            <a:tbl>
              <a:tblPr/>
              <a:tblGrid>
                <a:gridCol w="1256760"/>
                <a:gridCol w="124560"/>
                <a:gridCol w="962640"/>
                <a:gridCol w="992880"/>
                <a:gridCol w="993960"/>
                <a:gridCol w="1016640"/>
                <a:gridCol w="1016280"/>
                <a:gridCol w="980280"/>
              </a:tblGrid>
              <a:tr h="782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€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square m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u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lt; 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,000 to 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,000 to 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,000 to 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ris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grid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al 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 grid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S unfurnish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 grid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S furnish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ZoneTexte 5"/>
          <p:cNvSpPr/>
          <p:nvPr/>
        </p:nvSpPr>
        <p:spPr>
          <a:xfrm>
            <a:off x="971640" y="1916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ents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nt depends on the s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47640" y="2205000"/>
          <a:ext cx="5977080" cy="2617920"/>
        </p:xfrm>
        <a:graphic>
          <a:graphicData uri="http://schemas.openxmlformats.org/drawingml/2006/table">
            <a:tbl>
              <a:tblPr/>
              <a:tblGrid>
                <a:gridCol w="2408400"/>
                <a:gridCol w="1784520"/>
                <a:gridCol w="1784160"/>
              </a:tblGrid>
              <a:tr h="74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f0f0f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000 to 2 mill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is a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or 2 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f0f0f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f0f0f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f0f0f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f0f0f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rooms or 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f0f0f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Graphique 3" descr=""/>
          <p:cNvPicPr/>
          <p:nvPr/>
        </p:nvPicPr>
        <p:blipFill>
          <a:blip r:embed="rId1"/>
          <a:stretch/>
        </p:blipFill>
        <p:spPr>
          <a:xfrm>
            <a:off x="895320" y="755640"/>
            <a:ext cx="721188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x incentive to private inves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 individ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vestment in newly built hou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me tax reduction : 13% to 22% of the price (cap : 300,000 €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ban areas (&gt; 50,000 inh.) solely (since 200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nt ceilings: 2 reg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60% of developpers’ sales in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4:00:56Z</dcterms:created>
  <dc:creator>Jean</dc:creator>
  <dc:description/>
  <dc:language>en-US</dc:language>
  <cp:lastModifiedBy>LSE</cp:lastModifiedBy>
  <dcterms:modified xsi:type="dcterms:W3CDTF">2011-06-06T12:56:49Z</dcterms:modified>
  <cp:revision>4</cp:revision>
  <dc:subject/>
  <dc:title>The private rented sector in France</dc:title>
</cp:coreProperties>
</file>