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A7707-F73B-415E-B3A3-3A732D575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D4C7D-68DC-46A4-B237-3265A8297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C4D77-C88B-4E44-B84D-3C1B27603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1BF3F-C30A-4576-81BB-860026F0C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C647D-8741-4C49-9E2F-754E819F9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D449-FE2B-4F1E-8ADF-856D226EF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2DD00-E5DD-4A86-92CD-D8CF0B799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8B47F-4A51-4ED0-B0FD-5800902FD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BC52D-BE9F-4276-B849-A4F33DC8E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C3C63-CD58-4D7E-B7EB-0511FE37A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DA4B0-EAC3-46C3-AFCF-F2588AA24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C8A01-7E00-4579-97EE-D087F5A70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FF63-43B2-4930-94E0-3AC7C588A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ards a Sustainable Private Rented Sector in the UK</a:t>
            </a:r>
            <a:br>
              <a:rPr sz="4000"/>
            </a:br>
            <a:r>
              <a:rPr b="0" lang="en-US" sz="3200" spc="-1" strike="noStrike">
                <a:solidFill>
                  <a:srgbClr val="000000"/>
                </a:solidFill>
                <a:latin typeface="Arial"/>
              </a:rPr>
              <a:t>Lessons from Abroad</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have learne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h Scanlon and Christine Whitehead</a:t>
            </a:r>
            <a:endParaRPr b="0" lang="en-US" sz="2800" spc="-1" strike="noStrike">
              <a:solidFill>
                <a:srgbClr val="000000"/>
              </a:solidFill>
              <a:latin typeface="Arial"/>
            </a:endParaRPr>
          </a:p>
        </p:txBody>
      </p:sp>
      <p:pic>
        <p:nvPicPr>
          <p:cNvPr id="43"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vate rental growth in the UK</a:t>
            </a:r>
            <a:endParaRPr b="0" lang="en-US" sz="36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17% of the housing stock in England and growing faster than other countries</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question is probably not about size per se but more about sustainability and stability</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is as much about the size of other sectors – at the moment owner-occupation is declining and social renting at best stable</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ush’ factors have tended to dominate with private renting seen as second or third choice for many  tenants and some landlords there by default</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ull’ factors are more obvious in other countries – not just ease of access and flexibility but portfolio and risk management reasons for both landlords and tenants  - and government support</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6"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 identified in the light of other countries’ experience</a:t>
            </a: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of sector increasing but rents still rising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curity of that growth if circumstances change?</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ven quality and professionalism of managemen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evelopers might fill the gap left by the near removal of build for Buy to Le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mentation of ownership in multi family apartment block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institutional investors? Or more generally those looking for long term investment based on rental returns rather than capital gains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it help to break down barriers between the rented sector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private rented sector meet the range of demands and needs especially where help to lower income households is being reduced.</a:t>
            </a:r>
            <a:endParaRPr b="0" lang="en-US" sz="2400" spc="-1" strike="noStrike">
              <a:solidFill>
                <a:srgbClr val="000000"/>
              </a:solidFill>
              <a:latin typeface="Arial"/>
            </a:endParaRPr>
          </a:p>
        </p:txBody>
      </p:sp>
      <p:pic>
        <p:nvPicPr>
          <p:cNvPr id="49"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0" lang="en-US" sz="3600" spc="-1" strike="noStrike">
                <a:solidFill>
                  <a:srgbClr val="000000"/>
                </a:solidFill>
                <a:latin typeface="Arial"/>
              </a:rPr>
              <a:t>Learning from abroad: correcting negative assumptio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investment does </a:t>
            </a:r>
            <a:r>
              <a:rPr b="1" lang="en-US" sz="2400" spc="-1" strike="noStrike">
                <a:solidFill>
                  <a:srgbClr val="000000"/>
                </a:solidFill>
                <a:latin typeface="Arial"/>
              </a:rPr>
              <a:t>not</a:t>
            </a:r>
            <a:r>
              <a:rPr b="0" lang="en-US" sz="2400" spc="-1" strike="noStrike">
                <a:solidFill>
                  <a:srgbClr val="000000"/>
                </a:solidFill>
                <a:latin typeface="Arial"/>
              </a:rPr>
              <a:t> dominate private rented sectors in other countries – generally fragmented ownership but often long term commitmen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is </a:t>
            </a:r>
            <a:r>
              <a:rPr b="1" lang="en-US" sz="2400" spc="-1" strike="noStrike">
                <a:solidFill>
                  <a:srgbClr val="000000"/>
                </a:solidFill>
                <a:latin typeface="Arial"/>
              </a:rPr>
              <a:t>not </a:t>
            </a:r>
            <a:r>
              <a:rPr b="0" lang="en-US" sz="2400" spc="-1" strike="noStrike">
                <a:solidFill>
                  <a:srgbClr val="000000"/>
                </a:solidFill>
                <a:latin typeface="Arial"/>
              </a:rPr>
              <a:t>inherently associated with smaller poorly operating private rented sectors.  Countries with larger sectors often have controls on rent increases and long term secur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renting is </a:t>
            </a:r>
            <a:r>
              <a:rPr b="1" lang="en-US" sz="2400" spc="-1" strike="noStrike">
                <a:solidFill>
                  <a:srgbClr val="000000"/>
                </a:solidFill>
                <a:latin typeface="Arial"/>
              </a:rPr>
              <a:t>not</a:t>
            </a:r>
            <a:r>
              <a:rPr b="0" lang="en-US" sz="2400" spc="-1" strike="noStrike">
                <a:solidFill>
                  <a:srgbClr val="000000"/>
                </a:solidFill>
                <a:latin typeface="Arial"/>
              </a:rPr>
              <a:t> just for the young and mobile but can be a tenure of choice for older, better off, more stable household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0" lang="en-US" sz="3600" spc="-1" strike="noStrike">
                <a:solidFill>
                  <a:srgbClr val="000000"/>
                </a:solidFill>
                <a:latin typeface="Arial"/>
              </a:rPr>
              <a:t>Learning from abroad: correcting negative assumptions (2)</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renting is </a:t>
            </a:r>
            <a:r>
              <a:rPr b="1" lang="en-US" sz="2800" spc="-1" strike="noStrike">
                <a:solidFill>
                  <a:srgbClr val="000000"/>
                </a:solidFill>
                <a:latin typeface="Arial"/>
              </a:rPr>
              <a:t>not</a:t>
            </a:r>
            <a:r>
              <a:rPr b="0" lang="en-US" sz="2800" spc="-1" strike="noStrike">
                <a:solidFill>
                  <a:srgbClr val="000000"/>
                </a:solidFill>
                <a:latin typeface="Arial"/>
              </a:rPr>
              <a:t> inherently unsuitable for more vulnerable households – but providing well for such households involves considerable government support and regulation to work well – making it more like social housing.</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is not to be equated with a well (or indeed badly) operating private rental market.  The appropriate size depends on the relative desirability and accessibility of other tenur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should be to meet the full range of demands and needs as effectively as possible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from abroad: positive lessons</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private renting needs a range of investors including a high proportion of individuals and small companies.  Many will come and go so there have to be adequate incentives to enter; others may stay of decades or generations if the circumstances are righ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many countries, not just the UK fear the reintroduction of heavy and inflexible regulation.  But the evidence from other countries does show that scale and stability can be associated with well defined regulatory frameworks giving long run security and security to both landlords and tenants with respect to rental returns</a:t>
            </a:r>
            <a:endParaRPr b="0" lang="en-US" sz="2400" spc="-1" strike="noStrike">
              <a:solidFill>
                <a:srgbClr val="000000"/>
              </a:solidFill>
              <a:latin typeface="Arial"/>
            </a:endParaRPr>
          </a:p>
        </p:txBody>
      </p:sp>
      <p:pic>
        <p:nvPicPr>
          <p:cNvPr id="58"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from abroad: positive lessons (2)</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ider range of tenants: private renting can suit families and even older households – but must be good quality, well managed and potentially on long lease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with vulnerable households- most countries have part of the private rented sector of which they are ashamed  - but best practice is usually associated with generous income related benefits and well defined government license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upply: depends on who are the investors, but also on built form and ownership structures.  Many countries only allow single ownership of apartment blocks which helps company and institutional investors and REITS.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relevant here is a potential  role for privately registered providers of grant  or tax break assisted social housing as in the USA and Australia</a:t>
            </a:r>
            <a:endParaRPr b="0" lang="en-US" sz="2000" spc="-1" strike="noStrike">
              <a:solidFill>
                <a:srgbClr val="000000"/>
              </a:solidFill>
              <a:latin typeface="Arial"/>
            </a:endParaRPr>
          </a:p>
        </p:txBody>
      </p:sp>
      <p:pic>
        <p:nvPicPr>
          <p:cNvPr id="61"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from abroad: positive lessons (3)</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cal arrangements: the international evidence shows that the relative tax and subsidy position is fundamental to a successful private rented sector. Tax incentives such as the right to against other income are present in many of the more stable sectors. But whatever any incentives must be tailored to the overall UK tax system.</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cale of the sector: sustainability is not about scale as such  - but demographic changes, income distribution and the nature of the labour market all point to increased demand.  Matching supply requires the capacity to make reasonable and predictable rates of return on investment.  Scale on the other hand is as much about policy decisions in relation to all tenures as well as returns elsewhere in the economy, financial markets and cultural norms.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untry has everything right  - those with larger, well operating private rented sectors tend to be prosperous, have generous income support – and stable or declining demands for housing. Others with large private rented sectors  but also housing market volatility and uneven income distributions show considerable signs of stres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transfer is difficult - all we have done here is identify potential  - the hard work starts here.</a:t>
            </a:r>
            <a:endParaRPr b="0" lang="en-US" sz="1800" spc="-1" strike="noStrike">
              <a:solidFill>
                <a:srgbClr val="000000"/>
              </a:solidFill>
              <a:latin typeface="Arial"/>
            </a:endParaRPr>
          </a:p>
        </p:txBody>
      </p:sp>
      <p:pic>
        <p:nvPicPr>
          <p:cNvPr id="64" name="Picture 10" descr=""/>
          <p:cNvPicPr/>
          <p:nvPr/>
        </p:nvPicPr>
        <p:blipFill>
          <a:blip r:embed="rId1"/>
          <a:stretch/>
        </p:blipFill>
        <p:spPr>
          <a:xfrm>
            <a:off x="8028000" y="5877000"/>
            <a:ext cx="647640" cy="56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08:04:38Z</dcterms:created>
  <dc:creator>LONDON SCHOOL OF ECONOMICS</dc:creator>
  <dc:description/>
  <dc:language>en-US</dc:language>
  <cp:lastModifiedBy>LSE</cp:lastModifiedBy>
  <dcterms:modified xsi:type="dcterms:W3CDTF">2011-10-05T11:28:23Z</dcterms:modified>
  <cp:revision>3</cp:revision>
  <dc:subject/>
  <dc:title>Towards a Sustainable Private Rented Sector in the UK Lessons from Abroad</dc:title>
</cp:coreProperties>
</file>