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4.png" ContentType="image/png"/>
  <Override PartName="/ppt/media/image8.wmf" ContentType="image/x-wmf"/>
  <Override PartName="/ppt/media/image9.png" ContentType="image/png"/>
  <Override PartName="/ppt/media/image13.wmf" ContentType="image/x-wmf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F17EB-92D8-4C7D-9045-3790584409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7CA4B-1169-40E4-973C-1233D6B6BC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8698A-6BDF-4413-BBFB-1911A4E25B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64D24-D3D0-4E5B-B2E1-F296C61557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C32E2-8E6F-41EB-B329-85B395AAFE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F4AE9-2413-4140-8B82-425C237C37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972AC-D05D-42EE-9DE7-1D90583897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B0B2D-2492-4CB0-A1A9-2AC1B633F0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79353-6C8A-4345-9A79-1F2F01EF6B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73901-BC66-41D3-814C-2B41D227BC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3B312-7F90-4BBA-81E6-17976FB04C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188AE-BB7D-44C0-B9B4-586E8F1D07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3A8D3-EFC8-4A49-A6FB-8BABBF5D1A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F7DC-53FC-4555-AD12-8B6E45A7D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6CFB-08D9-403F-9009-7E8DA5581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D22D-DA7F-431E-96F2-6BC89EBAD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63CB-86E4-4F82-99A9-BC3283CD2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5198-B66B-40B9-8A31-2983FDE8B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DB87-B233-4875-B70E-F39079C24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10C4-6EC0-4C7B-A736-719E2F5B5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B04C-C500-4649-AD7F-402DB5DFB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ADCA-00F0-459C-8C78-A5797FD18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9035-25B5-4F6D-83F0-E1B471CD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6B6E-70EF-46A2-93D6-CE12E7C3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8D5E-D4EA-4BE6-B8AB-2923F081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0EC55-133C-4699-918A-A7C957FAB0C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761760"/>
            <a:ext cx="7773840" cy="23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overty and inequality in London: What difference will the coalition's social policies ma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762120" y="3527280"/>
            <a:ext cx="7543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spcAft>
                <a:spcPts val="12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Peter Ken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12"/>
          <p:cNvGraphicFramePr/>
          <p:nvPr/>
        </p:nvGraphicFramePr>
        <p:xfrm>
          <a:off x="3676680" y="4676760"/>
          <a:ext cx="1809720" cy="8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76680" y="4676760"/>
                    <a:ext cx="180972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0000"/>
                </a:solidFill>
                <a:latin typeface="Arial"/>
              </a:rPr>
              <a:t>Child poverty over time by inner/outer/a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"/>
          <p:cNvSpPr/>
          <p:nvPr/>
        </p:nvSpPr>
        <p:spPr>
          <a:xfrm>
            <a:off x="762120" y="914400"/>
            <a:ext cx="7619760" cy="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1490760" y="18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762120" y="5195880"/>
            <a:ext cx="7619760" cy="12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wo effects dominate (almost cancelling at London lev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all in inner percentage in workless househo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crease in outer in-work poverty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490760" y="18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1490760" y="18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"/>
          <p:cNvPicPr/>
          <p:nvPr/>
        </p:nvPicPr>
        <p:blipFill>
          <a:blip r:embed="rId1"/>
          <a:stretch/>
        </p:blipFill>
        <p:spPr>
          <a:xfrm>
            <a:off x="657360" y="1066680"/>
            <a:ext cx="7827840" cy="40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0000"/>
                </a:solidFill>
                <a:latin typeface="Arial"/>
              </a:rPr>
              <a:t>Effects of the HB cap and 30% LHA lim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"/>
          <p:cNvSpPr/>
          <p:nvPr/>
        </p:nvSpPr>
        <p:spPr>
          <a:xfrm>
            <a:off x="762120" y="914400"/>
            <a:ext cx="7619760" cy="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1490760" y="18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762120" y="4114800"/>
            <a:ext cx="7619760" cy="20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nclear interaction with the inner/outer in-work/out-of-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£pw: Inner West is outlier; Inner East in the p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% affected: all in pack – substantial majority every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xodus from the Inner West - but no simple exodus to subur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1490760" y="18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1490760" y="18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00280" y="1095480"/>
          <a:ext cx="7543800" cy="2824200"/>
        </p:xfrm>
        <a:graphic>
          <a:graphicData uri="http://schemas.openxmlformats.org/drawingml/2006/table">
            <a:tbl>
              <a:tblPr/>
              <a:tblGrid>
                <a:gridCol w="1866600"/>
                <a:gridCol w="3162600"/>
                <a:gridCol w="251460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LHA tenants affec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. weekly amou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ner E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£16.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er E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£10.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er So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£11.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er W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£16.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ner W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£43.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0000"/>
                </a:solidFill>
                <a:latin typeface="Arial"/>
              </a:rPr>
              <a:t>Conclu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"/>
          <p:cNvSpPr/>
          <p:nvPr/>
        </p:nvSpPr>
        <p:spPr>
          <a:xfrm>
            <a:off x="762120" y="914400"/>
            <a:ext cx="7619760" cy="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490760" y="18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762120" y="1081080"/>
            <a:ext cx="7619760" cy="51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ven before the coalition’s social policies take effe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epening divide between the two parts of I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uter as a whole becoming more like Inner as a  whole – but no less divi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ypotheses re coalition polic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. Deepen the changes that have been taking place in Inner and esp. Inner W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. Accelerate/initiate change in many parts of O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ut is this sustainab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ner West has second highest number of low paid jobs (2008) of five sub-regions – 22% of the to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ime and cost of public transport for travel to low paid jobs will grow in impor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1490760" y="18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490760" y="18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0000"/>
                </a:solidFill>
                <a:latin typeface="Arial"/>
              </a:rPr>
              <a:t>London Poverty Profile 200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3"/>
          <p:cNvSpPr/>
          <p:nvPr/>
        </p:nvSpPr>
        <p:spPr>
          <a:xfrm>
            <a:off x="762120" y="914400"/>
            <a:ext cx="7619760" cy="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762120" y="1143000"/>
            <a:ext cx="7619760" cy="37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ow can London have highest poverty rate – and where is 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igh rates of poverty and worklessness – but Inner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nd Outer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over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verage rates of attainment for those with lowest grades – but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in Inner and Outer (best region at age 1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. high temp. accommodation rates – but Haringey 10X Richmo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ost unequal region so ‘London’ rarely makes sense – but 32 boroughs is too 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se the five economic sub-regions where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0000"/>
                </a:solidFill>
                <a:latin typeface="Arial"/>
              </a:rPr>
              <a:t>Five sub-reg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3"/>
          <p:cNvSpPr/>
          <p:nvPr/>
        </p:nvSpPr>
        <p:spPr>
          <a:xfrm>
            <a:off x="762120" y="914400"/>
            <a:ext cx="7619760" cy="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rcRect l="0" t="3371" r="1801" b="0"/>
          <a:stretch/>
        </p:blipFill>
        <p:spPr>
          <a:xfrm>
            <a:off x="880920" y="1084320"/>
            <a:ext cx="73486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0000"/>
                </a:solidFill>
                <a:latin typeface="Arial"/>
              </a:rPr>
              <a:t>Sixteen indicator picture: inn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"/>
          <p:cNvSpPr/>
          <p:nvPr/>
        </p:nvSpPr>
        <p:spPr>
          <a:xfrm>
            <a:off x="762120" y="914400"/>
            <a:ext cx="7619760" cy="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1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458200" cy="1111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"/>
          <p:cNvPicPr/>
          <p:nvPr/>
        </p:nvPicPr>
        <p:blipFill>
          <a:blip r:embed="rId2"/>
          <a:stretch/>
        </p:blipFill>
        <p:spPr>
          <a:xfrm>
            <a:off x="380880" y="2322360"/>
            <a:ext cx="8382240" cy="1030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" descr=""/>
          <p:cNvPicPr/>
          <p:nvPr/>
        </p:nvPicPr>
        <p:blipFill>
          <a:blip r:embed="rId3"/>
          <a:stretch/>
        </p:blipFill>
        <p:spPr>
          <a:xfrm>
            <a:off x="343080" y="3581280"/>
            <a:ext cx="845820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0000"/>
                </a:solidFill>
                <a:latin typeface="Arial"/>
              </a:rPr>
              <a:t>Sixteen indicator picture: ou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"/>
          <p:cNvSpPr/>
          <p:nvPr/>
        </p:nvSpPr>
        <p:spPr>
          <a:xfrm>
            <a:off x="762120" y="914400"/>
            <a:ext cx="7619760" cy="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8458200" cy="16131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"/>
          <p:cNvPicPr/>
          <p:nvPr/>
        </p:nvPicPr>
        <p:blipFill>
          <a:blip r:embed="rId2"/>
          <a:stretch/>
        </p:blipFill>
        <p:spPr>
          <a:xfrm>
            <a:off x="304920" y="5560920"/>
            <a:ext cx="8458200" cy="1144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"/>
          <p:cNvPicPr/>
          <p:nvPr/>
        </p:nvPicPr>
        <p:blipFill>
          <a:blip r:embed="rId3"/>
          <a:stretch/>
        </p:blipFill>
        <p:spPr>
          <a:xfrm>
            <a:off x="304920" y="927000"/>
            <a:ext cx="8458200" cy="28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0000"/>
                </a:solidFill>
                <a:latin typeface="Arial"/>
              </a:rPr>
              <a:t>Recession hit east more than inn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"/>
          <p:cNvSpPr/>
          <p:nvPr/>
        </p:nvSpPr>
        <p:spPr>
          <a:xfrm>
            <a:off x="762120" y="914400"/>
            <a:ext cx="7619760" cy="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611280" y="914400"/>
            <a:ext cx="7921440" cy="1219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2"/>
          <a:stretch/>
        </p:blipFill>
        <p:spPr>
          <a:xfrm>
            <a:off x="668160" y="3352680"/>
            <a:ext cx="7866360" cy="1600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"/>
          <p:cNvPicPr/>
          <p:nvPr/>
        </p:nvPicPr>
        <p:blipFill>
          <a:blip r:embed="rId3"/>
          <a:stretch/>
        </p:blipFill>
        <p:spPr>
          <a:xfrm>
            <a:off x="647640" y="5029200"/>
            <a:ext cx="7848720" cy="13716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1"/>
          <p:cNvSpPr/>
          <p:nvPr/>
        </p:nvSpPr>
        <p:spPr>
          <a:xfrm>
            <a:off x="3200400" y="914400"/>
            <a:ext cx="525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JSA, unemployment, mortgage and landlord reposs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4"/>
          <a:stretch/>
        </p:blipFill>
        <p:spPr>
          <a:xfrm>
            <a:off x="611280" y="2133720"/>
            <a:ext cx="792144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0000"/>
                </a:solidFill>
                <a:latin typeface="Arial"/>
              </a:rPr>
              <a:t>Problems of percep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"/>
          <p:cNvSpPr/>
          <p:nvPr/>
        </p:nvSpPr>
        <p:spPr>
          <a:xfrm>
            <a:off x="762120" y="914400"/>
            <a:ext cx="7619760" cy="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762120" y="1143000"/>
            <a:ext cx="761976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ner/outer misleads – deepest problems still in inner, concentrated in Inner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ner W faces problems e.g. housing, low paid jobs, but not comparable with Inner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010 ‘update’ highlights this: Inner W hit the least; Outer E resembles Inner E; problems e.g. re housing in Outer 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ner E more in common with Outer E than Inner W – but East/West also misle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ner W home to many national institutions – a bubble in a bubb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0000"/>
                </a:solidFill>
                <a:latin typeface="Arial"/>
              </a:rPr>
              <a:t>Three year child poverty rates/sha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"/>
          <p:cNvSpPr/>
          <p:nvPr/>
        </p:nvSpPr>
        <p:spPr>
          <a:xfrm>
            <a:off x="762120" y="914400"/>
            <a:ext cx="7619760" cy="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1490760" y="18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720720" y="1143000"/>
            <a:ext cx="7701120" cy="40114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7"/>
          <p:cNvSpPr/>
          <p:nvPr/>
        </p:nvSpPr>
        <p:spPr>
          <a:xfrm>
            <a:off x="762120" y="542448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ow do inner/outer and in-work/out-of-work interac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0000"/>
                </a:solidFill>
                <a:latin typeface="Arial"/>
              </a:rPr>
              <a:t>Accounting for ∆ child poverty rate over 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"/>
          <p:cNvSpPr/>
          <p:nvPr/>
        </p:nvSpPr>
        <p:spPr>
          <a:xfrm>
            <a:off x="762120" y="914400"/>
            <a:ext cx="7619760" cy="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762120" y="1143000"/>
            <a:ext cx="7619760" cy="53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or inner (outer) in terms of in- and non-work poverty ra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nge in in-work rat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[</a:t>
            </a:r>
            <a:r>
              <a:rPr b="0" lang="en-GB" sz="2000" spc="-1" strike="noStrike">
                <a:solidFill>
                  <a:srgbClr val="000000"/>
                </a:solidFill>
                <a:latin typeface="Agency FB"/>
                <a:ea typeface="Times New Roman"/>
              </a:rPr>
              <a:t>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w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s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w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nge in non-work rat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[</a:t>
            </a:r>
            <a:r>
              <a:rPr b="0" lang="en-GB" sz="2000" spc="-1" strike="noStrike">
                <a:solidFill>
                  <a:srgbClr val="000000"/>
                </a:solidFill>
                <a:latin typeface="Agency FB"/>
                <a:ea typeface="Times New Roman"/>
              </a:rPr>
              <a:t>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(1-s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w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]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ffect of change in work shar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[(r*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w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r*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. </a:t>
            </a:r>
            <a:r>
              <a:rPr b="0" lang="en-GB" sz="2000" spc="-1" strike="noStrike">
                <a:solidFill>
                  <a:srgbClr val="000000"/>
                </a:solidFill>
                <a:latin typeface="Agency FB"/>
                <a:ea typeface="Times New Roman"/>
              </a:rPr>
              <a:t>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w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here: r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w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/r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/non-work rates; (1-s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w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 % workless h’holds; * t=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or London in terms of inner and outer poverty ra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nge in inner rat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[</a:t>
            </a:r>
            <a:r>
              <a:rPr b="0" lang="en-GB" sz="2000" spc="-1" strike="noStrike">
                <a:solidFill>
                  <a:srgbClr val="000000"/>
                </a:solidFill>
                <a:latin typeface="Agency FB"/>
                <a:ea typeface="Times New Roman"/>
              </a:rPr>
              <a:t>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S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nge in outer rat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[</a:t>
            </a:r>
            <a:r>
              <a:rPr b="0" lang="en-GB" sz="2000" spc="-1" strike="noStrike">
                <a:solidFill>
                  <a:srgbClr val="000000"/>
                </a:solidFill>
                <a:latin typeface="Agency FB"/>
                <a:ea typeface="Times New Roman"/>
              </a:rPr>
              <a:t>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(1-S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]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ffect of change in inner shar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[(R*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R*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. </a:t>
            </a:r>
            <a:r>
              <a:rPr b="0" lang="en-GB" sz="2000" spc="-1" strike="noStrike">
                <a:solidFill>
                  <a:srgbClr val="000000"/>
                </a:solidFill>
                <a:latin typeface="Agency FB"/>
                <a:ea typeface="Times New Roman"/>
              </a:rPr>
              <a:t>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here: R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/R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ner/outer rates; S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% in inner; * t=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choices about precise form of decomposi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8T08:25:55Z</dcterms:created>
  <dc:creator>Peter Kenway</dc:creator>
  <dc:description/>
  <dc:language>en-US</dc:language>
  <cp:lastModifiedBy> </cp:lastModifiedBy>
  <dcterms:modified xsi:type="dcterms:W3CDTF">2011-03-14T16:44:18Z</dcterms:modified>
  <cp:revision>159</cp:revision>
  <dc:subject/>
  <dc:title>MoPSE Wales 2009</dc:title>
</cp:coreProperties>
</file>