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3.png" ContentType="image/png"/>
  <Override PartName="/ppt/media/image11.wmf" ContentType="image/x-wmf"/>
  <Override PartName="/ppt/media/image9.jpeg" ContentType="image/jpeg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undry Form Sans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FE0C-E097-46E1-884F-D31180A75C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ably worth taking out the first two bubles that come up explaining what unit labour costs are – let me know what you th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200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436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200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436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8920" y="10116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200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4360" y="167436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928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200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4360" y="4020120"/>
            <a:ext cx="281160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10116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4080" y="402012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4080" y="1674360"/>
            <a:ext cx="42613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020120"/>
            <a:ext cx="8732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gradFill rotWithShape="0">
            <a:gsLst>
              <a:gs pos="0">
                <a:srgbClr val="262e3c"/>
              </a:gs>
              <a:gs pos="50000">
                <a:srgbClr val="546583"/>
              </a:gs>
              <a:gs pos="100000">
                <a:srgbClr val="262e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674360"/>
            <a:ext cx="8732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54658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77080" y="6541920"/>
            <a:ext cx="2046240" cy="2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752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undry Form San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gradFill rotWithShape="0">
            <a:gsLst>
              <a:gs pos="0">
                <a:srgbClr val="262e3c"/>
              </a:gs>
              <a:gs pos="50000">
                <a:srgbClr val="546583"/>
              </a:gs>
              <a:gs pos="100000">
                <a:srgbClr val="262e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558720"/>
            <a:ext cx="2840040" cy="27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undry Form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2" marL="914400" algn="ctr">
              <a:spcBef>
                <a:spcPts val="499"/>
              </a:spcBef>
              <a:buClr>
                <a:srgbClr val="546583"/>
              </a:buClr>
              <a:buFont typeface="Foundry Form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371600" algn="ctr">
              <a:spcBef>
                <a:spcPts val="451"/>
              </a:spcBef>
              <a:buClr>
                <a:srgbClr val="546583"/>
              </a:buClr>
              <a:buFont typeface="Foundry Form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1828800" algn="ctr">
              <a:spcBef>
                <a:spcPts val="451"/>
              </a:spcBef>
              <a:buClr>
                <a:srgbClr val="546583"/>
              </a:buClr>
              <a:buFont typeface="Foundry Form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1828800">
              <a:spcBef>
                <a:spcPts val="451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1828800">
              <a:spcBef>
                <a:spcPts val="451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ondon.gov.uk/publication/working-paper-44-londons-labour-market-recent-recession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ndon.gov.uk/publication/working-paper-44-londons-labour-market-recent-recession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5491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undry Form Sans"/>
              </a:rPr>
              <a:t>A summary explanation of London’s labour market in the recent recession</a:t>
            </a:r>
            <a:r>
              <a:rPr b="1" lang="en-US" sz="4000" spc="-1" strike="noStrike">
                <a:solidFill>
                  <a:srgbClr val="000000"/>
                </a:solidFill>
                <a:latin typeface="Foundry Form Sans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2781360"/>
            <a:ext cx="421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Analysis by Melisa Wickham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Presented by Jonathan Hoffma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738036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And like the UK, the </a:t>
            </a: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aimant count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has not risen as much in the 2008 recession as it did in the 1990s and 1980s recessions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3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1773360"/>
          <a:ext cx="8912160" cy="485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73360"/>
                    <a:ext cx="89121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6165720"/>
            <a:ext cx="2987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Note: Claimant count denominator = claimant count + WFJ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ONS 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2492280"/>
            <a:ext cx="0" cy="31687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860640"/>
            <a:ext cx="3600720" cy="1729080"/>
          </a:xfrm>
          <a:prstGeom prst="wedgeEllipseCallout">
            <a:avLst>
              <a:gd name="adj1" fmla="val -69666"/>
              <a:gd name="adj2" fmla="val -7574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The claimant count rate in London has risen by 1.7 percentage points so far in this recession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4005360"/>
            <a:ext cx="3960720" cy="1439640"/>
          </a:xfrm>
          <a:prstGeom prst="wedgeEllipseCallout">
            <a:avLst>
              <a:gd name="adj1" fmla="val -50282"/>
              <a:gd name="adj2" fmla="val -74699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And by 4.1 percentage points in the 1980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716280"/>
            <a:ext cx="3816360" cy="1944720"/>
          </a:xfrm>
          <a:prstGeom prst="wedgeEllipseCallout">
            <a:avLst>
              <a:gd name="adj1" fmla="val -49375"/>
              <a:gd name="adj2" fmla="val -1034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But by the same time in the 1990s it had risen by 6.5 percentage point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5164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Employee jobs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have also not fallen by as much in the 2008 recession as they did in the 1990s recession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3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206280" y="1628640"/>
          <a:ext cx="8937720" cy="48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280" y="1628640"/>
                    <a:ext cx="89377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6381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Source: WFJ, Nomis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2492280"/>
            <a:ext cx="0" cy="288144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1341360"/>
            <a:ext cx="3168720" cy="1871640"/>
          </a:xfrm>
          <a:prstGeom prst="wedgeEllipseCallout">
            <a:avLst>
              <a:gd name="adj1" fmla="val -29157"/>
              <a:gd name="adj2" fmla="val 155768"/>
            </a:avLst>
          </a:prstGeom>
          <a:solidFill>
            <a:srgbClr val="ccffcc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But by the same time fell by 11.1% in the 1990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628640"/>
            <a:ext cx="3168720" cy="1368720"/>
          </a:xfrm>
          <a:prstGeom prst="wedgeEllipseCallout">
            <a:avLst>
              <a:gd name="adj1" fmla="val -29060"/>
              <a:gd name="adj2" fmla="val 94546"/>
            </a:avLst>
          </a:prstGeom>
          <a:solidFill>
            <a:srgbClr val="ff0000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Has fallen by 3.5% so far in thi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Background summary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413000"/>
          <a:ext cx="9035640" cy="4354560"/>
        </p:xfrm>
        <a:graphic>
          <a:graphicData uri="http://schemas.openxmlformats.org/drawingml/2006/table">
            <a:tbl>
              <a:tblPr/>
              <a:tblGrid>
                <a:gridCol w="4425480"/>
                <a:gridCol w="1698120"/>
                <a:gridCol w="1457640"/>
                <a:gridCol w="14544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London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UK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Peak-to-trough output decline (%)</a:t>
                      </a:r>
                      <a:r>
                        <a:rPr b="0" lang="en-US" sz="1600" spc="-1" strike="noStrike" baseline="30000">
                          <a:solidFill>
                            <a:srgbClr val="021832"/>
                          </a:solidFill>
                          <a:latin typeface="Foundry Form Sans"/>
                        </a:rPr>
                        <a:t>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6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6.4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9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6.2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.5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4.6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Constant annual growth rate (over peak-to-trough period) (%) </a:t>
                      </a:r>
                      <a:r>
                        <a:rPr b="0" lang="en-US" sz="1600" spc="-1" strike="noStrike" baseline="30000">
                          <a:solidFill>
                            <a:srgbClr val="021832"/>
                          </a:solidFill>
                          <a:latin typeface="Foundry Form Sans"/>
                        </a:rPr>
                        <a:t>1 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4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4.3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9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2.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3.7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Percentage point change in claimant count rate</a:t>
                      </a:r>
                      <a:r>
                        <a:rPr b="0" lang="en-US" sz="1600" spc="-1" strike="noStrike" baseline="30000">
                          <a:solidFill>
                            <a:srgbClr val="021832"/>
                          </a:solidFill>
                          <a:latin typeface="Foundry Form Sans"/>
                        </a:rPr>
                        <a:t>2 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.7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9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6.5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4.7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4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5.4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Change in employee jobs numbers (%)</a:t>
                      </a:r>
                      <a:r>
                        <a:rPr b="0" lang="en-US" sz="1600" spc="-1" strike="noStrike" baseline="30000">
                          <a:solidFill>
                            <a:srgbClr val="021832"/>
                          </a:solidFill>
                          <a:latin typeface="Foundry Form Sans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 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3.5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4.3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1368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9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11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6.1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21832"/>
                          </a:solidFill>
                          <a:latin typeface="Foundry Form Sans"/>
                        </a:rPr>
                        <a:t>-</a:t>
                      </a:r>
                      <a:endParaRPr b="0" lang="en-US" sz="16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1368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13680">
                      <a:solidFill>
                        <a:srgbClr val="ff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0" y="5877000"/>
            <a:ext cx="453708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3c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baseline="30000">
                <a:solidFill>
                  <a:srgbClr val="021832"/>
                </a:solidFill>
                <a:latin typeface="Foundry Form Sans"/>
              </a:rPr>
              <a:t>1</a:t>
            </a:r>
            <a:r>
              <a:rPr b="0" i="1" lang="en-US" sz="1000" spc="-1" strike="noStrike">
                <a:solidFill>
                  <a:srgbClr val="021832"/>
                </a:solidFill>
                <a:latin typeface="Foundry Form Sans"/>
              </a:rPr>
              <a:t> London figures are derived from Experian’s regional GVA estimates. UK figures are derived from ONS GDP estimates.</a:t>
            </a:r>
            <a:endParaRPr b="0" lang="en-US" sz="10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baseline="30000">
                <a:solidFill>
                  <a:srgbClr val="021832"/>
                </a:solidFill>
                <a:latin typeface="Foundry Form Sans"/>
              </a:rPr>
              <a:t>2</a:t>
            </a:r>
            <a:r>
              <a:rPr b="0" i="1" lang="en-US" sz="1000" spc="-1" strike="noStrike">
                <a:solidFill>
                  <a:srgbClr val="021832"/>
                </a:solidFill>
                <a:latin typeface="Foundry Form Sans"/>
              </a:rPr>
              <a:t> From UK output peak to eleven quarters after.</a:t>
            </a:r>
            <a:endParaRPr b="0" lang="en-US" sz="10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baseline="30000">
                <a:solidFill>
                  <a:srgbClr val="021832"/>
                </a:solidFill>
                <a:latin typeface="Foundry Form Sans"/>
              </a:rPr>
              <a:t>3</a:t>
            </a:r>
            <a:r>
              <a:rPr b="0" i="1" lang="en-US" sz="1000" spc="-1" strike="noStrike">
                <a:solidFill>
                  <a:srgbClr val="021832"/>
                </a:solidFill>
                <a:latin typeface="Foundry Form Sans"/>
              </a:rPr>
              <a:t> For UK output peak to ten quarters after. </a:t>
            </a:r>
            <a:endParaRPr b="0" lang="en-US" sz="10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2781000"/>
            <a:ext cx="28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oundry Form Sans"/>
              </a:rPr>
              <a:t>Why?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310360" cy="539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9280" y="10152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oundry Form Sans"/>
              </a:rPr>
              <a:t>Why?</a:t>
            </a:r>
            <a:endParaRPr b="0" lang="en-US" sz="48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Summary of analysis of possible explanations: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4000" y="1413000"/>
          <a:ext cx="7772400" cy="4771800"/>
        </p:xfrm>
        <a:graphic>
          <a:graphicData uri="http://schemas.openxmlformats.org/drawingml/2006/table">
            <a:tbl>
              <a:tblPr/>
              <a:tblGrid>
                <a:gridCol w="2083680"/>
                <a:gridCol w="216000"/>
                <a:gridCol w="216000"/>
                <a:gridCol w="216000"/>
                <a:gridCol w="1528200"/>
                <a:gridCol w="216000"/>
                <a:gridCol w="216000"/>
                <a:gridCol w="216000"/>
                <a:gridCol w="216000"/>
                <a:gridCol w="2648520"/>
              </a:tblGrid>
              <a:tr h="1364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Possible explanations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Likely contribution to labour market strength during the 2008 recession so far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1. Reduction in relative wages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2. Strong corporate profitability and low                rate of business failures 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3. Growth in the public sector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4. Labour market structural change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8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5. Reduction in working hours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6. Less economic structural change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7. Measurement error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1832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218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1730520"/>
            <a:ext cx="4319640" cy="4198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27640" y="3948120"/>
            <a:ext cx="2952720" cy="1662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1773360"/>
            <a:ext cx="3313080" cy="1922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Have workers accepted larger pay cuts/smaller pay rises to reduce their risks of unemployment?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2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oundry Form Sans"/>
              </a:rPr>
              <a:t>Reduction in relative wages</a:t>
            </a:r>
            <a:endParaRPr b="1" lang="en-US" sz="48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08000" y="1484280"/>
          <a:ext cx="845820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845820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9420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Reduction in relative wages</a:t>
            </a:r>
            <a:endParaRPr b="1" lang="en-US" sz="1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75" name=""/>
          <p:cNvSpPr/>
          <p:nvPr/>
        </p:nvSpPr>
        <p:spPr>
          <a:xfrm>
            <a:off x="5688000" y="1413000"/>
            <a:ext cx="3456000" cy="1584360"/>
          </a:xfrm>
          <a:prstGeom prst="wedgeRoundRectCallout">
            <a:avLst>
              <a:gd name="adj1" fmla="val -38791"/>
              <a:gd name="adj2" fmla="val 83064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Compared to the 1980s and 1990s recessions it does not seem that wages in the UK have fallen sufficiently to compensate for lower firm output.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740720" y="0"/>
            <a:ext cx="1403280" cy="1403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6340320"/>
            <a:ext cx="35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ONS (ROYJ, MGRN, MGRZ, ABML), GLA Economics calculation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2997360"/>
            <a:ext cx="0" cy="259236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341360"/>
            <a:ext cx="30592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However……….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349360"/>
          <a:ext cx="8499600" cy="37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8499600" cy="37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812000" y="60930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Times New Roman"/>
              </a:rPr>
              <a:t>Source: IMF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9420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Foundry Form Sans"/>
              </a:rPr>
              <a:t>Reduction in relative wages</a:t>
            </a:r>
            <a:endParaRPr b="1" lang="en-US" sz="1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19280" y="2492280"/>
            <a:ext cx="6694560" cy="25923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oking forward, slow employment growth during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e recovery should minimise pressure on wage rises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n the UK. However, Sterling is unlikely to fal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much further, so further falls in the relative unit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abour costs in the UK seem unlikely.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oundry Form Sans"/>
              </a:rPr>
              <a:t>Strong corporate profitability and low rate of business failure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462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Strong corporate profitability and low rate of business failures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060640"/>
          <a:ext cx="89661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61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 flipV="1">
            <a:off x="1403280" y="2349360"/>
            <a:ext cx="0" cy="345600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956720" y="2349360"/>
            <a:ext cx="0" cy="345600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773360"/>
            <a:ext cx="72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1832"/>
                </a:solidFill>
                <a:latin typeface="Foundry Form Sans"/>
              </a:rPr>
              <a:t>1990s peak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6360" y="177336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1832"/>
                </a:solidFill>
                <a:latin typeface="Foundry Form Sans"/>
              </a:rPr>
              <a:t>2008 peak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553080"/>
            <a:ext cx="35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PSNFC net rate of return (%, SA), ONS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3716280"/>
            <a:ext cx="719280" cy="1224000"/>
          </a:xfrm>
          <a:prstGeom prst="ellipse">
            <a:avLst/>
          </a:prstGeom>
          <a:noFill/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2421000"/>
            <a:ext cx="718920" cy="1224000"/>
          </a:xfrm>
          <a:prstGeom prst="ellipse">
            <a:avLst/>
          </a:prstGeom>
          <a:noFill/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18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What the summary covers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816520" cy="518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1280" y="1773360"/>
            <a:ext cx="756108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Foundry Form Sans"/>
              </a:rPr>
              <a:t>Background: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does the economy in the recent recession, in the UK and London, compare to that in the 1990s and 1980s recessions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has GDP/GVA moved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has unemployment and employment moved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060640"/>
            <a:ext cx="6659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Foundry Form Sans"/>
              </a:rPr>
              <a:t>Possible explanations: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undry Form Sans"/>
              </a:rPr>
              <a:t>Why has the labour market in the UK and London been more resilient  during the recent recession so far?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773360"/>
            <a:ext cx="7632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Foundry Form Sans"/>
              </a:rPr>
              <a:t>Looking forward</a:t>
            </a: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: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Foundry Form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might the factors that have supported the labour market thus far change going forward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Foundry Form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undry Form Sans"/>
              </a:rPr>
              <a:t>How might this make the recovery from the recent recession different from the recovery in the 1990s and 1980s recessions?</a:t>
            </a:r>
            <a:endParaRPr b="0" lang="en-US" sz="28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300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Strong corporate profitability and low rate of business failures</a:t>
            </a:r>
            <a:br>
              <a:rPr sz="1600"/>
            </a:b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36000" cy="4190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24360" y="2060640"/>
            <a:ext cx="2951280" cy="695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8101080" y="2565360"/>
            <a:ext cx="574560" cy="668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547640" y="5950080"/>
            <a:ext cx="759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Note: Historic business failures are based on data for compulsory liquidations, creditors’ voluntary liquidations, administrative receiverships, administrative orders and company voluntary arrangements from The Insolvency Service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3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Actual business failure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3500280"/>
            <a:ext cx="9367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1980</a:t>
            </a:r>
            <a:r>
              <a:rPr b="0" lang="en-US" sz="2400" spc="-1" strike="noStrike">
                <a:solidFill>
                  <a:srgbClr val="021832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2781360"/>
            <a:ext cx="93672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1990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2852640"/>
            <a:ext cx="11527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2008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1413000"/>
            <a:ext cx="7129440" cy="107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ompared to the rise in the 1980s and 1990s recessions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and given the fall in GDP, the rise in company 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iquidations has been modest during the 2008 recession.</a:t>
            </a:r>
            <a:r>
              <a:rPr b="0" lang="en-US" sz="2400" spc="-1" strike="noStrike">
                <a:solidFill>
                  <a:srgbClr val="02183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2565360"/>
            <a:ext cx="5184720" cy="1937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ontributing factors: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Bank of England’s monetary policy, and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Government policy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49228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133720"/>
            <a:ext cx="8497800" cy="2338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oking forward: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Government support is gradually being withdrawn and this could make future liquidations a risk, howeve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Forecast low real interest rates in the near term should continue to support business survival.</a:t>
            </a:r>
            <a:r>
              <a:rPr b="0" lang="en-US" sz="2400" spc="-1" strike="noStrike">
                <a:solidFill>
                  <a:srgbClr val="02183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14480" y="1441440"/>
          <a:ext cx="892476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1440"/>
                    <a:ext cx="892476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1413000"/>
            <a:ext cx="4249800" cy="161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Exclude jobs in public administration, defence, education, health and social work from the total number of jobs in the economy…….. 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740720" y="0"/>
            <a:ext cx="1403280" cy="1403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0"/>
            <a:ext cx="3168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Growth in public sector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16572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Workforce Jobs, ONS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500"/>
                            </p:stCondLst>
                            <p:childTnLst>
                              <p:par>
                                <p:cTn id="7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500"/>
                            </p:stCondLst>
                            <p:childTnLst>
                              <p:par>
                                <p:cTn id="7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43080" y="1744560"/>
          <a:ext cx="880092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744560"/>
                    <a:ext cx="880092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68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Foundry Form Sans"/>
              </a:rPr>
              <a:t>Growth in public sector</a:t>
            </a:r>
            <a:endParaRPr b="1" lang="en-US" sz="1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740720" y="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812000" y="0"/>
            <a:ext cx="1332000" cy="1398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11640" y="0"/>
            <a:ext cx="3456000" cy="2349360"/>
          </a:xfrm>
          <a:prstGeom prst="wedgeEllipseCallout">
            <a:avLst>
              <a:gd name="adj1" fmla="val -59828"/>
              <a:gd name="adj2" fmla="val 63175"/>
            </a:avLst>
          </a:prstGeom>
          <a:solidFill>
            <a:srgbClr val="ffcc99">
              <a:alpha val="8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21832"/>
                </a:solidFill>
                <a:latin typeface="Foundry Form Sans"/>
              </a:rPr>
              <a:t>Around 25% of the public sector employment increase between 2008 and 2010 was in London. Around 40% of this is due to the reclassification of financial institutions into the public sector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0"/>
            <a:ext cx="3816360" cy="1944720"/>
          </a:xfrm>
          <a:prstGeom prst="wedgeEllipseCallout">
            <a:avLst>
              <a:gd name="adj1" fmla="val -51375"/>
              <a:gd name="adj2" fmla="val 145185"/>
            </a:avLst>
          </a:prstGeom>
          <a:solidFill>
            <a:srgbClr val="ffccff">
              <a:alpha val="8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However, a lot of this increase is due to the incorporation of financial institutions (e.g. Lloyds) into the public sector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5877000"/>
            <a:ext cx="54007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21832"/>
                </a:solidFill>
                <a:latin typeface="Foundry Form Sans"/>
              </a:rPr>
              <a:t>Note: ‘Other public sector’ includes financial corporations. In the timeframe above, RBoS and Lloyds were included in the 3</a:t>
            </a:r>
            <a:r>
              <a:rPr b="0" i="1" lang="en-GB" sz="1200" spc="-1" strike="noStrike" baseline="30000">
                <a:solidFill>
                  <a:srgbClr val="021832"/>
                </a:solidFill>
                <a:latin typeface="Foundry Form Sans"/>
              </a:rPr>
              <a:t>rd</a:t>
            </a:r>
            <a:r>
              <a:rPr b="0" i="1" lang="en-GB" sz="1200" spc="-1" strike="noStrike">
                <a:solidFill>
                  <a:srgbClr val="021832"/>
                </a:solidFill>
                <a:latin typeface="Foundry Form Sans"/>
              </a:rPr>
              <a:t> quarter from UK output peak (2008 Q4). Northern Rock was included prior to the GDP peak.</a:t>
            </a:r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21832"/>
                </a:solidFill>
                <a:latin typeface="Foundry Form Sans"/>
              </a:rPr>
              <a:t>Source: ONS</a:t>
            </a:r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2788560"/>
            <a:ext cx="3959280" cy="16844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Looking specifically at public sector employment in the 2008 recession: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32360" y="1268280"/>
            <a:ext cx="2808360" cy="1152720"/>
          </a:xfrm>
          <a:prstGeom prst="wedgeEllipseCallout">
            <a:avLst>
              <a:gd name="adj1" fmla="val -89231"/>
              <a:gd name="adj2" fmla="val 73004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There has been a large rise since the recession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2276640"/>
            <a:ext cx="7777440" cy="2303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oking forward, the OBR estimates that public sector employment will  fall by around 400,000 by 2015/16. This means that public sector employment will contract at a similar compound rate over the next 5 years as the private sector experienced between 2008 and 2010.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941 -0.04187 L -0.31893 -0.39856 E">
                                      <p:cBhvr>
                                        <p:cTn id="76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7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Factors that are likely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Foundry Form Sans"/>
              </a:rPr>
              <a:t>support</a:t>
            </a: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 the labour market further as the economy grows: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87280" y="1557360"/>
            <a:ext cx="8856720" cy="4397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00000" y="1773360"/>
            <a:ext cx="5040360" cy="28080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Reduced relative wage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Strong corporate profitability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and low business failure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wer economic structur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hange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11592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oking forward summary</a:t>
            </a:r>
            <a:endParaRPr b="0" lang="en-US" sz="3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Factors that m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Foundry Form Sans"/>
              </a:rPr>
              <a:t>slow </a:t>
            </a:r>
            <a:r>
              <a:rPr b="1" lang="en-US" sz="3200" spc="-1" strike="noStrike">
                <a:solidFill>
                  <a:srgbClr val="ffffff"/>
                </a:solidFill>
                <a:latin typeface="Foundry Form Sans"/>
              </a:rPr>
              <a:t>any improvement in the labour market as the economy grows: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064720" cy="4398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21316800">
            <a:off x="1618920" y="2060280"/>
            <a:ext cx="5113440" cy="2520720"/>
          </a:xfrm>
          <a:prstGeom prst="ellipse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Reduced working hour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abour market structur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change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Reductions in public secto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employment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END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2492280"/>
            <a:ext cx="676764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For a more detailed examination and explanations see the main report:</a:t>
            </a:r>
            <a:r>
              <a:rPr b="0" i="1" lang="en-US" sz="2400" spc="-1" strike="noStrike">
                <a:solidFill>
                  <a:srgbClr val="021832"/>
                </a:solidFill>
                <a:latin typeface="Foundry Form Sans"/>
              </a:rPr>
              <a:t> ‘Working Paper 44: London’s labour market in the recent recession’ by GLA Economics: </a:t>
            </a:r>
            <a:r>
              <a:rPr b="0" lang="en-US" sz="2400" spc="-1" strike="noStrike" u="sng">
                <a:solidFill>
                  <a:srgbClr val="f40000"/>
                </a:solidFill>
                <a:uFillTx/>
                <a:latin typeface="Foundry Form Sans"/>
                <a:hlinkClick r:id="rId1"/>
              </a:rPr>
              <a:t>http://www.london.gov.uk/publication/working-paper-44-londons-labour-market-recent-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ANY QUESTION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294080" cy="49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101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oundry Form Sans"/>
              </a:rPr>
              <a:t>Note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t is not presumed that the full impact of the 2008 recession on the labour market has necessarily been experienced yet.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For a more detailed examination and explanations see the main report:</a:t>
            </a:r>
            <a:r>
              <a:rPr b="0" i="1" lang="en-US" sz="2400" spc="-1" strike="noStrike">
                <a:solidFill>
                  <a:srgbClr val="021832"/>
                </a:solidFill>
                <a:latin typeface="Foundry Form Sans"/>
              </a:rPr>
              <a:t> ‘Working Paper 44: London’s labour market in the recent recession’, </a:t>
            </a: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GLA Economics: </a:t>
            </a:r>
            <a:r>
              <a:rPr b="0" lang="en-US" sz="2400" spc="-1" strike="noStrike" u="sng">
                <a:solidFill>
                  <a:srgbClr val="f40000"/>
                </a:solidFill>
                <a:uFillTx/>
                <a:latin typeface="Foundry Form Sans"/>
                <a:hlinkClick r:id="rId1"/>
              </a:rPr>
              <a:t>http://www.london.gov.uk/publication/working-paper-44-londons-labour-market-recent-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21832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353960"/>
            <a:ext cx="9144000" cy="5099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5640" y="2781000"/>
            <a:ext cx="3995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undry Form Sans"/>
              </a:rPr>
              <a:t>UK Background</a:t>
            </a:r>
            <a:endParaRPr b="1" lang="en-US" sz="44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0152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BACKGROUND</a:t>
            </a:r>
            <a:endParaRPr b="0" lang="en-US" sz="3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5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5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5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 GDP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fell faster, and further, in the 2008 recession than in the 1990s and 1980s recessions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2276640"/>
          <a:ext cx="8788680" cy="40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76640"/>
                    <a:ext cx="8788680" cy="40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734240" y="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381720"/>
            <a:ext cx="29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ONS, GDP chained volume measure, constant 2006 prices, SA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1413000"/>
            <a:ext cx="2950920" cy="1800000"/>
          </a:xfrm>
          <a:prstGeom prst="wedgeEllipseCallout">
            <a:avLst>
              <a:gd name="adj1" fmla="val 31925"/>
              <a:gd name="adj2" fmla="val 89504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And in the 1990s it fell by 2.5% over 5 quarter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1341360"/>
            <a:ext cx="3240000" cy="1873440"/>
          </a:xfrm>
          <a:prstGeom prst="leftArrowCallout">
            <a:avLst>
              <a:gd name="adj1" fmla="val 25002"/>
              <a:gd name="adj2" fmla="val 25000"/>
              <a:gd name="adj3" fmla="val 28824"/>
              <a:gd name="adj4" fmla="val 66673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  </a:t>
            </a: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o a steady rate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f decline of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2.0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1413000"/>
            <a:ext cx="3097080" cy="1944720"/>
          </a:xfrm>
          <a:prstGeom prst="wedgeEllipseCallout">
            <a:avLst>
              <a:gd name="adj1" fmla="val -282"/>
              <a:gd name="adj2" fmla="val 113671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n the 1980s GDP fell by 4.7% over 5 quarter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1413000"/>
            <a:ext cx="3168720" cy="1512720"/>
          </a:xfrm>
          <a:prstGeom prst="leftArrowCallout">
            <a:avLst>
              <a:gd name="adj1" fmla="val 25002"/>
              <a:gd name="adj2" fmla="val 25000"/>
              <a:gd name="adj3" fmla="val 34912"/>
              <a:gd name="adj4" fmla="val 66673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o a steady rate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f decline of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4.3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484280"/>
            <a:ext cx="2878200" cy="1800360"/>
          </a:xfrm>
          <a:prstGeom prst="wedgeEllipseCallout">
            <a:avLst>
              <a:gd name="adj1" fmla="val 17125"/>
              <a:gd name="adj2" fmla="val 153527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In 2008, GDP fell by 6.4% over 6 quarters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1341360"/>
            <a:ext cx="3095640" cy="1657440"/>
          </a:xfrm>
          <a:prstGeom prst="leftArrowCallout">
            <a:avLst>
              <a:gd name="adj1" fmla="val 26058"/>
              <a:gd name="adj2" fmla="val 25000"/>
              <a:gd name="adj3" fmla="val 55841"/>
              <a:gd name="adj4" fmla="val 66673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o a steady rate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f decline of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3.7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But the </a:t>
            </a: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aimant count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rate has not risen as much in the 2008 recession as it did in the 1990s and 1980s recessions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2000" y="1846440"/>
          <a:ext cx="8999640" cy="45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846440"/>
                    <a:ext cx="8999640" cy="45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6021360"/>
            <a:ext cx="442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Note: Claimant count denominator = claimant count + WFJ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ONS</a:t>
            </a:r>
            <a:r>
              <a:rPr b="0" i="1" lang="en-US" sz="1400" spc="-1" strike="noStrike">
                <a:solidFill>
                  <a:srgbClr val="02183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734240" y="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11640" y="2421000"/>
            <a:ext cx="0" cy="309564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789360"/>
            <a:ext cx="3024360" cy="1657440"/>
          </a:xfrm>
          <a:prstGeom prst="wedgeEllipseCallout">
            <a:avLst>
              <a:gd name="adj1" fmla="val -75300"/>
              <a:gd name="adj2" fmla="val -18101"/>
            </a:avLst>
          </a:prstGeom>
          <a:solidFill>
            <a:srgbClr val="ff0000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The claimant count rate has increased so far by only 2.1 percentage points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4149720"/>
            <a:ext cx="3168720" cy="1800360"/>
          </a:xfrm>
          <a:prstGeom prst="wedgeEllipseCallout">
            <a:avLst>
              <a:gd name="adj1" fmla="val -52203"/>
              <a:gd name="adj2" fmla="val -96560"/>
            </a:avLst>
          </a:prstGeom>
          <a:solidFill>
            <a:srgbClr val="ccffcc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But by the same time had increased by 4.7 percentage points in 1990s recession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4149720"/>
            <a:ext cx="3095640" cy="1511280"/>
          </a:xfrm>
          <a:prstGeom prst="wedgeEllipseCallout">
            <a:avLst>
              <a:gd name="adj1" fmla="val -52513"/>
              <a:gd name="adj2" fmla="val -123949"/>
            </a:avLst>
          </a:prstGeom>
          <a:solidFill>
            <a:srgbClr val="ccffff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And had increased by 5.4 percentage points in 1980s recession</a:t>
            </a:r>
            <a:endParaRPr b="0" lang="en-US" sz="20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Employee jobs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have also not fallen by as much in the 2008 recession as they did in the 1990s recession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34240" y="0"/>
            <a:ext cx="140976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6280" y="1428840"/>
          <a:ext cx="8493120" cy="49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428840"/>
                    <a:ext cx="84931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638172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WFJ, ONS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2421000"/>
            <a:ext cx="0" cy="287964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1844640"/>
            <a:ext cx="4464000" cy="1513080"/>
          </a:xfrm>
          <a:prstGeom prst="wedgeEllipseCallout">
            <a:avLst>
              <a:gd name="adj1" fmla="val -1032"/>
              <a:gd name="adj2" fmla="val 111175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Employee job numbers have fallen by 4.3% so far during thi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844640"/>
            <a:ext cx="3384360" cy="1728720"/>
          </a:xfrm>
          <a:prstGeom prst="wedgeEllipseCallout">
            <a:avLst>
              <a:gd name="adj1" fmla="val -24203"/>
              <a:gd name="adj2" fmla="val 127962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But by the same time fell by 6.1% in the 1990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undry Form Sans"/>
              </a:rPr>
              <a:t>London Background</a:t>
            </a:r>
            <a:endParaRPr b="1" lang="en-US" sz="44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Like the UK, </a:t>
            </a: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GVA</a:t>
            </a:r>
            <a:r>
              <a:rPr b="0" lang="en-US" sz="2800" spc="-1" strike="noStrike">
                <a:solidFill>
                  <a:srgbClr val="ffffff"/>
                </a:solidFill>
                <a:latin typeface="Foundry Form Sans"/>
              </a:rPr>
              <a:t> also fell faster in the 2008 recession than in the 1990s recession: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3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0" y="2060640"/>
          <a:ext cx="891864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60640"/>
                    <a:ext cx="89186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630864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21832"/>
                </a:solidFill>
                <a:latin typeface="Foundry Form Sans"/>
              </a:rPr>
              <a:t>Source: GVA at basic prices, constant 2005 prices, Experian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2421000"/>
            <a:ext cx="0" cy="31669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2421000"/>
            <a:ext cx="0" cy="31669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421000"/>
            <a:ext cx="0" cy="31669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2421000"/>
            <a:ext cx="0" cy="3166920"/>
          </a:xfrm>
          <a:prstGeom prst="line">
            <a:avLst/>
          </a:prstGeom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141720"/>
            <a:ext cx="4356000" cy="1438200"/>
          </a:xfrm>
          <a:prstGeom prst="wedgeEllipseCallout">
            <a:avLst>
              <a:gd name="adj1" fmla="val -65050"/>
              <a:gd name="adj2" fmla="val -10925"/>
            </a:avLst>
          </a:prstGeom>
          <a:solidFill>
            <a:srgbClr val="ccffcc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London’s output fell by 6.2% over 9 quarters in the 1990s recession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3141720"/>
            <a:ext cx="3816360" cy="1295280"/>
          </a:xfrm>
          <a:prstGeom prst="wedgeEllipseCallout">
            <a:avLst>
              <a:gd name="adj1" fmla="val -93509"/>
              <a:gd name="adj2" fmla="val 4532"/>
            </a:avLst>
          </a:prstGeom>
          <a:solidFill>
            <a:srgbClr val="ff0000"/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1832"/>
                </a:solidFill>
                <a:latin typeface="Foundry Form Sans"/>
              </a:rPr>
              <a:t>And has fallen by 6.1% over 6 quarters in the recent recession</a:t>
            </a:r>
            <a:endParaRPr b="0" lang="en-US" sz="2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1341360"/>
            <a:ext cx="2952720" cy="1800360"/>
          </a:xfrm>
          <a:prstGeom prst="downArrowCallout">
            <a:avLst>
              <a:gd name="adj1" fmla="val 41006"/>
              <a:gd name="adj2" fmla="val 41002"/>
              <a:gd name="adj3" fmla="val 16667"/>
              <a:gd name="adj4" fmla="val 66667"/>
            </a:avLst>
          </a:prstGeom>
          <a:solidFill>
            <a:srgbClr val="ff99cc">
              <a:alpha val="58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o a steady rate of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decline of 4.1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1341360"/>
            <a:ext cx="3024360" cy="1800360"/>
          </a:xfrm>
          <a:prstGeom prst="downArrowCallout">
            <a:avLst>
              <a:gd name="adj1" fmla="val 42063"/>
              <a:gd name="adj2" fmla="val 41997"/>
              <a:gd name="adj3" fmla="val 22134"/>
              <a:gd name="adj4" fmla="val 6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21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This is equal to a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steady rate of decline 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of 2.8% a year</a:t>
            </a: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2:48:48Z</dcterms:created>
  <dc:creator>mwickham</dc:creator>
  <dc:description/>
  <dc:language>en-US</dc:language>
  <cp:lastModifiedBy>mwickham</cp:lastModifiedBy>
  <dcterms:modified xsi:type="dcterms:W3CDTF">2011-02-28T10:19:26Z</dcterms:modified>
  <cp:revision>194</cp:revision>
  <dc:subject/>
  <dc:title>PowerPoint Presentation</dc:title>
</cp:coreProperties>
</file>