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3.png" ContentType="image/png"/>
  <Override PartName="/ppt/media/image4.png" ContentType="image/png"/>
  <Override PartName="/ppt/media/image12.wmf" ContentType="image/x-wmf"/>
  <Override PartName="/ppt/media/image27.png" ContentType="image/png"/>
  <Override PartName="/ppt/media/image30.wmf" ContentType="image/x-wmf"/>
  <Override PartName="/ppt/media/image28.wmf" ContentType="image/x-wmf"/>
  <Override PartName="/ppt/media/image5.wmf" ContentType="image/x-wmf"/>
  <Override PartName="/ppt/media/image10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6.png" ContentType="image/png"/>
  <Override PartName="/ppt/media/image14.wmf" ContentType="image/x-wmf"/>
  <Override PartName="/ppt/media/image32.wmf" ContentType="image/x-wmf"/>
  <Override PartName="/ppt/media/image29.png" ContentType="image/png"/>
  <Override PartName="/ppt/media/image3.png" ContentType="image/png"/>
  <Override PartName="/ppt/media/image11.wmf" ContentType="image/x-wmf"/>
  <Override PartName="/ppt/media/image9.jpeg" ContentType="image/jpeg"/>
  <Override PartName="/ppt/media/image2.png" ContentType="image/png"/>
  <Override PartName="/ppt/media/image25.png" ContentType="image/png"/>
  <Override PartName="/ppt/media/image31.wmf" ContentType="image/x-wmf"/>
  <Override PartName="/ppt/media/image1.wmf" ContentType="image/x-wmf"/>
  <Override PartName="/ppt/media/image15.png" ContentType="image/png"/>
  <Override PartName="/ppt/media/image22.png" ContentType="image/png"/>
  <Override PartName="/ppt/media/image24.jpeg" ContentType="image/jpeg"/>
  <Override PartName="/ppt/media/image16.png" ContentType="image/png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oundry Form Sans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Foundry Form San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6E5C-06D6-44C9-B84D-BDFECE9CEA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bably worth taking out the first two bubles that come up explaining what unit labour costs are – let me know what you th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674360"/>
            <a:ext cx="873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4020120"/>
            <a:ext cx="873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167436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4080" y="167436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402012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4080" y="402012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1674360"/>
            <a:ext cx="281160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2000" y="1674360"/>
            <a:ext cx="281160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4360" y="1674360"/>
            <a:ext cx="281160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4020120"/>
            <a:ext cx="281160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2000" y="4020120"/>
            <a:ext cx="281160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4360" y="4020120"/>
            <a:ext cx="281160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9280" y="1674360"/>
            <a:ext cx="873288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oundry Form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674360"/>
            <a:ext cx="8732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1674360"/>
            <a:ext cx="426132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4080" y="1674360"/>
            <a:ext cx="426132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8920" y="101160"/>
            <a:ext cx="871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oundry Form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67436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4080" y="1674360"/>
            <a:ext cx="426132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9280" y="402012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1674360"/>
            <a:ext cx="873288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oundry Form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674360"/>
            <a:ext cx="426132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4080" y="167436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4080" y="402012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167436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4080" y="167436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9280" y="4020120"/>
            <a:ext cx="873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674360"/>
            <a:ext cx="873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9280" y="4020120"/>
            <a:ext cx="873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67436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4080" y="167436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9280" y="402012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4080" y="402012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674360"/>
            <a:ext cx="281160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2000" y="1674360"/>
            <a:ext cx="281160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4360" y="1674360"/>
            <a:ext cx="281160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9280" y="4020120"/>
            <a:ext cx="281160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2000" y="4020120"/>
            <a:ext cx="281160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4360" y="4020120"/>
            <a:ext cx="281160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1674360"/>
            <a:ext cx="8732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1674360"/>
            <a:ext cx="426132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4080" y="1674360"/>
            <a:ext cx="426132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8920" y="101160"/>
            <a:ext cx="871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oundry Form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167436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4080" y="1674360"/>
            <a:ext cx="426132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402012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674360"/>
            <a:ext cx="426132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4080" y="167436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4080" y="402012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67436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4080" y="167436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4020120"/>
            <a:ext cx="873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363680"/>
          </a:xfrm>
          <a:prstGeom prst="rect">
            <a:avLst/>
          </a:prstGeom>
          <a:gradFill rotWithShape="0">
            <a:gsLst>
              <a:gs pos="0">
                <a:srgbClr val="262e3c"/>
              </a:gs>
              <a:gs pos="50000">
                <a:srgbClr val="546583"/>
              </a:gs>
              <a:gs pos="100000">
                <a:srgbClr val="262e3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9280" y="1674360"/>
            <a:ext cx="8732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Click to edit the outline text format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1" marL="743040" indent="-285840">
              <a:spcBef>
                <a:spcPts val="700"/>
              </a:spcBef>
              <a:buClr>
                <a:srgbClr val="546583"/>
              </a:buClr>
              <a:buFont typeface="Foundry Form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Second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2" marL="1143000" indent="-228600">
              <a:spcBef>
                <a:spcPts val="700"/>
              </a:spcBef>
              <a:buClr>
                <a:srgbClr val="546583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Third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3" marL="1600200" indent="-228600">
              <a:spcBef>
                <a:spcPts val="700"/>
              </a:spcBef>
              <a:buClr>
                <a:srgbClr val="546583"/>
              </a:buClr>
              <a:buFont typeface="Foundry Form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Fourth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4" marL="2057400" indent="-228600">
              <a:spcBef>
                <a:spcPts val="700"/>
              </a:spcBef>
              <a:buClr>
                <a:srgbClr val="546583"/>
              </a:buClr>
              <a:buFont typeface="Foundry Form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Fifth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5" marL="2057400" indent="-228600">
              <a:spcBef>
                <a:spcPts val="700"/>
              </a:spcBef>
              <a:buClr>
                <a:srgbClr val="021832"/>
              </a:buClr>
              <a:buFont typeface="Foundry Form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Sixth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6" marL="2057400" indent="-228600">
              <a:spcBef>
                <a:spcPts val="700"/>
              </a:spcBef>
              <a:buClr>
                <a:srgbClr val="021832"/>
              </a:buClr>
              <a:buFont typeface="Foundry Form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Seventh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3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gradFill rotWithShape="0">
            <a:gsLst>
              <a:gs pos="0">
                <a:srgbClr val="54658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877080" y="6541920"/>
            <a:ext cx="2046240" cy="20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175212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oundry Form Sans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Foundry Form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1363680"/>
          </a:xfrm>
          <a:prstGeom prst="rect">
            <a:avLst/>
          </a:prstGeom>
          <a:gradFill rotWithShape="0">
            <a:gsLst>
              <a:gs pos="0">
                <a:srgbClr val="262e3c"/>
              </a:gs>
              <a:gs pos="50000">
                <a:srgbClr val="546583"/>
              </a:gs>
              <a:gs pos="100000">
                <a:srgbClr val="262e3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12000" y="558720"/>
            <a:ext cx="2840040" cy="277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undry Form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oundry Form San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Second Outline Level</a:t>
            </a:r>
            <a:endParaRPr b="0" lang="en-US" sz="2400" spc="-1" strike="noStrike">
              <a:solidFill>
                <a:srgbClr val="021832"/>
              </a:solidFill>
              <a:latin typeface="Foundry Form Sans"/>
            </a:endParaRPr>
          </a:p>
          <a:p>
            <a:pPr lvl="2" marL="914400" algn="ctr">
              <a:spcBef>
                <a:spcPts val="499"/>
              </a:spcBef>
              <a:buClr>
                <a:srgbClr val="546583"/>
              </a:buClr>
              <a:buFont typeface="Foundry Form San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1832"/>
                </a:solidFill>
                <a:latin typeface="Foundry Form Sans"/>
              </a:rPr>
              <a:t>Third Outline Level</a:t>
            </a:r>
            <a:endParaRPr b="0" lang="en-US" sz="2000" spc="-1" strike="noStrike">
              <a:solidFill>
                <a:srgbClr val="021832"/>
              </a:solidFill>
              <a:latin typeface="Foundry Form Sans"/>
            </a:endParaRPr>
          </a:p>
          <a:p>
            <a:pPr lvl="3" marL="1371600" algn="ctr">
              <a:spcBef>
                <a:spcPts val="451"/>
              </a:spcBef>
              <a:buClr>
                <a:srgbClr val="546583"/>
              </a:buClr>
              <a:buFont typeface="Foundry Form San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21832"/>
                </a:solidFill>
                <a:latin typeface="Foundry Form Sans"/>
              </a:rPr>
              <a:t>Fourth Outline Level</a:t>
            </a:r>
            <a:endParaRPr b="0" lang="en-US" sz="1800" spc="-1" strike="noStrike">
              <a:solidFill>
                <a:srgbClr val="021832"/>
              </a:solidFill>
              <a:latin typeface="Foundry Form Sans"/>
            </a:endParaRPr>
          </a:p>
          <a:p>
            <a:pPr lvl="4" marL="1828800" algn="ctr">
              <a:spcBef>
                <a:spcPts val="451"/>
              </a:spcBef>
              <a:buClr>
                <a:srgbClr val="546583"/>
              </a:buClr>
              <a:buFont typeface="Foundry Form San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21832"/>
                </a:solidFill>
                <a:latin typeface="Foundry Form Sans"/>
              </a:rPr>
              <a:t>Fifth Outline Level</a:t>
            </a:r>
            <a:endParaRPr b="0" lang="en-US" sz="1800" spc="-1" strike="noStrike">
              <a:solidFill>
                <a:srgbClr val="021832"/>
              </a:solidFill>
              <a:latin typeface="Foundry Form Sans"/>
            </a:endParaRPr>
          </a:p>
          <a:p>
            <a:pPr lvl="5" marL="1828800">
              <a:spcBef>
                <a:spcPts val="451"/>
              </a:spcBef>
              <a:buClr>
                <a:srgbClr val="021832"/>
              </a:buClr>
              <a:buFont typeface="Foundry Form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21832"/>
                </a:solidFill>
                <a:latin typeface="Foundry Form Sans"/>
              </a:rPr>
              <a:t>Sixth Outline Level</a:t>
            </a:r>
            <a:endParaRPr b="0" lang="en-US" sz="1800" spc="-1" strike="noStrike">
              <a:solidFill>
                <a:srgbClr val="021832"/>
              </a:solidFill>
              <a:latin typeface="Foundry Form Sans"/>
            </a:endParaRPr>
          </a:p>
          <a:p>
            <a:pPr lvl="6" marL="1828800">
              <a:spcBef>
                <a:spcPts val="451"/>
              </a:spcBef>
              <a:buClr>
                <a:srgbClr val="021832"/>
              </a:buClr>
              <a:buFont typeface="Foundry Form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21832"/>
                </a:solidFill>
                <a:latin typeface="Foundry Form Sans"/>
              </a:rPr>
              <a:t>Seventh Outline Level</a:t>
            </a:r>
            <a:endParaRPr b="0" lang="en-US" sz="1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6.png"/><Relationship Id="rId4" Type="http://schemas.openxmlformats.org/officeDocument/2006/relationships/image" Target="../media/image10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london.gov.uk/publication/working-paper-44-londons-labour-market-recent-recession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ondon.gov.uk/publication/working-paper-44-londons-labour-market-recent-recession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366920"/>
            <a:ext cx="9144000" cy="54910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oundry Form Sans"/>
              </a:rPr>
              <a:t>A summary explanation of London’s labour market in the recent recession</a:t>
            </a:r>
            <a:r>
              <a:rPr b="1" lang="en-US" sz="4000" spc="-1" strike="noStrike">
                <a:solidFill>
                  <a:srgbClr val="000000"/>
                </a:solidFill>
                <a:latin typeface="Foundry Form Sans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Foundry Form Sans"/>
            </a:endParaRPr>
          </a:p>
        </p:txBody>
      </p:sp>
      <p:sp>
        <p:nvSpPr>
          <p:cNvPr id="90" name=""/>
          <p:cNvSpPr/>
          <p:nvPr/>
        </p:nvSpPr>
        <p:spPr>
          <a:xfrm>
            <a:off x="4932360" y="2781360"/>
            <a:ext cx="4211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undry Form Sans"/>
              </a:rPr>
              <a:t>Analysis by Melisa Wickham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undry Form Sans"/>
              </a:rPr>
              <a:t>Presented by Jonathan Hoffman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-100080"/>
            <a:ext cx="738036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undry Form Sans"/>
              </a:rPr>
              <a:t>And like the UK, the </a:t>
            </a: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claimant count</a:t>
            </a:r>
            <a:r>
              <a:rPr b="0" lang="en-US" sz="2800" spc="-1" strike="noStrike">
                <a:solidFill>
                  <a:srgbClr val="ffffff"/>
                </a:solidFill>
                <a:latin typeface="Foundry Form Sans"/>
              </a:rPr>
              <a:t> has not risen as much in the 2008 recession as it did in the 1990s and 1980s recessions:</a:t>
            </a:r>
            <a:endParaRPr b="1" lang="en-US" sz="28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139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"/>
          <p:cNvGraphicFramePr/>
          <p:nvPr/>
        </p:nvGraphicFramePr>
        <p:xfrm>
          <a:off x="0" y="1773360"/>
          <a:ext cx="8912160" cy="485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73360"/>
                    <a:ext cx="891216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0" y="6165720"/>
            <a:ext cx="29876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21832"/>
                </a:solidFill>
                <a:latin typeface="Foundry Form Sans"/>
              </a:rPr>
              <a:t>Note: Claimant count denominator = claimant count + WFJ</a:t>
            </a:r>
            <a:endParaRPr b="0" lang="en-US" sz="14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21832"/>
                </a:solidFill>
                <a:latin typeface="Foundry Form Sans"/>
              </a:rPr>
              <a:t>Source: ONS </a:t>
            </a:r>
            <a:endParaRPr b="0" lang="en-US" sz="14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24360" y="2492280"/>
            <a:ext cx="0" cy="3168720"/>
          </a:xfrm>
          <a:prstGeom prst="line">
            <a:avLst/>
          </a:prstGeom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3860640"/>
            <a:ext cx="3600720" cy="1729080"/>
          </a:xfrm>
          <a:prstGeom prst="wedgeEllipseCallout">
            <a:avLst>
              <a:gd name="adj1" fmla="val -69666"/>
              <a:gd name="adj2" fmla="val -7574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1832"/>
                </a:solidFill>
                <a:latin typeface="Foundry Form Sans"/>
              </a:rPr>
              <a:t>The claimant count rate in London has risen by 1.7 percentage points so far in this recession</a:t>
            </a:r>
            <a:endParaRPr b="0" lang="en-US" sz="20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4005360"/>
            <a:ext cx="3960720" cy="1439640"/>
          </a:xfrm>
          <a:prstGeom prst="wedgeEllipseCallout">
            <a:avLst>
              <a:gd name="adj1" fmla="val -50282"/>
              <a:gd name="adj2" fmla="val -74699"/>
            </a:avLst>
          </a:prstGeom>
          <a:solidFill>
            <a:srgbClr val="99ccff">
              <a:alpha val="50000"/>
            </a:srgbClr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And by 4.1 percentage points in the 1980s recession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24360" y="3716280"/>
            <a:ext cx="3816360" cy="1944720"/>
          </a:xfrm>
          <a:prstGeom prst="wedgeEllipseCallout">
            <a:avLst>
              <a:gd name="adj1" fmla="val -49375"/>
              <a:gd name="adj2" fmla="val -103467"/>
            </a:avLst>
          </a:prstGeom>
          <a:solidFill>
            <a:srgbClr val="ccffcc">
              <a:alpha val="50000"/>
            </a:srgbClr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But by the same time in the 1990s it had risen by 6.5 percentage points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9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9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45164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Employee jobs</a:t>
            </a:r>
            <a:r>
              <a:rPr b="0" lang="en-US" sz="2800" spc="-1" strike="noStrike">
                <a:solidFill>
                  <a:srgbClr val="ffffff"/>
                </a:solidFill>
                <a:latin typeface="Foundry Form Sans"/>
              </a:rPr>
              <a:t> have also not fallen by as much in the 2008 recession as they did in the 1990s recession:</a:t>
            </a:r>
            <a:endParaRPr b="1" lang="en-US" sz="28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139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"/>
          <p:cNvGraphicFramePr/>
          <p:nvPr/>
        </p:nvGraphicFramePr>
        <p:xfrm>
          <a:off x="206280" y="1628640"/>
          <a:ext cx="8937720" cy="489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6280" y="1628640"/>
                    <a:ext cx="8937720" cy="48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0" y="638172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21832"/>
                </a:solidFill>
                <a:latin typeface="Foundry Form Sans"/>
              </a:rPr>
              <a:t>Source: WFJ, Nomis</a:t>
            </a:r>
            <a:endParaRPr b="0" lang="en-US" sz="1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16720" y="2492280"/>
            <a:ext cx="0" cy="2881440"/>
          </a:xfrm>
          <a:prstGeom prst="line">
            <a:avLst/>
          </a:prstGeom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67280" y="1341360"/>
            <a:ext cx="3168720" cy="1871640"/>
          </a:xfrm>
          <a:prstGeom prst="wedgeEllipseCallout">
            <a:avLst>
              <a:gd name="adj1" fmla="val -29157"/>
              <a:gd name="adj2" fmla="val 155768"/>
            </a:avLst>
          </a:prstGeom>
          <a:solidFill>
            <a:srgbClr val="ccffcc"/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But by the same time fell by 11.1% in the 1990s recession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1628640"/>
            <a:ext cx="3168720" cy="1368720"/>
          </a:xfrm>
          <a:prstGeom prst="wedgeEllipseCallout">
            <a:avLst>
              <a:gd name="adj1" fmla="val -29060"/>
              <a:gd name="adj2" fmla="val 94546"/>
            </a:avLst>
          </a:prstGeom>
          <a:solidFill>
            <a:srgbClr val="ff0000"/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Has fallen by 3.5% so far in this recession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500"/>
                            </p:stCondLst>
                            <p:childTnLst>
                              <p:par>
                                <p:cTn id="4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3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Background summary: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0" y="1413000"/>
          <a:ext cx="9035640" cy="4354560"/>
        </p:xfrm>
        <a:graphic>
          <a:graphicData uri="http://schemas.openxmlformats.org/drawingml/2006/table">
            <a:tbl>
              <a:tblPr/>
              <a:tblGrid>
                <a:gridCol w="4425480"/>
                <a:gridCol w="1698120"/>
                <a:gridCol w="1457640"/>
                <a:gridCol w="145440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13680">
                      <a:solidFill>
                        <a:srgbClr val="ff33cc"/>
                      </a:solidFill>
                    </a:lnT>
                    <a:lnB w="13680">
                      <a:solidFill>
                        <a:srgbClr val="ff33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London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13680">
                      <a:solidFill>
                        <a:srgbClr val="ff33cc"/>
                      </a:solidFill>
                    </a:lnT>
                    <a:lnB w="1368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UK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13680">
                      <a:solidFill>
                        <a:srgbClr val="ff33cc"/>
                      </a:solidFill>
                    </a:lnR>
                    <a:lnT w="13680">
                      <a:solidFill>
                        <a:srgbClr val="ff33cc"/>
                      </a:solidFill>
                    </a:lnT>
                    <a:lnB w="13680">
                      <a:solidFill>
                        <a:srgbClr val="ff33cc"/>
                      </a:solidFill>
                    </a:lnB>
                    <a:noFill/>
                  </a:tcPr>
                </a:tc>
              </a:tr>
              <a:tr h="337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Peak-to-trough output decline (%)</a:t>
                      </a:r>
                      <a:r>
                        <a:rPr b="0" lang="en-US" sz="1600" spc="-1" strike="noStrike" baseline="30000">
                          <a:solidFill>
                            <a:srgbClr val="021832"/>
                          </a:solidFill>
                          <a:latin typeface="Foundry Form Sans"/>
                        </a:rPr>
                        <a:t>1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13680">
                      <a:solidFill>
                        <a:srgbClr val="ff33cc"/>
                      </a:solidFill>
                    </a:lnT>
                    <a:lnB w="1368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1368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6.1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1368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6.4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13680">
                      <a:solidFill>
                        <a:srgbClr val="ff33cc"/>
                      </a:solidFill>
                    </a:lnR>
                    <a:lnT w="1368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1990s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6.2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2.5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1368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1980s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1368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-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1368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4.6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1368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13680">
                      <a:solidFill>
                        <a:srgbClr val="ff33cc"/>
                      </a:solidFill>
                    </a:lnB>
                    <a:noFill/>
                  </a:tcPr>
                </a:tc>
              </a:tr>
              <a:tr h="337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Constant annual growth rate (over peak-to-trough period) (%) </a:t>
                      </a:r>
                      <a:r>
                        <a:rPr b="0" lang="en-US" sz="1600" spc="-1" strike="noStrike" baseline="30000">
                          <a:solidFill>
                            <a:srgbClr val="021832"/>
                          </a:solidFill>
                          <a:latin typeface="Foundry Form Sans"/>
                        </a:rPr>
                        <a:t>1 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13680">
                      <a:solidFill>
                        <a:srgbClr val="ff33cc"/>
                      </a:solidFill>
                    </a:lnT>
                    <a:lnB w="1368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1368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-4.1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1368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-4.3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13680">
                      <a:solidFill>
                        <a:srgbClr val="ff33cc"/>
                      </a:solidFill>
                    </a:lnR>
                    <a:lnT w="1368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1990s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-2.8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-2.0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1368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1980s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1368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-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1368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-3.7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1368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13680">
                      <a:solidFill>
                        <a:srgbClr val="ff33cc"/>
                      </a:solidFill>
                    </a:lnB>
                    <a:noFill/>
                  </a:tcPr>
                </a:tc>
              </a:tr>
              <a:tr h="337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Percentage point change in claimant count rate</a:t>
                      </a:r>
                      <a:r>
                        <a:rPr b="0" lang="en-US" sz="1600" spc="-1" strike="noStrike" baseline="30000">
                          <a:solidFill>
                            <a:srgbClr val="021832"/>
                          </a:solidFill>
                          <a:latin typeface="Foundry Form Sans"/>
                        </a:rPr>
                        <a:t>2 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13680">
                      <a:solidFill>
                        <a:srgbClr val="ff33cc"/>
                      </a:solidFill>
                    </a:lnT>
                    <a:lnB w="1368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1368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1.7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1368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2.1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13680">
                      <a:solidFill>
                        <a:srgbClr val="ff33cc"/>
                      </a:solidFill>
                    </a:lnR>
                    <a:lnT w="1368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1990s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6.5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4.7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1368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1980s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1368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4.1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1368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5.4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1368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13680">
                      <a:solidFill>
                        <a:srgbClr val="ff33cc"/>
                      </a:solidFill>
                    </a:lnB>
                    <a:noFill/>
                  </a:tcPr>
                </a:tc>
              </a:tr>
              <a:tr h="337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Change in employee jobs numbers (%)</a:t>
                      </a:r>
                      <a:r>
                        <a:rPr b="0" lang="en-US" sz="1600" spc="-1" strike="noStrike" baseline="30000">
                          <a:solidFill>
                            <a:srgbClr val="021832"/>
                          </a:solidFill>
                          <a:latin typeface="Foundry Form Sans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 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13680">
                      <a:solidFill>
                        <a:srgbClr val="ff33cc"/>
                      </a:solidFill>
                    </a:lnT>
                    <a:lnB w="1368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1368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-3.5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1368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-4.3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13680">
                      <a:solidFill>
                        <a:srgbClr val="ff33cc"/>
                      </a:solidFill>
                    </a:lnR>
                    <a:lnT w="1368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1990s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-11.1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-6.1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1368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1980s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1368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-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1368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-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1368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13680">
                      <a:solidFill>
                        <a:srgbClr val="ff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0" y="5877000"/>
            <a:ext cx="4537080" cy="70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23c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 baseline="30000">
                <a:solidFill>
                  <a:srgbClr val="021832"/>
                </a:solidFill>
                <a:latin typeface="Foundry Form Sans"/>
              </a:rPr>
              <a:t>1</a:t>
            </a:r>
            <a:r>
              <a:rPr b="0" i="1" lang="en-US" sz="1000" spc="-1" strike="noStrike">
                <a:solidFill>
                  <a:srgbClr val="021832"/>
                </a:solidFill>
                <a:latin typeface="Foundry Form Sans"/>
              </a:rPr>
              <a:t> London figures are derived from Experian’s regional GVA estimates. UK figures are derived from ONS GDP estimates.</a:t>
            </a:r>
            <a:endParaRPr b="0" lang="en-US" sz="10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 baseline="30000">
                <a:solidFill>
                  <a:srgbClr val="021832"/>
                </a:solidFill>
                <a:latin typeface="Foundry Form Sans"/>
              </a:rPr>
              <a:t>2</a:t>
            </a:r>
            <a:r>
              <a:rPr b="0" i="1" lang="en-US" sz="1000" spc="-1" strike="noStrike">
                <a:solidFill>
                  <a:srgbClr val="021832"/>
                </a:solidFill>
                <a:latin typeface="Foundry Form Sans"/>
              </a:rPr>
              <a:t> From UK output peak to eleven quarters after.</a:t>
            </a:r>
            <a:endParaRPr b="0" lang="en-US" sz="10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 baseline="30000">
                <a:solidFill>
                  <a:srgbClr val="021832"/>
                </a:solidFill>
                <a:latin typeface="Foundry Form Sans"/>
              </a:rPr>
              <a:t>3</a:t>
            </a:r>
            <a:r>
              <a:rPr b="0" i="1" lang="en-US" sz="1000" spc="-1" strike="noStrike">
                <a:solidFill>
                  <a:srgbClr val="021832"/>
                </a:solidFill>
                <a:latin typeface="Foundry Form Sans"/>
              </a:rPr>
              <a:t> For UK output peak to ten quarters after. </a:t>
            </a:r>
            <a:endParaRPr b="0" lang="en-US" sz="10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2781000"/>
            <a:ext cx="28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Foundry Form Sans"/>
              </a:rPr>
              <a:t>Why?</a:t>
            </a:r>
            <a:endParaRPr b="1" lang="en-US" sz="48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763640" y="1052640"/>
            <a:ext cx="5310360" cy="53989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79280" y="101520"/>
            <a:ext cx="871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Foundry Form Sans"/>
              </a:rPr>
              <a:t>Why?</a:t>
            </a:r>
            <a:endParaRPr b="0" lang="en-US" sz="48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oundry Form Sans"/>
              </a:rPr>
              <a:t>Summary of analysis of possible explanations:</a:t>
            </a:r>
            <a:endParaRPr b="1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24000" y="1413000"/>
          <a:ext cx="7772400" cy="4771800"/>
        </p:xfrm>
        <a:graphic>
          <a:graphicData uri="http://schemas.openxmlformats.org/drawingml/2006/table">
            <a:tbl>
              <a:tblPr/>
              <a:tblGrid>
                <a:gridCol w="2083680"/>
                <a:gridCol w="216000"/>
                <a:gridCol w="216000"/>
                <a:gridCol w="216000"/>
                <a:gridCol w="1528200"/>
                <a:gridCol w="216000"/>
                <a:gridCol w="216000"/>
                <a:gridCol w="216000"/>
                <a:gridCol w="216000"/>
                <a:gridCol w="2648520"/>
              </a:tblGrid>
              <a:tr h="136476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21832"/>
                          </a:solidFill>
                          <a:latin typeface="Arial"/>
                          <a:ea typeface="Arial"/>
                        </a:rPr>
                        <a:t>Possible explanations</a:t>
                      </a:r>
                      <a:endParaRPr b="0" lang="en-US" sz="18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21832"/>
                          </a:solidFill>
                          <a:latin typeface="Arial"/>
                          <a:ea typeface="Arial"/>
                        </a:rPr>
                        <a:t>Likely contribution to labour market strength during the 2008 recession so far</a:t>
                      </a:r>
                      <a:endParaRPr b="0" lang="en-US" sz="18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1832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1832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1832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1832"/>
                          </a:solidFill>
                          <a:latin typeface="Arial"/>
                          <a:ea typeface="Arial"/>
                        </a:rPr>
                        <a:t>1. Reduction in relative wages</a:t>
                      </a:r>
                      <a:endParaRPr b="0" lang="en-US" sz="18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1832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1832"/>
                          </a:solidFill>
                          <a:latin typeface="Arial"/>
                          <a:ea typeface="Arial"/>
                        </a:rPr>
                        <a:t>2. Strong corporate profitability and low                rate of business failures </a:t>
                      </a:r>
                      <a:endParaRPr b="0" lang="en-US" sz="18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1832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36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1832"/>
                          </a:solidFill>
                          <a:latin typeface="Arial"/>
                          <a:ea typeface="Arial"/>
                        </a:rPr>
                        <a:t>3. Growth in the public sector</a:t>
                      </a:r>
                      <a:endParaRPr b="0" lang="en-US" sz="18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1832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36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1832"/>
                          </a:solidFill>
                          <a:latin typeface="Arial"/>
                          <a:ea typeface="Arial"/>
                        </a:rPr>
                        <a:t>4. Labour market structural change</a:t>
                      </a:r>
                      <a:endParaRPr b="0" lang="en-US" sz="18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1832"/>
                          </a:solidFill>
                          <a:latin typeface="Arial"/>
                          <a:ea typeface="Arial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80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1832"/>
                          </a:solidFill>
                          <a:latin typeface="Arial"/>
                          <a:ea typeface="Arial"/>
                        </a:rPr>
                        <a:t>5. Reduction in working hours</a:t>
                      </a:r>
                      <a:endParaRPr b="0" lang="en-US" sz="18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1832"/>
                          </a:solidFill>
                          <a:latin typeface="Arial"/>
                          <a:ea typeface="Arial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36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1832"/>
                          </a:solidFill>
                          <a:latin typeface="Arial"/>
                          <a:ea typeface="Arial"/>
                        </a:rPr>
                        <a:t>6. Less economic structural change</a:t>
                      </a:r>
                      <a:endParaRPr b="0" lang="en-US" sz="18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1832"/>
                          </a:solidFill>
                          <a:latin typeface="Arial"/>
                          <a:ea typeface="Arial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1832"/>
                          </a:solidFill>
                          <a:latin typeface="Arial"/>
                          <a:ea typeface="Arial"/>
                        </a:rPr>
                        <a:t>7. Measurement error</a:t>
                      </a:r>
                      <a:endParaRPr b="0" lang="en-US" sz="18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1832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18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68360" y="1730520"/>
            <a:ext cx="4319640" cy="4198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427640" y="3948120"/>
            <a:ext cx="2952720" cy="16621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219640" y="1773360"/>
            <a:ext cx="3313080" cy="19227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Have workers accepted larger pay cuts/smaller pay rises to reduce their risks of unemployment?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2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Foundry Form Sans"/>
              </a:rPr>
              <a:t>Reduction in relative wages</a:t>
            </a:r>
            <a:endParaRPr b="1" lang="en-US" sz="4800" spc="-1" strike="noStrike">
              <a:solidFill>
                <a:srgbClr val="ffffff"/>
              </a:solidFill>
              <a:latin typeface="Foundry Form Sans"/>
            </a:endParaRPr>
          </a:p>
        </p:txBody>
      </p:sp>
    </p:spTree>
  </p:cSld>
  <p:transition>
    <p:random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108000" y="1484280"/>
          <a:ext cx="8458200" cy="50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484280"/>
                    <a:ext cx="8458200" cy="50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09420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Foundry Form Sans"/>
              </a:rPr>
              <a:t>Reduction in relative wages</a:t>
            </a:r>
            <a:endParaRPr b="1" lang="en-US" sz="1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75" name=""/>
          <p:cNvSpPr/>
          <p:nvPr/>
        </p:nvSpPr>
        <p:spPr>
          <a:xfrm>
            <a:off x="5688000" y="1413000"/>
            <a:ext cx="3456000" cy="1584360"/>
          </a:xfrm>
          <a:prstGeom prst="wedgeRoundRectCallout">
            <a:avLst>
              <a:gd name="adj1" fmla="val -38791"/>
              <a:gd name="adj2" fmla="val 83064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21832"/>
                </a:solidFill>
                <a:latin typeface="Foundry Form Sans"/>
              </a:rPr>
              <a:t>Compared to the 1980s and 1990s recessions it does not seem that wages in the UK have fallen sufficiently to compensate for lower firm output.</a:t>
            </a:r>
            <a:endParaRPr b="0" lang="en-US" sz="1800" spc="-1" strike="noStrike">
              <a:solidFill>
                <a:srgbClr val="021832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7740720" y="0"/>
            <a:ext cx="1403280" cy="14032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0" y="6340320"/>
            <a:ext cx="356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21832"/>
                </a:solidFill>
                <a:latin typeface="Foundry Form Sans"/>
              </a:rPr>
              <a:t>Source: ONS (ROYJ, MGRN, MGRZ, ABML), GLA Economics calculation</a:t>
            </a:r>
            <a:endParaRPr b="0" lang="en-US" sz="1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12000" y="2997360"/>
            <a:ext cx="0" cy="2592360"/>
          </a:xfrm>
          <a:prstGeom prst="line">
            <a:avLst/>
          </a:prstGeom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1341360"/>
            <a:ext cx="3059280" cy="57492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However……….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68360" y="2349360"/>
          <a:ext cx="8499600" cy="370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49360"/>
                    <a:ext cx="8499600" cy="37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7812000" y="6093000"/>
            <a:ext cx="13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21832"/>
                </a:solidFill>
                <a:latin typeface="Times New Roman"/>
              </a:rPr>
              <a:t>Source: IMF</a:t>
            </a:r>
            <a:endParaRPr b="0" lang="en-US" sz="1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09420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Foundry Form Sans"/>
              </a:rPr>
              <a:t>Reduction in relative wages</a:t>
            </a:r>
            <a:endParaRPr b="1" lang="en-US" sz="1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1332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19280" y="2492280"/>
            <a:ext cx="6694560" cy="259236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Looking forward, slow employment growth during 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the recovery should minimise pressure on wage rises 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in the UK. However, Sterling is unlikely to fall 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much further, so further falls in the relative unit 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labour costs in the UK seem unlikely.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3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oundry Form Sans"/>
              </a:rPr>
              <a:t>Strong corporate profitability and low rate of business failures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543640" cy="462456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3723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Foundry Form Sans"/>
              </a:rPr>
              <a:t>Strong corporate profitability and low rate of business failures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Foundry Form Sans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2060640"/>
          <a:ext cx="896616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60640"/>
                    <a:ext cx="896616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 flipV="1">
            <a:off x="1403280" y="2349360"/>
            <a:ext cx="0" cy="3456000"/>
          </a:xfrm>
          <a:prstGeom prst="line">
            <a:avLst/>
          </a:prstGeom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7956720" y="2349360"/>
            <a:ext cx="0" cy="3456000"/>
          </a:xfrm>
          <a:prstGeom prst="line">
            <a:avLst/>
          </a:prstGeom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42920" y="1773360"/>
            <a:ext cx="72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21832"/>
                </a:solidFill>
                <a:latin typeface="Foundry Form Sans"/>
              </a:rPr>
              <a:t>1990s peak</a:t>
            </a:r>
            <a:endParaRPr b="0" lang="en-US" sz="16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96360" y="177336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21832"/>
                </a:solidFill>
                <a:latin typeface="Foundry Form Sans"/>
              </a:rPr>
              <a:t>2008 peak</a:t>
            </a:r>
            <a:endParaRPr b="0" lang="en-US" sz="16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6553080"/>
            <a:ext cx="356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21832"/>
                </a:solidFill>
                <a:latin typeface="Foundry Form Sans"/>
              </a:rPr>
              <a:t>Source: PSNFC net rate of return (%, SA), ONS</a:t>
            </a:r>
            <a:endParaRPr b="0" lang="en-US" sz="1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55640" y="3716280"/>
            <a:ext cx="719280" cy="1224000"/>
          </a:xfrm>
          <a:prstGeom prst="ellipse">
            <a:avLst/>
          </a:prstGeom>
          <a:noFill/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236000" y="2421000"/>
            <a:ext cx="718920" cy="1224000"/>
          </a:xfrm>
          <a:prstGeom prst="ellipse">
            <a:avLst/>
          </a:prstGeom>
          <a:noFill/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18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What the summary covers: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5816520" cy="5183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11280" y="1773360"/>
            <a:ext cx="7561080" cy="48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Foundry Form Sans"/>
              </a:rPr>
              <a:t>Background:</a:t>
            </a:r>
            <a:endParaRPr b="0" lang="en-US" sz="28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undry Form Sans"/>
              </a:rPr>
              <a:t>How does the economy in the recent recession, in the UK and London, compare to that in the 1990s and 1980s recessions?</a:t>
            </a:r>
            <a:endParaRPr b="0" lang="en-US" sz="28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undry Form Sans"/>
              </a:rPr>
              <a:t>How has GDP/GVA moved?</a:t>
            </a:r>
            <a:endParaRPr b="0" lang="en-US" sz="2800" spc="-1" strike="noStrike">
              <a:solidFill>
                <a:srgbClr val="02183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undry Form Sans"/>
              </a:rPr>
              <a:t>How has unemployment and employment moved?</a:t>
            </a:r>
            <a:endParaRPr b="0" lang="en-US" sz="28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7280" y="2060640"/>
            <a:ext cx="66596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Foundry Form Sans"/>
              </a:rPr>
              <a:t>Possible explanations: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undry Form Sans"/>
              </a:rPr>
              <a:t>Why has the labour market in the UK and London been more resilient  during the recent recession so far? 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1773360"/>
            <a:ext cx="763272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Foundry Form Sans"/>
              </a:rPr>
              <a:t>Looking forward</a:t>
            </a:r>
            <a:r>
              <a:rPr b="1" lang="en-US" sz="2800" spc="-1" strike="noStrike">
                <a:solidFill>
                  <a:srgbClr val="ffffff"/>
                </a:solidFill>
                <a:latin typeface="Foundry Form Sans"/>
              </a:rPr>
              <a:t>:</a:t>
            </a:r>
            <a:endParaRPr b="0" lang="en-US" sz="2800" spc="-1" strike="noStrike">
              <a:solidFill>
                <a:srgbClr val="02183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Foundry Form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undry Form Sans"/>
              </a:rPr>
              <a:t>How might the factors that have supported the labour market thus far change going forward?</a:t>
            </a:r>
            <a:endParaRPr b="0" lang="en-US" sz="2800" spc="-1" strike="noStrike">
              <a:solidFill>
                <a:srgbClr val="02183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Foundry Form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undry Form Sans"/>
              </a:rPr>
              <a:t>How might this make the recovery from the recent recession different from the recovery in the 1990s and 1980s recessions?</a:t>
            </a:r>
            <a:endParaRPr b="0" lang="en-US" sz="28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6300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Foundry Form Sans"/>
              </a:rPr>
              <a:t>Strong corporate profitability and low rate of business failures</a:t>
            </a:r>
            <a:br>
              <a:rPr sz="1600"/>
            </a:br>
            <a:endParaRPr b="0" lang="en-US" sz="1600" spc="-1" strike="noStrike">
              <a:solidFill>
                <a:srgbClr val="021832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8136000" cy="41907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724360" y="2060640"/>
            <a:ext cx="2951280" cy="6951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8101080" y="2565360"/>
            <a:ext cx="574560" cy="6685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547640" y="5950080"/>
            <a:ext cx="759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21832"/>
                </a:solidFill>
                <a:latin typeface="Foundry Form Sans"/>
              </a:rPr>
              <a:t>Note: Historic business failures are based on data for compulsory liquidations, creditors’ voluntary liquidations, administrative receiverships, administrative orders and company voluntary arrangements from The Insolvency Service</a:t>
            </a:r>
            <a:endParaRPr b="0" lang="en-US" sz="1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83664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undry Form Sans"/>
              </a:rPr>
              <a:t>Actual business failures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47640" y="3500280"/>
            <a:ext cx="93672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1980</a:t>
            </a:r>
            <a:r>
              <a:rPr b="0" lang="en-US" sz="2400" spc="-1" strike="noStrike">
                <a:solidFill>
                  <a:srgbClr val="021832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48000" y="2781360"/>
            <a:ext cx="936720" cy="64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1990s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948360" y="2852640"/>
            <a:ext cx="115272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2008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03280" y="1413000"/>
            <a:ext cx="7129440" cy="107928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Compared to the rise in the 1980s and 1990s recessions 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and given the fall in GDP, the rise in company  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liquidations has been modest during the 2008 recession.</a:t>
            </a:r>
            <a:r>
              <a:rPr b="0" lang="en-US" sz="2400" spc="-1" strike="noStrike">
                <a:solidFill>
                  <a:srgbClr val="02183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24000" y="2565360"/>
            <a:ext cx="5184720" cy="1937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798d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Contributing factors: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21832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Bank of England’s monetary policy, and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21832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Government policy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5280" y="2492280"/>
            <a:ext cx="849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2133720"/>
            <a:ext cx="8497800" cy="2338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Looking forward: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1832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Government support is gradually being withdrawn and this could make future liquidations a risk, however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1832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1832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Forecast low real interest rates in the near term should continue to support business survival.</a:t>
            </a:r>
            <a:r>
              <a:rPr b="0" lang="en-US" sz="2400" spc="-1" strike="noStrike">
                <a:solidFill>
                  <a:srgbClr val="02183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1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500"/>
                            </p:stCondLst>
                            <p:childTnLst>
                              <p:par>
                                <p:cTn id="65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9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1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4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6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9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1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4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000"/>
                            </p:stCondLst>
                            <p:childTnLst>
                              <p:par>
                                <p:cTn id="68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1500"/>
                            </p:stCondLst>
                            <p:childTnLst>
                              <p:par>
                                <p:cTn id="69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000"/>
                            </p:stCondLst>
                            <p:childTnLst>
                              <p:par>
                                <p:cTn id="70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2500"/>
                            </p:stCondLst>
                            <p:childTnLst>
                              <p:par>
                                <p:cTn id="71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114480" y="1441440"/>
          <a:ext cx="8924760" cy="479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1441440"/>
                    <a:ext cx="8924760" cy="47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0" y="1413000"/>
            <a:ext cx="4249800" cy="1618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1832"/>
                </a:solidFill>
                <a:latin typeface="Foundry Form Sans"/>
              </a:rPr>
              <a:t>Exclude jobs in public administration, defence, education, health and social work from the total number of jobs in the economy…….. </a:t>
            </a:r>
            <a:endParaRPr b="0" lang="en-US" sz="2000" spc="-1" strike="noStrike">
              <a:solidFill>
                <a:srgbClr val="021832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7740720" y="0"/>
            <a:ext cx="1403280" cy="14032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0" y="0"/>
            <a:ext cx="31687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Foundry Form Sans"/>
              </a:rPr>
              <a:t>Growth in public sector</a:t>
            </a:r>
            <a:endParaRPr b="0" lang="en-US" sz="16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616572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21832"/>
                </a:solidFill>
                <a:latin typeface="Foundry Form Sans"/>
              </a:rPr>
              <a:t>Source: Workforce Jobs, ONS</a:t>
            </a:r>
            <a:endParaRPr b="0" lang="en-US" sz="14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6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2500"/>
                            </p:stCondLst>
                            <p:childTnLst>
                              <p:par>
                                <p:cTn id="7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3500"/>
                            </p:stCondLst>
                            <p:childTnLst>
                              <p:par>
                                <p:cTn id="7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4500"/>
                            </p:stCondLst>
                            <p:childTnLst>
                              <p:par>
                                <p:cTn id="7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343080" y="1744560"/>
          <a:ext cx="8800920" cy="43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1744560"/>
                    <a:ext cx="8800920" cy="43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1687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Foundry Form Sans"/>
              </a:rPr>
              <a:t>Growth in public sector</a:t>
            </a:r>
            <a:endParaRPr b="1" lang="en-US" sz="1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7740720" y="0"/>
            <a:ext cx="1403280" cy="14032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7812000" y="0"/>
            <a:ext cx="1332000" cy="13986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211640" y="0"/>
            <a:ext cx="3456000" cy="2349360"/>
          </a:xfrm>
          <a:prstGeom prst="wedgeEllipseCallout">
            <a:avLst>
              <a:gd name="adj1" fmla="val -59828"/>
              <a:gd name="adj2" fmla="val 63175"/>
            </a:avLst>
          </a:prstGeom>
          <a:solidFill>
            <a:srgbClr val="ffcc99">
              <a:alpha val="80000"/>
            </a:srgbClr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21832"/>
                </a:solidFill>
                <a:latin typeface="Foundry Form Sans"/>
              </a:rPr>
              <a:t>Around 25% of the public sector employment increase between 2008 and 2010 was in London. Around 40% of this is due to the reclassification of financial institutions into the public sector</a:t>
            </a:r>
            <a:endParaRPr b="0" lang="en-US" sz="16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24360" y="0"/>
            <a:ext cx="3816360" cy="1944720"/>
          </a:xfrm>
          <a:prstGeom prst="wedgeEllipseCallout">
            <a:avLst>
              <a:gd name="adj1" fmla="val -51375"/>
              <a:gd name="adj2" fmla="val 145185"/>
            </a:avLst>
          </a:prstGeom>
          <a:solidFill>
            <a:srgbClr val="ffccff">
              <a:alpha val="80000"/>
            </a:srgbClr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21832"/>
                </a:solidFill>
                <a:latin typeface="Foundry Form Sans"/>
              </a:rPr>
              <a:t>However, a lot of this increase is due to the incorporation of financial institutions (e.g. Lloyds) into the public sector</a:t>
            </a:r>
            <a:endParaRPr b="0" lang="en-US" sz="18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92360" y="5877000"/>
            <a:ext cx="54007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21832"/>
                </a:solidFill>
                <a:latin typeface="Foundry Form Sans"/>
              </a:rPr>
              <a:t>Note: ‘Other public sector’ includes financial corporations. In the timeframe above, RBoS and Lloyds were included in the 3</a:t>
            </a:r>
            <a:r>
              <a:rPr b="0" i="1" lang="en-GB" sz="1200" spc="-1" strike="noStrike" baseline="30000">
                <a:solidFill>
                  <a:srgbClr val="021832"/>
                </a:solidFill>
                <a:latin typeface="Foundry Form Sans"/>
              </a:rPr>
              <a:t>rd</a:t>
            </a:r>
            <a:r>
              <a:rPr b="0" i="1" lang="en-GB" sz="1200" spc="-1" strike="noStrike">
                <a:solidFill>
                  <a:srgbClr val="021832"/>
                </a:solidFill>
                <a:latin typeface="Foundry Form Sans"/>
              </a:rPr>
              <a:t> quarter from UK output peak (2008 Q4). Northern Rock was included prior to the GDP peak.</a:t>
            </a:r>
            <a:endParaRPr b="0" lang="en-US" sz="12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21832"/>
                </a:solidFill>
                <a:latin typeface="Foundry Form Sans"/>
              </a:rPr>
              <a:t>Source: ONS</a:t>
            </a:r>
            <a:endParaRPr b="0" lang="en-US" sz="12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771640" y="2788560"/>
            <a:ext cx="3959280" cy="168444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21832"/>
                </a:solidFill>
                <a:latin typeface="Foundry Form Sans"/>
              </a:rPr>
              <a:t>Looking specifically at public sector employment in the 2008 recession:</a:t>
            </a:r>
            <a:endParaRPr b="0" lang="en-US" sz="18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32360" y="1268280"/>
            <a:ext cx="2808360" cy="1152720"/>
          </a:xfrm>
          <a:prstGeom prst="wedgeEllipseCallout">
            <a:avLst>
              <a:gd name="adj1" fmla="val -89231"/>
              <a:gd name="adj2" fmla="val 73004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21832"/>
                </a:solidFill>
                <a:latin typeface="Foundry Form Sans"/>
              </a:rPr>
              <a:t>There has been a large rise since the recession</a:t>
            </a:r>
            <a:endParaRPr b="0" lang="en-US" sz="18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6920" y="2276640"/>
            <a:ext cx="7777440" cy="2303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Looking forward, the OBR estimates that public sector employment will  fall by around 400,000 by 2015/16. This means that public sector employment will contract at a similar compound rate over the next 5 years as the private sector experienced between 2008 and 2010.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3941 -0.04187 L -0.31893 -0.39856 E">
                                      <p:cBhvr>
                                        <p:cTn id="767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3000"/>
                            </p:stCondLst>
                            <p:childTnLst>
                              <p:par>
                                <p:cTn id="7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3500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3500"/>
                            </p:stCondLst>
                            <p:childTnLst>
                              <p:par>
                                <p:cTn id="7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7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8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500"/>
                            </p:stCondLst>
                            <p:childTnLst>
                              <p:par>
                                <p:cTn id="8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7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1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5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500"/>
                            </p:stCondLst>
                            <p:childTnLst>
                              <p:par>
                                <p:cTn id="83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7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oundry Form Sans"/>
              </a:rPr>
              <a:t>Factors that are likely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Foundry Form Sans"/>
              </a:rPr>
              <a:t>support</a:t>
            </a:r>
            <a:r>
              <a:rPr b="1" lang="en-US" sz="3200" spc="-1" strike="noStrike">
                <a:solidFill>
                  <a:srgbClr val="ffffff"/>
                </a:solidFill>
                <a:latin typeface="Foundry Form Sans"/>
              </a:rPr>
              <a:t> the labour market further as the economy grows:</a:t>
            </a:r>
            <a:endParaRPr b="1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87280" y="1557360"/>
            <a:ext cx="8856720" cy="4397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900000" y="1773360"/>
            <a:ext cx="5040360" cy="2808000"/>
          </a:xfrm>
          <a:prstGeom prst="ellipse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21832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1832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Reduced relative wages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1832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Strong corporate profitability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and low business failures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1832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Lower economic structural 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change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0920" y="115920"/>
            <a:ext cx="871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Looking forward summary</a:t>
            </a:r>
            <a:endParaRPr b="0" lang="en-US" sz="36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0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0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1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2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1000"/>
                            </p:stCondLst>
                            <p:childTnLst>
                              <p:par>
                                <p:cTn id="8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oundry Form Sans"/>
              </a:rPr>
              <a:t>Factors that ma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Foundry Form Sans"/>
              </a:rPr>
              <a:t>slow </a:t>
            </a:r>
            <a:r>
              <a:rPr b="1" lang="en-US" sz="3200" spc="-1" strike="noStrike">
                <a:solidFill>
                  <a:srgbClr val="ffffff"/>
                </a:solidFill>
                <a:latin typeface="Foundry Form Sans"/>
              </a:rPr>
              <a:t>any improvement in the labour market as the economy grows:</a:t>
            </a:r>
            <a:endParaRPr b="1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8064720" cy="43988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 rot="21316800">
            <a:off x="1618920" y="2060280"/>
            <a:ext cx="5113440" cy="2520720"/>
          </a:xfrm>
          <a:prstGeom prst="ellipse">
            <a:avLst/>
          </a:prstGeom>
          <a:solidFill>
            <a:srgbClr val="ff0000">
              <a:alpha val="80000"/>
            </a:srgbClr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21832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1832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Reduced working hours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1832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Labour market structural 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change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1832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Reductions in public sector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employment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0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1000"/>
                            </p:stCondLst>
                            <p:childTnLst>
                              <p:par>
                                <p:cTn id="8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END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236" name=""/>
          <p:cNvSpPr/>
          <p:nvPr/>
        </p:nvSpPr>
        <p:spPr>
          <a:xfrm>
            <a:off x="1116000" y="2492280"/>
            <a:ext cx="6767640" cy="25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For a more detailed examination and explanations see the main report:</a:t>
            </a:r>
            <a:r>
              <a:rPr b="0" i="1" lang="en-US" sz="2400" spc="-1" strike="noStrike">
                <a:solidFill>
                  <a:srgbClr val="021832"/>
                </a:solidFill>
                <a:latin typeface="Foundry Form Sans"/>
              </a:rPr>
              <a:t> ‘Working Paper 44: London’s labour market in the recent recession’ by GLA Economics: </a:t>
            </a:r>
            <a:r>
              <a:rPr b="0" lang="en-US" sz="2400" spc="-1" strike="noStrike" u="sng">
                <a:solidFill>
                  <a:srgbClr val="f40000"/>
                </a:solidFill>
                <a:uFillTx/>
                <a:latin typeface="Foundry Form Sans"/>
                <a:hlinkClick r:id="rId1"/>
              </a:rPr>
              <a:t>http://www.london.gov.uk/publication/working-paper-44-londons-labour-market-recent-recession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0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ANY QUESTIONS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556000" y="1341360"/>
            <a:ext cx="4294080" cy="4967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0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Foundry Form Sans"/>
              </a:rPr>
              <a:t>Note: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37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21832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It is not presumed that the full impact of the 2008 recession on the labour market has necessarily been experienced yet.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1832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For a more detailed examination and explanations see the main report:</a:t>
            </a:r>
            <a:r>
              <a:rPr b="0" i="1" lang="en-US" sz="2400" spc="-1" strike="noStrike">
                <a:solidFill>
                  <a:srgbClr val="021832"/>
                </a:solidFill>
                <a:latin typeface="Foundry Form Sans"/>
              </a:rPr>
              <a:t> ‘Working Paper 44: London’s labour market in the recent recession’, </a:t>
            </a: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GLA Economics: </a:t>
            </a:r>
            <a:r>
              <a:rPr b="0" lang="en-US" sz="2400" spc="-1" strike="noStrike" u="sng">
                <a:solidFill>
                  <a:srgbClr val="f40000"/>
                </a:solidFill>
                <a:uFillTx/>
                <a:latin typeface="Foundry Form Sans"/>
                <a:hlinkClick r:id="rId1"/>
              </a:rPr>
              <a:t>http://www.london.gov.uk/publication/working-paper-44-londons-labour-market-recent-recession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1832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21832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1353960"/>
            <a:ext cx="9144000" cy="50994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55640" y="2781000"/>
            <a:ext cx="3995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oundry Form Sans"/>
              </a:rPr>
              <a:t>UK Background</a:t>
            </a:r>
            <a:endParaRPr b="1" lang="en-US" sz="44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101520"/>
            <a:ext cx="871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BACKGROUND</a:t>
            </a:r>
            <a:endParaRPr b="0" lang="en-US" sz="36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5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5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5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5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5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5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78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UK GDP</a:t>
            </a:r>
            <a:r>
              <a:rPr b="0" lang="en-US" sz="2800" spc="-1" strike="noStrike">
                <a:solidFill>
                  <a:srgbClr val="ffffff"/>
                </a:solidFill>
                <a:latin typeface="Foundry Form Sans"/>
              </a:rPr>
              <a:t> fell faster, and further, in the 2008 recession than in the 1990s and 1980s recessions:</a:t>
            </a:r>
            <a:endParaRPr b="1" lang="en-US" sz="2800" spc="-1" strike="noStrike">
              <a:solidFill>
                <a:srgbClr val="ffffff"/>
              </a:solidFill>
              <a:latin typeface="Foundry Form Sans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79280" y="2276640"/>
          <a:ext cx="8788680" cy="40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276640"/>
                    <a:ext cx="8788680" cy="40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734240" y="0"/>
            <a:ext cx="1409760" cy="140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6381720"/>
            <a:ext cx="298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21832"/>
                </a:solidFill>
                <a:latin typeface="Foundry Form Sans"/>
              </a:rPr>
              <a:t>Source: ONS, GDP chained volume measure, constant 2006 prices, SA</a:t>
            </a:r>
            <a:endParaRPr b="0" lang="en-US" sz="1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32000" y="1413000"/>
            <a:ext cx="2950920" cy="1800000"/>
          </a:xfrm>
          <a:prstGeom prst="wedgeEllipseCallout">
            <a:avLst>
              <a:gd name="adj1" fmla="val 31925"/>
              <a:gd name="adj2" fmla="val 89504"/>
            </a:avLst>
          </a:prstGeom>
          <a:solidFill>
            <a:srgbClr val="ccffcc">
              <a:alpha val="50000"/>
            </a:srgbClr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And in the 1990s it fell by 2.5% over 5 quarters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84720" y="1341360"/>
            <a:ext cx="3240000" cy="1873440"/>
          </a:xfrm>
          <a:prstGeom prst="leftArrowCallout">
            <a:avLst>
              <a:gd name="adj1" fmla="val 25002"/>
              <a:gd name="adj2" fmla="val 25000"/>
              <a:gd name="adj3" fmla="val 28824"/>
              <a:gd name="adj4" fmla="val 66673"/>
            </a:avLst>
          </a:prstGeom>
          <a:solidFill>
            <a:srgbClr val="00ff00">
              <a:alpha val="50000"/>
            </a:srgbClr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This is equal 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  </a:t>
            </a: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to a steady rate 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of decline of 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2.0% a year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95640" y="1413000"/>
            <a:ext cx="3097080" cy="1944720"/>
          </a:xfrm>
          <a:prstGeom prst="wedgeEllipseCallout">
            <a:avLst>
              <a:gd name="adj1" fmla="val -282"/>
              <a:gd name="adj2" fmla="val 113671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In the 1980s GDP fell by 4.7% over 5 quarters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76720" y="1413000"/>
            <a:ext cx="3168720" cy="1512720"/>
          </a:xfrm>
          <a:prstGeom prst="leftArrowCallout">
            <a:avLst>
              <a:gd name="adj1" fmla="val 25002"/>
              <a:gd name="adj2" fmla="val 25000"/>
              <a:gd name="adj3" fmla="val 34912"/>
              <a:gd name="adj4" fmla="val 66673"/>
            </a:avLst>
          </a:prstGeom>
          <a:solidFill>
            <a:srgbClr val="ff99cc">
              <a:alpha val="50000"/>
            </a:srgbClr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This is equal 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to a steady rate 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of decline of 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4.3% a year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68360" y="1484280"/>
            <a:ext cx="2878200" cy="1800360"/>
          </a:xfrm>
          <a:prstGeom prst="wedgeEllipseCallout">
            <a:avLst>
              <a:gd name="adj1" fmla="val 17125"/>
              <a:gd name="adj2" fmla="val 153527"/>
            </a:avLst>
          </a:prstGeom>
          <a:solidFill>
            <a:srgbClr val="ff3300">
              <a:alpha val="50000"/>
            </a:srgbClr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In 2008, GDP fell by 6.4% over 6 quarters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1341360"/>
            <a:ext cx="3095640" cy="1657440"/>
          </a:xfrm>
          <a:prstGeom prst="leftArrowCallout">
            <a:avLst>
              <a:gd name="adj1" fmla="val 26058"/>
              <a:gd name="adj2" fmla="val 25000"/>
              <a:gd name="adj3" fmla="val 55841"/>
              <a:gd name="adj4" fmla="val 66673"/>
            </a:avLst>
          </a:prstGeom>
          <a:solidFill>
            <a:srgbClr val="00ffff">
              <a:alpha val="50000"/>
            </a:srgbClr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This is equal 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to a steady rate 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of decline of 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3.7% a year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407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undry Form Sans"/>
              </a:rPr>
              <a:t>But the </a:t>
            </a: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claimant count</a:t>
            </a:r>
            <a:r>
              <a:rPr b="0" lang="en-US" sz="2800" spc="-1" strike="noStrike">
                <a:solidFill>
                  <a:srgbClr val="ffffff"/>
                </a:solidFill>
                <a:latin typeface="Foundry Form Sans"/>
              </a:rPr>
              <a:t> rate has not risen as much in the 2008 recession as it did in the 1990s and 1980s recessions:</a:t>
            </a:r>
            <a:endParaRPr b="1" lang="en-US" sz="2800" spc="-1" strike="noStrike">
              <a:solidFill>
                <a:srgbClr val="ffffff"/>
              </a:solidFill>
              <a:latin typeface="Foundry Form Sans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62000" y="1846440"/>
          <a:ext cx="8999640" cy="45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1846440"/>
                    <a:ext cx="8999640" cy="45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0" y="6021360"/>
            <a:ext cx="44276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21832"/>
                </a:solidFill>
                <a:latin typeface="Foundry Form Sans"/>
              </a:rPr>
              <a:t>Note: Claimant count denominator = claimant count + WFJ</a:t>
            </a:r>
            <a:endParaRPr b="0" lang="en-US" sz="14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21832"/>
                </a:solidFill>
                <a:latin typeface="Foundry Form Sans"/>
              </a:rPr>
              <a:t>Source: ONS</a:t>
            </a:r>
            <a:r>
              <a:rPr b="0" i="1" lang="en-US" sz="1400" spc="-1" strike="noStrike">
                <a:solidFill>
                  <a:srgbClr val="021832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21832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7734240" y="0"/>
            <a:ext cx="1409760" cy="1409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211640" y="2421000"/>
            <a:ext cx="0" cy="3095640"/>
          </a:xfrm>
          <a:prstGeom prst="line">
            <a:avLst/>
          </a:prstGeom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03640" y="3789360"/>
            <a:ext cx="3024360" cy="1657440"/>
          </a:xfrm>
          <a:prstGeom prst="wedgeEllipseCallout">
            <a:avLst>
              <a:gd name="adj1" fmla="val -75300"/>
              <a:gd name="adj2" fmla="val -18101"/>
            </a:avLst>
          </a:prstGeom>
          <a:solidFill>
            <a:srgbClr val="ff0000"/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1832"/>
                </a:solidFill>
                <a:latin typeface="Foundry Form Sans"/>
              </a:rPr>
              <a:t>The claimant count rate has increased so far by only 2.1 percentage points</a:t>
            </a:r>
            <a:endParaRPr b="0" lang="en-US" sz="20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84720" y="4149720"/>
            <a:ext cx="3168720" cy="1800360"/>
          </a:xfrm>
          <a:prstGeom prst="wedgeEllipseCallout">
            <a:avLst>
              <a:gd name="adj1" fmla="val -52203"/>
              <a:gd name="adj2" fmla="val -96560"/>
            </a:avLst>
          </a:prstGeom>
          <a:solidFill>
            <a:srgbClr val="ccffcc"/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1832"/>
                </a:solidFill>
                <a:latin typeface="Foundry Form Sans"/>
              </a:rPr>
              <a:t>But by the same time had increased by 4.7 percentage points in 1990s recession</a:t>
            </a:r>
            <a:endParaRPr b="0" lang="en-US" sz="20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284720" y="4149720"/>
            <a:ext cx="3095640" cy="1511280"/>
          </a:xfrm>
          <a:prstGeom prst="wedgeEllipseCallout">
            <a:avLst>
              <a:gd name="adj1" fmla="val -52513"/>
              <a:gd name="adj2" fmla="val -123949"/>
            </a:avLst>
          </a:prstGeom>
          <a:solidFill>
            <a:srgbClr val="ccffff"/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1832"/>
                </a:solidFill>
                <a:latin typeface="Foundry Form Sans"/>
              </a:rPr>
              <a:t>And had increased by 5.4 percentage points in 1980s recession</a:t>
            </a:r>
            <a:endParaRPr b="0" lang="en-US" sz="20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3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3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4072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Employee jobs</a:t>
            </a:r>
            <a:r>
              <a:rPr b="0" lang="en-US" sz="2800" spc="-1" strike="noStrike">
                <a:solidFill>
                  <a:srgbClr val="ffffff"/>
                </a:solidFill>
                <a:latin typeface="Foundry Form Sans"/>
              </a:rPr>
              <a:t> have also not fallen by as much in the 2008 recession as they did in the 1990s recession:</a:t>
            </a:r>
            <a:endParaRPr b="1" lang="en-US" sz="28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734240" y="0"/>
            <a:ext cx="1409760" cy="140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476280" y="1428840"/>
          <a:ext cx="8493120" cy="494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6280" y="1428840"/>
                    <a:ext cx="8493120" cy="49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6381720"/>
            <a:ext cx="25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21832"/>
                </a:solidFill>
                <a:latin typeface="Foundry Form Sans"/>
              </a:rPr>
              <a:t>Source: WFJ, ONS</a:t>
            </a:r>
            <a:endParaRPr b="0" lang="en-US" sz="1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16720" y="2421000"/>
            <a:ext cx="0" cy="2879640"/>
          </a:xfrm>
          <a:prstGeom prst="line">
            <a:avLst/>
          </a:prstGeom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84720" y="1844640"/>
            <a:ext cx="4464000" cy="1513080"/>
          </a:xfrm>
          <a:prstGeom prst="wedgeEllipseCallout">
            <a:avLst>
              <a:gd name="adj1" fmla="val -1032"/>
              <a:gd name="adj2" fmla="val 111175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Employee job numbers have fallen by 4.3% so far during this recession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51640" y="1844640"/>
            <a:ext cx="3384360" cy="1728720"/>
          </a:xfrm>
          <a:prstGeom prst="wedgeEllipseCallout">
            <a:avLst>
              <a:gd name="adj1" fmla="val -24203"/>
              <a:gd name="adj2" fmla="val 127962"/>
            </a:avLst>
          </a:prstGeom>
          <a:solidFill>
            <a:srgbClr val="ccffcc">
              <a:alpha val="50000"/>
            </a:srgbClr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But by the same time fell by 6.1% in the 1990s recession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1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oundry Form Sans"/>
              </a:rPr>
              <a:t>London Background</a:t>
            </a:r>
            <a:endParaRPr b="1" lang="en-US" sz="4400" spc="-1" strike="noStrike">
              <a:solidFill>
                <a:srgbClr val="ffffff"/>
              </a:solidFill>
              <a:latin typeface="Foundry Form Sans"/>
            </a:endParaRPr>
          </a:p>
        </p:txBody>
      </p:sp>
    </p:spTree>
  </p:cSld>
  <p:transition>
    <p:random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5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5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5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undry Form Sans"/>
              </a:rPr>
              <a:t>Like the UK, </a:t>
            </a: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London’s GVA</a:t>
            </a:r>
            <a:r>
              <a:rPr b="0" lang="en-US" sz="2800" spc="-1" strike="noStrike">
                <a:solidFill>
                  <a:srgbClr val="ffffff"/>
                </a:solidFill>
                <a:latin typeface="Foundry Form Sans"/>
              </a:rPr>
              <a:t> also fell faster in the 2008 recession than in the 1990s recession:</a:t>
            </a:r>
            <a:endParaRPr b="1" lang="en-US" sz="28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139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0" y="2060640"/>
          <a:ext cx="8918640" cy="451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060640"/>
                    <a:ext cx="891864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0" y="6308640"/>
            <a:ext cx="284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21832"/>
                </a:solidFill>
                <a:latin typeface="Foundry Form Sans"/>
              </a:rPr>
              <a:t>Source: GVA at basic prices, constant 2005 prices, Experian</a:t>
            </a:r>
            <a:endParaRPr b="0" lang="en-US" sz="1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8000" y="2421000"/>
            <a:ext cx="0" cy="3166920"/>
          </a:xfrm>
          <a:prstGeom prst="line">
            <a:avLst/>
          </a:prstGeom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24360" y="2421000"/>
            <a:ext cx="0" cy="3166920"/>
          </a:xfrm>
          <a:prstGeom prst="line">
            <a:avLst/>
          </a:prstGeom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40000" y="2421000"/>
            <a:ext cx="0" cy="3166920"/>
          </a:xfrm>
          <a:prstGeom prst="line">
            <a:avLst/>
          </a:prstGeom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59280" y="2421000"/>
            <a:ext cx="0" cy="3166920"/>
          </a:xfrm>
          <a:prstGeom prst="line">
            <a:avLst/>
          </a:prstGeom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24360" y="3141720"/>
            <a:ext cx="4356000" cy="1438200"/>
          </a:xfrm>
          <a:prstGeom prst="wedgeEllipseCallout">
            <a:avLst>
              <a:gd name="adj1" fmla="val -65050"/>
              <a:gd name="adj2" fmla="val -10925"/>
            </a:avLst>
          </a:prstGeom>
          <a:solidFill>
            <a:srgbClr val="ccffcc"/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London’s output fell by 6.2% over 9 quarters in the 1990s recession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48360" y="3141720"/>
            <a:ext cx="3816360" cy="1295280"/>
          </a:xfrm>
          <a:prstGeom prst="wedgeEllipseCallout">
            <a:avLst>
              <a:gd name="adj1" fmla="val -93509"/>
              <a:gd name="adj2" fmla="val 4532"/>
            </a:avLst>
          </a:prstGeom>
          <a:solidFill>
            <a:srgbClr val="ff0000"/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1832"/>
                </a:solidFill>
                <a:latin typeface="Foundry Form Sans"/>
              </a:rPr>
              <a:t>And has fallen by 6.1% over 6 quarters in the recent recession</a:t>
            </a:r>
            <a:endParaRPr b="0" lang="en-US" sz="22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48360" y="1341360"/>
            <a:ext cx="2952720" cy="1800360"/>
          </a:xfrm>
          <a:prstGeom prst="downArrowCallout">
            <a:avLst>
              <a:gd name="adj1" fmla="val 41006"/>
              <a:gd name="adj2" fmla="val 41002"/>
              <a:gd name="adj3" fmla="val 16667"/>
              <a:gd name="adj4" fmla="val 66667"/>
            </a:avLst>
          </a:prstGeom>
          <a:solidFill>
            <a:srgbClr val="ff99cc">
              <a:alpha val="58000"/>
            </a:srgbClr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This is equal 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to a steady rate of 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decline of 4.1% a year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59280" y="1341360"/>
            <a:ext cx="3024360" cy="1800360"/>
          </a:xfrm>
          <a:prstGeom prst="downArrowCallout">
            <a:avLst>
              <a:gd name="adj1" fmla="val 42063"/>
              <a:gd name="adj2" fmla="val 41997"/>
              <a:gd name="adj3" fmla="val 22134"/>
              <a:gd name="adj4" fmla="val 66667"/>
            </a:avLst>
          </a:prstGeom>
          <a:solidFill>
            <a:srgbClr val="00ff00">
              <a:alpha val="50000"/>
            </a:srgbClr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This is equal to a 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steady rate of decline 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of 2.8% a year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500"/>
                            </p:stCondLst>
                            <p:childTnLst>
                              <p:par>
                                <p:cTn id="3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9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3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7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1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500"/>
                            </p:stCondLst>
                            <p:childTnLst>
                              <p:par>
                                <p:cTn id="3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12:48:48Z</dcterms:created>
  <dc:creator>mwickham</dc:creator>
  <dc:description/>
  <dc:language>en-US</dc:language>
  <cp:lastModifiedBy>mwickham</cp:lastModifiedBy>
  <dcterms:modified xsi:type="dcterms:W3CDTF">2011-02-28T10:19:26Z</dcterms:modified>
  <cp:revision>194</cp:revision>
  <dc:subject/>
  <dc:title>PowerPoint Presentation</dc:title>
</cp:coreProperties>
</file>