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8145-93F4-416D-A503-320CB576EC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90C-5F70-4C21-87EA-E62754968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E3A-5FDE-41AF-BA4C-6F6BD174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938-8264-4643-9051-FA58C7A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E7F-0D71-4288-AC93-8A89BE96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28E-447F-4029-B436-5064AB3E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1B1-ACE1-4B14-9A85-25B3269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4BCC-89C4-4348-B421-83BEF0A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6D7-7204-425C-B296-E78E256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981F-3D99-4F44-A3D2-DE641015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1F2-4A74-45CA-B4CC-FA9E1E1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C88-115D-4B95-BCBD-7F4D58CA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C30E-F0D2-49CB-ADA2-6757E5E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63A-155C-460E-A8BE-BCC676B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26B5-7F36-4CB9-B4D5-4E81F0B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AB5-59FB-43AC-BAE9-8E9E1DA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CAB-6EE5-4ECA-B9FA-FB81B64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124-BA63-468F-85A2-BCC912DF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5832-A94B-4CDB-B02F-58162BBE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9852-DE24-4B4B-8B14-BD3E14E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A7B3-6B5F-45E2-97C1-6904A20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EE57-0279-4632-B3B8-2CA8DE4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6E92-7B43-4E57-B966-EFDD10D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7C16-D385-4F30-8F32-A426C3D8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127-1260-4C56-8931-D2CF778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469F-8AFB-4137-AFC3-8A4ACE32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5FBE-E880-468E-A682-1DD5198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7250-EEA8-4AAE-A85B-BD965F0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EAFA-58BC-4EE4-ABB2-F930A8A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66B6-7D6F-42B2-8C4D-88F8949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EBBC-8265-40BB-B2F9-77B44E73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3864-970A-45FB-AAE2-9628233A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25E8-331B-470F-9E17-7B6A0C5A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6F33-356F-42CE-8BEC-F829918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63FA-183A-424C-A200-6664952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C35-9DE2-407A-8337-7A26116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9933-A71E-42E5-BD44-0BB1A22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9351-34A3-4EB6-921B-CD5ED21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14492-97F8-46C4-A7C7-216CF514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0C3A-5F32-4723-9EBA-BEC034E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7AF6-4EA8-4FAD-8742-0C60B90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06F9-AD66-4E6C-933D-C7755B1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333C-1245-4E21-A483-5A420FA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117B-967E-40C6-87BC-4762BD28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E711-9ACC-4774-A89D-B160C05E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2AF2-D6C7-4664-9983-3731511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FD3-6BF9-4CB8-8ACF-39B1440A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FAC4-1F4A-4401-B1DA-65D519B1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808D-F012-4C43-99BD-E1702BD7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358E-DBB2-4BD0-85BC-D7E20F4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D3C2-476D-4993-8619-C20AA47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65B4-6F8C-4EAC-BEB9-63649F21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78A9-7F29-44BF-BE09-C4A2B97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FA1A-9BEB-4241-B356-BA5801C2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5335-AB7F-48CB-BB3C-5574CCE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DBD1-C2F9-4FC5-8B36-F7E4A0C7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8E0E-F08F-43F1-9D17-B689AF44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46C-541E-4CEA-BD38-7BEBCEA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C714-11D4-4EAC-8A54-7E50640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0335-90DD-4977-B9E4-F8708FD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A53A-D0DF-4937-89B2-D815CE4C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B9B1-8E3A-4307-91C6-07CD6B10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6B33-6104-4A74-88EE-C768C2CB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42FD8-585E-4567-9C11-A2DC61E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57A9-FCCA-4258-BF94-9762DDB0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25AEC-3E2F-46D3-B89E-0951BEE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5FA0-C355-4B28-BEE1-485BF42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8C3B-3F4C-4E0F-AFD9-E928F21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B6A-6F97-4B11-BE39-BF29401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BB5C-A222-4888-8104-C0A48AE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E2C4-D92A-4DF0-A9D1-47DDCD2C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DC7B-A21C-48DA-BB29-AEB2D52E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EBCD-A858-4B5D-BEEA-BC54970C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D62E-9839-4C2C-B08E-08860CAC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48E7-F182-4816-A5A6-B2FE7A42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4264F-7AE0-4977-994A-C59E4461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945B-82E0-46B6-A388-0165E10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08C84-86A4-4532-ACC5-C6B99F8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1414-4F3B-456D-AEE4-000C14B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2B8-E1F3-41C8-9217-0859EA7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D97D-7BED-4250-B680-C647799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BBD6-BF39-445A-BD4D-DC785B6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A05C-8E3D-4F71-9E8D-1A0B11A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B3E14-0E90-4179-AA1E-A73CC648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A7DAB-4FB1-4443-862E-5C0A8422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7C5-A590-4FBC-944F-0D5D9F4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2F2-8CA7-443F-964E-B259B44DC1C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A9E-0F3C-455C-BB23-6D0952713C9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FED1-DA61-4739-B17D-BF5EAC87D86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3E51-53F4-4DDE-9947-A0A5DDA0BB0C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7F74-8409-43ED-A5FF-AD04C1CEFA9E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9314-1438-49D7-8159-69719B5BDBCD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0DC-5CD8-4C76-BEA1-155C10AD677F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2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London School of Economics, January 28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James Rees and Alan Harding, IPEG, University of Manches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2001_pop_density_leg2"/>
          <p:cNvPicPr/>
          <p:nvPr/>
        </p:nvPicPr>
        <p:blipFill>
          <a:blip r:embed="rId1"/>
          <a:stretch/>
        </p:blipFill>
        <p:spPr>
          <a:xfrm>
            <a:off x="539640" y="2060640"/>
            <a:ext cx="324504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6" name="Picture 3" descr="2001_pop_density2A"/>
          <p:cNvPicPr/>
          <p:nvPr/>
        </p:nvPicPr>
        <p:blipFill>
          <a:blip r:embed="rId2"/>
          <a:stretch/>
        </p:blipFill>
        <p:spPr>
          <a:xfrm>
            <a:off x="5064120" y="765000"/>
            <a:ext cx="3754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3" descr="Area of influence 2- MHC"/>
          <p:cNvPicPr/>
          <p:nvPr/>
        </p:nvPicPr>
        <p:blipFill>
          <a:blip r:embed="rId2"/>
          <a:stretch/>
        </p:blipFill>
        <p:spPr>
          <a:xfrm>
            <a:off x="250920" y="1125360"/>
            <a:ext cx="7945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he ‘Manchester Men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Entrepreneurial turn, 1980s, private sector rapproch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Labour Party stability/Benign dictatorship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New Economy, new economistic discourse, outward facing to globalisation, potential to </a:t>
            </a:r>
            <a:r>
              <a:rPr b="0" i="1" lang="en-GB" sz="3200" spc="-1" strike="noStrike">
                <a:solidFill>
                  <a:srgbClr val="000000"/>
                </a:solidFill>
                <a:latin typeface="Corbe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 Lond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bility to hold together territorial coalition, North-South, old-new econom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Resilience, flexibility, adaptation to new government and austerit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62864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ransport: Airport devt,M60 orbital completion, Metrolink (1990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Key sites: Salford Quays, Trafford Park remodelling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Regeneration: Hulme, Olympic bids and Commonwealth Games: Sport City and E. Mc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Post-Bomb reconstruction: MEN arena, shopping centr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mex conference centre, Bridgewater Concert Hall, + mixed use commercial, and apartme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University merger, BBC relocation, mediacity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bolition of GMCC 198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ity region aspirations: attempts to land grab foiled, dormant under regiona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ost-regionalism: city regionalism by stealth in permissive national con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Rapid governance reform and institutional development: MAA, CRP, 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ill flourish in era of radical localism? Geography of LEPs suggests ‘yes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993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329868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Bent Arrow 5"/>
          <p:cNvSpPr/>
          <p:nvPr/>
        </p:nvSpPr>
        <p:spPr>
          <a:xfrm>
            <a:off x="1403280" y="1413000"/>
            <a:ext cx="720720" cy="7207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0" y="720080"/>
                </a:moveTo>
                <a:lnTo>
                  <a:pt x="0" y="405045"/>
                </a:lnTo>
                <a:lnTo>
                  <a:pt x="0" y="405045"/>
                </a:lnTo>
                <a:arcTo wR="315035" hR="315035" stAng="10800000" swAng="5400011"/>
                <a:lnTo>
                  <a:pt x="540060" y="90010"/>
                </a:lnTo>
                <a:lnTo>
                  <a:pt x="540060" y="0"/>
                </a:lnTo>
                <a:lnTo>
                  <a:pt x="720080" y="180020"/>
                </a:lnTo>
                <a:lnTo>
                  <a:pt x="540060" y="360040"/>
                </a:lnTo>
                <a:lnTo>
                  <a:pt x="540060" y="270030"/>
                </a:lnTo>
                <a:lnTo>
                  <a:pt x="315035" y="270030"/>
                </a:lnTo>
                <a:lnTo>
                  <a:pt x="315035" y="270030"/>
                </a:lnTo>
                <a:arcTo wR="135015" hR="135015" stAng="-5400000" swAng="-5400000"/>
                <a:lnTo>
                  <a:pt x="180020" y="72008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871640" cy="757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4"/>
          <a:stretch/>
        </p:blipFill>
        <p:spPr>
          <a:xfrm>
            <a:off x="5292720" y="285264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5"/>
          <a:stretch/>
        </p:blipFill>
        <p:spPr>
          <a:xfrm>
            <a:off x="6283440" y="5122800"/>
            <a:ext cx="2860560" cy="1735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22986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Right Arrow 10"/>
          <p:cNvSpPr/>
          <p:nvPr/>
        </p:nvSpPr>
        <p:spPr>
          <a:xfrm>
            <a:off x="5940360" y="1989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Arrow 11"/>
          <p:cNvSpPr/>
          <p:nvPr/>
        </p:nvSpPr>
        <p:spPr>
          <a:xfrm rot="5400000">
            <a:off x="8315640" y="350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12"/>
          <p:cNvSpPr/>
          <p:nvPr/>
        </p:nvSpPr>
        <p:spPr>
          <a:xfrm rot="8973600">
            <a:off x="5873400" y="47109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5" descr="AGMA.bmp"/>
          <p:cNvPicPr/>
          <p:nvPr/>
        </p:nvPicPr>
        <p:blipFill>
          <a:blip r:embed="rId7"/>
          <a:stretch/>
        </p:blipFill>
        <p:spPr>
          <a:xfrm>
            <a:off x="179280" y="3141720"/>
            <a:ext cx="2880000" cy="1481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8"/>
          <a:stretch/>
        </p:blipFill>
        <p:spPr>
          <a:xfrm>
            <a:off x="3059280" y="5045040"/>
            <a:ext cx="2808000" cy="1812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9"/>
          <a:stretch/>
        </p:blipFill>
        <p:spPr>
          <a:xfrm>
            <a:off x="971640" y="4869000"/>
            <a:ext cx="2714400" cy="590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2881440" cy="52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11"/>
          <a:stretch/>
        </p:blipFill>
        <p:spPr>
          <a:xfrm>
            <a:off x="826920" y="6093000"/>
            <a:ext cx="2665440" cy="628560"/>
          </a:xfrm>
          <a:prstGeom prst="rect">
            <a:avLst/>
          </a:prstGeom>
          <a:ln w="0">
            <a:noFill/>
          </a:ln>
        </p:spPr>
      </p:pic>
      <p:sp>
        <p:nvSpPr>
          <p:cNvPr id="350" name="Right Arrow 21"/>
          <p:cNvSpPr/>
          <p:nvPr/>
        </p:nvSpPr>
        <p:spPr>
          <a:xfrm rot="13087800">
            <a:off x="3180960" y="4531680"/>
            <a:ext cx="939960" cy="484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"/>
          <p:cNvPicPr/>
          <p:nvPr/>
        </p:nvPicPr>
        <p:blipFill>
          <a:blip r:embed="rId12"/>
          <a:stretch/>
        </p:blipFill>
        <p:spPr>
          <a:xfrm>
            <a:off x="7488360" y="4149720"/>
            <a:ext cx="1655640" cy="124308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23" descr=""/>
          <p:cNvPicPr/>
          <p:nvPr/>
        </p:nvPicPr>
        <p:blipFill>
          <a:blip r:embed="rId13"/>
          <a:stretch/>
        </p:blipFill>
        <p:spPr>
          <a:xfrm>
            <a:off x="2560680" y="2951280"/>
            <a:ext cx="1859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5" descr=""/>
          <p:cNvPicPr/>
          <p:nvPr/>
        </p:nvPicPr>
        <p:blipFill>
          <a:blip r:embed="rId2"/>
          <a:stretch/>
        </p:blipFill>
        <p:spPr>
          <a:xfrm>
            <a:off x="3048120" y="3316320"/>
            <a:ext cx="2504880" cy="84132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7" descr=""/>
          <p:cNvPicPr/>
          <p:nvPr/>
        </p:nvPicPr>
        <p:blipFill>
          <a:blip r:embed="rId3"/>
          <a:stretch/>
        </p:blipFill>
        <p:spPr>
          <a:xfrm>
            <a:off x="5754600" y="3571920"/>
            <a:ext cx="2382840" cy="79848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8" descr=""/>
          <p:cNvPicPr/>
          <p:nvPr/>
        </p:nvPicPr>
        <p:blipFill>
          <a:blip r:embed="rId4"/>
          <a:stretch/>
        </p:blipFill>
        <p:spPr>
          <a:xfrm>
            <a:off x="3328920" y="2567160"/>
            <a:ext cx="2017800" cy="517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5"/>
          <a:stretch/>
        </p:blipFill>
        <p:spPr>
          <a:xfrm>
            <a:off x="324000" y="4508640"/>
            <a:ext cx="3114360" cy="2066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1726920" cy="895320"/>
          </a:xfrm>
          <a:prstGeom prst="rect">
            <a:avLst/>
          </a:prstGeom>
          <a:ln w="0">
            <a:noFill/>
          </a:ln>
        </p:spPr>
      </p:pic>
      <p:cxnSp>
        <p:nvCxnSpPr>
          <p:cNvPr id="359" name="Straight Arrow Connector 12"/>
          <p:cNvCxnSpPr>
            <a:endCxn id="354" idx="1"/>
          </p:cNvCxnSpPr>
          <p:nvPr/>
        </p:nvCxnSpPr>
        <p:spPr>
          <a:xfrm flipV="1">
            <a:off x="2050920" y="3752280"/>
            <a:ext cx="1154880" cy="529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0" name="Straight Arrow Connector 15"/>
          <p:cNvCxnSpPr>
            <a:stCxn id="354" idx="3"/>
            <a:endCxn id="355" idx="1"/>
          </p:cNvCxnSpPr>
          <p:nvPr/>
        </p:nvCxnSpPr>
        <p:spPr>
          <a:xfrm>
            <a:off x="5465520" y="3752640"/>
            <a:ext cx="402120" cy="2163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1" name="Straight Arrow Connector 16"/>
          <p:cNvCxnSpPr>
            <a:stCxn id="354" idx="0"/>
            <a:endCxn id="356" idx="2"/>
          </p:cNvCxnSpPr>
          <p:nvPr/>
        </p:nvCxnSpPr>
        <p:spPr>
          <a:xfrm flipV="1">
            <a:off x="4334400" y="3006000"/>
            <a:ext cx="1080" cy="4230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pic>
        <p:nvPicPr>
          <p:cNvPr id="362" name="Picture 5" descr=""/>
          <p:cNvPicPr/>
          <p:nvPr/>
        </p:nvPicPr>
        <p:blipFill>
          <a:blip r:embed="rId7"/>
          <a:stretch/>
        </p:blipFill>
        <p:spPr>
          <a:xfrm>
            <a:off x="2771640" y="1557360"/>
            <a:ext cx="3076560" cy="981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Determined modernisation of urban asse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rowing realism/maturity re. development patterns, inter-dependen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Continuity, ambition, ‘clout’ of City leadership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Growth of metro executive based on functional (south) and political (north) linkage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Unique level of influence at national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based on delivery record, influence, CR narra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Early mover in a ‘decentralist moment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Biggest tests are around distributive justice – inter- and intra-districts within G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064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5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Ambitious city regionalism has been allied to new social polic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Intervention through spatial pilots of reformed service approach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arly Yea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Better life chances’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ackling deprivation and breaking cycles, to integrate into the labour market for (shared?) productivity and prosper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rbel"/>
              </a:rPr>
              <a:t>Taking better control of transport and infrastructure levers – emulating what city views as success of London (TfL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5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Radical impulses in Coalition agenda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Localism means (potentially) disregard for spatial disparities and Govt. dispassion towards ‘losers’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Big Society means redrawing the boundaries of the state and shift of respons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Underlying it has been (constrained) local autonomy, but local differences have been under studied by scholars of local governmen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In absence of national spatialised-social policy, localist permissiveness and even encouragement of spatial divergence…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Is Manchester an archetype of neo-municipal interventionist social policy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Under-bounded core c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Renaissance’ centre, modern urban assets, modern labour market, southern-facing commuter bel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Hollowed out inner urban area, industrial-era working class housing, ‘social problems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Manchester grabbed Housing Market Renewal and other regen. programmes as too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Intense sense of frustration with deprived industrial left-overs, ‘holding back’ economic progres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dev 20"/>
          <p:cNvPicPr/>
          <p:nvPr/>
        </p:nvPicPr>
        <p:blipFill>
          <a:blip r:embed="rId2"/>
          <a:stretch/>
        </p:blipFill>
        <p:spPr>
          <a:xfrm>
            <a:off x="826920" y="1438200"/>
            <a:ext cx="77058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ev 40"/>
          <p:cNvPicPr/>
          <p:nvPr/>
        </p:nvPicPr>
        <p:blipFill>
          <a:blip r:embed="rId1"/>
          <a:stretch/>
        </p:blipFill>
        <p:spPr>
          <a:xfrm>
            <a:off x="395280" y="998640"/>
            <a:ext cx="82803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ev 76"/>
          <p:cNvPicPr/>
          <p:nvPr/>
        </p:nvPicPr>
        <p:blipFill>
          <a:blip r:embed="rId1"/>
          <a:stretch/>
        </p:blipFill>
        <p:spPr>
          <a:xfrm>
            <a:off x="395280" y="1020600"/>
            <a:ext cx="82501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dev 90"/>
          <p:cNvPicPr/>
          <p:nvPr/>
        </p:nvPicPr>
        <p:blipFill>
          <a:blip r:embed="rId1"/>
          <a:stretch/>
        </p:blipFill>
        <p:spPr>
          <a:xfrm>
            <a:off x="395280" y="981000"/>
            <a:ext cx="82630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dev 06"/>
          <p:cNvPicPr/>
          <p:nvPr/>
        </p:nvPicPr>
        <p:blipFill>
          <a:blip r:embed="rId1"/>
          <a:stretch/>
        </p:blipFill>
        <p:spPr>
          <a:xfrm>
            <a:off x="468360" y="1052640"/>
            <a:ext cx="82026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Content Placeholder 3" descr="1951_pop_density2A"/>
          <p:cNvPicPr/>
          <p:nvPr/>
        </p:nvPicPr>
        <p:blipFill>
          <a:blip r:embed="rId2"/>
          <a:stretch/>
        </p:blipFill>
        <p:spPr>
          <a:xfrm>
            <a:off x="5219640" y="882720"/>
            <a:ext cx="3456000" cy="5975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1951_pop_density_leg2"/>
          <p:cNvPicPr/>
          <p:nvPr/>
        </p:nvPicPr>
        <p:blipFill>
          <a:blip r:embed="rId3"/>
          <a:stretch/>
        </p:blipFill>
        <p:spPr>
          <a:xfrm>
            <a:off x="611280" y="2133720"/>
            <a:ext cx="3852720" cy="23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ontent Placeholder 3" descr="1961_pop_density2A"/>
          <p:cNvPicPr/>
          <p:nvPr/>
        </p:nvPicPr>
        <p:blipFill>
          <a:blip r:embed="rId1"/>
          <a:stretch/>
        </p:blipFill>
        <p:spPr>
          <a:xfrm>
            <a:off x="5219640" y="803160"/>
            <a:ext cx="3502080" cy="6054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1961_pop_density_leg2"/>
          <p:cNvPicPr/>
          <p:nvPr/>
        </p:nvPicPr>
        <p:blipFill>
          <a:blip r:embed="rId2"/>
          <a:stretch/>
        </p:blipFill>
        <p:spPr>
          <a:xfrm>
            <a:off x="826920" y="1989000"/>
            <a:ext cx="3816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13:28Z</dcterms:created>
  <dc:creator>MFVSSJER</dc:creator>
  <dc:description/>
  <dc:language>en-US</dc:language>
  <cp:lastModifiedBy>MFVSSJER</cp:lastModifiedBy>
  <dcterms:modified xsi:type="dcterms:W3CDTF">2011-01-27T11:17:54Z</dcterms:modified>
  <cp:revision>20</cp:revision>
  <dc:subject/>
  <dc:title>York pres, Nov 10</dc:title>
</cp:coreProperties>
</file>