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C0E5-79F4-4C48-A5F0-634A4D9953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2489-92C4-40E3-BE6F-759DC7F680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BB40-83A0-4345-B070-FCF7DBAC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BC19-8D6A-411C-9E8B-1BE3BB15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0BF6-EDB5-43D5-9350-CD7DF2DD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C72F-6103-4881-B864-87065D81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269C-B488-499F-BC85-95AB5367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64BE-2540-4107-90F0-9F2A61EF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CEC3-2DA9-469A-BE35-49356F2F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B959-2CBD-44C9-B3B4-741AA47C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80C3-C711-4F95-805B-774A3311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4DE6-00DE-4BC1-83C3-ED9DEF44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B2F5-8F0B-45C9-A345-3BCCE822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D852-4E6A-4B43-BF6C-79989B44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8B91-9325-4244-B5F6-FE976953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BECA-395E-4673-98CD-17CDB1FE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A462-F514-4746-AE25-72EF5D62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BC75-758F-4CB3-A297-39CED3DB7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6BF0-5405-4FCD-97D7-A8B83CB96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E51C6-9AE3-4B6C-A9E7-6E3DA262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4309C-CE8A-452D-B4E2-56C96DE3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3E369-2954-4C2F-8FE1-8A575A7A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0DB91-A93B-4129-AEE6-0C0794D9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98CA8-270F-4BD7-8411-32C3EC68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B859-894E-45F9-95A0-BB89E270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D3B92-09D2-4E6C-BC98-275FCFC0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9B9DE-E1A4-47C9-94A3-3362EAA3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1E5A8-9404-46F3-B4DD-38EE2120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C60D7-A597-4C4D-B0AA-C5C3A161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2A347-6CA4-4C58-8945-E2F4F54E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3063F-C2C2-4EF8-8268-58752AD96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E3882-441D-41E9-AC6A-B72B9877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8A4BD-88DF-46E5-B1E7-5258524A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EADB9-B58B-4A8E-8F50-E278D8ED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A8416-FE79-4D6E-A584-5F87B412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B8EC-0C71-4C60-A066-8B30B537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C8FE2-58B7-4917-98F5-569D5A29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961D0-BDAD-48CC-8405-5D3ECD88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E0B44-170E-4AC0-A63D-E23278D1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EEE00-2D5F-4E77-96E8-FE0646D1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8FB6A-23A4-4960-AE01-D399F9C4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8840C-8830-4725-85AF-6723FE0E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B5F51-92B5-4CF9-A0B5-B075A266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1273D-F672-44FE-9B38-4AC42C2E7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EE813-4C4F-4A25-AA2B-ADEB1038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6510B-DBBE-47AF-B85F-2A7B08DE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6037-D06B-4F52-ACD5-F6645E56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6E374-9359-4C52-BAAC-33B87221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747A0-0D2B-4A97-B3F2-B9ABE964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3196B-FE7E-4CE2-9785-3B279A8E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9459E-2AE4-4B2B-B6CF-8EE2FAA1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F4107-A6A0-4BDD-862D-969978A4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E735B-0D67-4E9D-8599-C9B78FBA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E78C7-F9BB-4054-A7C7-8E3B7C39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6F5EB-B043-4E8A-9247-46838BB6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E45BC-198B-4151-A07B-17F26339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C6963-3C14-416A-81CE-343F773C7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D745-E4BC-404D-B0E2-9B538D60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03996-7137-4F2F-A185-76F4120A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6349E-0EF3-4245-8216-2017906F0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C65D4-AA82-4714-944B-A3F62BD1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44C79-1F3A-4B96-9B84-D456C4D6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8E9C7-CB61-4663-9671-4E3C4604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7C7A8-B35C-4D4C-9FDB-884CFF3E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94CC3-6E67-424E-B744-E3537281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AED06-68CF-4FDA-8F0A-F653D6A6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55216-0B20-42C6-A7BB-6177A6D7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2B85A-2176-4F33-8997-2A597E76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AF71-E82F-4BD6-8663-BD161EEA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9CBD3-8588-4053-A58A-C48BEF20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DADE4-8633-4F09-ADCC-46C80380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1D6D6-B243-4863-BB1E-685FBB03E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56063-E01F-4FAA-9271-A56660170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2E7FE-6CB5-489F-BBD8-CC746308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B686D-B585-43B8-A72F-3A2815CD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7206B-E171-44E0-97FC-13DF15B3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25F3B-A48C-48EA-A62E-68570C8C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C1ED8-136C-40EC-AFC9-E3D35B7E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02D64-D18B-45C3-AA9A-380B7913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B768-EB40-4E2E-AE0F-BA5FE218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56AC0-F0F8-4F05-BF19-ACA4D373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14B3A-A569-4CB3-B68B-F8591BA8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B93A2-5F9B-4882-BDD6-8D543F6F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30FD4-0FC4-45A6-9428-86878263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F3516-4224-4011-A733-6328C516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3ED8-E0D2-47CC-8626-5D14746B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4D3D-470F-4940-B6A8-547DFC7B7245}" type="slidenum">
              <a:rPr b="0" lang="en-GB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A0D4-E783-4375-977A-203993AFB22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3BAB-66FF-4D4B-8578-5E718FD6AE3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9FA8-4CD1-41DA-9D12-0EADBA70AEFD}" type="slidenum">
              <a:rPr b="0" lang="en-GB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B5AA-82AE-4449-8024-827C75FEDCB3}" type="slidenum">
              <a:rPr b="0" lang="en-GB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3F59-4072-40B8-AA26-31F928D036B3}" type="slidenum">
              <a:rPr b="0" lang="en-GB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2E1D-930F-4E18-85ED-10A4FE390AF1}" type="slidenum">
              <a:rPr b="0" lang="en-GB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27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London School of Economics, January 28 201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James Rees and Alan Harding, IPEG, University of Mancheste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2001_pop_density_leg2"/>
          <p:cNvPicPr/>
          <p:nvPr/>
        </p:nvPicPr>
        <p:blipFill>
          <a:blip r:embed="rId1"/>
          <a:stretch/>
        </p:blipFill>
        <p:spPr>
          <a:xfrm>
            <a:off x="539640" y="2060640"/>
            <a:ext cx="324504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26" name="Picture 3" descr="2001_pop_density2A"/>
          <p:cNvPicPr/>
          <p:nvPr/>
        </p:nvPicPr>
        <p:blipFill>
          <a:blip r:embed="rId2"/>
          <a:stretch/>
        </p:blipFill>
        <p:spPr>
          <a:xfrm>
            <a:off x="5064120" y="765000"/>
            <a:ext cx="37544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28" name="Content Placeholder 3" descr="Area of influence 2- MHC"/>
          <p:cNvPicPr/>
          <p:nvPr/>
        </p:nvPicPr>
        <p:blipFill>
          <a:blip r:embed="rId2"/>
          <a:stretch/>
        </p:blipFill>
        <p:spPr>
          <a:xfrm>
            <a:off x="250920" y="1125360"/>
            <a:ext cx="79452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4000"/>
          </a:bodyPr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The ‘Manchester Men’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Entrepreneurial turn, 1980s, private sector rapprochemen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Labour Party stability/Benign dictatorship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New Economy, new economistic discourse, outward facing to globalisation, potential to </a:t>
            </a:r>
            <a:r>
              <a:rPr b="0" i="1" lang="en-GB" sz="3200" spc="-1" strike="noStrike">
                <a:solidFill>
                  <a:srgbClr val="000000"/>
                </a:solidFill>
                <a:latin typeface="Corbel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 Lond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Ability to hold together territorial coalition, North-South, old-new econom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Resilience, flexibility, adaptation to new government and austerity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1628640"/>
            <a:ext cx="8229600" cy="47721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4000"/>
          </a:bodyPr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rbel"/>
              </a:rPr>
              <a:t>Transport: Airport devt,M60 orbital completion, Metrolink (1990s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rbel"/>
              </a:rPr>
              <a:t>Key sites: Salford Quays, Trafford Park remodelling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rbel"/>
              </a:rPr>
              <a:t>Regeneration: Hulme, Olympic bids and Commonwealth Games: Sport City and E. Mcr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rbel"/>
              </a:rPr>
              <a:t>Post-Bomb reconstruction: MEN arena, shopping centre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rbel"/>
              </a:rPr>
              <a:t>Gmex conference centre, Bridgewater Concert Hall, + mixed use commercial, and apartment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rbel"/>
              </a:rPr>
              <a:t>University merger, BBC relocation, mediacity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9000"/>
          </a:bodyPr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Abolition of GMCC 198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City region aspirations: attempts to land grab foiled, dormant under regionalis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Post-regionalism: city regionalism by stealth in permissive national contex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Rapid governance reform and institutional development: MAA, CRP, C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Will flourish in era of radical localism? Geography of LEPs suggests ‘yes’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9939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2556000" y="981000"/>
            <a:ext cx="3298680" cy="1656000"/>
          </a:xfrm>
          <a:prstGeom prst="rect">
            <a:avLst/>
          </a:prstGeom>
          <a:ln w="0">
            <a:noFill/>
          </a:ln>
        </p:spPr>
      </p:pic>
      <p:sp>
        <p:nvSpPr>
          <p:cNvPr id="337" name="Bent Arrow 5"/>
          <p:cNvSpPr/>
          <p:nvPr/>
        </p:nvSpPr>
        <p:spPr>
          <a:xfrm>
            <a:off x="1403280" y="1413000"/>
            <a:ext cx="720720" cy="720720"/>
          </a:xfrm>
          <a:custGeom>
            <a:avLst/>
            <a:gdLst/>
            <a:ahLst/>
            <a:rect l="l" t="t" r="r" b="b"/>
            <a:pathLst>
              <a:path w="720080" h="720080">
                <a:moveTo>
                  <a:pt x="0" y="720080"/>
                </a:moveTo>
                <a:lnTo>
                  <a:pt x="0" y="405045"/>
                </a:lnTo>
                <a:lnTo>
                  <a:pt x="0" y="405045"/>
                </a:lnTo>
                <a:arcTo wR="315035" hR="315035" stAng="10800000" swAng="5400011"/>
                <a:lnTo>
                  <a:pt x="540060" y="90010"/>
                </a:lnTo>
                <a:lnTo>
                  <a:pt x="540060" y="0"/>
                </a:lnTo>
                <a:lnTo>
                  <a:pt x="720080" y="180020"/>
                </a:lnTo>
                <a:lnTo>
                  <a:pt x="540060" y="360040"/>
                </a:lnTo>
                <a:lnTo>
                  <a:pt x="540060" y="270030"/>
                </a:lnTo>
                <a:lnTo>
                  <a:pt x="315035" y="270030"/>
                </a:lnTo>
                <a:lnTo>
                  <a:pt x="315035" y="270030"/>
                </a:lnTo>
                <a:arcTo wR="135015" hR="135015" stAng="-5400000" swAng="-5400000"/>
                <a:lnTo>
                  <a:pt x="180020" y="720080"/>
                </a:lnTo>
                <a:close/>
              </a:path>
            </a:pathLst>
          </a:custGeom>
          <a:solidFill>
            <a:srgbClr val="f0ad00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3"/>
          <a:stretch/>
        </p:blipFill>
        <p:spPr>
          <a:xfrm>
            <a:off x="468360" y="2205000"/>
            <a:ext cx="1871640" cy="7574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4"/>
          <a:stretch/>
        </p:blipFill>
        <p:spPr>
          <a:xfrm>
            <a:off x="5292720" y="2852640"/>
            <a:ext cx="2533680" cy="17146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"/>
          <p:cNvPicPr/>
          <p:nvPr/>
        </p:nvPicPr>
        <p:blipFill>
          <a:blip r:embed="rId5"/>
          <a:stretch/>
        </p:blipFill>
        <p:spPr>
          <a:xfrm>
            <a:off x="6283440" y="5122800"/>
            <a:ext cx="2860560" cy="17352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"/>
          <p:cNvPicPr/>
          <p:nvPr/>
        </p:nvPicPr>
        <p:blipFill>
          <a:blip r:embed="rId6"/>
          <a:stretch/>
        </p:blipFill>
        <p:spPr>
          <a:xfrm>
            <a:off x="6659640" y="1628640"/>
            <a:ext cx="2298600" cy="1192320"/>
          </a:xfrm>
          <a:prstGeom prst="rect">
            <a:avLst/>
          </a:prstGeom>
          <a:ln w="0">
            <a:noFill/>
          </a:ln>
        </p:spPr>
      </p:pic>
      <p:sp>
        <p:nvSpPr>
          <p:cNvPr id="342" name="Right Arrow 10"/>
          <p:cNvSpPr/>
          <p:nvPr/>
        </p:nvSpPr>
        <p:spPr>
          <a:xfrm>
            <a:off x="5940360" y="1989000"/>
            <a:ext cx="647640" cy="48420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ight Arrow 11"/>
          <p:cNvSpPr/>
          <p:nvPr/>
        </p:nvSpPr>
        <p:spPr>
          <a:xfrm rot="5400000">
            <a:off x="8315640" y="3501360"/>
            <a:ext cx="647640" cy="48420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ight Arrow 12"/>
          <p:cNvSpPr/>
          <p:nvPr/>
        </p:nvSpPr>
        <p:spPr>
          <a:xfrm rot="8973600">
            <a:off x="5873400" y="4710960"/>
            <a:ext cx="649440" cy="484200"/>
          </a:xfrm>
          <a:prstGeom prst="rightArrow">
            <a:avLst>
              <a:gd name="adj1" fmla="val 50000"/>
              <a:gd name="adj2" fmla="val 50148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5" descr="AGMA.bmp"/>
          <p:cNvPicPr/>
          <p:nvPr/>
        </p:nvPicPr>
        <p:blipFill>
          <a:blip r:embed="rId7"/>
          <a:stretch/>
        </p:blipFill>
        <p:spPr>
          <a:xfrm>
            <a:off x="179280" y="3141720"/>
            <a:ext cx="2880000" cy="14810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"/>
          <p:cNvPicPr/>
          <p:nvPr/>
        </p:nvPicPr>
        <p:blipFill>
          <a:blip r:embed="rId8"/>
          <a:stretch/>
        </p:blipFill>
        <p:spPr>
          <a:xfrm>
            <a:off x="3059280" y="5045040"/>
            <a:ext cx="2808000" cy="18129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9" descr=""/>
          <p:cNvPicPr/>
          <p:nvPr/>
        </p:nvPicPr>
        <p:blipFill>
          <a:blip r:embed="rId9"/>
          <a:stretch/>
        </p:blipFill>
        <p:spPr>
          <a:xfrm>
            <a:off x="971640" y="4869000"/>
            <a:ext cx="2714400" cy="5904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0" descr=""/>
          <p:cNvPicPr/>
          <p:nvPr/>
        </p:nvPicPr>
        <p:blipFill>
          <a:blip r:embed="rId10"/>
          <a:stretch/>
        </p:blipFill>
        <p:spPr>
          <a:xfrm>
            <a:off x="395280" y="5516640"/>
            <a:ext cx="2881440" cy="522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2" descr=""/>
          <p:cNvPicPr/>
          <p:nvPr/>
        </p:nvPicPr>
        <p:blipFill>
          <a:blip r:embed="rId11"/>
          <a:stretch/>
        </p:blipFill>
        <p:spPr>
          <a:xfrm>
            <a:off x="826920" y="6093000"/>
            <a:ext cx="2665440" cy="628560"/>
          </a:xfrm>
          <a:prstGeom prst="rect">
            <a:avLst/>
          </a:prstGeom>
          <a:ln w="0">
            <a:noFill/>
          </a:ln>
        </p:spPr>
      </p:pic>
      <p:sp>
        <p:nvSpPr>
          <p:cNvPr id="350" name="Right Arrow 21"/>
          <p:cNvSpPr/>
          <p:nvPr/>
        </p:nvSpPr>
        <p:spPr>
          <a:xfrm rot="13087800">
            <a:off x="3180960" y="4531680"/>
            <a:ext cx="939960" cy="48420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3" descr=""/>
          <p:cNvPicPr/>
          <p:nvPr/>
        </p:nvPicPr>
        <p:blipFill>
          <a:blip r:embed="rId12"/>
          <a:stretch/>
        </p:blipFill>
        <p:spPr>
          <a:xfrm>
            <a:off x="7488360" y="4149720"/>
            <a:ext cx="1655640" cy="1243080"/>
          </a:xfrm>
          <a:prstGeom prst="rect">
            <a:avLst/>
          </a:prstGeom>
          <a:ln w="0">
            <a:noFill/>
          </a:ln>
        </p:spPr>
      </p:pic>
      <p:pic>
        <p:nvPicPr>
          <p:cNvPr id="352" name="TextBox 23" descr=""/>
          <p:cNvPicPr/>
          <p:nvPr/>
        </p:nvPicPr>
        <p:blipFill>
          <a:blip r:embed="rId13"/>
          <a:stretch/>
        </p:blipFill>
        <p:spPr>
          <a:xfrm>
            <a:off x="2560680" y="2951280"/>
            <a:ext cx="1859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pic>
        <p:nvPicPr>
          <p:cNvPr id="354" name="TextBox 5" descr=""/>
          <p:cNvPicPr/>
          <p:nvPr/>
        </p:nvPicPr>
        <p:blipFill>
          <a:blip r:embed="rId2"/>
          <a:stretch/>
        </p:blipFill>
        <p:spPr>
          <a:xfrm>
            <a:off x="3048120" y="3316320"/>
            <a:ext cx="2504880" cy="841320"/>
          </a:xfrm>
          <a:prstGeom prst="rect">
            <a:avLst/>
          </a:prstGeom>
          <a:ln w="0">
            <a:noFill/>
          </a:ln>
        </p:spPr>
      </p:pic>
      <p:pic>
        <p:nvPicPr>
          <p:cNvPr id="355" name="TextBox 7" descr=""/>
          <p:cNvPicPr/>
          <p:nvPr/>
        </p:nvPicPr>
        <p:blipFill>
          <a:blip r:embed="rId3"/>
          <a:stretch/>
        </p:blipFill>
        <p:spPr>
          <a:xfrm>
            <a:off x="5754600" y="3571920"/>
            <a:ext cx="2382840" cy="798480"/>
          </a:xfrm>
          <a:prstGeom prst="rect">
            <a:avLst/>
          </a:prstGeom>
          <a:ln w="0">
            <a:noFill/>
          </a:ln>
        </p:spPr>
      </p:pic>
      <p:pic>
        <p:nvPicPr>
          <p:cNvPr id="356" name="TextBox 8" descr=""/>
          <p:cNvPicPr/>
          <p:nvPr/>
        </p:nvPicPr>
        <p:blipFill>
          <a:blip r:embed="rId4"/>
          <a:stretch/>
        </p:blipFill>
        <p:spPr>
          <a:xfrm>
            <a:off x="3328920" y="2567160"/>
            <a:ext cx="2017800" cy="5173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"/>
          <p:cNvPicPr/>
          <p:nvPr/>
        </p:nvPicPr>
        <p:blipFill>
          <a:blip r:embed="rId5"/>
          <a:stretch/>
        </p:blipFill>
        <p:spPr>
          <a:xfrm>
            <a:off x="324000" y="4508640"/>
            <a:ext cx="3114360" cy="20667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5" descr=""/>
          <p:cNvPicPr/>
          <p:nvPr/>
        </p:nvPicPr>
        <p:blipFill>
          <a:blip r:embed="rId6"/>
          <a:stretch/>
        </p:blipFill>
        <p:spPr>
          <a:xfrm>
            <a:off x="324000" y="3357720"/>
            <a:ext cx="1726920" cy="895320"/>
          </a:xfrm>
          <a:prstGeom prst="rect">
            <a:avLst/>
          </a:prstGeom>
          <a:ln w="0">
            <a:noFill/>
          </a:ln>
        </p:spPr>
      </p:pic>
      <p:cxnSp>
        <p:nvCxnSpPr>
          <p:cNvPr id="359" name="Straight Arrow Connector 12"/>
          <p:cNvCxnSpPr>
            <a:endCxn id="354" idx="1"/>
          </p:cNvCxnSpPr>
          <p:nvPr/>
        </p:nvCxnSpPr>
        <p:spPr>
          <a:xfrm flipV="1">
            <a:off x="2050920" y="3752280"/>
            <a:ext cx="1154880" cy="5292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60" name="Straight Arrow Connector 15"/>
          <p:cNvCxnSpPr>
            <a:stCxn id="354" idx="3"/>
            <a:endCxn id="355" idx="1"/>
          </p:cNvCxnSpPr>
          <p:nvPr/>
        </p:nvCxnSpPr>
        <p:spPr>
          <a:xfrm>
            <a:off x="5465520" y="3752640"/>
            <a:ext cx="402120" cy="21636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61" name="Straight Arrow Connector 16"/>
          <p:cNvCxnSpPr>
            <a:stCxn id="354" idx="0"/>
            <a:endCxn id="356" idx="2"/>
          </p:cNvCxnSpPr>
          <p:nvPr/>
        </p:nvCxnSpPr>
        <p:spPr>
          <a:xfrm flipV="1">
            <a:off x="4334400" y="3006000"/>
            <a:ext cx="1080" cy="42300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headEnd len="med" type="arrow" w="med"/>
            <a:tailEnd len="med" type="arrow" w="med"/>
          </a:ln>
        </p:spPr>
      </p:cxnSp>
      <p:pic>
        <p:nvPicPr>
          <p:cNvPr id="362" name="Picture 5" descr=""/>
          <p:cNvPicPr/>
          <p:nvPr/>
        </p:nvPicPr>
        <p:blipFill>
          <a:blip r:embed="rId7"/>
          <a:stretch/>
        </p:blipFill>
        <p:spPr>
          <a:xfrm>
            <a:off x="2771640" y="1557360"/>
            <a:ext cx="3076560" cy="9810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2000"/>
          </a:bodyPr>
          <a:p>
            <a:pPr marL="402840" indent="-2934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rbel"/>
              </a:rPr>
              <a:t>Determined modernisation of urban asset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rbel"/>
              </a:rPr>
              <a:t>Growing realism/maturity re. development patterns, inter-dependence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rbel"/>
              </a:rPr>
              <a:t>Continuity, ambition, ‘clout’ of City leadership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rbel"/>
              </a:rPr>
              <a:t>Growth of metro executive based on functional (south) and political (north) linkage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rbel"/>
              </a:rPr>
              <a:t>Unique level of influence at national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rbel"/>
              </a:rPr>
              <a:t>based on delivery record, influence, CR narrativ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rbel"/>
              </a:rPr>
              <a:t>Early mover in a ‘decentralist moment’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rbel"/>
              </a:rPr>
              <a:t>Biggest tests are around distributive justice – inter- and intra-districts within GM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40640" cy="12621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55736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rbel"/>
              </a:rPr>
              <a:t>Ambitious city regionalism has been allied to new social policy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rbel"/>
              </a:rPr>
              <a:t>Intervention through spatial pilots of reformed service approaches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rbel"/>
              </a:rPr>
              <a:t>Early Year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rbel"/>
              </a:rPr>
              <a:t>‘</a:t>
            </a:r>
            <a:r>
              <a:rPr b="0" lang="en-GB" sz="2600" spc="-1" strike="noStrike">
                <a:solidFill>
                  <a:srgbClr val="000000"/>
                </a:solidFill>
                <a:latin typeface="Corbel"/>
              </a:rPr>
              <a:t>Better life chances’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rbel"/>
              </a:rPr>
              <a:t>Tackling deprivation and breaking cycles, to integrate into the labour market for (shared?) productivity and prosperity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rbel"/>
              </a:rPr>
              <a:t>Taking better control of transport and infrastructure levers – emulating what city views as success of London (TfL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55736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rbel"/>
              </a:rPr>
              <a:t>Radical impulses in Coalition agenda: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Localism means (potentially) disregard for spatial disparities and Govt. dispassion towards ‘losers’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Big Society means redrawing the boundaries of the state and shift of responsibilit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rbel"/>
              </a:rPr>
              <a:t>Underlying it has been (constrained) local autonomy, but local differences have been under studied by scholars of local government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rbel"/>
              </a:rPr>
              <a:t>In absence of national spatialised-social policy, localist permissiveness and even encouragement of spatial divergence…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rbel"/>
              </a:rPr>
              <a:t>Is Manchester an archetype of neo-municipal interventionist social policy?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Under-bounded core ci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Renaissance’ centre, modern urban assets, modern labour market, southern-facing commuter bel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Hollowed out inner urban area, industrial-era working class housing, ‘social problems’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Manchester grabbed Housing Market Renewal and other regen. programmes as tool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Intense sense of frustration with deprived industrial left-overs, ‘holding back’ economic progress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47120" cy="1262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dev 20"/>
          <p:cNvPicPr/>
          <p:nvPr/>
        </p:nvPicPr>
        <p:blipFill>
          <a:blip r:embed="rId2"/>
          <a:stretch/>
        </p:blipFill>
        <p:spPr>
          <a:xfrm>
            <a:off x="826920" y="1438200"/>
            <a:ext cx="770580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dev 40"/>
          <p:cNvPicPr/>
          <p:nvPr/>
        </p:nvPicPr>
        <p:blipFill>
          <a:blip r:embed="rId1"/>
          <a:stretch/>
        </p:blipFill>
        <p:spPr>
          <a:xfrm>
            <a:off x="395280" y="998640"/>
            <a:ext cx="828036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dev 76"/>
          <p:cNvPicPr/>
          <p:nvPr/>
        </p:nvPicPr>
        <p:blipFill>
          <a:blip r:embed="rId1"/>
          <a:stretch/>
        </p:blipFill>
        <p:spPr>
          <a:xfrm>
            <a:off x="395280" y="1020600"/>
            <a:ext cx="8250120" cy="58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dev 90"/>
          <p:cNvPicPr/>
          <p:nvPr/>
        </p:nvPicPr>
        <p:blipFill>
          <a:blip r:embed="rId1"/>
          <a:stretch/>
        </p:blipFill>
        <p:spPr>
          <a:xfrm>
            <a:off x="395280" y="981000"/>
            <a:ext cx="826308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dev 06"/>
          <p:cNvPicPr/>
          <p:nvPr/>
        </p:nvPicPr>
        <p:blipFill>
          <a:blip r:embed="rId1"/>
          <a:stretch/>
        </p:blipFill>
        <p:spPr>
          <a:xfrm>
            <a:off x="468360" y="1052640"/>
            <a:ext cx="82026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21" name="Content Placeholder 3" descr="1951_pop_density2A"/>
          <p:cNvPicPr/>
          <p:nvPr/>
        </p:nvPicPr>
        <p:blipFill>
          <a:blip r:embed="rId2"/>
          <a:stretch/>
        </p:blipFill>
        <p:spPr>
          <a:xfrm>
            <a:off x="5219640" y="882720"/>
            <a:ext cx="3456000" cy="59752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1951_pop_density_leg2"/>
          <p:cNvPicPr/>
          <p:nvPr/>
        </p:nvPicPr>
        <p:blipFill>
          <a:blip r:embed="rId3"/>
          <a:stretch/>
        </p:blipFill>
        <p:spPr>
          <a:xfrm>
            <a:off x="611280" y="2133720"/>
            <a:ext cx="3852720" cy="230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Content Placeholder 3" descr="1961_pop_density2A"/>
          <p:cNvPicPr/>
          <p:nvPr/>
        </p:nvPicPr>
        <p:blipFill>
          <a:blip r:embed="rId1"/>
          <a:stretch/>
        </p:blipFill>
        <p:spPr>
          <a:xfrm>
            <a:off x="5219640" y="803160"/>
            <a:ext cx="3502080" cy="60548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" descr="1961_pop_density_leg2"/>
          <p:cNvPicPr/>
          <p:nvPr/>
        </p:nvPicPr>
        <p:blipFill>
          <a:blip r:embed="rId2"/>
          <a:stretch/>
        </p:blipFill>
        <p:spPr>
          <a:xfrm>
            <a:off x="826920" y="1989000"/>
            <a:ext cx="381636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0:13:28Z</dcterms:created>
  <dc:creator>MFVSSJER</dc:creator>
  <dc:description/>
  <dc:language>en-US</dc:language>
  <cp:lastModifiedBy>MFVSSJER</cp:lastModifiedBy>
  <dcterms:modified xsi:type="dcterms:W3CDTF">2011-01-27T11:17:54Z</dcterms:modified>
  <cp:revision>20</cp:revision>
  <dc:subject/>
  <dc:title>York pres, Nov 10</dc:title>
</cp:coreProperties>
</file>