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58E-21E4-4B13-93C3-C2D172C4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EEF-B2B6-4068-BE32-13E1AD48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8D7-C445-4987-9FB9-9DD05941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9CA-9A74-4D1A-AF05-45A96500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B1E-BD31-444D-8876-25436288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CF5-ACE4-4744-87BF-6FEA877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0666-D195-4A47-A81B-E1CFC377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456-10BC-4DD3-B75F-54108A61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732B-50E5-43B5-BE06-A6DE649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233-7A88-482B-8DE7-EC98345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40CC-E43A-465E-A2C5-6109FB0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DB4-37E6-4EC1-A22B-D1696828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EF61-4D2C-4116-BE69-99B90E7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256-7A05-40D0-A06B-0EF0F99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781B-F37B-4E6C-AA7B-124B351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B855-B283-4269-95B8-383D4249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DA59-D45F-4C6B-B83E-96E6846B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2E7-E240-4537-A5E1-AD9C5F75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712-3143-47B1-BF71-8099798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E1D-9F69-41F8-944A-0D5A7C7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093-1885-4DF5-9040-AFD5F380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1C8-B3A5-4598-A5C7-9D3A198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31A-0C01-41E7-9326-54EEB63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DD7-CD94-4B2C-AEC2-BEBD6C7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6F15-BE2A-4575-ABB1-7935BCA933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68EE-4E3F-40A1-BAD7-11C84BD453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x Lond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 School of Econo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00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The Mayor,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other mayoral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 created with spatial planning powers and a requirement to produce economic and transport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Development Ag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wth Coalition’ rece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oughs required to set their own plans to conform wi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n Livingstone evolved economic ‘world view’ throug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ondon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overnment and London’s economy today – three leve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Whiteh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ation [City of London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blic sp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May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don Plan, LDA (not for long); LE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boroughs and the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-regional economic groupings, LE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complex? How competitiv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wo levels of ‘London’ gover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gular friction between ti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ny centrally-appointed governance bodies, eg CAA, PLA, English Heritage, Network Rail, ODA, Environment Agency, Homes &amp; Communities Agency etc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ur business lobbies LFirst, CBI, LCCI, FSB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ompetitive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oroughs are to some extent competitive, eg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ity v Tower Hamlets (F&amp;BS); Westminster v City (Skyscrapers, now retail); H&amp;F/Westfield v West End (retail); Croydon v Merton (back office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ndon/GSE’s integrated labour mark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future: tax base competition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 explains much of London’s complex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yor acts as a (relatively weak) economic leader for the city, with a limited growth coal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oughs to some extent compete for economic develo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’s relative GVA growth does not imply complexity is a fatal impedi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t can’t know what would happen with a different system of governm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x Lond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ny Tra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don School of Econo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do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uccessful over the long term despite a long-criticised and much-reformed government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apid 19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century economic growth took place against a backdrop of weak and often failed gover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Metropolitan Board of Works a fragmented joint committee to retro-fit sewers, roads ey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Paris, by contrast: Haussman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volution of government in Lond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y of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y, parishes, district boards, ad hoc com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ropolitan Board of 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 County Council + metropolitan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London Council + 32 boroughs + 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regnum +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London Authority + boroughs/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’, executive Mayor, weak upper 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 Manchester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ches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ssioners for local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ough within Lancash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y Borough outside Lancash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 boundary ext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Manchester County Council + 10 metropolitan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Metropolitan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MA ‘city region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ystems of government have responded to chang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mplo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dustrial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hysical sc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frastructure nee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fL; GMP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velopment of the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atterly an ‘economic development’ role beyond ‘plann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ies and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systems, the provision of infrastructure and delivery of services have facilitated city economic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/strategic/spatial and land use planning evolved after 1947, to include industrial and residential zoning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, latterly, conserv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c development has evolved as a local government activity since mid/late 197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tain’s changed economy has led to dereliction and unemployment in many cities, including parts of London and Greater Manche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97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emergence of economic development challenges for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cline of London D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collapse of manufactu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arp rise in level of unemplo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ay and dereliction in inner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boroughs qualify for Urban Programme gr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tion fell from 7.4m to 6.6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est for Greater London since 19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 London’s population had halved since 1921 – down 25% between 1971 and 19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1980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: Mrs Thatcher vs New Left…a national political event represented in London government’s approach to the economy, e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London Docklands Development Corporation (198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LC – London Industrial Strategy (198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eater London Enterprise 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, abolition of GLC in 19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oroughs start to evolve economic policies, especially in east Lond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 much of decade spent in conflict over finance and poli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ondon’s ‘complex’ approach to economic redevelopment - 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990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ajor government and the evolution of a concerted approach to regeneration and renew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y Challenge and many other funding program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, moderate, boroughs engage with new, moderate, Heseltine-led Do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don First/London First Cent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d in 1992 – major companies and inward investme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don Pride initiative – private and public se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ak ‘growth coalition’ achie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2:01:29Z</dcterms:created>
  <dc:creator>hallas</dc:creator>
  <dc:description/>
  <dc:language>en-US</dc:language>
  <cp:lastModifiedBy>hallas</cp:lastModifiedBy>
  <dcterms:modified xsi:type="dcterms:W3CDTF">2011-01-27T14:13:39Z</dcterms:modified>
  <cp:revision>10</cp:revision>
  <dc:subject/>
  <dc:title>Complex London</dc:title>
</cp:coreProperties>
</file>