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82F-856E-4895-B39B-0A7D3D8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33C-6DB8-44F4-A7B3-B684987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3EC-A728-48E2-96B8-6BC6D85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682-FB15-43DD-BCBB-9374CB8D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E837-DC9B-4A96-B22B-6F718352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930-3980-4F23-B8F9-43678B72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4411-6F8E-4325-8665-08C41F8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9F83-5F03-44BB-9717-4BD5544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8F84-B8E2-470F-9CFF-ACD78F78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E32-6021-47E7-B11C-1DAC1544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CFF4-5665-447E-A56F-7172FF5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160-8284-405C-9047-5F129819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0B17-45CC-4638-A384-5FF952F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7150-EDBE-462F-B921-5AF86AC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457-ED9B-463D-AD95-87EA9ED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5CA-66EC-4478-BA7B-760420A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F5F2-9302-452C-B76C-828DD612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C2C-8FCB-4F53-B7DE-55BBE58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747-B9F8-490F-A25F-5238E2D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ADD-907C-435B-88D5-5E98DB50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477-1FB9-412E-B749-79C0C09B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A35-26F2-4B8B-B4BA-CEA21D4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044-2EAE-42F2-AE43-FCA9F5F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BC7-101B-43EA-AEB9-FBAC1F1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9AC1-A9AA-4A44-963C-7C23280502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966C-5210-4DDF-94AD-D6711D2E61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x Lond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 School of Econo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00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The Mayor,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other mayoral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 created with spatial planning powers and a requirement to produce economic and transport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Development Ag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wth Coalition’ rece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oughs required to set their own plans to conform wi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n Livingstone evolved economic ‘world view’ throug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overnment and London’s economy today – three leve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Whiteh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tion [City of London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blic sp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May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don Plan, LDA (not for long); LE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boroughs and the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-regional economic groupings, LE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complex? How competitiv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wo levels of ‘London’ gover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gular friction between ti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ny centrally-appointed governance bodies, eg CAA, PLA, English Heritage, Network Rail, ODA, Environment Agency, Homes &amp; Communities Agency etc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ur business lobbies LFirst, CBI, LCCI, FSB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mpetitive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oroughs are to some extent competitive, eg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ity v Tower Hamlets (F&amp;BS); Westminster v City (Skyscrapers, now retail); H&amp;F/Westfield v West End (retail); Croydon v Merton (back office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ndon/GSE’s integrated labour mark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future: tax base competition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 explains much of London’s complex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yor acts as a (relatively weak) economic leader for the city, with a limited growth coal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oughs to some extent compete for economic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relative GVA growth does not imply complexity is a fatal impedi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t can’t know what would happen with a different system of governm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x Lond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 School of Econo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do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uccessful over the long term despite a long-criticised and much-reformed government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apid 19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century economic growth took place against a backdrop of weak and often failed gover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Metropolitan Board of Works a fragmented joint committee to retro-fit sewers, roads ey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Paris, by contrast: Haussman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volution of government in Lond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y of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y, parishes, district boards, ad hoc com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ropolitan Board of 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 County Council + metropolitan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London Council + 32 boroughs + 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regnum +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London Authority +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’, executive Mayor, weak upper 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 Manchester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ches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ssioners for local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ough within Lancash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y Borough outside Lancash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 boundary ext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Manchester County Council + 10 metropolitan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Metropolitan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MA ‘city region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ystems of government have responded to chang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mplo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dustrial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hysical sc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frastructure nee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fL; GMP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velopment of the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atterly an ‘economic development’ role beyond ‘plann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ies and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systems, the provision of infrastructure and delivery of services have facilitated city economic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/strategic/spatial and land use planning evolved after 1947, to include industrial and residential zoning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, latterly, conserv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c development has evolved as a local government activity since mid/late 197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tain’s changed economy has led to dereliction and unemployment in many cities, including parts of London and Greater Manche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97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emergence of economic development challenges for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cline of London D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collapse of manufactu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arp rise in level of unemplo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ay and dereliction in inner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boroughs qualify for Urban Programme gr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tion fell from 7.4m to 6.6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est for Greater London since 19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 London’s population had halved since 1921 – down 25% between 1971 and 19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1980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: Mrs Thatcher vs New Left…a national political event represented in London government’s approach to the economy, e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ondon Docklands Development Corporation (198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LC – London Industrial Strategy (198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eater London Enterprise 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, abolition of GLC in 19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oroughs start to evolve economic policies, especially in east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 much of decade spent in conflict over finance and poli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99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ajor government and the evolution of a concerted approach to regeneration and renew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y Challenge and many other funding program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, moderate, boroughs engage with new, moderate, Heseltine-led Do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 First/London First Cent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d in 1992 – major companies and inward investme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Pride initiative – private and public se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ak ‘growth coalition’ achie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2:01:29Z</dcterms:created>
  <dc:creator>hallas</dc:creator>
  <dc:description/>
  <dc:language>en-US</dc:language>
  <cp:lastModifiedBy>hallas</cp:lastModifiedBy>
  <dcterms:modified xsi:type="dcterms:W3CDTF">2011-01-27T14:13:39Z</dcterms:modified>
  <cp:revision>10</cp:revision>
  <dc:subject/>
  <dc:title>Complex London</dc:title>
</cp:coreProperties>
</file>