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1F0-B337-4F64-9FFE-533D1CDA3C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AAD0-06D0-4C20-AF83-7E5EB95C22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F02-792E-44B8-9806-05872CA5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DB4-ABB2-43D0-9CBC-166BDA7A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763-96C4-47EA-91FD-E594F02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4DC-139E-42D4-AB34-05650236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72A-060F-446A-B0A5-403AE70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699-E7D2-4DA1-8A12-08C0AF77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27B-1CC7-4028-956E-CA0B780A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4C5-CECE-406E-B7B2-1BADB38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2B7-4259-4637-87D6-71825C07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620-A729-4FB2-9F0B-2AC12A6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4E3-132D-4795-B241-52B57D25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876-EE30-4B62-9B81-73D1070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4580-450D-43C6-A673-B0D7C53313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52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Case for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vesting in London’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ffordable Hou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5792760" cy="13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ristine ME Whit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7 Jun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5281560"/>
            <a:ext cx="9144000" cy="155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5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Box 5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bjective of th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larify the case for investment in affordable housing in Lond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how why government funding is core to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60" name="Rectangle 5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" name="Group 6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62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Box 9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ree Mai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using need to achieve a decent home for every house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wider benefits of affordable housing to health and wellbeing, the economy and the public p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mbers that can be prov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68" name="Rectangle 4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" name="Group 5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70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Box 8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re households than dwellings and this balance is set to wor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r less space per person then in the rest of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0% of all overcrowded house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5% of all homeless house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75% of all households living in temporary accommo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nts much higher but incomes at lower end of the scale similar to the rest of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76" name="Rectangle 4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" name="Group 5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78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Box 8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ider Benefits 1: Costs of Poor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trong relationship between poor housing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alth c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ducation c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educed employability/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rime and anti-social behaviou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lack of affordable housing a major concern to the business community and therefore economic a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sts of poor housing concentrated in London because of numbers – especially in temporary accommodation -  and unit costs of allevi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84" name="Rectangle 4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86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Box 8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ider Benefits 2: Use of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d more intensively and infrastructure usually already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mes used more intensively – only 10% of new homes allocated above minimum occupancy standard as compared to 40% else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ffordable housing mix includes a higher proportion of intermediate (shallow subsidy) h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ffordable housing in London levers in more private housing especially since the financial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ion multiplier benefits the whol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umbers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o maximise numbers from a given quantity of grants would mean building tiny flats in low demand are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ondon is the opposite – high demand and high cost and needs larger un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ut the case for subsidy should be based on value for money and on capacity to deliver and to lever in additional housing  - not simply on subsidy per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is is especially true as the alternative cost of income related subsidy in the private rented sector is much higher in London than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Numbers 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London is currently providing 30% of new social housing across the count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Although rents can be raised to provide greater borrowing power there are major limi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existing pipeline and slow turnov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Low wag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effect on the benefits bil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negative impact on work incenti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increased risks of borrow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impact of the welfare cap especially on larger household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Makes sense to concentrate subsidy where added value is highest not where rents already close to marke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Without London’s contribution the national pledge of 150,000 affordable homes in this Parliament cannot be m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case for investment based on housing need is overwhel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ffordable housing investment is used more intensively and has the greatest effect on alleviating the social costs of poor hous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ffordable housing in London supports the growth agenda, provides more employment and helps the labour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ubsidy is a necessary part of delivering affordable housing and London has the greatest need for that hous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1:45:10Z</dcterms:created>
  <dc:creator>Administrator</dc:creator>
  <dc:description/>
  <dc:language>en-US</dc:language>
  <cp:lastModifiedBy>LSE</cp:lastModifiedBy>
  <dcterms:modified xsi:type="dcterms:W3CDTF">2011-06-29T09:34:08Z</dcterms:modified>
  <cp:revision>11</cp:revision>
  <dc:subject/>
  <dc:title>The Case for Investing in London’s Affordable Housing</dc:title>
</cp:coreProperties>
</file>