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2B4C-FD00-4546-906C-EC2D0DDC589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F204-16B9-4ABB-A544-4A7B4C1530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010-B05D-4F28-859C-54B3938B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496-4447-4173-89C4-729906C3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6166-BADC-4EE3-9832-43D11D1B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9096-B0E3-49E3-9835-B238B2D9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1FC5-1029-408E-A3C0-9B1CCFA3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2620-1D70-45CD-A08F-7D2AAEE5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0878-1F76-4DA5-ADC0-8F7C84BC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EA89-84F4-4D14-BDE7-D4CE7764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99A6-3421-4B93-99D9-DB6BD553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2B1-FE6A-455F-A36A-725698FC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4D41-95B2-4149-A6D3-0EF6CA5E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B40A-D5FC-4B44-A4F9-CA5C32AF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AF92-0D04-459A-B405-BCAC15E5058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528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he Case for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Investing in London’s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ffordable Hous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3789360"/>
            <a:ext cx="5792760" cy="13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hristine ME White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7 Jun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5281560"/>
            <a:ext cx="9144000" cy="155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0" y="0"/>
            <a:ext cx="9144000" cy="1557360"/>
            <a:chOff x="0" y="0"/>
            <a:chExt cx="9144000" cy="155736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9144000" cy="15573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" name="Group 6"/>
            <p:cNvGrpSpPr/>
            <p:nvPr/>
          </p:nvGrpSpPr>
          <p:grpSpPr>
            <a:xfrm>
              <a:off x="323280" y="137520"/>
              <a:ext cx="8354880" cy="987480"/>
              <a:chOff x="323280" y="137520"/>
              <a:chExt cx="8354880" cy="987480"/>
            </a:xfrm>
          </p:grpSpPr>
          <p:pic>
            <p:nvPicPr>
              <p:cNvPr id="54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323280" y="137520"/>
                <a:ext cx="3803040" cy="9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148000" y="137520"/>
                <a:ext cx="915120" cy="91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TextBox 5"/>
              <p:cNvSpPr/>
              <p:nvPr/>
            </p:nvSpPr>
            <p:spPr>
              <a:xfrm>
                <a:off x="6157800" y="168840"/>
                <a:ext cx="2520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5400" spc="-1" strike="noStrike">
                    <a:solidFill>
                      <a:srgbClr val="000000"/>
                    </a:solidFill>
                    <a:latin typeface="Calibri"/>
                  </a:rPr>
                  <a:t>London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bjective of th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larify the case for investment in affordable housing in Lond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how why government funding is core to su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4"/>
          <p:cNvGrpSpPr/>
          <p:nvPr/>
        </p:nvGrpSpPr>
        <p:grpSpPr>
          <a:xfrm>
            <a:off x="0" y="0"/>
            <a:ext cx="9144000" cy="1557360"/>
            <a:chOff x="0" y="0"/>
            <a:chExt cx="9144000" cy="1557360"/>
          </a:xfrm>
        </p:grpSpPr>
        <p:sp>
          <p:nvSpPr>
            <p:cNvPr id="60" name="Rectangle 5"/>
            <p:cNvSpPr/>
            <p:nvPr/>
          </p:nvSpPr>
          <p:spPr>
            <a:xfrm>
              <a:off x="0" y="0"/>
              <a:ext cx="9144000" cy="15573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" name="Group 6"/>
            <p:cNvGrpSpPr/>
            <p:nvPr/>
          </p:nvGrpSpPr>
          <p:grpSpPr>
            <a:xfrm>
              <a:off x="323280" y="137520"/>
              <a:ext cx="8354880" cy="987480"/>
              <a:chOff x="323280" y="137520"/>
              <a:chExt cx="8354880" cy="987480"/>
            </a:xfrm>
          </p:grpSpPr>
          <p:pic>
            <p:nvPicPr>
              <p:cNvPr id="62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323280" y="137520"/>
                <a:ext cx="3803040" cy="9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148000" y="137520"/>
                <a:ext cx="915120" cy="91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TextBox 9"/>
              <p:cNvSpPr/>
              <p:nvPr/>
            </p:nvSpPr>
            <p:spPr>
              <a:xfrm>
                <a:off x="6157800" y="168840"/>
                <a:ext cx="2520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5400" spc="-1" strike="noStrike">
                    <a:solidFill>
                      <a:srgbClr val="000000"/>
                    </a:solidFill>
                    <a:latin typeface="Calibri"/>
                  </a:rPr>
                  <a:t>London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hree Main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using need to achieve a decent home for every house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wider benefits of affordable housing to health and wellbeing, the economy and the public p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umbers that can be provid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0" y="0"/>
            <a:ext cx="9144000" cy="1557360"/>
            <a:chOff x="0" y="0"/>
            <a:chExt cx="9144000" cy="1557360"/>
          </a:xfrm>
        </p:grpSpPr>
        <p:sp>
          <p:nvSpPr>
            <p:cNvPr id="68" name="Rectangle 4"/>
            <p:cNvSpPr/>
            <p:nvPr/>
          </p:nvSpPr>
          <p:spPr>
            <a:xfrm>
              <a:off x="0" y="0"/>
              <a:ext cx="9144000" cy="15573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" name="Group 5"/>
            <p:cNvGrpSpPr/>
            <p:nvPr/>
          </p:nvGrpSpPr>
          <p:grpSpPr>
            <a:xfrm>
              <a:off x="323280" y="137520"/>
              <a:ext cx="8354880" cy="987480"/>
              <a:chOff x="323280" y="137520"/>
              <a:chExt cx="8354880" cy="987480"/>
            </a:xfrm>
          </p:grpSpPr>
          <p:pic>
            <p:nvPicPr>
              <p:cNvPr id="70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323280" y="137520"/>
                <a:ext cx="3803040" cy="9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148000" y="137520"/>
                <a:ext cx="915120" cy="91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TextBox 8"/>
              <p:cNvSpPr/>
              <p:nvPr/>
            </p:nvSpPr>
            <p:spPr>
              <a:xfrm>
                <a:off x="6157800" y="168840"/>
                <a:ext cx="2520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5400" spc="-1" strike="noStrike">
                    <a:solidFill>
                      <a:srgbClr val="000000"/>
                    </a:solidFill>
                    <a:latin typeface="Calibri"/>
                  </a:rPr>
                  <a:t>London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ousing 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re households than dwellings and this balance is set to wor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ar less space per person then in the rest of the cou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40% of all overcrowded househo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5% of all homeless househo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75% of all households living in temporary accommod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nts much higher but incomes at lower end of the scale similar to the rest of the cou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0" y="0"/>
            <a:ext cx="9144000" cy="1557360"/>
            <a:chOff x="0" y="0"/>
            <a:chExt cx="9144000" cy="1557360"/>
          </a:xfrm>
        </p:grpSpPr>
        <p:sp>
          <p:nvSpPr>
            <p:cNvPr id="76" name="Rectangle 4"/>
            <p:cNvSpPr/>
            <p:nvPr/>
          </p:nvSpPr>
          <p:spPr>
            <a:xfrm>
              <a:off x="0" y="0"/>
              <a:ext cx="9144000" cy="15573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" name="Group 5"/>
            <p:cNvGrpSpPr/>
            <p:nvPr/>
          </p:nvGrpSpPr>
          <p:grpSpPr>
            <a:xfrm>
              <a:off x="323280" y="137520"/>
              <a:ext cx="8354880" cy="987480"/>
              <a:chOff x="323280" y="137520"/>
              <a:chExt cx="8354880" cy="987480"/>
            </a:xfrm>
          </p:grpSpPr>
          <p:pic>
            <p:nvPicPr>
              <p:cNvPr id="78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323280" y="137520"/>
                <a:ext cx="3803040" cy="9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148000" y="137520"/>
                <a:ext cx="915120" cy="91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TextBox 8"/>
              <p:cNvSpPr/>
              <p:nvPr/>
            </p:nvSpPr>
            <p:spPr>
              <a:xfrm>
                <a:off x="6157800" y="168840"/>
                <a:ext cx="2520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5400" spc="-1" strike="noStrike">
                    <a:solidFill>
                      <a:srgbClr val="000000"/>
                    </a:solidFill>
                    <a:latin typeface="Calibri"/>
                  </a:rPr>
                  <a:t>London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ider Benefits 1: Costs of Poor Hou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Strong relationship between poor housing 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ealth cos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ducation cos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Reduced employability/producti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rime and anti-social behaviou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 lack of affordable housing a major concern to the business community and therefore economic acti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sts of poor housing concentrated in London because of numbers – especially in temporary accommodation -  and unit costs of allevi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0" y="0"/>
            <a:ext cx="9144000" cy="1557360"/>
            <a:chOff x="0" y="0"/>
            <a:chExt cx="9144000" cy="1557360"/>
          </a:xfrm>
        </p:grpSpPr>
        <p:sp>
          <p:nvSpPr>
            <p:cNvPr id="84" name="Rectangle 4"/>
            <p:cNvSpPr/>
            <p:nvPr/>
          </p:nvSpPr>
          <p:spPr>
            <a:xfrm>
              <a:off x="0" y="0"/>
              <a:ext cx="9144000" cy="15573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" name="Group 5"/>
            <p:cNvGrpSpPr/>
            <p:nvPr/>
          </p:nvGrpSpPr>
          <p:grpSpPr>
            <a:xfrm>
              <a:off x="323280" y="137520"/>
              <a:ext cx="8354880" cy="987480"/>
              <a:chOff x="323280" y="137520"/>
              <a:chExt cx="8354880" cy="987480"/>
            </a:xfrm>
          </p:grpSpPr>
          <p:pic>
            <p:nvPicPr>
              <p:cNvPr id="86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323280" y="137520"/>
                <a:ext cx="3803040" cy="9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148000" y="137520"/>
                <a:ext cx="915120" cy="91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TextBox 8"/>
              <p:cNvSpPr/>
              <p:nvPr/>
            </p:nvSpPr>
            <p:spPr>
              <a:xfrm>
                <a:off x="6157800" y="168840"/>
                <a:ext cx="2520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5400" spc="-1" strike="noStrike">
                    <a:solidFill>
                      <a:srgbClr val="000000"/>
                    </a:solidFill>
                    <a:latin typeface="Calibri"/>
                  </a:rPr>
                  <a:t>London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ider Benefits 2: Use of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nd used more intensively and infrastructure usually already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mes used more intensively – only 10% of new homes allocated above minimum occupancy standard as compared to 40% elsew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ffordable housing mix includes a higher proportion of intermediate (shallow subsidy) h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ffordable housing in London levers in more private housing especially since the financial cri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truction multiplier benefits the whole cou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Numbers 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o maximise numbers from a given quantity of grants would mean building tiny flats in low demand are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ondon is the opposite – high demand and high cost and needs larger uni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But the case for subsidy should be based on value for money and on capacity to deliver and to lever in additional housing  - not simply on subsidy per uni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is is especially true as the alternative cost of income related subsidy in the private rented sector is much higher in London than elsewhe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Numbers (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London is currently providing 30% of new social housing across the countr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Although rents can be raised to provide greater borrowing power there are major limi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The existing pipeline and slow turnov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Low wag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The effect on the benefits bil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The negative impact on work incentiv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The increased risks of borrow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The impact of the welfare cap especially on larger household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Makes sense to concentrate subsidy where added value is highest not where rents already close to marke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Without London’s contribution the national pledge of 150,000 affordable homes in this Parliament cannot be m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case for investment based on housing need is overwhelm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Affordable housing investment is used more intensively and has the greatest effect on alleviating the social costs of poor hous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Affordable housing in London supports the growth agenda, provides more employment and helps the labour mark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Subsidy is a necessary part of delivering affordable housing and London has the greatest need for that hous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1:45:10Z</dcterms:created>
  <dc:creator>Administrator</dc:creator>
  <dc:description/>
  <dc:language>en-US</dc:language>
  <cp:lastModifiedBy>LSE</cp:lastModifiedBy>
  <dcterms:modified xsi:type="dcterms:W3CDTF">2011-06-29T09:34:08Z</dcterms:modified>
  <cp:revision>11</cp:revision>
  <dc:subject/>
  <dc:title>The Case for Investing in London’s Affordable Housing</dc:title>
</cp:coreProperties>
</file>