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Line 7"/>
          <p:cNvSpPr/>
          <p:nvPr/>
        </p:nvSpPr>
        <p:spPr>
          <a:xfrm>
            <a:off x="304920" y="380880"/>
            <a:ext cx="0" cy="601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Line 8"/>
          <p:cNvSpPr/>
          <p:nvPr/>
        </p:nvSpPr>
        <p:spPr>
          <a:xfrm>
            <a:off x="1371600" y="6629400"/>
            <a:ext cx="7391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11"/>
          <p:cNvSpPr/>
          <p:nvPr/>
        </p:nvSpPr>
        <p:spPr>
          <a:xfrm>
            <a:off x="1676520" y="6477120"/>
            <a:ext cx="7238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457200" y="30492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Picture 15" descr="lselogosm"/>
          <p:cNvPicPr/>
          <p:nvPr/>
        </p:nvPicPr>
        <p:blipFill>
          <a:blip r:embed="rId2"/>
          <a:stretch/>
        </p:blipFill>
        <p:spPr>
          <a:xfrm>
            <a:off x="304920" y="55627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296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Unicode MS"/>
              </a:rPr>
              <a:t>The Case for Scenarios in London Planning: the example of migration policies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99720" y="1981080"/>
            <a:ext cx="735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Ian Gordo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</a:rPr>
              <a:t>LSE London and Spatial Economics Research Centres,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Unicode MS"/>
              </a:rPr>
              <a:t>HEIF4 Development Workshop on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Unicode MS"/>
              </a:rPr>
              <a:t>‘</a:t>
            </a:r>
            <a:r>
              <a:rPr b="1" lang="en-US" sz="2000" spc="-1" strike="noStrike">
                <a:solidFill>
                  <a:srgbClr val="0000ff"/>
                </a:solidFill>
                <a:latin typeface="Arial Unicode MS"/>
              </a:rPr>
              <a:t>London’s Future: a Scenario Approach’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Unicode MS"/>
              </a:rPr>
              <a:t>LSE, 29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 Unicode MS"/>
              </a:rPr>
              <a:t>th</a:t>
            </a:r>
            <a:r>
              <a:rPr b="1" lang="en-US" sz="2000" spc="-1" strike="noStrike">
                <a:solidFill>
                  <a:srgbClr val="0000ff"/>
                </a:solidFill>
                <a:latin typeface="Arial Unicode MS"/>
              </a:rPr>
              <a:t> October 2010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Unicode MS"/>
              </a:rPr>
              <a:t>‘</a:t>
            </a:r>
            <a:r>
              <a:rPr b="0" lang="en-US" sz="3600" spc="-1" strike="noStrike">
                <a:solidFill>
                  <a:srgbClr val="000066"/>
                </a:solidFill>
                <a:latin typeface="Arial Unicode MS"/>
              </a:rPr>
              <a:t>Making a Drama out of a Strategy’ – or ‘keeping to the script’ ?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A decade of Mayoral planning in London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→ 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recurring pleas for consideration of alternative future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first as reaction against Livingstone Plan’s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deterministic high growth assumptions (‘vision’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and lack of Plan B if infrastructure funding was unavailabl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now – more vocally – at EiP on Johnson DRLP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in relation to potential long term impacts of financial crisi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anticipated cuts in pub. exp. + ‘smaller state’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limits on immigration from outside EU (less emphasised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Arguments so far brushed aside, because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current assumptions are the best available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previous experience with scenarios added nothing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plan, monitor, manage’ (PPM) will provide all necessary flexibility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Plan needs to provide </a:t>
            </a:r>
            <a:r>
              <a:rPr b="1" lang="en-GB" sz="1800" spc="-1" strike="noStrike">
                <a:solidFill>
                  <a:srgbClr val="000000"/>
                </a:solidFill>
                <a:latin typeface="Arial Unicode MS"/>
              </a:rPr>
              <a:t>certaintie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to investors / funders / neighbours / CG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5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 Unicode MS"/>
              </a:rPr>
              <a:t>Why Scenarios are Needed for Strategic Planning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ase for thinking (hard) about alternative scenarios is not just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hat there is an inbuilt expansionist bias in LP’s reading of trends;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r that recent economic/political shifts may have big LT implication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But that a strategic approach going beyond simple accommodation of immediately observable trends (now or later via PPM) involves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 wider perspective, on fundamental processes, situations that may have to be faced and how planned actions could impinge on thes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larifying relation between goals, fundamental values/ priorities and (uncertain) reality judgements about change and impacts of actions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nalysing how separate interventions / policies are liable to interact – via the ways that private individuals / firms respond to thes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o do this requires a set of coherent ‘stories’ about how different paths of development (not just trends) might emerge, via both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rious exercises of imagination (distinct from default internal view) +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n evidence-based understanding of how key cause-effect relations work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ven more these would be pre-requisites for any more democratic approach to long-term planning in London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Unicode M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Arial Unicode MS"/>
              </a:rPr>
              <a:t>Some Issues Needing Attention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628280"/>
            <a:ext cx="79534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Baseline scenario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As best guess still prob. too ‘optimistic’ about scale of London growth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(in jobs at least – cf. productivity)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 but key to recognise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Likely repetition of strong boom-bust cycles </a:t>
            </a:r>
            <a:r>
              <a:rPr b="0" i="1" lang="en-GB" sz="1600" spc="-1" strike="noStrike">
                <a:solidFill>
                  <a:srgbClr val="000000"/>
                </a:solidFill>
                <a:latin typeface="Arial Unicode MS"/>
              </a:rPr>
              <a:t>(despite mild present one)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Continuing wide margins of uncertainty about trend (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± 100%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me ‘canonical variations’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 set of threats to underlying conditions particularly boosting London’s competitive position over past 20 years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LPUK 2009):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ancial re-regulation;  a more sustainable UK macro/trade -strategy; northern revanchism in reaction to cuts vs City bailout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wo Coalition policy emphases with potential LT implications;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om big state / welfare to big society (in relation to regeneration and social geography of London housing </a:t>
            </a:r>
            <a:r>
              <a:rPr b="0" i="1" lang="en-GB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cf. Blair CabOff report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jor curtailment of immigration into UK – will </a:t>
            </a:r>
            <a:r>
              <a:rPr b="0" i="1" lang="en-GB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ake as example since (think) connects with some of problems underlying neglect of scenarios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Unicode MS"/>
              </a:rPr>
              <a:t>Thinking Strategically about London Impacts of Tighter Migration Controls</a:t>
            </a:r>
            <a:r>
              <a:rPr b="0" lang="en-US" sz="4000" spc="-1" strike="noStrike">
                <a:solidFill>
                  <a:srgbClr val="000066"/>
                </a:solidFill>
                <a:latin typeface="Arial Unicode MS"/>
              </a:rPr>
              <a:t> 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810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oalition policies involve an annual limit on non-EU econ migrant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onservatives at least expect reduction of UK net flow below 100,000 p.a. as in (most) 1990s rather than c. 200,000 as in 2000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Potentially major impacts on London housing and labour market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But components of population change in London are complex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Births have become largest (positive) element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ubstantial continuing (net) outward migration to rest of UK /GS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Very uneven effects by age &amp; all components causally linked: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Out-moving families reduce impact of London births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Out-moving older people die somewhere els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International migrants effectively displace 50% as many domestic migrants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lan attributes upsurge in population growth since 1988 to impact of in-movement of people of child-bearing age on birth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ay be politic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But key element in acceleration has been international migration in young working age group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nd this is key to housing, labour market and planning implications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54" name="Rectangle 3" descr=""/>
          <p:cNvPicPr/>
          <p:nvPr/>
        </p:nvPicPr>
        <p:blipFill>
          <a:blip r:embed="rId1"/>
          <a:stretch/>
        </p:blipFill>
        <p:spPr>
          <a:xfrm>
            <a:off x="1403280" y="404640"/>
            <a:ext cx="705636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Unicode MS"/>
              </a:rPr>
              <a:t>What Might a Reversal of this Change Imply?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795672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Non-EU flow already cut back by drop in refugee admissions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Effectively reversing rest of growth cannot be taken for granted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But simple arithmetic implies gross reduction of 50k p.a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If 50% displacement rate continued for new arrivals (?) would imply a net change over Plan period of c. 650 k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So potentially very large effect – but how it actually plays out depends on (scarcely examined) set of housing market processes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Also true of repercussions for child population numbers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And of developments at bottom end of London labour market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Where induced fall in wages seems to have induced job growth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But also (probably) contributed to level of voluntary worklessness in Lond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One candidate then for serious examination in scenario term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But lack of attention so far exemplifies two rather general points: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Issues may be neglected because it is impolitic to address them directly;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Needs much more effort to uncovering cause-effect connections and their strengths to get anywhere useful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Conclusion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Many different reasons to give more attention now to serious scenario work for London planning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Even if, as I tend to think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short-medium term impacts of cuts on economy likely to be much worse elsewhere; and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long term prospects for city remain pretty good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Given the political functions of the Plan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may be bit naïve to expect any version of to give great attention to potential down-sides or many alternative view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But PPM is not an adequate/strategic response to real / continuing uncertainties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this needs serious wotk on some ‘canonical’ alternative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especially if anything is to be done about the major ‘democratic deficit’ for this  - primarily strategic  - authority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0:57:57Z</dcterms:created>
  <dc:creator>LSE</dc:creator>
  <dc:description/>
  <dc:language>en-US</dc:language>
  <cp:lastModifiedBy>LSE</cp:lastModifiedBy>
  <dcterms:modified xsi:type="dcterms:W3CDTF">2010-10-28T18:04:54Z</dcterms:modified>
  <cp:revision>6</cp:revision>
  <dc:subject/>
  <dc:title>The Case for Scenarios in London Planning: the example of migration policies</dc:title>
</cp:coreProperties>
</file>