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4.jpeg" ContentType="image/jpe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126E-8628-4A2C-9B5F-6A45D298DC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FD3-D81E-4C9D-9FBF-F4CC06C9564A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2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212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520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2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212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09160" y="10116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2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212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520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2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212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09160" y="10116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72f3d"/>
              </a:gs>
              <a:gs pos="50000">
                <a:srgbClr val="546583"/>
              </a:gs>
              <a:gs pos="100000">
                <a:srgbClr val="272f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" name="Picture 3" descr="Y:\Marketing\Logos\GLA Economics\GLA Economics ol blue 72dpi.jpg"/>
          <p:cNvPicPr/>
          <p:nvPr/>
        </p:nvPicPr>
        <p:blipFill>
          <a:blip r:embed="rId2"/>
          <a:stretch/>
        </p:blipFill>
        <p:spPr>
          <a:xfrm>
            <a:off x="6678720" y="6365880"/>
            <a:ext cx="229068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pic>
        <p:nvPicPr>
          <p:cNvPr id="4" name="Picture 6" descr="Y:\Marketing\Pictures\Dynamic city\dlr master.jpg"/>
          <p:cNvPicPr/>
          <p:nvPr/>
        </p:nvPicPr>
        <p:blipFill>
          <a:blip r:embed="rId3"/>
          <a:stretch/>
        </p:blipFill>
        <p:spPr>
          <a:xfrm>
            <a:off x="-12600" y="0"/>
            <a:ext cx="1058760" cy="1382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Y:\Marketing\Pictures\Dynamic city\mildreds_05 HM.jpg"/>
          <p:cNvPicPr/>
          <p:nvPr/>
        </p:nvPicPr>
        <p:blipFill>
          <a:blip r:embed="rId4"/>
          <a:stretch/>
        </p:blipFill>
        <p:spPr>
          <a:xfrm>
            <a:off x="-12600" y="1362240"/>
            <a:ext cx="1058760" cy="1382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Y:\Marketing\Pictures\Dynamic city\houses3.jpg"/>
          <p:cNvPicPr/>
          <p:nvPr/>
        </p:nvPicPr>
        <p:blipFill>
          <a:blip r:embed="rId5"/>
          <a:stretch/>
        </p:blipFill>
        <p:spPr>
          <a:xfrm>
            <a:off x="-12600" y="2741760"/>
            <a:ext cx="1062000" cy="1384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Y:\Marketing\Pictures\Dynamic city\new bus moving2.jpg"/>
          <p:cNvPicPr/>
          <p:nvPr/>
        </p:nvPicPr>
        <p:blipFill>
          <a:blip r:embed="rId6"/>
          <a:stretch/>
        </p:blipFill>
        <p:spPr>
          <a:xfrm>
            <a:off x="-12600" y="4125960"/>
            <a:ext cx="1062000" cy="1382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Y:\Marketing\Pictures\Dynamic city\FerrisCars tfl.jpg"/>
          <p:cNvPicPr/>
          <p:nvPr/>
        </p:nvPicPr>
        <p:blipFill>
          <a:blip r:embed="rId7"/>
          <a:stretch/>
        </p:blipFill>
        <p:spPr>
          <a:xfrm>
            <a:off x="-12600" y="5479920"/>
            <a:ext cx="1060200" cy="13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Y:\Marketing\Logos\GLA Economics\GLA Economics rev 50% tint.jpg"/>
          <p:cNvPicPr/>
          <p:nvPr/>
        </p:nvPicPr>
        <p:blipFill>
          <a:blip r:embed="rId2"/>
          <a:srcRect l="4402" t="16717" r="7023" b="21499"/>
          <a:stretch/>
        </p:blipFill>
        <p:spPr>
          <a:xfrm>
            <a:off x="6667560" y="6316560"/>
            <a:ext cx="2236680" cy="5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Y:\Marketing\Pictures\Dynamic city\new bus moving2.jpg"/>
          <p:cNvPicPr/>
          <p:nvPr/>
        </p:nvPicPr>
        <p:blipFill>
          <a:blip r:embed="rId3"/>
          <a:stretch/>
        </p:blipFill>
        <p:spPr>
          <a:xfrm>
            <a:off x="-9360" y="4125960"/>
            <a:ext cx="106344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Y:\Marketing\Pictures\Dynamic city\mildreds_05 HM.jpg"/>
          <p:cNvPicPr/>
          <p:nvPr/>
        </p:nvPicPr>
        <p:blipFill>
          <a:blip r:embed="rId4"/>
          <a:stretch/>
        </p:blipFill>
        <p:spPr>
          <a:xfrm>
            <a:off x="-9360" y="1362240"/>
            <a:ext cx="1058760" cy="138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Y:\Marketing\Pictures\Dynamic city\dlr master.jpg"/>
          <p:cNvPicPr/>
          <p:nvPr/>
        </p:nvPicPr>
        <p:blipFill>
          <a:blip r:embed="rId5"/>
          <a:stretch/>
        </p:blipFill>
        <p:spPr>
          <a:xfrm>
            <a:off x="-7920" y="-3240"/>
            <a:ext cx="1058760" cy="138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Y:\Marketing\Pictures\Dynamic city\houses3.jpg"/>
          <p:cNvPicPr/>
          <p:nvPr/>
        </p:nvPicPr>
        <p:blipFill>
          <a:blip r:embed="rId6"/>
          <a:stretch/>
        </p:blipFill>
        <p:spPr>
          <a:xfrm>
            <a:off x="-9360" y="2741760"/>
            <a:ext cx="1062000" cy="138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Y:\Marketing\Pictures\Dynamic city\FerrisCars tfl.jpg"/>
          <p:cNvPicPr/>
          <p:nvPr/>
        </p:nvPicPr>
        <p:blipFill>
          <a:blip r:embed="rId7"/>
          <a:stretch/>
        </p:blipFill>
        <p:spPr>
          <a:xfrm>
            <a:off x="-9360" y="5479920"/>
            <a:ext cx="1060200" cy="1378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17521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Foundry Form Sans"/>
              </a:rPr>
              <a:t>Recession, Recovery and Cuts - What does London need?</a:t>
            </a:r>
            <a:endParaRPr b="1" lang="en-US" sz="40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Bridget Rosewel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Chief Economic Adviser GLA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The split in exports of Services in the UK between financial and non-financial services and between London and the rest of the UK</a:t>
            </a:r>
            <a:endParaRPr b="1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757520" y="1674720"/>
          <a:ext cx="66499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674720"/>
                    <a:ext cx="66499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Pink Book 2010 &amp; GLA Economics Evidence Base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080" y="1674720"/>
            <a:ext cx="76597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At the end of August 2010 the effect of the financial intervention on net borrowing was £111.6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nearly 70% stake in RBS stands at over £18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over 40% stake in Lloyds Group stands at nearly £20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100% stake in Northern Rock has yet to be estimated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Asset Protection Agency’s central expectation is that there will be a net benefit to the taxpayer of at least £5 billion from the Asset Protection Scheme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Public Service employment as a per cent of total employmen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31" name="Object 0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Public Service output as a per cent of total outpu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36" name="Object 0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Times New Roman"/>
              </a:rPr>
              <a:t>Public sector employment as a per cent of total employed workforce (2008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9" name="Picture 1028" descr=""/>
          <p:cNvPicPr/>
          <p:nvPr/>
        </p:nvPicPr>
        <p:blipFill>
          <a:blip r:embed="rId1"/>
          <a:stretch/>
        </p:blipFill>
        <p:spPr>
          <a:xfrm>
            <a:off x="1252440" y="2036880"/>
            <a:ext cx="7659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  <a:ea typeface="Times New Roman"/>
              </a:rPr>
              <a:t>Public sector expenditure per region as a share of GDP (2008/09) 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589040" y="1674720"/>
            <a:ext cx="6985080" cy="4491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95280" y="617220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CEBR</a:t>
            </a:r>
            <a:br>
              <a:rPr sz="1600"/>
            </a:b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Change in share of public sector and growth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4" name="Content Placeholder 5" descr=""/>
          <p:cNvPicPr/>
          <p:nvPr/>
        </p:nvPicPr>
        <p:blipFill>
          <a:blip r:embed="rId1"/>
          <a:stretch/>
        </p:blipFill>
        <p:spPr>
          <a:xfrm>
            <a:off x="1243080" y="1670040"/>
            <a:ext cx="76816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Rolling average growth and public sector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52080" y="1674360"/>
            <a:ext cx="7659720" cy="449100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395360" y="1695600"/>
            <a:ext cx="74311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bubble-chart-public-spend-service-use-london"/>
          <p:cNvPicPr/>
          <p:nvPr/>
        </p:nvPicPr>
        <p:blipFill>
          <a:blip r:embed="rId1"/>
          <a:stretch/>
        </p:blipFill>
        <p:spPr>
          <a:xfrm>
            <a:off x="-1765440" y="-1182600"/>
            <a:ext cx="14295600" cy="92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undry Form Sans"/>
              </a:rPr>
              <a:t>Employment Growth Projections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245440" cy="449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755640" y="134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21832"/>
                </a:solidFill>
                <a:latin typeface="Arial"/>
              </a:rPr>
              <a:t>Employment forecasts for London by various forecasters and the GLA’s long-run employment projection to 2031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0" y="655308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Arial"/>
              </a:rPr>
              <a:t>Source: GLA Economics based on information from EBS, CE and OE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69720" y="64278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21832"/>
                </a:solidFill>
                <a:latin typeface="Foundry Form Sans"/>
              </a:rPr>
              <a:t>10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Recession, Recovery and Cu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oth banks and public spending are under attack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anks are accused of creating crisi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Public spending has also generated structural deficit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Which matters more?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ow is London’s economy most likely to evolve?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Risk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ank finances and regulati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Delivery of new models of public servi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Innovation and confidenc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0116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London’s output has declined significantl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6248520"/>
            <a:ext cx="4011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Source: London: Experian Economics (to Q1 2010)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           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	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 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UK: ONS (to Q3 2010)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02" name="Picture 23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FBS employment as a per cent of total employmen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FBS output as a per cent of total outpu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09" name="Object 7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</a:rPr>
              <a:t>I/O figures on purchases of other sectors from financial services in the UK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295280" y="1600200"/>
          <a:ext cx="76964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696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4"/>
          <p:cNvSpPr/>
          <p:nvPr/>
        </p:nvSpPr>
        <p:spPr>
          <a:xfrm>
            <a:off x="1295280" y="632448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080" y="1674720"/>
            <a:ext cx="76597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As of September 2010 the total effect of the financial intervention on net debt was £109.1 billion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However, £99.5 billion of bank balance sheets had been transferred onto the national debt.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If we examine public sector net debt excluding the temporary interventions then net debt increased by: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12.4 billion due to the equity injection in Lloyds and RBS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1.4 billion due to the capital injection into Northern Rock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2.7 billion due to depositor compensation relate to Bradford and Bingley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</a:rPr>
              <a:t>The structural component of the budget deficit (as a proportion of GDP)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89040" y="1674720"/>
            <a:ext cx="6986520" cy="4491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  <a:ea typeface="Times New Roman"/>
              </a:rPr>
              <a:t>Source: HM Treasury, Public Sector Finances Databan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 continued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757520" y="1674720"/>
          <a:ext cx="66499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674720"/>
                    <a:ext cx="66499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45:18Z</dcterms:created>
  <dc:creator>GDouglass</dc:creator>
  <dc:description/>
  <dc:language>en-US</dc:language>
  <cp:lastModifiedBy>Bridget</cp:lastModifiedBy>
  <dcterms:modified xsi:type="dcterms:W3CDTF">2010-10-29T09:38:54Z</dcterms:modified>
  <cp:revision>18</cp:revision>
  <dc:subject/>
  <dc:title>Budget 2008 (or the economics of Kylie Minogue)</dc:title>
</cp:coreProperties>
</file>