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wmf" ContentType="image/x-wmf"/>
  <Override PartName="/ppt/media/image4.jpeg" ContentType="image/jpeg"/>
  <Override PartName="/ppt/media/image12.png" ContentType="image/png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8.png" ContentType="image/png"/>
  <Override PartName="/ppt/media/image16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7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1"/>
          </p:nvPr>
        </p:nvSpPr>
        <p:spPr>
          <a:xfrm>
            <a:off x="37731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85104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2"/>
          </p:nvPr>
        </p:nvSpPr>
        <p:spPr>
          <a:xfrm>
            <a:off x="-3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3"/>
          </p:nvPr>
        </p:nvSpPr>
        <p:spPr>
          <a:xfrm>
            <a:off x="37731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982E-7F9B-424F-B46F-304A7A9B6B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4ED7-15C8-47D4-AB4C-1266E8125CDA}" type="slidenum">
              <a:rPr b="0" lang="en-GB" sz="1200" spc="-1" strike="noStrike">
                <a:solidFill>
                  <a:srgbClr val="02183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52080" y="1674360"/>
            <a:ext cx="76597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52080" y="4020120"/>
            <a:ext cx="76597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52080" y="1674360"/>
            <a:ext cx="3737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77160" y="1674360"/>
            <a:ext cx="3737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52080" y="4020120"/>
            <a:ext cx="3737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77160" y="4020120"/>
            <a:ext cx="3737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52080" y="1674360"/>
            <a:ext cx="246636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280" y="1674360"/>
            <a:ext cx="246636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32120" y="1674360"/>
            <a:ext cx="246636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52080" y="4020120"/>
            <a:ext cx="246636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280" y="4020120"/>
            <a:ext cx="246636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32120" y="4020120"/>
            <a:ext cx="246636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52080" y="1674360"/>
            <a:ext cx="76597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52080" y="1674360"/>
            <a:ext cx="765972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52080" y="1674360"/>
            <a:ext cx="3737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7160" y="1674360"/>
            <a:ext cx="3737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09160" y="101160"/>
            <a:ext cx="765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52080" y="1674360"/>
            <a:ext cx="3737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77160" y="1674360"/>
            <a:ext cx="3737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52080" y="4020120"/>
            <a:ext cx="3737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52080" y="1674360"/>
            <a:ext cx="76597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52080" y="1674360"/>
            <a:ext cx="3737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77160" y="1674360"/>
            <a:ext cx="3737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77160" y="4020120"/>
            <a:ext cx="3737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2080" y="1674360"/>
            <a:ext cx="3737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77160" y="1674360"/>
            <a:ext cx="3737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52080" y="4020120"/>
            <a:ext cx="76597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52080" y="1674360"/>
            <a:ext cx="76597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52080" y="4020120"/>
            <a:ext cx="76597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080" y="1674360"/>
            <a:ext cx="3737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77160" y="1674360"/>
            <a:ext cx="3737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2080" y="4020120"/>
            <a:ext cx="3737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77160" y="4020120"/>
            <a:ext cx="3737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52080" y="1674360"/>
            <a:ext cx="246636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280" y="1674360"/>
            <a:ext cx="246636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2120" y="1674360"/>
            <a:ext cx="246636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52080" y="4020120"/>
            <a:ext cx="246636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280" y="4020120"/>
            <a:ext cx="246636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2120" y="4020120"/>
            <a:ext cx="246636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52080" y="1674360"/>
            <a:ext cx="765972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52080" y="1674360"/>
            <a:ext cx="3737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77160" y="1674360"/>
            <a:ext cx="3737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09160" y="101160"/>
            <a:ext cx="765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52080" y="1674360"/>
            <a:ext cx="3737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77160" y="1674360"/>
            <a:ext cx="3737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52080" y="4020120"/>
            <a:ext cx="3737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52080" y="1674360"/>
            <a:ext cx="3737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77160" y="1674360"/>
            <a:ext cx="3737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77160" y="4020120"/>
            <a:ext cx="3737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52080" y="1674360"/>
            <a:ext cx="3737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7160" y="1674360"/>
            <a:ext cx="37378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52080" y="4020120"/>
            <a:ext cx="765972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image" Target="../media/image4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363680"/>
          </a:xfrm>
          <a:prstGeom prst="rect">
            <a:avLst/>
          </a:prstGeom>
          <a:gradFill rotWithShape="0">
            <a:gsLst>
              <a:gs pos="0">
                <a:srgbClr val="272f3d"/>
              </a:gs>
              <a:gs pos="50000">
                <a:srgbClr val="546583"/>
              </a:gs>
              <a:gs pos="100000">
                <a:srgbClr val="272f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pic>
        <p:nvPicPr>
          <p:cNvPr id="1" name="Picture 3" descr="Y:\Marketing\Logos\GLA Economics\GLA Economics ol blue 72dpi.jpg"/>
          <p:cNvPicPr/>
          <p:nvPr/>
        </p:nvPicPr>
        <p:blipFill>
          <a:blip r:embed="rId2"/>
          <a:stretch/>
        </p:blipFill>
        <p:spPr>
          <a:xfrm>
            <a:off x="6678720" y="6365880"/>
            <a:ext cx="229068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52080" y="1674360"/>
            <a:ext cx="765972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Click to edit the outline text format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1" marL="743040" indent="-285840">
              <a:spcBef>
                <a:spcPts val="700"/>
              </a:spcBef>
              <a:buClr>
                <a:srgbClr val="546583"/>
              </a:buClr>
              <a:buFont typeface="Foundry Form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Second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2" marL="1143000" indent="-228600">
              <a:spcBef>
                <a:spcPts val="700"/>
              </a:spcBef>
              <a:buClr>
                <a:srgbClr val="546583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Third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3" marL="1600200" indent="-228600">
              <a:spcBef>
                <a:spcPts val="700"/>
              </a:spcBef>
              <a:buClr>
                <a:srgbClr val="546583"/>
              </a:buClr>
              <a:buFont typeface="Foundry Form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Fourth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4" marL="2057400" indent="-228600">
              <a:spcBef>
                <a:spcPts val="700"/>
              </a:spcBef>
              <a:buClr>
                <a:srgbClr val="546583"/>
              </a:buClr>
              <a:buFont typeface="Foundry Form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Fifth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5" marL="2057400" indent="-228600">
              <a:spcBef>
                <a:spcPts val="700"/>
              </a:spcBef>
              <a:buClr>
                <a:srgbClr val="021832"/>
              </a:buClr>
              <a:buFont typeface="Foundry Form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Sixth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6" marL="2057400" indent="-228600">
              <a:spcBef>
                <a:spcPts val="700"/>
              </a:spcBef>
              <a:buClr>
                <a:srgbClr val="021832"/>
              </a:buClr>
              <a:buFont typeface="Foundry Form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Seventh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pic>
        <p:nvPicPr>
          <p:cNvPr id="4" name="Picture 6" descr="Y:\Marketing\Pictures\Dynamic city\dlr master.jpg"/>
          <p:cNvPicPr/>
          <p:nvPr/>
        </p:nvPicPr>
        <p:blipFill>
          <a:blip r:embed="rId3"/>
          <a:stretch/>
        </p:blipFill>
        <p:spPr>
          <a:xfrm>
            <a:off x="-12600" y="0"/>
            <a:ext cx="1058760" cy="13827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Y:\Marketing\Pictures\Dynamic city\mildreds_05 HM.jpg"/>
          <p:cNvPicPr/>
          <p:nvPr/>
        </p:nvPicPr>
        <p:blipFill>
          <a:blip r:embed="rId4"/>
          <a:stretch/>
        </p:blipFill>
        <p:spPr>
          <a:xfrm>
            <a:off x="-12600" y="1362240"/>
            <a:ext cx="1058760" cy="13824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Y:\Marketing\Pictures\Dynamic city\houses3.jpg"/>
          <p:cNvPicPr/>
          <p:nvPr/>
        </p:nvPicPr>
        <p:blipFill>
          <a:blip r:embed="rId5"/>
          <a:stretch/>
        </p:blipFill>
        <p:spPr>
          <a:xfrm>
            <a:off x="-12600" y="2741760"/>
            <a:ext cx="1062000" cy="13842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Y:\Marketing\Pictures\Dynamic city\new bus moving2.jpg"/>
          <p:cNvPicPr/>
          <p:nvPr/>
        </p:nvPicPr>
        <p:blipFill>
          <a:blip r:embed="rId6"/>
          <a:stretch/>
        </p:blipFill>
        <p:spPr>
          <a:xfrm>
            <a:off x="-12600" y="4125960"/>
            <a:ext cx="1062000" cy="13827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Y:\Marketing\Pictures\Dynamic city\FerrisCars tfl.jpg"/>
          <p:cNvPicPr/>
          <p:nvPr/>
        </p:nvPicPr>
        <p:blipFill>
          <a:blip r:embed="rId7"/>
          <a:stretch/>
        </p:blipFill>
        <p:spPr>
          <a:xfrm>
            <a:off x="-12600" y="5479920"/>
            <a:ext cx="1060200" cy="137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18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Y:\Marketing\Logos\GLA Economics\GLA Economics rev 50% tint.jpg"/>
          <p:cNvPicPr/>
          <p:nvPr/>
        </p:nvPicPr>
        <p:blipFill>
          <a:blip r:embed="rId2"/>
          <a:srcRect l="4402" t="16717" r="7023" b="21499"/>
          <a:stretch/>
        </p:blipFill>
        <p:spPr>
          <a:xfrm>
            <a:off x="6667560" y="6316560"/>
            <a:ext cx="2236680" cy="515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Y:\Marketing\Pictures\Dynamic city\new bus moving2.jpg"/>
          <p:cNvPicPr/>
          <p:nvPr/>
        </p:nvPicPr>
        <p:blipFill>
          <a:blip r:embed="rId3"/>
          <a:stretch/>
        </p:blipFill>
        <p:spPr>
          <a:xfrm>
            <a:off x="-9360" y="4125960"/>
            <a:ext cx="1063440" cy="1382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Y:\Marketing\Pictures\Dynamic city\mildreds_05 HM.jpg"/>
          <p:cNvPicPr/>
          <p:nvPr/>
        </p:nvPicPr>
        <p:blipFill>
          <a:blip r:embed="rId4"/>
          <a:stretch/>
        </p:blipFill>
        <p:spPr>
          <a:xfrm>
            <a:off x="-9360" y="1362240"/>
            <a:ext cx="1058760" cy="1382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Y:\Marketing\Pictures\Dynamic city\dlr master.jpg"/>
          <p:cNvPicPr/>
          <p:nvPr/>
        </p:nvPicPr>
        <p:blipFill>
          <a:blip r:embed="rId5"/>
          <a:stretch/>
        </p:blipFill>
        <p:spPr>
          <a:xfrm>
            <a:off x="-7920" y="-3240"/>
            <a:ext cx="1058760" cy="1382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Y:\Marketing\Pictures\Dynamic city\houses3.jpg"/>
          <p:cNvPicPr/>
          <p:nvPr/>
        </p:nvPicPr>
        <p:blipFill>
          <a:blip r:embed="rId6"/>
          <a:stretch/>
        </p:blipFill>
        <p:spPr>
          <a:xfrm>
            <a:off x="-9360" y="2741760"/>
            <a:ext cx="1062000" cy="1384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Y:\Marketing\Pictures\Dynamic city\FerrisCars tfl.jpg"/>
          <p:cNvPicPr/>
          <p:nvPr/>
        </p:nvPicPr>
        <p:blipFill>
          <a:blip r:embed="rId7"/>
          <a:stretch/>
        </p:blipFill>
        <p:spPr>
          <a:xfrm>
            <a:off x="-9360" y="5479920"/>
            <a:ext cx="1060200" cy="13780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080" y="1674360"/>
            <a:ext cx="765972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Click to edit the outline text format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1" marL="743040" indent="-285840">
              <a:spcBef>
                <a:spcPts val="700"/>
              </a:spcBef>
              <a:buClr>
                <a:srgbClr val="546583"/>
              </a:buClr>
              <a:buFont typeface="Foundry Form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Second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2" marL="1143000" indent="-228600">
              <a:spcBef>
                <a:spcPts val="700"/>
              </a:spcBef>
              <a:buClr>
                <a:srgbClr val="546583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Third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3" marL="1600200" indent="-228600">
              <a:spcBef>
                <a:spcPts val="700"/>
              </a:spcBef>
              <a:buClr>
                <a:srgbClr val="546583"/>
              </a:buClr>
              <a:buFont typeface="Foundry Form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Fourth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4" marL="2057400" indent="-228600">
              <a:spcBef>
                <a:spcPts val="700"/>
              </a:spcBef>
              <a:buClr>
                <a:srgbClr val="546583"/>
              </a:buClr>
              <a:buFont typeface="Foundry Form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Fifth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5" marL="2057400" indent="-228600">
              <a:spcBef>
                <a:spcPts val="700"/>
              </a:spcBef>
              <a:buClr>
                <a:srgbClr val="021832"/>
              </a:buClr>
              <a:buFont typeface="Foundry Form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Sixth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6" marL="2057400" indent="-228600">
              <a:spcBef>
                <a:spcPts val="700"/>
              </a:spcBef>
              <a:buClr>
                <a:srgbClr val="021832"/>
              </a:buClr>
              <a:buFont typeface="Foundry Form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Seventh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175212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Foundry Form Sans"/>
              </a:rPr>
              <a:t>Recession, Recovery and Cuts - What does London need?</a:t>
            </a:r>
            <a:endParaRPr b="1" lang="en-US" sz="40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765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oundry Form Sans"/>
              </a:rPr>
              <a:t>Bridget Rosewell</a:t>
            </a:r>
            <a:endParaRPr b="0" lang="en-US" sz="2400" spc="-1" strike="noStrike">
              <a:solidFill>
                <a:srgbClr val="021832"/>
              </a:solidFill>
              <a:latin typeface="Foundry Form San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oundry Form Sans"/>
              </a:rPr>
              <a:t>Chief Economic Adviser GLA</a:t>
            </a:r>
            <a:endParaRPr b="0" lang="en-US" sz="24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undry Form Sans"/>
              </a:rPr>
              <a:t>The split in exports of Services in the UK between financial and non-financial services and between London and the rest of the UK</a:t>
            </a:r>
            <a:endParaRPr b="1" lang="en-US" sz="2400" spc="-1" strike="noStrike">
              <a:solidFill>
                <a:srgbClr val="ffffff"/>
              </a:solidFill>
              <a:latin typeface="Foundry Form Sans"/>
            </a:endParaRPr>
          </a:p>
        </p:txBody>
      </p:sp>
      <p:graphicFrame>
        <p:nvGraphicFramePr>
          <p:cNvPr id="125" name="Object 3"/>
          <p:cNvGraphicFramePr/>
          <p:nvPr/>
        </p:nvGraphicFramePr>
        <p:xfrm>
          <a:off x="1757520" y="1674720"/>
          <a:ext cx="6649920" cy="44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7520" y="1674720"/>
                    <a:ext cx="66499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Text Box 4"/>
          <p:cNvSpPr/>
          <p:nvPr/>
        </p:nvSpPr>
        <p:spPr>
          <a:xfrm>
            <a:off x="1295280" y="6172200"/>
            <a:ext cx="563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21832"/>
                </a:solidFill>
                <a:latin typeface="Foundry Form Sans"/>
              </a:rPr>
              <a:t>Source: Pink Book 2010 &amp; GLA Economics Evidence Base</a:t>
            </a:r>
            <a:endParaRPr b="0" lang="en-US" sz="16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The financial sector bailout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2080" y="1674720"/>
            <a:ext cx="765972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75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21832"/>
                </a:solidFill>
                <a:latin typeface="Foundry Form Sans"/>
              </a:rPr>
              <a:t>At the end of August 2010 the effect of the financial intervention on net borrowing was £111.6billion</a:t>
            </a:r>
            <a:endParaRPr b="0" lang="en-US" sz="2700" spc="-1" strike="noStrike">
              <a:solidFill>
                <a:srgbClr val="021832"/>
              </a:solidFill>
              <a:latin typeface="Foundry Form Sans"/>
            </a:endParaRPr>
          </a:p>
          <a:p>
            <a:pPr marL="301680" indent="-301680">
              <a:lnSpc>
                <a:spcPct val="90000"/>
              </a:lnSpc>
              <a:spcBef>
                <a:spcPts val="675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21832"/>
                </a:solidFill>
                <a:latin typeface="Foundry Form Sans"/>
              </a:rPr>
              <a:t>The value of the Government’s nearly 70% stake in RBS stands at over £18billion</a:t>
            </a:r>
            <a:endParaRPr b="0" lang="en-US" sz="2700" spc="-1" strike="noStrike">
              <a:solidFill>
                <a:srgbClr val="021832"/>
              </a:solidFill>
              <a:latin typeface="Foundry Form Sans"/>
            </a:endParaRPr>
          </a:p>
          <a:p>
            <a:pPr marL="301680" indent="-301680">
              <a:lnSpc>
                <a:spcPct val="90000"/>
              </a:lnSpc>
              <a:spcBef>
                <a:spcPts val="675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21832"/>
                </a:solidFill>
                <a:latin typeface="Foundry Form Sans"/>
              </a:rPr>
              <a:t>The value of the Government’s over 40% stake in Lloyds Group stands at nearly £20billion</a:t>
            </a:r>
            <a:endParaRPr b="0" lang="en-US" sz="2700" spc="-1" strike="noStrike">
              <a:solidFill>
                <a:srgbClr val="021832"/>
              </a:solidFill>
              <a:latin typeface="Foundry Form Sans"/>
            </a:endParaRPr>
          </a:p>
          <a:p>
            <a:pPr marL="301680" indent="-301680">
              <a:lnSpc>
                <a:spcPct val="90000"/>
              </a:lnSpc>
              <a:spcBef>
                <a:spcPts val="675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21832"/>
                </a:solidFill>
                <a:latin typeface="Foundry Form Sans"/>
              </a:rPr>
              <a:t>The value of the Government’s 100% stake in Northern Rock has yet to be estimated</a:t>
            </a:r>
            <a:endParaRPr b="0" lang="en-US" sz="2700" spc="-1" strike="noStrike">
              <a:solidFill>
                <a:srgbClr val="021832"/>
              </a:solidFill>
              <a:latin typeface="Foundry Form Sans"/>
            </a:endParaRPr>
          </a:p>
          <a:p>
            <a:pPr marL="301680" indent="-301680">
              <a:lnSpc>
                <a:spcPct val="90000"/>
              </a:lnSpc>
              <a:spcBef>
                <a:spcPts val="675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21832"/>
                </a:solidFill>
                <a:latin typeface="Foundry Form Sans"/>
              </a:rPr>
              <a:t>The Asset Protection Agency’s central expectation is that there will be a net benefit to the taxpayer of at least £5 billion from the Asset Protection Scheme</a:t>
            </a:r>
            <a:endParaRPr b="0" lang="en-US" sz="2700" spc="-1" strike="noStrike">
              <a:solidFill>
                <a:srgbClr val="021832"/>
              </a:solidFill>
              <a:latin typeface="Foundry Form Sans"/>
            </a:endParaRPr>
          </a:p>
          <a:p>
            <a:pPr marL="30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21832"/>
              </a:solidFill>
              <a:latin typeface="Foundry Form Sans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1832"/>
              </a:solidFill>
              <a:latin typeface="Foundry Form Sans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Foundry Form Sans"/>
                <a:ea typeface="Arial"/>
              </a:rPr>
              <a:t>Public Service employment as a per cent of total employment in London in 2009</a:t>
            </a:r>
            <a:endParaRPr b="1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graphicFrame>
        <p:nvGraphicFramePr>
          <p:cNvPr id="131" name="Object 0"/>
          <p:cNvGraphicFramePr/>
          <p:nvPr/>
        </p:nvGraphicFramePr>
        <p:xfrm>
          <a:off x="1427040" y="1674720"/>
          <a:ext cx="7310520" cy="44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7040" y="1674720"/>
                    <a:ext cx="73105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4"/>
          <p:cNvSpPr/>
          <p:nvPr/>
        </p:nvSpPr>
        <p:spPr>
          <a:xfrm>
            <a:off x="1295280" y="6172200"/>
            <a:ext cx="563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21832"/>
                </a:solidFill>
                <a:latin typeface="Foundry Form Sans"/>
              </a:rPr>
              <a:t>Source: Experian Economics</a:t>
            </a:r>
            <a:endParaRPr b="0" lang="en-US" sz="16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Foundry Form Sans"/>
                <a:ea typeface="Arial"/>
              </a:rPr>
              <a:t>Public Service output as a per cent of total output in London in 2009</a:t>
            </a:r>
            <a:endParaRPr b="1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295280" y="6172200"/>
            <a:ext cx="563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21832"/>
                </a:solidFill>
                <a:latin typeface="Foundry Form Sans"/>
              </a:rPr>
              <a:t>Source: Experian Economics</a:t>
            </a:r>
            <a:endParaRPr b="0" lang="en-US" sz="1600" spc="-1" strike="noStrike">
              <a:solidFill>
                <a:srgbClr val="021832"/>
              </a:solidFill>
              <a:latin typeface="Times New Roman"/>
            </a:endParaRPr>
          </a:p>
        </p:txBody>
      </p:sp>
      <p:graphicFrame>
        <p:nvGraphicFramePr>
          <p:cNvPr id="136" name="Object 0"/>
          <p:cNvGraphicFramePr/>
          <p:nvPr/>
        </p:nvGraphicFramePr>
        <p:xfrm>
          <a:off x="1427040" y="1674720"/>
          <a:ext cx="7310520" cy="44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7040" y="1674720"/>
                    <a:ext cx="73105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Foundry Form Sans"/>
                <a:ea typeface="Times New Roman"/>
              </a:rPr>
              <a:t>Public sector employment as a per cent of total employed workforce (2008)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39" name="Picture 1028" descr=""/>
          <p:cNvPicPr/>
          <p:nvPr/>
        </p:nvPicPr>
        <p:blipFill>
          <a:blip r:embed="rId1"/>
          <a:stretch/>
        </p:blipFill>
        <p:spPr>
          <a:xfrm>
            <a:off x="1252440" y="2036880"/>
            <a:ext cx="765972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  <a:ea typeface="Times New Roman"/>
              </a:rPr>
              <a:t>Public sector expenditure per region as a share of GDP (2008/09) 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589040" y="1674720"/>
            <a:ext cx="6985080" cy="4491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1295280" y="6172200"/>
            <a:ext cx="563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21832"/>
                </a:solidFill>
                <a:latin typeface="Foundry Form Sans"/>
              </a:rPr>
              <a:t>Source: CEBR</a:t>
            </a:r>
            <a:br>
              <a:rPr sz="1600"/>
            </a:br>
            <a:endParaRPr b="0" lang="en-US" sz="16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Change in share of public sector and growth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44" name="Content Placeholder 5" descr=""/>
          <p:cNvPicPr/>
          <p:nvPr/>
        </p:nvPicPr>
        <p:blipFill>
          <a:blip r:embed="rId1"/>
          <a:stretch/>
        </p:blipFill>
        <p:spPr>
          <a:xfrm>
            <a:off x="1243080" y="1670040"/>
            <a:ext cx="768168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Rolling average growth and public sector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252080" y="1674360"/>
            <a:ext cx="7659720" cy="4491000"/>
          </a:xfrm>
          <a:prstGeom prst="rect">
            <a:avLst/>
          </a:prstGeom>
          <a:ln w="0">
            <a:noFill/>
          </a:ln>
        </p:spPr>
      </p:pic>
      <p:pic>
        <p:nvPicPr>
          <p:cNvPr id="147" name="Chart 3" descr=""/>
          <p:cNvPicPr/>
          <p:nvPr/>
        </p:nvPicPr>
        <p:blipFill>
          <a:blip r:embed="rId2"/>
          <a:stretch/>
        </p:blipFill>
        <p:spPr>
          <a:xfrm>
            <a:off x="1395360" y="1695600"/>
            <a:ext cx="743112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bubble-chart-public-spend-service-use-london"/>
          <p:cNvPicPr/>
          <p:nvPr/>
        </p:nvPicPr>
        <p:blipFill>
          <a:blip r:embed="rId1"/>
          <a:stretch/>
        </p:blipFill>
        <p:spPr>
          <a:xfrm>
            <a:off x="-1765440" y="-1182600"/>
            <a:ext cx="14295600" cy="922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oundry Form Sans"/>
              </a:rPr>
              <a:t>Employment Growth Projections</a:t>
            </a:r>
            <a:endParaRPr b="1" lang="en-US" sz="28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50" name="Object 2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8245440" cy="4491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1"/>
          <p:cNvSpPr/>
          <p:nvPr/>
        </p:nvSpPr>
        <p:spPr>
          <a:xfrm>
            <a:off x="755640" y="134136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21832"/>
                </a:solidFill>
                <a:latin typeface="Arial"/>
              </a:rPr>
              <a:t>Employment forecasts for London by various forecasters and the GLA’s long-run employment projection to 2031</a:t>
            </a:r>
            <a:endParaRPr b="0" lang="en-US" sz="18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0" y="6553080"/>
            <a:ext cx="756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21832"/>
                </a:solidFill>
                <a:latin typeface="Arial"/>
              </a:rPr>
              <a:t>Source: GLA Economics based on information from EBS, CE and OE</a:t>
            </a:r>
            <a:endParaRPr b="0" lang="en-US" sz="1400" spc="-1" strike="noStrike">
              <a:solidFill>
                <a:srgbClr val="021832"/>
              </a:solidFill>
              <a:latin typeface="Times New Roman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369720" y="642780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21832"/>
                </a:solidFill>
                <a:latin typeface="Foundry Form Sans"/>
              </a:rPr>
              <a:t>10</a:t>
            </a:r>
            <a:endParaRPr b="0" lang="en-US" sz="10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Recession, Recovery and Cuts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52080" y="1674360"/>
            <a:ext cx="765972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21832"/>
                </a:solidFill>
                <a:latin typeface="Foundry Form Sans"/>
              </a:rPr>
              <a:t>Both banks and public spending are under attack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21832"/>
                </a:solidFill>
                <a:latin typeface="Foundry Form Sans"/>
              </a:rPr>
              <a:t>Banks are accused of creating crisis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21832"/>
                </a:solidFill>
                <a:latin typeface="Foundry Form Sans"/>
              </a:rPr>
              <a:t>Public spending has also generated structural deficits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21832"/>
                </a:solidFill>
                <a:latin typeface="Foundry Form Sans"/>
              </a:rPr>
              <a:t>Which matters more?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21832"/>
                </a:solidFill>
                <a:latin typeface="Foundry Form Sans"/>
              </a:rPr>
              <a:t>How is London’s economy most likely to evolve?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Risks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252080" y="1674360"/>
            <a:ext cx="765972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21832"/>
                </a:solidFill>
                <a:latin typeface="Foundry Form Sans"/>
              </a:rPr>
              <a:t>Bank finances and regulation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21832"/>
                </a:solidFill>
                <a:latin typeface="Foundry Form Sans"/>
              </a:rPr>
              <a:t>Delivery of new models of public services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21832"/>
                </a:solidFill>
                <a:latin typeface="Foundry Form Sans"/>
              </a:rPr>
              <a:t>Innovation and confidence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101160"/>
            <a:ext cx="85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London’s output has declined significantly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79280" y="6248520"/>
            <a:ext cx="40118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21832"/>
                </a:solidFill>
                <a:latin typeface="Foundry Form Sans"/>
              </a:rPr>
              <a:t>Source: London: Experian Economics (to Q1 2010)</a:t>
            </a:r>
            <a:endParaRPr b="0" lang="en-US" sz="1400" spc="-1" strike="noStrike">
              <a:solidFill>
                <a:srgbClr val="02183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21832"/>
                </a:solidFill>
                <a:latin typeface="Foundry Form Sans"/>
              </a:rPr>
              <a:t>           </a:t>
            </a:r>
            <a:r>
              <a:rPr b="0" i="1" lang="en-GB" sz="1400" spc="-1" strike="noStrike">
                <a:solidFill>
                  <a:srgbClr val="021832"/>
                </a:solidFill>
                <a:latin typeface="Foundry Form Sans"/>
              </a:rPr>
              <a:t>	</a:t>
            </a:r>
            <a:r>
              <a:rPr b="0" i="1" lang="en-GB" sz="1400" spc="-1" strike="noStrike">
                <a:solidFill>
                  <a:srgbClr val="021832"/>
                </a:solidFill>
                <a:latin typeface="Foundry Form Sans"/>
              </a:rPr>
              <a:t> </a:t>
            </a:r>
            <a:r>
              <a:rPr b="0" i="1" lang="en-GB" sz="1400" spc="-1" strike="noStrike">
                <a:solidFill>
                  <a:srgbClr val="021832"/>
                </a:solidFill>
                <a:latin typeface="Foundry Form Sans"/>
              </a:rPr>
              <a:t>UK: ONS (to Q3 2010)</a:t>
            </a:r>
            <a:endParaRPr b="0" lang="en-US" sz="1400" spc="-1" strike="noStrike">
              <a:solidFill>
                <a:srgbClr val="021832"/>
              </a:solidFill>
              <a:latin typeface="Times New Roman"/>
            </a:endParaRPr>
          </a:p>
        </p:txBody>
      </p:sp>
      <p:pic>
        <p:nvPicPr>
          <p:cNvPr id="102" name="Picture 23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839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Foundry Form Sans"/>
                <a:ea typeface="Arial"/>
              </a:rPr>
              <a:t>FBS employment as a per cent of total employment in London in 2009</a:t>
            </a:r>
            <a:endParaRPr b="1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295280" y="6172200"/>
            <a:ext cx="563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21832"/>
                </a:solidFill>
                <a:latin typeface="Foundry Form Sans"/>
              </a:rPr>
              <a:t>Source: Experian Economics</a:t>
            </a:r>
            <a:endParaRPr b="0" lang="en-US" sz="1600" spc="-1" strike="noStrike">
              <a:solidFill>
                <a:srgbClr val="021832"/>
              </a:solidFill>
              <a:latin typeface="Times New Roman"/>
            </a:endParaRPr>
          </a:p>
        </p:txBody>
      </p:sp>
      <p:graphicFrame>
        <p:nvGraphicFramePr>
          <p:cNvPr id="105" name="Object 7"/>
          <p:cNvGraphicFramePr/>
          <p:nvPr/>
        </p:nvGraphicFramePr>
        <p:xfrm>
          <a:off x="1427040" y="1674720"/>
          <a:ext cx="7310520" cy="44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7040" y="1674720"/>
                    <a:ext cx="73105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Foundry Form Sans"/>
                <a:ea typeface="Arial"/>
              </a:rPr>
              <a:t>FBS output as a per cent of total output in London in 2009</a:t>
            </a:r>
            <a:endParaRPr b="1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295280" y="6172200"/>
            <a:ext cx="563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21832"/>
                </a:solidFill>
                <a:latin typeface="Foundry Form Sans"/>
              </a:rPr>
              <a:t>Source: Experian Economics</a:t>
            </a:r>
            <a:endParaRPr b="0" lang="en-US" sz="1600" spc="-1" strike="noStrike">
              <a:solidFill>
                <a:srgbClr val="021832"/>
              </a:solidFill>
              <a:latin typeface="Times New Roman"/>
            </a:endParaRPr>
          </a:p>
        </p:txBody>
      </p:sp>
      <p:graphicFrame>
        <p:nvGraphicFramePr>
          <p:cNvPr id="109" name="Object 7"/>
          <p:cNvGraphicFramePr/>
          <p:nvPr/>
        </p:nvGraphicFramePr>
        <p:xfrm>
          <a:off x="1427040" y="1674720"/>
          <a:ext cx="7310520" cy="44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7040" y="1674720"/>
                    <a:ext cx="73105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Foundry Form Sans"/>
              </a:rPr>
              <a:t>I/O figures on purchases of other sectors from financial services in the UK</a:t>
            </a:r>
            <a:endParaRPr b="1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1295280" y="1600200"/>
          <a:ext cx="769644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00200"/>
                    <a:ext cx="76964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4"/>
          <p:cNvSpPr/>
          <p:nvPr/>
        </p:nvSpPr>
        <p:spPr>
          <a:xfrm>
            <a:off x="1295280" y="6324480"/>
            <a:ext cx="563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21832"/>
                </a:solidFill>
                <a:latin typeface="Foundry Form Sans"/>
              </a:rPr>
              <a:t>Source: ONS</a:t>
            </a:r>
            <a:endParaRPr b="0" lang="en-US" sz="16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The financial sector bailout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2080" y="1674720"/>
            <a:ext cx="765972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21832"/>
                </a:solidFill>
                <a:latin typeface="Foundry Form Sans"/>
              </a:rPr>
              <a:t>As of September 2010 the total effect of the financial intervention on net debt was £109.1 billion</a:t>
            </a:r>
            <a:endParaRPr b="0" lang="en-US" sz="2600" spc="-1" strike="noStrike">
              <a:solidFill>
                <a:srgbClr val="021832"/>
              </a:solidFill>
              <a:latin typeface="Foundry Form Sans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21832"/>
                </a:solidFill>
                <a:latin typeface="Foundry Form Sans"/>
              </a:rPr>
              <a:t>However, £99.5 billion of bank balance sheets had been transferred onto the national debt.</a:t>
            </a:r>
            <a:endParaRPr b="0" lang="en-US" sz="2600" spc="-1" strike="noStrike">
              <a:solidFill>
                <a:srgbClr val="021832"/>
              </a:solidFill>
              <a:latin typeface="Foundry Form Sans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21832"/>
                </a:solidFill>
                <a:latin typeface="Foundry Form Sans"/>
              </a:rPr>
              <a:t>If we examine public sector net debt excluding the temporary interventions then net debt increased by:</a:t>
            </a:r>
            <a:endParaRPr b="0" lang="en-US" sz="2600" spc="-1" strike="noStrike">
              <a:solidFill>
                <a:srgbClr val="021832"/>
              </a:solidFill>
              <a:latin typeface="Foundry Form Sans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54658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21832"/>
                </a:solidFill>
                <a:latin typeface="Foundry Form Sans"/>
              </a:rPr>
              <a:t>£12.4 billion due to the equity injection in Lloyds and RBS</a:t>
            </a:r>
            <a:endParaRPr b="0" lang="en-US" sz="2600" spc="-1" strike="noStrike">
              <a:solidFill>
                <a:srgbClr val="021832"/>
              </a:solidFill>
              <a:latin typeface="Foundry Form Sans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54658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21832"/>
                </a:solidFill>
                <a:latin typeface="Foundry Form Sans"/>
              </a:rPr>
              <a:t>£1.4 billion due to the capital injection into Northern Rock</a:t>
            </a:r>
            <a:endParaRPr b="0" lang="en-US" sz="2600" spc="-1" strike="noStrike">
              <a:solidFill>
                <a:srgbClr val="021832"/>
              </a:solidFill>
              <a:latin typeface="Foundry Form Sans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54658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21832"/>
                </a:solidFill>
                <a:latin typeface="Foundry Form Sans"/>
              </a:rPr>
              <a:t>£2.7 billion due to depositor compensation relate to Bradford and Bingley</a:t>
            </a:r>
            <a:endParaRPr b="0" lang="en-US" sz="2600" spc="-1" strike="noStrike">
              <a:solidFill>
                <a:srgbClr val="021832"/>
              </a:solidFill>
              <a:latin typeface="Foundry Form Sans"/>
            </a:endParaRPr>
          </a:p>
          <a:p>
            <a:pPr marL="298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21832"/>
              </a:solidFill>
              <a:latin typeface="Foundry Form Sans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21832"/>
              </a:solidFill>
              <a:latin typeface="Foundry Form Sans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Foundry Form Sans"/>
              </a:rPr>
              <a:t>The structural component of the budget deficit (as a proportion of GDP)</a:t>
            </a:r>
            <a:endParaRPr b="1" lang="en-US" sz="32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1589040" y="1674720"/>
            <a:ext cx="6986520" cy="4491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1295280" y="6172200"/>
            <a:ext cx="563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21832"/>
                </a:solidFill>
                <a:latin typeface="Foundry Form Sans"/>
                <a:ea typeface="Times New Roman"/>
              </a:rPr>
              <a:t>Source: HM Treasury, Public Sector Finances Databank</a:t>
            </a:r>
            <a:endParaRPr b="0" lang="en-US" sz="16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09160" y="10116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oundry Form Sans"/>
              </a:rPr>
              <a:t>The financial sector bailout continued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graphicFrame>
        <p:nvGraphicFramePr>
          <p:cNvPr id="121" name="Object 3"/>
          <p:cNvGraphicFramePr/>
          <p:nvPr/>
        </p:nvGraphicFramePr>
        <p:xfrm>
          <a:off x="1757520" y="1674720"/>
          <a:ext cx="6649920" cy="44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7520" y="1674720"/>
                    <a:ext cx="66499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 Box 4"/>
          <p:cNvSpPr/>
          <p:nvPr/>
        </p:nvSpPr>
        <p:spPr>
          <a:xfrm>
            <a:off x="1295280" y="6172200"/>
            <a:ext cx="563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21832"/>
                </a:solidFill>
                <a:latin typeface="Foundry Form Sans"/>
              </a:rPr>
              <a:t>Source: ONS</a:t>
            </a:r>
            <a:endParaRPr b="0" lang="en-US" sz="1600" spc="-1" strike="noStrike">
              <a:solidFill>
                <a:srgbClr val="0218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1:45:18Z</dcterms:created>
  <dc:creator>GDouglass</dc:creator>
  <dc:description/>
  <dc:language>en-US</dc:language>
  <cp:lastModifiedBy>Bridget</cp:lastModifiedBy>
  <dcterms:modified xsi:type="dcterms:W3CDTF">2010-10-29T09:38:54Z</dcterms:modified>
  <cp:revision>18</cp:revision>
  <dc:subject/>
  <dc:title>Budget 2008 (or the economics of Kylie Minogue)</dc:title>
</cp:coreProperties>
</file>