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054-7E6C-40BF-A992-D4E81D1C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89B-E15B-4BCA-A42E-11D68125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5D7-61EF-4223-BF33-0C017F71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39D-D81D-4CE3-8026-B5AFBE55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665-D121-44D6-BA56-87F20D76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057-0428-41CE-A0E8-1D073723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648-B6AC-4656-B370-C304240C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A3F-1E37-4239-B758-3E4E9D51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981-704F-4D53-8F17-70DD9CC8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CBC-5EF6-4307-A541-FD8EE389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773-4513-4473-8362-B8891900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2CD-DC13-4E49-AAB3-3DD4225F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D623-D2CA-4560-BF68-946A96BE75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What has the GLA achieved and has it been a succ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aroness Jo Valen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ief Execu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ondon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71928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ondon’s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71391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Sector sup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Regeneration and i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Governing Lond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Business like governance of Lon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2d050"/>
                </a:solidFill>
                <a:latin typeface="Calibri"/>
              </a:rPr>
              <a:t>Standing up for Lond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ransport – Keeping London mov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2060"/>
                </a:solidFill>
                <a:latin typeface="Arial"/>
                <a:ea typeface="Arial"/>
              </a:rPr>
              <a:t>Undergr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  <a:ea typeface="Arial"/>
              </a:rPr>
              <a:t>Bus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92d050"/>
                </a:solidFill>
                <a:latin typeface="Arial"/>
                <a:ea typeface="Arial"/>
              </a:rPr>
              <a:t>Roa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Freigh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70c0"/>
                </a:solidFill>
                <a:latin typeface="Arial"/>
                <a:ea typeface="Arial"/>
              </a:rPr>
              <a:t>Av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c000"/>
                </a:solidFill>
                <a:latin typeface="Arial"/>
                <a:ea typeface="Arial"/>
              </a:rPr>
              <a:t>R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  <a:ea typeface="Arial"/>
              </a:rPr>
              <a:t>Ticketing an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b050"/>
                </a:solidFill>
                <a:latin typeface="Calibri"/>
              </a:rPr>
              <a:t>Sch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Training 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Employa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2060"/>
                </a:solidFill>
                <a:latin typeface="Calibri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c2e82"/>
                </a:solidFill>
                <a:latin typeface="Calibri"/>
              </a:rPr>
              <a:t>Effici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aking London sa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b0f0"/>
                </a:solidFill>
                <a:latin typeface="Arial"/>
                <a:ea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Business prior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Transport pol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rusted pol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  <a:ea typeface="Arial"/>
              </a:rPr>
              <a:t>Air 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00b0f0"/>
                </a:solidFill>
                <a:latin typeface="Arial"/>
                <a:ea typeface="Arial"/>
              </a:rPr>
              <a:t>Was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Human enviro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5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o is the Mayoralty (and GLA) a succ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17:07Z</dcterms:created>
  <dc:creator>plarge</dc:creator>
  <dc:description/>
  <dc:language>en-US</dc:language>
  <cp:lastModifiedBy>LSE</cp:lastModifiedBy>
  <dcterms:modified xsi:type="dcterms:W3CDTF">2010-07-01T16:49:34Z</dcterms:modified>
  <cp:revision>19</cp:revision>
  <dc:subject/>
  <dc:title>London First Manifesto:  Economy</dc:title>
</cp:coreProperties>
</file>