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92A-AC86-4C53-9BEA-AA5EDA3E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70D-27D4-4828-A013-5B1E0A8C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CA9-3932-40F7-91C2-D27EA14B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6C0-BBC8-4E4F-8CA5-0577E1CB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D22-ED9C-4D4E-89DD-DA3A29D0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7FD-06C9-4723-9751-B5F63307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4074-7460-4A3A-A58B-4FD8530B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E2B-1EAA-410D-86D0-19D75B7E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EBE-9B5E-456A-8247-1AFCA882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A18-01E6-45FA-BE2E-D3F9125F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938-F684-44B1-A162-23254EF6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609-DA36-4DDB-B1B0-0FFA349D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6A0B-1A32-4B6A-A973-4EBD53683CF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What has the GLA achieved and has it been a succ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aroness Jo Valen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hief Execu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ondon Fir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71928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ondon’s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713916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Competitiv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b0f0"/>
                </a:solidFill>
                <a:latin typeface="Calibri"/>
              </a:rPr>
              <a:t>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Sector sup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Regeneration and i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Governing Lond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Business like governance of Lon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2d050"/>
                </a:solidFill>
                <a:latin typeface="Calibri"/>
              </a:rPr>
              <a:t>Standing up for Lond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ransport – Keeping London mov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2060"/>
                </a:solidFill>
                <a:latin typeface="Arial"/>
                <a:ea typeface="Arial"/>
              </a:rPr>
              <a:t>Undergr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900" spc="-1" strike="noStrike">
                <a:solidFill>
                  <a:srgbClr val="ff0000"/>
                </a:solidFill>
                <a:latin typeface="Arial"/>
                <a:ea typeface="Arial"/>
              </a:rPr>
              <a:t>Bus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92d050"/>
                </a:solidFill>
                <a:latin typeface="Arial"/>
                <a:ea typeface="Arial"/>
              </a:rPr>
              <a:t>Roa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Freigh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70c0"/>
                </a:solidFill>
                <a:latin typeface="Arial"/>
                <a:ea typeface="Arial"/>
              </a:rPr>
              <a:t>Av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c000"/>
                </a:solidFill>
                <a:latin typeface="Arial"/>
                <a:ea typeface="Arial"/>
              </a:rPr>
              <a:t>R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  <a:ea typeface="Arial"/>
              </a:rPr>
              <a:t>Ticketing and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600" spc="-1" strike="noStrike">
                <a:solidFill>
                  <a:srgbClr val="00b050"/>
                </a:solidFill>
                <a:latin typeface="Calibri"/>
              </a:rPr>
              <a:t>Scho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Training 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Employa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2060"/>
                </a:solidFill>
                <a:latin typeface="Calibri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c2e82"/>
                </a:solidFill>
                <a:latin typeface="Calibri"/>
              </a:rPr>
              <a:t>Efficie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Vi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aking London sa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b0f0"/>
                </a:solidFill>
                <a:latin typeface="Arial"/>
                <a:ea typeface="Arial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Arial"/>
              </a:rPr>
              <a:t>Business prior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Transport pol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rusted pol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  <a:ea typeface="Arial"/>
              </a:rPr>
              <a:t>Air pol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400" spc="-1" strike="noStrike">
                <a:solidFill>
                  <a:srgbClr val="00b0f0"/>
                </a:solidFill>
                <a:latin typeface="Arial"/>
                <a:ea typeface="Arial"/>
              </a:rPr>
              <a:t>Was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Arial"/>
              </a:rPr>
              <a:t>Human enviro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5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o is the Mayoralty (and GLA) a succ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X:\Logos\Logos (London First)\JPG - for email, office, web\London First big jpeg.jpg"/>
          <p:cNvPicPr/>
          <p:nvPr/>
        </p:nvPicPr>
        <p:blipFill>
          <a:blip r:embed="rId1"/>
          <a:stretch/>
        </p:blipFill>
        <p:spPr>
          <a:xfrm>
            <a:off x="7143840" y="6072120"/>
            <a:ext cx="1717560" cy="453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c2e82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17:07Z</dcterms:created>
  <dc:creator>plarge</dc:creator>
  <dc:description/>
  <dc:language>en-US</dc:language>
  <cp:lastModifiedBy>LSE</cp:lastModifiedBy>
  <dcterms:modified xsi:type="dcterms:W3CDTF">2010-07-01T16:49:34Z</dcterms:modified>
  <cp:revision>19</cp:revision>
  <dc:subject/>
  <dc:title>London First Manifesto:  Economy</dc:title>
</cp:coreProperties>
</file>