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9A40-EA76-4522-99E6-6FCFF3881A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39A1-7C67-4299-A56C-CFBA6FF2D3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8268-515A-45E8-9275-05F769C5CA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B087-7F2D-4C8D-B543-452A11A8B1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ter now broadening its advice provision to cover not just housing, but also other areas of law: debt, community care and welfare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8808-E374-4265-86DC-C702064F3E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C0CD-0675-4C2B-8CEF-102402230B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B147-1097-4180-B057-EC86A34DAD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99F3-E162-4A9F-BD9A-4AE3AD5469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FBA-74D4-4FE1-939B-5CAF101B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74A-FA34-40AC-98B3-9BACFD0C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149-3772-49F7-B771-BEBA81A3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B84-2F61-4784-B7CD-F259ABBE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491-8BCA-4A1C-8FCB-0321FAD7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06F0-E727-4C4F-96CF-17570978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6E5-7563-48F1-A6B4-FBDC642C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4BE6-240A-477C-8CA2-88BF562F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2491-6A7C-4F08-B8B2-975015C0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3D1-6011-456E-8B1E-25868797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225-4B28-49D7-AC9D-702F0F62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8DC3-7967-4684-9DDE-3F00DAD6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0E7D-FD5F-4D0C-8314-A860A3CC6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_x0008_logo.jpg                                                       00039307_x000c_Macintosh HD                   B75E7805: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787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80880" y="1600200"/>
            <a:ext cx="853452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ffffff"/>
                </a:solidFill>
                <a:latin typeface="Arial"/>
              </a:rPr>
              <a:t>The Future of Social Housing in London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urrent Issues and way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5720" y="6172200"/>
            <a:ext cx="61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ondon School of Economics, 19</a:t>
            </a:r>
            <a:r>
              <a:rPr b="0" i="1" lang="en-GB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Feb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_x0013_ColFillMaster00.jpg                                            00039307_x000c_Macintosh HD                   B75E7805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57120" y="1071720"/>
            <a:ext cx="83059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Access to social housing through the homelessness safety 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_x0008_logo.jpg                                                       00039307_x000c_Macintosh HD                   B75E7805:"/>
          <p:cNvPicPr/>
          <p:nvPr/>
        </p:nvPicPr>
        <p:blipFill>
          <a:blip r:embed="rId2"/>
          <a:stretch/>
        </p:blipFill>
        <p:spPr>
          <a:xfrm>
            <a:off x="6705720" y="0"/>
            <a:ext cx="2361960" cy="787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428760" y="2500200"/>
            <a:ext cx="7072200" cy="36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TA numbers down 18% 06/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New social housing supply has risen and right to buy sales have fa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Homelessness acceptances down 15% 06-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_x0013_ColFillMaster00.jpg                                            00039307_x000c_Macintosh HD                   B75E7805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457200" y="1066680"/>
            <a:ext cx="830592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The bigger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_x0008_logo.jpg                                                       00039307_x000c_Macintosh HD                   B75E7805:"/>
          <p:cNvPicPr/>
          <p:nvPr/>
        </p:nvPicPr>
        <p:blipFill>
          <a:blip r:embed="rId2"/>
          <a:stretch/>
        </p:blipFill>
        <p:spPr>
          <a:xfrm>
            <a:off x="6705720" y="0"/>
            <a:ext cx="2361960" cy="787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357120" y="5786280"/>
            <a:ext cx="8501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This puts </a:t>
            </a:r>
            <a:r>
              <a:rPr b="0" lang="en-GB" sz="2400" spc="-1" strike="noStrike" u="sng">
                <a:solidFill>
                  <a:srgbClr val="808080"/>
                </a:solidFill>
                <a:uFillTx/>
                <a:latin typeface="Arial"/>
              </a:rPr>
              <a:t>allocations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under even more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0" descr=""/>
          <p:cNvPicPr/>
          <p:nvPr/>
        </p:nvPicPr>
        <p:blipFill>
          <a:blip r:embed="rId3"/>
          <a:stretch/>
        </p:blipFill>
        <p:spPr>
          <a:xfrm>
            <a:off x="2071800" y="1785960"/>
            <a:ext cx="35719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_x0013_ColFillMaster00.jpg                                            00039307_x000c_Macintosh HD                   B75E7805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457200" y="1066680"/>
            <a:ext cx="830592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Overcrow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_x0008_logo.jpg                                                       00039307_x000c_Macintosh HD                   B75E7805:"/>
          <p:cNvPicPr/>
          <p:nvPr/>
        </p:nvPicPr>
        <p:blipFill>
          <a:blip r:embed="rId2"/>
          <a:stretch/>
        </p:blipFill>
        <p:spPr>
          <a:xfrm>
            <a:off x="6705720" y="0"/>
            <a:ext cx="2361960" cy="787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429160" y="1928880"/>
            <a:ext cx="2981520" cy="34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About 2% of households in the social rented sector (12,000) are severely overcrow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200,000 children living in the social rented sector are overcrow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714240" y="1785960"/>
            <a:ext cx="4042080" cy="3357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4"/>
          <a:stretch/>
        </p:blipFill>
        <p:spPr>
          <a:xfrm>
            <a:off x="714240" y="5429160"/>
            <a:ext cx="1209960" cy="685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0" y="2981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_x0013_ColFillMaster00.jpg                                            00039307_x000c_Macintosh HD                   B75E7805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457200" y="1066680"/>
            <a:ext cx="830592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… </a:t>
            </a: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and under-occu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_x0008_logo.jpg                                                       00039307_x000c_Macintosh HD                   B75E7805:"/>
          <p:cNvPicPr/>
          <p:nvPr/>
        </p:nvPicPr>
        <p:blipFill>
          <a:blip r:embed="rId2"/>
          <a:stretch/>
        </p:blipFill>
        <p:spPr>
          <a:xfrm>
            <a:off x="6705720" y="0"/>
            <a:ext cx="2361960" cy="787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5143680" y="1928880"/>
            <a:ext cx="3528720" cy="42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Need for more family sized social h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Space standards also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Scope for more effective incentive based approach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785880" y="1928880"/>
            <a:ext cx="3585960" cy="3390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tretch/>
        </p:blipFill>
        <p:spPr>
          <a:xfrm>
            <a:off x="428760" y="5429160"/>
            <a:ext cx="1819080" cy="714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0" y="38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_x0013_ColFillMaster00.jpg                                            00039307_x000c_Macintosh HD                   B75E7805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457200" y="1066680"/>
            <a:ext cx="830592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Living in social ho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_x0008_logo.jpg                                                       00039307_x000c_Macintosh HD                   B75E7805:"/>
          <p:cNvPicPr/>
          <p:nvPr/>
        </p:nvPicPr>
        <p:blipFill>
          <a:blip r:embed="rId2"/>
          <a:stretch/>
        </p:blipFill>
        <p:spPr>
          <a:xfrm>
            <a:off x="6705720" y="0"/>
            <a:ext cx="2361960" cy="7873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304920" y="1905120"/>
            <a:ext cx="845820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Almost half social tenants in London are work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31% of social tenants in England falling behind with their rental 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Levels of dissatisfaction with the local neighbourhood are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_x0013_ColFillMaster00.jpg                                            00039307_x000c_Macintosh HD                   B75E7805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457200" y="1066680"/>
            <a:ext cx="830592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Some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_x0008_logo.jpg                                                       00039307_x000c_Macintosh HD                   B75E7805:"/>
          <p:cNvPicPr/>
          <p:nvPr/>
        </p:nvPicPr>
        <p:blipFill>
          <a:blip r:embed="rId2"/>
          <a:stretch/>
        </p:blipFill>
        <p:spPr>
          <a:xfrm>
            <a:off x="6705720" y="0"/>
            <a:ext cx="2361960" cy="787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80880" y="1784520"/>
            <a:ext cx="8458200" cy="38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How can we develop a better understanding of the profile and characteristics of current and would-be social tena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How can we improve the private sector to better cater for people’s housing needs and aspir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What role do we want social housing to play in meeting London’s housing ne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9T21:46:08Z</dcterms:created>
  <dc:creator>Sinéad O'Connor</dc:creator>
  <dc:description/>
  <dc:language>en-US</dc:language>
  <cp:lastModifiedBy>Mark Thomas</cp:lastModifiedBy>
  <dcterms:modified xsi:type="dcterms:W3CDTF">2010-02-19T13:28:10Z</dcterms:modified>
  <cp:revision>135</cp:revision>
  <dc:subject/>
  <dc:title>S Inclusion Project</dc:title>
</cp:coreProperties>
</file>