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10868-A89B-4383-BE8D-5CC73057AEC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9A712-6651-4B2F-8DD1-B135A878F33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99FCF-219F-4B47-B7D4-CB9BF5D9DB4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4BC1E-0BEF-4DC1-9835-F0EABCA2C31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helter now broadening its advice provision to cover not just housing, but also other areas of law: debt, community care and welfare benef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64161-F795-465B-9CE2-BF469C05591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CE283-7E81-4928-83F0-82D202508A4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1C245-7D38-42A1-B982-B7C62821DF8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D4416-034A-4381-AD27-22B21150299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3575-BA80-4CE6-8962-4F0907099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DF75-1EE5-4857-B799-E2682AA67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F040-4DF3-47A9-9B7D-16247AAD6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CA35-F18B-462B-8625-9C3F9E1F7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7245-1BFF-4EBD-9217-031CA16C1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0D2E-B559-491D-B237-9DAA571EB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C850-AEE8-4EB8-9D7A-3312CD179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4F38-F827-4E02-8357-5068C8AF2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AD7E-AAEC-4BE2-9321-09B04C5D0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E028-38D6-43D0-9754-A4F77D67E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435A-91CD-42AE-9BCE-069597E8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8EF9-339E-45D6-94DB-410B6F062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C8867-CCC4-4ECB-BC61-5A72AD94E9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_x0008_logo.jpg                                                       00039307_x000c_Macintosh HD                   B75E7805:"/>
          <p:cNvPicPr/>
          <p:nvPr/>
        </p:nvPicPr>
        <p:blipFill>
          <a:blip r:embed="rId1"/>
          <a:stretch/>
        </p:blipFill>
        <p:spPr>
          <a:xfrm>
            <a:off x="6781680" y="0"/>
            <a:ext cx="2362320" cy="7873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380880" y="1600200"/>
            <a:ext cx="8534520" cy="25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700" spc="-1" strike="noStrike">
                <a:solidFill>
                  <a:srgbClr val="ffffff"/>
                </a:solidFill>
                <a:latin typeface="Arial"/>
              </a:rPr>
              <a:t>The Future of Social Housing in London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Current Issues and ways forwa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45720" y="6172200"/>
            <a:ext cx="615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London School of Economics, 19</a:t>
            </a:r>
            <a:r>
              <a:rPr b="0" i="1" lang="en-GB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 Feb 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_x0013_ColFillMaster00.jpg                                            00039307_x000c_Macintosh HD                   B75E7805: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3"/>
          <p:cNvSpPr/>
          <p:nvPr/>
        </p:nvSpPr>
        <p:spPr>
          <a:xfrm>
            <a:off x="357120" y="1071720"/>
            <a:ext cx="830592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08080"/>
                </a:solidFill>
                <a:latin typeface="Arial"/>
              </a:rPr>
              <a:t>Access to social housing through the homelessness safety n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_x0008_logo.jpg                                                       00039307_x000c_Macintosh HD                   B75E7805:"/>
          <p:cNvPicPr/>
          <p:nvPr/>
        </p:nvPicPr>
        <p:blipFill>
          <a:blip r:embed="rId2"/>
          <a:stretch/>
        </p:blipFill>
        <p:spPr>
          <a:xfrm>
            <a:off x="6705720" y="0"/>
            <a:ext cx="2361960" cy="7873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428760" y="2500200"/>
            <a:ext cx="7072200" cy="365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20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Arial"/>
              </a:rPr>
              <a:t>TA numbers down 18% 06/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20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Arial"/>
              </a:rPr>
              <a:t>New social housing supply has risen and right to buy sales have fal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20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Arial"/>
              </a:rPr>
              <a:t>Homelessness acceptances down 15% 06-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20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_x0013_ColFillMaster00.jpg                                            00039307_x000c_Macintosh HD                   B75E7805: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457200" y="1066680"/>
            <a:ext cx="8305920" cy="5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Arial"/>
              </a:rPr>
              <a:t>The bigger pi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4" descr="_x0008_logo.jpg                                                       00039307_x000c_Macintosh HD                   B75E7805:"/>
          <p:cNvPicPr/>
          <p:nvPr/>
        </p:nvPicPr>
        <p:blipFill>
          <a:blip r:embed="rId2"/>
          <a:stretch/>
        </p:blipFill>
        <p:spPr>
          <a:xfrm>
            <a:off x="6705720" y="0"/>
            <a:ext cx="2361960" cy="7873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"/>
          <p:cNvSpPr/>
          <p:nvPr/>
        </p:nvSpPr>
        <p:spPr>
          <a:xfrm>
            <a:off x="357120" y="5786280"/>
            <a:ext cx="85010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This puts </a:t>
            </a:r>
            <a:r>
              <a:rPr b="0" lang="en-GB" sz="2400" spc="-1" strike="noStrike" u="sng">
                <a:solidFill>
                  <a:srgbClr val="808080"/>
                </a:solidFill>
                <a:uFillTx/>
                <a:latin typeface="Arial"/>
              </a:rPr>
              <a:t>allocations</a:t>
            </a: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 under even more pres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0" descr=""/>
          <p:cNvPicPr/>
          <p:nvPr/>
        </p:nvPicPr>
        <p:blipFill>
          <a:blip r:embed="rId3"/>
          <a:stretch/>
        </p:blipFill>
        <p:spPr>
          <a:xfrm>
            <a:off x="2071800" y="1785960"/>
            <a:ext cx="357192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_x0013_ColFillMaster00.jpg                                            00039307_x000c_Macintosh HD                   B75E7805: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457200" y="1066680"/>
            <a:ext cx="8305920" cy="5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Arial"/>
              </a:rPr>
              <a:t>Overcrow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4" descr="_x0008_logo.jpg                                                       00039307_x000c_Macintosh HD                   B75E7805:"/>
          <p:cNvPicPr/>
          <p:nvPr/>
        </p:nvPicPr>
        <p:blipFill>
          <a:blip r:embed="rId2"/>
          <a:stretch/>
        </p:blipFill>
        <p:spPr>
          <a:xfrm>
            <a:off x="6705720" y="0"/>
            <a:ext cx="2361960" cy="7873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5429160" y="1928880"/>
            <a:ext cx="2981520" cy="34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15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About 2% of households in the social rented sector (12,000) are severely overcrow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5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200,000 children living in the social rented sector are overcrow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9" descr=""/>
          <p:cNvPicPr/>
          <p:nvPr/>
        </p:nvPicPr>
        <p:blipFill>
          <a:blip r:embed="rId3"/>
          <a:stretch/>
        </p:blipFill>
        <p:spPr>
          <a:xfrm>
            <a:off x="714240" y="1785960"/>
            <a:ext cx="4042080" cy="3357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"/>
          <p:cNvPicPr/>
          <p:nvPr/>
        </p:nvPicPr>
        <p:blipFill>
          <a:blip r:embed="rId4"/>
          <a:stretch/>
        </p:blipFill>
        <p:spPr>
          <a:xfrm>
            <a:off x="714240" y="5429160"/>
            <a:ext cx="1209960" cy="6858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11"/>
          <p:cNvSpPr/>
          <p:nvPr/>
        </p:nvSpPr>
        <p:spPr>
          <a:xfrm>
            <a:off x="0" y="2981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_x0013_ColFillMaster00.jpg                                            00039307_x000c_Macintosh HD                   B75E7805: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457200" y="1066680"/>
            <a:ext cx="8305920" cy="5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Arial"/>
              </a:rPr>
              <a:t>… </a:t>
            </a:r>
            <a:r>
              <a:rPr b="1" lang="en-GB" sz="3200" spc="-1" strike="noStrike">
                <a:solidFill>
                  <a:srgbClr val="808080"/>
                </a:solidFill>
                <a:latin typeface="Arial"/>
              </a:rPr>
              <a:t>and under-occup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4" descr="_x0008_logo.jpg                                                       00039307_x000c_Macintosh HD                   B75E7805:"/>
          <p:cNvPicPr/>
          <p:nvPr/>
        </p:nvPicPr>
        <p:blipFill>
          <a:blip r:embed="rId2"/>
          <a:stretch/>
        </p:blipFill>
        <p:spPr>
          <a:xfrm>
            <a:off x="6705720" y="0"/>
            <a:ext cx="2361960" cy="7873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"/>
          <p:cNvSpPr/>
          <p:nvPr/>
        </p:nvSpPr>
        <p:spPr>
          <a:xfrm>
            <a:off x="5143680" y="1928880"/>
            <a:ext cx="3528720" cy="42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17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Arial"/>
              </a:rPr>
              <a:t>Need for more family sized social ho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7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Arial"/>
              </a:rPr>
              <a:t>Space standards also 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7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Arial"/>
              </a:rPr>
              <a:t>Scope for more effective incentive based approach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7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8" descr=""/>
          <p:cNvPicPr/>
          <p:nvPr/>
        </p:nvPicPr>
        <p:blipFill>
          <a:blip r:embed="rId3"/>
          <a:stretch/>
        </p:blipFill>
        <p:spPr>
          <a:xfrm>
            <a:off x="785880" y="1928880"/>
            <a:ext cx="3585960" cy="3390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"/>
          <p:cNvPicPr/>
          <p:nvPr/>
        </p:nvPicPr>
        <p:blipFill>
          <a:blip r:embed="rId4"/>
          <a:stretch/>
        </p:blipFill>
        <p:spPr>
          <a:xfrm>
            <a:off x="428760" y="5429160"/>
            <a:ext cx="1819080" cy="7146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10"/>
          <p:cNvSpPr/>
          <p:nvPr/>
        </p:nvSpPr>
        <p:spPr>
          <a:xfrm>
            <a:off x="0" y="3848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_x0013_ColFillMaster00.jpg                                            00039307_x000c_Macintosh HD                   B75E7805: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"/>
          <p:cNvSpPr/>
          <p:nvPr/>
        </p:nvSpPr>
        <p:spPr>
          <a:xfrm>
            <a:off x="457200" y="1066680"/>
            <a:ext cx="8305920" cy="5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Arial"/>
              </a:rPr>
              <a:t>Living in social hou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4" descr="_x0008_logo.jpg                                                       00039307_x000c_Macintosh HD                   B75E7805:"/>
          <p:cNvPicPr/>
          <p:nvPr/>
        </p:nvPicPr>
        <p:blipFill>
          <a:blip r:embed="rId2"/>
          <a:stretch/>
        </p:blipFill>
        <p:spPr>
          <a:xfrm>
            <a:off x="6705720" y="0"/>
            <a:ext cx="2361960" cy="787320"/>
          </a:xfrm>
          <a:prstGeom prst="rect">
            <a:avLst/>
          </a:prstGeom>
          <a:ln w="0">
            <a:noFill/>
          </a:ln>
        </p:spPr>
      </p:pic>
      <p:sp>
        <p:nvSpPr>
          <p:cNvPr id="79" name="Text Box 5"/>
          <p:cNvSpPr/>
          <p:nvPr/>
        </p:nvSpPr>
        <p:spPr>
          <a:xfrm>
            <a:off x="304920" y="1905120"/>
            <a:ext cx="8458200" cy="29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20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Arial"/>
              </a:rPr>
              <a:t>Almost half social tenants in London are workl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20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Arial"/>
              </a:rPr>
              <a:t>31% of social tenants in England falling behind with their rental pay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20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Arial"/>
              </a:rPr>
              <a:t>Levels of dissatisfaction with the local neighbourhood are hig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_x0013_ColFillMaster00.jpg                                            00039307_x000c_Macintosh HD                   B75E7805: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"/>
          <p:cNvSpPr/>
          <p:nvPr/>
        </p:nvSpPr>
        <p:spPr>
          <a:xfrm>
            <a:off x="457200" y="1066680"/>
            <a:ext cx="8305920" cy="5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Arial"/>
              </a:rPr>
              <a:t>Some challe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_x0008_logo.jpg                                                       00039307_x000c_Macintosh HD                   B75E7805:"/>
          <p:cNvPicPr/>
          <p:nvPr/>
        </p:nvPicPr>
        <p:blipFill>
          <a:blip r:embed="rId2"/>
          <a:stretch/>
        </p:blipFill>
        <p:spPr>
          <a:xfrm>
            <a:off x="6705720" y="0"/>
            <a:ext cx="2361960" cy="7873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380880" y="1784520"/>
            <a:ext cx="8458200" cy="38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17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Arial"/>
              </a:rPr>
              <a:t>How can we develop a better understanding of the profile and characteristics of current and would-be social tenan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7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Arial"/>
              </a:rPr>
              <a:t>How can we improve the private sector to better cater for people’s housing needs and aspiratio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7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Arial"/>
              </a:rPr>
              <a:t>What role do we want social housing to play in meeting London’s housing ne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7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9T21:46:08Z</dcterms:created>
  <dc:creator>Sinéad O'Connor</dc:creator>
  <dc:description/>
  <dc:language>en-US</dc:language>
  <cp:lastModifiedBy>Mark Thomas</cp:lastModifiedBy>
  <dcterms:modified xsi:type="dcterms:W3CDTF">2010-02-19T13:28:10Z</dcterms:modified>
  <cp:revision>135</cp:revision>
  <dc:subject/>
  <dc:title>S Inclusion Project</dc:title>
</cp:coreProperties>
</file>