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4A5-3EF5-468C-A3D1-C63947BF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760-9879-4BB8-96C8-ADA75D70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27F-21BE-430C-A0A2-7847FE0F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A5F-861A-4E8D-9939-40BA3B1C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AF3-6423-437C-AF59-AEF0FBF4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B5A-BBC5-42D8-BAAA-60847FA9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767-EDE9-4658-A11D-01ADC336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C62-EA49-493A-83F0-AF6D8FC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464-0D96-4D4A-BD4C-EBEEF350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CAB-7057-4A4F-8E22-33473E60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DB0-2BF0-428B-BCED-7F18B725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055-5159-4185-8CFD-5E7E957D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A8B9-B3C2-4EFF-AAFD-9EA621A67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ndon Housing E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nne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ondon School of Econo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19 Februar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te City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UC 070.jpg"/>
          <p:cNvPicPr/>
          <p:nvPr/>
        </p:nvPicPr>
        <p:blipFill>
          <a:blip r:embed="rId1"/>
          <a:stretch/>
        </p:blipFill>
        <p:spPr>
          <a:xfrm>
            <a:off x="142920" y="2571840"/>
            <a:ext cx="3438360" cy="25779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3" descr="HUC 075.jpg"/>
          <p:cNvPicPr/>
          <p:nvPr/>
        </p:nvPicPr>
        <p:blipFill>
          <a:blip r:embed="rId2"/>
          <a:stretch/>
        </p:blipFill>
        <p:spPr>
          <a:xfrm>
            <a:off x="3714840" y="1928880"/>
            <a:ext cx="5286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te City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HUC 079.jpg"/>
          <p:cNvPicPr/>
          <p:nvPr/>
        </p:nvPicPr>
        <p:blipFill>
          <a:blip r:embed="rId1"/>
          <a:stretch/>
        </p:blipFill>
        <p:spPr>
          <a:xfrm>
            <a:off x="5143680" y="2357280"/>
            <a:ext cx="3571560" cy="267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UC 072.jpg"/>
          <p:cNvPicPr/>
          <p:nvPr/>
        </p:nvPicPr>
        <p:blipFill>
          <a:blip r:embed="rId2"/>
          <a:stretch/>
        </p:blipFill>
        <p:spPr>
          <a:xfrm>
            <a:off x="214200" y="2071800"/>
            <a:ext cx="44341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dward Woods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Edward Woods Estate2.jpg"/>
          <p:cNvPicPr/>
          <p:nvPr/>
        </p:nvPicPr>
        <p:blipFill>
          <a:blip r:embed="rId1"/>
          <a:stretch/>
        </p:blipFill>
        <p:spPr>
          <a:xfrm>
            <a:off x="1500120" y="17859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dward Woods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HUC 004.jpg"/>
          <p:cNvPicPr/>
          <p:nvPr/>
        </p:nvPicPr>
        <p:blipFill>
          <a:blip r:embed="rId1"/>
          <a:stretch/>
        </p:blipFill>
        <p:spPr>
          <a:xfrm>
            <a:off x="142920" y="214308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Edward Woods Estate.jpg"/>
          <p:cNvPicPr/>
          <p:nvPr/>
        </p:nvPicPr>
        <p:blipFill>
          <a:blip r:embed="rId2"/>
          <a:stretch/>
        </p:blipFill>
        <p:spPr>
          <a:xfrm>
            <a:off x="6500880" y="2643120"/>
            <a:ext cx="24159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. Luke’s, Isling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HUC 205.jpg"/>
          <p:cNvPicPr/>
          <p:nvPr/>
        </p:nvPicPr>
        <p:blipFill>
          <a:blip r:embed="rId1"/>
          <a:stretch/>
        </p:blipFill>
        <p:spPr>
          <a:xfrm>
            <a:off x="2571840" y="1285920"/>
            <a:ext cx="39830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flag of mixed comm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cial segregation is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centrated poverty multiplies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xed incomes generat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ndards rise, services impr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value more attractive pla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al of reshaping social hou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generation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double-edged sw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00s of estates targe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moves large affordable supp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isplaces large low-income 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lies on large private inves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ifficult to raise ‘social’ to level of 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o, mixed communities fal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t affordable housing supply shrin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lighting es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oodberry D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woodberry down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s there another w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anage and repair block by block to the value of £200,000 per h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Preserve and upgrade all estates as affordable hous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urden of proof on landlord to prove otherwi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ackle worst social problems through social interventions, minimise demolition and displac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ncourage community lin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ffer hand-holding and sup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tend social supply into private ren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quire and renovate unwanted empty proper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oadwater Farm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5" descr="broadwater2.jpg"/>
          <p:cNvPicPr/>
          <p:nvPr/>
        </p:nvPicPr>
        <p:blipFill>
          <a:blip r:embed="rId1"/>
          <a:stretch/>
        </p:blipFill>
        <p:spPr>
          <a:xfrm>
            <a:off x="600120" y="2259000"/>
            <a:ext cx="4043160" cy="3032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roadwater.jpg"/>
          <p:cNvPicPr/>
          <p:nvPr/>
        </p:nvPicPr>
        <p:blipFill>
          <a:blip r:embed="rId2"/>
          <a:stretch/>
        </p:blipFill>
        <p:spPr>
          <a:xfrm>
            <a:off x="4857840" y="1643040"/>
            <a:ext cx="32860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ondon 198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roximate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 million council h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,000 e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00-1,000 homes 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much bi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0%+ fl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oadwater Farm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5" descr="broadwater5.jpg"/>
          <p:cNvPicPr/>
          <p:nvPr/>
        </p:nvPicPr>
        <p:blipFill>
          <a:blip r:embed="rId1"/>
          <a:stretch/>
        </p:blipFill>
        <p:spPr>
          <a:xfrm>
            <a:off x="285840" y="335772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Broadwater4.jpg"/>
          <p:cNvPicPr/>
          <p:nvPr/>
        </p:nvPicPr>
        <p:blipFill>
          <a:blip r:embed="rId2"/>
          <a:stretch/>
        </p:blipFill>
        <p:spPr>
          <a:xfrm>
            <a:off x="4071960" y="19288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apton Park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clapton2.jpg"/>
          <p:cNvPicPr/>
          <p:nvPr/>
        </p:nvPicPr>
        <p:blipFill>
          <a:blip r:embed="rId1"/>
          <a:stretch/>
        </p:blipFill>
        <p:spPr>
          <a:xfrm>
            <a:off x="357120" y="2286000"/>
            <a:ext cx="4876920" cy="3191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429160" y="2500200"/>
            <a:ext cx="3397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an poor, unpopular estates be made to wor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alternative – still around 2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te City, Hammersm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plar HARCA, Tower Ham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rnsey Lane, Isling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vest Estate, Isling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apton Park, Hack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oadwater Farm, Haring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dward Woods, Hammersm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lar HAR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Poplar HARCA3.jpg"/>
          <p:cNvPicPr/>
          <p:nvPr/>
        </p:nvPicPr>
        <p:blipFill>
          <a:blip r:embed="rId1"/>
          <a:stretch/>
        </p:blipFill>
        <p:spPr>
          <a:xfrm>
            <a:off x="6072120" y="257184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Poplar HARCA.jpg"/>
          <p:cNvPicPr/>
          <p:nvPr/>
        </p:nvPicPr>
        <p:blipFill>
          <a:blip r:embed="rId2"/>
          <a:stretch/>
        </p:blipFill>
        <p:spPr>
          <a:xfrm>
            <a:off x="214200" y="2000160"/>
            <a:ext cx="572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spite of poverty –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ll model estates work with three condit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- intensive estate-based manag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- ‘custodial’ caretak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- resident involv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st continual invest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areful on-site problem-solv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rect communication between landlords and tena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tensive social provision and sup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n-going repair, cleaning, secur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ocally-based communal services for large community built estates are a </a:t>
            </a:r>
            <a:r>
              <a:rPr b="1" i="1" lang="en-GB" sz="3000" spc="-1" strike="noStrike">
                <a:solidFill>
                  <a:srgbClr val="000000"/>
                </a:solidFill>
                <a:latin typeface="Calibri"/>
              </a:rPr>
              <a:t>sine qua non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of succes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s for the ri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s for the poo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Street po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Park keep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Ward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Door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Odd jobs 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ight Brace 3"/>
          <p:cNvSpPr/>
          <p:nvPr/>
        </p:nvSpPr>
        <p:spPr>
          <a:xfrm>
            <a:off x="3500280" y="2928960"/>
            <a:ext cx="500400" cy="2714760"/>
          </a:xfrm>
          <a:custGeom>
            <a:avLst/>
            <a:gdLst>
              <a:gd name="textAreaLeft" fmla="*/ 0 w 500400"/>
              <a:gd name="textAreaRight" fmla="*/ 180720 w 500400"/>
              <a:gd name="textAreaTop" fmla="*/ 12960 h 2714760"/>
              <a:gd name="textAreaBottom" fmla="*/ 270180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6"/>
                  <a:pt x="10800" y="332"/>
                </a:cubicBezTo>
                <a:lnTo>
                  <a:pt x="10800" y="10131"/>
                </a:lnTo>
                <a:cubicBezTo>
                  <a:pt x="10800" y="10297"/>
                  <a:pt x="16200" y="10463"/>
                  <a:pt x="21600" y="10463"/>
                </a:cubicBezTo>
                <a:cubicBezTo>
                  <a:pt x="16200" y="10463"/>
                  <a:pt x="10800" y="10629"/>
                  <a:pt x="10800" y="10795"/>
                </a:cubicBezTo>
                <a:lnTo>
                  <a:pt x="10800" y="21268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214880" y="392904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one to turn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k kee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percy_the_park_keeper_banner.jpg"/>
          <p:cNvPicPr/>
          <p:nvPr/>
        </p:nvPicPr>
        <p:blipFill>
          <a:blip r:embed="rId1"/>
          <a:stretch/>
        </p:blipFill>
        <p:spPr>
          <a:xfrm>
            <a:off x="1928880" y="2255760"/>
            <a:ext cx="55008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ier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concierge.jpg"/>
          <p:cNvPicPr/>
          <p:nvPr/>
        </p:nvPicPr>
        <p:blipFill>
          <a:blip r:embed="rId1"/>
          <a:stretch/>
        </p:blipFill>
        <p:spPr>
          <a:xfrm>
            <a:off x="2928960" y="1571760"/>
            <a:ext cx="352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arge council landl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5% of all homes in inner boroug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linquent management, eg. Hackney 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reinvestment f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ght-to-buy extremely 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 of low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experiments in ‘estate-based’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ner’ distinct from ‘outer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rvist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Harvist.jpg"/>
          <p:cNvPicPr/>
          <p:nvPr/>
        </p:nvPicPr>
        <p:blipFill>
          <a:blip r:embed="rId1"/>
          <a:stretch/>
        </p:blipFill>
        <p:spPr>
          <a:xfrm>
            <a:off x="1397160" y="1766880"/>
            <a:ext cx="634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rv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Harvist2.jpg"/>
          <p:cNvPicPr/>
          <p:nvPr/>
        </p:nvPicPr>
        <p:blipFill>
          <a:blip r:embed="rId1"/>
          <a:stretch/>
        </p:blipFill>
        <p:spPr>
          <a:xfrm>
            <a:off x="1397160" y="1760400"/>
            <a:ext cx="63496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nlock Barn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Wenlock Barn.jpg"/>
          <p:cNvPicPr/>
          <p:nvPr/>
        </p:nvPicPr>
        <p:blipFill>
          <a:blip r:embed="rId1"/>
          <a:stretch/>
        </p:blipFill>
        <p:spPr>
          <a:xfrm>
            <a:off x="1285920" y="1666800"/>
            <a:ext cx="6215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ulse Hill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tulsehill.bmp"/>
          <p:cNvPicPr/>
          <p:nvPr/>
        </p:nvPicPr>
        <p:blipFill>
          <a:blip r:embed="rId1"/>
          <a:stretch/>
        </p:blipFill>
        <p:spPr>
          <a:xfrm>
            <a:off x="285840" y="2643120"/>
            <a:ext cx="3713040" cy="278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tulsehill2.bmp"/>
          <p:cNvPicPr/>
          <p:nvPr/>
        </p:nvPicPr>
        <p:blipFill>
          <a:blip r:embed="rId2"/>
          <a:stretch/>
        </p:blipFill>
        <p:spPr>
          <a:xfrm>
            <a:off x="4214880" y="2286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ght-to-buy very success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nsfers to Housing Associations attract reinves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ms’ Length Management Organisations (ALMOs) take o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oup’ social landlords dominate, i.e. large housing assoc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ncil stock ha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ssures of demand int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arge e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ery low income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centrated in most depriv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uch higher worklessness than a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centrations of lone parent fami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rious visible social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uch greater management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ve to high-tech ‘remote’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9:57:31Z</dcterms:created>
  <dc:creator>Ruth Lister</dc:creator>
  <dc:description/>
  <dc:language>en-US</dc:language>
  <cp:lastModifiedBy>RLAB</cp:lastModifiedBy>
  <dcterms:modified xsi:type="dcterms:W3CDTF">2010-02-19T13:33:24Z</dcterms:modified>
  <cp:revision>13</cp:revision>
  <dc:subject/>
  <dc:title>London Housing Estates</dc:title>
</cp:coreProperties>
</file>