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CF12-2076-4F16-9E85-4320A02FC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D1E2-E3E4-46F2-8FFE-E79CD46C6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56B7-F2A7-4B00-B671-BA402E2AB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33B5-145C-4542-8A3B-285B26CE1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7400-F3EE-4A51-8CD1-2EE13B524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A384-B2E7-4174-B4A9-82DE63690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6FBD-767B-47B1-8945-C89E9548E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7F32-7720-46A4-8557-78DFC9D6C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6673-DEE1-4113-B831-D00CC6A6F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4A28-579F-4867-80C3-BFC25CECE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7BD8-237B-4751-B99C-B432E875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311F-90F8-4DF5-9157-3985440D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E5D07-7CD2-45EC-8337-9DFDC47AA0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ondon Housing Est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Anne Pow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London School of Econom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19 February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ite City Est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HUC 070.jpg"/>
          <p:cNvPicPr/>
          <p:nvPr/>
        </p:nvPicPr>
        <p:blipFill>
          <a:blip r:embed="rId1"/>
          <a:stretch/>
        </p:blipFill>
        <p:spPr>
          <a:xfrm>
            <a:off x="142920" y="2571840"/>
            <a:ext cx="3438360" cy="257796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3" descr="HUC 075.jpg"/>
          <p:cNvPicPr/>
          <p:nvPr/>
        </p:nvPicPr>
        <p:blipFill>
          <a:blip r:embed="rId2"/>
          <a:stretch/>
        </p:blipFill>
        <p:spPr>
          <a:xfrm>
            <a:off x="3714840" y="1928880"/>
            <a:ext cx="5286240" cy="39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ite City Est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Content Placeholder 3" descr="HUC 079.jpg"/>
          <p:cNvPicPr/>
          <p:nvPr/>
        </p:nvPicPr>
        <p:blipFill>
          <a:blip r:embed="rId1"/>
          <a:stretch/>
        </p:blipFill>
        <p:spPr>
          <a:xfrm>
            <a:off x="5143680" y="2357280"/>
            <a:ext cx="3571560" cy="2679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HUC 072.jpg"/>
          <p:cNvPicPr/>
          <p:nvPr/>
        </p:nvPicPr>
        <p:blipFill>
          <a:blip r:embed="rId2"/>
          <a:stretch/>
        </p:blipFill>
        <p:spPr>
          <a:xfrm>
            <a:off x="214200" y="2071800"/>
            <a:ext cx="4434120" cy="33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dward Woods Est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Edward Woods Estate2.jpg"/>
          <p:cNvPicPr/>
          <p:nvPr/>
        </p:nvPicPr>
        <p:blipFill>
          <a:blip r:embed="rId1"/>
          <a:stretch/>
        </p:blipFill>
        <p:spPr>
          <a:xfrm>
            <a:off x="1500120" y="1785960"/>
            <a:ext cx="63500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dward Woods Est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Content Placeholder 3" descr="HUC 004.jpg"/>
          <p:cNvPicPr/>
          <p:nvPr/>
        </p:nvPicPr>
        <p:blipFill>
          <a:blip r:embed="rId1"/>
          <a:stretch/>
        </p:blipFill>
        <p:spPr>
          <a:xfrm>
            <a:off x="142920" y="2143080"/>
            <a:ext cx="6033960" cy="4525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Edward Woods Estate.jpg"/>
          <p:cNvPicPr/>
          <p:nvPr/>
        </p:nvPicPr>
        <p:blipFill>
          <a:blip r:embed="rId2"/>
          <a:stretch/>
        </p:blipFill>
        <p:spPr>
          <a:xfrm>
            <a:off x="6500880" y="2643120"/>
            <a:ext cx="2415960" cy="32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. Luke’s, Islingt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Content Placeholder 3" descr="HUC 205.jpg"/>
          <p:cNvPicPr/>
          <p:nvPr/>
        </p:nvPicPr>
        <p:blipFill>
          <a:blip r:embed="rId1"/>
          <a:stretch/>
        </p:blipFill>
        <p:spPr>
          <a:xfrm>
            <a:off x="2571840" y="1285920"/>
            <a:ext cx="398304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The flag of mixed commun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ssumpti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ocial segregation is b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oncentrated poverty multiplies probl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ixed incomes generate re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tandards rise, services impro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eople value more attractive plac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Goal of reshaping social hou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Regeneration’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A double-edged swor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100s of estates target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Removes large affordable suppl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Displaces large low-income popula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Relies on large private invest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Difficult to raise ‘social’ to level of priva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So, mixed communities falt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But affordable housing supply shrink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Blighting estat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oodberry Dow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Content Placeholder 3" descr="woodberry down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Is there another wa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Manage and repair block by block to the value of £200,000 per hom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Preserve and upgrade all estates as affordable housing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Burden of proof on landlord to prove otherwis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Tackle worst social problems through social interventions, minimise demolition and displacemen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Encourage community link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Offer hand-holding and suppor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Extend social supply into private renting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Acquire and renovate unwanted empty propert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roadwater Farm Est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Content Placeholder 5" descr="broadwater2.jpg"/>
          <p:cNvPicPr/>
          <p:nvPr/>
        </p:nvPicPr>
        <p:blipFill>
          <a:blip r:embed="rId1"/>
          <a:stretch/>
        </p:blipFill>
        <p:spPr>
          <a:xfrm>
            <a:off x="600120" y="2259000"/>
            <a:ext cx="4043160" cy="3032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broadwater.jpg"/>
          <p:cNvPicPr/>
          <p:nvPr/>
        </p:nvPicPr>
        <p:blipFill>
          <a:blip r:embed="rId2"/>
          <a:stretch/>
        </p:blipFill>
        <p:spPr>
          <a:xfrm>
            <a:off x="4857840" y="1643040"/>
            <a:ext cx="328608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London 198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pproximatel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1 million council ho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2,000 est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200-1,000 homes e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ome much bi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60%+ fla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roadwater Farm Est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Content Placeholder 5" descr="broadwater5.jpg"/>
          <p:cNvPicPr/>
          <p:nvPr/>
        </p:nvPicPr>
        <p:blipFill>
          <a:blip r:embed="rId1"/>
          <a:stretch/>
        </p:blipFill>
        <p:spPr>
          <a:xfrm>
            <a:off x="285840" y="3357720"/>
            <a:ext cx="3632040" cy="27241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Broadwater4.jpg"/>
          <p:cNvPicPr/>
          <p:nvPr/>
        </p:nvPicPr>
        <p:blipFill>
          <a:blip r:embed="rId2"/>
          <a:stretch/>
        </p:blipFill>
        <p:spPr>
          <a:xfrm>
            <a:off x="4071960" y="1928880"/>
            <a:ext cx="485784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lapton Park Est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Content Placeholder 3" descr="clapton2.jpg"/>
          <p:cNvPicPr/>
          <p:nvPr/>
        </p:nvPicPr>
        <p:blipFill>
          <a:blip r:embed="rId1"/>
          <a:stretch/>
        </p:blipFill>
        <p:spPr>
          <a:xfrm>
            <a:off x="357120" y="2286000"/>
            <a:ext cx="4876920" cy="31910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5429160" y="2500200"/>
            <a:ext cx="339732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Can poor, unpopular estates be made to work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o alternative – still around 2,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ome examp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ite City, Hammersmi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oplar HARCA, Tower Haml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ornsey Lane, Isling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rvest Estate, Isling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lapton Park, Hackne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roadwater Farm, Haringe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dward Woods, Hammersmi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oplar HAR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Content Placeholder 3" descr="Poplar HARCA3.jpg"/>
          <p:cNvPicPr/>
          <p:nvPr/>
        </p:nvPicPr>
        <p:blipFill>
          <a:blip r:embed="rId1"/>
          <a:stretch/>
        </p:blipFill>
        <p:spPr>
          <a:xfrm>
            <a:off x="6072120" y="2571840"/>
            <a:ext cx="2500560" cy="33336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Poplar HARCA.jpg"/>
          <p:cNvPicPr/>
          <p:nvPr/>
        </p:nvPicPr>
        <p:blipFill>
          <a:blip r:embed="rId2"/>
          <a:stretch/>
        </p:blipFill>
        <p:spPr>
          <a:xfrm>
            <a:off x="214200" y="2000160"/>
            <a:ext cx="572472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In spite of poverty –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All model estates work with three condition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- intensive estate-based managemen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- ‘custodial’ caretaking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- resident involvemen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Modest continual investmen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Careful on-site problem-solving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Direct communication between landlords and tenan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Extensive social provision and suppor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On-going repair, cleaning, securit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5480" y="499680"/>
            <a:ext cx="871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Locally-based communal services for large community built estates are a </a:t>
            </a:r>
            <a:r>
              <a:rPr b="1" i="1" lang="en-GB" sz="3000" spc="-1" strike="noStrike">
                <a:solidFill>
                  <a:srgbClr val="000000"/>
                </a:solidFill>
                <a:latin typeface="Calibri"/>
              </a:rPr>
              <a:t>sine qua non </a:t>
            </a: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of success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orks for the rich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orks for the poor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- Street pol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- Park keeper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- Ward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- Door secur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- Odd jobs m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ight Brace 3"/>
          <p:cNvSpPr/>
          <p:nvPr/>
        </p:nvSpPr>
        <p:spPr>
          <a:xfrm>
            <a:off x="3500280" y="2928960"/>
            <a:ext cx="500400" cy="2714760"/>
          </a:xfrm>
          <a:custGeom>
            <a:avLst/>
            <a:gdLst>
              <a:gd name="textAreaLeft" fmla="*/ 0 w 500400"/>
              <a:gd name="textAreaRight" fmla="*/ 180720 w 500400"/>
              <a:gd name="textAreaTop" fmla="*/ 12960 h 2714760"/>
              <a:gd name="textAreaBottom" fmla="*/ 2701800 h 271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66"/>
                  <a:pt x="10800" y="332"/>
                </a:cubicBezTo>
                <a:lnTo>
                  <a:pt x="10800" y="10131"/>
                </a:lnTo>
                <a:cubicBezTo>
                  <a:pt x="10800" y="10297"/>
                  <a:pt x="16200" y="10463"/>
                  <a:pt x="21600" y="10463"/>
                </a:cubicBezTo>
                <a:cubicBezTo>
                  <a:pt x="16200" y="10463"/>
                  <a:pt x="10800" y="10629"/>
                  <a:pt x="10800" y="10795"/>
                </a:cubicBezTo>
                <a:lnTo>
                  <a:pt x="10800" y="21268"/>
                </a:lnTo>
                <a:cubicBezTo>
                  <a:pt x="10800" y="21434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4"/>
          <p:cNvSpPr/>
          <p:nvPr/>
        </p:nvSpPr>
        <p:spPr>
          <a:xfrm>
            <a:off x="4214880" y="3929040"/>
            <a:ext cx="33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one to turn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ark keep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Content Placeholder 3" descr="percy_the_park_keeper_banner.jpg"/>
          <p:cNvPicPr/>
          <p:nvPr/>
        </p:nvPicPr>
        <p:blipFill>
          <a:blip r:embed="rId1"/>
          <a:stretch/>
        </p:blipFill>
        <p:spPr>
          <a:xfrm>
            <a:off x="1928880" y="2255760"/>
            <a:ext cx="5500800" cy="30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cier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Content Placeholder 3" descr="concierge.jpg"/>
          <p:cNvPicPr/>
          <p:nvPr/>
        </p:nvPicPr>
        <p:blipFill>
          <a:blip r:embed="rId1"/>
          <a:stretch/>
        </p:blipFill>
        <p:spPr>
          <a:xfrm>
            <a:off x="2928960" y="1571760"/>
            <a:ext cx="3527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Large council landlo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65% of all homes in inner boroug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elinquent management, eg. Hackney 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o reinvestment f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ight-to-buy extremely l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roblems of low dem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arly experiments in ‘estate-based’ mana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ner’ distinct from ‘outer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arvist Est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Content Placeholder 3" descr="Harvist.jpg"/>
          <p:cNvPicPr/>
          <p:nvPr/>
        </p:nvPicPr>
        <p:blipFill>
          <a:blip r:embed="rId1"/>
          <a:stretch/>
        </p:blipFill>
        <p:spPr>
          <a:xfrm>
            <a:off x="1397160" y="1766880"/>
            <a:ext cx="63496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arvi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Content Placeholder 3" descr="Harvist2.jpg"/>
          <p:cNvPicPr/>
          <p:nvPr/>
        </p:nvPicPr>
        <p:blipFill>
          <a:blip r:embed="rId1"/>
          <a:stretch/>
        </p:blipFill>
        <p:spPr>
          <a:xfrm>
            <a:off x="1397160" y="1760400"/>
            <a:ext cx="634968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enlock Barn Est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Content Placeholder 3" descr="Wenlock Barn.jpg"/>
          <p:cNvPicPr/>
          <p:nvPr/>
        </p:nvPicPr>
        <p:blipFill>
          <a:blip r:embed="rId1"/>
          <a:stretch/>
        </p:blipFill>
        <p:spPr>
          <a:xfrm>
            <a:off x="1285920" y="1666800"/>
            <a:ext cx="6215040" cy="46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ulse Hill Est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Content Placeholder 3" descr="tulsehill.bmp"/>
          <p:cNvPicPr/>
          <p:nvPr/>
        </p:nvPicPr>
        <p:blipFill>
          <a:blip r:embed="rId1"/>
          <a:stretch/>
        </p:blipFill>
        <p:spPr>
          <a:xfrm>
            <a:off x="285840" y="2643120"/>
            <a:ext cx="3713040" cy="2784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tulsehill2.bmp"/>
          <p:cNvPicPr/>
          <p:nvPr/>
        </p:nvPicPr>
        <p:blipFill>
          <a:blip r:embed="rId2"/>
          <a:stretch/>
        </p:blipFill>
        <p:spPr>
          <a:xfrm>
            <a:off x="4214880" y="228600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20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ight-to-buy very successfu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ransfers to Housing Associations attract reinvest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rms’ Length Management Organisations (ALMOs) take ov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Group’ social landlords dominate, i.e. large housing associ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ouncil stock halv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ressures of demand inten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Large est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Very low income popul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oncentrated in most deprived ar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uch higher worklessness than ave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oncentrations of lone parent famil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erious visible social probl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uch greater management challen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ove to high-tech ‘remote’ syst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9T09:57:31Z</dcterms:created>
  <dc:creator>Ruth Lister</dc:creator>
  <dc:description/>
  <dc:language>en-US</dc:language>
  <cp:lastModifiedBy>RLAB</cp:lastModifiedBy>
  <dcterms:modified xsi:type="dcterms:W3CDTF">2010-02-19T13:33:24Z</dcterms:modified>
  <cp:revision>13</cp:revision>
  <dc:subject/>
  <dc:title>London Housing Estates</dc:title>
</cp:coreProperties>
</file>