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45AC-F499-44CB-9025-505D30F28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FEA0-DAB3-4394-90F6-E0A2E4B36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D153-43D8-47C6-BC4A-4716DC0FF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4159-5347-4539-AD50-E7BD87522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4326-26B6-46DA-BCAB-0FB491E49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E140-A6F9-4AC0-8D55-CD6B177A9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25F8-40CB-44E1-B32F-9E91BA6A9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A9A3-76FB-41E5-850B-DDFFACF43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9204-D643-4E63-94D3-A6E7A55E5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7C45-1F45-4DA6-8D3F-605B7099C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CD83-7A43-485A-9664-A4EE7D5EA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A47A-CCF7-40EF-96A1-CF183C6EF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0f7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A2B5-3F8F-4BA3-92FA-130F8D163855}" type="slidenum">
              <a:rPr b="0" lang="en-US" sz="1400" spc="-1" strike="noStrike">
                <a:solidFill>
                  <a:srgbClr val="590f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35080"/>
            <a:ext cx="9144000" cy="5722920"/>
          </a:xfrm>
          <a:prstGeom prst="rect">
            <a:avLst/>
          </a:prstGeom>
          <a:solidFill>
            <a:srgbClr val="590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0980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1295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</a:rPr>
              <a:t>Transforming London’s Public Services</a:t>
            </a:r>
            <a:br>
              <a:rPr sz="2000"/>
            </a:br>
            <a:r>
              <a:rPr b="1" lang="en-US" sz="2000" spc="-1" strike="noStrike">
                <a:solidFill>
                  <a:srgbClr val="590f78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590f78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590f78"/>
                </a:solidFill>
                <a:latin typeface="Arial"/>
              </a:rPr>
              <a:t> March 2010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3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0f78"/>
                </a:solidFill>
                <a:latin typeface="Arial"/>
              </a:rPr>
              <a:t>London Councils’ prioriti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0f78"/>
                </a:solidFill>
                <a:latin typeface="Arial"/>
              </a:rPr>
              <a:t>John O’Brie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0f78"/>
                </a:solidFill>
                <a:latin typeface="Arial"/>
              </a:rPr>
              <a:t>Chief Executiv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9707-4C0B-439D-A485-FFA9CF1F3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8920" y="836640"/>
            <a:ext cx="774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0f78"/>
                </a:solidFill>
                <a:latin typeface="Arial"/>
              </a:rPr>
              <a:t>The Manifesto for Londoner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46400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34F6-9624-488E-A629-C1759A47F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0f78"/>
                </a:solidFill>
                <a:latin typeface="Arial"/>
              </a:rPr>
              <a:t>Priorities – in summary …..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London boroughs are able to lead their local communities and, collectively, contribute to shaping London as a world city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Greater local democratic influence over the commissioning of a wider range of public servic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To help councils and their partners do more, and better, with les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4FDC-D92F-42A9-B478-9B60CDF2E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0f78"/>
                </a:solidFill>
                <a:latin typeface="Arial"/>
              </a:rPr>
              <a:t>Context – why London Local Government?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Track record on efficiency, improvement and delivery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Quality of leadership – political, professional and managerial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Commitment to collaborati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London’s specific challenges require a more devolved approach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1A3B-4310-46A2-B528-D1FB746ED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90f78"/>
                </a:solidFill>
                <a:latin typeface="Arial"/>
              </a:rPr>
              <a:t>Manifesto for Londoners: </a:t>
            </a:r>
            <a:r>
              <a:rPr b="1" lang="en-GB" sz="3600" spc="-1" strike="noStrike">
                <a:solidFill>
                  <a:srgbClr val="590f78"/>
                </a:solidFill>
                <a:latin typeface="Arial"/>
              </a:rPr>
              <a:t>issue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Health &amp; social car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Worklessnes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Adult skill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Local polic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Community justice &amp; offender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Child safety &amp; achiev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Housing &amp; invest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Climate change &amp; retrofitt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Public places &amp; public behaviour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55A8-0F26-4E65-8771-E2ABC3EB30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1052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90f78"/>
                </a:solidFill>
                <a:latin typeface="Arial"/>
              </a:rPr>
              <a:t>Manifesto for Londoners</a:t>
            </a: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590f78"/>
                </a:solidFill>
                <a:latin typeface="Arial"/>
              </a:rPr>
              <a:t>– some specific prioriti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Health and Social Car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Worklessness and skill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Policing and community justic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Re-generation and investment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BC08-BEFF-4596-B1D3-06583ABCC3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1280" y="1052640"/>
          <a:ext cx="3560760" cy="49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52640"/>
                    <a:ext cx="356076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flipV="1" rot="10800000">
            <a:off x="5145120" y="1387080"/>
            <a:ext cx="385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£74 billion spend –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3 Key areas of focu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90f78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Worklessnes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90f78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Anti-social behaviour by young people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90f78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Managing chronic condition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Potential for 15% saving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3F68-1FD7-42DE-B27B-7828CFE6E2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0f78"/>
                </a:solidFill>
                <a:latin typeface="Arial"/>
              </a:rPr>
              <a:t>Some wider issues in delivering on these prioriti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Finding the right spatial levels in Lond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London’s funding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The London performance regim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C536-825E-4A4E-866E-69E58A610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8:01:23Z</dcterms:created>
  <dc:creator>vyv</dc:creator>
  <dc:description>Version: 29 September 06</dc:description>
  <dc:language>en-US</dc:language>
  <cp:lastModifiedBy>SBrivio</cp:lastModifiedBy>
  <cp:lastPrinted>2001-05-18T11:16:29Z</cp:lastPrinted>
  <dcterms:modified xsi:type="dcterms:W3CDTF">2010-03-01T14:08:37Z</dcterms:modified>
  <cp:revision>173</cp:revision>
  <dc:subject/>
  <dc:title>Please enter your title</dc:title>
</cp:coreProperties>
</file>