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A92112-6C09-4FD5-9086-FCC5E33DC0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19280" y="1294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19280" y="2212920"/>
            <a:ext cx="777384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19280" y="4365720"/>
            <a:ext cx="777384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6A6CF7-63D8-4AFF-99B8-B06E542973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19280" y="1294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19280" y="2212920"/>
            <a:ext cx="379332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02680" y="2212920"/>
            <a:ext cx="379332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19280" y="4365720"/>
            <a:ext cx="379332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02680" y="4365720"/>
            <a:ext cx="379332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50E838-85FB-400B-8DFD-BD7D5526A7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19280" y="1294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19280" y="2212920"/>
            <a:ext cx="250308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48000" y="2212920"/>
            <a:ext cx="250308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6360" y="2212920"/>
            <a:ext cx="250308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19280" y="4365720"/>
            <a:ext cx="250308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48000" y="4365720"/>
            <a:ext cx="250308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6360" y="4365720"/>
            <a:ext cx="250308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999BC1-EFE3-4467-B25F-43F2543864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19280" y="1294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719280" y="2212920"/>
            <a:ext cx="7773840" cy="412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19280" y="1294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19280" y="2212920"/>
            <a:ext cx="777384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19280" y="1294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19280" y="2212920"/>
            <a:ext cx="379332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02680" y="2212920"/>
            <a:ext cx="379332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19280" y="1294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90f7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719280" y="1294920"/>
            <a:ext cx="7772400" cy="36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19280" y="1294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19280" y="2212920"/>
            <a:ext cx="379332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02680" y="2212920"/>
            <a:ext cx="379332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719280" y="4365720"/>
            <a:ext cx="379332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19280" y="1294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19280" y="2212920"/>
            <a:ext cx="7773840" cy="412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A36AD6-ACC4-47A1-B725-06D930EE3C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19280" y="1294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19280" y="2212920"/>
            <a:ext cx="379332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02680" y="2212920"/>
            <a:ext cx="379332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2680" y="4365720"/>
            <a:ext cx="379332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19280" y="1294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19280" y="2212920"/>
            <a:ext cx="379332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2680" y="2212920"/>
            <a:ext cx="379332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719280" y="4365720"/>
            <a:ext cx="777384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19280" y="1294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19280" y="2212920"/>
            <a:ext cx="777384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719280" y="4365720"/>
            <a:ext cx="777384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19280" y="1294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19280" y="2212920"/>
            <a:ext cx="379332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2680" y="2212920"/>
            <a:ext cx="379332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19280" y="4365720"/>
            <a:ext cx="379332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02680" y="4365720"/>
            <a:ext cx="379332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19280" y="1294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19280" y="2212920"/>
            <a:ext cx="250308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48000" y="2212920"/>
            <a:ext cx="250308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76360" y="2212920"/>
            <a:ext cx="250308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719280" y="4365720"/>
            <a:ext cx="250308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48000" y="4365720"/>
            <a:ext cx="250308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76360" y="4365720"/>
            <a:ext cx="250308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19280" y="1294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19280" y="2212920"/>
            <a:ext cx="777384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D40DF0-640D-42DA-A77B-AFA817AE5B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19280" y="1294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19280" y="2212920"/>
            <a:ext cx="379332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02680" y="2212920"/>
            <a:ext cx="379332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3CDA80-ABFD-4464-8B6F-3A7619576A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19280" y="1294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6F9504-6A36-402A-B692-B8DD02EAAC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19280" y="1294920"/>
            <a:ext cx="7772400" cy="36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52103-CA41-46DA-B8B8-D632C358EC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19280" y="1294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19280" y="2212920"/>
            <a:ext cx="379332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02680" y="2212920"/>
            <a:ext cx="379332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19280" y="4365720"/>
            <a:ext cx="379332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213F83-29B7-4252-AB71-7C583B1833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19280" y="1294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19280" y="2212920"/>
            <a:ext cx="379332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02680" y="2212920"/>
            <a:ext cx="379332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02680" y="4365720"/>
            <a:ext cx="379332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4F542A-4A74-4F81-A510-22978642E3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19280" y="1294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19280" y="2212920"/>
            <a:ext cx="379332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02680" y="2212920"/>
            <a:ext cx="379332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19280" y="4365720"/>
            <a:ext cx="777384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334FCF-D2CE-481C-9007-1F2F1AE4CC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680076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90f78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A090A-BC72-4DE0-8D8F-259215B49EE8}" type="slidenum">
              <a:rPr b="0" lang="en-US" sz="1400" spc="-1" strike="noStrike">
                <a:solidFill>
                  <a:srgbClr val="590f78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719280" y="1294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90f78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719280" y="2212920"/>
            <a:ext cx="777384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90f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0f7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90f7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0f7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90f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0f7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90f7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0f7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90f7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0f7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590f7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0f7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590f7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0f7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46840" y="366840"/>
            <a:ext cx="1266840" cy="61416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743040" y="628560"/>
            <a:ext cx="2819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90f78"/>
                </a:solidFill>
                <a:latin typeface="Arial"/>
              </a:rPr>
              <a:t>www.londoncouncils.gov.uk</a:t>
            </a:r>
            <a:endParaRPr b="0" lang="en-US" sz="1200" spc="-1" strike="noStrike">
              <a:solidFill>
                <a:srgbClr val="590f78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1135080"/>
            <a:ext cx="9144000" cy="5722920"/>
          </a:xfrm>
          <a:prstGeom prst="rect">
            <a:avLst/>
          </a:prstGeom>
          <a:solidFill>
            <a:srgbClr val="590f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90f78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90720" y="1294920"/>
            <a:ext cx="7772400" cy="84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7746840" y="366840"/>
            <a:ext cx="1266840" cy="6141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009800" y="628560"/>
            <a:ext cx="2819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90f78"/>
                </a:solidFill>
                <a:latin typeface="Arial"/>
              </a:rPr>
              <a:t>www.londoncouncils.gov.uk</a:t>
            </a:r>
            <a:endParaRPr b="0" lang="en-US" sz="1200" spc="-1" strike="noStrike">
              <a:solidFill>
                <a:srgbClr val="590f78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19280" y="1295280"/>
            <a:ext cx="77724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90f78"/>
                </a:solidFill>
                <a:latin typeface="Arial"/>
              </a:rPr>
              <a:t>Transforming London’s Public Services</a:t>
            </a:r>
            <a:br>
              <a:rPr sz="2000"/>
            </a:br>
            <a:r>
              <a:rPr b="1" lang="en-US" sz="2000" spc="-1" strike="noStrike">
                <a:solidFill>
                  <a:srgbClr val="590f78"/>
                </a:solidFill>
                <a:latin typeface="Arial"/>
              </a:rPr>
              <a:t>2</a:t>
            </a:r>
            <a:r>
              <a:rPr b="1" lang="en-US" sz="2000" spc="-1" strike="noStrike" baseline="30000">
                <a:solidFill>
                  <a:srgbClr val="590f78"/>
                </a:solidFill>
                <a:latin typeface="Arial"/>
              </a:rPr>
              <a:t>nd</a:t>
            </a:r>
            <a:r>
              <a:rPr b="1" lang="en-US" sz="2000" spc="-1" strike="noStrike">
                <a:solidFill>
                  <a:srgbClr val="590f78"/>
                </a:solidFill>
                <a:latin typeface="Arial"/>
              </a:rPr>
              <a:t> March 2010</a:t>
            </a:r>
            <a:endParaRPr b="0" lang="en-US" sz="20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55640" y="1844640"/>
            <a:ext cx="7773840" cy="50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590f78"/>
                </a:solidFill>
                <a:latin typeface="Arial"/>
              </a:rPr>
              <a:t>London Councils’ priorities</a:t>
            </a: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590f78"/>
                </a:solidFill>
                <a:latin typeface="Arial"/>
              </a:rPr>
              <a:t>John O’Brien</a:t>
            </a:r>
            <a:endParaRPr b="0" lang="en-US" sz="2000" spc="-1" strike="noStrike">
              <a:solidFill>
                <a:srgbClr val="590f78"/>
              </a:solidFill>
              <a:latin typeface="Arial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590f78"/>
                </a:solidFill>
                <a:latin typeface="Arial"/>
              </a:rPr>
              <a:t>Chief Executive</a:t>
            </a:r>
            <a:endParaRPr b="0" lang="en-US" sz="2000" spc="-1" strike="noStrike">
              <a:solidFill>
                <a:srgbClr val="590f78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7429EA-1649-4D53-9DD0-6B5E159059E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718920" y="836640"/>
            <a:ext cx="774036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590f78"/>
                </a:solidFill>
                <a:latin typeface="Arial"/>
              </a:rPr>
              <a:t>The Manifesto for Londoners</a:t>
            </a: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2124000" y="1700280"/>
            <a:ext cx="4464000" cy="4429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283496-A949-4E38-9B11-01E89366666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19280" y="1294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590f78"/>
                </a:solidFill>
                <a:latin typeface="Arial"/>
              </a:rPr>
              <a:t>Priorities – in summary …..</a:t>
            </a: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19280" y="2212920"/>
            <a:ext cx="777384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590f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90f78"/>
                </a:solidFill>
                <a:latin typeface="Arial"/>
              </a:rPr>
              <a:t>London boroughs are able to lead their local communities and, collectively, contribute to shaping London as a world city</a:t>
            </a:r>
            <a:endParaRPr b="0" lang="en-US" sz="2400" spc="-1" strike="noStrike">
              <a:solidFill>
                <a:srgbClr val="590f7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0f7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90f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90f78"/>
                </a:solidFill>
                <a:latin typeface="Arial"/>
              </a:rPr>
              <a:t>Greater local democratic influence over the commissioning of a wider range of public services</a:t>
            </a:r>
            <a:endParaRPr b="0" lang="en-US" sz="2400" spc="-1" strike="noStrike">
              <a:solidFill>
                <a:srgbClr val="590f7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0f7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90f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90f78"/>
                </a:solidFill>
                <a:latin typeface="Arial"/>
              </a:rPr>
              <a:t>To help councils and their partners do more, and better, with less</a:t>
            </a:r>
            <a:endParaRPr b="0" lang="en-US" sz="24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D4B9A2-C68D-4DD0-A2B4-AE686AD0FDE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19280" y="1294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590f78"/>
                </a:solidFill>
                <a:latin typeface="Arial"/>
              </a:rPr>
              <a:t>Context – why London Local Government?</a:t>
            </a:r>
            <a:endParaRPr b="0" lang="en-US" sz="28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19280" y="2212920"/>
            <a:ext cx="777384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590f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90f78"/>
                </a:solidFill>
                <a:latin typeface="Arial"/>
              </a:rPr>
              <a:t>Track record on efficiency, improvement and delivery</a:t>
            </a:r>
            <a:endParaRPr b="0" lang="en-US" sz="2400" spc="-1" strike="noStrike">
              <a:solidFill>
                <a:srgbClr val="590f7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0f7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90f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90f78"/>
                </a:solidFill>
                <a:latin typeface="Arial"/>
              </a:rPr>
              <a:t>Quality of leadership – political, professional and managerial</a:t>
            </a:r>
            <a:endParaRPr b="0" lang="en-US" sz="2400" spc="-1" strike="noStrike">
              <a:solidFill>
                <a:srgbClr val="590f7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0f7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90f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90f78"/>
                </a:solidFill>
                <a:latin typeface="Arial"/>
              </a:rPr>
              <a:t>Commitment to collaboration</a:t>
            </a:r>
            <a:endParaRPr b="0" lang="en-US" sz="2400" spc="-1" strike="noStrike">
              <a:solidFill>
                <a:srgbClr val="590f7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0f7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90f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90f78"/>
                </a:solidFill>
                <a:latin typeface="Arial"/>
              </a:rPr>
              <a:t>London’s specific challenges require a more devolved approach</a:t>
            </a:r>
            <a:endParaRPr b="0" lang="en-US" sz="24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85CDF8-3C89-4325-AED5-7937A43C33A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19280" y="1294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590f78"/>
                </a:solidFill>
                <a:latin typeface="Arial"/>
              </a:rPr>
              <a:t>Manifesto for Londoners: </a:t>
            </a:r>
            <a:r>
              <a:rPr b="1" lang="en-GB" sz="3600" spc="-1" strike="noStrike">
                <a:solidFill>
                  <a:srgbClr val="590f78"/>
                </a:solidFill>
                <a:latin typeface="Arial"/>
              </a:rPr>
              <a:t>issues</a:t>
            </a:r>
            <a:endParaRPr b="0" lang="en-US" sz="36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19280" y="2212920"/>
            <a:ext cx="777384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99"/>
              </a:spcBef>
              <a:buClr>
                <a:srgbClr val="590f78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90f78"/>
                </a:solidFill>
                <a:latin typeface="Arial"/>
              </a:rPr>
              <a:t>Health &amp; social care</a:t>
            </a:r>
            <a:endParaRPr b="0" lang="en-US" sz="2000" spc="-1" strike="noStrike">
              <a:solidFill>
                <a:srgbClr val="590f78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590f78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90f78"/>
                </a:solidFill>
                <a:latin typeface="Arial"/>
              </a:rPr>
              <a:t>Worklessness</a:t>
            </a:r>
            <a:endParaRPr b="0" lang="en-US" sz="2000" spc="-1" strike="noStrike">
              <a:solidFill>
                <a:srgbClr val="590f78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590f78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90f78"/>
                </a:solidFill>
                <a:latin typeface="Arial"/>
              </a:rPr>
              <a:t>Adult skills</a:t>
            </a:r>
            <a:endParaRPr b="0" lang="en-US" sz="2000" spc="-1" strike="noStrike">
              <a:solidFill>
                <a:srgbClr val="590f78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590f78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90f78"/>
                </a:solidFill>
                <a:latin typeface="Arial"/>
              </a:rPr>
              <a:t>Local policing</a:t>
            </a:r>
            <a:endParaRPr b="0" lang="en-US" sz="2000" spc="-1" strike="noStrike">
              <a:solidFill>
                <a:srgbClr val="590f78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590f78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90f78"/>
                </a:solidFill>
                <a:latin typeface="Arial"/>
              </a:rPr>
              <a:t>Community justice &amp; offender management</a:t>
            </a:r>
            <a:endParaRPr b="0" lang="en-US" sz="2000" spc="-1" strike="noStrike">
              <a:solidFill>
                <a:srgbClr val="590f78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590f78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90f78"/>
                </a:solidFill>
                <a:latin typeface="Arial"/>
              </a:rPr>
              <a:t>Child safety &amp; achievement</a:t>
            </a:r>
            <a:endParaRPr b="0" lang="en-US" sz="2000" spc="-1" strike="noStrike">
              <a:solidFill>
                <a:srgbClr val="590f78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590f78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90f78"/>
                </a:solidFill>
                <a:latin typeface="Arial"/>
              </a:rPr>
              <a:t>Transport</a:t>
            </a:r>
            <a:endParaRPr b="0" lang="en-US" sz="2000" spc="-1" strike="noStrike">
              <a:solidFill>
                <a:srgbClr val="590f78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590f78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90f78"/>
                </a:solidFill>
                <a:latin typeface="Arial"/>
              </a:rPr>
              <a:t>Housing &amp; investment</a:t>
            </a:r>
            <a:endParaRPr b="0" lang="en-US" sz="2000" spc="-1" strike="noStrike">
              <a:solidFill>
                <a:srgbClr val="590f78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590f78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90f78"/>
                </a:solidFill>
                <a:latin typeface="Arial"/>
              </a:rPr>
              <a:t>Climate change &amp; retrofitting</a:t>
            </a:r>
            <a:endParaRPr b="0" lang="en-US" sz="2000" spc="-1" strike="noStrike">
              <a:solidFill>
                <a:srgbClr val="590f78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590f78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90f78"/>
                </a:solidFill>
                <a:latin typeface="Arial"/>
              </a:rPr>
              <a:t>Public places &amp; public behaviour</a:t>
            </a:r>
            <a:endParaRPr b="0" lang="en-US" sz="2000" spc="-1" strike="noStrike">
              <a:solidFill>
                <a:srgbClr val="590f78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EB4F87-DCFF-4A8C-8C35-F9A2376E159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19280" y="1052280"/>
            <a:ext cx="777240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590f78"/>
                </a:solidFill>
                <a:latin typeface="Arial"/>
              </a:rPr>
              <a:t>Manifesto for Londoners</a:t>
            </a:r>
            <a:r>
              <a:rPr b="0" lang="en-GB" sz="2800" spc="-1" strike="noStrike">
                <a:solidFill>
                  <a:srgbClr val="590f78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590f78"/>
                </a:solidFill>
                <a:latin typeface="Arial"/>
              </a:rPr>
              <a:t>– some specific priorities</a:t>
            </a:r>
            <a:endParaRPr b="0" lang="en-US" sz="28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19280" y="2212920"/>
            <a:ext cx="777384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90f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90f78"/>
                </a:solidFill>
                <a:latin typeface="Arial"/>
              </a:rPr>
              <a:t>Health and Social Care</a:t>
            </a:r>
            <a:endParaRPr b="0" lang="en-US" sz="2800" spc="-1" strike="noStrike">
              <a:solidFill>
                <a:srgbClr val="590f7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0f7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90f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90f78"/>
                </a:solidFill>
                <a:latin typeface="Arial"/>
              </a:rPr>
              <a:t>Worklessness and skills</a:t>
            </a:r>
            <a:endParaRPr b="0" lang="en-US" sz="2800" spc="-1" strike="noStrike">
              <a:solidFill>
                <a:srgbClr val="590f7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0f7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90f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90f78"/>
                </a:solidFill>
                <a:latin typeface="Arial"/>
              </a:rPr>
              <a:t>Policing and community justice</a:t>
            </a:r>
            <a:endParaRPr b="0" lang="en-US" sz="2800" spc="-1" strike="noStrike">
              <a:solidFill>
                <a:srgbClr val="590f7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0f7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90f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90f78"/>
                </a:solidFill>
                <a:latin typeface="Arial"/>
              </a:rPr>
              <a:t>Re-generation and investment</a:t>
            </a:r>
            <a:endParaRPr b="0" lang="en-US" sz="2800" spc="-1" strike="noStrike">
              <a:solidFill>
                <a:srgbClr val="590f7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3D20D6-8EF8-4E78-ABB6-C55D2E5617F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" name=""/>
          <p:cNvGraphicFramePr/>
          <p:nvPr/>
        </p:nvGraphicFramePr>
        <p:xfrm>
          <a:off x="611280" y="1052640"/>
          <a:ext cx="3560760" cy="499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052640"/>
                    <a:ext cx="3560760" cy="499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" name=""/>
          <p:cNvSpPr/>
          <p:nvPr/>
        </p:nvSpPr>
        <p:spPr>
          <a:xfrm flipV="1" rot="10800000">
            <a:off x="5145120" y="1387080"/>
            <a:ext cx="38577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90f78"/>
                </a:solidFill>
                <a:latin typeface="Arial"/>
              </a:rPr>
              <a:t>£74 billion spend –</a:t>
            </a:r>
            <a:endParaRPr b="0" lang="en-US" sz="2400" spc="-1" strike="noStrike">
              <a:solidFill>
                <a:srgbClr val="590f7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0f7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90f78"/>
                </a:solidFill>
                <a:latin typeface="Arial"/>
              </a:rPr>
              <a:t>3 Key areas of focus</a:t>
            </a:r>
            <a:endParaRPr b="0" lang="en-US" sz="2400" spc="-1" strike="noStrike">
              <a:solidFill>
                <a:srgbClr val="590f7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0f78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590f78"/>
              </a:buClr>
              <a:buFont typeface="Tahoma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90f78"/>
                </a:solidFill>
                <a:latin typeface="Arial"/>
              </a:rPr>
              <a:t>Worklessness</a:t>
            </a:r>
            <a:endParaRPr b="0" lang="en-US" sz="2400" spc="-1" strike="noStrike">
              <a:solidFill>
                <a:srgbClr val="590f78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590f78"/>
              </a:buClr>
              <a:buFont typeface="Tahoma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90f78"/>
                </a:solidFill>
                <a:latin typeface="Arial"/>
              </a:rPr>
              <a:t>Anti-social behaviour by young people</a:t>
            </a:r>
            <a:endParaRPr b="0" lang="en-US" sz="2400" spc="-1" strike="noStrike">
              <a:solidFill>
                <a:srgbClr val="590f78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590f78"/>
              </a:buClr>
              <a:buFont typeface="Tahoma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90f78"/>
                </a:solidFill>
                <a:latin typeface="Arial"/>
              </a:rPr>
              <a:t>Managing chronic conditions</a:t>
            </a:r>
            <a:endParaRPr b="0" lang="en-US" sz="2400" spc="-1" strike="noStrike">
              <a:solidFill>
                <a:srgbClr val="590f78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0f78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90f78"/>
                </a:solidFill>
                <a:latin typeface="Arial"/>
              </a:rPr>
              <a:t>Potential for 15% savings</a:t>
            </a:r>
            <a:endParaRPr b="0" lang="en-US" sz="2400" spc="-1" strike="noStrike">
              <a:solidFill>
                <a:srgbClr val="590f78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00CD7-FF9B-4C22-9340-0FBDAE88ABA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19280" y="1294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590f78"/>
                </a:solidFill>
                <a:latin typeface="Arial"/>
              </a:rPr>
              <a:t>Some wider issues in delivering on these priorities</a:t>
            </a:r>
            <a:endParaRPr b="0" lang="en-US" sz="24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19280" y="2212920"/>
            <a:ext cx="777384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0f7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0f7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90f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90f78"/>
                </a:solidFill>
                <a:latin typeface="Arial"/>
              </a:rPr>
              <a:t>Finding the right spatial levels in London</a:t>
            </a:r>
            <a:endParaRPr b="0" lang="en-US" sz="2400" spc="-1" strike="noStrike">
              <a:solidFill>
                <a:srgbClr val="590f7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0f7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90f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90f78"/>
                </a:solidFill>
                <a:latin typeface="Arial"/>
              </a:rPr>
              <a:t>London’s funding</a:t>
            </a:r>
            <a:endParaRPr b="0" lang="en-US" sz="2400" spc="-1" strike="noStrike">
              <a:solidFill>
                <a:srgbClr val="590f7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0f7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90f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90f78"/>
                </a:solidFill>
                <a:latin typeface="Arial"/>
              </a:rPr>
              <a:t>The London performance regime</a:t>
            </a:r>
            <a:endParaRPr b="0" lang="en-US" sz="2400" spc="-1" strike="noStrike">
              <a:solidFill>
                <a:srgbClr val="590f7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A342ED-A90A-4F88-95B0-2092E2A87D8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8T08:01:23Z</dcterms:created>
  <dc:creator>vyv</dc:creator>
  <dc:description>Version: 29 September 06</dc:description>
  <dc:language>en-US</dc:language>
  <cp:lastModifiedBy>SBrivio</cp:lastModifiedBy>
  <cp:lastPrinted>2001-05-18T11:16:29Z</cp:lastPrinted>
  <dcterms:modified xsi:type="dcterms:W3CDTF">2010-03-01T14:08:37Z</dcterms:modified>
  <cp:revision>173</cp:revision>
  <dc:subject/>
  <dc:title>Please enter your title</dc:title>
</cp:coreProperties>
</file>