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1.png" ContentType="image/png"/>
  <Override PartName="/ppt/media/image6.jpeg" ContentType="image/jpeg"/>
  <Override PartName="/ppt/media/image13.png" ContentType="image/pn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  <p:sldId id="281" r:id="rId64"/>
    <p:sldId id="282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slide" Target="slides/slide26.xml"/><Relationship Id="rId65" Type="http://schemas.openxmlformats.org/officeDocument/2006/relationships/slide" Target="slides/slide27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4DC-A8B0-474B-A365-CAFD1A5D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36A-4C38-4240-BE24-6EE4158C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C1B-1CC6-4CD4-9F8C-2400FBF2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5C4-EB63-41ED-A5F0-20645D05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F27-4F67-41BC-BE2F-7F806891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3D4-B747-4CE5-92A6-36506367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349-EDB0-476C-8C46-6E8CC0C8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7DD-49E4-44C5-9365-7616CF8E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42D-35FB-4990-A110-CCE954C0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00D-8A93-44C5-BBE3-8FF38DD0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639-7B9F-4A00-831A-2587A05B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5C6-ED43-4D50-9CF3-07E6F458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37B3-CEE8-46AF-9F0E-DB07D1E2DDA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6" descr="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7114f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1" descr="UU Arts&amp;Design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" descr="UU Arts&amp;Design Logo.png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1" descr="UU Arts&amp;Design Logo.png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11" descr="UU Arts&amp;Design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65e06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6" descr="UU Computers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ba461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" descr="UU Computers Logo.png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8" descr="UU Computers Logo.png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6" descr="UU Computers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57e29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1" descr="UU Social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UU Social Logo.png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UU Social Logo.png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UU Social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5c73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6" descr="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7" descr="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" descr="UU Social Logo.png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9" descr=""/>
          <p:cNvPicPr/>
          <p:nvPr/>
        </p:nvPicPr>
        <p:blipFill>
          <a:blip r:embed="rId5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6" descr="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db4e6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2" descr="C:\Users\MDunne\Desktop\UU Business School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820440"/>
          </a:xfrm>
          <a:prstGeom prst="rect">
            <a:avLst/>
          </a:prstGeom>
          <a:ln w="0">
            <a:noFill/>
          </a:ln>
        </p:spPr>
      </p:pic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2" descr="C:\Users\MDunne\Desktop\UU Business School Logo.png"/>
          <p:cNvPicPr/>
          <p:nvPr/>
        </p:nvPicPr>
        <p:blipFill>
          <a:blip r:embed="rId3"/>
          <a:stretch/>
        </p:blipFill>
        <p:spPr>
          <a:xfrm>
            <a:off x="468360" y="5732640"/>
            <a:ext cx="1309680" cy="820440"/>
          </a:xfrm>
          <a:prstGeom prst="rect">
            <a:avLst/>
          </a:prstGeom>
          <a:ln w="0">
            <a:noFill/>
          </a:ln>
        </p:spPr>
      </p:pic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2" descr="C:\Users\MDunne\Desktop\UU Business School Logo.png"/>
          <p:cNvPicPr/>
          <p:nvPr/>
        </p:nvPicPr>
        <p:blipFill>
          <a:blip r:embed="rId4"/>
          <a:stretch/>
        </p:blipFill>
        <p:spPr>
          <a:xfrm>
            <a:off x="468360" y="5732640"/>
            <a:ext cx="1309680" cy="820440"/>
          </a:xfrm>
          <a:prstGeom prst="rect">
            <a:avLst/>
          </a:prstGeom>
          <a:ln w="0">
            <a:noFill/>
          </a:ln>
        </p:spPr>
      </p:pic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7" name="Picture 2" descr="C:\Users\MDunne\Desktop\UU Business School Logo.png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820440"/>
          </a:xfrm>
          <a:prstGeom prst="rect">
            <a:avLst/>
          </a:prstGeom>
          <a:ln w="0">
            <a:noFill/>
          </a:ln>
        </p:spPr>
      </p:pic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MDunne\Desktop\UU Corporate Logo.png"/>
          <p:cNvPicPr/>
          <p:nvPr/>
        </p:nvPicPr>
        <p:blipFill>
          <a:blip r:embed="rId2"/>
          <a:stretch/>
        </p:blipFill>
        <p:spPr>
          <a:xfrm>
            <a:off x="468360" y="573552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2"/>
          <a:stretch/>
        </p:blipFill>
        <p:spPr>
          <a:xfrm>
            <a:off x="-3636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MDunne\Desktop\UU Corporate Logo.png"/>
          <p:cNvPicPr/>
          <p:nvPr/>
        </p:nvPicPr>
        <p:blipFill>
          <a:blip r:embed="rId3"/>
          <a:stretch/>
        </p:blipFill>
        <p:spPr>
          <a:xfrm>
            <a:off x="468360" y="573552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1908000" y="-27000"/>
            <a:ext cx="8396640" cy="688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6264000" cy="688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MDunne\Desktop\UU Corporate Logo.png"/>
          <p:cNvPicPr/>
          <p:nvPr/>
        </p:nvPicPr>
        <p:blipFill>
          <a:blip r:embed="rId4"/>
          <a:stretch/>
        </p:blipFill>
        <p:spPr>
          <a:xfrm>
            <a:off x="468360" y="573552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MDunne\Desktop\UU Corporate Logo.png"/>
          <p:cNvPicPr/>
          <p:nvPr/>
        </p:nvPicPr>
        <p:blipFill>
          <a:blip r:embed="rId2"/>
          <a:stretch/>
        </p:blipFill>
        <p:spPr>
          <a:xfrm>
            <a:off x="468360" y="573552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ubtitle 2"/>
          <p:cNvSpPr/>
          <p:nvPr/>
        </p:nvSpPr>
        <p:spPr>
          <a:xfrm>
            <a:off x="611280" y="5950080"/>
            <a:ext cx="258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22343"/>
                </a:solidFill>
                <a:latin typeface="Calibri"/>
              </a:rPr>
              <a:t>ulster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"/>
          <p:cNvPicPr/>
          <p:nvPr/>
        </p:nvPicPr>
        <p:blipFill>
          <a:blip r:embed="rId2"/>
          <a:stretch/>
        </p:blipFill>
        <p:spPr>
          <a:xfrm>
            <a:off x="468360" y="5732640"/>
            <a:ext cx="1309680" cy="720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9912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The challenges of the Private Rented Sector in meeting housing need: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684360" y="3933720"/>
            <a:ext cx="79912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ba461"/>
                </a:solidFill>
                <a:latin typeface="Calibri"/>
              </a:rPr>
              <a:t>Paddy Gray, and Ursula Mc Anul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ba461"/>
                </a:solidFill>
                <a:latin typeface="Calibri"/>
              </a:rPr>
              <a:t>University of Ul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ba461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What are the barriers for more stable r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5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13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Annual Gross Household Income (%) (2006 &amp; 2012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7" name="Object 9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4860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Age of Household Reference Person (%) (2006 &amp;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9" name="Object 9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63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Tenure of previous home (2006 and 2012) (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1" name="Object 9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Length of time in current and previous accommodation (2006 and 2012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3" name="Object 9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Total amount paid in advance for current accommodation </a:t>
            </a:r>
            <a:br>
              <a:rPr sz="2400"/>
            </a:b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(2006 and 201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5" name="Object 9" descr=""/>
          <p:cNvPicPr/>
          <p:nvPr/>
        </p:nvPicPr>
        <p:blipFill>
          <a:blip r:embed="rId1"/>
          <a:stretch/>
        </p:blipFill>
        <p:spPr>
          <a:xfrm>
            <a:off x="984240" y="2052720"/>
            <a:ext cx="7475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0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Weekly rent of current accommodation (2012) (£) (%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7" name="Object 9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63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Weekly rent of current and previous accommodation</a:t>
            </a:r>
            <a:br>
              <a:rPr sz="2400"/>
            </a:b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 (2006 and 2012) (£) (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9" name="Object 9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90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02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Amount of shortfall respondent has to pay (2012) (£) (%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1" name="Object 9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32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Satisfaction with services provided by the landlord (2006 and 2012) (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3" name="Object 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44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Changing Perceptions of P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468000" y="1413000"/>
            <a:ext cx="82803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hanging perceptions and attitudes towards the private rented secto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Very much like in GB where it is regarded as less of a residualised sector and more of a mainstream housing op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here has been a  sizeable increase in the overall proportion of households living in the private rented 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Mainly due to difficulties accessing the owner occupied sector and contracting levels of social hou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he sector is becoming diverse, as it is home not just to low income households or wealthier apartment dwellers, but to more families, young people and children across a range of incom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Satisfaction with repairs and maintenance </a:t>
            </a:r>
            <a:br>
              <a:rPr sz="2400"/>
            </a:b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(2006 and 2012) (%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5" name="Object 10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90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991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E" sz="72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684360" y="3933720"/>
            <a:ext cx="799128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E" sz="3600" spc="-1" strike="noStrike">
              <a:solidFill>
                <a:srgbClr val="bba4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Intend on staying in their current property for the next 5 years (2006 and 2012) (%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9" name="Object 9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90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Intend to stay in the PRS for the next 5 years (2006 and 2012) (%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1" name="Object 9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55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468000" y="126792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UU research: over a third of landlords (38%) had loan to value ratios of over 76% and a quarter had interest only mortgages. Negative equit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Headwinds like interest rates rising, welfare reforms, reverting from interest only to repayment, special deals running ou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search by Sheffield Hallem University for the DWP - by the end of 2013 44% of Landlords had been affected by arrears as a result of changes to the levels of Local Housing Allowance (LHA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38% (high LTVs) amounts to 47,654 properties (H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f even half of these were to disinvest, or were repossessed,  we could have a situation of over 20,000 households being threatened with homelessnes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PRS: A Time Bomb Waiting to Explod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PRS: A Time Bomb Waiting to Explod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68000" y="1599840"/>
            <a:ext cx="8280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Question - what will happen to tenants living with the uncertainty of losing their home if the landlord goes bust and banks repossess the ho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It is unlikely that banks will continue to rent the property but will go for a quick sale to recoup part of their loss selling the property at auction at well below market valu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If tenant becomes homeless but where do they go? It is unlikely they will be able to afford to buy if they have already been struggling to pay their re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If awarded homeless status by NIHE they may have to move to an unfamiliar area without the community network they have built up in their existing lo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6" name="Picture 2" descr=""/>
          <p:cNvPicPr/>
          <p:nvPr/>
        </p:nvPicPr>
        <p:blipFill>
          <a:blip r:embed="rId1"/>
          <a:stretch/>
        </p:blipFill>
        <p:spPr>
          <a:xfrm>
            <a:off x="539640" y="1635120"/>
            <a:ext cx="8209080" cy="3846600"/>
          </a:xfrm>
          <a:prstGeom prst="rect">
            <a:avLst/>
          </a:prstGeom>
          <a:ln w="0">
            <a:noFill/>
          </a:ln>
        </p:spPr>
      </p:pic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PRS: A Time Bomb Waiting to Explod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02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The challenges PRS has in meeting housing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9" name="Picture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1946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23640" y="134100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Growing proportion of the stock right across the UK. In NI now greater 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  <a:ea typeface="Arial"/>
              </a:rPr>
              <a:t>proportion of overall stock that social housing sector = 17% (125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  <a:ea typeface="Arial"/>
              </a:rPr>
              <a:t>Size of sector even larger if vacant PRS properties included: 142,000 (19.2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  <a:ea typeface="Arial"/>
              </a:rPr>
              <a:t>High vacancy rate in the sector – 17,500 dwellings (12.3% compared to 5.9% in stock as a who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  <a:ea typeface="Arial"/>
              </a:rPr>
              <a:t>But vacancy rate has </a:t>
            </a:r>
            <a:r>
              <a:rPr b="0" lang="en-GB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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  <a:ea typeface="Arial"/>
              </a:rPr>
              <a:t>since 2006 (almost 15%), reflecting ongoing de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a4a49"/>
                </a:solidFill>
                <a:latin typeface="Calibri"/>
                <a:ea typeface="Arial"/>
              </a:rPr>
              <a:t>Across the UK it is expected to account for more than a third by 20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1373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Renting is Changing and is now becoming the new n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Growth of PRS in N Ire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3" name="Picture 2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43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 txBox="1"/>
          <p:nvPr/>
        </p:nvSpPr>
        <p:spPr>
          <a:xfrm>
            <a:off x="468000" y="1599840"/>
            <a:ext cx="8280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Increased difficulties in accessing social housing and owner occu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Satisfaction levels are very high (88% in N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Provides many benefits: open access, flexibility, greater chance of living in desired area of choice, choice of property ty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Younger people more likely to go there: Generation R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More likely to attract those who may have been social housing tenants (60,000 HB cas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a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Those who can’t access owner occupation (decreasing in proportion of stoc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Renting is Changing and is now becoming the new n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219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Security of tenure v short term renting </a:t>
            </a:r>
            <a:br>
              <a:rPr sz="2400"/>
            </a:b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What is bad for landlords and tenan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7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35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323640" y="1557000"/>
            <a:ext cx="8280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‘</a:t>
            </a: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Its like you are walking on eggshells. If you break a drawer in your kitchen you think… how much is that going to cost me?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‘</a:t>
            </a: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I managed to squeeze a dog in, but the landlord wanted £75 per month extra to have a dog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‘</a:t>
            </a:r>
            <a:r>
              <a:rPr b="0" lang="en-GB" sz="2200" spc="-1" strike="noStrike">
                <a:solidFill>
                  <a:srgbClr val="4a4a49"/>
                </a:solidFill>
                <a:latin typeface="Calibri"/>
                <a:ea typeface="Arial"/>
              </a:rPr>
              <a:t>you cant put nothing on the walls, he said. But we have.. because it looks nice.’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13736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Shelter Focus Groups Sept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 txBox="1"/>
          <p:nvPr/>
        </p:nvSpPr>
        <p:spPr>
          <a:xfrm>
            <a:off x="468000" y="1599840"/>
            <a:ext cx="8280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To protect their investment and avoid difficulties with ten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Longer term tenancies and steady income streams through rent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Particularly those who have entered the market close to the price crash in 2007 and who rely on this to pay loa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Many are letting out small numbers of properties on a part time basis and they want their experience to be as simple and as hassle free as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Most serious concerns that they have are finding good tenants, the size of letting agents fees and damage by tena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Research has shown that majority of landlords are good but many are amat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What do landlords wa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94920" y="134100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In general 88% satisfied or very satis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Higher proportion of 25-60 year olds living there since 200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Worries about increased rents above a certain rate by agents or landlord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Some landlords may not increase for 3 years then bring it up to market rates which can be a shock. Social housing increases year on year so they know to expect th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Stability v lack of certain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Agent fees are increasingly a worry. This can be on top of a deposit and rent in adv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a2a4f"/>
                </a:solidFill>
                <a:latin typeface="Arial"/>
                <a:ea typeface="Arial"/>
              </a:rPr>
              <a:t>How do private renters see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1T16:30:39Z</dcterms:created>
  <dc:creator>Michael Dunne</dc:creator>
  <dc:description/>
  <dc:language>en-US</dc:language>
  <cp:lastModifiedBy>bob.jordan</cp:lastModifiedBy>
  <dcterms:modified xsi:type="dcterms:W3CDTF">2015-03-18T11:13:45Z</dcterms:modified>
  <cp:revision>45</cp:revision>
  <dc:subject/>
  <dc:title>PowerPoint Presentation</dc:title>
</cp:coreProperties>
</file>