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18.wmf" ContentType="image/x-wmf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6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Seipelt, Björn" initials="S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5-03-02T16:21:42.305000000" idx="1">
    <p:pos x="-546" y="1086"/>
    <p:text>?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dt" idx="4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ftr" idx="4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 type="sldNum" idx="4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42E0-B706-4E45-B2B3-1B11C136BF6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0E827E-C8A3-42B1-A945-64D2BF676C0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Datumsplatzhalt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07.06.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oliennummernplatzhalter 6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1495-9C5D-4C11-B69B-319E89BBB98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71558C-8BB2-44F7-A222-C300E6573CA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365D-B321-4969-966D-70524BDE994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ußzeilenplatzhalter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mographie und Immobilien - Wie verändern sich Nachfrage, Angebot und Pre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Datumsplatzhalter 5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02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Kopfzeilenplatzhalter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of. Dr. Michael Voigtlä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A14EC0-337C-4853-86ED-FD701F954F0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7690-AEB7-4EFC-8943-DCC5140A7D4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74EDDF-27A1-4855-9CE9-192B27AF40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F5CBEB-AEA3-4AC2-89B8-3179278098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07A0-00F6-4D86-A28C-C86F9713A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E035-7ADB-472C-A7AA-B119D74E93F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2D09C-5296-475B-B8A5-E6B5D00149C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B17B8-D761-4274-98FA-701EA52382B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618B2-F108-4DF9-B12A-A6E058536CD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E1B02-2712-4C97-B2A3-9DC9F4CDD3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6827-D8F4-4F44-BB49-FE09E29746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BD5E1-173B-4066-8F50-42FF9C964ED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CDA26-2BA6-4300-8075-3FFCF3E565C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6C24-212D-4759-B4F0-13ADB45DD5D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02C3-204D-4058-92E1-F5D6368E44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E0992-1009-4ABF-AD38-446EEE37E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7F81-6853-4BC1-A056-1516053262E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9A693-1DF0-4D26-977F-7A148DDC04F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1C6D8-F9AA-4923-B807-CF353AB249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8CFA6-4FAB-4312-8D19-184BB4BB321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83544-A4B1-4B45-ABAE-92B4275F41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C0392-0915-44B6-BEDF-FCF04C5C55F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D8F0B-8746-403B-987A-A60365EBA58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A5ADA-5F26-48F0-97E0-9001CE2121C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5E1DD-7C9E-4E3A-B582-2AB0373FFC7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467EA-74A1-47E0-A2F4-C6BE11DF32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F1C44-99C7-4911-B64C-DB3BDD351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474A-052C-48A0-9783-29308906999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155CD-77A7-4856-B18B-F730217BBE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16C0A4-A7F4-4174-9C60-0B8B2BABAA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EA8DEE-A89A-47F8-B537-FD9DDFD9037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60DB0A-6ED0-4FAD-87C4-F010EC5296C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C04F45-7377-4153-AABA-CFBA7584B38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A5BF9B-A6D2-4585-9953-DCA21CB113D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787228-1D20-4E47-A229-3DF4A73F841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C6C68A-DA6B-4895-B4E7-3B847D3462D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B47BAA-CF58-4CEA-AF7C-BF67790E190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774F99-BFAF-47D3-B5D2-BECDDDD3A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E2EEF-AC30-4962-8E24-6A5E36C6E95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569394-51B9-4D6D-8775-425F07372EB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86EBEF-0B4B-4876-9F33-DA02C113C59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D05F6E-45CE-42A6-9D12-974CCBC912A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E3031-5FDB-48B5-BFBA-D671193F8CF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2A9A4-66A7-4016-A1AB-2192BEAF8C0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3C647-1B2B-433B-B8D1-1687D924ACB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B0DC3-CA2C-46E7-95C9-2711E4B9375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1BACA-52B6-4318-B9CA-E681CF63DB1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F624C-D181-4FC3-B1AA-C4176403CAC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B455D-9DFC-425B-A9F0-203308A36A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CF788-E19D-4FF6-9094-0D0BA0681D3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95C1B-0508-45CB-8851-7045DB5B956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AC439-DDFA-4C87-9D5A-66B9C1C7B79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CB433-2B9A-4B38-8EAF-46957B64910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575C6-3114-4F3D-9E46-837AD567526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6D158-70FD-47A6-917B-B51A7DC898C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7A4DE-5122-4706-BCE3-CD112639E5F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CF5398-D703-4C3C-B146-B753D89C417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8DDEB-CB18-4812-B4DA-ADF33B7125B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A0E0E-BEE9-4793-BAD5-8697B44F177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58715-CC8D-458D-BFB7-F4A397AE11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F297B-E01B-4841-8BE0-CBB986A48DB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CC3D87-EF0C-4B73-9837-CB1E3E2BD16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F8C54-0D1F-4AA3-8836-A7D4A896547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400FBB-A5DB-4CDC-8B67-86A4CA38E4E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60B31-39E8-4ADA-A935-D57D34A51A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40B3E-FA2F-4BEF-ABFC-04CAE397312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AC53D-87BC-4447-9226-883752C51CD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1B274-77BA-4DAD-9EFD-A04CB792700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06BC1F-6C7E-4934-9D9F-9F711E663B0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D27360-BF41-41EE-8AD2-8A3841CB489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40CAD2-D076-45B5-930C-F027D0E9A0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196F2-3B3F-4B7B-9590-B607CFE7476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FFA7CD-8380-411F-A86E-FAF1580B8CA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7457BA-1738-45CF-983D-C1DD66C3D8E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01A53E-3712-4DD7-BA14-033F021D46B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15365A-9A1D-47B0-8C53-C93F7A5660B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38310D-BCF1-4584-BE79-3A006931FFA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FF0364-B668-4257-9DFF-A2D02E77040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A7A266-E68E-4817-8F6C-50B85FA6A18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5B1979-9483-416F-96F5-50E0AC66344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90971-5291-4F8D-B63A-5D75E7B3015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25A03-00B9-45D7-998B-A768BC40E5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C0926-C408-4350-A51A-32CCD4E22AF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20E18-9A9F-4700-8C48-A5E875D9A4B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6A94C-0594-46D6-BAF9-3CB44E9373A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21625-81A8-41ED-AB03-5871488587E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1F507-C5F7-4DEF-BE89-C902A1D03A8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D094D-E889-4562-AEAF-61AC91419B0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B6FC2-0D10-489F-9F55-86DE378F0F1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28F9F-118D-4413-9950-C0A0EE8A726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57251-32DD-4C0B-9B8E-4A0FAD25CEA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E18A4-C347-4957-8A97-41353E04212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3F527-7853-43E3-9B1C-22B5AF039F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998AD-B1D8-4A14-B31C-CA1B80047BF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5CAC3-AE0B-4A17-A7B3-F08AE645E8E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AC061B-9D81-4A8A-9D09-655B63F1078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B00D7F-3952-4C91-A4EF-0E9961C1227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53C7C-1AA6-4DD0-BF18-769A8790486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A4DBA0-4D48-432C-9DEF-411108DB989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17978B-CA67-4DBB-87EA-3D1B926F2FE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932503-562E-4F15-B3F2-7176D151B75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40B034-D2F5-4AE0-9AA3-CA005DEEE00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1C9C4E-ACD3-4898-9CC8-811F164D028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7A2BBD-7919-4202-A504-64DAAAFAC2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CE205-9D98-496B-BD4D-6CC6888F698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2FF161-4C27-47DB-A51F-868DE5BB49D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F53EE-022A-4C29-B9FF-EAC1961D035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B4BEAC-899E-49A5-AE92-F1980B065D2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A2ECC-E0C2-4561-B94E-6B5EE444FAE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02CB3-12AD-49DB-BA0F-B7F340DB572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56584-2C96-4982-A448-B0ECB0A3790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C88BE-7917-43F3-BE48-32E6907D48A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BD6A5-C06A-43B5-83BA-AB2FBF8F238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306E6-EFCF-4008-9F26-5B70E4B5973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6A4C9-C750-40BA-9ABD-98B727AED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DF77-9DDD-46E5-8D12-8E0997805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88D84-B126-4EAC-9621-638D0C5AA37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8DA0C-C226-4919-A5B0-895FCE0C16E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1A33F-A560-4E7B-9A8A-7FF14587385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A6582-8B94-4073-825D-32359DEDD87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BF3B5-3228-4F50-A545-7EBE87F6DE9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56313-3F94-4133-90F7-8593D122EBB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FD4EF-631D-42F5-894E-B98C722D067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C325A-8C81-40EA-8A2A-836551ABCC0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CCF5C-9B44-4A63-87DB-4586D438047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544C3-1BA6-43CB-A8AA-6CDF21F96EA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2C89F-6294-4C00-A393-5D77182FBC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9EF07-B21A-4935-9DCE-11ABD9559C5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37834-9FBA-45FB-9050-096277440AA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B85BE-8B04-4A23-B89F-C8925C373B1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CFD45-794D-45BC-AD76-F8B3761F0B7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E54AA-CF0F-40B2-B826-5B2B4F84561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875DC-698C-4376-9F95-6525AA67E35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4A3CB-ADC9-4261-BB40-4729BC81D2D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14B1C-1416-473B-900F-333EF46BA14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04F1A5-7E74-47BE-91C8-0472CEAB543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EADBE4-73DC-41CA-8ABB-E1E378D62AF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BD25A8-C0F8-47F0-B700-48D608A74C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402BC-A010-4AB5-8D75-25BB139DEC4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7BD9D1-453F-4912-9BA0-F32FC1B5854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6B9FA7-2C75-415D-A97E-71D3320CE48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24F36B-6503-4C9F-B4D6-63A22000AD1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D5572F-359F-487B-998A-9A555802A42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8F369C-D4E4-479A-8BA5-E14E86923D6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DF7318-1786-4240-859B-4B232A69EDA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296CBE-B17E-410F-B920-216016ED125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C1104E-74E2-42BF-B272-72F2F98D6A3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FD8E67-7428-4D84-B09F-A37C51D77B8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ED79F-35EC-43EE-BA4B-E88D3D8DF4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4F20C-76D7-4845-8C23-8C811D91A6F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FA890-80D3-4DD0-ADFC-14CE54315B8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1FCE6-220E-4CE5-8F35-6F659018D2B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F3D67-3290-4093-B462-91FEDF87336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CC913-8789-4404-B6E2-7B6DBC0AD2B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A47B5-75FD-4EF9-BD2E-9FAE8F06952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D82BA-A862-447B-9BC3-72C68BC8D78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4606E-40BD-4B18-95F1-6EA81631977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BD494-6FF9-4F53-8909-6AC1EF4A4EA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CF832-1081-4B99-92AD-19684D8D446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77EC7-F5B1-4B9F-90BE-234C27E193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CD313-3480-4AB6-9E9A-7D380460BE7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15294-D309-40DA-BD28-E688A434624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03480-A9AB-46AF-9FD5-E8B4870ED9F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75D27-5979-47AE-9D3C-916DD6A1241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1BD37-30BE-42B8-BA4F-7A7E157DCA8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7FF56-31F1-4111-8CAB-F907D26D9B1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A6339-5680-482F-B165-45D5D1108F4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EA4CD-07A0-4AB4-9003-0202EAC63D5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782F6-5FDC-4FAA-86D7-716C33BD27D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50D90-F780-40B5-812A-C5C2392E268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31F79-06D7-46CD-B806-FE44A9C66E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25AF-8628-4C96-96F7-FE35D2FD030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11A83-7595-435E-A41C-05503D0FD6A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4D3F2-7563-4BAB-B198-ACED9F4B6FB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9E3A9-546E-4289-ACD1-8FF0D385DEF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5AF72C-8C6E-406C-BF43-1DD06F94471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94B847-5428-4922-8A17-422AC4FA541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3BE097-7993-4327-8840-8971E3E84B7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572744-CA86-401C-A9FF-A19722A84AB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ED269A-3A82-489D-B6BA-E41C6DBA503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7A1A3A-186D-49C3-9542-4C893E1F1F6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A6EFCB-A354-49C1-B4FF-F1E01E9850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A002-9AE7-4732-9AB6-3AEFB149A3C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31B8E8-4C49-4562-A8DF-0514BD62501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9532DD-3342-4A87-A278-CDABE7BF4E2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BEA524-E410-440F-B092-3EEBB11A602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D302B8-9008-42BE-AA3F-EB6FC00FEAF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C526BB-8847-4049-9228-DC20C4573BB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E9FDFD-CA79-4F48-9039-92F621E64E9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5E0130-EE73-4B53-9975-CD2760D5F8D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780849-C9D7-4FDE-9886-3FFAE275E1D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6D0D32-4860-425F-A364-E4E2DDADA8F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76BCB2-FFE7-4532-B6B7-BFDAFCBB50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D7A1-F830-4164-954C-181CA352476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0C6346-521A-4113-A98A-9AC8E479A6B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EB60F1-9E33-49E9-B33B-BE8AECDC4F6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215AE8-7DF5-4FE1-89E6-FB09ECBDA8D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2277DA-17BF-48BA-9DE7-D6F8401E2EE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4C4FFE-6C84-4AF6-9DAD-5C709E15ED8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7E48B7-A018-44C7-B942-7B26E942DC9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77BFEF-5B7B-4E8D-B311-6B2160068E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7CEE-17BA-4289-B78C-0EB492A777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867E-AC84-4E09-B2AA-313075874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0115-41B4-4887-8288-73AECEAE6F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3749-4DB5-4463-8A42-A653687DB7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3123-69BC-49F0-B06A-9E84C24E73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9360-8FA2-4B07-B14A-7605AC95B0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4DCA-A5CA-4A55-BDDD-5D82A8C1CC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ABE0-9DC9-4508-B2E2-D542862D59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6058-B1AF-4146-98D1-06098D9F67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4AC6-B309-4680-8F74-13FA2E9DAC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88EB-1F81-4E44-A26C-FB9F59EB22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FFBD5-BCDA-4D16-B43F-D1F98E0BB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64E0-1ED8-428C-9296-ECDA1002D5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C2290-CEC2-44D8-9910-4CD307904B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6BD29-C966-4C76-B812-5F0A0472957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3B460-05D0-4957-BE63-DF3608288E1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A0467-E65B-4F04-8711-9019BFFC39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D6804-3659-4778-A96D-DF8B6A5725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3C468-918C-4FF8-9B4F-476F578E2F9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44D65-E973-455C-9DB4-B10BF4D6DC9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9DFD7-DC9F-40B3-869E-BBB37856A60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4466B-3B98-4450-A299-D199BB1377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AABDA-146E-41BA-8A23-4FF098191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FB205-FB3A-480E-B3E3-74E6662738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D9DE6-791F-4979-A104-0DA193D80E8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C9422-776D-4A23-8216-97CC16F0740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7F5DD-99DB-431E-AC61-8F04C39FD9F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F4D60-377D-427E-9FDA-DB024AFAB7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743744-2F92-4C47-BB46-A126DAA8D5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5DD4F-5FA2-4CC9-8A21-4CA1778295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07E927-B9E8-4F35-97EC-88CEF5AC8B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48EC1-6AD4-4B00-B828-2B306D423D0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4BAE0-6F66-4220-B0EE-1D99A9318B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F308B2-D915-4AF4-8B53-80E732A49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CE81-7AE7-4BAF-BB7D-06F8DC7D270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493A4-2583-4AF2-9250-187EC433F0B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AC7B7-D5FD-467E-9E49-80EA335646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DBF72-FBBD-4A20-B631-337F46C5D8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75D8-AC46-4776-A8BF-67F561967B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C6B0-1823-4213-80A5-838894D4C91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6560" y="828360"/>
            <a:ext cx="828072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560" y="3956400"/>
            <a:ext cx="8280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09520" y="16999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56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09520" y="395640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6628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66360" y="16999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5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6628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66360" y="395640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B147-F270-4EC6-97CC-A2596EAA1C2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036A0-1468-41C4-BA9E-9C58A4FA676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73948-8F8A-4F48-B6BD-36A1A695B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5892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53820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71748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2D0E-9A61-4CEC-8F62-C6378888AC90}" type="slidenum">
              <a:rPr b="1" lang="de-DE" sz="1000" spc="-1" strike="noStrike">
                <a:solidFill>
                  <a:srgbClr val="006ab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13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14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66AD-8FF7-4FCB-95A8-6DC44CA96E03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5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6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4BC1-A53D-4A28-B934-A36163DE7DB2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17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18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3882-0C0E-44EC-8FFB-B1D653898A20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9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20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698E-6907-47F0-AEC0-BA739C410C1F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1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2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D1FA-89C8-4B9D-ABB1-52261B8A20E9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3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4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C5BF-2259-4923-A626-0B4833EACC21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ftr" idx="25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26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F7ED-3300-4752-990B-D69548A2721B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27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28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5EA1-BC71-46C7-A2F4-855F34C5E616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29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30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ECDF-C3B2-43C9-8A86-9306267A3AA3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ftr" idx="31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32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C0E-D58F-4314-B7C9-B0E1B35C08F2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C0C8-BD57-484B-A343-16D3C9CD121C}" type="slidenum">
              <a:rPr b="1" lang="de-DE" sz="1000" spc="-1" strike="noStrike">
                <a:solidFill>
                  <a:srgbClr val="006ab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ftr" idx="33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sldNum" idx="34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1D8C-39DD-4444-8CC1-5CB95E84C8E8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ftr" idx="35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sldNum" idx="36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6F0C-424D-4516-A8DA-E0FCC1BD5698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ftr" idx="37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38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E162-13B2-443A-A6B9-C53978D2A499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39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sldNum" idx="40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635F-F754-447C-895C-4478B5C8172B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E35E-0855-4BFE-A301-3C6CF7B25FB4}" type="slidenum">
              <a:rPr b="1" lang="de-DE" sz="1000" spc="-1" strike="noStrike">
                <a:solidFill>
                  <a:srgbClr val="006ab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8" descr="IW-Gebäude02-254x63"/>
          <p:cNvPicPr/>
          <p:nvPr/>
        </p:nvPicPr>
        <p:blipFill>
          <a:blip r:embed="rId2"/>
          <a:stretch/>
        </p:blipFill>
        <p:spPr>
          <a:xfrm>
            <a:off x="0" y="0"/>
            <a:ext cx="9144000" cy="225576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" descr=""/>
          <p:cNvPicPr/>
          <p:nvPr/>
        </p:nvPicPr>
        <p:blipFill>
          <a:blip r:embed="rId3"/>
          <a:stretch/>
        </p:blipFill>
        <p:spPr>
          <a:xfrm>
            <a:off x="460440" y="212760"/>
            <a:ext cx="2779560" cy="730080"/>
          </a:xfrm>
          <a:prstGeom prst="rect">
            <a:avLst/>
          </a:prstGeom>
          <a:ln w="0">
            <a:noFill/>
          </a:ln>
        </p:spPr>
      </p:pic>
      <p:pic>
        <p:nvPicPr>
          <p:cNvPr id="128" name="Grafik 2" descr=""/>
          <p:cNvPicPr/>
          <p:nvPr/>
        </p:nvPicPr>
        <p:blipFill>
          <a:blip r:embed="rId4"/>
          <a:stretch/>
        </p:blipFill>
        <p:spPr>
          <a:xfrm>
            <a:off x="485640" y="5713560"/>
            <a:ext cx="1862280" cy="27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5892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53820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71748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5892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53820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71748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7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8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6332-B054-4193-AA67-A1DFA9C1FC2B}" type="slidenum">
              <a:rPr b="1" lang="de-DE" sz="1000" spc="-1" strike="noStrike">
                <a:solidFill>
                  <a:srgbClr val="006ab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5892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53820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717480" indent="-17784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717480" indent="-17784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9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0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9738-2BBE-4BDE-8E10-ADE72ACC5F48}" type="slidenum">
              <a:rPr b="1" lang="de-DE" sz="1000" spc="-1" strike="noStrike">
                <a:solidFill>
                  <a:srgbClr val="006ab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8" descr="IW-Gebäude02-254x63"/>
          <p:cNvPicPr/>
          <p:nvPr/>
        </p:nvPicPr>
        <p:blipFill>
          <a:blip r:embed="rId2"/>
          <a:stretch/>
        </p:blipFill>
        <p:spPr>
          <a:xfrm>
            <a:off x="0" y="0"/>
            <a:ext cx="9144000" cy="2255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0" descr="IW Koeln-Logo_Claim"/>
          <p:cNvPicPr/>
          <p:nvPr/>
        </p:nvPicPr>
        <p:blipFill>
          <a:blip r:embed="rId3"/>
          <a:stretch/>
        </p:blipFill>
        <p:spPr>
          <a:xfrm>
            <a:off x="485640" y="5713560"/>
            <a:ext cx="1860840" cy="274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8" descr="IW Koeln-Logo_60 Jahre-02"/>
          <p:cNvPicPr/>
          <p:nvPr/>
        </p:nvPicPr>
        <p:blipFill>
          <a:blip r:embed="rId4"/>
          <a:stretch/>
        </p:blipFill>
        <p:spPr>
          <a:xfrm>
            <a:off x="461880" y="189000"/>
            <a:ext cx="4005360" cy="1095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8" descr="IW-Gebäude02-254x63"/>
          <p:cNvPicPr/>
          <p:nvPr/>
        </p:nvPicPr>
        <p:blipFill>
          <a:blip r:embed="rId2"/>
          <a:stretch/>
        </p:blipFill>
        <p:spPr>
          <a:xfrm>
            <a:off x="0" y="0"/>
            <a:ext cx="9144000" cy="2255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0" descr="IW Koeln-Logo_Claim"/>
          <p:cNvPicPr/>
          <p:nvPr/>
        </p:nvPicPr>
        <p:blipFill>
          <a:blip r:embed="rId3"/>
          <a:stretch/>
        </p:blipFill>
        <p:spPr>
          <a:xfrm>
            <a:off x="485640" y="5713560"/>
            <a:ext cx="1860840" cy="27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8" descr="IW Koeln-Logo_60 Jahre-02"/>
          <p:cNvPicPr/>
          <p:nvPr/>
        </p:nvPicPr>
        <p:blipFill>
          <a:blip r:embed="rId4"/>
          <a:stretch/>
        </p:blipFill>
        <p:spPr>
          <a:xfrm>
            <a:off x="461880" y="189000"/>
            <a:ext cx="4005360" cy="10951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1" descr="IW-02-254x2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6" descr="IW Koeln-Logo-02"/>
          <p:cNvPicPr/>
          <p:nvPr/>
        </p:nvPicPr>
        <p:blipFill>
          <a:blip r:embed="rId3"/>
          <a:stretch/>
        </p:blipFill>
        <p:spPr>
          <a:xfrm>
            <a:off x="471600" y="115920"/>
            <a:ext cx="1800000" cy="4716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66560" y="1699920"/>
            <a:ext cx="8280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343080" indent="-343080">
              <a:spcBef>
                <a:spcPts val="1400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2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3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4" marL="343080" indent="-343080">
              <a:spcBef>
                <a:spcPts val="1400"/>
              </a:spcBef>
              <a:buClr>
                <a:srgbClr val="646464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343080" indent="-343080">
              <a:spcBef>
                <a:spcPts val="1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1"/>
          </p:nvPr>
        </p:nvSpPr>
        <p:spPr>
          <a:xfrm>
            <a:off x="466560" y="6524280"/>
            <a:ext cx="777744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2"/>
          </p:nvPr>
        </p:nvSpPr>
        <p:spPr>
          <a:xfrm>
            <a:off x="8386560" y="6524280"/>
            <a:ext cx="36036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6ab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10F7-7E1F-42E5-B232-6ADB9BF2379F}" type="slidenum">
              <a:rPr b="1" lang="de-DE" sz="1000" spc="-1" strike="noStrike">
                <a:solidFill>
                  <a:srgbClr val="006ab3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mmobilienoekonomik.de/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71071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The impact of the new German rent controls – a case analysis for Berlin and Cologne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66200" y="3946680"/>
            <a:ext cx="710748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Prof. Dr. Michael Voigtländer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Research Unit Financial Markets and Real Estate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London, 19 March 2015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66560" y="828720"/>
            <a:ext cx="82807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Rent indices in Cologne and Berlin</a:t>
            </a:r>
            <a:br>
              <a:rPr sz="3000"/>
            </a:br>
            <a:r>
              <a:rPr b="1" lang="en-US" sz="2400" spc="-1" strike="noStrike">
                <a:solidFill>
                  <a:srgbClr val="006ab3"/>
                </a:solidFill>
                <a:latin typeface="Arial"/>
              </a:rPr>
              <a:t>Bounds of comparability</a:t>
            </a:r>
            <a:endParaRPr b="1" lang="en-US" sz="24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466560" y="1773360"/>
            <a:ext cx="40341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Many characteristics are measurable and comparable…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Apartment size</a:t>
            </a:r>
            <a:endParaRPr b="0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Year of construction</a:t>
            </a:r>
            <a:endParaRPr b="0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Modernization</a:t>
            </a:r>
            <a:endParaRPr b="0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46464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646464"/>
                </a:solidFill>
                <a:latin typeface="Arial"/>
              </a:rPr>
              <a:t>but what is a</a:t>
            </a:r>
            <a:endParaRPr b="1" lang="en-US" sz="2400" spc="-1" strike="noStrike">
              <a:solidFill>
                <a:srgbClr val="646464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b3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006ab3"/>
                </a:solidFill>
                <a:latin typeface="Arial"/>
              </a:rPr>
              <a:t>good“ location</a:t>
            </a:r>
            <a:r>
              <a:rPr b="1" lang="en-US" sz="3200" spc="-1" strike="noStrike">
                <a:solidFill>
                  <a:srgbClr val="646464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46464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4572000" y="6119280"/>
            <a:ext cx="417672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Fotolia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30" name="Fußzeilenplatzhalter 4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7B70-E45B-4435-9F7D-B688535C9942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Grafik 6" descr=""/>
          <p:cNvPicPr/>
          <p:nvPr/>
        </p:nvPicPr>
        <p:blipFill>
          <a:blip r:embed="rId1"/>
          <a:srcRect l="0" t="0" r="65664" b="0"/>
          <a:stretch/>
        </p:blipFill>
        <p:spPr>
          <a:xfrm>
            <a:off x="4716360" y="1844640"/>
            <a:ext cx="1943280" cy="2178000"/>
          </a:xfrm>
          <a:prstGeom prst="rect">
            <a:avLst/>
          </a:prstGeom>
          <a:ln w="0">
            <a:noFill/>
          </a:ln>
        </p:spPr>
      </p:pic>
      <p:pic>
        <p:nvPicPr>
          <p:cNvPr id="1033" name="Grafik 9" descr=""/>
          <p:cNvPicPr/>
          <p:nvPr/>
        </p:nvPicPr>
        <p:blipFill>
          <a:blip r:embed="rId2"/>
          <a:srcRect l="33570" t="0" r="33570" b="0"/>
          <a:stretch/>
        </p:blipFill>
        <p:spPr>
          <a:xfrm>
            <a:off x="5729400" y="4022640"/>
            <a:ext cx="1860480" cy="2178000"/>
          </a:xfrm>
          <a:prstGeom prst="rect">
            <a:avLst/>
          </a:prstGeom>
          <a:ln w="0">
            <a:noFill/>
          </a:ln>
        </p:spPr>
      </p:pic>
      <p:pic>
        <p:nvPicPr>
          <p:cNvPr id="1034" name="Grafik 10" descr=""/>
          <p:cNvPicPr/>
          <p:nvPr/>
        </p:nvPicPr>
        <p:blipFill>
          <a:blip r:embed="rId3"/>
          <a:srcRect l="65725" t="0" r="0" b="0"/>
          <a:stretch/>
        </p:blipFill>
        <p:spPr>
          <a:xfrm>
            <a:off x="6734160" y="1844640"/>
            <a:ext cx="1941480" cy="21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66560" y="828720"/>
            <a:ext cx="828072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Overview: Advertisements in Berlin (2014)</a:t>
            </a:r>
            <a:br>
              <a:rPr sz="3000"/>
            </a:br>
            <a:r>
              <a:rPr b="0" lang="en-US" sz="2000" spc="-1" strike="noStrike">
                <a:solidFill>
                  <a:srgbClr val="006ab3"/>
                </a:solidFill>
                <a:latin typeface="Arial"/>
              </a:rPr>
              <a:t>Number of Ads: 65.000</a:t>
            </a:r>
            <a:endParaRPr b="1" lang="en-US" sz="2000" spc="-1" strike="noStrike">
              <a:solidFill>
                <a:srgbClr val="006ab3"/>
              </a:solidFill>
              <a:latin typeface="Arial"/>
            </a:endParaRPr>
          </a:p>
        </p:txBody>
      </p:sp>
      <p:pic>
        <p:nvPicPr>
          <p:cNvPr id="1036" name="Inhaltsplatzhalter 4" descr=""/>
          <p:cNvPicPr/>
          <p:nvPr/>
        </p:nvPicPr>
        <p:blipFill>
          <a:blip r:embed="rId1"/>
          <a:srcRect l="0" t="29439" r="0" b="16760"/>
          <a:stretch/>
        </p:blipFill>
        <p:spPr>
          <a:xfrm>
            <a:off x="1403280" y="1593720"/>
            <a:ext cx="6048360" cy="460080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ImmobilienScout24, Cologne Institute for Economic Research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38" name="Fußzeilenplatzhalter 2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2FB8-0A8F-4791-AD9B-0A3026D49E00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Hot Spot Analysis for Berlin (2014)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68000" y="6165720"/>
            <a:ext cx="82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ImmobilienScout24, Cologne Institute for Economic Research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pic>
        <p:nvPicPr>
          <p:cNvPr id="1042" name="Inhaltsplatzhalter 9" descr=""/>
          <p:cNvPicPr/>
          <p:nvPr/>
        </p:nvPicPr>
        <p:blipFill>
          <a:blip r:embed="rId1"/>
          <a:srcRect l="0" t="10472" r="0" b="39031"/>
          <a:stretch/>
        </p:blipFill>
        <p:spPr>
          <a:xfrm>
            <a:off x="900000" y="1282680"/>
            <a:ext cx="6840720" cy="4883040"/>
          </a:xfrm>
          <a:prstGeom prst="rect">
            <a:avLst/>
          </a:prstGeom>
          <a:ln w="0">
            <a:noFill/>
          </a:ln>
        </p:spPr>
      </p:pic>
      <p:grpSp>
        <p:nvGrpSpPr>
          <p:cNvPr id="1043" name="Gruppieren 10"/>
          <p:cNvGrpSpPr/>
          <p:nvPr/>
        </p:nvGrpSpPr>
        <p:grpSpPr>
          <a:xfrm>
            <a:off x="6372360" y="2924280"/>
            <a:ext cx="1584360" cy="792000"/>
            <a:chOff x="6372360" y="2924280"/>
            <a:chExt cx="1584360" cy="792000"/>
          </a:xfrm>
        </p:grpSpPr>
        <p:sp>
          <p:nvSpPr>
            <p:cNvPr id="1044" name="Ellipse 11"/>
            <p:cNvSpPr/>
            <p:nvPr/>
          </p:nvSpPr>
          <p:spPr>
            <a:xfrm>
              <a:off x="6588360" y="3140280"/>
              <a:ext cx="45720" cy="45720"/>
            </a:xfrm>
            <a:prstGeom prst="ellipse">
              <a:avLst/>
            </a:prstGeom>
            <a:solidFill>
              <a:srgbClr val="006ab3"/>
            </a:solidFill>
            <a:ln w="19080">
              <a:solidFill>
                <a:srgbClr val="004c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Ellipse 12"/>
            <p:cNvSpPr/>
            <p:nvPr/>
          </p:nvSpPr>
          <p:spPr>
            <a:xfrm>
              <a:off x="6588360" y="3454560"/>
              <a:ext cx="45720" cy="457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feld 13"/>
            <p:cNvSpPr/>
            <p:nvPr/>
          </p:nvSpPr>
          <p:spPr>
            <a:xfrm>
              <a:off x="6734880" y="302436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ld Sp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feld 14"/>
            <p:cNvSpPr/>
            <p:nvPr/>
          </p:nvSpPr>
          <p:spPr>
            <a:xfrm>
              <a:off x="6741360" y="333900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Hot Sp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hteck 15"/>
            <p:cNvSpPr/>
            <p:nvPr/>
          </p:nvSpPr>
          <p:spPr>
            <a:xfrm>
              <a:off x="6372360" y="2924280"/>
              <a:ext cx="1584360" cy="79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Fußzeilenplatzhalter 2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oliennummernplatzhalter 4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7CBC-1B79-4160-A09B-48808A3A84CE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Inhaltsplatzhalter 4" descr=""/>
          <p:cNvPicPr/>
          <p:nvPr/>
        </p:nvPicPr>
        <p:blipFill>
          <a:blip r:embed="rId1"/>
          <a:srcRect l="0" t="31769" r="0" b="23357"/>
          <a:stretch/>
        </p:blipFill>
        <p:spPr>
          <a:xfrm>
            <a:off x="324000" y="1316160"/>
            <a:ext cx="7573680" cy="480528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Hot Spot Analysis for Köln (2014)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ImmobilienScout24, Cologne Institute for Economic Research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grpSp>
        <p:nvGrpSpPr>
          <p:cNvPr id="1054" name="Gruppieren 12"/>
          <p:cNvGrpSpPr/>
          <p:nvPr/>
        </p:nvGrpSpPr>
        <p:grpSpPr>
          <a:xfrm>
            <a:off x="5508720" y="2924280"/>
            <a:ext cx="1584360" cy="792000"/>
            <a:chOff x="5508720" y="2924280"/>
            <a:chExt cx="1584360" cy="792000"/>
          </a:xfrm>
        </p:grpSpPr>
        <p:sp>
          <p:nvSpPr>
            <p:cNvPr id="1055" name="Ellipse 6"/>
            <p:cNvSpPr/>
            <p:nvPr/>
          </p:nvSpPr>
          <p:spPr>
            <a:xfrm>
              <a:off x="5724720" y="3140280"/>
              <a:ext cx="45720" cy="45720"/>
            </a:xfrm>
            <a:prstGeom prst="ellipse">
              <a:avLst/>
            </a:prstGeom>
            <a:solidFill>
              <a:srgbClr val="006ab3"/>
            </a:solidFill>
            <a:ln w="19080">
              <a:solidFill>
                <a:srgbClr val="004c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Ellipse 7"/>
            <p:cNvSpPr/>
            <p:nvPr/>
          </p:nvSpPr>
          <p:spPr>
            <a:xfrm>
              <a:off x="5724720" y="3454560"/>
              <a:ext cx="45720" cy="457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feld 8"/>
            <p:cNvSpPr/>
            <p:nvPr/>
          </p:nvSpPr>
          <p:spPr>
            <a:xfrm>
              <a:off x="5871240" y="302436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ld Sp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feld 9"/>
            <p:cNvSpPr/>
            <p:nvPr/>
          </p:nvSpPr>
          <p:spPr>
            <a:xfrm>
              <a:off x="5877720" y="3339000"/>
              <a:ext cx="7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Hot Sp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hteck 10"/>
            <p:cNvSpPr/>
            <p:nvPr/>
          </p:nvSpPr>
          <p:spPr>
            <a:xfrm>
              <a:off x="5508720" y="2924280"/>
              <a:ext cx="1584360" cy="79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Fußzeilenplatzhalter 2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259A-1448-4CE5-9E39-ED1A67D87516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10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63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oliennummernplatzhalter 2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78ED-7BB7-47A6-8B91-BB6CED412778}" type="slidenum">
              <a:rPr b="1" lang="en-US" sz="10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3"/>
          <p:cNvGrpSpPr/>
          <p:nvPr/>
        </p:nvGrpSpPr>
        <p:grpSpPr>
          <a:xfrm>
            <a:off x="395280" y="1822320"/>
            <a:ext cx="8280000" cy="4343400"/>
            <a:chOff x="395280" y="1822320"/>
            <a:chExt cx="8280000" cy="4343400"/>
          </a:xfrm>
        </p:grpSpPr>
        <p:sp>
          <p:nvSpPr>
            <p:cNvPr id="1066" name="Rectangle 4"/>
            <p:cNvSpPr/>
            <p:nvPr/>
          </p:nvSpPr>
          <p:spPr>
            <a:xfrm>
              <a:off x="395280" y="18223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5"/>
            <p:cNvSpPr/>
            <p:nvPr/>
          </p:nvSpPr>
          <p:spPr>
            <a:xfrm>
              <a:off x="395280" y="36511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ntal Indices in Ger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6"/>
            <p:cNvSpPr/>
            <p:nvPr/>
          </p:nvSpPr>
          <p:spPr>
            <a:xfrm>
              <a:off x="395280" y="27367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ew Rent Control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7"/>
            <p:cNvSpPr/>
            <p:nvPr/>
          </p:nvSpPr>
          <p:spPr>
            <a:xfrm>
              <a:off x="395280" y="45655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006ab3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ffect on Rents in Berlin and Colog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8"/>
            <p:cNvSpPr/>
            <p:nvPr/>
          </p:nvSpPr>
          <p:spPr>
            <a:xfrm>
              <a:off x="395280" y="54799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Share of rental bids above the threshold level in Berlin and Cologne</a:t>
            </a:r>
            <a:br>
              <a:rPr sz="3000"/>
            </a:br>
            <a:r>
              <a:rPr b="1" lang="en-US" sz="2000" spc="-1" strike="noStrike">
                <a:solidFill>
                  <a:srgbClr val="006ab3"/>
                </a:solidFill>
                <a:latin typeface="Arial"/>
              </a:rPr>
              <a:t>in percent, based on the relevant market (without modernization and newly constructed buildings )</a:t>
            </a:r>
            <a:endParaRPr b="1" lang="en-US" sz="2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72" name="Foliennummernplatzhalter 4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2E65-AA65-4F79-8B58-DF540A7100F5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n: ImmobilienScout24, Institut der deutschen Wirtschaft Köln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74" name="Fußzeilenplatzhalter 3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611280" y="2349360"/>
          <a:ext cx="8424720" cy="3743640"/>
        </p:xfrm>
        <a:graphic>
          <a:graphicData uri="http://schemas.openxmlformats.org/drawingml/2006/table">
            <a:tbl>
              <a:tblPr/>
              <a:tblGrid>
                <a:gridCol w="1008000"/>
                <a:gridCol w="2016000"/>
                <a:gridCol w="1584360"/>
                <a:gridCol w="1944720"/>
                <a:gridCol w="1871640"/>
              </a:tblGrid>
              <a:tr h="4003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rtment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ood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verage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dinary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</a:tr>
              <a:tr h="3650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4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40 m² till 6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60 m² till 9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ve 9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  <a:tr h="3654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g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 4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 6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 8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 10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 120 m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Share of affected advertisements by the rent control (Berlin)</a:t>
            </a:r>
            <a:br>
              <a:rPr sz="3000"/>
            </a:br>
            <a:r>
              <a:rPr b="0" lang="en-US" sz="2000" spc="-1" strike="noStrike">
                <a:solidFill>
                  <a:srgbClr val="006ab3"/>
                </a:solidFill>
                <a:latin typeface="Arial"/>
              </a:rPr>
              <a:t>in percent</a:t>
            </a:r>
            <a:endParaRPr b="1" lang="en-US" sz="2000" spc="-1" strike="noStrike">
              <a:solidFill>
                <a:srgbClr val="006ab3"/>
              </a:solidFill>
              <a:latin typeface="Arial"/>
            </a:endParaRPr>
          </a:p>
        </p:txBody>
      </p:sp>
      <p:pic>
        <p:nvPicPr>
          <p:cNvPr id="1077" name="Inhaltsplatzhalter 6" descr=""/>
          <p:cNvPicPr/>
          <p:nvPr/>
        </p:nvPicPr>
        <p:blipFill>
          <a:blip r:embed="rId1"/>
          <a:srcRect l="14101" t="20987" r="4514" b="20878"/>
          <a:stretch/>
        </p:blipFill>
        <p:spPr>
          <a:xfrm>
            <a:off x="468360" y="2050920"/>
            <a:ext cx="8421480" cy="4257720"/>
          </a:xfrm>
          <a:prstGeom prst="rect">
            <a:avLst/>
          </a:prstGeom>
          <a:ln w="0">
            <a:noFill/>
          </a:ln>
        </p:spPr>
      </p:pic>
      <p:sp>
        <p:nvSpPr>
          <p:cNvPr id="1078" name="Fußzeilenplatzhalter 3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oliennummernplatzhalter 4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948B-F0C6-4B0E-B660-5A8CE3443E96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ImmobilienScout24, Cologne Institute for Economic Research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16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Overall share of advertisements above the rent control in Berlin </a:t>
            </a:r>
            <a:br>
              <a:rPr sz="3000"/>
            </a:br>
            <a:r>
              <a:rPr b="1" lang="en-US" sz="2000" spc="-1" strike="noStrike">
                <a:solidFill>
                  <a:srgbClr val="006ab3"/>
                </a:solidFill>
                <a:latin typeface="Arial"/>
              </a:rPr>
              <a:t>in percent</a:t>
            </a:r>
            <a:br>
              <a:rPr sz="2000"/>
            </a:br>
            <a:endParaRPr b="1" lang="en-US" sz="2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82" name="Fußzeilenplatzhalter 3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oliennummernplatzhalter 4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5683-640C-49BC-A4DE-00B13552BAE9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ImmobilienScout24, Cologne Institute for Economic Research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684360" y="2205000"/>
          <a:ext cx="7991280" cy="3311640"/>
        </p:xfrm>
        <a:graphic>
          <a:graphicData uri="http://schemas.openxmlformats.org/drawingml/2006/table">
            <a:tbl>
              <a:tblPr/>
              <a:tblGrid>
                <a:gridCol w="1457280"/>
                <a:gridCol w="2727360"/>
                <a:gridCol w="1268280"/>
                <a:gridCol w="1270080"/>
                <a:gridCol w="1268280"/>
              </a:tblGrid>
              <a:tr h="801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ood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verage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dinary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</a:tr>
              <a:tr h="6271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ll rental lis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elevant rental lis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  <a:tr h="6285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g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a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ll rental lis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5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elevant rental lis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10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87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oliennummernplatzhalter 2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681A-6960-467D-9348-B6D048AD175B}" type="slidenum">
              <a:rPr b="1" lang="en-US" sz="10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3"/>
          <p:cNvGrpSpPr/>
          <p:nvPr/>
        </p:nvGrpSpPr>
        <p:grpSpPr>
          <a:xfrm>
            <a:off x="395280" y="1822320"/>
            <a:ext cx="8280000" cy="4343400"/>
            <a:chOff x="395280" y="1822320"/>
            <a:chExt cx="8280000" cy="4343400"/>
          </a:xfrm>
        </p:grpSpPr>
        <p:sp>
          <p:nvSpPr>
            <p:cNvPr id="1090" name="Rectangle 4"/>
            <p:cNvSpPr/>
            <p:nvPr/>
          </p:nvSpPr>
          <p:spPr>
            <a:xfrm>
              <a:off x="395280" y="18223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5"/>
            <p:cNvSpPr/>
            <p:nvPr/>
          </p:nvSpPr>
          <p:spPr>
            <a:xfrm>
              <a:off x="395280" y="36511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ntal Indices in Ger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6"/>
            <p:cNvSpPr/>
            <p:nvPr/>
          </p:nvSpPr>
          <p:spPr>
            <a:xfrm>
              <a:off x="395280" y="27367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ew Rent Control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7"/>
            <p:cNvSpPr/>
            <p:nvPr/>
          </p:nvSpPr>
          <p:spPr>
            <a:xfrm>
              <a:off x="395280" y="45655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ffect on Rents in Berlin and Colog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8"/>
            <p:cNvSpPr/>
            <p:nvPr/>
          </p:nvSpPr>
          <p:spPr>
            <a:xfrm>
              <a:off x="395280" y="54799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006ab3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The rent control is a rent freeze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466560" y="1699920"/>
            <a:ext cx="4034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Especially small and old apartments located in good areas are affected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Experiences in other countries show severe problems of rental freezes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Transformation in owner-occupied flats is likely to happen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  <p:pic>
        <p:nvPicPr>
          <p:cNvPr id="1097" name="Bildplatzhalter 7" descr=""/>
          <p:cNvPicPr/>
          <p:nvPr/>
        </p:nvPicPr>
        <p:blipFill>
          <a:blip r:embed="rId1"/>
          <a:srcRect l="7492" t="-308" r="27739" b="316"/>
          <a:stretch/>
        </p:blipFill>
        <p:spPr>
          <a:xfrm>
            <a:off x="4641840" y="1773360"/>
            <a:ext cx="4105440" cy="43196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 txBox="1"/>
          <p:nvPr/>
        </p:nvSpPr>
        <p:spPr>
          <a:xfrm>
            <a:off x="4643280" y="6092640"/>
            <a:ext cx="41054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Fotolia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99" name="Fußzeilenplatzhalter 5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oliennummernplatzhalter 6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1699-8813-4E0F-B274-645E6EDA9BF0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24000" y="828360"/>
            <a:ext cx="84232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ab3"/>
                </a:solidFill>
                <a:latin typeface="Arial"/>
              </a:rPr>
              <a:t>Research Unit Financial &amp; Real Estate Markets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71" name="Rectangle 3"/>
          <p:cNvSpPr/>
          <p:nvPr/>
        </p:nvSpPr>
        <p:spPr>
          <a:xfrm>
            <a:off x="324000" y="1628640"/>
            <a:ext cx="409392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6ab3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6ab3"/>
                </a:solidFill>
                <a:latin typeface="Arial"/>
              </a:rPr>
              <a:t>Prof. Dr. Michael Voigtländer</a:t>
            </a:r>
            <a:br>
              <a:rPr sz="1800"/>
            </a:br>
            <a:r>
              <a:rPr b="1" lang="de-DE" sz="1400" spc="-1" strike="noStrike">
                <a:solidFill>
                  <a:srgbClr val="646464"/>
                </a:solidFill>
                <a:latin typeface="Arial"/>
              </a:rPr>
              <a:t>Head of Research Unit Financial and Real Estate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646464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46464"/>
                </a:solidFill>
                <a:latin typeface="Arial"/>
              </a:rPr>
              <a:t>++49 221 4981-7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646464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646464"/>
                </a:solidFill>
                <a:latin typeface="Arial"/>
              </a:rPr>
              <a:t>voigtlaender@iwkoeln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646464"/>
              </a:buClr>
              <a:buFont typeface="Webding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de-DE" sz="1400" spc="-1" strike="noStrike" u="sng">
                <a:solidFill>
                  <a:srgbClr val="002060"/>
                </a:solidFill>
                <a:uFillTx/>
                <a:latin typeface="Arial"/>
                <a:hlinkClick r:id="rId1"/>
              </a:rPr>
              <a:t>www.immobilienoekonomik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646464"/>
              </a:buClr>
              <a:buFont typeface="Webdings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46464"/>
                </a:solidFill>
                <a:latin typeface="Arial"/>
              </a:rPr>
              <a:t>Twitter.com/mvoigtla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646464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858920" y="1665000"/>
            <a:ext cx="374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6ab3"/>
                </a:solidFill>
                <a:latin typeface="Arial"/>
              </a:rPr>
              <a:t>Research Focus</a:t>
            </a:r>
            <a:endParaRPr b="1" lang="en-US" sz="1800" spc="-1" strike="noStrike">
              <a:solidFill>
                <a:srgbClr val="646464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46464"/>
                </a:solidFill>
                <a:latin typeface="Arial"/>
              </a:rPr>
              <a:t>Housing Policy and Real Estate Economics</a:t>
            </a:r>
            <a:endParaRPr b="1" lang="en-US" sz="1800" spc="-1" strike="noStrike">
              <a:solidFill>
                <a:srgbClr val="646464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46464"/>
                </a:solidFill>
                <a:latin typeface="Arial"/>
              </a:rPr>
              <a:t>Real Estate and Corporate Finance</a:t>
            </a:r>
            <a:endParaRPr b="1" lang="en-US" sz="1800" spc="-1" strike="noStrike">
              <a:solidFill>
                <a:srgbClr val="646464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46464"/>
                </a:solidFill>
                <a:latin typeface="Arial"/>
              </a:rPr>
              <a:t>Monetary Policy and Financial Markets</a:t>
            </a:r>
            <a:endParaRPr b="1" lang="en-US" sz="1800" spc="-1" strike="noStrike">
              <a:solidFill>
                <a:srgbClr val="646464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46464"/>
              </a:solidFill>
              <a:latin typeface="Arial"/>
            </a:endParaRPr>
          </a:p>
        </p:txBody>
      </p:sp>
      <p:pic>
        <p:nvPicPr>
          <p:cNvPr id="973" name="Grafik 2" descr=""/>
          <p:cNvPicPr/>
          <p:nvPr/>
        </p:nvPicPr>
        <p:blipFill>
          <a:blip r:embed="rId2"/>
          <a:stretch/>
        </p:blipFill>
        <p:spPr>
          <a:xfrm>
            <a:off x="4716360" y="4456080"/>
            <a:ext cx="3059280" cy="2040120"/>
          </a:xfrm>
          <a:prstGeom prst="rect">
            <a:avLst/>
          </a:prstGeom>
          <a:ln w="0">
            <a:noFill/>
          </a:ln>
        </p:spPr>
      </p:pic>
      <p:pic>
        <p:nvPicPr>
          <p:cNvPr id="974" name="Grafik 4" descr=""/>
          <p:cNvPicPr/>
          <p:nvPr/>
        </p:nvPicPr>
        <p:blipFill>
          <a:blip r:embed="rId3"/>
          <a:stretch/>
        </p:blipFill>
        <p:spPr>
          <a:xfrm>
            <a:off x="1187280" y="4456080"/>
            <a:ext cx="3024360" cy="2016000"/>
          </a:xfrm>
          <a:prstGeom prst="rect">
            <a:avLst/>
          </a:prstGeom>
          <a:ln w="0">
            <a:noFill/>
          </a:ln>
        </p:spPr>
      </p:pic>
      <p:sp>
        <p:nvSpPr>
          <p:cNvPr id="975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C246-6F94-4678-B7AE-7F48095BB104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10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78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Foliennummernplatzhalter 2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C9E4-0FFF-45E6-9EFC-A4CB60E16F62}" type="slidenum">
              <a:rPr b="1" lang="en-US" sz="10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3"/>
          <p:cNvGrpSpPr/>
          <p:nvPr/>
        </p:nvGrpSpPr>
        <p:grpSpPr>
          <a:xfrm>
            <a:off x="395280" y="1822320"/>
            <a:ext cx="8280000" cy="4343400"/>
            <a:chOff x="395280" y="1822320"/>
            <a:chExt cx="8280000" cy="4343400"/>
          </a:xfrm>
        </p:grpSpPr>
        <p:sp>
          <p:nvSpPr>
            <p:cNvPr id="981" name="Rectangle 4"/>
            <p:cNvSpPr/>
            <p:nvPr/>
          </p:nvSpPr>
          <p:spPr>
            <a:xfrm>
              <a:off x="395280" y="18223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006ab3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5"/>
            <p:cNvSpPr/>
            <p:nvPr/>
          </p:nvSpPr>
          <p:spPr>
            <a:xfrm>
              <a:off x="395280" y="36511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ntal indices in Ger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6"/>
            <p:cNvSpPr/>
            <p:nvPr/>
          </p:nvSpPr>
          <p:spPr>
            <a:xfrm>
              <a:off x="395280" y="27367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ew Rent Contr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7"/>
            <p:cNvSpPr/>
            <p:nvPr/>
          </p:nvSpPr>
          <p:spPr>
            <a:xfrm>
              <a:off x="395280" y="45655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ffect on rents in Berlin and Colog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8"/>
            <p:cNvSpPr/>
            <p:nvPr/>
          </p:nvSpPr>
          <p:spPr>
            <a:xfrm>
              <a:off x="395280" y="54799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8072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Major Cities in the growth mode</a:t>
            </a:r>
            <a:br>
              <a:rPr sz="3000"/>
            </a:br>
            <a:r>
              <a:rPr b="1" lang="en-US" sz="2000" spc="-1" strike="noStrike">
                <a:solidFill>
                  <a:srgbClr val="006ab3"/>
                </a:solidFill>
                <a:latin typeface="Arial"/>
              </a:rPr>
              <a:t>Change in the demand for living space between 2012 and 2030</a:t>
            </a:r>
            <a:endParaRPr b="1" lang="en-US" sz="2000" spc="-1" strike="noStrike">
              <a:solidFill>
                <a:srgbClr val="006ab3"/>
              </a:solidFill>
              <a:latin typeface="Arial"/>
            </a:endParaRPr>
          </a:p>
        </p:txBody>
      </p:sp>
      <p:graphicFrame>
        <p:nvGraphicFramePr>
          <p:cNvPr id="987" name="Object 76"/>
          <p:cNvGraphicFramePr/>
          <p:nvPr/>
        </p:nvGraphicFramePr>
        <p:xfrm>
          <a:off x="787320" y="1773360"/>
          <a:ext cx="773928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8" name="Object 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3360"/>
                    <a:ext cx="773928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Foliennummernplatzhalter 4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FC2B-84BF-4BBA-8BC6-83C1CF445E1B}" type="slidenum">
              <a:rPr b="1" lang="en-US" sz="1000" spc="-1" strike="noStrike">
                <a:solidFill>
                  <a:srgbClr val="006a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W Köln, Bertelsmann Stiftung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91" name="Fußzeilenplatzhalter 1"/>
          <p:cNvSpPr/>
          <p:nvPr/>
        </p:nvSpPr>
        <p:spPr>
          <a:xfrm>
            <a:off x="395280" y="6453360"/>
            <a:ext cx="77770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807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A Shortage of Construction in Major Cities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pic>
        <p:nvPicPr>
          <p:cNvPr id="993" name="Inhaltsplatzhalter 6" descr=""/>
          <p:cNvPicPr/>
          <p:nvPr/>
        </p:nvPicPr>
        <p:blipFill>
          <a:blip r:embed="rId1"/>
          <a:stretch/>
        </p:blipFill>
        <p:spPr>
          <a:xfrm>
            <a:off x="415800" y="1649520"/>
            <a:ext cx="8382240" cy="442116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W Köln, Statistisches Bundesamt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95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363B-FB6D-446E-AC15-56ECB580429A}" type="slidenum">
              <a:rPr b="1" lang="en-US" sz="1000" spc="-1" strike="noStrike">
                <a:solidFill>
                  <a:srgbClr val="006a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ußzeilenplatzhalter 1"/>
          <p:cNvSpPr/>
          <p:nvPr/>
        </p:nvSpPr>
        <p:spPr>
          <a:xfrm>
            <a:off x="324000" y="6472080"/>
            <a:ext cx="7777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10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998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  <a:ea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oliennummernplatzhalter 2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994B-750D-4E02-9458-835CDFD789C7}" type="slidenum">
              <a:rPr b="1" lang="en-US" sz="1000" spc="-1" strike="noStrike">
                <a:solidFill>
                  <a:srgbClr val="646464"/>
                </a:solidFill>
                <a:latin typeface="Arial Narrow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Group 3"/>
          <p:cNvGrpSpPr/>
          <p:nvPr/>
        </p:nvGrpSpPr>
        <p:grpSpPr>
          <a:xfrm>
            <a:off x="395280" y="1822320"/>
            <a:ext cx="8280000" cy="4343400"/>
            <a:chOff x="395280" y="1822320"/>
            <a:chExt cx="8280000" cy="4343400"/>
          </a:xfrm>
        </p:grpSpPr>
        <p:sp>
          <p:nvSpPr>
            <p:cNvPr id="1001" name="Rectangle 4"/>
            <p:cNvSpPr/>
            <p:nvPr/>
          </p:nvSpPr>
          <p:spPr>
            <a:xfrm>
              <a:off x="395280" y="18223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5"/>
            <p:cNvSpPr/>
            <p:nvPr/>
          </p:nvSpPr>
          <p:spPr>
            <a:xfrm>
              <a:off x="395280" y="36511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ntal Indices in Ger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6"/>
            <p:cNvSpPr/>
            <p:nvPr/>
          </p:nvSpPr>
          <p:spPr>
            <a:xfrm>
              <a:off x="395280" y="27367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006ab3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ew Rent Control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7"/>
            <p:cNvSpPr/>
            <p:nvPr/>
          </p:nvSpPr>
          <p:spPr>
            <a:xfrm>
              <a:off x="395280" y="45655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ffect on Rents in Berlin and Colog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8"/>
            <p:cNvSpPr/>
            <p:nvPr/>
          </p:nvSpPr>
          <p:spPr>
            <a:xfrm>
              <a:off x="395280" y="54799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Introduction of a rent control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466560" y="1699920"/>
            <a:ext cx="4034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New rent contracts max. 10 percent above the local  reference rent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Applied in „tensed housing markets“, initially for 5 years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Exceptions: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120000"/>
              </a:lnSpc>
              <a:spcBef>
                <a:spcPts val="1349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Newly Constructed Buildings</a:t>
            </a:r>
            <a:endParaRPr b="0" lang="en-US" sz="18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120000"/>
              </a:lnSpc>
              <a:spcBef>
                <a:spcPts val="1349"/>
              </a:spcBef>
              <a:buClr>
                <a:srgbClr val="006ab3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Extensive Modernizations</a:t>
            </a:r>
            <a:endParaRPr b="0" lang="en-US" sz="18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643280" y="6092640"/>
            <a:ext cx="41054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Fotolia</a:t>
            </a:r>
            <a:endParaRPr b="1" lang="en-US" sz="12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09" name="Fußzeilenplatzhalter 4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0E64-66DA-48FB-A4FF-54BE3591DF00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Bildplatzhalter 7" descr=""/>
          <p:cNvPicPr/>
          <p:nvPr/>
        </p:nvPicPr>
        <p:blipFill>
          <a:blip r:embed="rId1"/>
          <a:srcRect l="30103" t="0" r="2938" b="0"/>
          <a:stretch/>
        </p:blipFill>
        <p:spPr>
          <a:xfrm>
            <a:off x="4641840" y="1773360"/>
            <a:ext cx="4105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10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ab3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13" name="Fußzeilenplatzhalter 1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oliennummernplatzhalter 2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A1DB-EF0E-410E-86B4-81534222CB1E}" type="slidenum">
              <a:rPr b="1" lang="en-US" sz="10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3"/>
          <p:cNvGrpSpPr/>
          <p:nvPr/>
        </p:nvGrpSpPr>
        <p:grpSpPr>
          <a:xfrm>
            <a:off x="395280" y="1822320"/>
            <a:ext cx="8280000" cy="4343400"/>
            <a:chOff x="395280" y="1822320"/>
            <a:chExt cx="8280000" cy="4343400"/>
          </a:xfrm>
        </p:grpSpPr>
        <p:sp>
          <p:nvSpPr>
            <p:cNvPr id="1016" name="Rectangle 4"/>
            <p:cNvSpPr/>
            <p:nvPr/>
          </p:nvSpPr>
          <p:spPr>
            <a:xfrm>
              <a:off x="395280" y="18223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5"/>
            <p:cNvSpPr/>
            <p:nvPr/>
          </p:nvSpPr>
          <p:spPr>
            <a:xfrm>
              <a:off x="395280" y="36511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006ab3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ntal Indices in Ger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6"/>
            <p:cNvSpPr/>
            <p:nvPr/>
          </p:nvSpPr>
          <p:spPr>
            <a:xfrm>
              <a:off x="395280" y="27367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New Rent Control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7"/>
            <p:cNvSpPr/>
            <p:nvPr/>
          </p:nvSpPr>
          <p:spPr>
            <a:xfrm>
              <a:off x="395280" y="45655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ffect on Rents in Berlin and Colog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8"/>
            <p:cNvSpPr/>
            <p:nvPr/>
          </p:nvSpPr>
          <p:spPr>
            <a:xfrm>
              <a:off x="395280" y="5479920"/>
              <a:ext cx="8280000" cy="685800"/>
            </a:xfrm>
            <a:prstGeom prst="rect">
              <a:avLst/>
            </a:prstGeom>
            <a:gradFill rotWithShape="0">
              <a:gsLst>
                <a:gs pos="0">
                  <a:srgbClr val="bed9ec"/>
                </a:gs>
                <a:gs pos="100000">
                  <a:srgbClr val="dfe6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66560" y="828360"/>
            <a:ext cx="828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ab3"/>
                </a:solidFill>
                <a:latin typeface="Arial"/>
              </a:rPr>
              <a:t>Rental indices in Germany</a:t>
            </a:r>
            <a:endParaRPr b="1" lang="en-US" sz="3000" spc="-1" strike="noStrike">
              <a:solidFill>
                <a:srgbClr val="006ab3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66560" y="1699920"/>
            <a:ext cx="4034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46464"/>
                </a:solidFill>
                <a:latin typeface="Arial"/>
              </a:rPr>
              <a:t>Qualified Rental Indices</a:t>
            </a:r>
            <a:endParaRPr b="1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46464"/>
                </a:solidFill>
                <a:latin typeface="Arial"/>
              </a:rPr>
              <a:t>Data sources: interviews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46464"/>
                </a:solidFill>
                <a:latin typeface="Arial"/>
              </a:rPr>
              <a:t>Rental prices of new and existing stock of the last 4 years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46464"/>
                </a:solidFill>
                <a:latin typeface="Arial"/>
              </a:rPr>
              <a:t>Renewed index all 2 years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46464"/>
                </a:solidFill>
                <a:latin typeface="Arial"/>
              </a:rPr>
              <a:t>A range for prices according to location, quality and subjective criteria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46464"/>
                </a:solidFill>
                <a:latin typeface="Arial"/>
              </a:rPr>
              <a:t>Normal Rental Indices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  <a:p>
            <a:pPr lvl="1" marL="179280" indent="-177840">
              <a:lnSpc>
                <a:spcPct val="90000"/>
              </a:lnSpc>
              <a:spcBef>
                <a:spcPts val="1400"/>
              </a:spcBef>
              <a:buClr>
                <a:srgbClr val="006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46464"/>
                </a:solidFill>
                <a:latin typeface="Arial"/>
              </a:rPr>
              <a:t>Negotiated between landlords association, tenant association and the city</a:t>
            </a:r>
            <a:endParaRPr b="0" lang="en-US" sz="19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23" name="Fußzeilenplatzhalter 4"/>
          <p:cNvSpPr/>
          <p:nvPr/>
        </p:nvSpPr>
        <p:spPr>
          <a:xfrm>
            <a:off x="466560" y="6524640"/>
            <a:ext cx="777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ab3"/>
                </a:solidFill>
                <a:latin typeface="Arial"/>
              </a:rPr>
              <a:t>Prof. Dr. Michael Voigtländer, The New German Rent Control, 19 March 2015, Lond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oliennummernplatzhalter 5"/>
          <p:cNvSpPr/>
          <p:nvPr/>
        </p:nvSpPr>
        <p:spPr>
          <a:xfrm>
            <a:off x="8386920" y="6524640"/>
            <a:ext cx="36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76E5-6030-4DE1-ADA2-D303EAAE82F1}" type="slidenum">
              <a:rPr b="1" lang="de-DE" sz="1000" spc="-1" strike="noStrike">
                <a:solidFill>
                  <a:srgbClr val="006ab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Bildplatzhalter 9" descr=""/>
          <p:cNvPicPr/>
          <p:nvPr/>
        </p:nvPicPr>
        <p:blipFill>
          <a:blip r:embed="rId1"/>
          <a:srcRect l="18285" t="0" r="18285" b="0"/>
          <a:stretch/>
        </p:blipFill>
        <p:spPr>
          <a:xfrm>
            <a:off x="4641840" y="1773360"/>
            <a:ext cx="4105440" cy="4319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 txBox="1"/>
          <p:nvPr/>
        </p:nvSpPr>
        <p:spPr>
          <a:xfrm>
            <a:off x="468000" y="6119280"/>
            <a:ext cx="828036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08:39:35Z</dcterms:created>
  <dc:creator>Deschermeier, Dr. Philipp</dc:creator>
  <dc:description/>
  <dc:language>en-US</dc:language>
  <cp:lastModifiedBy>bob.jordan</cp:lastModifiedBy>
  <cp:lastPrinted>2014-11-07T08:06:50Z</cp:lastPrinted>
  <dcterms:modified xsi:type="dcterms:W3CDTF">2015-03-13T12:02:54Z</dcterms:modified>
  <cp:revision>94</cp:revision>
  <dc:subject/>
  <dc:title>PowerPoint-Präsentation</dc:title>
</cp:coreProperties>
</file>