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18.wmf" ContentType="image/x-wmf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6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Seipelt, Björn" initials="S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<Relationship Id="rId46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5-03-02T16:21:42.305000000" idx="1">
    <p:pos x="-546" y="1086"/>
    <p:text>?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dt" idx="4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ftr" idx="4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 type="sldNum" idx="4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CE3A-67C7-4515-A3A2-5D3630D73BD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D0675D-97FB-4857-857E-32B0245D06A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Datumsplatzhalt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07.06.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oliennummernplatzhalter 6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C907-38AE-4AE8-81B0-1CED8300F3C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B8A99D-64E4-4124-B7FA-69E6A2A6E6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BCD2-0640-40AA-B868-3AA1B1BCA14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ußzeilenplatzhalter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mographie und Immobilien - Wie verändern sich Nachfrage, Angebot und Prei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Datumsplatzhalter 5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02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Kopfzeilenplatzhalter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of. Dr. Michael Voigtlä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34ECCF-0F3B-4BE5-8D48-DCF293BC047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83ED-4F8C-413F-BEC1-C77DF9BDB75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7B8B60-B1B0-4A01-A4A8-584D556756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84DF8E-5B34-4F13-BB27-4A1EB2E30DE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80B5-E575-4503-86A4-AF19E0794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D967-AF98-4790-A373-2289DBB04BA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A14B6-514A-4CA3-9D0F-FEEAD1C890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B883-3D8C-4B94-A6B6-8D3374C4875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55376-3583-47DD-9A87-F2FBEFC47F8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5DA20-AA04-408C-B97A-E6339513BD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5A61E-6481-4FC9-8632-4EDE05AA871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CDDC2-41A7-41C7-905B-492D13C039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4F48B-A76A-4ECE-BA51-EAD124C14CD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DC669-CA3A-4CFA-9151-E63DAD6904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C67C-F789-4F65-8B61-EE794E64B86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940BD-5B93-49FE-8A00-4CB1F6B2A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BE58-A6B8-4480-939D-C7D8D1E64D1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F5609-D484-4FBB-B7DA-816FA6AC492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100A4-6BA2-4C34-A675-1C4AFAB99FF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BAC01-D5D0-444D-A3BC-DE4AAF18512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EB2EB-40EE-4193-995E-6C7808048C2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27C3A-E3AA-4B08-BE87-D8D423345D1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CD64B-CD45-4E9C-9CC4-D6644F67D0E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1ADFE-4BC9-4BE8-B9C2-EB59A940D63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01A04-7E1A-4C60-9143-CCCC561EE46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A98B3-44ED-4C07-AA60-3E547F7E97D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DC127-7E68-43FA-B735-6064E9DE7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C99D-408D-4D20-A5FC-3C9198AF173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61138-6184-441C-9BB3-9636E9CCEE2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016C07-94DB-491C-A445-6F444F38F36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05D1C9-AE18-430E-83FD-9DD1747C6A8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3FA17C-67F8-4770-9DE6-8229FB9520F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2020AC-0E8F-48F2-A2FA-07AFA03F537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2BA2BB-0B2B-4099-98F4-12855B23BE5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2D1051-9FFE-491B-AE5A-461177FD24B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6A2BF8-DD8F-498B-9372-B03DC4BC519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A0E845-E63F-4BEE-91DC-00DE2AD2B93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6C50F2-E7F6-41E5-AF58-756985553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A12AB-8124-4862-8016-BE5B5F69959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A9BD51-16FA-4C96-89CE-5B38E5535B1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DDD05C-4340-480F-8B63-F1381819BE3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2B18BD-1851-4E36-85AD-28B971296A7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15E66-9DA2-47A9-B8E9-75B698CF697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CA41F-F0C9-4D14-8589-198A6CD802F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63C3E-4E7C-445B-8E2D-350CDF0269B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91DAC-5204-4191-B075-CD50D431FAF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7945B-D5FA-4CF1-9C65-6116E6DE1AD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6FF92-E6FD-4460-AF4B-C97FB020068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4DEFE-0A36-44A8-AEAA-BB0723D360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075C4-7CB6-45E2-AD51-2D636F675DF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7E30-1572-4056-8BBB-7BBADB0656A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2EB8E-4A1E-4A4B-9D9A-48B039C1243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40BA2-F467-4EB4-8EFA-2DC20816A80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CAE60-7597-4FBB-96CE-C3DC369FF54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914DF-A435-4A46-9F4D-F03102B2BE5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6506B-2C8C-4258-81EC-CC311021F51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78223-4664-46FD-8AE6-97A2C5E0635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12AEEE-AB1E-4855-95CB-EA76C45D8FA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821A96-1DA5-47D0-B336-8C3642C1925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7E890-DD01-4193-A529-DA21F4F5A7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50823-13EA-4157-91E5-DC8323E2CBE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C541B-FB34-4154-9CF2-889BDEBBDB1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DB87B0-AF23-4091-B891-18F7E652A4F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F7EC8-7A4B-48A8-A6CE-2F3EF383518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CDD160-CFEF-478A-8E20-65E46D77CC6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B8A00-3E5D-4DA8-9118-43B75E5225F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8B248A-3ABE-4B25-9C38-6202C8BB15E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FEDD1-30F5-494A-9FCA-3AE41D10A5F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BA772C-EC16-42A1-A42F-3980E6B1EF3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B25201-0391-4738-B16B-6A775B724D7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A03B7F-238A-4E20-9E4A-376DC9A6A1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894A6-13D4-49C8-81B8-3DB1633EC19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6D17FC-2C55-469A-836B-8AC60505E08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23AB31-3151-42A8-BB0E-8321F872197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3DF084-7D5B-4604-B726-EC001FEF0EE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3BB884-F9F5-4AC3-8E19-FDBB6E5CC74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4BD671-A44B-4FCE-A722-F18F725E8B2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F5D02E-EF1D-40B9-975A-90829A415E4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4D28F4-3DA6-40EF-9D70-FB21465A789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B55BDF-00F4-4D3C-887A-3C8EDE2623E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7820CB-2944-4EDE-9A09-F4070387EEE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AF6C8-1202-46B9-98D7-C717C0EB61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B618F-8C36-48C8-92D3-69AEF216318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2C1BD-114C-4E24-90C5-AC939B9746D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5EB7C-4357-4A43-9332-9516D637E4F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06DBF-1A33-4579-8663-F9553D80AEE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C5532-7CED-40A5-8A2A-962F7680E4E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5AA5C-835D-4A2E-BE08-00720EAE0F7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E4F35-143A-4A2F-9998-CE656B787D2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63AD8-6764-427F-AD65-0C93E93E7AE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CB742-D55F-4AFD-9F9D-3E5CFE212FA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1F69F-5B09-45C6-AC62-9D9551FFF86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7D01B-2A81-4848-AF5F-83C3034DB9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F6891-BF7F-4D5A-A860-90B52464D34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6A0EF-45A1-4C3E-817F-228CF58DF0C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971F5E-5766-4BB8-81A5-9447D0EBDFD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769E7C-CCB6-4546-9362-4ECBF3EFEB9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D1F12-4F5D-4EE2-B56F-9F98E585605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7F3DC0-5EFF-48E7-AED9-5AB3DA0046A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8896FE-6579-424E-BE75-652BC119E39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49AC30-1C2A-4F4C-9112-8C21F9B2BFE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6B69E2-121D-4242-89E0-C1A48ADD925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5E516C-EBFC-4D03-BBB8-EDBAC22D659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B42D9B-7186-402A-BAC7-B14A4C5465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CF2EC-EDEA-41B9-BD75-2292CE2E2A8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32545B-1A2D-4FA5-9B94-58DC2D1B839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D767D1-6484-45B7-9D4C-480983DBF06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5881DA-B12D-47AF-BD45-C97C1100FA7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ECAA4-291E-4297-A98A-E24D163BC01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5729E-81E9-4A06-A17C-3D6F5AFC837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E5F70-B42F-4604-B6A9-AAA65B28D97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C3616-EEF5-48C7-B8EC-AEDD6559D92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899C8-DE97-4E6D-B51B-39794133E14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F3446-6D88-4E43-AF9E-AB7C7BA2BC8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F40F5-2C99-4319-B445-AF24D1A190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C8ED-6DF9-4AE8-A08B-B8435F826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7AC0C-0637-4F29-9D51-7CDBC989F05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5D7A5-754E-4839-A57C-1642ECCA8C5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6D738-CD31-4D95-BA4B-798DD062F60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39E5F-4F14-438A-8C7B-0584007CF6A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3E5D8-3FAF-45A9-A125-CA0A7BA5703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8FFC7-3116-400A-A676-6C75A6ED19D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CD32A-6A65-41A7-8790-DD7DA47034C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36262-CC81-4742-8110-D1BD0713985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88901-CB57-4F9C-989A-80163CE3C59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38FB4-0717-4C39-BF18-E4BC58881B6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63991-2452-4A1B-AC27-79DFCFD241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56548-BC2B-4408-A19F-327F8D34A4F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C1C4C-068D-418F-84AB-B3B59C5EF7A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F5BA6-E77F-46D4-9BCD-84E28AA076F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B403A-3CAD-43A3-B475-B94E2F09A8A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DE168-5CA8-41E3-8340-7F21897692D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93968-0F72-4FCD-8F32-C69CBEB5A7C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1F62C-4284-4E83-94EE-06FC63FAFB3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AAE4B-F00B-4248-B8BE-0BE85AA3C7E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D0F0BD-B90F-43E1-A60D-60715791128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762B5F-AC0B-4E65-91E7-7562C3863A7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F08FE9-E4A9-4A48-96F5-AA1F3FA071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EEE6C-74C6-4322-A251-0C268A0201F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921FD3-36B3-4016-97F4-6D27EC4B047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0C4611-EA83-48A0-9D94-5B16759D3C0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138D01-5401-4508-90E1-907E521DF36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9FA17D-1D1C-464B-82D5-E20CDFE65CC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6B75D0-A547-44CA-93F1-70C49E2D064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A678E6-2119-4249-AE3F-A2A3D3D422A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35EF40-89C4-43F6-9926-6306C270A93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93E5B8-D187-4125-817D-AD8E5CE8699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59E265-18D9-4281-8418-3DFA524D862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DF965-386F-49CF-8D2D-137684FF66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47BCF-1510-4ECD-AD56-1189295BED9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512D0-ED26-40BC-A73C-8177E9F4BB0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F6870-11D6-449F-8526-7DC7D945CEE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A517C-82B8-4CC0-A60A-0CCA482B363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C0894-8E67-4933-8604-DF11EBA641A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027EF-48D1-4553-940A-91A0651E61F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18D35-D28A-4508-878D-E43D70952EA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7C1B3-887B-49F1-A1CC-5A5B476BB0C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0268A-E912-4073-ABB5-F33FCB21B98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97711-207B-434F-9F4D-041912F5241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F9E1F-137B-43CE-B194-563531739C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E301D-4217-48A5-8D5B-F7ED49994D1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91922-BA42-4B9B-968D-E808E412A83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0BAC4-55A9-4630-A2CF-9FDAB2A94B5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4E6AC-C824-460E-923A-46294A43220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C2A43-C9C6-4C8B-AE64-FFB95CE0B8B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FEA4E-CD84-4B9D-9279-79D0615FD49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9AED5-134E-4E04-8D2F-7300744C8E7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57F4C-326C-4780-9C1A-E6668663746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A8A2E-3E85-44EF-8866-E1844155E68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0B5CB-5552-4273-91D3-454888BB8F5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DA8A4-375B-47C7-AAE3-A175837038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D4E0-79FE-4461-9944-AE85F5DD3A8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0FF00-6B72-44B8-A17E-55184BAC6AF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5AF6B-0993-4C09-9B66-BB4906413C1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CFA22-1D18-424B-92C0-8A3DDEF1F0E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88DA2A-C41E-470D-8B81-8406726DDC5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77035A-4C35-43E5-A481-4F2B317CDD8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BA0F15-A52C-4DE9-AC63-6E36A13F96F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801214-129F-48C6-9B49-21DF4E13563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575872-63E5-45ED-9637-B1C4DDB139A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D00717-041C-4C52-A0E0-C9C3B6C2A40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59FE26-87FA-49DB-8492-CE63B82618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A187-56A0-418D-A1B1-E1C98A587CF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3BE6B6-698F-4BCC-9690-4BB29A422D4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DFD794-9207-4CE4-9458-5BD1D04158A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B93AAD-BDB3-4598-B7DC-8A9F7D84F61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5B7E23-2C8D-4DDB-B906-52E7C718AD0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AAC439-5FBD-426F-915F-69A700C1E84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92FA2E-5705-4722-83CF-9C7C6F28159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4C8378-9835-44A0-9D27-798DE0B6ABB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27AD86-886F-44D6-9F5D-2660F8677CF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C36DF4-367A-44E1-B343-F78AB1CACE1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3C59F2-BFDC-475A-94E1-3B0D554F5F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9E9D-80C6-446E-93A7-0BE401A0A03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E27CDF-7E66-41CD-8CC9-447CC0693EE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867506-C28C-484A-858A-6E2F4C8C5BE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B79015-4D6F-4A64-A569-04552AAAB6F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B0EAAA-9036-4857-98F4-CD37498F7A9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BF2BCD-C3D5-458F-8A43-5323CAD375F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013CF9-AC44-4603-8BDB-1CB86F03E5C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F80059-8084-4DE1-9E2A-97443AAF17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9530-F93B-40B7-91EC-2D3071270E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284D-508B-44F6-B816-87C66EBDD4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78C0-D81A-49DE-9475-EC4621AE3F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8A2D-B49E-412A-B559-CAE9066175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F8FE-BE79-494A-BB29-02F6AA1986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1ABF-66F0-4008-BE37-6319BB5A3D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BB15-CADA-4E7E-9771-1F754204C3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D27F-63B1-4A07-9C32-24059DFC6F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FFC9-9FF8-49B5-B7F4-1FE802C7B0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C044-B9B9-4DE5-B8F2-BC20039372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4C98-9810-40D4-95E7-32E64874B2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93CF2-C500-46B4-909D-B0B43D4B5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EC266-F42A-4A98-B0D9-0A44674F08F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38F39-ECC8-4AEA-BE66-2AA15541C8E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ABEFA-52FF-49CD-9E51-862687C33BF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C53A6-B0DD-4F13-A374-2315B023EA6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1F6B9-8B38-4D0F-9042-F0DCADF6EBE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EAB31-308F-403A-9E76-45E2FE0906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A81C0-57DE-4E33-A678-DD103CCA9F6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8658A-E250-4B85-87F0-BEB4933A8F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158E2-BB5E-44F1-82BF-2D84046DD63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2EFA7-5856-46C6-8018-FB397690135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481CB-EA90-469F-A67E-4D7B9A887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624B-1BA8-446A-B569-F71982995B3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AE3BF-E49A-4ED0-8A8D-725C8AD204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3E850-1D2C-48A1-9526-06466F39988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6D6CC-9F0E-4323-9790-FAEF7821CE8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FE9BF-5B16-4671-8DE2-AC2C075762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690C8-45B9-4172-A196-E676ED9E2D2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108B3-DE04-47FD-B357-97804658F06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06D6E-13A3-4E4B-AC9B-3D9F00BAB0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0BE15-B445-45F1-888D-FE3135259C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36D67-48FC-4BDD-8943-AE9701C8C47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3FD0B-81AA-46C5-A8FB-F085B4C4F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B576-73E0-4495-8177-663B3CC3D3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8BDC32-F737-4ED8-84E5-A67D3DF01B2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F390E-1FFE-45C6-8A6F-17A88632592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C96F38-E5DB-4934-996C-C154371347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FF21-95E6-41AB-9878-BEE23EC42D5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40F8-0B67-426D-AD3D-3E3534494C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499A8-CCAC-4577-BE84-F21F3C2E201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68160-06CD-4460-8931-F2730841F8F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31F63-B936-43E6-8922-4C6CA882C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5892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53820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71748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C84A-31F8-4330-881A-DFEF287B02E3}" type="slidenum">
              <a:rPr b="1" lang="de-DE" sz="1000" spc="-1" strike="noStrike">
                <a:solidFill>
                  <a:srgbClr val="006ab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13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14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9738-D4C6-46D7-9D7B-2DC13BD0FD25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5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6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271E-49A0-49FE-AAEA-AFEB344B15BE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17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18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F4F0-FCA2-4587-B466-6C8BE395EDA8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9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20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AE06-C597-465D-912D-DF3E4AB2BC0D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1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2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159A-F416-4879-B5E1-AA603BC1B9F7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3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4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ED7D-2618-42CB-A30B-FE93E6F94738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ftr" idx="25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26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94F1-FD85-43E2-A7FF-3ECFB6D60B1B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ftr" idx="27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28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88E1-5794-4DCF-A28E-2B75A848A903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29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30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81C4-1B14-47C4-8932-A0A45384FB64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ftr" idx="31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sldNum" idx="32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1C6B-7C32-4976-AC9D-19660F00D929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BA1C-E1AF-423F-A302-D5DFFDC3DB2E}" type="slidenum">
              <a:rPr b="1" lang="de-DE" sz="1000" spc="-1" strike="noStrike">
                <a:solidFill>
                  <a:srgbClr val="006ab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ftr" idx="33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sldNum" idx="34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CF75-021A-46DE-B399-263A5FE57252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ftr" idx="35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sldNum" idx="36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D85E-21FD-42F7-9879-AB2F5124DED2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ftr" idx="37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38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7E6C-1F68-40C5-8F0F-4DB1D45579C4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39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sldNum" idx="40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48EB-D43D-4484-AD79-0E702CCAE694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FF61-4003-4099-948A-2025BD69F327}" type="slidenum">
              <a:rPr b="1" lang="de-DE" sz="1000" spc="-1" strike="noStrike">
                <a:solidFill>
                  <a:srgbClr val="006ab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8" descr="IW-Gebäude02-254x63"/>
          <p:cNvPicPr/>
          <p:nvPr/>
        </p:nvPicPr>
        <p:blipFill>
          <a:blip r:embed="rId2"/>
          <a:stretch/>
        </p:blipFill>
        <p:spPr>
          <a:xfrm>
            <a:off x="0" y="0"/>
            <a:ext cx="9144000" cy="225576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1" descr=""/>
          <p:cNvPicPr/>
          <p:nvPr/>
        </p:nvPicPr>
        <p:blipFill>
          <a:blip r:embed="rId3"/>
          <a:stretch/>
        </p:blipFill>
        <p:spPr>
          <a:xfrm>
            <a:off x="460440" y="212760"/>
            <a:ext cx="2779560" cy="730080"/>
          </a:xfrm>
          <a:prstGeom prst="rect">
            <a:avLst/>
          </a:prstGeom>
          <a:ln w="0">
            <a:noFill/>
          </a:ln>
        </p:spPr>
      </p:pic>
      <p:pic>
        <p:nvPicPr>
          <p:cNvPr id="128" name="Grafik 2" descr=""/>
          <p:cNvPicPr/>
          <p:nvPr/>
        </p:nvPicPr>
        <p:blipFill>
          <a:blip r:embed="rId4"/>
          <a:stretch/>
        </p:blipFill>
        <p:spPr>
          <a:xfrm>
            <a:off x="485640" y="5713560"/>
            <a:ext cx="1862280" cy="27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5892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53820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71748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5892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53820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71748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7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8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9A74-B291-4A47-B40D-F1674EB01030}" type="slidenum">
              <a:rPr b="1" lang="de-DE" sz="1000" spc="-1" strike="noStrike">
                <a:solidFill>
                  <a:srgbClr val="006ab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5892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53820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71748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9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0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B29F-A745-4CCD-A576-5569352A2594}" type="slidenum">
              <a:rPr b="1" lang="de-DE" sz="1000" spc="-1" strike="noStrike">
                <a:solidFill>
                  <a:srgbClr val="006ab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8" descr="IW-Gebäude02-254x63"/>
          <p:cNvPicPr/>
          <p:nvPr/>
        </p:nvPicPr>
        <p:blipFill>
          <a:blip r:embed="rId2"/>
          <a:stretch/>
        </p:blipFill>
        <p:spPr>
          <a:xfrm>
            <a:off x="0" y="0"/>
            <a:ext cx="9144000" cy="2255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0" descr="IW Koeln-Logo_Claim"/>
          <p:cNvPicPr/>
          <p:nvPr/>
        </p:nvPicPr>
        <p:blipFill>
          <a:blip r:embed="rId3"/>
          <a:stretch/>
        </p:blipFill>
        <p:spPr>
          <a:xfrm>
            <a:off x="485640" y="5713560"/>
            <a:ext cx="1860840" cy="274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8" descr="IW Koeln-Logo_60 Jahre-02"/>
          <p:cNvPicPr/>
          <p:nvPr/>
        </p:nvPicPr>
        <p:blipFill>
          <a:blip r:embed="rId4"/>
          <a:stretch/>
        </p:blipFill>
        <p:spPr>
          <a:xfrm>
            <a:off x="461880" y="189000"/>
            <a:ext cx="4005360" cy="1095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8" descr="IW-Gebäude02-254x63"/>
          <p:cNvPicPr/>
          <p:nvPr/>
        </p:nvPicPr>
        <p:blipFill>
          <a:blip r:embed="rId2"/>
          <a:stretch/>
        </p:blipFill>
        <p:spPr>
          <a:xfrm>
            <a:off x="0" y="0"/>
            <a:ext cx="9144000" cy="2255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0" descr="IW Koeln-Logo_Claim"/>
          <p:cNvPicPr/>
          <p:nvPr/>
        </p:nvPicPr>
        <p:blipFill>
          <a:blip r:embed="rId3"/>
          <a:stretch/>
        </p:blipFill>
        <p:spPr>
          <a:xfrm>
            <a:off x="485640" y="5713560"/>
            <a:ext cx="1860840" cy="27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8" descr="IW Koeln-Logo_60 Jahre-02"/>
          <p:cNvPicPr/>
          <p:nvPr/>
        </p:nvPicPr>
        <p:blipFill>
          <a:blip r:embed="rId4"/>
          <a:stretch/>
        </p:blipFill>
        <p:spPr>
          <a:xfrm>
            <a:off x="461880" y="189000"/>
            <a:ext cx="4005360" cy="10951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1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2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8464-0481-43A9-B359-A1CD9D0F9AF4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mmobilienoekonomik.de/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71071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The impact of the new German rent controls – a case analysis for Berlin and Cologne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66200" y="3946680"/>
            <a:ext cx="710748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Prof. Dr. Michael Voigtländer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Research Unit Financial Markets and Real Estate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London, 19 March 2015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66560" y="828720"/>
            <a:ext cx="82807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Rent indices in Cologne and Berlin</a:t>
            </a:r>
            <a:br>
              <a:rPr sz="3000"/>
            </a:br>
            <a:r>
              <a:rPr b="1" lang="en-US" sz="2400" spc="-1" strike="noStrike">
                <a:solidFill>
                  <a:srgbClr val="006ab3"/>
                </a:solidFill>
                <a:latin typeface="Arial"/>
              </a:rPr>
              <a:t>Bounds of comparability</a:t>
            </a:r>
            <a:endParaRPr b="1" lang="en-US" sz="24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466560" y="1773360"/>
            <a:ext cx="40341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Many characteristics are measurable and comparable…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Apartment size</a:t>
            </a:r>
            <a:endParaRPr b="0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Year of construction</a:t>
            </a:r>
            <a:endParaRPr b="0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Modernization</a:t>
            </a:r>
            <a:endParaRPr b="0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46464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646464"/>
                </a:solidFill>
                <a:latin typeface="Arial"/>
              </a:rPr>
              <a:t>but what is a</a:t>
            </a:r>
            <a:endParaRPr b="1" lang="en-US" sz="2400" spc="-1" strike="noStrike">
              <a:solidFill>
                <a:srgbClr val="646464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b3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006ab3"/>
                </a:solidFill>
                <a:latin typeface="Arial"/>
              </a:rPr>
              <a:t>good“ location</a:t>
            </a:r>
            <a:r>
              <a:rPr b="1" lang="en-US" sz="3200" spc="-1" strike="noStrike">
                <a:solidFill>
                  <a:srgbClr val="646464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646464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4572000" y="6119280"/>
            <a:ext cx="417672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Fotolia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30" name="Fußzeilenplatzhalter 4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3A6F-EFD2-44C1-ACF0-F37DA9606C2D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Grafik 6" descr=""/>
          <p:cNvPicPr/>
          <p:nvPr/>
        </p:nvPicPr>
        <p:blipFill>
          <a:blip r:embed="rId1"/>
          <a:srcRect l="0" t="0" r="65664" b="0"/>
          <a:stretch/>
        </p:blipFill>
        <p:spPr>
          <a:xfrm>
            <a:off x="4716360" y="1844640"/>
            <a:ext cx="1943280" cy="2178000"/>
          </a:xfrm>
          <a:prstGeom prst="rect">
            <a:avLst/>
          </a:prstGeom>
          <a:ln w="0">
            <a:noFill/>
          </a:ln>
        </p:spPr>
      </p:pic>
      <p:pic>
        <p:nvPicPr>
          <p:cNvPr id="1033" name="Grafik 9" descr=""/>
          <p:cNvPicPr/>
          <p:nvPr/>
        </p:nvPicPr>
        <p:blipFill>
          <a:blip r:embed="rId2"/>
          <a:srcRect l="33570" t="0" r="33570" b="0"/>
          <a:stretch/>
        </p:blipFill>
        <p:spPr>
          <a:xfrm>
            <a:off x="5729400" y="4022640"/>
            <a:ext cx="1860480" cy="2178000"/>
          </a:xfrm>
          <a:prstGeom prst="rect">
            <a:avLst/>
          </a:prstGeom>
          <a:ln w="0">
            <a:noFill/>
          </a:ln>
        </p:spPr>
      </p:pic>
      <p:pic>
        <p:nvPicPr>
          <p:cNvPr id="1034" name="Grafik 10" descr=""/>
          <p:cNvPicPr/>
          <p:nvPr/>
        </p:nvPicPr>
        <p:blipFill>
          <a:blip r:embed="rId3"/>
          <a:srcRect l="65725" t="0" r="0" b="0"/>
          <a:stretch/>
        </p:blipFill>
        <p:spPr>
          <a:xfrm>
            <a:off x="6734160" y="1844640"/>
            <a:ext cx="1941480" cy="21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66560" y="828720"/>
            <a:ext cx="828072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Overview: Advertisements in Berlin (2014)</a:t>
            </a:r>
            <a:br>
              <a:rPr sz="3000"/>
            </a:br>
            <a:r>
              <a:rPr b="0" lang="en-US" sz="2000" spc="-1" strike="noStrike">
                <a:solidFill>
                  <a:srgbClr val="006ab3"/>
                </a:solidFill>
                <a:latin typeface="Arial"/>
              </a:rPr>
              <a:t>Number of Ads: 65.000</a:t>
            </a:r>
            <a:endParaRPr b="1" lang="en-US" sz="2000" spc="-1" strike="noStrike">
              <a:solidFill>
                <a:srgbClr val="006ab3"/>
              </a:solidFill>
              <a:latin typeface="Arial"/>
            </a:endParaRPr>
          </a:p>
        </p:txBody>
      </p:sp>
      <p:pic>
        <p:nvPicPr>
          <p:cNvPr id="1036" name="Inhaltsplatzhalter 4" descr=""/>
          <p:cNvPicPr/>
          <p:nvPr/>
        </p:nvPicPr>
        <p:blipFill>
          <a:blip r:embed="rId1"/>
          <a:srcRect l="0" t="29439" r="0" b="16760"/>
          <a:stretch/>
        </p:blipFill>
        <p:spPr>
          <a:xfrm>
            <a:off x="1403280" y="1593720"/>
            <a:ext cx="6048360" cy="460080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ImmobilienScout24, Cologne Institute for Economic Research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38" name="Fußzeilenplatzhalter 2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A82A-4FF3-4AA5-A95F-E306A24C50CF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Hot Spot Analysis for Berlin (2014)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68000" y="6165720"/>
            <a:ext cx="82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ImmobilienScout24, Cologne Institute for Economic Research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pic>
        <p:nvPicPr>
          <p:cNvPr id="1042" name="Inhaltsplatzhalter 9" descr=""/>
          <p:cNvPicPr/>
          <p:nvPr/>
        </p:nvPicPr>
        <p:blipFill>
          <a:blip r:embed="rId1"/>
          <a:srcRect l="0" t="10472" r="0" b="39031"/>
          <a:stretch/>
        </p:blipFill>
        <p:spPr>
          <a:xfrm>
            <a:off x="900000" y="1282680"/>
            <a:ext cx="6840720" cy="4883040"/>
          </a:xfrm>
          <a:prstGeom prst="rect">
            <a:avLst/>
          </a:prstGeom>
          <a:ln w="0">
            <a:noFill/>
          </a:ln>
        </p:spPr>
      </p:pic>
      <p:grpSp>
        <p:nvGrpSpPr>
          <p:cNvPr id="1043" name="Gruppieren 10"/>
          <p:cNvGrpSpPr/>
          <p:nvPr/>
        </p:nvGrpSpPr>
        <p:grpSpPr>
          <a:xfrm>
            <a:off x="6372360" y="2924280"/>
            <a:ext cx="1584360" cy="792000"/>
            <a:chOff x="6372360" y="2924280"/>
            <a:chExt cx="1584360" cy="792000"/>
          </a:xfrm>
        </p:grpSpPr>
        <p:sp>
          <p:nvSpPr>
            <p:cNvPr id="1044" name="Ellipse 11"/>
            <p:cNvSpPr/>
            <p:nvPr/>
          </p:nvSpPr>
          <p:spPr>
            <a:xfrm>
              <a:off x="6588360" y="3140280"/>
              <a:ext cx="45720" cy="45720"/>
            </a:xfrm>
            <a:prstGeom prst="ellipse">
              <a:avLst/>
            </a:prstGeom>
            <a:solidFill>
              <a:srgbClr val="006ab3"/>
            </a:solidFill>
            <a:ln w="19080">
              <a:solidFill>
                <a:srgbClr val="004c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Ellipse 12"/>
            <p:cNvSpPr/>
            <p:nvPr/>
          </p:nvSpPr>
          <p:spPr>
            <a:xfrm>
              <a:off x="6588360" y="3454560"/>
              <a:ext cx="45720" cy="457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feld 13"/>
            <p:cNvSpPr/>
            <p:nvPr/>
          </p:nvSpPr>
          <p:spPr>
            <a:xfrm>
              <a:off x="6734880" y="3024360"/>
              <a:ext cx="8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ld Sp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feld 14"/>
            <p:cNvSpPr/>
            <p:nvPr/>
          </p:nvSpPr>
          <p:spPr>
            <a:xfrm>
              <a:off x="6741360" y="333900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Hot Sp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hteck 15"/>
            <p:cNvSpPr/>
            <p:nvPr/>
          </p:nvSpPr>
          <p:spPr>
            <a:xfrm>
              <a:off x="6372360" y="2924280"/>
              <a:ext cx="1584360" cy="79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Fußzeilenplatzhalter 2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oliennummernplatzhalter 4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9B74-1810-4A41-85C8-0B2452268945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Inhaltsplatzhalter 4" descr=""/>
          <p:cNvPicPr/>
          <p:nvPr/>
        </p:nvPicPr>
        <p:blipFill>
          <a:blip r:embed="rId1"/>
          <a:srcRect l="0" t="31769" r="0" b="23357"/>
          <a:stretch/>
        </p:blipFill>
        <p:spPr>
          <a:xfrm>
            <a:off x="324000" y="1316160"/>
            <a:ext cx="7573680" cy="480528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Hot Spot Analysis for Köln (2014)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ImmobilienScout24, Cologne Institute for Economic Research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grpSp>
        <p:nvGrpSpPr>
          <p:cNvPr id="1054" name="Gruppieren 12"/>
          <p:cNvGrpSpPr/>
          <p:nvPr/>
        </p:nvGrpSpPr>
        <p:grpSpPr>
          <a:xfrm>
            <a:off x="5508720" y="2924280"/>
            <a:ext cx="1584360" cy="792000"/>
            <a:chOff x="5508720" y="2924280"/>
            <a:chExt cx="1584360" cy="792000"/>
          </a:xfrm>
        </p:grpSpPr>
        <p:sp>
          <p:nvSpPr>
            <p:cNvPr id="1055" name="Ellipse 6"/>
            <p:cNvSpPr/>
            <p:nvPr/>
          </p:nvSpPr>
          <p:spPr>
            <a:xfrm>
              <a:off x="5724720" y="3140280"/>
              <a:ext cx="45720" cy="45720"/>
            </a:xfrm>
            <a:prstGeom prst="ellipse">
              <a:avLst/>
            </a:prstGeom>
            <a:solidFill>
              <a:srgbClr val="006ab3"/>
            </a:solidFill>
            <a:ln w="19080">
              <a:solidFill>
                <a:srgbClr val="004c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Ellipse 7"/>
            <p:cNvSpPr/>
            <p:nvPr/>
          </p:nvSpPr>
          <p:spPr>
            <a:xfrm>
              <a:off x="5724720" y="3454560"/>
              <a:ext cx="45720" cy="457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feld 8"/>
            <p:cNvSpPr/>
            <p:nvPr/>
          </p:nvSpPr>
          <p:spPr>
            <a:xfrm>
              <a:off x="5871240" y="3024360"/>
              <a:ext cx="8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ld Sp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feld 9"/>
            <p:cNvSpPr/>
            <p:nvPr/>
          </p:nvSpPr>
          <p:spPr>
            <a:xfrm>
              <a:off x="5877720" y="333900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Hot Sp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hteck 10"/>
            <p:cNvSpPr/>
            <p:nvPr/>
          </p:nvSpPr>
          <p:spPr>
            <a:xfrm>
              <a:off x="5508720" y="2924280"/>
              <a:ext cx="1584360" cy="79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Fußzeilenplatzhalter 2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34FC-9DBD-4413-8BE5-8F2811AE1789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10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63" name="Fußzeilenplatzhalter 1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oliennummernplatzhalter 2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86A6-BA98-4144-A9D1-6EB14CE719C2}" type="slidenum">
              <a:rPr b="1" lang="en-US" sz="10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Group 3"/>
          <p:cNvGrpSpPr/>
          <p:nvPr/>
        </p:nvGrpSpPr>
        <p:grpSpPr>
          <a:xfrm>
            <a:off x="395280" y="1822320"/>
            <a:ext cx="8280000" cy="4343400"/>
            <a:chOff x="395280" y="1822320"/>
            <a:chExt cx="8280000" cy="4343400"/>
          </a:xfrm>
        </p:grpSpPr>
        <p:sp>
          <p:nvSpPr>
            <p:cNvPr id="1066" name="Rectangle 4"/>
            <p:cNvSpPr/>
            <p:nvPr/>
          </p:nvSpPr>
          <p:spPr>
            <a:xfrm>
              <a:off x="395280" y="18223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5"/>
            <p:cNvSpPr/>
            <p:nvPr/>
          </p:nvSpPr>
          <p:spPr>
            <a:xfrm>
              <a:off x="395280" y="36511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ntal Indices in Ger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6"/>
            <p:cNvSpPr/>
            <p:nvPr/>
          </p:nvSpPr>
          <p:spPr>
            <a:xfrm>
              <a:off x="395280" y="27367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New Rent Control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7"/>
            <p:cNvSpPr/>
            <p:nvPr/>
          </p:nvSpPr>
          <p:spPr>
            <a:xfrm>
              <a:off x="395280" y="45655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006ab3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ffect on Rents in Berlin and Colog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8"/>
            <p:cNvSpPr/>
            <p:nvPr/>
          </p:nvSpPr>
          <p:spPr>
            <a:xfrm>
              <a:off x="395280" y="54799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Share of rental bids above the threshold level in Berlin and Cologne</a:t>
            </a:r>
            <a:br>
              <a:rPr sz="3000"/>
            </a:br>
            <a:r>
              <a:rPr b="1" lang="en-US" sz="2000" spc="-1" strike="noStrike">
                <a:solidFill>
                  <a:srgbClr val="006ab3"/>
                </a:solidFill>
                <a:latin typeface="Arial"/>
              </a:rPr>
              <a:t>in percent, based on the relevant market (without modernization and newly constructed buildings )</a:t>
            </a:r>
            <a:endParaRPr b="1" lang="en-US" sz="2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72" name="Foliennummernplatzhalter 4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90BD-E244-4BAD-842B-2D1AC55F5065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n: ImmobilienScout24, Institut der deutschen Wirtschaft Köln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74" name="Fußzeilenplatzhalter 3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611280" y="2349360"/>
          <a:ext cx="8424720" cy="3743640"/>
        </p:xfrm>
        <a:graphic>
          <a:graphicData uri="http://schemas.openxmlformats.org/drawingml/2006/table">
            <a:tbl>
              <a:tblPr/>
              <a:tblGrid>
                <a:gridCol w="1008000"/>
                <a:gridCol w="2016000"/>
                <a:gridCol w="1584360"/>
                <a:gridCol w="1944720"/>
                <a:gridCol w="1871640"/>
              </a:tblGrid>
              <a:tr h="4003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rtment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ood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verage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dinary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</a:tr>
              <a:tr h="3650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4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40 m² till 6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60 m² till 9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ve 9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</a:tr>
              <a:tr h="3654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g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 4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 6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 8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 10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 12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Share of affected advertisements by the rent control (Berlin)</a:t>
            </a:r>
            <a:br>
              <a:rPr sz="3000"/>
            </a:br>
            <a:r>
              <a:rPr b="0" lang="en-US" sz="2000" spc="-1" strike="noStrike">
                <a:solidFill>
                  <a:srgbClr val="006ab3"/>
                </a:solidFill>
                <a:latin typeface="Arial"/>
              </a:rPr>
              <a:t>in percent</a:t>
            </a:r>
            <a:endParaRPr b="1" lang="en-US" sz="2000" spc="-1" strike="noStrike">
              <a:solidFill>
                <a:srgbClr val="006ab3"/>
              </a:solidFill>
              <a:latin typeface="Arial"/>
            </a:endParaRPr>
          </a:p>
        </p:txBody>
      </p:sp>
      <p:pic>
        <p:nvPicPr>
          <p:cNvPr id="1077" name="Inhaltsplatzhalter 6" descr=""/>
          <p:cNvPicPr/>
          <p:nvPr/>
        </p:nvPicPr>
        <p:blipFill>
          <a:blip r:embed="rId1"/>
          <a:srcRect l="14101" t="20987" r="4514" b="20878"/>
          <a:stretch/>
        </p:blipFill>
        <p:spPr>
          <a:xfrm>
            <a:off x="468360" y="2050920"/>
            <a:ext cx="8421480" cy="4257720"/>
          </a:xfrm>
          <a:prstGeom prst="rect">
            <a:avLst/>
          </a:prstGeom>
          <a:ln w="0">
            <a:noFill/>
          </a:ln>
        </p:spPr>
      </p:pic>
      <p:sp>
        <p:nvSpPr>
          <p:cNvPr id="1078" name="Fußzeilenplatzhalter 3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oliennummernplatzhalter 4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1279-89A2-4CC2-B558-79F30CD899FC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ImmobilienScout24, Cologne Institute for Economic Research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16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Overall share of advertisements above the rent control in Berlin </a:t>
            </a:r>
            <a:br>
              <a:rPr sz="3000"/>
            </a:br>
            <a:r>
              <a:rPr b="1" lang="en-US" sz="2000" spc="-1" strike="noStrike">
                <a:solidFill>
                  <a:srgbClr val="006ab3"/>
                </a:solidFill>
                <a:latin typeface="Arial"/>
              </a:rPr>
              <a:t>in percent</a:t>
            </a:r>
            <a:br>
              <a:rPr sz="2000"/>
            </a:br>
            <a:endParaRPr b="1" lang="en-US" sz="2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82" name="Fußzeilenplatzhalter 3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oliennummernplatzhalter 4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591C-8C12-471C-BB0F-3392DEB44FD4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ImmobilienScout24, Cologne Institute for Economic Research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684360" y="2205000"/>
          <a:ext cx="7991280" cy="3311640"/>
        </p:xfrm>
        <a:graphic>
          <a:graphicData uri="http://schemas.openxmlformats.org/drawingml/2006/table">
            <a:tbl>
              <a:tblPr/>
              <a:tblGrid>
                <a:gridCol w="1457280"/>
                <a:gridCol w="2727360"/>
                <a:gridCol w="1268280"/>
                <a:gridCol w="1270080"/>
                <a:gridCol w="1268280"/>
              </a:tblGrid>
              <a:tr h="801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ood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verage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dinary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</a:tr>
              <a:tr h="6271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ll rental lis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elevant rental lis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</a:tr>
              <a:tr h="6285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g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ll rental lis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elevant rental lis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10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87" name="Fußzeilenplatzhalter 1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oliennummernplatzhalter 2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82A1-3153-4BE6-BE21-0B8F637E4F68}" type="slidenum">
              <a:rPr b="1" lang="en-US" sz="10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3"/>
          <p:cNvGrpSpPr/>
          <p:nvPr/>
        </p:nvGrpSpPr>
        <p:grpSpPr>
          <a:xfrm>
            <a:off x="395280" y="1822320"/>
            <a:ext cx="8280000" cy="4343400"/>
            <a:chOff x="395280" y="1822320"/>
            <a:chExt cx="8280000" cy="4343400"/>
          </a:xfrm>
        </p:grpSpPr>
        <p:sp>
          <p:nvSpPr>
            <p:cNvPr id="1090" name="Rectangle 4"/>
            <p:cNvSpPr/>
            <p:nvPr/>
          </p:nvSpPr>
          <p:spPr>
            <a:xfrm>
              <a:off x="395280" y="18223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5"/>
            <p:cNvSpPr/>
            <p:nvPr/>
          </p:nvSpPr>
          <p:spPr>
            <a:xfrm>
              <a:off x="395280" y="36511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ntal Indices in Ger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6"/>
            <p:cNvSpPr/>
            <p:nvPr/>
          </p:nvSpPr>
          <p:spPr>
            <a:xfrm>
              <a:off x="395280" y="27367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New Rent Control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7"/>
            <p:cNvSpPr/>
            <p:nvPr/>
          </p:nvSpPr>
          <p:spPr>
            <a:xfrm>
              <a:off x="395280" y="45655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ffect on Rents in Berlin and Colog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8"/>
            <p:cNvSpPr/>
            <p:nvPr/>
          </p:nvSpPr>
          <p:spPr>
            <a:xfrm>
              <a:off x="395280" y="54799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006ab3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The rent control is a rent freeze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466560" y="1699920"/>
            <a:ext cx="4034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Especially small and old apartments located in good areas are affected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Experiences in other countries show severe problems of rental freezes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ransformation in owner-occupied flats is likely to happen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pic>
        <p:nvPicPr>
          <p:cNvPr id="1097" name="Bildplatzhalter 7" descr=""/>
          <p:cNvPicPr/>
          <p:nvPr/>
        </p:nvPicPr>
        <p:blipFill>
          <a:blip r:embed="rId1"/>
          <a:srcRect l="7492" t="-308" r="27739" b="316"/>
          <a:stretch/>
        </p:blipFill>
        <p:spPr>
          <a:xfrm>
            <a:off x="4641840" y="1773360"/>
            <a:ext cx="4105440" cy="431964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 txBox="1"/>
          <p:nvPr/>
        </p:nvSpPr>
        <p:spPr>
          <a:xfrm>
            <a:off x="4643280" y="6092640"/>
            <a:ext cx="41054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Fotolia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99" name="Fußzeilenplatzhalter 5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oliennummernplatzhalter 6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0AFA-191E-4D17-BB4A-95F2B90C979C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24000" y="828360"/>
            <a:ext cx="84232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ab3"/>
                </a:solidFill>
                <a:latin typeface="Arial"/>
              </a:rPr>
              <a:t>Research Unit Financial &amp; Real Estate Markets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71" name="Rectangle 3"/>
          <p:cNvSpPr/>
          <p:nvPr/>
        </p:nvSpPr>
        <p:spPr>
          <a:xfrm>
            <a:off x="324000" y="1628640"/>
            <a:ext cx="409392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6ab3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6ab3"/>
                </a:solidFill>
                <a:latin typeface="Arial"/>
              </a:rPr>
              <a:t>Prof. Dr. Michael Voigtländer</a:t>
            </a:r>
            <a:br>
              <a:rPr sz="1800"/>
            </a:br>
            <a:r>
              <a:rPr b="1" lang="de-DE" sz="1400" spc="-1" strike="noStrike">
                <a:solidFill>
                  <a:srgbClr val="646464"/>
                </a:solidFill>
                <a:latin typeface="Arial"/>
              </a:rPr>
              <a:t>Head of Research Unit Financial and Real Estate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646464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46464"/>
                </a:solidFill>
                <a:latin typeface="Arial"/>
              </a:rPr>
              <a:t>++49 221 4981-7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646464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646464"/>
                </a:solidFill>
                <a:latin typeface="Arial"/>
              </a:rPr>
              <a:t>voigtlaender@iwkoeln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646464"/>
              </a:buClr>
              <a:buFont typeface="Webding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de-DE" sz="1400" spc="-1" strike="noStrike" u="sng">
                <a:solidFill>
                  <a:srgbClr val="002060"/>
                </a:solidFill>
                <a:uFillTx/>
                <a:latin typeface="Arial"/>
                <a:hlinkClick r:id="rId1"/>
              </a:rPr>
              <a:t>www.immobilienoekonomik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646464"/>
              </a:buClr>
              <a:buFont typeface="Web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46464"/>
                </a:solidFill>
                <a:latin typeface="Arial"/>
              </a:rPr>
              <a:t>Twitter.com/mvoigtla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646464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858920" y="1665000"/>
            <a:ext cx="374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6ab3"/>
                </a:solidFill>
                <a:latin typeface="Arial"/>
              </a:rPr>
              <a:t>Research Focus</a:t>
            </a:r>
            <a:endParaRPr b="1" lang="en-US" sz="1800" spc="-1" strike="noStrike">
              <a:solidFill>
                <a:srgbClr val="646464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64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46464"/>
                </a:solidFill>
                <a:latin typeface="Arial"/>
              </a:rPr>
              <a:t>Housing Policy and Real Estate Economics</a:t>
            </a:r>
            <a:endParaRPr b="1" lang="en-US" sz="1800" spc="-1" strike="noStrike">
              <a:solidFill>
                <a:srgbClr val="646464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64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46464"/>
                </a:solidFill>
                <a:latin typeface="Arial"/>
              </a:rPr>
              <a:t>Real Estate and Corporate Finance</a:t>
            </a:r>
            <a:endParaRPr b="1" lang="en-US" sz="1800" spc="-1" strike="noStrike">
              <a:solidFill>
                <a:srgbClr val="646464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64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46464"/>
                </a:solidFill>
                <a:latin typeface="Arial"/>
              </a:rPr>
              <a:t>Monetary Policy and Financial Markets</a:t>
            </a:r>
            <a:endParaRPr b="1" lang="en-US" sz="1800" spc="-1" strike="noStrike">
              <a:solidFill>
                <a:srgbClr val="646464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46464"/>
              </a:solidFill>
              <a:latin typeface="Arial"/>
            </a:endParaRPr>
          </a:p>
        </p:txBody>
      </p:sp>
      <p:pic>
        <p:nvPicPr>
          <p:cNvPr id="973" name="Grafik 2" descr=""/>
          <p:cNvPicPr/>
          <p:nvPr/>
        </p:nvPicPr>
        <p:blipFill>
          <a:blip r:embed="rId2"/>
          <a:stretch/>
        </p:blipFill>
        <p:spPr>
          <a:xfrm>
            <a:off x="4716360" y="4456080"/>
            <a:ext cx="3059280" cy="2040120"/>
          </a:xfrm>
          <a:prstGeom prst="rect">
            <a:avLst/>
          </a:prstGeom>
          <a:ln w="0">
            <a:noFill/>
          </a:ln>
        </p:spPr>
      </p:pic>
      <p:pic>
        <p:nvPicPr>
          <p:cNvPr id="974" name="Grafik 4" descr=""/>
          <p:cNvPicPr/>
          <p:nvPr/>
        </p:nvPicPr>
        <p:blipFill>
          <a:blip r:embed="rId3"/>
          <a:stretch/>
        </p:blipFill>
        <p:spPr>
          <a:xfrm>
            <a:off x="1187280" y="4456080"/>
            <a:ext cx="3024360" cy="2016000"/>
          </a:xfrm>
          <a:prstGeom prst="rect">
            <a:avLst/>
          </a:prstGeom>
          <a:ln w="0">
            <a:noFill/>
          </a:ln>
        </p:spPr>
      </p:pic>
      <p:sp>
        <p:nvSpPr>
          <p:cNvPr id="975" name="Fußzeilenplatzhalter 1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6B02-AD13-46F6-BE3B-6B7D420B7F6F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10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78" name="Fußzeilenplatzhalter 1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Foliennummernplatzhalter 2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DD30-CD8B-4A13-8355-F13D38415399}" type="slidenum">
              <a:rPr b="1" lang="en-US" sz="10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3"/>
          <p:cNvGrpSpPr/>
          <p:nvPr/>
        </p:nvGrpSpPr>
        <p:grpSpPr>
          <a:xfrm>
            <a:off x="395280" y="1822320"/>
            <a:ext cx="8280000" cy="4343400"/>
            <a:chOff x="395280" y="1822320"/>
            <a:chExt cx="8280000" cy="4343400"/>
          </a:xfrm>
        </p:grpSpPr>
        <p:sp>
          <p:nvSpPr>
            <p:cNvPr id="981" name="Rectangle 4"/>
            <p:cNvSpPr/>
            <p:nvPr/>
          </p:nvSpPr>
          <p:spPr>
            <a:xfrm>
              <a:off x="395280" y="18223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006ab3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5"/>
            <p:cNvSpPr/>
            <p:nvPr/>
          </p:nvSpPr>
          <p:spPr>
            <a:xfrm>
              <a:off x="395280" y="36511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ntal indices in Ger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6"/>
            <p:cNvSpPr/>
            <p:nvPr/>
          </p:nvSpPr>
          <p:spPr>
            <a:xfrm>
              <a:off x="395280" y="27367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New Rent Contr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7"/>
            <p:cNvSpPr/>
            <p:nvPr/>
          </p:nvSpPr>
          <p:spPr>
            <a:xfrm>
              <a:off x="395280" y="45655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ffect on rents in Berlin and Colog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8"/>
            <p:cNvSpPr/>
            <p:nvPr/>
          </p:nvSpPr>
          <p:spPr>
            <a:xfrm>
              <a:off x="395280" y="54799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8072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Major Cities in the growth mode</a:t>
            </a:r>
            <a:br>
              <a:rPr sz="3000"/>
            </a:br>
            <a:r>
              <a:rPr b="1" lang="en-US" sz="2000" spc="-1" strike="noStrike">
                <a:solidFill>
                  <a:srgbClr val="006ab3"/>
                </a:solidFill>
                <a:latin typeface="Arial"/>
              </a:rPr>
              <a:t>Change in the demand for living space between 2012 and 2030</a:t>
            </a:r>
            <a:endParaRPr b="1" lang="en-US" sz="2000" spc="-1" strike="noStrike">
              <a:solidFill>
                <a:srgbClr val="006ab3"/>
              </a:solidFill>
              <a:latin typeface="Arial"/>
            </a:endParaRPr>
          </a:p>
        </p:txBody>
      </p:sp>
      <p:graphicFrame>
        <p:nvGraphicFramePr>
          <p:cNvPr id="987" name="Object 76"/>
          <p:cNvGraphicFramePr/>
          <p:nvPr/>
        </p:nvGraphicFramePr>
        <p:xfrm>
          <a:off x="787320" y="1773360"/>
          <a:ext cx="773928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8" name="Object 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3360"/>
                    <a:ext cx="773928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Foliennummernplatzhalter 4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4EB1-01EE-4350-A925-588E7BE76D01}" type="slidenum">
              <a:rPr b="1" lang="en-US" sz="1000" spc="-1" strike="noStrike">
                <a:solidFill>
                  <a:srgbClr val="006a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W Köln, Bertelsmann Stiftung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91" name="Fußzeilenplatzhalter 1"/>
          <p:cNvSpPr/>
          <p:nvPr/>
        </p:nvSpPr>
        <p:spPr>
          <a:xfrm>
            <a:off x="395280" y="6453360"/>
            <a:ext cx="77770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80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A Shortage of Construction in Major Cities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pic>
        <p:nvPicPr>
          <p:cNvPr id="993" name="Inhaltsplatzhalter 6" descr=""/>
          <p:cNvPicPr/>
          <p:nvPr/>
        </p:nvPicPr>
        <p:blipFill>
          <a:blip r:embed="rId1"/>
          <a:stretch/>
        </p:blipFill>
        <p:spPr>
          <a:xfrm>
            <a:off x="415800" y="1649520"/>
            <a:ext cx="8382240" cy="442116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W Köln, Statistisches Bundesamt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95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D6B1-F173-4F83-BA96-8B5F8087CC80}" type="slidenum">
              <a:rPr b="1" lang="en-US" sz="1000" spc="-1" strike="noStrike">
                <a:solidFill>
                  <a:srgbClr val="006a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ußzeilenplatzhalter 1"/>
          <p:cNvSpPr/>
          <p:nvPr/>
        </p:nvSpPr>
        <p:spPr>
          <a:xfrm>
            <a:off x="324000" y="6472080"/>
            <a:ext cx="7777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10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98" name="Fußzeilenplatzhalter 1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oliennummernplatzhalter 2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15E4-6A70-4EE8-91F4-833A589A2066}" type="slidenum">
              <a:rPr b="1" lang="en-US" sz="1000" spc="-1" strike="noStrike">
                <a:solidFill>
                  <a:srgbClr val="646464"/>
                </a:solidFill>
                <a:latin typeface="Arial Narrow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Group 3"/>
          <p:cNvGrpSpPr/>
          <p:nvPr/>
        </p:nvGrpSpPr>
        <p:grpSpPr>
          <a:xfrm>
            <a:off x="395280" y="1822320"/>
            <a:ext cx="8280000" cy="4343400"/>
            <a:chOff x="395280" y="1822320"/>
            <a:chExt cx="8280000" cy="4343400"/>
          </a:xfrm>
        </p:grpSpPr>
        <p:sp>
          <p:nvSpPr>
            <p:cNvPr id="1001" name="Rectangle 4"/>
            <p:cNvSpPr/>
            <p:nvPr/>
          </p:nvSpPr>
          <p:spPr>
            <a:xfrm>
              <a:off x="395280" y="18223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5"/>
            <p:cNvSpPr/>
            <p:nvPr/>
          </p:nvSpPr>
          <p:spPr>
            <a:xfrm>
              <a:off x="395280" y="36511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ntal Indices in Ger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6"/>
            <p:cNvSpPr/>
            <p:nvPr/>
          </p:nvSpPr>
          <p:spPr>
            <a:xfrm>
              <a:off x="395280" y="27367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006ab3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New Rent Control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7"/>
            <p:cNvSpPr/>
            <p:nvPr/>
          </p:nvSpPr>
          <p:spPr>
            <a:xfrm>
              <a:off x="395280" y="45655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ffect on Rents in Berlin and Colog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8"/>
            <p:cNvSpPr/>
            <p:nvPr/>
          </p:nvSpPr>
          <p:spPr>
            <a:xfrm>
              <a:off x="395280" y="54799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Introduction of a rent control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466560" y="1699920"/>
            <a:ext cx="4034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New rent contracts max. 10 percent above the local  reference ren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Applied in „tensed housing markets“, initially for 5 years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Exceptions: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120000"/>
              </a:lnSpc>
              <a:spcBef>
                <a:spcPts val="1349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Newly Constructed Buildings</a:t>
            </a:r>
            <a:endParaRPr b="0" lang="en-US" sz="18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120000"/>
              </a:lnSpc>
              <a:spcBef>
                <a:spcPts val="1349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Extensive Modernizations</a:t>
            </a:r>
            <a:endParaRPr b="0" lang="en-US" sz="18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643280" y="6092640"/>
            <a:ext cx="41054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Fotolia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09" name="Fußzeilenplatzhalter 4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9379-B006-4C67-ACC3-C9C1335A85C7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Bildplatzhalter 7" descr=""/>
          <p:cNvPicPr/>
          <p:nvPr/>
        </p:nvPicPr>
        <p:blipFill>
          <a:blip r:embed="rId1"/>
          <a:srcRect l="30103" t="0" r="2938" b="0"/>
          <a:stretch/>
        </p:blipFill>
        <p:spPr>
          <a:xfrm>
            <a:off x="4641840" y="1773360"/>
            <a:ext cx="4105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10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13" name="Fußzeilenplatzhalter 1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oliennummernplatzhalter 2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8B7C-89C8-4EDA-895F-43E792DFDF1E}" type="slidenum">
              <a:rPr b="1" lang="en-US" sz="10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3"/>
          <p:cNvGrpSpPr/>
          <p:nvPr/>
        </p:nvGrpSpPr>
        <p:grpSpPr>
          <a:xfrm>
            <a:off x="395280" y="1822320"/>
            <a:ext cx="8280000" cy="4343400"/>
            <a:chOff x="395280" y="1822320"/>
            <a:chExt cx="8280000" cy="4343400"/>
          </a:xfrm>
        </p:grpSpPr>
        <p:sp>
          <p:nvSpPr>
            <p:cNvPr id="1016" name="Rectangle 4"/>
            <p:cNvSpPr/>
            <p:nvPr/>
          </p:nvSpPr>
          <p:spPr>
            <a:xfrm>
              <a:off x="395280" y="18223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5"/>
            <p:cNvSpPr/>
            <p:nvPr/>
          </p:nvSpPr>
          <p:spPr>
            <a:xfrm>
              <a:off x="395280" y="36511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006ab3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ntal Indices in Ger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6"/>
            <p:cNvSpPr/>
            <p:nvPr/>
          </p:nvSpPr>
          <p:spPr>
            <a:xfrm>
              <a:off x="395280" y="27367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New Rent Control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7"/>
            <p:cNvSpPr/>
            <p:nvPr/>
          </p:nvSpPr>
          <p:spPr>
            <a:xfrm>
              <a:off x="395280" y="45655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ffect on Rents in Berlin and Colog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8"/>
            <p:cNvSpPr/>
            <p:nvPr/>
          </p:nvSpPr>
          <p:spPr>
            <a:xfrm>
              <a:off x="395280" y="54799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ab3"/>
                </a:solidFill>
                <a:latin typeface="Arial"/>
              </a:rPr>
              <a:t>Rental indices in Germany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66560" y="1699920"/>
            <a:ext cx="4034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46464"/>
                </a:solidFill>
                <a:latin typeface="Arial"/>
              </a:rPr>
              <a:t>Qualified Rental Indices</a:t>
            </a:r>
            <a:endParaRPr b="1" lang="en-US" sz="19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90000"/>
              </a:lnSpc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46464"/>
                </a:solidFill>
                <a:latin typeface="Arial"/>
              </a:rPr>
              <a:t>Data sources: interviews</a:t>
            </a:r>
            <a:endParaRPr b="0" lang="en-US" sz="19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90000"/>
              </a:lnSpc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46464"/>
                </a:solidFill>
                <a:latin typeface="Arial"/>
              </a:rPr>
              <a:t>Rental prices of new and existing stock of the last 4 years</a:t>
            </a:r>
            <a:endParaRPr b="0" lang="en-US" sz="19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90000"/>
              </a:lnSpc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46464"/>
                </a:solidFill>
                <a:latin typeface="Arial"/>
              </a:rPr>
              <a:t>Renewed index all 2 years</a:t>
            </a:r>
            <a:endParaRPr b="0" lang="en-US" sz="19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90000"/>
              </a:lnSpc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46464"/>
                </a:solidFill>
                <a:latin typeface="Arial"/>
              </a:rPr>
              <a:t>A range for prices according to location, quality and subjective criteria</a:t>
            </a:r>
            <a:endParaRPr b="0" lang="en-US" sz="19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46464"/>
                </a:solidFill>
                <a:latin typeface="Arial"/>
              </a:rPr>
              <a:t>Normal Rental Indices</a:t>
            </a:r>
            <a:endParaRPr b="0" lang="en-US" sz="19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90000"/>
              </a:lnSpc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46464"/>
                </a:solidFill>
                <a:latin typeface="Arial"/>
              </a:rPr>
              <a:t>Negotiated between landlords association, tenant association and the city</a:t>
            </a:r>
            <a:endParaRPr b="0" lang="en-US" sz="19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23" name="Fußzeilenplatzhalter 4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E248-BF75-4F12-AA3E-20E4E158A151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Bildplatzhalter 9" descr=""/>
          <p:cNvPicPr/>
          <p:nvPr/>
        </p:nvPicPr>
        <p:blipFill>
          <a:blip r:embed="rId1"/>
          <a:srcRect l="18285" t="0" r="18285" b="0"/>
          <a:stretch/>
        </p:blipFill>
        <p:spPr>
          <a:xfrm>
            <a:off x="4641840" y="1773360"/>
            <a:ext cx="4105440" cy="4319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08:39:35Z</dcterms:created>
  <dc:creator>Deschermeier, Dr. Philipp</dc:creator>
  <dc:description/>
  <dc:language>en-US</dc:language>
  <cp:lastModifiedBy>bob.jordan</cp:lastModifiedBy>
  <cp:lastPrinted>2014-11-07T08:06:50Z</cp:lastPrinted>
  <dcterms:modified xsi:type="dcterms:W3CDTF">2015-03-13T12:02:54Z</dcterms:modified>
  <cp:revision>94</cp:revision>
  <dc:subject/>
  <dc:title>PowerPoint-Präsentation</dc:title>
</cp:coreProperties>
</file>