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D59-7000-426D-BD6A-46B67085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A3A-EC4E-44EF-B217-BFCEBAD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C99-BB7E-4EF4-829E-8EFF7AAC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707-6123-4401-BEBB-11F104D9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D9F-9EB6-4A0B-8C5E-A1C2B787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1B2-BD2D-446D-9D55-7493B3C7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8D9-6849-48C1-B86C-DED12CA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1D1-1766-4830-9AAB-819D907D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B23-90F0-4947-A35E-B252B955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B56-5FC8-4FB0-9992-15A0EBEF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CB7-4002-4366-AD0F-C1BD6FDF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5C0-ADDA-4122-B19F-9F16B0BB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BA05-2AB6-42EE-9C35-03B5589AF6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outh London private rented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ector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742840"/>
            <a:ext cx="6400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208264"/>
                </a:solidFill>
                <a:latin typeface="Calibri"/>
              </a:rPr>
              <a:t>ENHR PRS Workshop, 19/20 March 201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208264"/>
                </a:solidFill>
                <a:latin typeface="Calibri"/>
              </a:rPr>
              <a:t>Danny Friedman, Cobweb Consulting, a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208264"/>
                </a:solidFill>
                <a:latin typeface="Calibri"/>
              </a:rPr>
              <a:t>Nigel Sprigings, University of Glasgow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08264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525320" cy="195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14400" y="4797360"/>
            <a:ext cx="390672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Lambeth council home"/>
          <p:cNvPicPr/>
          <p:nvPr/>
        </p:nvPicPr>
        <p:blipFill>
          <a:blip r:embed="rId3"/>
          <a:stretch/>
        </p:blipFill>
        <p:spPr>
          <a:xfrm>
            <a:off x="6651720" y="4797360"/>
            <a:ext cx="20365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208264"/>
                </a:solidFill>
                <a:latin typeface="Calibri"/>
              </a:rPr>
              <a:t>Condition, quality,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9704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Quality – 70% favourable (5% poo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dition – 68% favourable (5% poo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HSRS Cat 1 Hazar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0% damp / mou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% cold / lack of h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nagement – 70% favou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gents worse regarded than direct landl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4% had experienced ASB in immediate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B claimants experienced worse management, quality and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Most landlords / properties are decent – or low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expectations?  But HB claimants worst affec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208264"/>
                </a:solidFill>
                <a:latin typeface="Calibri"/>
              </a:rPr>
              <a:t>Houses in Multiple Occu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0820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bout 25% properties surveyed were H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2% regist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to 10 households per H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8% had all available rooms used as bedrooms (i.e. no l/r), compared to 15% of non H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% shared bedrooms with non hh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tter opinion of quality / condition than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Signs of pressure on space / inco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maximisation? Lower expectations?  Chang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markets for HMO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208264"/>
                </a:solidFill>
                <a:latin typeface="Calibri"/>
              </a:rPr>
              <a:t>Landlords’ viewpoints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7320" y="1063800"/>
            <a:ext cx="731520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80 landlords and agents interviewed or surveyed by we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tock – 1 to 80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ost in business since 1989;  some up to 30 yea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PRS Expanding in are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alibri"/>
              </a:rPr>
              <a:t>But ‘getting harder to make money in London’ unless sub-divid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ettings and 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ncrease in overall number of lettings;  but reduction in new lettings to HB / LHA claima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nly rooms not flats available at LHA levels– and HMO rooms to working households.  But there are still LHA lett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wo broad rent / lettings policies in forc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o or low rent increases for good, long term tenants for good tenancies; reliable tenants valued and retained (even if on HB); implications for LHA rate setting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igh turnover, high rent young professionals market – increase rent on change of tena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 business choice: high turnover young professionals v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teady state lower earners / LH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208264"/>
                </a:solidFill>
                <a:latin typeface="Calibri"/>
              </a:rPr>
              <a:t>Landlords’ viewpoints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97040" y="1063800"/>
            <a:ext cx="73152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orking with local author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me willingness, some barriers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us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fessionalism (e.g. speed of response,  customer care / servi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ssibility of agency and management service for smaller landl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n-regulatory approaches to improving conditions rather than heavy-handed expansion of administrative re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gative views of licensing – but acceptance that there were poor qualit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me preferred HB payments to tenants (issue about overpayments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ew that LHA lettings no more likely to b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sruptive than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clusion: minority willing to engage – worth see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6960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‘</a:t>
            </a: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It’s complicated’ – our conclus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838080"/>
            <a:ext cx="73152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ven within the lower end / LHA sub-sector there is a complex picture of need, supply, and dem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rise of the ‘working poor’ in the LHA / HB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high levels of partial HB – and perhaps sensitivity to further changes in regime (i.e. UC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New Rugg category – needs recognition in policy ter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prevalence of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And the impact of families ceasing to be able to access sub-sec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nditions perhaps aren’t as much as an issue as suspecte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ough worse in HB sub-sec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rise of the HMO and room lett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possibly to more young professionals – space standards falling fas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persistence of the LHA market,  but its liability to ero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Sensitive to different political and economic scenari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ifferential rent policies for different sorts of tenan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quick buck v steady stre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ntinuing opportunities for LAs to engage with the sub-sector to meet needs of  lower income househo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But need for trust and professional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1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What we’ll cover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133360"/>
            <a:ext cx="795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ief background and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in features of resident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dlord engagement and observations on the PRS in the market including space standards, landlord activity, and the LHA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Background to study – 5 Boroughs SE London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212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What is the capacity of the PRS to meet the housing requirements of households who would otherwise be accommodated in the social housing sect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lement the desk top work in the SHMA by providing evidence and analysis of nature of P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vidence base for potential licensing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boroughs to better target enforcement and procu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or to door household surve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ndlord eng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ondary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keholder inter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The resident surv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9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ot a random sampl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terviews filtered by lower quartile rents for non-HMO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MOs focu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-t-B foc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165 face-to-face i/vs achie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50 local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lected in consultation with officers, to reflect above cri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04684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630360" y="344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Wher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we interviewed resi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Demograph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03160" y="1491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40% + have one or more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8% are single ad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48% had 2 plus adults (with or without ch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51% under 3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ly 3% over 6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59% white; Black largest BAME group (13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low average ill / unhealt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ote substantial numbers of children – implications for rehousing if loss of tena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Employment, income and benefi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2640" y="14479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74% working (58% f/t,  16 % p/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44% have income below £20,800 pa (£400 p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73% earn under £31,200 pa (£600 p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7% earn over £31,2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43% on some form of benefits:  CB and HB most common (24% on HB, 25% on C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Most HB claim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ly covered part of r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An economically active but low income sector – by nature or by selection?  New Rugg category ‘working poor’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696080" y="5173560"/>
            <a:ext cx="960480" cy="122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8264"/>
                </a:solidFill>
                <a:latin typeface="Calibri"/>
              </a:rPr>
              <a:t>Affordability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82640" y="12189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696080" y="5173560"/>
            <a:ext cx="960480" cy="1227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334120" y="1676520"/>
            <a:ext cx="2701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higher the income, the lower the proportion spent on 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Up to an income of £1600 pm (£19,200 pa) households spend over half income on 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ver 100% - few, in arrears, NRP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7" descr=""/>
          <p:cNvPicPr/>
          <p:nvPr/>
        </p:nvPicPr>
        <p:blipFill>
          <a:blip r:embed="rId2"/>
          <a:stretch/>
        </p:blipFill>
        <p:spPr>
          <a:xfrm>
            <a:off x="558720" y="1320840"/>
            <a:ext cx="4140360" cy="490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7467480" y="4923000"/>
            <a:ext cx="1309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208264"/>
                </a:solidFill>
                <a:latin typeface="Calibri"/>
              </a:rPr>
              <a:t>Market entrance and secur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62120" y="12189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ntrance c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ts fees – 27% (£285 aver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posits – 69% (£974 aver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nt in advance – 44% (£971 aver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9% had lived in their home for under a ye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31% had lived in their home for 1-2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6% had lived in their homes 2-5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2% over 5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High entry prices but some degree of stability once i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461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21:36:52Z</dcterms:created>
  <dc:creator>Danny</dc:creator>
  <dc:description/>
  <dc:language>en-US</dc:language>
  <cp:lastModifiedBy>Nigel</cp:lastModifiedBy>
  <cp:lastPrinted>2014-02-20T18:52:37Z</cp:lastPrinted>
  <dcterms:modified xsi:type="dcterms:W3CDTF">2015-03-17T15:55:14Z</dcterms:modified>
  <cp:revision>119</cp:revision>
  <dc:subject/>
  <dc:title>Homelessness Transition Fund: evaluation</dc:title>
</cp:coreProperties>
</file>