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8129-BF31-4CF6-96B2-15B0915EC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9AD3-338B-4A2F-99A6-C45E08F24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8E27-ACE0-4D67-853E-4C9F0738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6144-74E4-48B4-BD40-44EEA4F1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0E47-CC32-42BB-8FF5-EC620B90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8005-5AA5-4AFA-B2C7-44FF7EBE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0235-517E-4675-909D-CC52DE6B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AE09-8E89-4E59-BC3A-60F03ACE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D5C9-0BCC-4AD6-8021-E5FC2019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180-555A-4099-B838-1457034B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B2CA-90C5-4DD2-8E61-69D9CF9D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5E3B-E168-4791-A736-1C7E4B17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58D8-93B8-4904-A19A-ED60B01B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D3F1-CD5E-44C4-84DA-DF4183E3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AF24-D8A5-4F7F-A58B-6F747C832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219320" y="22096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914400" y="2158920"/>
            <a:ext cx="683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LSE London Seminar in Honour of Alan Holm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Measuring Housing Demand and Need in Northern Ire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Peter Williams, University of Cam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0" y="5940360"/>
            <a:ext cx="9145440" cy="917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Northern Irela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ris Paris my key informant who is currently in Australia. Chris, Alan and Katrina were joint authors of this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GRAPHIC TRENDS AND FUTURE HOUSING NEED IN NORTHERN IRELAND; FINAL REPORT TO THE NORTHERN IRELAND HOUSING EXECUTIVE; January 2004 (Section 5 plus Appendices 5-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 in the Province can be challenging from a political point of view where results have implications for the specific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ris and Alan shared a love of wine, cricket and food. Alan was keen to see Derry and the border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ris used net stock model, Alan his trusted demographic approach – coming up with similar resul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report was the basis for action until the more recent study published in 2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5:28:42Z</dcterms:created>
  <dc:creator>Tim Elcock</dc:creator>
  <dc:description/>
  <dc:language>en-US</dc:language>
  <cp:lastModifiedBy>Christine</cp:lastModifiedBy>
  <dcterms:modified xsi:type="dcterms:W3CDTF">2015-12-07T12:46:06Z</dcterms:modified>
  <cp:revision>29</cp:revision>
  <dc:subject/>
  <dc:title>PowerPoint Presentation</dc:title>
</cp:coreProperties>
</file>