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E54-DD0F-48EF-BC2A-D9DF9257D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704-0B22-4AFC-8CC4-7315C8C6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EE5-5572-45D3-86DF-F41CF546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CC8-0EA5-40F7-8065-EB620C5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5EC-0C94-4DC3-B4F8-5D795E21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641-BBC9-4C76-B5A1-A11FB40E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9DB-F7A0-49B8-B55E-A8C88CB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3ED-E91E-4359-9349-5AF7A959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CC2-1D73-47D4-9080-25FE235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50E-A646-4A8C-AD57-402F060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43D-06CE-49DB-ACF2-44409FA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9AB-B51D-4033-8D77-833863A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06E-1FAA-4934-ADC2-1F51B5D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7A5-A178-47AE-A7FC-D3C1EB9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35B3-5F80-4A42-BE42-CFC6E7A9D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219320" y="2209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2158920"/>
            <a:ext cx="683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SE London Seminar in Honour of Alan Hol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Measuring Housing Demand and Need in Northern 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eter Williams, University of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rthern Irel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Paris my key informant who is currently in Australia. Chris, Alan and Katrina were joint authors of thi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 TRENDS AND FUTURE HOUSING NEED IN NORTHERN IRELAND; FINAL REPORT TO THE NORTHERN IRELAND HOUSING EXECUTIVE; January 2004 (Section 5 plus Appendices 5-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in the Province can be challenging from a political point of view where results have implications for the specific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and Alan shared a love of wine, cricket and food. Alan was keen to see Derry and the bord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 used net stock model, Alan his trusted demographic approach – coming up with similar resul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port was the basis for action until the more recent study published in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8:42Z</dcterms:created>
  <dc:creator>Tim Elcock</dc:creator>
  <dc:description/>
  <dc:language>en-US</dc:language>
  <cp:lastModifiedBy>Christine</cp:lastModifiedBy>
  <dcterms:modified xsi:type="dcterms:W3CDTF">2015-12-07T12:46:06Z</dcterms:modified>
  <cp:revision>29</cp:revision>
  <dc:subject/>
  <dc:title>PowerPoint Presentation</dc:title>
</cp:coreProperties>
</file>