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3952-4D1A-455E-84A0-9BF81D1EE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D90-7B8B-4FA2-B7FF-17CC970C2D00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8A05-9299-46DD-B029-CFFAC4C47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F5A1-CEC2-45C4-905C-8AA810D03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D7E2-8F18-489E-AF25-F4E353A1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7B30-2E01-4BC4-B9DE-6B89FD4EC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DF0D-1DB9-439D-8049-4F98F40E47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653C-660A-4E7A-BF7A-E722D78CB3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15DD-3758-4626-A7C4-6552A604B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87FD-26B7-459E-9780-D4756F3694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DA31-1E86-413B-AA6E-CF648AAAE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E1A7-FD64-498D-8F36-85B9F6456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5933-7D97-477A-B410-95C351D66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A074-60DA-4AF0-BCC8-65D4F0F31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36EF-793B-437C-8675-F3DB9C4217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68F3-FBE8-4448-9E7D-47F0E1FD87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8261-9E46-4BA3-94DE-079A1CEFC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A1CA-1B9C-4330-B79C-9FB0A8A7E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0112-1A69-46B5-9C38-FE1BB3211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C166-946E-4EB4-BDCF-D19035C47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9149-D35D-464C-B053-8544DD149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C9AB-CA25-465C-A884-04E61804F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F83-F6CE-4F90-B409-AEF436731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DB80-CA0A-4CB5-8FBE-B59FB564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95F2-38E4-43D1-9102-5B7DFB6E7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911F-95D3-42C2-B199-9A361F717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8489-81EF-4854-BCFD-D81D6C53CDA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2A35-FEC6-4589-AD39-F1E630F654B5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an Holmans : Research Legacy 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hael Oxley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E 7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ember 20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solidFill>
              <a:srgbClr val="003e72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mbridge Centre for Housing and Planning Research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The importance of history – looking back in order to look forward.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Importance of evidence – data driven – lots of housing literature is not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Policy relevance – strong for many reasons but importantly  because of the way he wrote – accessibility of his writing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ultidisciplinary approach –history + economics+ statistics + geography and mor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till much to d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Population change and household chang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Availability of housing and household formation relationship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thnicity, culture and household formation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Need/demand relationship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Linking housing and labour market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Forecasting model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70000" indent="-270000">
              <a:spcAft>
                <a:spcPts val="2251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ew proposa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Continuing CCHPR research – including new proposals.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.g. ESRC proposal led by Anna Clarke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“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odern households and changing living patterns” 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Young Peopl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Complex families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ulti-generational living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Moving in later life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marL="256320" indent="-25632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Christine</cp:lastModifiedBy>
  <dcterms:modified xsi:type="dcterms:W3CDTF">2015-12-07T12:43:55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