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8418-4145-458F-BE09-9E6F04942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915A-7A7F-4C6D-A342-4199A2311064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7DA8-2FB3-49DF-9ED4-CEA462B63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49A9-6CA5-4991-93D8-7AC31BBA4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8B19-AE05-4CD7-B660-5CEEE71F9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5BCB-C923-409B-B893-648428CF8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02BC-8687-4C31-AF0B-29BFC4E0D5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1BC8-28D3-41A3-8882-39C56F0D6E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250B-6D01-42BE-A77D-020194AFD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E40E-5F83-4BB2-A79A-9CA242116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43CC-14C0-4798-B043-AD8313ADF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85C7-F5DA-4990-9712-5F97086FA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FE02-0F32-408D-8CBD-9A0F3F5EB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19C1-B041-41FE-A865-B56B16916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E152-CC85-46E3-BADB-A7CEA90B0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DFAF-9B72-4824-ABE7-83FDB484E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1EB0-9E6D-4D13-8E81-1C262B16C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953F-CD76-4460-A3E8-C395247820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6C46-97B8-4985-BDFA-CC9A6079D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A7F8-CCB6-429B-AD95-552533DF0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1D21-7C33-4E78-A5D0-CE78DA5C4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11DA-7EA3-4392-9737-2F6DE68CF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5501-FBB4-4A33-BCCC-58B270B8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E010-A3A5-45C7-B911-08C39B509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D82E-9CE1-4E04-8693-60D25D6A0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2DE1-D2FE-4833-B70B-5221C01A0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400" y="6451560"/>
            <a:ext cx="90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8B8-D9EB-4B25-8B3D-7B310240669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400" y="6447960"/>
            <a:ext cx="9003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e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724-E57F-46D1-ADFD-C1DC102F8FAC}" type="slidenum">
              <a:rPr b="0" lang="en-GB" sz="1000" spc="-1" strike="noStrike">
                <a:solidFill>
                  <a:srgbClr val="003e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3760" y="2015640"/>
            <a:ext cx="8373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an Holmans : Research Legacy 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hael Oxley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E 7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ember 20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solidFill>
              <a:srgbClr val="003e72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mbridge Centre for Housing and Planning Research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Lega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The importance of history – looking back in order to look forward.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Importance of evidence – data driven – lots of housing literature is not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Policy relevance – strong for many reasons but importantly  because of the way he wrote – accessibility of his writing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ultidisciplinary approach –history + economics+ statistics + geography and mor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till much to d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Population change and household chang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Availability of housing and household formation relationship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Ethnicity, culture and household formation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Need/demand relationship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Linking housing and labour markets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Forecasting models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ew proposa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Continuing CCHPR research – including new proposals.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e.g. ESRC proposal led by Anna Clarke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“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odern households and changing living patterns” 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Young Peopl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Complex families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ulti-generational living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oving in later lif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Christine</cp:lastModifiedBy>
  <dcterms:modified xsi:type="dcterms:W3CDTF">2015-12-07T12:43:55Z</dcterms:modified>
  <cp:revision>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