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A856-72C8-4B5E-A428-8987A658CE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C7A4-4F8B-49F5-8F7C-CF5404E8438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The PRS: </a:t>
            </a:r>
            <a:br>
              <a:rPr sz="4000"/>
            </a:b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Evolution in London and international perspective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 Unicode MS"/>
              </a:rPr>
              <a:t>Kath Scanlo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 Unicode MS"/>
              </a:rPr>
              <a:t>London School of Economics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200" spc="-1" strike="noStrike">
                <a:solidFill>
                  <a:srgbClr val="ff0000"/>
                </a:solidFill>
                <a:latin typeface="Arial Unicode MS"/>
              </a:rPr>
              <a:t>LB Lewisham Housing Select Committee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200" spc="-1" strike="noStrike">
                <a:solidFill>
                  <a:srgbClr val="ff0000"/>
                </a:solidFill>
                <a:latin typeface="Arial Unicode MS"/>
              </a:rPr>
              <a:t>affordability review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0000"/>
                </a:solidFill>
                <a:latin typeface="Arial Unicode MS"/>
              </a:rPr>
              <a:t>1 December 2015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International perspectiv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Size of P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2435400" y="1770120"/>
          <a:ext cx="6084720" cy="413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1770120"/>
                    <a:ext cx="608472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3796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Lucida Sans"/>
              </a:rPr>
              <a:t>In most countries tenants are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2920" y="620640"/>
            <a:ext cx="74487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Young or ol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Low-inco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Singles or single par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Young professional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High-income corporate transfe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Those who can’t afford owner-occup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Housing benefit recipi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Migra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Those who can’t afford mortgage deposi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Lucida Sans"/>
              </a:rPr>
              <a:t>Who doesn’t live in the PRS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16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Middle- and upper-income families almost always own their hom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Very few of the elderly rent privately in the UK (not the case in some other countries)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68580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Lucida Sans"/>
              </a:rPr>
              <a:t>Rent regu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7" name="Object 6"/>
          <p:cNvGraphicFramePr/>
          <p:nvPr/>
        </p:nvGraphicFramePr>
        <p:xfrm>
          <a:off x="1544760" y="905040"/>
          <a:ext cx="719748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4760" y="905040"/>
                    <a:ext cx="719748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685800" y="11592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Lucida Sans"/>
              </a:rPr>
              <a:t>Le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0" name="Object 5"/>
          <p:cNvGraphicFramePr/>
          <p:nvPr/>
        </p:nvGraphicFramePr>
        <p:xfrm>
          <a:off x="1387440" y="1055520"/>
          <a:ext cx="7756560" cy="756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7440" y="1055520"/>
                    <a:ext cx="7756560" cy="756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 Unicode MS"/>
              </a:rPr>
              <a:t>The German example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Terms and conditions of renting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58560" y="1413000"/>
            <a:ext cx="7885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enants get indefinite leas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Landlords can evict only for reasons set out in the law; notice period 3 – 9 months depending on how long tenancy has last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f the landlord sells, the lease binds the new owne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itial rent can be freely set, but not more than 20-50% above average rents in the local area—</a:t>
            </a: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but new restrictions in Berlin, Munich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Rent can go up every 15 months by average in the are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Some typical </a:t>
            </a:r>
            <a:r>
              <a:rPr b="0" i="1" lang="en-GB" sz="4400" spc="-1" strike="noStrike">
                <a:solidFill>
                  <a:srgbClr val="000066"/>
                </a:solidFill>
                <a:latin typeface="Arial Unicode MS"/>
              </a:rPr>
              <a:t>new </a:t>
            </a: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rent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371600" y="1981080"/>
          <a:ext cx="5864400" cy="2971800"/>
        </p:xfrm>
        <a:graphic>
          <a:graphicData uri="http://schemas.openxmlformats.org/drawingml/2006/table">
            <a:tbl>
              <a:tblPr/>
              <a:tblGrid>
                <a:gridCol w="2336760"/>
                <a:gridCol w="3527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C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onthly rent for 769 ft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Arial Unicode MS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fl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uni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£7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6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rankfu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£6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ambu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£5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6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tuttg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£5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log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£4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6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usseldor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£4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erl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£4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 Unicode MS"/>
              </a:rPr>
              <a:t>The German example 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The rental offer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332000" y="1197000"/>
            <a:ext cx="7354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ost PRS units are in rental-only blocks in single ownership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nants stay for long time (average 11 years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andlords invest into the longer term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andlords provide minimal facilities beyond the dwelling itself: usually no furniture or kitche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 Unicode MS"/>
              </a:rPr>
              <a:t>The German example 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Economic environment 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71600" y="1196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ver most of last thirty years real house prices fell in most are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inflation also very low so costs fairly predictable, though some problems as standards have risen eg re energy efficiency 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ome areas where pressures on rental market and difficulties in finding accommodation - extending to more cities since 2008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wner-occupation and house prices in these areas now rising quite rapidl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Conclusions 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600" y="90792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RS has grown quickly in London since early 1990s, mostly through transfer of existing homes rather than new buil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1988 deregulation of rents and leases contributed.  English rental market much less regulated than in most European countri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RS rents higher in London than almost anywhere else—as are house pric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ffects of policies like rent control depend on legal, cultural and economic frameworks.  What works well elsewhere might work very differently here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100080"/>
            <a:ext cx="7701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Some recent headlin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2000" y="692280"/>
            <a:ext cx="78120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cils urged to build homes for private ren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councils should set targets for building homes for the private rented sector, says new report (Telegraph 24/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etter private rented sector can weed out rogue landlords for goo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's the fastest growing area of the market, but rented homes are dominated by amateur landlords. It's time for that to change (Guardian 26/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rent controls to solve London's housing cri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many essential workers are being priced out of the capital. Rent controls could address the uncertainty and unaffordability they face (New Statesman 27/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Historic PRS provision in London: Du Cane Cour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2178000" y="1981080"/>
            <a:ext cx="615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Dolphin Squar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57" name="Content Placeholder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60564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What happened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68360" y="1052640"/>
            <a:ext cx="75247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ost-deregulation (starting in the 1950s) companies wanted to sell – and did over the next twenty yea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wner-occupation grew rapidly with well- developed leasehold arrangements and the possibility of buying long leas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ax benefits and other incentives meant private sector building was almost always for owner-occup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ew rented housing provided in the social secto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Decline and revival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16000" y="1125000"/>
            <a:ext cx="7772400" cy="49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RS declined to 11% of total stock in England  by the mid-1980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eregulation of rents in 1988 led to slow increase in suppl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wner-occupation for young people badly hit in early 1990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Buy-to-Let mortgages introduced in late 1990s – PRS started to increase quite quickl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ffordability crisis in early 2000s added to pressure on P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The financial crisis and its aftermath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58920" y="981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redit and housing markets dried up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ellers could not sell; purchasers could not buy – so PRS grew rapidl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ew construction fell by more than half; whil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mmigration and natural growth increased the population of London very rapidl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risis of supply with all net growth concentrated in PRS and among individual amateur/part-time landlord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olicy makers looked for more housing overall and new build in PRS in particula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Figure 1: Housing tenure, London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65" name="Chart 3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7345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03360" y="115920"/>
            <a:ext cx="8353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9:16:29Z</dcterms:created>
  <dc:creator>LSE User</dc:creator>
  <dc:description/>
  <dc:language>en-US</dc:language>
  <cp:lastModifiedBy>Ulises Moreno</cp:lastModifiedBy>
  <dcterms:modified xsi:type="dcterms:W3CDTF">2015-12-04T20:30:46Z</dcterms:modified>
  <cp:revision>165</cp:revision>
  <dc:subject/>
  <dc:title>Impacts of Recent International Migration on a Destination City  some observations from London</dc:title>
</cp:coreProperties>
</file>