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36B-5A0A-4588-8AF4-552CA9E38AF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B665-BCCE-40A1-8F38-7F265AFD5B86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Unicode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Line 7"/>
          <p:cNvSpPr/>
          <p:nvPr/>
        </p:nvSpPr>
        <p:spPr>
          <a:xfrm>
            <a:off x="304920" y="380880"/>
            <a:ext cx="0" cy="601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Line 8"/>
          <p:cNvSpPr/>
          <p:nvPr/>
        </p:nvSpPr>
        <p:spPr>
          <a:xfrm>
            <a:off x="1371600" y="6629400"/>
            <a:ext cx="7391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11"/>
          <p:cNvSpPr/>
          <p:nvPr/>
        </p:nvSpPr>
        <p:spPr>
          <a:xfrm>
            <a:off x="1676520" y="6477120"/>
            <a:ext cx="7238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Line 14"/>
          <p:cNvSpPr/>
          <p:nvPr/>
        </p:nvSpPr>
        <p:spPr>
          <a:xfrm>
            <a:off x="457200" y="30492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" name="Picture 15" descr="lselogosm"/>
          <p:cNvPicPr/>
          <p:nvPr/>
        </p:nvPicPr>
        <p:blipFill>
          <a:blip r:embed="rId2"/>
          <a:stretch/>
        </p:blipFill>
        <p:spPr>
          <a:xfrm>
            <a:off x="304920" y="55627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The PRS: </a:t>
            </a:r>
            <a:br>
              <a:rPr sz="4000"/>
            </a:b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Evolution in London and international perspectiv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 Unicode MS"/>
              </a:rPr>
              <a:t>Kath Scanlo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 Unicode MS"/>
              </a:rPr>
              <a:t>London School of Economics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ff0000"/>
                </a:solidFill>
                <a:latin typeface="Arial Unicode MS"/>
              </a:rPr>
              <a:t>LB Lewisham Housing Select Committee 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2200" spc="-1" strike="noStrike">
                <a:solidFill>
                  <a:srgbClr val="ff0000"/>
                </a:solidFill>
                <a:latin typeface="Arial Unicode MS"/>
              </a:rPr>
              <a:t>affordability review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200" spc="-1" strike="noStrike">
                <a:solidFill>
                  <a:srgbClr val="ff0000"/>
                </a:solidFill>
                <a:latin typeface="Arial Unicode MS"/>
              </a:rPr>
              <a:t>1 December 2015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International perspectiv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ize of P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2435400" y="1770120"/>
          <a:ext cx="6084720" cy="413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5400" y="1770120"/>
                    <a:ext cx="6084720" cy="41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23796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Lucida Sans"/>
              </a:rPr>
              <a:t>In most countries tenants are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620640"/>
            <a:ext cx="744876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Young or ol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Low-inco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Singles or single par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Mob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Young professiona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High-income corporate transfer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Those who can’t afford owner-occup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Housing benefit recipi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Migra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Those who can’t afford mortgage deposi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Who doesn’t live in the PRS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16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Middle- and upper-income families almost always own their home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"/>
              </a:rPr>
              <a:t>Very few of the elderly rent privately in the UK (not the case in some other countries)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5"/>
          <p:cNvSpPr/>
          <p:nvPr/>
        </p:nvSpPr>
        <p:spPr>
          <a:xfrm>
            <a:off x="68580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Rent reg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7" name="Object 6"/>
          <p:cNvGraphicFramePr/>
          <p:nvPr/>
        </p:nvGraphicFramePr>
        <p:xfrm>
          <a:off x="1544760" y="905040"/>
          <a:ext cx="719748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4760" y="905040"/>
                    <a:ext cx="719748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685800" y="11592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Lucida Sans"/>
              </a:rPr>
              <a:t>Leas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0" name="Object 5"/>
          <p:cNvGraphicFramePr/>
          <p:nvPr/>
        </p:nvGraphicFramePr>
        <p:xfrm>
          <a:off x="1387440" y="1055520"/>
          <a:ext cx="7756560" cy="756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7440" y="1055520"/>
                    <a:ext cx="7756560" cy="756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Terms and conditions of renting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8560" y="1413000"/>
            <a:ext cx="7885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enants get indefinite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Landlords can evict only for reasons set out in the law; notice period 3 – 9 months depending on how long tenancy has laste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f the landlord sells, the lease binds the new owne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nitial rent can be freely set, but not more than 20-50% above average rents in the local area—</a:t>
            </a:r>
            <a:r>
              <a:rPr b="0" lang="en-GB" sz="2800" spc="-1" strike="noStrike">
                <a:solidFill>
                  <a:srgbClr val="ff0000"/>
                </a:solidFill>
                <a:latin typeface="Arial Unicode MS"/>
              </a:rPr>
              <a:t>but new restrictions in Berlin, Munich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Rent can go up every 15 months by average in the are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typical </a:t>
            </a:r>
            <a:r>
              <a:rPr b="0" i="1" lang="en-GB" sz="4400" spc="-1" strike="noStrike">
                <a:solidFill>
                  <a:srgbClr val="000066"/>
                </a:solidFill>
                <a:latin typeface="Arial Unicode MS"/>
              </a:rPr>
              <a:t>new </a:t>
            </a: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rent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371600" y="1981080"/>
          <a:ext cx="5864400" cy="2971800"/>
        </p:xfrm>
        <a:graphic>
          <a:graphicData uri="http://schemas.openxmlformats.org/drawingml/2006/table">
            <a:tbl>
              <a:tblPr/>
              <a:tblGrid>
                <a:gridCol w="2336760"/>
                <a:gridCol w="3527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C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Monthly rent for 769 ft</a:t>
                      </a:r>
                      <a:r>
                        <a:rPr b="1" lang="en-GB" sz="1800" spc="-1" strike="noStrike" baseline="30000">
                          <a:solidFill>
                            <a:srgbClr val="ffffff"/>
                          </a:solidFill>
                          <a:latin typeface="Arial Unicode MS"/>
                        </a:rPr>
                        <a:t>2</a:t>
                      </a: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Unicode MS"/>
                        </a:rPr>
                        <a:t> fl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7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uni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rankfu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60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Hambu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5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tuttga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5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olog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usseldor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6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Berl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£4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The rental offer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332000" y="1197000"/>
            <a:ext cx="7354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st PRS units are in rental-only blocks in single ownershi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nants stay for long time (average 11 year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ndlords invest into the longer term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ndlords provide minimal facilities beyond the dwelling itself: usually no furniture or kitche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Arial Unicode MS"/>
              </a:rPr>
              <a:t>The German example </a:t>
            </a:r>
            <a:br>
              <a:rPr sz="3600"/>
            </a:b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Economic environment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371600" y="1196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ver most of last thirty years real house prices fell in most are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inflation also very low so costs fairly predictable, though some problems as standards have risen eg re energy efficiency  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ome areas where pressures on rental market and difficulties in finding accommodation - extending to more cities since 2008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and house prices in these areas now rising quite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66"/>
                </a:solidFill>
                <a:latin typeface="Arial Unicode MS"/>
              </a:rPr>
              <a:t>Conclusions </a:t>
            </a:r>
            <a:endParaRPr b="0" lang="en-US" sz="36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71600" y="90792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has grown quickly in London since early 1990s, mostly through transfer of existing homes rather than new buil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1988 deregulation of rents and leases contributed.  English rental market much less regulated than in most European countri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rents higher in London than almost anywhere else—as are house pric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Effects of policies like rent control depend on legal, cultural and economic frameworks.  What works well elsewhere might work very differently here.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-100080"/>
            <a:ext cx="7701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Some recent headlines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2000" y="692280"/>
            <a:ext cx="7812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cils urged to build homes for private ren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councils should set targets for building homes for the private rented sector, says new report (Telegraph 24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39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etter private rented sector can weed out rogue landlords for go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's the fastest growing area of the market, but rented homes are dominated by amateur landlords. It's time for that to change (Guardian 26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rent controls to solve London's housing cris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many essential workers are being priced out of the capital. Rent controls could address the uncertainty and unaffordability they face (New Statesman 27/2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Historic PRS provision in London: Du Cane Court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5" name="Content Placeholder 3" descr=""/>
          <p:cNvPicPr/>
          <p:nvPr/>
        </p:nvPicPr>
        <p:blipFill>
          <a:blip r:embed="rId1"/>
          <a:stretch/>
        </p:blipFill>
        <p:spPr>
          <a:xfrm>
            <a:off x="2178000" y="1981080"/>
            <a:ext cx="615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olphin Square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57" name="Content Placeholder 5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660564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What happened?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368360" y="1052640"/>
            <a:ext cx="752472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st-deregulation (starting in the 1950s) companies wanted to sell – and did over the next twenty yea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grew rapidly with well- developed leasehold arrangements and the possibility of buying long lea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Tax benefits and other incentives meant private sector building was almost always for owner-occupatio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rented housing provided in the social sect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 Unicode MS"/>
              </a:rPr>
              <a:t>Decline and revival</a:t>
            </a:r>
            <a:endParaRPr b="0" lang="en-US" sz="44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16000" y="1125000"/>
            <a:ext cx="7772400" cy="49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RS declined to 11% of total stock in England  by the mid-1980s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Deregulation of rents in 1988 led to slow increase in supp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Owner-occupation for young people badly hit in early 1990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Buy-to-Let mortgages introduced in late 1990s – PRS started to increase quite quick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Affordability crisis in early 2000s added to pressure on P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66"/>
                </a:solidFill>
                <a:latin typeface="Arial Unicode MS"/>
              </a:rPr>
              <a:t>The financial crisis and its aftermath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8920" y="98100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edit and housing markets dried u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Sellers could not sell; purchasers could not buy – so PRS grew rapidl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New construction fell by more than half; whi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Immigration and natural growth increased the population of London very rapidl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Crisis of supply with all net growth concentrated in PRS and among individual amateur/part-time landlord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Policy makers looked for more housing overall and new build in PRS in particula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74320" indent="-274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Unicode MS"/>
              </a:rPr>
              <a:t>Figure 1: Housing tenure, London</a:t>
            </a:r>
            <a:endParaRPr b="0" lang="en-US" sz="4000" spc="-1" strike="noStrike">
              <a:solidFill>
                <a:srgbClr val="000066"/>
              </a:solidFill>
              <a:latin typeface="Arial Unicode MS"/>
            </a:endParaRPr>
          </a:p>
        </p:txBody>
      </p:sp>
      <p:pic>
        <p:nvPicPr>
          <p:cNvPr id="65" name="Chart 3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7345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603360" y="115920"/>
            <a:ext cx="8353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9:16:29Z</dcterms:created>
  <dc:creator>LSE User</dc:creator>
  <dc:description/>
  <dc:language>en-US</dc:language>
  <cp:lastModifiedBy>Ulises Moreno</cp:lastModifiedBy>
  <dcterms:modified xsi:type="dcterms:W3CDTF">2015-12-04T20:30:46Z</dcterms:modified>
  <cp:revision>165</cp:revision>
  <dc:subject/>
  <dc:title>Impacts of Recent International Migration on a Destination City  some observations from London</dc:title>
</cp:coreProperties>
</file>