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2DB-418B-492D-BFC6-74D2AF27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246-1A91-48FC-AA06-361F1E79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052-FBA7-42AB-8E06-329DBD82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67A7-D3E1-422E-8B3E-77E49175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1C5E-1316-4640-91EF-31A147D8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9EFB-1010-4C67-B756-31C26ECB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377-A72F-42B7-97C9-9C9DA3C4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5DCD-FAD7-4E73-ACD5-1F3D795F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8650-6B11-43A2-9266-4B6836AE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2843-5673-4CFD-8784-E6A47CE3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D84-D4B9-4758-81EC-EA641BD1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B71-93E2-441D-8964-23710E8E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FE94-C667-447C-B346-F23CACCAD4F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392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Is there a problem with the current housing market?</a:t>
            </a:r>
            <a:br>
              <a:rPr sz="4800"/>
            </a:b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hristine Whitehead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LSE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98989"/>
                </a:solidFill>
                <a:latin typeface="Calibri"/>
              </a:rPr>
              <a:t>Social implications of a changing housing mark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98989"/>
                </a:solidFill>
                <a:latin typeface="Calibri"/>
              </a:rPr>
              <a:t>ESRC Festival of Social Science: Housing Ev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98989"/>
                </a:solidFill>
                <a:latin typeface="Calibri"/>
              </a:rPr>
              <a:t>Geffrye Museum of the H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98989"/>
                </a:solidFill>
                <a:latin typeface="Calibri"/>
              </a:rPr>
              <a:t>12 November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7993080" y="5589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490680"/>
            <a:ext cx="7224840" cy="66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he Regional S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13880" y="4724280"/>
            <a:ext cx="791388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jor differences in population and household growth between region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orth East 11%, increase in household between 2011 and 2031;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London 33%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lies 25% of homes need to be in London – i.e. 55,000 units a y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urrently completions under 20,000 in 2014/15, although starts ris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716120" y="1152360"/>
            <a:ext cx="5811840" cy="3451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8388360" y="573264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onclus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 housing system is failing to provide for population and household formation let alone for economic growth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ven if we build 222,000 each year until 2031 some groups will still be worse off as compared to 2011 – notably couples in London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But very unlikely to build this number consistently over 20 year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f the economy is successful, incomes will rise and demand will be higher both for numbers and quality of housing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 likely impact is higher house prices and worsening affordabilit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Yes, we have a dysfunctional housing syste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7993080" y="5589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Housing: top of the political agend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veryone’ believes there is a major housing crisis arising fro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ack of new supply  (completions in last decade running at less than half of current requirements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use prices out of line with incomes and affordability in all tenures a growing proble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pid growth of expensive private rented sector even for famili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creasing Housing Benefit bil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blems especially concentrated in London where London economy growing rapidly and out of line with rest of the countr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veryone’ blames the planners and shortage of land brownfield policy, green belt and bureaucracy or indeed democr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8232840" y="6021360"/>
            <a:ext cx="6699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sic Econo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2348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Demand depends on demographics but also incomes and relative costs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Supply depends on costs; profits/risks; price of land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Demand can increase very quickly, while supply cannot expand rapidly  - building less than 0.5%  of total each year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Result is higher prices and rents BUT also higher land prices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Macro-economic volatility reduces incentives and capacity to supply - post GFC but also 1989/90 and before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Long run constraints on supply - economic growth increases competition for land; existing infrastructure and building density limits adjustment; but also regulatory constraints – green belt; local plans; NIMBYis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7993080" y="5589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ources of Population Change in the U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Figure 2: Main drivers of population change mid-1992 onwards"/>
          <p:cNvPicPr/>
          <p:nvPr/>
        </p:nvPicPr>
        <p:blipFill>
          <a:blip r:embed="rId1"/>
          <a:stretch/>
        </p:blipFill>
        <p:spPr>
          <a:xfrm>
            <a:off x="684360" y="1268280"/>
            <a:ext cx="68198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Housing Completions by Tenur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rcRect l="2829" t="36002" r="13349" b="11435"/>
          <a:stretch/>
        </p:blipFill>
        <p:spPr>
          <a:xfrm>
            <a:off x="1187280" y="2133720"/>
            <a:ext cx="6685200" cy="38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7881840" y="580536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use pr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121440" cy="3745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7993080" y="5589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Christine\AppData\Local\Microsoft\Windows\Temporary Internet Files\Content.Outlook\2U42RDBE\Median monthly rents by region and number of bedrooms.png"/>
          <p:cNvPicPr/>
          <p:nvPr/>
        </p:nvPicPr>
        <p:blipFill>
          <a:blip r:embed="rId1"/>
          <a:stretch/>
        </p:blipFill>
        <p:spPr>
          <a:xfrm>
            <a:off x="1327320" y="793800"/>
            <a:ext cx="6489360" cy="5270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7993080" y="5589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Household expenditure by ten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11309" t="32820" r="11350" b="27029"/>
          <a:stretch/>
        </p:blipFill>
        <p:spPr>
          <a:xfrm>
            <a:off x="1476360" y="1700280"/>
            <a:ext cx="6524640" cy="460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7881840" y="580536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920" y="363240"/>
            <a:ext cx="73692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oking to the futu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71640" y="1170000"/>
            <a:ext cx="76564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2012 based projections suggest that, if past trends continue,  we will need to build an extra 222,000 homes in England each year from 2011 – 203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is less than earlier projections BUT ONLY because  growth in household numbers has been restricted by lack of supply and problems of affordability  - at least for the last decade and for younger households for a quarter of a centur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 far since 2011 we have built only 54% of  the homes required – so if we were to try to catch up by 2021 we would need to build over 300,000 each yea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compares with 138,000 starts and 125,000 completions in England  in 2014/15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7993080" y="5589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1T07:45:34Z</dcterms:created>
  <dc:creator>Christine</dc:creator>
  <dc:description/>
  <dc:language>en-US</dc:language>
  <cp:lastModifiedBy>Ulises Moreno</cp:lastModifiedBy>
  <dcterms:modified xsi:type="dcterms:W3CDTF">2015-11-15T11:37:11Z</dcterms:modified>
  <cp:revision>9</cp:revision>
  <dc:subject/>
  <dc:title>PowerPoint Presentation</dc:title>
</cp:coreProperties>
</file>